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B707C-64BA-4212-9FB5-56B9FEFCEE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67F01-380B-4F5F-8F34-6644EFCD97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25D32-1179-4F81-B604-F5B35DBC66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C235B-3C35-4F2E-8ADA-A62FD60246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jouter les CP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EFE5E-2844-48D4-A875-02357035D2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421FD-944C-4476-8697-F20AA2CFB0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32F75-8AA2-429E-A7EE-7323995370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9CE94-57C4-45C9-994C-C739763450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C2800-59DA-4BC3-9A6B-56B06A12E8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3D39-2ACD-4F97-BFC5-37C282640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83D0-CD6E-49BD-96AA-EDED415EBE4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98A910-F344-4FAA-B10D-F66EB9B7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7C53DF-E795-4030-8FDB-B7F5B419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4F0366-C704-4547-8838-612FE3A9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E87128-5488-4535-A78A-835BC03E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A9116B-5B49-4FC1-9743-0CCD0FE4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8AC598-C12F-4208-BEB6-5E4B047C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FFD381-57FE-4BE4-B1D9-C1DCABFB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4A83EB-E31F-4446-B0E0-B7F0B16C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6FC33F-CD29-4041-B3E6-7C5932F4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DF8135-169D-4215-913D-A4BA89C1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FB44-282F-4F6E-A783-E8DC3ED0979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BADBBC-108C-44B1-AB1B-0F6F53EC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DDA99B-0257-48EB-88D1-4D53948E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C82DD3-F38A-4B16-A1DE-91210842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B2C999-42DB-4DAF-917E-3B6B8993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2E8275-2332-43BA-8719-3439264B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90EA7E-1D91-4469-9F21-5F961AE8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ABF66B-311D-4854-905C-89F18AE1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0F9C4E-E73A-4834-8628-9A6AB114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5E7699-46D1-4723-AF14-0DFF2CF0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48CA96-8201-43C9-AF1A-6679B4DE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DD9CC-E152-4EC6-8595-2DCD08B6137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4B22FC-70C5-484D-AB91-E9D3BFC4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6E0F47-3ED7-4689-9754-03F4147F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702F6F-FF0B-45C3-B01F-BE18BE25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A6F791-6019-49F5-A596-A0B9A3EA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C31454-ABBA-4BF7-BE7E-7D86AF89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39A5ED-0C59-47A4-8E99-E160BAAD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E006B3-DA15-4A2E-9513-6140E494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975F71-7E60-46CD-9DB9-B4917D3D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13707B-A0A0-4EB1-B6E1-8EF4AAD4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10D53D-89E2-4041-849D-4BA7CF5B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7BC12-F132-4BAB-907E-4E3FA2F4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2F158D-681E-42F2-A9D0-427459E7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947B46-BD29-4B02-B09E-8B829D93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F43DE7-BDBD-43EB-985E-652024F8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9564CF-FCDD-4B85-8306-B38D8D22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7E10F3-5BAE-42B7-924E-6DC18E7C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0D5698-F1BA-4BB5-B89B-377FFB08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FC5BA4-03D1-410E-989E-5AA471CC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7EFFFC-461C-424D-A0E7-E5B0F3C6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1637B0-1177-4405-951E-01E43FC4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780E7A-A13A-4134-B221-F6F13702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4B8B2-171F-4F88-B6A0-6DC51CB2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D59F89-4A9F-47D9-B980-F62AF6B0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C3C513-096B-4327-AF8D-FE71DAAC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190C49-CBA3-46A5-859D-8C1F43C8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23D697-716C-43AD-A60E-A890383D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85A06C-28C4-4948-A1F4-9FD2E6FD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B013AC-F278-4B50-A5CA-1CB4E967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757247-8059-44E1-9B8C-82899E43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20915C-B123-4D7C-BB14-629C9014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8A8DDF-218D-4DA4-BB80-ED4B95FC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05540F-151F-4650-82B0-77A85CCE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325BC-CAFC-468E-BB6B-BBD4986B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981028-C7B6-441D-95B2-CCB38AB4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F0C15E-C2A2-46B0-8D61-1B13DCB9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9BC6FB-DE8C-4A37-B2A4-43E2ED74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581068-E570-4074-93F4-98AA008A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5E9855-91DD-4C62-B5B6-CBD8E6AB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3EAD1D-8DD6-460B-A51B-9A3EA950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54C94F-0BBE-40A8-83B1-AEFFCDCF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0A242-B8F9-4F17-BF60-1492FB48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D0B8E-B03F-4DDF-943D-D9A73F06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ADF4B-8AEE-49CB-A126-9FF52F76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681F8-119E-4A10-874E-CA6C5071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C8E89-D06F-41F6-8B61-88793697C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9E207-4B14-46AE-AD20-7B91F06A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6CA17-B524-4E0E-B704-8A382BE0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F8ACF-FB76-4C60-9A77-08306EB0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56138-842A-4C1D-88C1-80490F54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93D3A-882E-4715-83FC-A4247B12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5151F-E7E1-4E5B-A4D2-618D0EE9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38CC1-BCEE-4F83-AB7B-9A2DC1D6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EA0E7-7715-44EA-B767-9B424332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786A5-224C-4566-A6DD-44944273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37838-8C35-4255-8BCE-AD7B2CDB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BC19-D527-4A78-98A5-232B88BF96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0EF6A-12B3-4D1E-807C-A1492E7C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4F306-D328-4CD1-AE1A-3D028B9C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4E834-E6A4-48AA-BABD-5F6C0BB7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11455-BD73-48A1-B296-AAC911E0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A0DC2-F58F-4177-BA04-F248BAFA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F3890-AB54-409C-B053-114D8A47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A9C23-45B6-46B1-B077-6B365EEC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FB6AC-1C6C-4108-96F9-9061EC42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ECC4B-8F16-439C-9B14-F769166D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7A463-1815-4C0B-9E7E-82829CCD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968B5-6880-4F24-9D88-926C155CF1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9A483-D4E1-4B59-B920-DE19427B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DBC68-CF8E-49AB-9D18-F6C85D2C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3E5842-B9E4-47C1-BC4F-27F2D4BC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B4FD2-534A-4F62-BCC9-FD92DD1F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5FF3E9-43E8-429F-ADE3-293B6A23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60C331-F728-408D-BE19-0417FFDB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2EA4FD-38D5-45FA-8FE7-2E2A0D8E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DFD80-47DE-431B-8F32-17F40B49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3F90D0-BB35-4918-8C87-E8D1F598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F7C91-A657-4EAF-94DC-BF74BD56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2788-395A-4A9F-B1CB-B5BD62F3629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57B02-B0B2-475E-9DA2-153BB131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37C5C-6650-4E7F-9645-079AF2F5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E58611-E1D3-4DCE-8874-ACB27996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957EC4-2913-4E48-BC6E-3F9E8122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38F0D2-EB72-4F1D-9707-10F5C23E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1C5EF-5117-4B4A-A40D-88315DE9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0673D-ED47-43BB-9B55-7A126DFB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357B7-2E88-489F-8D88-B4FF0429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60AA8-1243-458A-A2D9-16F15569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08BEE-7886-49A6-83F2-AA48F836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73A65-09E8-4A66-8543-F8F9548B5C1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A8514-4E06-475D-ADED-95330765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3A7E9D-1154-43C7-89BE-BD42E89F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C619F-22AC-413B-A410-102B03F5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BE05E-B494-4DC8-8C5C-1690FE51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A079DC-59D4-46C1-83C0-252CD5F8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7FE87-4D08-4B2C-98DB-3304AAD2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1FC13-B8D1-455C-AD95-578E0BD4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FCEA60-73BB-4669-B551-1D82D3C3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FACA47-63DA-4A91-A662-AE61F8FB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B1E546-0786-4531-9A2B-82584C81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CC35-11B1-4F23-A2B9-0B83E8208D5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B5B6AC-2A7E-4087-AA28-1AC936BB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D420C6-641B-498B-B1F5-032AD9D5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9F195-8A44-4244-AC9D-43006CF4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41AE3-20A6-42C3-8D39-265C790B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F21B0-32A8-44C1-BF2B-6930C21A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7BEF2-46E0-4978-8980-3508FEF7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E6D87-2038-4622-8694-F9ECCE8E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3F393F-19ED-4BCD-92CF-98EACC52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956216-8792-48E4-AA1E-AB761D09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CB563-DBD4-4782-9069-EACF1C05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51C2-C2F3-45EC-991A-038996346F5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BA5CC-8C01-49E2-A22B-89AD6351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1B42F4-22D5-4928-A8B3-007A20A2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C8D412-FC8B-4DD7-BEA6-13D5F2A5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544095-B5BE-439E-87DC-B247CCBE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375EC-C899-41CE-B975-84495E47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02FD38-D468-4F59-A09B-D5995593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726D08-6EA0-442B-B1C8-C7AB16A4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6292F8-4D02-4007-B33A-2B95E3C9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625B25-689C-4FE6-8B07-36474A92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4F7346-AB18-4B7A-B743-6F80CF6F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1142-0F27-4BE9-8380-EDEEC2764C0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F8EE5E-7587-4286-A114-FAC59C69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6107E6-9929-488F-8E07-0D762C5C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455796-BE19-44EE-B7BD-578D69E7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9F9AD3-7BA2-4B0F-90A9-9606ED29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6B28B9-B202-47D9-8B7B-E2EB0943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E9EE76-3E83-44CB-AD22-F121387C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CF291C-79A0-4F16-9BC1-34515A65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28623A-8360-4977-8720-C19B7EF4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7A6118-4998-444A-A16B-7ED63D34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633C92-5E79-4D22-8544-C00DFC2A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R – IEN 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8255F-E98B-49BD-AD12-59706FD2A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0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8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9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8CB6E-372D-4F0A-BF2A-6551E8B08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5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1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2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F360F-C491-4D69-9A93-D2FD52EA7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9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D9D9A-9F1B-4F3E-9E6F-A3DFE592C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54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6"/>
          </p:nvPr>
        </p:nvSpPr>
        <p:spPr>
          <a:xfrm>
            <a:off x="394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41267-6EA6-4051-BE5F-26B2267E9A07}" type="datetime">
              <a:rPr b="0" lang="fr-FR" sz="24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7"/>
          </p:nvPr>
        </p:nvSpPr>
        <p:spPr>
          <a:xfrm>
            <a:off x="2555640" y="6381360"/>
            <a:ext cx="460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BABA0-66DB-4BBE-8FA8-458C20F1F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DAF00-6AB5-45DB-9F00-5F1602668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7DF84-D56D-40A1-AE98-7B187F0FF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13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0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1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B26F5-D778-47C3-83EE-4C3A823E5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3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4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F2974-3770-4770-841F-948273690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22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6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7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7CBAC-C13B-42A5-8551-883084908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9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0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E399C-BAA8-4893-BA18-75631645E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31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2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3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E38F7-D25F-4BE4-8444-0608AF9E5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36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ABC9C-E2FF-41AC-8E5E-2ACE48B8E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88720" y="179676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adaptation des parcours de 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240" y="3855600"/>
            <a:ext cx="759924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outils de l’adaptation des parcours : passerelles, modularisation, accompagnement personnalisé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76160" y="36000"/>
            <a:ext cx="74674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1346040" y="1133640"/>
            <a:ext cx="7534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éférentiel de certification est découpé en unités de formation et en modules valida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mpétences terminales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s de formation sont regroupées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nités de certific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règlement d’examen). Seules ces unités son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ertifiant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s de formation et les modules constitutifs seron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alid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u fur et à mesure des acquisitions, éventuellement en C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que unité de formation et chaque module doit permettre d’acquérir un nombre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rédits ECTS défin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La proposition d’attribution des ces crédits relève de l’établissement scolaire à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’exception des crédits relevant du jury du B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Grouper 31"/>
          <p:cNvGrpSpPr/>
          <p:nvPr/>
        </p:nvGrpSpPr>
        <p:grpSpPr>
          <a:xfrm>
            <a:off x="5591160" y="2608200"/>
            <a:ext cx="1574640" cy="3538440"/>
            <a:chOff x="5591160" y="2608200"/>
            <a:chExt cx="1574640" cy="3538440"/>
          </a:xfrm>
        </p:grpSpPr>
        <p:sp>
          <p:nvSpPr>
            <p:cNvPr id="687" name="Rectangle 26"/>
            <p:cNvSpPr/>
            <p:nvPr/>
          </p:nvSpPr>
          <p:spPr>
            <a:xfrm>
              <a:off x="5591160" y="2608200"/>
              <a:ext cx="352440" cy="3538440"/>
            </a:xfrm>
            <a:prstGeom prst="rect">
              <a:avLst/>
            </a:prstGeom>
            <a:gradFill rotWithShape="0">
              <a:gsLst>
                <a:gs pos="0">
                  <a:srgbClr val="3f80cd"/>
                </a:gs>
                <a:gs pos="100000">
                  <a:srgbClr val="9bc1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ZoneTexte 27"/>
            <p:cNvSpPr/>
            <p:nvPr/>
          </p:nvSpPr>
          <p:spPr>
            <a:xfrm>
              <a:off x="5960160" y="5777280"/>
              <a:ext cx="12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7"/>
          <p:cNvSpPr/>
          <p:nvPr/>
        </p:nvSpPr>
        <p:spPr>
          <a:xfrm>
            <a:off x="1544760" y="12715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chéma d’enseignement respectant une chronologie propre à chaque discipline élaborée à partir du référentiel du diplô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1701720" y="2679840"/>
            <a:ext cx="1270080" cy="380880"/>
          </a:xfrm>
          <a:prstGeom prst="rect">
            <a:avLst/>
          </a:prstGeom>
          <a:solidFill>
            <a:srgbClr val="e85d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écan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>
            <a:off x="1555920" y="2463840"/>
            <a:ext cx="745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6"/>
          <p:cNvSpPr/>
          <p:nvPr/>
        </p:nvSpPr>
        <p:spPr>
          <a:xfrm>
            <a:off x="386244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8"/>
          <p:cNvSpPr/>
          <p:nvPr/>
        </p:nvSpPr>
        <p:spPr>
          <a:xfrm>
            <a:off x="5049720" y="239076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9"/>
          <p:cNvSpPr/>
          <p:nvPr/>
        </p:nvSpPr>
        <p:spPr>
          <a:xfrm>
            <a:off x="559116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30"/>
          <p:cNvSpPr/>
          <p:nvPr/>
        </p:nvSpPr>
        <p:spPr>
          <a:xfrm>
            <a:off x="616752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31"/>
          <p:cNvSpPr/>
          <p:nvPr/>
        </p:nvSpPr>
        <p:spPr>
          <a:xfrm>
            <a:off x="674208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32"/>
          <p:cNvSpPr/>
          <p:nvPr/>
        </p:nvSpPr>
        <p:spPr>
          <a:xfrm>
            <a:off x="731844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33"/>
          <p:cNvSpPr/>
          <p:nvPr/>
        </p:nvSpPr>
        <p:spPr>
          <a:xfrm>
            <a:off x="782316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34"/>
          <p:cNvSpPr/>
          <p:nvPr/>
        </p:nvSpPr>
        <p:spPr>
          <a:xfrm>
            <a:off x="839952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36"/>
          <p:cNvSpPr/>
          <p:nvPr/>
        </p:nvSpPr>
        <p:spPr>
          <a:xfrm>
            <a:off x="443880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459240" y="2079720"/>
            <a:ext cx="5273640" cy="380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chaînement disciplinaire en centres d’intérê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Diagramme 45" descr=""/>
          <p:cNvPicPr/>
          <p:nvPr/>
        </p:nvPicPr>
        <p:blipFill>
          <a:blip r:embed="rId1"/>
          <a:stretch/>
        </p:blipFill>
        <p:spPr>
          <a:xfrm>
            <a:off x="3309840" y="2554200"/>
            <a:ext cx="5608800" cy="63972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13"/>
          <p:cNvSpPr/>
          <p:nvPr/>
        </p:nvSpPr>
        <p:spPr>
          <a:xfrm rot="16200000">
            <a:off x="46440" y="3936240"/>
            <a:ext cx="2759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Connaissances du référe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3"/>
          <p:cNvGrpSpPr/>
          <p:nvPr/>
        </p:nvGrpSpPr>
        <p:grpSpPr>
          <a:xfrm>
            <a:off x="1679400" y="3119400"/>
            <a:ext cx="7648560" cy="2949120"/>
            <a:chOff x="1679400" y="3119400"/>
            <a:chExt cx="7648560" cy="2949120"/>
          </a:xfrm>
        </p:grpSpPr>
        <p:sp>
          <p:nvSpPr>
            <p:cNvPr id="705" name="Text Box 16"/>
            <p:cNvSpPr/>
            <p:nvPr/>
          </p:nvSpPr>
          <p:spPr>
            <a:xfrm>
              <a:off x="1679400" y="3240000"/>
              <a:ext cx="1366920" cy="382320"/>
            </a:xfrm>
            <a:prstGeom prst="rect">
              <a:avLst/>
            </a:prstGeom>
            <a:solidFill>
              <a:srgbClr val="b4df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Automat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22"/>
            <p:cNvSpPr/>
            <p:nvPr/>
          </p:nvSpPr>
          <p:spPr>
            <a:xfrm>
              <a:off x="1716120" y="3851280"/>
              <a:ext cx="1366560" cy="381240"/>
            </a:xfrm>
            <a:prstGeom prst="rect">
              <a:avLst/>
            </a:prstGeom>
            <a:solidFill>
              <a:srgbClr val="bb9c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23"/>
            <p:cNvSpPr/>
            <p:nvPr/>
          </p:nvSpPr>
          <p:spPr>
            <a:xfrm>
              <a:off x="1716120" y="4496400"/>
              <a:ext cx="1366560" cy="380880"/>
            </a:xfrm>
            <a:prstGeom prst="rect">
              <a:avLst/>
            </a:prstGeom>
            <a:solidFill>
              <a:srgbClr val="6dda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Math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42"/>
            <p:cNvSpPr/>
            <p:nvPr/>
          </p:nvSpPr>
          <p:spPr>
            <a:xfrm>
              <a:off x="1716120" y="5090400"/>
              <a:ext cx="1366560" cy="380880"/>
            </a:xfrm>
            <a:prstGeom prst="rect">
              <a:avLst/>
            </a:prstGeom>
            <a:solidFill>
              <a:srgbClr val="ffb4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hys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Diagramme 46" descr=""/>
            <p:cNvPicPr/>
            <p:nvPr/>
          </p:nvPicPr>
          <p:blipFill>
            <a:blip r:embed="rId2"/>
            <a:stretch/>
          </p:blipFill>
          <p:spPr>
            <a:xfrm>
              <a:off x="3294000" y="3119400"/>
              <a:ext cx="602316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Diagramme 47" descr=""/>
            <p:cNvPicPr/>
            <p:nvPr/>
          </p:nvPicPr>
          <p:blipFill>
            <a:blip r:embed="rId3"/>
            <a:stretch/>
          </p:blipFill>
          <p:spPr>
            <a:xfrm>
              <a:off x="3311280" y="3716640"/>
              <a:ext cx="60058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Diagramme 48" descr=""/>
            <p:cNvPicPr/>
            <p:nvPr/>
          </p:nvPicPr>
          <p:blipFill>
            <a:blip r:embed="rId4"/>
            <a:stretch/>
          </p:blipFill>
          <p:spPr>
            <a:xfrm>
              <a:off x="3294000" y="4369320"/>
              <a:ext cx="602316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Diagramme 25" descr=""/>
            <p:cNvPicPr/>
            <p:nvPr/>
          </p:nvPicPr>
          <p:blipFill>
            <a:blip r:embed="rId5"/>
            <a:stretch/>
          </p:blipFill>
          <p:spPr>
            <a:xfrm>
              <a:off x="3305160" y="4979160"/>
              <a:ext cx="6022800" cy="6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 Box 42"/>
            <p:cNvSpPr/>
            <p:nvPr/>
          </p:nvSpPr>
          <p:spPr>
            <a:xfrm>
              <a:off x="1716120" y="5687640"/>
              <a:ext cx="1366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Autre 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gression pédagogique disciplin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103"/>
          <p:cNvSpPr/>
          <p:nvPr/>
        </p:nvSpPr>
        <p:spPr>
          <a:xfrm>
            <a:off x="4330800" y="4605480"/>
            <a:ext cx="2415960" cy="979200"/>
          </a:xfrm>
          <a:prstGeom prst="rect">
            <a:avLst/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ule N°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er 69"/>
          <p:cNvGrpSpPr/>
          <p:nvPr/>
        </p:nvGrpSpPr>
        <p:grpSpPr>
          <a:xfrm>
            <a:off x="5076720" y="2682720"/>
            <a:ext cx="1204920" cy="3538800"/>
            <a:chOff x="5076720" y="2682720"/>
            <a:chExt cx="1204920" cy="3538800"/>
          </a:xfrm>
        </p:grpSpPr>
        <p:sp>
          <p:nvSpPr>
            <p:cNvPr id="717" name="Rectangle 70"/>
            <p:cNvSpPr/>
            <p:nvPr/>
          </p:nvSpPr>
          <p:spPr>
            <a:xfrm>
              <a:off x="5921280" y="2682720"/>
              <a:ext cx="352440" cy="35388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ZoneTexte 71"/>
            <p:cNvSpPr/>
            <p:nvPr/>
          </p:nvSpPr>
          <p:spPr>
            <a:xfrm>
              <a:off x="5076720" y="585216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 Box 9"/>
          <p:cNvSpPr/>
          <p:nvPr/>
        </p:nvSpPr>
        <p:spPr>
          <a:xfrm>
            <a:off x="1701720" y="2679840"/>
            <a:ext cx="1270080" cy="380880"/>
          </a:xfrm>
          <a:prstGeom prst="rect">
            <a:avLst/>
          </a:prstGeom>
          <a:solidFill>
            <a:srgbClr val="e85d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écan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 rot="16200000">
            <a:off x="44640" y="3936240"/>
            <a:ext cx="2759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Connaissances du référe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6"/>
          <p:cNvSpPr/>
          <p:nvPr/>
        </p:nvSpPr>
        <p:spPr>
          <a:xfrm>
            <a:off x="1701720" y="3321000"/>
            <a:ext cx="1403280" cy="380880"/>
          </a:xfrm>
          <a:prstGeom prst="rect">
            <a:avLst/>
          </a:prstGeom>
          <a:solidFill>
            <a:srgbClr val="b4df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uto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2"/>
          <p:cNvSpPr/>
          <p:nvPr/>
        </p:nvSpPr>
        <p:spPr>
          <a:xfrm>
            <a:off x="1738440" y="3930480"/>
            <a:ext cx="1388880" cy="381240"/>
          </a:xfrm>
          <a:prstGeom prst="rect">
            <a:avLst/>
          </a:prstGeom>
          <a:solidFill>
            <a:srgbClr val="bb9c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3"/>
          <p:cNvSpPr/>
          <p:nvPr/>
        </p:nvSpPr>
        <p:spPr>
          <a:xfrm>
            <a:off x="1738440" y="4575240"/>
            <a:ext cx="1269720" cy="380880"/>
          </a:xfrm>
          <a:prstGeom prst="rect">
            <a:avLst/>
          </a:prstGeom>
          <a:solidFill>
            <a:srgbClr val="6dda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2"/>
          <p:cNvSpPr/>
          <p:nvPr/>
        </p:nvSpPr>
        <p:spPr>
          <a:xfrm>
            <a:off x="1738440" y="5168880"/>
            <a:ext cx="1269720" cy="380880"/>
          </a:xfrm>
          <a:prstGeom prst="rect">
            <a:avLst/>
          </a:prstGeom>
          <a:solidFill>
            <a:srgbClr val="ffb4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hys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42"/>
          <p:cNvSpPr/>
          <p:nvPr/>
        </p:nvSpPr>
        <p:spPr>
          <a:xfrm>
            <a:off x="1738440" y="5765760"/>
            <a:ext cx="12697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utre 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er 35"/>
          <p:cNvGrpSpPr/>
          <p:nvPr/>
        </p:nvGrpSpPr>
        <p:grpSpPr>
          <a:xfrm>
            <a:off x="3457440" y="2692440"/>
            <a:ext cx="2448000" cy="2892240"/>
            <a:chOff x="3457440" y="2692440"/>
            <a:chExt cx="2448000" cy="2892240"/>
          </a:xfrm>
        </p:grpSpPr>
        <p:sp>
          <p:nvSpPr>
            <p:cNvPr id="727" name="Rectangle 100"/>
            <p:cNvSpPr/>
            <p:nvPr/>
          </p:nvSpPr>
          <p:spPr>
            <a:xfrm>
              <a:off x="3457440" y="2692440"/>
              <a:ext cx="2448000" cy="1652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Module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01"/>
            <p:cNvSpPr/>
            <p:nvPr/>
          </p:nvSpPr>
          <p:spPr>
            <a:xfrm>
              <a:off x="3517560" y="5170320"/>
              <a:ext cx="826920" cy="4143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02"/>
            <p:cNvSpPr/>
            <p:nvPr/>
          </p:nvSpPr>
          <p:spPr>
            <a:xfrm>
              <a:off x="3487320" y="4589280"/>
              <a:ext cx="825480" cy="4125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er 36"/>
          <p:cNvGrpSpPr/>
          <p:nvPr/>
        </p:nvGrpSpPr>
        <p:grpSpPr>
          <a:xfrm>
            <a:off x="6281640" y="2692440"/>
            <a:ext cx="1684440" cy="3529080"/>
            <a:chOff x="6281640" y="2692440"/>
            <a:chExt cx="1684440" cy="3529080"/>
          </a:xfrm>
        </p:grpSpPr>
        <p:sp>
          <p:nvSpPr>
            <p:cNvPr id="731" name="Rectangle 28"/>
            <p:cNvSpPr/>
            <p:nvPr/>
          </p:nvSpPr>
          <p:spPr>
            <a:xfrm>
              <a:off x="6742080" y="4605480"/>
              <a:ext cx="1224000" cy="161604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04"/>
            <p:cNvSpPr/>
            <p:nvPr/>
          </p:nvSpPr>
          <p:spPr>
            <a:xfrm>
              <a:off x="6281640" y="2692440"/>
              <a:ext cx="1684440" cy="166860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Module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er 29"/>
          <p:cNvGrpSpPr/>
          <p:nvPr/>
        </p:nvGrpSpPr>
        <p:grpSpPr>
          <a:xfrm>
            <a:off x="1555920" y="2079720"/>
            <a:ext cx="7453080" cy="3695760"/>
            <a:chOff x="1555920" y="2079720"/>
            <a:chExt cx="7453080" cy="3695760"/>
          </a:xfrm>
        </p:grpSpPr>
        <p:sp>
          <p:nvSpPr>
            <p:cNvPr id="734" name="Line 25"/>
            <p:cNvSpPr/>
            <p:nvPr/>
          </p:nvSpPr>
          <p:spPr>
            <a:xfrm>
              <a:off x="1555920" y="2464200"/>
              <a:ext cx="74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6"/>
            <p:cNvSpPr/>
            <p:nvPr/>
          </p:nvSpPr>
          <p:spPr>
            <a:xfrm>
              <a:off x="386244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28"/>
            <p:cNvSpPr/>
            <p:nvPr/>
          </p:nvSpPr>
          <p:spPr>
            <a:xfrm>
              <a:off x="5049720" y="23911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29"/>
            <p:cNvSpPr/>
            <p:nvPr/>
          </p:nvSpPr>
          <p:spPr>
            <a:xfrm>
              <a:off x="559116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0"/>
            <p:cNvSpPr/>
            <p:nvPr/>
          </p:nvSpPr>
          <p:spPr>
            <a:xfrm>
              <a:off x="616752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31"/>
            <p:cNvSpPr/>
            <p:nvPr/>
          </p:nvSpPr>
          <p:spPr>
            <a:xfrm>
              <a:off x="674208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32"/>
            <p:cNvSpPr/>
            <p:nvPr/>
          </p:nvSpPr>
          <p:spPr>
            <a:xfrm>
              <a:off x="731844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33"/>
            <p:cNvSpPr/>
            <p:nvPr/>
          </p:nvSpPr>
          <p:spPr>
            <a:xfrm>
              <a:off x="782316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443880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9"/>
            <p:cNvSpPr/>
            <p:nvPr/>
          </p:nvSpPr>
          <p:spPr>
            <a:xfrm>
              <a:off x="3459240" y="2079720"/>
              <a:ext cx="5273640" cy="3808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Enchaînement de modules de 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4"/>
            <p:cNvSpPr/>
            <p:nvPr/>
          </p:nvSpPr>
          <p:spPr>
            <a:xfrm>
              <a:off x="839952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Rectangle 30"/>
          <p:cNvSpPr/>
          <p:nvPr/>
        </p:nvSpPr>
        <p:spPr>
          <a:xfrm>
            <a:off x="7035840" y="3321000"/>
            <a:ext cx="1698480" cy="1040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er 31"/>
          <p:cNvGrpSpPr/>
          <p:nvPr/>
        </p:nvGrpSpPr>
        <p:grpSpPr>
          <a:xfrm>
            <a:off x="7985160" y="2679840"/>
            <a:ext cx="1351080" cy="3538440"/>
            <a:chOff x="7985160" y="2679840"/>
            <a:chExt cx="1351080" cy="3538440"/>
          </a:xfrm>
        </p:grpSpPr>
        <p:sp>
          <p:nvSpPr>
            <p:cNvPr id="747" name="Rectangle 33"/>
            <p:cNvSpPr/>
            <p:nvPr/>
          </p:nvSpPr>
          <p:spPr>
            <a:xfrm>
              <a:off x="7985160" y="2679840"/>
              <a:ext cx="352440" cy="3538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ZoneTexte 32"/>
            <p:cNvSpPr/>
            <p:nvPr/>
          </p:nvSpPr>
          <p:spPr>
            <a:xfrm>
              <a:off x="8131320" y="584892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gression pédagogique modul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AutoShape 22"/>
          <p:cNvSpPr/>
          <p:nvPr/>
        </p:nvSpPr>
        <p:spPr>
          <a:xfrm>
            <a:off x="484200" y="3543480"/>
            <a:ext cx="1127160" cy="714240"/>
          </a:xfrm>
          <a:prstGeom prst="rightArrow">
            <a:avLst>
              <a:gd name="adj1" fmla="val 50000"/>
              <a:gd name="adj2" fmla="val 3945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Mise à niv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21"/>
          <p:cNvSpPr/>
          <p:nvPr/>
        </p:nvSpPr>
        <p:spPr>
          <a:xfrm>
            <a:off x="492120" y="1808280"/>
            <a:ext cx="1092240" cy="698400"/>
          </a:xfrm>
          <a:prstGeom prst="rightArrow">
            <a:avLst>
              <a:gd name="adj1" fmla="val 50000"/>
              <a:gd name="adj2" fmla="val 39098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ronc comm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6"/>
          <p:cNvSpPr/>
          <p:nvPr/>
        </p:nvSpPr>
        <p:spPr>
          <a:xfrm rot="16200000">
            <a:off x="-1722600" y="2881440"/>
            <a:ext cx="4141800" cy="337320"/>
          </a:xfrm>
          <a:prstGeom prst="rect">
            <a:avLst/>
          </a:prstGeom>
          <a:solidFill>
            <a:srgbClr val="ffee93"/>
          </a:solidFill>
          <a:ln w="9360">
            <a:solidFill>
              <a:srgbClr val="ffee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onctionnement à mettre en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85"/>
          <p:cNvSpPr/>
          <p:nvPr/>
        </p:nvSpPr>
        <p:spPr>
          <a:xfrm>
            <a:off x="3456000" y="1089000"/>
            <a:ext cx="936720" cy="2303640"/>
          </a:xfrm>
          <a:prstGeom prst="rightArrow">
            <a:avLst>
              <a:gd name="adj1" fmla="val 64296"/>
              <a:gd name="adj2" fmla="val 4708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0"/>
          <p:cNvSpPr/>
          <p:nvPr/>
        </p:nvSpPr>
        <p:spPr>
          <a:xfrm rot="16200000">
            <a:off x="419040" y="3806640"/>
            <a:ext cx="5834160" cy="252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Revue de proje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74"/>
          <p:cNvSpPr/>
          <p:nvPr/>
        </p:nvSpPr>
        <p:spPr>
          <a:xfrm>
            <a:off x="1763640" y="3987720"/>
            <a:ext cx="2592360" cy="486000"/>
          </a:xfrm>
          <a:prstGeom prst="rightArrow">
            <a:avLst>
              <a:gd name="adj1" fmla="val 50000"/>
              <a:gd name="adj2" fmla="val 133352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ccompag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58"/>
          <p:cNvSpPr/>
          <p:nvPr/>
        </p:nvSpPr>
        <p:spPr>
          <a:xfrm>
            <a:off x="1763640" y="3392640"/>
            <a:ext cx="2592360" cy="541080"/>
          </a:xfrm>
          <a:prstGeom prst="rightArrow">
            <a:avLst>
              <a:gd name="adj1" fmla="val 50000"/>
              <a:gd name="adj2" fmla="val 119777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Enseignements transversaux en comm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28"/>
          <p:cNvSpPr/>
          <p:nvPr/>
        </p:nvSpPr>
        <p:spPr>
          <a:xfrm>
            <a:off x="1800360" y="1089000"/>
            <a:ext cx="1403280" cy="2232000"/>
          </a:xfrm>
          <a:prstGeom prst="rightArrow">
            <a:avLst>
              <a:gd name="adj1" fmla="val 61880"/>
              <a:gd name="adj2" fmla="val 256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uroplastic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"/>
          <p:cNvSpPr/>
          <p:nvPr/>
        </p:nvSpPr>
        <p:spPr>
          <a:xfrm rot="16200000">
            <a:off x="-1238040" y="3803040"/>
            <a:ext cx="5869080" cy="223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émarche de projet ingénierie simultanée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92"/>
          <p:cNvSpPr/>
          <p:nvPr/>
        </p:nvSpPr>
        <p:spPr>
          <a:xfrm>
            <a:off x="4572000" y="3290760"/>
            <a:ext cx="658800" cy="1182960"/>
          </a:xfrm>
          <a:prstGeom prst="rightArrow">
            <a:avLst>
              <a:gd name="adj1" fmla="val 51676"/>
              <a:gd name="adj2" fmla="val 3590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Mi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iv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36"/>
          <p:cNvSpPr/>
          <p:nvPr/>
        </p:nvSpPr>
        <p:spPr>
          <a:xfrm>
            <a:off x="4594320" y="1808280"/>
            <a:ext cx="662040" cy="89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9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ro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comm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9"/>
          <p:cNvSpPr/>
          <p:nvPr/>
        </p:nvSpPr>
        <p:spPr>
          <a:xfrm rot="16200000">
            <a:off x="1582560" y="3789000"/>
            <a:ext cx="5869080" cy="252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tage industrie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9"/>
          <p:cNvSpPr/>
          <p:nvPr/>
        </p:nvSpPr>
        <p:spPr>
          <a:xfrm>
            <a:off x="8172360" y="2421000"/>
            <a:ext cx="430200" cy="901800"/>
          </a:xfrm>
          <a:prstGeom prst="rightArrow">
            <a:avLst>
              <a:gd name="adj1" fmla="val 70074"/>
              <a:gd name="adj2" fmla="val 467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3"/>
          <p:cNvSpPr/>
          <p:nvPr/>
        </p:nvSpPr>
        <p:spPr>
          <a:xfrm rot="16200000">
            <a:off x="5792040" y="4440600"/>
            <a:ext cx="4545000" cy="289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duire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88"/>
          <p:cNvSpPr/>
          <p:nvPr/>
        </p:nvSpPr>
        <p:spPr>
          <a:xfrm>
            <a:off x="6985080" y="2349360"/>
            <a:ext cx="1042920" cy="1044720"/>
          </a:xfrm>
          <a:prstGeom prst="rightArrow">
            <a:avLst>
              <a:gd name="adj1" fmla="val 70074"/>
              <a:gd name="adj2" fmla="val 2852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87"/>
          <p:cNvSpPr/>
          <p:nvPr/>
        </p:nvSpPr>
        <p:spPr>
          <a:xfrm>
            <a:off x="6985080" y="1015920"/>
            <a:ext cx="1619280" cy="1295640"/>
          </a:xfrm>
          <a:prstGeom prst="rightArrow">
            <a:avLst>
              <a:gd name="adj1" fmla="val 72056"/>
              <a:gd name="adj2" fmla="val 5878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86"/>
          <p:cNvSpPr/>
          <p:nvPr/>
        </p:nvSpPr>
        <p:spPr>
          <a:xfrm>
            <a:off x="5508720" y="1125360"/>
            <a:ext cx="1258920" cy="2303640"/>
          </a:xfrm>
          <a:prstGeom prst="rightArrow">
            <a:avLst>
              <a:gd name="adj1" fmla="val 64296"/>
              <a:gd name="adj2" fmla="val 4708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8"/>
          <p:cNvSpPr/>
          <p:nvPr/>
        </p:nvSpPr>
        <p:spPr>
          <a:xfrm rot="16200000">
            <a:off x="2465280" y="3771360"/>
            <a:ext cx="5869080" cy="287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émarche de projet ingénierie simultané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2"/>
          <p:cNvSpPr/>
          <p:nvPr/>
        </p:nvSpPr>
        <p:spPr>
          <a:xfrm rot="16200000">
            <a:off x="5812560" y="3777120"/>
            <a:ext cx="5877000" cy="28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amens: </a:t>
            </a:r>
            <a:r>
              <a:rPr b="1" i="1" lang="fr-FR" sz="1200" spc="-1" strike="noStrike">
                <a:solidFill>
                  <a:srgbClr val="000000"/>
                </a:solidFill>
                <a:latin typeface="Calibri"/>
              </a:rPr>
              <a:t>BTS CPI, BTS ERO, BTS Euro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4"/>
          <p:cNvSpPr/>
          <p:nvPr/>
        </p:nvSpPr>
        <p:spPr>
          <a:xfrm rot="16200000">
            <a:off x="4597560" y="4435560"/>
            <a:ext cx="4581360" cy="2635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tage europé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75"/>
          <p:cNvGrpSpPr/>
          <p:nvPr/>
        </p:nvGrpSpPr>
        <p:grpSpPr>
          <a:xfrm>
            <a:off x="468360" y="5192640"/>
            <a:ext cx="3935520" cy="1623960"/>
            <a:chOff x="468360" y="5192640"/>
            <a:chExt cx="3935520" cy="1623960"/>
          </a:xfrm>
        </p:grpSpPr>
        <p:sp>
          <p:nvSpPr>
            <p:cNvPr id="771" name="AutoShape 16"/>
            <p:cNvSpPr/>
            <p:nvPr/>
          </p:nvSpPr>
          <p:spPr>
            <a:xfrm>
              <a:off x="471600" y="6311880"/>
              <a:ext cx="3924360" cy="504720"/>
            </a:xfrm>
            <a:prstGeom prst="rightArrow">
              <a:avLst>
                <a:gd name="adj1" fmla="val 50000"/>
                <a:gd name="adj2" fmla="val 194383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-  E.R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17"/>
            <p:cNvSpPr/>
            <p:nvPr/>
          </p:nvSpPr>
          <p:spPr>
            <a:xfrm>
              <a:off x="469800" y="5740200"/>
              <a:ext cx="3934080" cy="500040"/>
            </a:xfrm>
            <a:prstGeom prst="rightArrow">
              <a:avLst>
                <a:gd name="adj1" fmla="val 50000"/>
                <a:gd name="adj2" fmla="val 196688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19"/>
            <p:cNvSpPr/>
            <p:nvPr/>
          </p:nvSpPr>
          <p:spPr>
            <a:xfrm>
              <a:off x="468360" y="5192640"/>
              <a:ext cx="3933720" cy="434880"/>
            </a:xfrm>
            <a:prstGeom prst="rightArrow">
              <a:avLst>
                <a:gd name="adj1" fmla="val 50000"/>
                <a:gd name="adj2" fmla="val 226138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C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76"/>
          <p:cNvGrpSpPr/>
          <p:nvPr/>
        </p:nvGrpSpPr>
        <p:grpSpPr>
          <a:xfrm>
            <a:off x="4608360" y="5192640"/>
            <a:ext cx="3996000" cy="1582920"/>
            <a:chOff x="4608360" y="5192640"/>
            <a:chExt cx="3996000" cy="1582920"/>
          </a:xfrm>
        </p:grpSpPr>
        <p:sp>
          <p:nvSpPr>
            <p:cNvPr id="775" name="AutoShape 32"/>
            <p:cNvSpPr/>
            <p:nvPr/>
          </p:nvSpPr>
          <p:spPr>
            <a:xfrm>
              <a:off x="4611600" y="6343920"/>
              <a:ext cx="3975120" cy="431640"/>
            </a:xfrm>
            <a:prstGeom prst="rightArrow">
              <a:avLst>
                <a:gd name="adj1" fmla="val 50000"/>
                <a:gd name="adj2" fmla="val 23023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-  E.R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33"/>
            <p:cNvSpPr/>
            <p:nvPr/>
          </p:nvSpPr>
          <p:spPr>
            <a:xfrm>
              <a:off x="4610160" y="5807160"/>
              <a:ext cx="2122560" cy="465120"/>
            </a:xfrm>
            <a:prstGeom prst="rightArrow">
              <a:avLst>
                <a:gd name="adj1" fmla="val 50000"/>
                <a:gd name="adj2" fmla="val 11408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34"/>
            <p:cNvSpPr/>
            <p:nvPr/>
          </p:nvSpPr>
          <p:spPr>
            <a:xfrm>
              <a:off x="4608360" y="5192640"/>
              <a:ext cx="3996000" cy="471600"/>
            </a:xfrm>
            <a:prstGeom prst="rightArrow">
              <a:avLst>
                <a:gd name="adj1" fmla="val 50000"/>
                <a:gd name="adj2" fmla="val 211832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C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35"/>
            <p:cNvSpPr/>
            <p:nvPr/>
          </p:nvSpPr>
          <p:spPr>
            <a:xfrm>
              <a:off x="7020000" y="5808600"/>
              <a:ext cx="1576440" cy="463680"/>
            </a:xfrm>
            <a:prstGeom prst="rightArrow">
              <a:avLst>
                <a:gd name="adj1" fmla="val 50000"/>
                <a:gd name="adj2" fmla="val 84996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Rectangle 37"/>
          <p:cNvSpPr/>
          <p:nvPr/>
        </p:nvSpPr>
        <p:spPr>
          <a:xfrm rot="16200000">
            <a:off x="6203160" y="1532520"/>
            <a:ext cx="1380960" cy="25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jet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47"/>
          <p:cNvSpPr/>
          <p:nvPr/>
        </p:nvSpPr>
        <p:spPr>
          <a:xfrm>
            <a:off x="5543640" y="4041720"/>
            <a:ext cx="2665440" cy="503280"/>
          </a:xfrm>
          <a:prstGeom prst="rightArrow">
            <a:avLst>
              <a:gd name="adj1" fmla="val 50000"/>
              <a:gd name="adj2" fmla="val 13240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59"/>
          <p:cNvSpPr/>
          <p:nvPr/>
        </p:nvSpPr>
        <p:spPr>
          <a:xfrm>
            <a:off x="5543640" y="3465360"/>
            <a:ext cx="3024000" cy="576360"/>
          </a:xfrm>
          <a:prstGeom prst="rightArrow">
            <a:avLst>
              <a:gd name="adj1" fmla="val 50000"/>
              <a:gd name="adj2" fmla="val 131168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Enseignements transversaux en comm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61"/>
          <p:cNvSpPr/>
          <p:nvPr/>
        </p:nvSpPr>
        <p:spPr>
          <a:xfrm>
            <a:off x="539640" y="593640"/>
            <a:ext cx="41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° 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5"/>
          <p:cNvSpPr/>
          <p:nvPr/>
        </p:nvSpPr>
        <p:spPr>
          <a:xfrm rot="16200000">
            <a:off x="-533160" y="5654880"/>
            <a:ext cx="1736640" cy="669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Fonctionnemen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actu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67"/>
          <p:cNvSpPr/>
          <p:nvPr/>
        </p:nvSpPr>
        <p:spPr>
          <a:xfrm>
            <a:off x="4643280" y="593640"/>
            <a:ext cx="424980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° 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8"/>
          <p:cNvSpPr/>
          <p:nvPr/>
        </p:nvSpPr>
        <p:spPr>
          <a:xfrm>
            <a:off x="0" y="4428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Organisation fonctionnelle Ingénierie Collaborat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80"/>
          <p:cNvSpPr/>
          <p:nvPr/>
        </p:nvSpPr>
        <p:spPr>
          <a:xfrm>
            <a:off x="5256360" y="4545000"/>
            <a:ext cx="3348000" cy="468360"/>
          </a:xfrm>
          <a:prstGeom prst="rightArrow">
            <a:avLst>
              <a:gd name="adj1" fmla="val 50000"/>
              <a:gd name="adj2" fmla="val 178709"/>
            </a:avLst>
          </a:prstGeom>
          <a:solidFill>
            <a:srgbClr val="ffa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jet collaboratif support d’ex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79"/>
          <p:cNvSpPr/>
          <p:nvPr/>
        </p:nvSpPr>
        <p:spPr>
          <a:xfrm>
            <a:off x="1584360" y="4545000"/>
            <a:ext cx="2806560" cy="431640"/>
          </a:xfrm>
          <a:prstGeom prst="rightArrow">
            <a:avLst>
              <a:gd name="adj1" fmla="val 62833"/>
              <a:gd name="adj2" fmla="val 167398"/>
            </a:avLst>
          </a:prstGeom>
          <a:solidFill>
            <a:srgbClr val="ffa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jet collabora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78"/>
          <p:cNvSpPr/>
          <p:nvPr/>
        </p:nvSpPr>
        <p:spPr>
          <a:xfrm>
            <a:off x="0" y="5121360"/>
            <a:ext cx="9144000" cy="172872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63"/>
          <p:cNvSpPr/>
          <p:nvPr/>
        </p:nvSpPr>
        <p:spPr>
          <a:xfrm>
            <a:off x="0" y="5084640"/>
            <a:ext cx="914400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ZoneTexte 109"/>
          <p:cNvSpPr/>
          <p:nvPr/>
        </p:nvSpPr>
        <p:spPr>
          <a:xfrm>
            <a:off x="6924600" y="5632560"/>
            <a:ext cx="2062080" cy="337320"/>
          </a:xfrm>
          <a:prstGeom prst="rect">
            <a:avLst/>
          </a:prstGeom>
          <a:solidFill>
            <a:srgbClr val="bfe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er 14"/>
          <p:cNvGrpSpPr/>
          <p:nvPr/>
        </p:nvGrpSpPr>
        <p:grpSpPr>
          <a:xfrm>
            <a:off x="1400040" y="1895400"/>
            <a:ext cx="1371600" cy="1056600"/>
            <a:chOff x="1400040" y="1895400"/>
            <a:chExt cx="1371600" cy="1056600"/>
          </a:xfrm>
        </p:grpSpPr>
        <p:sp>
          <p:nvSpPr>
            <p:cNvPr id="595" name="ZoneTexte 3"/>
            <p:cNvSpPr/>
            <p:nvPr/>
          </p:nvSpPr>
          <p:spPr>
            <a:xfrm>
              <a:off x="1400040" y="1895400"/>
              <a:ext cx="1371600" cy="33732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C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ZoneTexte 4"/>
            <p:cNvSpPr/>
            <p:nvPr/>
          </p:nvSpPr>
          <p:spPr>
            <a:xfrm>
              <a:off x="1400040" y="2614680"/>
              <a:ext cx="1371600" cy="33732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C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er 11"/>
          <p:cNvGrpSpPr/>
          <p:nvPr/>
        </p:nvGrpSpPr>
        <p:grpSpPr>
          <a:xfrm>
            <a:off x="3571920" y="1895400"/>
            <a:ext cx="1828800" cy="1818720"/>
            <a:chOff x="3571920" y="1895400"/>
            <a:chExt cx="1828800" cy="1818720"/>
          </a:xfrm>
        </p:grpSpPr>
        <p:sp>
          <p:nvSpPr>
            <p:cNvPr id="598" name="ZoneTexte 5"/>
            <p:cNvSpPr/>
            <p:nvPr/>
          </p:nvSpPr>
          <p:spPr>
            <a:xfrm>
              <a:off x="3571920" y="18954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Second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ZoneTexte 6"/>
            <p:cNvSpPr/>
            <p:nvPr/>
          </p:nvSpPr>
          <p:spPr>
            <a:xfrm>
              <a:off x="3571920" y="26352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remièr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ZoneTexte 7"/>
            <p:cNvSpPr/>
            <p:nvPr/>
          </p:nvSpPr>
          <p:spPr>
            <a:xfrm>
              <a:off x="3571920" y="33768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Terminal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er 12"/>
          <p:cNvGrpSpPr/>
          <p:nvPr/>
        </p:nvGrpSpPr>
        <p:grpSpPr>
          <a:xfrm>
            <a:off x="6129360" y="1897200"/>
            <a:ext cx="2482920" cy="1797840"/>
            <a:chOff x="6129360" y="1897200"/>
            <a:chExt cx="2482920" cy="1797840"/>
          </a:xfrm>
        </p:grpSpPr>
        <p:sp>
          <p:nvSpPr>
            <p:cNvPr id="602" name="ZoneTexte 8"/>
            <p:cNvSpPr/>
            <p:nvPr/>
          </p:nvSpPr>
          <p:spPr>
            <a:xfrm>
              <a:off x="6129360" y="189720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Seconde d’explo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ZoneTexte 9"/>
            <p:cNvSpPr/>
            <p:nvPr/>
          </p:nvSpPr>
          <p:spPr>
            <a:xfrm>
              <a:off x="6129360" y="262728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remière technolog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ZoneTexte 10"/>
            <p:cNvSpPr/>
            <p:nvPr/>
          </p:nvSpPr>
          <p:spPr>
            <a:xfrm>
              <a:off x="6129360" y="335772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Terminale technolog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Flèche vers le bas 38"/>
          <p:cNvSpPr/>
          <p:nvPr/>
        </p:nvSpPr>
        <p:spPr>
          <a:xfrm>
            <a:off x="7191360" y="2246400"/>
            <a:ext cx="380880" cy="3888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lèche vers le bas 82"/>
          <p:cNvSpPr/>
          <p:nvPr/>
        </p:nvSpPr>
        <p:spPr>
          <a:xfrm>
            <a:off x="4371840" y="2235240"/>
            <a:ext cx="381240" cy="4017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lèche vers le bas 96"/>
          <p:cNvSpPr/>
          <p:nvPr/>
        </p:nvSpPr>
        <p:spPr>
          <a:xfrm>
            <a:off x="7191360" y="2963880"/>
            <a:ext cx="380880" cy="376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lèche vers le bas 97"/>
          <p:cNvSpPr/>
          <p:nvPr/>
        </p:nvSpPr>
        <p:spPr>
          <a:xfrm>
            <a:off x="4371840" y="2975040"/>
            <a:ext cx="381240" cy="40140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lèche vers le bas 99"/>
          <p:cNvSpPr/>
          <p:nvPr/>
        </p:nvSpPr>
        <p:spPr>
          <a:xfrm>
            <a:off x="1933560" y="2235240"/>
            <a:ext cx="380880" cy="40176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lèche vers la droite 100"/>
          <p:cNvSpPr/>
          <p:nvPr/>
        </p:nvSpPr>
        <p:spPr>
          <a:xfrm>
            <a:off x="2771640" y="2768760"/>
            <a:ext cx="800280" cy="150480"/>
          </a:xfrm>
          <a:prstGeom prst="rightArrow">
            <a:avLst>
              <a:gd name="adj1" fmla="val 50000"/>
              <a:gd name="adj2" fmla="val 50129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ZoneTexte 101"/>
          <p:cNvSpPr/>
          <p:nvPr/>
        </p:nvSpPr>
        <p:spPr>
          <a:xfrm>
            <a:off x="1389240" y="6283440"/>
            <a:ext cx="6835680" cy="3682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ZoneTexte 102"/>
          <p:cNvSpPr/>
          <p:nvPr/>
        </p:nvSpPr>
        <p:spPr>
          <a:xfrm>
            <a:off x="4925880" y="4138560"/>
            <a:ext cx="2009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TS, DUT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ann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ZoneTexte 103"/>
          <p:cNvSpPr/>
          <p:nvPr/>
        </p:nvSpPr>
        <p:spPr>
          <a:xfrm>
            <a:off x="4919760" y="4519440"/>
            <a:ext cx="20048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TS, DUT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ème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nn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lèche vers le bas 104"/>
          <p:cNvSpPr/>
          <p:nvPr/>
        </p:nvSpPr>
        <p:spPr>
          <a:xfrm>
            <a:off x="6276960" y="3691080"/>
            <a:ext cx="333360" cy="425160"/>
          </a:xfrm>
          <a:prstGeom prst="down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lèche vers le bas 105"/>
          <p:cNvSpPr/>
          <p:nvPr/>
        </p:nvSpPr>
        <p:spPr>
          <a:xfrm>
            <a:off x="4371840" y="3714840"/>
            <a:ext cx="381240" cy="253188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lèche vers le bas 106"/>
          <p:cNvSpPr/>
          <p:nvPr/>
        </p:nvSpPr>
        <p:spPr>
          <a:xfrm>
            <a:off x="1933560" y="2921040"/>
            <a:ext cx="380880" cy="33130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lèche vers le bas 108"/>
          <p:cNvSpPr/>
          <p:nvPr/>
        </p:nvSpPr>
        <p:spPr>
          <a:xfrm>
            <a:off x="5210280" y="3714840"/>
            <a:ext cx="190440" cy="40140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dbebc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ZoneTexte 109"/>
          <p:cNvSpPr/>
          <p:nvPr/>
        </p:nvSpPr>
        <p:spPr>
          <a:xfrm>
            <a:off x="5894280" y="5281560"/>
            <a:ext cx="3097440" cy="337320"/>
          </a:xfrm>
          <a:prstGeom prst="rect">
            <a:avLst/>
          </a:prstGeom>
          <a:solidFill>
            <a:srgbClr val="bfe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ic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lèche vers le bas 110"/>
          <p:cNvSpPr/>
          <p:nvPr/>
        </p:nvSpPr>
        <p:spPr>
          <a:xfrm>
            <a:off x="6200640" y="4842000"/>
            <a:ext cx="201600" cy="4251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lèche vers le bas 112"/>
          <p:cNvSpPr/>
          <p:nvPr/>
        </p:nvSpPr>
        <p:spPr>
          <a:xfrm>
            <a:off x="5137200" y="4842000"/>
            <a:ext cx="407880" cy="1404720"/>
          </a:xfrm>
          <a:prstGeom prst="downArrow">
            <a:avLst>
              <a:gd name="adj1" fmla="val 50194"/>
              <a:gd name="adj2" fmla="val 47865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ZoneTexte 128"/>
          <p:cNvSpPr/>
          <p:nvPr/>
        </p:nvSpPr>
        <p:spPr>
          <a:xfrm>
            <a:off x="1476360" y="1014480"/>
            <a:ext cx="3886200" cy="368280"/>
          </a:xfrm>
          <a:prstGeom prst="rect">
            <a:avLst/>
          </a:prstGeom>
          <a:solidFill>
            <a:srgbClr val="c4bd97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oie professi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ZoneTexte 129"/>
          <p:cNvSpPr/>
          <p:nvPr/>
        </p:nvSpPr>
        <p:spPr>
          <a:xfrm>
            <a:off x="5667480" y="1014480"/>
            <a:ext cx="2895480" cy="368280"/>
          </a:xfrm>
          <a:prstGeom prst="rect">
            <a:avLst/>
          </a:prstGeom>
          <a:solidFill>
            <a:srgbClr val="c4bd97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oie technolo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lèche courbée vers le haut 130"/>
          <p:cNvSpPr/>
          <p:nvPr/>
        </p:nvSpPr>
        <p:spPr>
          <a:xfrm>
            <a:off x="2759040" y="5900760"/>
            <a:ext cx="952560" cy="957240"/>
          </a:xfrm>
          <a:custGeom>
            <a:avLst/>
            <a:gdLst>
              <a:gd name="textAreaLeft" fmla="*/ 148680 w 952560"/>
              <a:gd name="textAreaRight" fmla="*/ 684720 w 952560"/>
              <a:gd name="textAreaTop" fmla="*/ 128160 h 957240"/>
              <a:gd name="textAreaBottom" fmla="*/ 82908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035132"/>
                <a:lnTo>
                  <a:pt x="21388" y="5373"/>
                </a:lnTo>
                <a:lnTo>
                  <a:pt x="16200" y="0"/>
                </a:lnTo>
                <a:lnTo>
                  <a:pt x="10588" y="5373"/>
                </a:lnTo>
                <a:lnTo>
                  <a:pt x="13288" y="5373"/>
                </a:lnTo>
                <a:arcTo wR="6750" hR="21600" stAng="2364868" swAng="2569146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c4bd97"/>
          </a:solidFill>
          <a:ln w="9360">
            <a:solidFill>
              <a:srgbClr val="4a452a"/>
            </a:solidFill>
            <a:miter/>
          </a:ln>
          <a:effectLst>
            <a:outerShdw dist="23040" dir="5400000" blurRad="0" rotWithShape="0">
              <a:srgbClr val="948a54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oneTexte 131"/>
          <p:cNvSpPr/>
          <p:nvPr/>
        </p:nvSpPr>
        <p:spPr>
          <a:xfrm>
            <a:off x="2556000" y="49370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ers tous les diplô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lèche vers le bas 111"/>
          <p:cNvSpPr/>
          <p:nvPr/>
        </p:nvSpPr>
        <p:spPr>
          <a:xfrm>
            <a:off x="6386400" y="5619600"/>
            <a:ext cx="381240" cy="630360"/>
          </a:xfrm>
          <a:prstGeom prst="downArrow">
            <a:avLst>
              <a:gd name="adj1" fmla="val 50000"/>
              <a:gd name="adj2" fmla="val 52895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lèche vers le bas 62"/>
          <p:cNvSpPr/>
          <p:nvPr/>
        </p:nvSpPr>
        <p:spPr>
          <a:xfrm>
            <a:off x="7997760" y="3701880"/>
            <a:ext cx="163440" cy="1555920"/>
          </a:xfrm>
          <a:prstGeom prst="down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itre 1"/>
          <p:cNvSpPr/>
          <p:nvPr/>
        </p:nvSpPr>
        <p:spPr>
          <a:xfrm>
            <a:off x="1252440" y="0"/>
            <a:ext cx="789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s voies de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ZoneTexte 102"/>
          <p:cNvSpPr/>
          <p:nvPr/>
        </p:nvSpPr>
        <p:spPr>
          <a:xfrm>
            <a:off x="6991200" y="4141800"/>
            <a:ext cx="8193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P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oneTexte 103"/>
          <p:cNvSpPr/>
          <p:nvPr/>
        </p:nvSpPr>
        <p:spPr>
          <a:xfrm>
            <a:off x="6991200" y="4522680"/>
            <a:ext cx="8193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P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lèche vers le bas 66"/>
          <p:cNvSpPr/>
          <p:nvPr/>
        </p:nvSpPr>
        <p:spPr>
          <a:xfrm>
            <a:off x="7191360" y="3701880"/>
            <a:ext cx="176400" cy="414360"/>
          </a:xfrm>
          <a:prstGeom prst="downArrow">
            <a:avLst>
              <a:gd name="adj1" fmla="val 50000"/>
              <a:gd name="adj2" fmla="val 4994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lèche vers le bas 39"/>
          <p:cNvSpPr/>
          <p:nvPr/>
        </p:nvSpPr>
        <p:spPr>
          <a:xfrm>
            <a:off x="7191360" y="4862520"/>
            <a:ext cx="380880" cy="243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lèche vers le bas 111"/>
          <p:cNvSpPr/>
          <p:nvPr/>
        </p:nvSpPr>
        <p:spPr>
          <a:xfrm>
            <a:off x="7637400" y="5954760"/>
            <a:ext cx="381240" cy="295200"/>
          </a:xfrm>
          <a:prstGeom prst="downArrow">
            <a:avLst>
              <a:gd name="adj1" fmla="val 50000"/>
              <a:gd name="adj2" fmla="val 60755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lèche vers le bas 111"/>
          <p:cNvSpPr/>
          <p:nvPr/>
        </p:nvSpPr>
        <p:spPr>
          <a:xfrm>
            <a:off x="8480520" y="5965920"/>
            <a:ext cx="223920" cy="596880"/>
          </a:xfrm>
          <a:prstGeom prst="downArrow">
            <a:avLst>
              <a:gd name="adj1" fmla="val 61704"/>
              <a:gd name="adj2" fmla="val 75858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texte en év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206360" y="1393920"/>
            <a:ext cx="77184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 attentes de personnalisation des parcours de formation et des « outils » associé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ompagnement personnalisé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ges ou PFMP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let pédagogique du projet d’établissement : utilisation de la dotation horaire complémentaire, passerell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modularisation des référentiels au service de la diversification des modes de formation (scolaire, apprentissage, formation continue) et de la mixité des publ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passerelles, une procédure à formali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Object 3" descr=""/>
          <p:cNvPicPr/>
          <p:nvPr/>
        </p:nvPicPr>
        <p:blipFill>
          <a:blip r:embed="rId1"/>
          <a:stretch/>
        </p:blipFill>
        <p:spPr>
          <a:xfrm>
            <a:off x="1511280" y="3413160"/>
            <a:ext cx="5295960" cy="3035160"/>
          </a:xfrm>
          <a:prstGeom prst="rect">
            <a:avLst/>
          </a:prstGeom>
          <a:ln w="0">
            <a:noFill/>
          </a:ln>
        </p:spPr>
      </p:pic>
      <p:grpSp>
        <p:nvGrpSpPr>
          <p:cNvPr id="638" name="Group 4"/>
          <p:cNvGrpSpPr/>
          <p:nvPr/>
        </p:nvGrpSpPr>
        <p:grpSpPr>
          <a:xfrm>
            <a:off x="3102120" y="1063800"/>
            <a:ext cx="5829120" cy="3085920"/>
            <a:chOff x="3102120" y="1063800"/>
            <a:chExt cx="5829120" cy="3085920"/>
          </a:xfrm>
        </p:grpSpPr>
        <p:sp>
          <p:nvSpPr>
            <p:cNvPr id="639" name="Oval 5"/>
            <p:cNvSpPr/>
            <p:nvPr/>
          </p:nvSpPr>
          <p:spPr>
            <a:xfrm>
              <a:off x="3102120" y="1225440"/>
              <a:ext cx="2667600" cy="169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6"/>
            <p:cNvSpPr/>
            <p:nvPr/>
          </p:nvSpPr>
          <p:spPr>
            <a:xfrm>
              <a:off x="6263640" y="1225440"/>
              <a:ext cx="2667600" cy="169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WordArt 7"/>
            <p:cNvSpPr txBox="1"/>
            <p:nvPr/>
          </p:nvSpPr>
          <p:spPr>
            <a:xfrm>
              <a:off x="3102120" y="2761560"/>
              <a:ext cx="2560320" cy="22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Formation d'origin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2" name="WordArt 8"/>
            <p:cNvSpPr txBox="1"/>
            <p:nvPr/>
          </p:nvSpPr>
          <p:spPr>
            <a:xfrm>
              <a:off x="6164640" y="2761560"/>
              <a:ext cx="2560680" cy="16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Formation d'arrivé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3" name="Text Box 9"/>
            <p:cNvSpPr/>
            <p:nvPr/>
          </p:nvSpPr>
          <p:spPr>
            <a:xfrm>
              <a:off x="3595680" y="1387080"/>
              <a:ext cx="595080" cy="84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0"/>
            <p:cNvSpPr/>
            <p:nvPr/>
          </p:nvSpPr>
          <p:spPr>
            <a:xfrm>
              <a:off x="4781520" y="1063800"/>
              <a:ext cx="887040" cy="89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11"/>
            <p:cNvSpPr/>
            <p:nvPr/>
          </p:nvSpPr>
          <p:spPr>
            <a:xfrm>
              <a:off x="7548120" y="3085200"/>
              <a:ext cx="1183680" cy="85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12"/>
            <p:cNvSpPr/>
            <p:nvPr/>
          </p:nvSpPr>
          <p:spPr>
            <a:xfrm>
              <a:off x="6559920" y="1144800"/>
              <a:ext cx="985680" cy="75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13"/>
            <p:cNvSpPr/>
            <p:nvPr/>
          </p:nvSpPr>
          <p:spPr>
            <a:xfrm>
              <a:off x="4287240" y="1629720"/>
              <a:ext cx="395640" cy="241920"/>
            </a:xfrm>
            <a:custGeom>
              <a:avLst/>
              <a:gdLst>
                <a:gd name="textAreaLeft" fmla="*/ 61560 w 395640"/>
                <a:gd name="textAreaRight" fmla="*/ 346320 w 395640"/>
                <a:gd name="textAreaTop" fmla="*/ 60480 h 241920"/>
                <a:gd name="textAreaBottom" fmla="*/ 181800 h 24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14"/>
            <p:cNvSpPr/>
            <p:nvPr/>
          </p:nvSpPr>
          <p:spPr>
            <a:xfrm rot="3900000">
              <a:off x="7337520" y="2230200"/>
              <a:ext cx="727560" cy="296280"/>
            </a:xfrm>
            <a:custGeom>
              <a:avLst/>
              <a:gdLst>
                <a:gd name="textAreaLeft" fmla="*/ 113400 w 727560"/>
                <a:gd name="textAreaRight" fmla="*/ 636480 w 727560"/>
                <a:gd name="textAreaTop" fmla="*/ 74160 h 296280"/>
                <a:gd name="textAreaBottom" fmla="*/ 222120 h 29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15"/>
            <p:cNvSpPr/>
            <p:nvPr/>
          </p:nvSpPr>
          <p:spPr>
            <a:xfrm>
              <a:off x="5868360" y="1387080"/>
              <a:ext cx="394920" cy="242640"/>
            </a:xfrm>
            <a:custGeom>
              <a:avLst/>
              <a:gdLst>
                <a:gd name="textAreaLeft" fmla="*/ 61560 w 394920"/>
                <a:gd name="textAreaRight" fmla="*/ 345600 w 394920"/>
                <a:gd name="textAreaTop" fmla="*/ 60840 h 242640"/>
                <a:gd name="textAreaBottom" fmla="*/ 181800 h 2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WordArt 16"/>
            <p:cNvSpPr txBox="1"/>
            <p:nvPr/>
          </p:nvSpPr>
          <p:spPr>
            <a:xfrm>
              <a:off x="3595680" y="2195640"/>
              <a:ext cx="527040" cy="17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1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1" name="WordArt 17"/>
            <p:cNvSpPr txBox="1"/>
            <p:nvPr/>
          </p:nvSpPr>
          <p:spPr>
            <a:xfrm>
              <a:off x="6658560" y="187200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3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2" name="WordArt 18"/>
            <p:cNvSpPr txBox="1"/>
            <p:nvPr/>
          </p:nvSpPr>
          <p:spPr>
            <a:xfrm>
              <a:off x="4978800" y="195336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2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3" name="WordArt 19"/>
            <p:cNvSpPr txBox="1"/>
            <p:nvPr/>
          </p:nvSpPr>
          <p:spPr>
            <a:xfrm>
              <a:off x="7646760" y="397476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4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4" name="WordArt 20"/>
            <p:cNvSpPr txBox="1"/>
            <p:nvPr/>
          </p:nvSpPr>
          <p:spPr>
            <a:xfrm>
              <a:off x="3595680" y="239868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Repérage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+ info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5" name="WordArt 21"/>
            <p:cNvSpPr txBox="1"/>
            <p:nvPr/>
          </p:nvSpPr>
          <p:spPr>
            <a:xfrm>
              <a:off x="4978800" y="215604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lan de 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réparation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6" name="WordArt 22"/>
            <p:cNvSpPr txBox="1"/>
            <p:nvPr/>
          </p:nvSpPr>
          <p:spPr>
            <a:xfrm>
              <a:off x="6658560" y="207540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Accueil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arrainage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pic>
          <p:nvPicPr>
            <p:cNvPr id="657" name="Picture 23" descr="confus"/>
            <p:cNvPicPr/>
            <p:nvPr/>
          </p:nvPicPr>
          <p:blipFill>
            <a:blip r:embed="rId2"/>
            <a:stretch/>
          </p:blipFill>
          <p:spPr>
            <a:xfrm>
              <a:off x="3694680" y="1441080"/>
              <a:ext cx="43632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24" descr="organis"/>
            <p:cNvPicPr/>
            <p:nvPr/>
          </p:nvPicPr>
          <p:blipFill>
            <a:blip r:embed="rId3"/>
            <a:stretch/>
          </p:blipFill>
          <p:spPr>
            <a:xfrm>
              <a:off x="4880160" y="1117440"/>
              <a:ext cx="724320" cy="8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25" descr="gagner"/>
            <p:cNvPicPr/>
            <p:nvPr/>
          </p:nvPicPr>
          <p:blipFill>
            <a:blip r:embed="rId4"/>
            <a:stretch/>
          </p:blipFill>
          <p:spPr>
            <a:xfrm>
              <a:off x="6658560" y="1171440"/>
              <a:ext cx="82368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26" descr="heureux"/>
            <p:cNvPicPr/>
            <p:nvPr/>
          </p:nvPicPr>
          <p:blipFill>
            <a:blip r:embed="rId5"/>
            <a:stretch/>
          </p:blipFill>
          <p:spPr>
            <a:xfrm>
              <a:off x="7646760" y="3166200"/>
              <a:ext cx="102096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passerel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218960" y="990360"/>
            <a:ext cx="7678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éparer la poursuite d’étud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ès la terminale professionnelle en particulier vers les sections de technicien supéri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llaborer entre EPL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lycées professionnels et lycées généraux et technologiques)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changes d’élèves, banalisation d’heures de formation, création de parcours d’adaptatio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changes d’heures d’enseignement (enseignement général et technique)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laboration d’un livret de compétences (portfolio informatique s’étalant entre terminale bac pro et première année de T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se en compte d’un véritable positionnement en TS1 entraînant un parcours de formation personnalis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263600" y="5308560"/>
            <a:ext cx="288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lève issu de bac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1263600" y="631836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lève issu d’un bac 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"/>
          <p:cNvSpPr/>
          <p:nvPr/>
        </p:nvSpPr>
        <p:spPr>
          <a:xfrm>
            <a:off x="4216320" y="6534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6953400" y="6100920"/>
            <a:ext cx="13921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er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10"/>
          <p:cNvSpPr/>
          <p:nvPr/>
        </p:nvSpPr>
        <p:spPr>
          <a:xfrm>
            <a:off x="6943680" y="6245280"/>
            <a:ext cx="1403280" cy="274680"/>
          </a:xfrm>
          <a:custGeom>
            <a:avLst/>
            <a:gdLst>
              <a:gd name="textAreaLeft" fmla="*/ 0 w 1403280"/>
              <a:gd name="textAreaRight" fmla="*/ 1403280 w 1403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891" h="173">
                <a:moveTo>
                  <a:pt x="0" y="0"/>
                </a:moveTo>
                <a:lnTo>
                  <a:pt x="279" y="51"/>
                </a:lnTo>
                <a:lnTo>
                  <a:pt x="648" y="95"/>
                </a:lnTo>
                <a:lnTo>
                  <a:pt x="790" y="119"/>
                </a:lnTo>
                <a:lnTo>
                  <a:pt x="885" y="130"/>
                </a:lnTo>
                <a:lnTo>
                  <a:pt x="891" y="172"/>
                </a:lnTo>
                <a:lnTo>
                  <a:pt x="7" y="173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9"/>
          <p:cNvSpPr/>
          <p:nvPr/>
        </p:nvSpPr>
        <p:spPr>
          <a:xfrm>
            <a:off x="4143240" y="4978440"/>
            <a:ext cx="4176720" cy="14828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1482840"/>
              <a:gd name="textAreaBottom" fmla="*/ 1483200 h 1482840"/>
            </a:gdLst>
            <a:ahLst/>
            <a:rect l="textAreaLeft" t="textAreaTop" r="textAreaRight" b="textAreaBottom"/>
            <a:pathLst>
              <a:path w="2635" h="1013">
                <a:moveTo>
                  <a:pt x="0" y="378"/>
                </a:moveTo>
                <a:cubicBezTo>
                  <a:pt x="192" y="327"/>
                  <a:pt x="908" y="0"/>
                  <a:pt x="1151" y="69"/>
                </a:cubicBezTo>
                <a:cubicBezTo>
                  <a:pt x="1394" y="138"/>
                  <a:pt x="1213" y="636"/>
                  <a:pt x="1460" y="793"/>
                </a:cubicBezTo>
                <a:cubicBezTo>
                  <a:pt x="1707" y="950"/>
                  <a:pt x="2390" y="967"/>
                  <a:pt x="2635" y="1013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 flipV="1">
            <a:off x="7240680" y="5597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>
            <a:off x="7240680" y="55864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7529400" y="5238720"/>
            <a:ext cx="147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pports de connaissances, méthodologi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322280" y="121932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Eléments de Dé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1390680" y="2308320"/>
            <a:ext cx="7378560" cy="38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odularis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représente la description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nités de Formation (UF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odul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e l’ensemble des activités professionnelles et transversales dédiées à un métier. Elle permet la construction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de form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nstitués d’UF et de mod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UF est définie à partir d’un ensemble de compétences relatives à une ou plusieurs activités professionnelles de référence. Chaqu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F doit viser un ensemble significatif de compétences professionnellement cohér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8" descr="fluidité"/>
          <p:cNvPicPr/>
          <p:nvPr/>
        </p:nvPicPr>
        <p:blipFill>
          <a:blip r:embed="rId1"/>
          <a:stretch/>
        </p:blipFill>
        <p:spPr>
          <a:xfrm>
            <a:off x="4849920" y="773280"/>
            <a:ext cx="455112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332000" y="1062000"/>
            <a:ext cx="65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Le sens et les principes de la modularis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511280" y="2352600"/>
            <a:ext cx="73947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modularisation sert à la création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de formation flexibl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facilite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ormation tout au long de la vi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n permetta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personnalisé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modularisation doit faciliter la mise en place de parcours de formation adaptés à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iversité de situation des entrants et aux poursuites d’études envisag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1332000" y="1062000"/>
            <a:ext cx="65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Le sens et les principes de la modularis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474920" y="2279520"/>
            <a:ext cx="73231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 de formations générales comportent deux types de mod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modules autonom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dédiés à la formation générale de l’étudiant ou facilitateurs pour la poursuite d’étu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modules liés aux enseignements technologiques et professionn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qui doivent être placés en cohérence dans le parcours de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76160" y="36000"/>
            <a:ext cx="74674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1370160" y="1562040"/>
            <a:ext cx="753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référentiels d’u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ême champ professionnel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mporte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F et des modules communs éventuellement avec des niveaux de performance attendue variables et des UF spécifiqu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Il est à noter que ce principe peut contribuer à maintenir des formations à faible effectif par regroupement d’étudiants au moins pendant les mod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ériodes de Formation en Entrepris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oivent être intégrées à certaines U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que référentiel doit comporter une UF permettant de valider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mpétences professionnelles de synthès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9:18:30Z</dcterms:created>
  <dc:creator>Michel RAGE</dc:creator>
  <dc:description/>
  <dc:language>en-US</dc:language>
  <cp:lastModifiedBy>Pierre</cp:lastModifiedBy>
  <dcterms:modified xsi:type="dcterms:W3CDTF">2011-11-08T11:53:47Z</dcterms:modified>
  <cp:revision>71</cp:revision>
  <dc:subject/>
  <dc:title>L’adaptation des parcours de formation</dc:title>
</cp:coreProperties>
</file>