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612-412A-45D9-B87A-F20D7141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49E-11CE-43CB-8E20-9D4A6893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A308B-8863-4EC2-BE5B-6D517B6F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17374-505E-4A5E-AA68-1A0ECE13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ADF56-DD28-42DF-A2B9-38D53DA6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01E63-9B96-4F2C-B051-43AD58E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AE456-EA2A-44E8-8D72-D2BBD002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B829F-A779-458F-904C-D7467C95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7AC46-B3FC-49E9-9979-D74D6B8C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C63BB-0D0B-4994-8EF6-225BBDBD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9579E-1F38-4EF9-BB60-D4B26DEC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212-BEE8-4B1C-A687-12A76998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9A5-BBE8-41D4-882C-E136943B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1A5B-4345-4E43-973C-6943F493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6BD5-068D-48EE-B3A6-67B95078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204C-592A-476A-BA6E-CB5744AE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43B3-3E52-4F03-81E7-38293C4D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B836-CADA-499E-9AB2-A12A9A67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6510-1B04-4D72-ADC2-1E9EA64A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AB42-200D-41F1-BD71-FEFEB24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CD1-5804-43D5-A063-4819CDFD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DD6A-B1D1-49D4-951B-7F31ECA3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D4E2-CAAA-47BE-BD56-E991666B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9602-9D7E-4CD8-8754-95A2D1DE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9799-54E3-4045-B959-833C5F8D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3D73-CE0B-466E-A645-A7621F3E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C2A63-3D00-4044-8D7F-663C3529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1C45-3DCB-41DC-B8B3-5245C9C5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5E33-D55F-4E55-ABB6-6D5F9754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151F-8285-4466-829C-C3686FDA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89F3-B055-43FC-9669-75B92121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4BA-6C72-4161-86D1-C0CFA63F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EF7A-0B14-490F-BDF2-E240FA6E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C14F-494E-41D8-8CF9-133B6F2B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4D0A-AED1-4855-A6FB-2DB1BBEC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496A-FF87-4924-9A37-F5463A44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89A7-0343-48B6-8982-CF4B5D7B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E6FB-2A79-4615-8A4C-8260027C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A1E4-3D1A-4C20-B5C3-CDB2A917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8CD5-5D6B-4BF7-B081-D8EEF591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E8F34-D0B3-45D2-8CD5-4BC05651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595D5-09BB-406A-A2F0-DFC5FDA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7ED-D936-44CB-8372-6A1B9CB3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10340-5B4F-4143-8731-B1534174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910C-CBB7-4DD1-B67E-1A44C813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EFF8B-8203-44B1-89E2-3460C282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B18B2-712B-46E1-9D86-F0CCE854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85297-30D0-4AA9-8AD8-6091DE4B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5062C-1CE8-4240-8CC2-6B5CA113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4EFA-19E7-4141-B0D2-2AF7D4F0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1B5B7-2957-408E-9EF1-D3058BC4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9F5CE-4BB9-4B21-9FC4-C5340941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03DD3-08D1-455E-969E-5324F870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BA9-3D37-4C92-8C37-3BE3A5D4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03311-4CD4-4006-A4F1-8DE4817A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E408F-F41D-4D9A-830F-7745FEB7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F056B-E880-4455-BB60-8483B5EC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94D5-166E-44A0-9F28-EB95E2F3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EBA61-AA70-459A-B629-61D5A3A5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38991-69A4-4A70-A23C-28742210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DAD2-AD70-442A-B7A7-99142485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0C08D-ECC5-475B-B5FA-D3CB1B9D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EE6F-618F-4F2F-A724-43B6DC15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4E70F-7CA6-4B5F-B036-BAF0FE06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12C-0ABB-4794-A179-AC0DD746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6C7F9-8C04-4CDD-9939-1B9DAF3E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A7DF2-3E0D-483D-B1E9-1C0071C0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48EFD-120D-407C-B8F2-8D5E60D6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78C2C-77F3-487C-BF04-53AD038C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54024-21D8-4E71-A456-25E16A0E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9F180-1169-4EE1-9C0B-651226F7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AF98A-C1FB-48AE-8C4D-11356E78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C3EEB-6891-4649-A196-7237FA4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B4DC7-CCF6-41C5-B2A2-6DECB6ED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08365-47E9-4F47-AA72-05F381B9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DFE-4447-4AE7-B622-81D884B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1058A-9BA8-4370-9C1C-23B230BC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B1F1-FE36-4C0C-BF2F-D59C8FB1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3BED5-7C24-44F4-908C-10337990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6FB09-BAFA-4D5F-8D0F-E0D4AB2E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2F12F-A194-49E0-A913-246F95CB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C4068-8082-46D1-9157-A478642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5C58-FB38-4E7B-83B4-BAB460D4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0C7A0-BEBA-4D59-8FFA-53C9F963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68EBC-6A8B-41A6-9FC1-8BACDEBC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C323C-781D-4D13-AA5D-648A062F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D32-BA0B-41A6-9DBD-58AB6DCE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5BA0C-3AFA-4E36-8E30-F17CDF66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87D17-E679-453B-AD33-90FE920D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7733-0FF3-4DDD-B31E-4F79281E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15C99-B2F8-46CC-9600-86C390A7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5FB78-4986-44D3-882D-168C091C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5F3F9-9E25-43D9-98B9-67A8FD1D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B26E7-4CA2-47BD-8CE7-EA1CD1DB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523D7-650B-46CC-833F-8B55BEDC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6CEB4-2F15-4292-9C39-823B641F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9C620-BF36-4C86-A00A-09445607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A20-EC82-45F9-9BF6-248ED924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F89A5-17FC-4FBF-A06B-36208B0B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F3BCC-3BA0-49A1-BE7A-D0135278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071BB-D13A-47C2-A0EC-5F0EEB3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01A52-2FB6-4D34-A760-7DB47CFD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C79B-565F-49EB-9105-0162D557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F5603-F8A2-4328-BBB2-01B63BD7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ECC92-0FED-429C-BF11-63548F41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BFBB9-88CD-4467-A0A1-8FF95CC8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7EDF2-CC56-4B8D-BB5F-F85EFB4A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D9123-6F04-4A6E-9B81-DA600954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8D34-27CA-4AAD-8B44-0F90E080D7B8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3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8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7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8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2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2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7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7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7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2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2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7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7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1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2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6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6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riangle rectangle 1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e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1" name="Forme libre 19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orme libre 20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Forme libre 22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4" name="Forme libr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Connecteur droit 23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ZoneTexte 24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 2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017B-AB27-45A5-A89B-631D3185F433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DB7E-0A76-457B-9E02-727D31953FE7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59" name="Chevron 1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hevron 18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FF01-C21F-4D35-B70F-5D88CDFF3BD7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C089-C447-4C87-86C4-5E3A3ADFD9B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7B9B-BEEA-4A7B-B774-FE86EEBD4B8E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58A4-DD08-4267-9967-FE5C26AA0F79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2D3F-B584-4DAC-BFD5-C4EB4E07EB63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rme libre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rme libre 1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Triangle rectangle 1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5" name="Triangle rectangle 1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Connecteur droit 2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8" name="Chevron 22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hevron 23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78D8-511F-4542-9427-A6F12D6C45B5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Users\Pierre\Desktop\S&#233;minaire Acad&#233;mique CRSA\grille_UC_UF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ZoneTexte 1"/>
          <p:cNvSpPr/>
          <p:nvPr/>
        </p:nvSpPr>
        <p:spPr>
          <a:xfrm>
            <a:off x="971640" y="1125360"/>
            <a:ext cx="734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MODULAR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D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BTS CR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1"/>
          <p:cNvSpPr/>
          <p:nvPr/>
        </p:nvSpPr>
        <p:spPr>
          <a:xfrm>
            <a:off x="611280" y="198900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ormément au décret n°2007-540 du 11 avril 2007 du journal officiel modifiant le décret n°95-665 du 9 mai 1995 portant règlement général du brevet de technicien supérie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'obtention du brevet de technicien supérieur emporte l'acquisition de cent vingt crédits europée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Titre 4" descr=""/>
          <p:cNvPicPr/>
          <p:nvPr/>
        </p:nvPicPr>
        <p:blipFill>
          <a:blip r:embed="rId1"/>
          <a:stretch/>
        </p:blipFill>
        <p:spPr>
          <a:xfrm>
            <a:off x="-182520" y="-12600"/>
            <a:ext cx="8740800" cy="1712880"/>
          </a:xfrm>
          <a:prstGeom prst="rect">
            <a:avLst/>
          </a:prstGeom>
          <a:ln w="0">
            <a:noFill/>
          </a:ln>
        </p:spPr>
      </p:pic>
      <p:sp>
        <p:nvSpPr>
          <p:cNvPr id="956" name="Connecteur droit 5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ZoneTexte 2"/>
          <p:cNvSpPr/>
          <p:nvPr/>
        </p:nvSpPr>
        <p:spPr>
          <a:xfrm>
            <a:off x="971640" y="1268280"/>
            <a:ext cx="65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cret n° 2011-1256 du 7 octobre 2011 portant dispositions spécifiques 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ertaines spécialités du brevet de technicien supérieur pour les sessions d'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013 à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Bouton d'action : Document 3"/>
          <p:cNvSpPr/>
          <p:nvPr/>
        </p:nvSpPr>
        <p:spPr>
          <a:xfrm>
            <a:off x="7956720" y="5805360"/>
            <a:ext cx="502920" cy="576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52">
                <a:moveTo>
                  <a:pt x="0" y="0"/>
                </a:moveTo>
                <a:lnTo>
                  <a:pt x="21600" y="0"/>
                </a:lnTo>
                <a:lnTo>
                  <a:pt x="21600" y="24752"/>
                </a:lnTo>
                <a:lnTo>
                  <a:pt x="0" y="24752"/>
                </a:lnTo>
                <a:close/>
              </a:path>
              <a:path fill="lightenLess" w="21600" h="24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52">
                <a:moveTo>
                  <a:pt x="21600" y="0"/>
                </a:moveTo>
                <a:lnTo>
                  <a:pt x="21600" y="24752"/>
                </a:lnTo>
                <a:lnTo>
                  <a:pt x="20200" y="23352"/>
                </a:lnTo>
                <a:lnTo>
                  <a:pt x="20200" y="1400"/>
                </a:lnTo>
                <a:close/>
              </a:path>
              <a:path fill="darkenLess" w="21600" h="24752">
                <a:moveTo>
                  <a:pt x="21600" y="24752"/>
                </a:moveTo>
                <a:lnTo>
                  <a:pt x="0" y="24752"/>
                </a:lnTo>
                <a:lnTo>
                  <a:pt x="1400" y="23352"/>
                </a:lnTo>
                <a:lnTo>
                  <a:pt x="20200" y="23352"/>
                </a:lnTo>
                <a:close/>
              </a:path>
              <a:path fill="lighten" w="21600" h="24752">
                <a:moveTo>
                  <a:pt x="0" y="24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52"/>
                </a:lnTo>
                <a:close/>
              </a:path>
              <a:path fill="darkenLess" w="21600" h="24752">
                <a:moveTo>
                  <a:pt x="5273" y="5561"/>
                </a:moveTo>
                <a:lnTo>
                  <a:pt x="12271" y="5561"/>
                </a:lnTo>
                <a:lnTo>
                  <a:pt x="16327" y="9060"/>
                </a:lnTo>
                <a:lnTo>
                  <a:pt x="16327" y="19191"/>
                </a:lnTo>
                <a:lnTo>
                  <a:pt x="5273" y="19191"/>
                </a:lnTo>
                <a:close/>
              </a:path>
              <a:path fill="darken" w="21600" h="24752">
                <a:moveTo>
                  <a:pt x="12271" y="5561"/>
                </a:moveTo>
                <a:lnTo>
                  <a:pt x="16327" y="9060"/>
                </a:lnTo>
                <a:lnTo>
                  <a:pt x="12271" y="906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ZoneTexte 5"/>
          <p:cNvSpPr/>
          <p:nvPr/>
        </p:nvSpPr>
        <p:spPr>
          <a:xfrm>
            <a:off x="324000" y="2421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Titre 5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8491680" cy="11336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 txBox="1"/>
          <p:nvPr/>
        </p:nvSpPr>
        <p:spPr>
          <a:xfrm>
            <a:off x="324000" y="233208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Existence d’un référentiel de formation s’ajoutant aux référentiels d’activités professionnelles et de Certif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éclinaison des unités de certification du diplôme en unités de formation, elles-mêmes déclinables en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es crédits ECTS 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fr-FR" sz="1400" spc="-1" strike="noStrike">
                <a:solidFill>
                  <a:srgbClr val="464646"/>
                </a:solidFill>
                <a:latin typeface="Lucida Sans Unicode"/>
              </a:rPr>
              <a:t>European Crédits Transfer System)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pouvant être attachés aux unités de formation ou aux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Connecteur droit 7"/>
          <p:cNvSpPr/>
          <p:nvPr/>
        </p:nvSpPr>
        <p:spPr>
          <a:xfrm>
            <a:off x="395280" y="765000"/>
            <a:ext cx="7070760" cy="180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8" name=""/>
          <p:cNvGraphicFramePr/>
          <p:nvPr/>
        </p:nvGraphicFramePr>
        <p:xfrm>
          <a:off x="179280" y="1628640"/>
          <a:ext cx="4032360" cy="2067120"/>
        </p:xfrm>
        <a:graphic>
          <a:graphicData uri="http://schemas.openxmlformats.org/drawingml/2006/table">
            <a:tbl>
              <a:tblPr/>
              <a:tblGrid>
                <a:gridCol w="1195560"/>
                <a:gridCol w="1342800"/>
                <a:gridCol w="1494000"/>
              </a:tblGrid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-sionnel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 de cer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étences termin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4427640" y="1628640"/>
          <a:ext cx="4465440" cy="2125800"/>
        </p:xfrm>
        <a:graphic>
          <a:graphicData uri="http://schemas.openxmlformats.org/drawingml/2006/table">
            <a:tbl>
              <a:tblPr/>
              <a:tblGrid>
                <a:gridCol w="865080"/>
                <a:gridCol w="1150920"/>
                <a:gridCol w="447840"/>
                <a:gridCol w="417240"/>
                <a:gridCol w="506520"/>
                <a:gridCol w="417600"/>
                <a:gridCol w="6602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s de forma-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ai_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20" name="Accolade fermante 9"/>
          <p:cNvSpPr/>
          <p:nvPr/>
        </p:nvSpPr>
        <p:spPr>
          <a:xfrm rot="5400000">
            <a:off x="1836000" y="2564280"/>
            <a:ext cx="719280" cy="388944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889440"/>
              <a:gd name="textAreaBottom" fmla="*/ 387072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16200" y="10800"/>
                  <a:pt x="21600" y="10800"/>
                </a:cubicBezTo>
                <a:cubicBezTo>
                  <a:pt x="162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ccolade fermante 14"/>
          <p:cNvSpPr/>
          <p:nvPr/>
        </p:nvSpPr>
        <p:spPr>
          <a:xfrm rot="5400000">
            <a:off x="6300720" y="2340000"/>
            <a:ext cx="718920" cy="4319280"/>
          </a:xfrm>
          <a:custGeom>
            <a:avLst/>
            <a:gdLst>
              <a:gd name="textAreaLeft" fmla="*/ 0 w 718920"/>
              <a:gd name="textAreaRight" fmla="*/ 259560 w 718920"/>
              <a:gd name="textAreaTop" fmla="*/ 18720 h 4319280"/>
              <a:gd name="textAreaBottom" fmla="*/ 4300560 h 43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ZoneTexte 10"/>
          <p:cNvSpPr/>
          <p:nvPr/>
        </p:nvSpPr>
        <p:spPr>
          <a:xfrm>
            <a:off x="428760" y="489420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AP et référentiel de ce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ZoneTexte 16"/>
          <p:cNvSpPr/>
          <p:nvPr/>
        </p:nvSpPr>
        <p:spPr>
          <a:xfrm>
            <a:off x="4788000" y="486900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éférentiel d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Bouton d'action : Document 10">
            <a:hlinkClick r:id="rId1"/>
          </p:cNvPr>
          <p:cNvSpPr/>
          <p:nvPr/>
        </p:nvSpPr>
        <p:spPr>
          <a:xfrm>
            <a:off x="8101080" y="5732640"/>
            <a:ext cx="574560" cy="6490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400">
                <a:moveTo>
                  <a:pt x="0" y="0"/>
                </a:moveTo>
                <a:lnTo>
                  <a:pt x="21600" y="0"/>
                </a:lnTo>
                <a:lnTo>
                  <a:pt x="21600" y="24400"/>
                </a:lnTo>
                <a:lnTo>
                  <a:pt x="0" y="24400"/>
                </a:lnTo>
                <a:close/>
              </a:path>
              <a:path fill="lightenLess" w="21600" h="24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00">
                <a:moveTo>
                  <a:pt x="21600" y="0"/>
                </a:moveTo>
                <a:lnTo>
                  <a:pt x="21600" y="24400"/>
                </a:lnTo>
                <a:lnTo>
                  <a:pt x="20200" y="23000"/>
                </a:lnTo>
                <a:lnTo>
                  <a:pt x="20200" y="1400"/>
                </a:lnTo>
                <a:close/>
              </a:path>
              <a:path fill="darkenLess" w="21600" h="24400">
                <a:moveTo>
                  <a:pt x="21600" y="24400"/>
                </a:moveTo>
                <a:lnTo>
                  <a:pt x="0" y="24400"/>
                </a:lnTo>
                <a:lnTo>
                  <a:pt x="1400" y="23000"/>
                </a:lnTo>
                <a:lnTo>
                  <a:pt x="20200" y="23000"/>
                </a:lnTo>
                <a:close/>
              </a:path>
              <a:path fill="lighten" w="21600" h="24400">
                <a:moveTo>
                  <a:pt x="0" y="24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00"/>
                </a:lnTo>
                <a:close/>
              </a:path>
              <a:path fill="darkenLess" w="21600" h="24400">
                <a:moveTo>
                  <a:pt x="5273" y="5385"/>
                </a:moveTo>
                <a:lnTo>
                  <a:pt x="12271" y="5385"/>
                </a:lnTo>
                <a:lnTo>
                  <a:pt x="16327" y="8884"/>
                </a:lnTo>
                <a:lnTo>
                  <a:pt x="16327" y="19015"/>
                </a:lnTo>
                <a:lnTo>
                  <a:pt x="5273" y="19015"/>
                </a:lnTo>
                <a:close/>
              </a:path>
              <a:path fill="darken" w="21600" h="24400">
                <a:moveTo>
                  <a:pt x="12271" y="5385"/>
                </a:moveTo>
                <a:lnTo>
                  <a:pt x="16327" y="8884"/>
                </a:lnTo>
                <a:lnTo>
                  <a:pt x="12271" y="8884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Titre 15" descr=""/>
          <p:cNvPicPr/>
          <p:nvPr/>
        </p:nvPicPr>
        <p:blipFill>
          <a:blip r:embed="rId2"/>
          <a:stretch/>
        </p:blipFill>
        <p:spPr>
          <a:xfrm>
            <a:off x="212760" y="-6480"/>
            <a:ext cx="8493120" cy="1158840"/>
          </a:xfrm>
          <a:prstGeom prst="rect">
            <a:avLst/>
          </a:prstGeom>
          <a:ln w="0">
            <a:noFill/>
          </a:ln>
        </p:spPr>
      </p:pic>
      <p:sp>
        <p:nvSpPr>
          <p:cNvPr id="926" name="Connecteur droit 16"/>
          <p:cNvSpPr/>
          <p:nvPr/>
        </p:nvSpPr>
        <p:spPr>
          <a:xfrm>
            <a:off x="611280" y="836640"/>
            <a:ext cx="698508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e 7"/>
          <p:cNvGrpSpPr/>
          <p:nvPr/>
        </p:nvGrpSpPr>
        <p:grpSpPr>
          <a:xfrm>
            <a:off x="1025640" y="620640"/>
            <a:ext cx="6570720" cy="5602320"/>
            <a:chOff x="1025640" y="620640"/>
            <a:chExt cx="6570720" cy="5602320"/>
          </a:xfrm>
        </p:grpSpPr>
        <p:graphicFrame>
          <p:nvGraphicFramePr>
            <p:cNvPr id="928" name="Objet 3"/>
            <p:cNvGraphicFramePr/>
            <p:nvPr/>
          </p:nvGraphicFramePr>
          <p:xfrm>
            <a:off x="1043640" y="620640"/>
            <a:ext cx="6448680" cy="172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9" name="Obje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3640" y="620640"/>
                      <a:ext cx="6448680" cy="17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0" name="Objet 4"/>
            <p:cNvGraphicFramePr/>
            <p:nvPr/>
          </p:nvGraphicFramePr>
          <p:xfrm>
            <a:off x="1165680" y="2580840"/>
            <a:ext cx="6430680" cy="2746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1" name="Obje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65680" y="2580840"/>
                      <a:ext cx="6430680" cy="27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2" name="Objet 5"/>
            <p:cNvGraphicFramePr/>
            <p:nvPr/>
          </p:nvGraphicFramePr>
          <p:xfrm>
            <a:off x="1025640" y="4762080"/>
            <a:ext cx="6430680" cy="146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3" name="Obje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25640" y="4762080"/>
                      <a:ext cx="6430680" cy="14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4" name="Bouton d'action : Document 5"/>
          <p:cNvSpPr/>
          <p:nvPr/>
        </p:nvSpPr>
        <p:spPr>
          <a:xfrm>
            <a:off x="8388360" y="522936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Objet 3"/>
          <p:cNvGraphicFramePr/>
          <p:nvPr/>
        </p:nvGraphicFramePr>
        <p:xfrm>
          <a:off x="611280" y="1413000"/>
          <a:ext cx="73213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Obje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3213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Bouton d'action : Document 4"/>
          <p:cNvSpPr/>
          <p:nvPr/>
        </p:nvSpPr>
        <p:spPr>
          <a:xfrm>
            <a:off x="8540640" y="538164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Titre 1" descr=""/>
          <p:cNvPicPr/>
          <p:nvPr/>
        </p:nvPicPr>
        <p:blipFill>
          <a:blip r:embed="rId1"/>
          <a:stretch/>
        </p:blipFill>
        <p:spPr>
          <a:xfrm>
            <a:off x="212760" y="55440"/>
            <a:ext cx="8493120" cy="127980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5"/>
          <p:cNvSpPr/>
          <p:nvPr/>
        </p:nvSpPr>
        <p:spPr>
          <a:xfrm>
            <a:off x="684360" y="1052640"/>
            <a:ext cx="76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structuration de la formation en modules impliqu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9640" y="155736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, dès la première année de formation et sous la responsabilité du chef d’établissement, d’une équipe pédagogique organis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’articuler au mieux les différents modules en cohérence avec les publics accueillis et garantissant la possibilité de proposer des parcours individualisé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 de tests de positionnement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une réflexion sur l’enchaînement temporel de modules qui sont à priori proposés en première année et en deuxième ann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e terminer un module avant la fin du semestre en cour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Connecteur droit 6"/>
          <p:cNvSpPr/>
          <p:nvPr/>
        </p:nvSpPr>
        <p:spPr>
          <a:xfrm>
            <a:off x="611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3"/>
          <p:cNvSpPr/>
          <p:nvPr/>
        </p:nvSpPr>
        <p:spPr>
          <a:xfrm>
            <a:off x="611280" y="198900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partition des heures d’enseignement en classe entière et en effectif allégé est laissée à l'initiative du chef d’établissement sur proposition de l’équipe pédagogique, dans le respect du volume horaire prévu pour chaque module et dans le respect de la répartition annuelle des heures affectées à chacun des enseignements identifiés dans la grille horaire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Bouton d'action : Document 3"/>
          <p:cNvSpPr/>
          <p:nvPr/>
        </p:nvSpPr>
        <p:spPr>
          <a:xfrm>
            <a:off x="7596360" y="530064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Less" w="21600" h="27024">
                <a:moveTo>
                  <a:pt x="5273" y="6697"/>
                </a:moveTo>
                <a:lnTo>
                  <a:pt x="12271" y="6697"/>
                </a:lnTo>
                <a:lnTo>
                  <a:pt x="16327" y="10196"/>
                </a:lnTo>
                <a:lnTo>
                  <a:pt x="16327" y="20327"/>
                </a:lnTo>
                <a:lnTo>
                  <a:pt x="5273" y="20327"/>
                </a:lnTo>
                <a:close/>
              </a:path>
              <a:path fill="darken" w="21600" h="27024">
                <a:moveTo>
                  <a:pt x="12271" y="6697"/>
                </a:moveTo>
                <a:lnTo>
                  <a:pt x="16327" y="10196"/>
                </a:lnTo>
                <a:lnTo>
                  <a:pt x="12271" y="1019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itre 5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491680" cy="1341360"/>
          </a:xfrm>
          <a:prstGeom prst="rect">
            <a:avLst/>
          </a:prstGeom>
          <a:ln w="0">
            <a:noFill/>
          </a:ln>
        </p:spPr>
      </p:pic>
      <p:sp>
        <p:nvSpPr>
          <p:cNvPr id="945" name="Connecteur droit 6"/>
          <p:cNvSpPr/>
          <p:nvPr/>
        </p:nvSpPr>
        <p:spPr>
          <a:xfrm>
            <a:off x="395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1"/>
          <p:cNvSpPr/>
          <p:nvPr/>
        </p:nvSpPr>
        <p:spPr>
          <a:xfrm>
            <a:off x="611280" y="1989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la fin d’un parcours de formation, le chef d’établissement établit une attestation précisant le ou les modules suivis ainsi que le nombre de crédits ECTS alloués par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tte validation et cette attribution de crédits n’ont pas de valeur certific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Bouton d'action : Informations 3"/>
          <p:cNvSpPr/>
          <p:nvPr/>
        </p:nvSpPr>
        <p:spPr>
          <a:xfrm>
            <a:off x="6084720" y="5373720"/>
            <a:ext cx="719280" cy="934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4920"/>
              <a:gd name="textAreaBottom" fmla="*/ 888480 h 934920"/>
            </a:gdLst>
            <a:ahLst/>
            <a:rect l="textAreaLeft" t="textAreaTop" r="textAreaRight" b="textAreaBottom"/>
            <a:pathLst>
              <a:path w="21600" h="28072">
                <a:moveTo>
                  <a:pt x="0" y="0"/>
                </a:moveTo>
                <a:lnTo>
                  <a:pt x="21600" y="0"/>
                </a:lnTo>
                <a:lnTo>
                  <a:pt x="21600" y="28072"/>
                </a:lnTo>
                <a:lnTo>
                  <a:pt x="0" y="28072"/>
                </a:lnTo>
                <a:close/>
              </a:path>
              <a:path fill="lightenLess" w="21600" h="28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72">
                <a:moveTo>
                  <a:pt x="21600" y="0"/>
                </a:moveTo>
                <a:lnTo>
                  <a:pt x="21600" y="28072"/>
                </a:lnTo>
                <a:lnTo>
                  <a:pt x="20200" y="26672"/>
                </a:lnTo>
                <a:lnTo>
                  <a:pt x="20200" y="1400"/>
                </a:lnTo>
                <a:close/>
              </a:path>
              <a:path fill="darkenLess" w="21600" h="28072">
                <a:moveTo>
                  <a:pt x="21600" y="28072"/>
                </a:moveTo>
                <a:lnTo>
                  <a:pt x="0" y="28072"/>
                </a:lnTo>
                <a:lnTo>
                  <a:pt x="1400" y="26672"/>
                </a:lnTo>
                <a:lnTo>
                  <a:pt x="20200" y="26672"/>
                </a:lnTo>
                <a:close/>
              </a:path>
              <a:path fill="lighten" w="21600" h="28072">
                <a:moveTo>
                  <a:pt x="0" y="28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72"/>
                </a:lnTo>
                <a:close/>
              </a:path>
              <a:path fill="darken" w="21600" h="28072">
                <a:moveTo>
                  <a:pt x="10800" y="703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72">
                <a:moveTo>
                  <a:pt x="10800" y="740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72">
                <a:moveTo>
                  <a:pt x="8224" y="11460"/>
                </a:moveTo>
                <a:lnTo>
                  <a:pt x="12088" y="11460"/>
                </a:lnTo>
                <a:lnTo>
                  <a:pt x="12088" y="18458"/>
                </a:lnTo>
                <a:lnTo>
                  <a:pt x="13376" y="18458"/>
                </a:lnTo>
                <a:lnTo>
                  <a:pt x="13376" y="19380"/>
                </a:lnTo>
                <a:lnTo>
                  <a:pt x="8224" y="19380"/>
                </a:lnTo>
                <a:lnTo>
                  <a:pt x="8224" y="18458"/>
                </a:lnTo>
                <a:lnTo>
                  <a:pt x="9512" y="18458"/>
                </a:lnTo>
                <a:lnTo>
                  <a:pt x="9512" y="12365"/>
                </a:lnTo>
                <a:lnTo>
                  <a:pt x="8224" y="1236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Connecteur droit 5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Titre 6" descr=""/>
          <p:cNvPicPr/>
          <p:nvPr/>
        </p:nvPicPr>
        <p:blipFill>
          <a:blip r:embed="rId1"/>
          <a:stretch/>
        </p:blipFill>
        <p:spPr>
          <a:xfrm>
            <a:off x="-328680" y="109440"/>
            <a:ext cx="9369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1"/>
          <p:cNvSpPr/>
          <p:nvPr/>
        </p:nvSpPr>
        <p:spPr>
          <a:xfrm>
            <a:off x="611280" y="198900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en que l'ECTS puisse contribuer à la reconnaissance des études d'une personne entre différentes institutions et systèmes éducatifs nationaux, les établissements d'enseignement supérieur sont des institutions auton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écisions finales demeurent la responsabilité des autorités concer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Titre 6" descr=""/>
          <p:cNvPicPr/>
          <p:nvPr/>
        </p:nvPicPr>
        <p:blipFill>
          <a:blip r:embed="rId1"/>
          <a:stretch/>
        </p:blipFill>
        <p:spPr>
          <a:xfrm>
            <a:off x="-109440" y="-201600"/>
            <a:ext cx="8875440" cy="1609560"/>
          </a:xfrm>
          <a:prstGeom prst="rect">
            <a:avLst/>
          </a:prstGeom>
          <a:ln w="0">
            <a:noFill/>
          </a:ln>
        </p:spPr>
      </p:pic>
      <p:sp>
        <p:nvSpPr>
          <p:cNvPr id="952" name="Connecteur droit 5"/>
          <p:cNvSpPr/>
          <p:nvPr/>
        </p:nvSpPr>
        <p:spPr>
          <a:xfrm>
            <a:off x="539640" y="105264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Bouton d'action : Informations 6"/>
          <p:cNvSpPr/>
          <p:nvPr/>
        </p:nvSpPr>
        <p:spPr>
          <a:xfrm>
            <a:off x="6237360" y="5526000"/>
            <a:ext cx="718920" cy="935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935280"/>
              <a:gd name="textAreaBottom" fmla="*/ 888840 h 935280"/>
            </a:gdLst>
            <a:ahLst/>
            <a:rect l="textAreaLeft" t="textAreaTop" r="textAreaRight" b="textAreaBottom"/>
            <a:pathLst>
              <a:path w="21600" h="28097">
                <a:moveTo>
                  <a:pt x="0" y="0"/>
                </a:moveTo>
                <a:lnTo>
                  <a:pt x="21600" y="0"/>
                </a:lnTo>
                <a:lnTo>
                  <a:pt x="21600" y="28097"/>
                </a:lnTo>
                <a:lnTo>
                  <a:pt x="0" y="28097"/>
                </a:lnTo>
                <a:close/>
              </a:path>
              <a:path fill="lightenLess" w="21600" h="280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97">
                <a:moveTo>
                  <a:pt x="21600" y="0"/>
                </a:moveTo>
                <a:lnTo>
                  <a:pt x="21600" y="28097"/>
                </a:lnTo>
                <a:lnTo>
                  <a:pt x="20200" y="26697"/>
                </a:lnTo>
                <a:lnTo>
                  <a:pt x="20200" y="1400"/>
                </a:lnTo>
                <a:close/>
              </a:path>
              <a:path fill="darkenLess" w="21600" h="28097">
                <a:moveTo>
                  <a:pt x="21600" y="28097"/>
                </a:moveTo>
                <a:lnTo>
                  <a:pt x="0" y="28097"/>
                </a:lnTo>
                <a:lnTo>
                  <a:pt x="1400" y="26697"/>
                </a:lnTo>
                <a:lnTo>
                  <a:pt x="20200" y="26697"/>
                </a:lnTo>
                <a:close/>
              </a:path>
              <a:path fill="lighten" w="21600" h="28097">
                <a:moveTo>
                  <a:pt x="0" y="280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97"/>
                </a:lnTo>
                <a:close/>
              </a:path>
              <a:path fill="darken" w="21600" h="28097">
                <a:moveTo>
                  <a:pt x="10800" y="704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97">
                <a:moveTo>
                  <a:pt x="10800" y="741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97">
                <a:moveTo>
                  <a:pt x="8224" y="11472"/>
                </a:moveTo>
                <a:lnTo>
                  <a:pt x="12088" y="11472"/>
                </a:lnTo>
                <a:lnTo>
                  <a:pt x="12088" y="18470"/>
                </a:lnTo>
                <a:lnTo>
                  <a:pt x="13376" y="18470"/>
                </a:lnTo>
                <a:lnTo>
                  <a:pt x="13376" y="19393"/>
                </a:lnTo>
                <a:lnTo>
                  <a:pt x="8224" y="19393"/>
                </a:lnTo>
                <a:lnTo>
                  <a:pt x="8224" y="18470"/>
                </a:lnTo>
                <a:lnTo>
                  <a:pt x="9512" y="18470"/>
                </a:lnTo>
                <a:lnTo>
                  <a:pt x="9512" y="12378"/>
                </a:lnTo>
                <a:lnTo>
                  <a:pt x="8224" y="1237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oupe travail BTS AVA</dc:creator>
  <dc:description/>
  <dc:language>en-US</dc:language>
  <cp:lastModifiedBy>Pierre</cp:lastModifiedBy>
  <dcterms:modified xsi:type="dcterms:W3CDTF">2011-11-08T07:59:05Z</dcterms:modified>
  <cp:revision>155</cp:revision>
  <dc:subject/>
  <dc:title>activités et tâches professionnelles</dc:title>
</cp:coreProperties>
</file>