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A6A-D4A1-4FF1-BBB0-41DF5B70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608-6526-4243-A8E0-8FA80B90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942-1834-438D-97E8-341F4B12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F5F-90D1-4D16-8E2F-DF9CD16C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066-605D-437C-968C-0C857891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B13-B656-4C5A-9EF6-80849F9D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FCE-6215-4CC0-A050-7710035A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C8B-18F4-4195-BD5B-CEBE9152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407-490B-4ACC-AABF-F4BBFF30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44F-E893-4D01-AF6E-2DA98530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275-0B79-445B-BBDD-5B3CCA89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239-B417-49BE-B939-889C159F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3096-FA7D-4DC0-8D50-18B51453142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63480"/>
            <a:ext cx="7775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Calibri"/>
              </a:rPr>
              <a:t>Académie de Lill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Mise en œuvre du</a:t>
            </a: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BTS Conception et Réalisation de Systèmes Automatiques</a:t>
            </a: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(BTS CRSA)</a:t>
            </a:r>
            <a:br>
              <a:rPr sz="3600"/>
            </a:br>
            <a:br>
              <a:rPr sz="4000"/>
            </a:br>
            <a:br>
              <a:rPr sz="4000"/>
            </a:b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8 novembre 2011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Lycée Blaise-Pascal de LONGUENES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55280" y="259920"/>
            <a:ext cx="820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uverture du séminai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 référentiel des activités professionnel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M. GAR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 référentiel de certif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MMUNIQUER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J. DIVERC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NALYSER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. DELPLAC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VOI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émarche de conception des SA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. HAOUAR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ption préliminaire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. 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ption détaillé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DECOCQ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ALISE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. ESTIEN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GANI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.DELPLA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. KORB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4424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oraires, unités et règlement d’examen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J. DIVERC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modularisation : principes, EC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modularisation du BTS CRSA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. BAC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xemple d’organisation pédagogiqu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DECOCQ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 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 LEBAILL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. HELA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rganisation temporelle de la forma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. GIEZE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ccompagnement personnalisé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estions et conclusion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21:35:09Z</dcterms:created>
  <dc:creator>DIVERCHY Jean-Jacques</dc:creator>
  <dc:description/>
  <dc:language>en-US</dc:language>
  <cp:lastModifiedBy>DIVERCHY Jean-Jacques</cp:lastModifiedBy>
  <dcterms:modified xsi:type="dcterms:W3CDTF">2011-11-07T22:07:57Z</dcterms:modified>
  <cp:revision>5</cp:revision>
  <dc:subject/>
  <dc:title>Académie de Lille   Mise en œuvre du BTS Conception et Réalisation de Systèmes Automatiques (BTS CRSA)   8 novembre 2011 Lycée Blaise-Pascal de LONGUENESSE</dc:title>
</cp:coreProperties>
</file>