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dt" idx="3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ftr" idx="4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 type="sldNum" idx="4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BEA42C-00CD-4CFA-A5E2-232C8CBE04D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063EC8-3691-4E38-9891-A6A95AA7452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0AAB08-CAB7-45E4-8935-4BC8FDA219C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6AEA34-ED75-49A5-962D-691C10B1E8F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jouter les CP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169016-2602-4788-A266-9DF6881948B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DBE367-BC80-436C-84AE-F26CDF85BB6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028A66-6EB1-4B2D-B3A9-7EA2E816C94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1B952E-D141-4A1B-BBFA-F40B44B2B85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70133D-5B51-4A84-B9CE-FEB5166EFE7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F3710-8BA8-4A4E-8DF4-B96063D7E0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E9205-7C88-469E-BCB9-D5985E645C3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13A613-0C23-4132-8F98-FA831287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8724FD-2E48-4344-8595-9A2FB49D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3BB204-154B-45B0-ADDC-D37637F0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5548F9-8294-4589-953F-22882FB0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4A9282-6125-45E1-868F-A217E048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43AC9C-278D-402B-A8EA-7164157F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B8DA60-5436-430F-9E0B-36D190F5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0143DA-B25D-430A-86DD-6F1AF9C88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E79691-E0EF-4110-BF7A-014F9EA38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AAD5D9-895B-4009-8076-9922D7D6A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76CD8-F1CC-450C-A15B-CB07F873C2D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ACA134-497E-47FA-A447-36669D0C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B76754-867D-4555-ADD3-7850BB4C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4A1FA0-06DB-43AE-AB61-38230D4C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714263-B790-4638-AA4E-447C7F9B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D48876-92FC-446A-B1EE-C44508A8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C68D31-26D1-4329-AF8E-D750F20A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13CD7B-9407-4AB2-8328-3EDDA5A5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82C6AA-6196-4D74-8E71-BCD59107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540042-6F7F-4684-9E90-F55362AA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6DD511-F932-421E-8B1F-C0751ED00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D9E9E-B9DA-4DEA-811D-95A3C82E29A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E58FB2-98AC-47B5-8218-1BE5F82BB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D18A67-13F9-462B-A5FF-19FCB174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20698A-89D4-4AB6-9E7A-801C0CCC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98EC0A-DE43-4995-8238-A0BB3532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B47A87-1D3B-42FE-9FDA-16593692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F9DDA1-36C9-46C3-BEE5-21358C9D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F46949-DF7D-480D-8706-27880695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681DFE-FD9C-4244-8C11-C5D33378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7A8AFE-48A7-4A6A-B808-2E571304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DE6CB8-3810-4784-B3E2-1516A809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AB7A9-242A-48B7-A72D-81EA72111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3F1519-D30E-4172-B2FC-A85F220D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FB434A4-FC32-42BA-87B3-345613081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791FC5-2658-48C3-B928-BF014A4E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DD0D09-5339-454D-8572-239E023F5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3615FE-F358-4F4A-8F4C-15388D5A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F1A728-2344-4595-BC4C-12381750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3E4C203-BFEB-4E6A-A54E-599CF845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802DE0-9A95-4864-AAB9-C55835ED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DC8A18-7A2B-489E-9716-F5287F0A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72DA47-0428-4425-B71B-AFC06CC0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96B9C-C1DB-41F1-AEB7-F08BDF05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9BD7A8E-5077-4480-9CAD-6C31DB55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F0313B6-59BE-4F35-B9C8-906A753E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D783FB-67B1-4ED3-BEDD-BC704E71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DA437A-0D09-4D64-A47D-98080E07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E24BE7D-E4A1-4686-B8F9-98F2D98D4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EBB8D3-E0F9-4060-B211-51173B8C2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7BAB1F-1EBA-43BD-8ED0-84B0BE3C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3D171E-5D30-49AF-9321-09B17A03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31716B-A691-4FE2-8DB7-CC0BE3B2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58FD16-31BD-47BC-BDE9-1CE90EB4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298D4-438D-4682-8475-ABAE8CF1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A0BC06-5C78-4437-8D3E-863F74E2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520447-0A24-4B0A-B2CA-3415AA96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1B1017-826A-4929-8EBE-88D1015E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70CF29-3A42-4BA7-AF0D-C7A2AB3A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43BE60-A4D4-4157-94D0-27A091A4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075F6E-1293-4DFE-A1CC-AE666DB2F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CD2CA4-E781-49E6-817A-699A0D626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05010-CD46-405E-A8C8-8C93AC33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11FB4-6738-4976-865B-CA8B411A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818BA-9AEF-445A-80D1-5559CD81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FA93F-0B67-4012-A445-68FC9848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E0CB2-D0B5-4B19-91F4-51F57EF7B2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9B018-04A9-4DB2-93DA-F1B545AC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59B04-0D5D-4E29-9A75-D5CA87A0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B375B-4C0B-4892-A635-194DA95F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6F961-E72F-4B03-B8C2-B7915C8E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34458-D189-4BA1-8671-ABA0C6BC9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B7721B-E28E-4C98-A289-7853A90EA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F0E314-7E79-4471-B433-55C6A978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C9F642-3B25-433D-BF84-067A6CD3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B353A5-BDB7-490E-B1BE-CD07CA27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DCEEF0-C65E-467B-A94D-77889A05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56FCA-87BC-4BE9-A156-D6BEFE3A603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79B183-9F87-4A9F-9C21-BDB67EC2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D9FF35-51F8-4797-95B1-D72DB3B9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16C57A-8AAA-41F2-B999-1DA2D800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A93B13-A7B5-4B1D-AE8F-A6EEF91D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8183AA-893B-4A10-BF67-D0D47A25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DABC54-BC7B-443E-B8AF-95BA5FC3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BE3F37-4D8F-48F4-B703-D4877480B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0AD0AB-CD6A-4464-9136-031EA292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39A64A-0534-4B38-B2D8-FEEDEDB9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09AF31-74AE-49F6-964F-DAD3A9DE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849CA-90D0-4714-B077-63F90422A5B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86307C-1106-4142-9768-83B9D6CE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2E7166-F2C5-4374-A0D8-7E019FE8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CFBDED-32DF-4734-B4FC-EE97D40D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FF7D9A-39E5-410F-BA97-1C580937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307A30-33AE-4BAF-9657-C77E64DF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FC0008-3217-40E9-A6CE-CEF298E0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E35FFD-E3BC-427A-B254-B87E3D0F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39502C-B9A0-4BF4-B05E-98BCB5B5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AEBE87-1B7F-4EDB-B45B-77D5F8F6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FD4865-0837-4F4A-9DD7-481EA6072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D2D55-FD49-472E-87F2-7DF15D16F51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633FD8-170B-4954-A85C-C9DEB4F3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CD0866-58B5-4B12-A086-1385AC51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3B9524-9796-4C38-99BE-9757171C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2B6719-5587-415D-A0C7-CF350E30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8AC82C-675B-416C-A867-CD17B9D6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EB33E9-7907-482A-8C07-ABE6C170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9353E4-D9CA-4441-B3FB-99A66B96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F203DD-14F9-4F64-AB4A-6556C502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C1B14F-8BE1-4091-8070-39FC4797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213A4C-1ED4-45DB-A615-8DE197A27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ADC82-8CC9-43AC-ADCD-C348AAEEB30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636892-DBCE-4AE4-80A6-185B8BE69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3A5799-457F-47C7-A142-34E4BD3DD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908967-E64B-4385-ACB0-A45B2896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7FF9C1-92C5-4B8A-A02C-12DBC0DA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A18962-B677-4311-BD6A-CE4B662E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DB154A-FA3C-417E-838F-9DD25B57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8A050C-07B4-4DE5-A764-52CE882A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27C083-096B-459E-87DB-69438D44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816F0B-CD05-4924-8AB3-139D8982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958364-4236-43E7-8CA9-E8114CAB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046E7-229A-4C67-B807-CCCC40BF78C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8302F3-3862-4560-AE6D-167D69B7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4B2402-8CDA-4C45-AB9E-1BA57C15B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46C843-191E-4A61-A973-2FFD68966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581483-D1AF-4F8B-8FE0-9E70C6518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C25274-15E2-48D9-A390-29AE07CD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09CDB2-3F21-432D-886F-E764CBE1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C14F6B-8C93-49D1-8A77-14D668FB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8DDAAF-9930-4EC8-B4D9-F99BFE1B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69B6A3-20E9-4E93-829E-D51CF582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34D25A-30CF-4A38-966A-1E8CEC27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45D2D-E095-4872-9A5B-4C2E9014297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567750-1A23-4592-B640-25CEF057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3DC44E-56D0-44E9-A745-6C6E3545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284C57-6859-4087-8ADF-119F0A20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F94199-20DA-4746-9496-E9FB2DA08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7874BE-C517-494A-AD26-490E7955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649ED4-99D7-450A-A8E8-4F221A826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E6B38F-4167-49E9-B99F-E5523191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C0F5B5-9388-4756-A116-F554A314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E8B2F3-1D0E-4AAE-8421-9C8F7C0F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F898A2-0978-48EB-BF38-1B26BA2A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0DFD0-F1F4-4912-A011-833901C38FD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F321A2-CDBC-47C8-98B7-83DAED32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2487C8-9254-4762-9D04-F4A65671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327B88-7D47-412D-8C7A-F27A2861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96ACF8-576D-450C-AFC6-3FE4C56C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AD0B7F-CC44-4292-BA08-4C261262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7EFD4F-D2A8-43E4-8E3D-983D4FE6D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8279F0-7C99-4AA2-AD8A-652E98E6E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2A0AB9-01B6-4CA1-BBD1-53B7D955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A5FCDF-91F6-4205-BA7E-12128075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4FBD52-FAC0-4C47-84D8-6252A8CB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R – IEN 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A65366-12D4-4175-AD57-D84DD8ED46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6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406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8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9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DB94B7-B633-411E-BDBB-B263D9ABF1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451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1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2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F6CA5C-6085-4AD9-B592-7A1059B336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496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4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5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5C0BD9-92AE-49B1-AF84-030F16EB3F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541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36"/>
          </p:nvPr>
        </p:nvSpPr>
        <p:spPr>
          <a:xfrm>
            <a:off x="394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BEFE6F-3C33-4C4A-A9BF-01F32FEF2C9C}" type="datetime">
              <a:rPr b="0" lang="fr-FR" sz="24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37"/>
          </p:nvPr>
        </p:nvSpPr>
        <p:spPr>
          <a:xfrm>
            <a:off x="2555640" y="6381360"/>
            <a:ext cx="4608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F32935-8B8E-472F-A09C-389E28D928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46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5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034FC4-8952-434F-A6F3-CE3B12854A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91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7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8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CC0372-27CD-46E1-AFB4-0D9CE9E8DF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136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0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1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3DC0BD-7EB0-42C5-B7D9-BDAE96A4CD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181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3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4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6CEE90-F8EC-417C-897D-8AD9371639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226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6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7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80DDDF-9EE1-477A-939F-FBD852DF48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271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9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0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0E1807-06D5-41B3-B3DB-E0578F506D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316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2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3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57DE96-50EA-4DBB-9084-A8C359226C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361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5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6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73D992-20B8-4EF9-91CE-53F4ADCD15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88720" y="179676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’adaptation des parcours de 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1371240" y="3855600"/>
            <a:ext cx="759924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outils de l’adaptation des parcours : passerelles, modularisation, accompagnement personnalisé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676160" y="36000"/>
            <a:ext cx="746748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a Modularis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6"/>
          <p:cNvSpPr/>
          <p:nvPr/>
        </p:nvSpPr>
        <p:spPr>
          <a:xfrm>
            <a:off x="1346040" y="1133640"/>
            <a:ext cx="7534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référentiel de certification est découpé en unités de formation et en modules validant d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ompétences terminales.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unités de formation sont regroupées en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unités de certification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règlement d’examen). Seules ces unités sont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ertifiant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unités de formation et les modules constitutifs seront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validé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au fur et à mesure des acquisitions, éventuellement en C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haque unité de formation et chaque module doit permettre d’acquérir un nombre d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rédits ECTS défini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 La proposition d’attribution des ces crédits relève de l’établissement scolaire à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l’exception des crédits relevant du jury du BT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Grouper 31"/>
          <p:cNvGrpSpPr/>
          <p:nvPr/>
        </p:nvGrpSpPr>
        <p:grpSpPr>
          <a:xfrm>
            <a:off x="5591160" y="2608200"/>
            <a:ext cx="1574640" cy="3538440"/>
            <a:chOff x="5591160" y="2608200"/>
            <a:chExt cx="1574640" cy="3538440"/>
          </a:xfrm>
        </p:grpSpPr>
        <p:sp>
          <p:nvSpPr>
            <p:cNvPr id="687" name="Rectangle 26"/>
            <p:cNvSpPr/>
            <p:nvPr/>
          </p:nvSpPr>
          <p:spPr>
            <a:xfrm>
              <a:off x="5591160" y="2608200"/>
              <a:ext cx="352440" cy="3538440"/>
            </a:xfrm>
            <a:prstGeom prst="rect">
              <a:avLst/>
            </a:prstGeom>
            <a:gradFill rotWithShape="0">
              <a:gsLst>
                <a:gs pos="0">
                  <a:srgbClr val="3f80cd"/>
                </a:gs>
                <a:gs pos="100000">
                  <a:srgbClr val="9bc1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ZoneTexte 27"/>
            <p:cNvSpPr/>
            <p:nvPr/>
          </p:nvSpPr>
          <p:spPr>
            <a:xfrm>
              <a:off x="5960160" y="5777280"/>
              <a:ext cx="12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FMP N°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Text Box 7"/>
          <p:cNvSpPr/>
          <p:nvPr/>
        </p:nvSpPr>
        <p:spPr>
          <a:xfrm>
            <a:off x="1544760" y="12715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chéma d’enseignement respectant une chronologie propre à chaque discipline élaborée à partir du référentiel du diplô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9"/>
          <p:cNvSpPr/>
          <p:nvPr/>
        </p:nvSpPr>
        <p:spPr>
          <a:xfrm>
            <a:off x="1701720" y="2679840"/>
            <a:ext cx="1270080" cy="380880"/>
          </a:xfrm>
          <a:prstGeom prst="rect">
            <a:avLst/>
          </a:prstGeom>
          <a:solidFill>
            <a:srgbClr val="e85d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écani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25"/>
          <p:cNvSpPr/>
          <p:nvPr/>
        </p:nvSpPr>
        <p:spPr>
          <a:xfrm>
            <a:off x="1555920" y="2463840"/>
            <a:ext cx="745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26"/>
          <p:cNvSpPr/>
          <p:nvPr/>
        </p:nvSpPr>
        <p:spPr>
          <a:xfrm>
            <a:off x="386244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28"/>
          <p:cNvSpPr/>
          <p:nvPr/>
        </p:nvSpPr>
        <p:spPr>
          <a:xfrm>
            <a:off x="5049720" y="2390760"/>
            <a:ext cx="0" cy="338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29"/>
          <p:cNvSpPr/>
          <p:nvPr/>
        </p:nvSpPr>
        <p:spPr>
          <a:xfrm>
            <a:off x="559116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30"/>
          <p:cNvSpPr/>
          <p:nvPr/>
        </p:nvSpPr>
        <p:spPr>
          <a:xfrm>
            <a:off x="616752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31"/>
          <p:cNvSpPr/>
          <p:nvPr/>
        </p:nvSpPr>
        <p:spPr>
          <a:xfrm>
            <a:off x="674208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32"/>
          <p:cNvSpPr/>
          <p:nvPr/>
        </p:nvSpPr>
        <p:spPr>
          <a:xfrm>
            <a:off x="731844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33"/>
          <p:cNvSpPr/>
          <p:nvPr/>
        </p:nvSpPr>
        <p:spPr>
          <a:xfrm>
            <a:off x="782316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34"/>
          <p:cNvSpPr/>
          <p:nvPr/>
        </p:nvSpPr>
        <p:spPr>
          <a:xfrm>
            <a:off x="839952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36"/>
          <p:cNvSpPr/>
          <p:nvPr/>
        </p:nvSpPr>
        <p:spPr>
          <a:xfrm>
            <a:off x="443880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9"/>
          <p:cNvSpPr/>
          <p:nvPr/>
        </p:nvSpPr>
        <p:spPr>
          <a:xfrm>
            <a:off x="3459240" y="2079720"/>
            <a:ext cx="5273640" cy="380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nchaînement disciplinaire en centres d’intérê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Diagramme 45" descr=""/>
          <p:cNvPicPr/>
          <p:nvPr/>
        </p:nvPicPr>
        <p:blipFill>
          <a:blip r:embed="rId1"/>
          <a:stretch/>
        </p:blipFill>
        <p:spPr>
          <a:xfrm>
            <a:off x="3309840" y="2554200"/>
            <a:ext cx="5608800" cy="639720"/>
          </a:xfrm>
          <a:prstGeom prst="rect">
            <a:avLst/>
          </a:prstGeom>
          <a:ln w="0">
            <a:noFill/>
          </a:ln>
        </p:spPr>
      </p:pic>
      <p:sp>
        <p:nvSpPr>
          <p:cNvPr id="703" name="Text Box 13"/>
          <p:cNvSpPr/>
          <p:nvPr/>
        </p:nvSpPr>
        <p:spPr>
          <a:xfrm rot="16200000">
            <a:off x="46440" y="3936240"/>
            <a:ext cx="2759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Connaissances du référent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33"/>
          <p:cNvGrpSpPr/>
          <p:nvPr/>
        </p:nvGrpSpPr>
        <p:grpSpPr>
          <a:xfrm>
            <a:off x="1679400" y="3119400"/>
            <a:ext cx="7648560" cy="2949120"/>
            <a:chOff x="1679400" y="3119400"/>
            <a:chExt cx="7648560" cy="2949120"/>
          </a:xfrm>
        </p:grpSpPr>
        <p:sp>
          <p:nvSpPr>
            <p:cNvPr id="705" name="Text Box 16"/>
            <p:cNvSpPr/>
            <p:nvPr/>
          </p:nvSpPr>
          <p:spPr>
            <a:xfrm>
              <a:off x="1679400" y="3240000"/>
              <a:ext cx="1366920" cy="382320"/>
            </a:xfrm>
            <a:prstGeom prst="rect">
              <a:avLst/>
            </a:prstGeom>
            <a:solidFill>
              <a:srgbClr val="b4df7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Automatiq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22"/>
            <p:cNvSpPr/>
            <p:nvPr/>
          </p:nvSpPr>
          <p:spPr>
            <a:xfrm>
              <a:off x="1716120" y="3851280"/>
              <a:ext cx="1366560" cy="381240"/>
            </a:xfrm>
            <a:prstGeom prst="rect">
              <a:avLst/>
            </a:prstGeom>
            <a:solidFill>
              <a:srgbClr val="bb9c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Mainte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23"/>
            <p:cNvSpPr/>
            <p:nvPr/>
          </p:nvSpPr>
          <p:spPr>
            <a:xfrm>
              <a:off x="1716120" y="4496400"/>
              <a:ext cx="1366560" cy="380880"/>
            </a:xfrm>
            <a:prstGeom prst="rect">
              <a:avLst/>
            </a:prstGeom>
            <a:solidFill>
              <a:srgbClr val="6dda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Math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42"/>
            <p:cNvSpPr/>
            <p:nvPr/>
          </p:nvSpPr>
          <p:spPr>
            <a:xfrm>
              <a:off x="1716120" y="5090400"/>
              <a:ext cx="1366560" cy="380880"/>
            </a:xfrm>
            <a:prstGeom prst="rect">
              <a:avLst/>
            </a:prstGeom>
            <a:solidFill>
              <a:srgbClr val="ffb46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Physiq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9" name="Diagramme 46" descr=""/>
            <p:cNvPicPr/>
            <p:nvPr/>
          </p:nvPicPr>
          <p:blipFill>
            <a:blip r:embed="rId2"/>
            <a:stretch/>
          </p:blipFill>
          <p:spPr>
            <a:xfrm>
              <a:off x="3294000" y="3119400"/>
              <a:ext cx="602316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Diagramme 47" descr=""/>
            <p:cNvPicPr/>
            <p:nvPr/>
          </p:nvPicPr>
          <p:blipFill>
            <a:blip r:embed="rId3"/>
            <a:stretch/>
          </p:blipFill>
          <p:spPr>
            <a:xfrm>
              <a:off x="3311280" y="3716640"/>
              <a:ext cx="60058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Diagramme 48" descr=""/>
            <p:cNvPicPr/>
            <p:nvPr/>
          </p:nvPicPr>
          <p:blipFill>
            <a:blip r:embed="rId4"/>
            <a:stretch/>
          </p:blipFill>
          <p:spPr>
            <a:xfrm>
              <a:off x="3294000" y="4369320"/>
              <a:ext cx="6023160" cy="6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Diagramme 25" descr=""/>
            <p:cNvPicPr/>
            <p:nvPr/>
          </p:nvPicPr>
          <p:blipFill>
            <a:blip r:embed="rId5"/>
            <a:stretch/>
          </p:blipFill>
          <p:spPr>
            <a:xfrm>
              <a:off x="3305160" y="4979160"/>
              <a:ext cx="6022800" cy="64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Text Box 42"/>
            <p:cNvSpPr/>
            <p:nvPr/>
          </p:nvSpPr>
          <p:spPr>
            <a:xfrm>
              <a:off x="1716120" y="5687640"/>
              <a:ext cx="1366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Autre 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gression pédagogique disciplinai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103"/>
          <p:cNvSpPr/>
          <p:nvPr/>
        </p:nvSpPr>
        <p:spPr>
          <a:xfrm>
            <a:off x="4330800" y="4605480"/>
            <a:ext cx="2415960" cy="979200"/>
          </a:xfrm>
          <a:prstGeom prst="rect">
            <a:avLst/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dule N°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Grouper 69"/>
          <p:cNvGrpSpPr/>
          <p:nvPr/>
        </p:nvGrpSpPr>
        <p:grpSpPr>
          <a:xfrm>
            <a:off x="5076720" y="2682720"/>
            <a:ext cx="1204920" cy="3538800"/>
            <a:chOff x="5076720" y="2682720"/>
            <a:chExt cx="1204920" cy="3538800"/>
          </a:xfrm>
        </p:grpSpPr>
        <p:sp>
          <p:nvSpPr>
            <p:cNvPr id="717" name="Rectangle 70"/>
            <p:cNvSpPr/>
            <p:nvPr/>
          </p:nvSpPr>
          <p:spPr>
            <a:xfrm>
              <a:off x="5921280" y="2682720"/>
              <a:ext cx="352440" cy="35388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ZoneTexte 71"/>
            <p:cNvSpPr/>
            <p:nvPr/>
          </p:nvSpPr>
          <p:spPr>
            <a:xfrm>
              <a:off x="5076720" y="5852160"/>
              <a:ext cx="12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FMP N°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Text Box 9"/>
          <p:cNvSpPr/>
          <p:nvPr/>
        </p:nvSpPr>
        <p:spPr>
          <a:xfrm>
            <a:off x="1701720" y="2679840"/>
            <a:ext cx="1270080" cy="380880"/>
          </a:xfrm>
          <a:prstGeom prst="rect">
            <a:avLst/>
          </a:prstGeom>
          <a:solidFill>
            <a:srgbClr val="e85d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écani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3"/>
          <p:cNvSpPr/>
          <p:nvPr/>
        </p:nvSpPr>
        <p:spPr>
          <a:xfrm rot="16200000">
            <a:off x="44640" y="3936240"/>
            <a:ext cx="2759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Connaissances du référent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6"/>
          <p:cNvSpPr/>
          <p:nvPr/>
        </p:nvSpPr>
        <p:spPr>
          <a:xfrm>
            <a:off x="1701720" y="3321000"/>
            <a:ext cx="1403280" cy="380880"/>
          </a:xfrm>
          <a:prstGeom prst="rect">
            <a:avLst/>
          </a:prstGeom>
          <a:solidFill>
            <a:srgbClr val="b4df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utoma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2"/>
          <p:cNvSpPr/>
          <p:nvPr/>
        </p:nvSpPr>
        <p:spPr>
          <a:xfrm>
            <a:off x="1738440" y="3930480"/>
            <a:ext cx="1388880" cy="381240"/>
          </a:xfrm>
          <a:prstGeom prst="rect">
            <a:avLst/>
          </a:prstGeom>
          <a:solidFill>
            <a:srgbClr val="bb9c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23"/>
          <p:cNvSpPr/>
          <p:nvPr/>
        </p:nvSpPr>
        <p:spPr>
          <a:xfrm>
            <a:off x="1738440" y="4575240"/>
            <a:ext cx="1269720" cy="380880"/>
          </a:xfrm>
          <a:prstGeom prst="rect">
            <a:avLst/>
          </a:prstGeom>
          <a:solidFill>
            <a:srgbClr val="6dda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42"/>
          <p:cNvSpPr/>
          <p:nvPr/>
        </p:nvSpPr>
        <p:spPr>
          <a:xfrm>
            <a:off x="1738440" y="5168880"/>
            <a:ext cx="1269720" cy="380880"/>
          </a:xfrm>
          <a:prstGeom prst="rect">
            <a:avLst/>
          </a:prstGeom>
          <a:solidFill>
            <a:srgbClr val="ffb46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hys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42"/>
          <p:cNvSpPr/>
          <p:nvPr/>
        </p:nvSpPr>
        <p:spPr>
          <a:xfrm>
            <a:off x="1738440" y="5765760"/>
            <a:ext cx="12697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utre 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Grouper 35"/>
          <p:cNvGrpSpPr/>
          <p:nvPr/>
        </p:nvGrpSpPr>
        <p:grpSpPr>
          <a:xfrm>
            <a:off x="3457440" y="2692440"/>
            <a:ext cx="2448000" cy="2892240"/>
            <a:chOff x="3457440" y="2692440"/>
            <a:chExt cx="2448000" cy="2892240"/>
          </a:xfrm>
        </p:grpSpPr>
        <p:sp>
          <p:nvSpPr>
            <p:cNvPr id="727" name="Rectangle 100"/>
            <p:cNvSpPr/>
            <p:nvPr/>
          </p:nvSpPr>
          <p:spPr>
            <a:xfrm>
              <a:off x="3457440" y="2692440"/>
              <a:ext cx="2448000" cy="1652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Module N°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01"/>
            <p:cNvSpPr/>
            <p:nvPr/>
          </p:nvSpPr>
          <p:spPr>
            <a:xfrm>
              <a:off x="3517560" y="5170320"/>
              <a:ext cx="826920" cy="4143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02"/>
            <p:cNvSpPr/>
            <p:nvPr/>
          </p:nvSpPr>
          <p:spPr>
            <a:xfrm>
              <a:off x="3487320" y="4589280"/>
              <a:ext cx="825480" cy="4125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Grouper 36"/>
          <p:cNvGrpSpPr/>
          <p:nvPr/>
        </p:nvGrpSpPr>
        <p:grpSpPr>
          <a:xfrm>
            <a:off x="6281640" y="2692440"/>
            <a:ext cx="1684440" cy="3529080"/>
            <a:chOff x="6281640" y="2692440"/>
            <a:chExt cx="1684440" cy="3529080"/>
          </a:xfrm>
        </p:grpSpPr>
        <p:sp>
          <p:nvSpPr>
            <p:cNvPr id="731" name="Rectangle 28"/>
            <p:cNvSpPr/>
            <p:nvPr/>
          </p:nvSpPr>
          <p:spPr>
            <a:xfrm>
              <a:off x="6742080" y="4605480"/>
              <a:ext cx="1224000" cy="1616040"/>
            </a:xfrm>
            <a:prstGeom prst="rect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104"/>
            <p:cNvSpPr/>
            <p:nvPr/>
          </p:nvSpPr>
          <p:spPr>
            <a:xfrm>
              <a:off x="6281640" y="2692440"/>
              <a:ext cx="1684440" cy="1668600"/>
            </a:xfrm>
            <a:prstGeom prst="rect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Module N°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er 29"/>
          <p:cNvGrpSpPr/>
          <p:nvPr/>
        </p:nvGrpSpPr>
        <p:grpSpPr>
          <a:xfrm>
            <a:off x="1555920" y="2079720"/>
            <a:ext cx="7453080" cy="3695760"/>
            <a:chOff x="1555920" y="2079720"/>
            <a:chExt cx="7453080" cy="3695760"/>
          </a:xfrm>
        </p:grpSpPr>
        <p:sp>
          <p:nvSpPr>
            <p:cNvPr id="734" name="Line 25"/>
            <p:cNvSpPr/>
            <p:nvPr/>
          </p:nvSpPr>
          <p:spPr>
            <a:xfrm>
              <a:off x="1555920" y="2464200"/>
              <a:ext cx="74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26"/>
            <p:cNvSpPr/>
            <p:nvPr/>
          </p:nvSpPr>
          <p:spPr>
            <a:xfrm>
              <a:off x="386244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28"/>
            <p:cNvSpPr/>
            <p:nvPr/>
          </p:nvSpPr>
          <p:spPr>
            <a:xfrm>
              <a:off x="5049720" y="23911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29"/>
            <p:cNvSpPr/>
            <p:nvPr/>
          </p:nvSpPr>
          <p:spPr>
            <a:xfrm>
              <a:off x="559116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30"/>
            <p:cNvSpPr/>
            <p:nvPr/>
          </p:nvSpPr>
          <p:spPr>
            <a:xfrm>
              <a:off x="616752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31"/>
            <p:cNvSpPr/>
            <p:nvPr/>
          </p:nvSpPr>
          <p:spPr>
            <a:xfrm>
              <a:off x="674208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32"/>
            <p:cNvSpPr/>
            <p:nvPr/>
          </p:nvSpPr>
          <p:spPr>
            <a:xfrm>
              <a:off x="731844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33"/>
            <p:cNvSpPr/>
            <p:nvPr/>
          </p:nvSpPr>
          <p:spPr>
            <a:xfrm>
              <a:off x="782316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36"/>
            <p:cNvSpPr/>
            <p:nvPr/>
          </p:nvSpPr>
          <p:spPr>
            <a:xfrm>
              <a:off x="443880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Text Box 9"/>
            <p:cNvSpPr/>
            <p:nvPr/>
          </p:nvSpPr>
          <p:spPr>
            <a:xfrm>
              <a:off x="3459240" y="2079720"/>
              <a:ext cx="5273640" cy="38088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Enchaînement de modules de 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34"/>
            <p:cNvSpPr/>
            <p:nvPr/>
          </p:nvSpPr>
          <p:spPr>
            <a:xfrm>
              <a:off x="839952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Rectangle 30"/>
          <p:cNvSpPr/>
          <p:nvPr/>
        </p:nvSpPr>
        <p:spPr>
          <a:xfrm>
            <a:off x="7035840" y="3321000"/>
            <a:ext cx="1698480" cy="10400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er 31"/>
          <p:cNvGrpSpPr/>
          <p:nvPr/>
        </p:nvGrpSpPr>
        <p:grpSpPr>
          <a:xfrm>
            <a:off x="7985160" y="2679840"/>
            <a:ext cx="1351080" cy="3538440"/>
            <a:chOff x="7985160" y="2679840"/>
            <a:chExt cx="1351080" cy="3538440"/>
          </a:xfrm>
        </p:grpSpPr>
        <p:sp>
          <p:nvSpPr>
            <p:cNvPr id="747" name="Rectangle 33"/>
            <p:cNvSpPr/>
            <p:nvPr/>
          </p:nvSpPr>
          <p:spPr>
            <a:xfrm>
              <a:off x="7985160" y="2679840"/>
              <a:ext cx="352440" cy="35384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ZoneTexte 32"/>
            <p:cNvSpPr/>
            <p:nvPr/>
          </p:nvSpPr>
          <p:spPr>
            <a:xfrm>
              <a:off x="8131320" y="5848920"/>
              <a:ext cx="12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FMP N°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gression pédagogique modulai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AutoShape 22"/>
          <p:cNvSpPr/>
          <p:nvPr/>
        </p:nvSpPr>
        <p:spPr>
          <a:xfrm>
            <a:off x="484200" y="3543480"/>
            <a:ext cx="1127160" cy="714240"/>
          </a:xfrm>
          <a:prstGeom prst="rightArrow">
            <a:avLst>
              <a:gd name="adj1" fmla="val 50000"/>
              <a:gd name="adj2" fmla="val 39453"/>
            </a:avLst>
          </a:prstGeom>
          <a:solidFill>
            <a:srgbClr val="f5b9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Mise à nive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AutoShape 21"/>
          <p:cNvSpPr/>
          <p:nvPr/>
        </p:nvSpPr>
        <p:spPr>
          <a:xfrm>
            <a:off x="492120" y="1808280"/>
            <a:ext cx="1092240" cy="698400"/>
          </a:xfrm>
          <a:prstGeom prst="rightArrow">
            <a:avLst>
              <a:gd name="adj1" fmla="val 50000"/>
              <a:gd name="adj2" fmla="val 39098"/>
            </a:avLst>
          </a:prstGeom>
          <a:solidFill>
            <a:srgbClr val="78d1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Tronc comm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66"/>
          <p:cNvSpPr/>
          <p:nvPr/>
        </p:nvSpPr>
        <p:spPr>
          <a:xfrm rot="16200000">
            <a:off x="-1722600" y="2881440"/>
            <a:ext cx="4141800" cy="337320"/>
          </a:xfrm>
          <a:prstGeom prst="rect">
            <a:avLst/>
          </a:prstGeom>
          <a:solidFill>
            <a:srgbClr val="ffee93"/>
          </a:solidFill>
          <a:ln w="9360">
            <a:solidFill>
              <a:srgbClr val="ffee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Fonctionnement à mettre en 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85"/>
          <p:cNvSpPr/>
          <p:nvPr/>
        </p:nvSpPr>
        <p:spPr>
          <a:xfrm>
            <a:off x="3456000" y="1089000"/>
            <a:ext cx="936720" cy="2303640"/>
          </a:xfrm>
          <a:prstGeom prst="rightArrow">
            <a:avLst>
              <a:gd name="adj1" fmla="val 64296"/>
              <a:gd name="adj2" fmla="val 47088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spécif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C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I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10"/>
          <p:cNvSpPr/>
          <p:nvPr/>
        </p:nvSpPr>
        <p:spPr>
          <a:xfrm rot="16200000">
            <a:off x="419040" y="3806640"/>
            <a:ext cx="5834160" cy="252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Revue de projet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74"/>
          <p:cNvSpPr/>
          <p:nvPr/>
        </p:nvSpPr>
        <p:spPr>
          <a:xfrm>
            <a:off x="1763640" y="3987720"/>
            <a:ext cx="2592360" cy="486000"/>
          </a:xfrm>
          <a:prstGeom prst="rightArrow">
            <a:avLst>
              <a:gd name="adj1" fmla="val 50000"/>
              <a:gd name="adj2" fmla="val 133352"/>
            </a:avLst>
          </a:prstGeom>
          <a:solidFill>
            <a:srgbClr val="f5b9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ccompag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58"/>
          <p:cNvSpPr/>
          <p:nvPr/>
        </p:nvSpPr>
        <p:spPr>
          <a:xfrm>
            <a:off x="1763640" y="3392640"/>
            <a:ext cx="2592360" cy="541080"/>
          </a:xfrm>
          <a:prstGeom prst="rightArrow">
            <a:avLst>
              <a:gd name="adj1" fmla="val 50000"/>
              <a:gd name="adj2" fmla="val 119777"/>
            </a:avLst>
          </a:prstGeom>
          <a:solidFill>
            <a:srgbClr val="78d1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Enseignements transversaux en commu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28"/>
          <p:cNvSpPr/>
          <p:nvPr/>
        </p:nvSpPr>
        <p:spPr>
          <a:xfrm>
            <a:off x="1800360" y="1089000"/>
            <a:ext cx="1403280" cy="2232000"/>
          </a:xfrm>
          <a:prstGeom prst="rightArrow">
            <a:avLst>
              <a:gd name="adj1" fmla="val 61880"/>
              <a:gd name="adj2" fmla="val 2568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spécif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C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Europlastic I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1"/>
          <p:cNvSpPr/>
          <p:nvPr/>
        </p:nvSpPr>
        <p:spPr>
          <a:xfrm rot="16200000">
            <a:off x="-1238040" y="3803040"/>
            <a:ext cx="5869080" cy="223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Démarche de projet ingénierie simultanée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92"/>
          <p:cNvSpPr/>
          <p:nvPr/>
        </p:nvSpPr>
        <p:spPr>
          <a:xfrm>
            <a:off x="4572000" y="3290760"/>
            <a:ext cx="658800" cy="1182960"/>
          </a:xfrm>
          <a:prstGeom prst="rightArrow">
            <a:avLst>
              <a:gd name="adj1" fmla="val 51676"/>
              <a:gd name="adj2" fmla="val 35903"/>
            </a:avLst>
          </a:prstGeom>
          <a:solidFill>
            <a:srgbClr val="f5b9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Mi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ive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36"/>
          <p:cNvSpPr/>
          <p:nvPr/>
        </p:nvSpPr>
        <p:spPr>
          <a:xfrm>
            <a:off x="4594320" y="1808280"/>
            <a:ext cx="662040" cy="89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9db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Tron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comm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9"/>
          <p:cNvSpPr/>
          <p:nvPr/>
        </p:nvSpPr>
        <p:spPr>
          <a:xfrm rot="16200000">
            <a:off x="1582560" y="3789000"/>
            <a:ext cx="5869080" cy="2523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Stage industriel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89"/>
          <p:cNvSpPr/>
          <p:nvPr/>
        </p:nvSpPr>
        <p:spPr>
          <a:xfrm>
            <a:off x="8172360" y="2421000"/>
            <a:ext cx="430200" cy="901800"/>
          </a:xfrm>
          <a:prstGeom prst="rightArrow">
            <a:avLst>
              <a:gd name="adj1" fmla="val 70074"/>
              <a:gd name="adj2" fmla="val 4677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I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13"/>
          <p:cNvSpPr/>
          <p:nvPr/>
        </p:nvSpPr>
        <p:spPr>
          <a:xfrm rot="16200000">
            <a:off x="5792040" y="4440600"/>
            <a:ext cx="4545000" cy="289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Produire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88"/>
          <p:cNvSpPr/>
          <p:nvPr/>
        </p:nvSpPr>
        <p:spPr>
          <a:xfrm>
            <a:off x="6985080" y="2349360"/>
            <a:ext cx="1042920" cy="1044720"/>
          </a:xfrm>
          <a:prstGeom prst="rightArrow">
            <a:avLst>
              <a:gd name="adj1" fmla="val 70074"/>
              <a:gd name="adj2" fmla="val 2852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spécif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I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87"/>
          <p:cNvSpPr/>
          <p:nvPr/>
        </p:nvSpPr>
        <p:spPr>
          <a:xfrm>
            <a:off x="6985080" y="1015920"/>
            <a:ext cx="1619280" cy="1295640"/>
          </a:xfrm>
          <a:prstGeom prst="rightArrow">
            <a:avLst>
              <a:gd name="adj1" fmla="val 72056"/>
              <a:gd name="adj2" fmla="val 58786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spécif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C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86"/>
          <p:cNvSpPr/>
          <p:nvPr/>
        </p:nvSpPr>
        <p:spPr>
          <a:xfrm>
            <a:off x="5508720" y="1125360"/>
            <a:ext cx="1258920" cy="2303640"/>
          </a:xfrm>
          <a:prstGeom prst="rightArrow">
            <a:avLst>
              <a:gd name="adj1" fmla="val 64296"/>
              <a:gd name="adj2" fmla="val 47088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spécif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C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I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8"/>
          <p:cNvSpPr/>
          <p:nvPr/>
        </p:nvSpPr>
        <p:spPr>
          <a:xfrm rot="16200000">
            <a:off x="2465280" y="3771360"/>
            <a:ext cx="5869080" cy="287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Démarche de projet ingénierie simultané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12"/>
          <p:cNvSpPr/>
          <p:nvPr/>
        </p:nvSpPr>
        <p:spPr>
          <a:xfrm rot="16200000">
            <a:off x="5812560" y="3777120"/>
            <a:ext cx="5877000" cy="284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Examens: </a:t>
            </a:r>
            <a:r>
              <a:rPr b="1" i="1" lang="fr-FR" sz="1200" spc="-1" strike="noStrike">
                <a:solidFill>
                  <a:srgbClr val="000000"/>
                </a:solidFill>
                <a:latin typeface="Calibri"/>
              </a:rPr>
              <a:t>BTS CPI, BTS ERO, BTS Euro 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14"/>
          <p:cNvSpPr/>
          <p:nvPr/>
        </p:nvSpPr>
        <p:spPr>
          <a:xfrm rot="16200000">
            <a:off x="4597560" y="4435560"/>
            <a:ext cx="4581360" cy="2635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Stage europé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Group 75"/>
          <p:cNvGrpSpPr/>
          <p:nvPr/>
        </p:nvGrpSpPr>
        <p:grpSpPr>
          <a:xfrm>
            <a:off x="468360" y="5192640"/>
            <a:ext cx="3935520" cy="1623960"/>
            <a:chOff x="468360" y="5192640"/>
            <a:chExt cx="3935520" cy="1623960"/>
          </a:xfrm>
        </p:grpSpPr>
        <p:sp>
          <p:nvSpPr>
            <p:cNvPr id="771" name="AutoShape 16"/>
            <p:cNvSpPr/>
            <p:nvPr/>
          </p:nvSpPr>
          <p:spPr>
            <a:xfrm>
              <a:off x="471600" y="6311880"/>
              <a:ext cx="3924360" cy="504720"/>
            </a:xfrm>
            <a:prstGeom prst="rightArrow">
              <a:avLst>
                <a:gd name="adj1" fmla="val 50000"/>
                <a:gd name="adj2" fmla="val 194383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Calibri"/>
                </a:rPr>
                <a:t>B.T.S. -  E.R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AutoShape 17"/>
            <p:cNvSpPr/>
            <p:nvPr/>
          </p:nvSpPr>
          <p:spPr>
            <a:xfrm>
              <a:off x="469800" y="5740200"/>
              <a:ext cx="3934080" cy="500040"/>
            </a:xfrm>
            <a:prstGeom prst="rightArrow">
              <a:avLst>
                <a:gd name="adj1" fmla="val 50000"/>
                <a:gd name="adj2" fmla="val 196688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Calibri"/>
                </a:rPr>
                <a:t>B.T.S. Euro plast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AutoShape 19"/>
            <p:cNvSpPr/>
            <p:nvPr/>
          </p:nvSpPr>
          <p:spPr>
            <a:xfrm>
              <a:off x="468360" y="5192640"/>
              <a:ext cx="3933720" cy="434880"/>
            </a:xfrm>
            <a:prstGeom prst="rightArrow">
              <a:avLst>
                <a:gd name="adj1" fmla="val 50000"/>
                <a:gd name="adj2" fmla="val 226138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Calibri"/>
                </a:rPr>
                <a:t>B.T.S. CP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Group 76"/>
          <p:cNvGrpSpPr/>
          <p:nvPr/>
        </p:nvGrpSpPr>
        <p:grpSpPr>
          <a:xfrm>
            <a:off x="4608360" y="5192640"/>
            <a:ext cx="3996000" cy="1582920"/>
            <a:chOff x="4608360" y="5192640"/>
            <a:chExt cx="3996000" cy="1582920"/>
          </a:xfrm>
        </p:grpSpPr>
        <p:sp>
          <p:nvSpPr>
            <p:cNvPr id="775" name="AutoShape 32"/>
            <p:cNvSpPr/>
            <p:nvPr/>
          </p:nvSpPr>
          <p:spPr>
            <a:xfrm>
              <a:off x="4611600" y="6343920"/>
              <a:ext cx="3975120" cy="431640"/>
            </a:xfrm>
            <a:prstGeom prst="rightArrow">
              <a:avLst>
                <a:gd name="adj1" fmla="val 50000"/>
                <a:gd name="adj2" fmla="val 230234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Calibri"/>
                </a:rPr>
                <a:t>B.T.S. -  E.R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AutoShape 33"/>
            <p:cNvSpPr/>
            <p:nvPr/>
          </p:nvSpPr>
          <p:spPr>
            <a:xfrm>
              <a:off x="4610160" y="5807160"/>
              <a:ext cx="2122560" cy="465120"/>
            </a:xfrm>
            <a:prstGeom prst="rightArrow">
              <a:avLst>
                <a:gd name="adj1" fmla="val 50000"/>
                <a:gd name="adj2" fmla="val 11408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Calibri"/>
                </a:rPr>
                <a:t>B.T.S. Euro plas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AutoShape 34"/>
            <p:cNvSpPr/>
            <p:nvPr/>
          </p:nvSpPr>
          <p:spPr>
            <a:xfrm>
              <a:off x="4608360" y="5192640"/>
              <a:ext cx="3996000" cy="471600"/>
            </a:xfrm>
            <a:prstGeom prst="rightArrow">
              <a:avLst>
                <a:gd name="adj1" fmla="val 50000"/>
                <a:gd name="adj2" fmla="val 211832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Calibri"/>
                </a:rPr>
                <a:t>B.T.S. CP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AutoShape 35"/>
            <p:cNvSpPr/>
            <p:nvPr/>
          </p:nvSpPr>
          <p:spPr>
            <a:xfrm>
              <a:off x="7020000" y="5808600"/>
              <a:ext cx="1576440" cy="463680"/>
            </a:xfrm>
            <a:prstGeom prst="rightArrow">
              <a:avLst>
                <a:gd name="adj1" fmla="val 50000"/>
                <a:gd name="adj2" fmla="val 84996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Calibri"/>
                </a:rPr>
                <a:t>B.T.S. Euro plas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Rectangle 37"/>
          <p:cNvSpPr/>
          <p:nvPr/>
        </p:nvSpPr>
        <p:spPr>
          <a:xfrm rot="16200000">
            <a:off x="6203160" y="1532520"/>
            <a:ext cx="1380960" cy="252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Projet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47"/>
          <p:cNvSpPr/>
          <p:nvPr/>
        </p:nvSpPr>
        <p:spPr>
          <a:xfrm>
            <a:off x="5543640" y="4041720"/>
            <a:ext cx="2665440" cy="503280"/>
          </a:xfrm>
          <a:prstGeom prst="rightArrow">
            <a:avLst>
              <a:gd name="adj1" fmla="val 50000"/>
              <a:gd name="adj2" fmla="val 132403"/>
            </a:avLst>
          </a:prstGeom>
          <a:solidFill>
            <a:srgbClr val="f5b9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enfor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59"/>
          <p:cNvSpPr/>
          <p:nvPr/>
        </p:nvSpPr>
        <p:spPr>
          <a:xfrm>
            <a:off x="5543640" y="3465360"/>
            <a:ext cx="3024000" cy="576360"/>
          </a:xfrm>
          <a:prstGeom prst="rightArrow">
            <a:avLst>
              <a:gd name="adj1" fmla="val 50000"/>
              <a:gd name="adj2" fmla="val 131168"/>
            </a:avLst>
          </a:prstGeom>
          <a:solidFill>
            <a:srgbClr val="78d1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Enseignements transversaux en commu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61"/>
          <p:cNvSpPr/>
          <p:nvPr/>
        </p:nvSpPr>
        <p:spPr>
          <a:xfrm>
            <a:off x="539640" y="593640"/>
            <a:ext cx="414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° ann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65"/>
          <p:cNvSpPr/>
          <p:nvPr/>
        </p:nvSpPr>
        <p:spPr>
          <a:xfrm rot="16200000">
            <a:off x="-533160" y="5654880"/>
            <a:ext cx="1736640" cy="669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Fonctionnemen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actu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67"/>
          <p:cNvSpPr/>
          <p:nvPr/>
        </p:nvSpPr>
        <p:spPr>
          <a:xfrm>
            <a:off x="4643280" y="593640"/>
            <a:ext cx="4249800" cy="3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° ann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68"/>
          <p:cNvSpPr/>
          <p:nvPr/>
        </p:nvSpPr>
        <p:spPr>
          <a:xfrm>
            <a:off x="0" y="44280"/>
            <a:ext cx="9144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Organisation fonctionnelle Ingénierie Collaborat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80"/>
          <p:cNvSpPr/>
          <p:nvPr/>
        </p:nvSpPr>
        <p:spPr>
          <a:xfrm>
            <a:off x="5256360" y="4545000"/>
            <a:ext cx="3348000" cy="468360"/>
          </a:xfrm>
          <a:prstGeom prst="rightArrow">
            <a:avLst>
              <a:gd name="adj1" fmla="val 50000"/>
              <a:gd name="adj2" fmla="val 178709"/>
            </a:avLst>
          </a:prstGeom>
          <a:solidFill>
            <a:srgbClr val="ffa8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jet collaboratif support d’ex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79"/>
          <p:cNvSpPr/>
          <p:nvPr/>
        </p:nvSpPr>
        <p:spPr>
          <a:xfrm>
            <a:off x="1584360" y="4545000"/>
            <a:ext cx="2806560" cy="431640"/>
          </a:xfrm>
          <a:prstGeom prst="rightArrow">
            <a:avLst>
              <a:gd name="adj1" fmla="val 62833"/>
              <a:gd name="adj2" fmla="val 167398"/>
            </a:avLst>
          </a:prstGeom>
          <a:solidFill>
            <a:srgbClr val="ffa8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jet collaborat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78"/>
          <p:cNvSpPr/>
          <p:nvPr/>
        </p:nvSpPr>
        <p:spPr>
          <a:xfrm>
            <a:off x="0" y="5121360"/>
            <a:ext cx="9144000" cy="1728720"/>
          </a:xfrm>
          <a:prstGeom prst="rect">
            <a:avLst/>
          </a:prstGeom>
          <a:solidFill>
            <a:srgbClr val="bbe0e3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63"/>
          <p:cNvSpPr/>
          <p:nvPr/>
        </p:nvSpPr>
        <p:spPr>
          <a:xfrm>
            <a:off x="0" y="5084640"/>
            <a:ext cx="9144000" cy="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ZoneTexte 109"/>
          <p:cNvSpPr/>
          <p:nvPr/>
        </p:nvSpPr>
        <p:spPr>
          <a:xfrm>
            <a:off x="6924600" y="5632560"/>
            <a:ext cx="2062080" cy="337320"/>
          </a:xfrm>
          <a:prstGeom prst="rect">
            <a:avLst/>
          </a:prstGeom>
          <a:solidFill>
            <a:srgbClr val="bfe5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er 14"/>
          <p:cNvGrpSpPr/>
          <p:nvPr/>
        </p:nvGrpSpPr>
        <p:grpSpPr>
          <a:xfrm>
            <a:off x="1400040" y="1895400"/>
            <a:ext cx="1371600" cy="1056600"/>
            <a:chOff x="1400040" y="1895400"/>
            <a:chExt cx="1371600" cy="1056600"/>
          </a:xfrm>
        </p:grpSpPr>
        <p:sp>
          <p:nvSpPr>
            <p:cNvPr id="595" name="ZoneTexte 3"/>
            <p:cNvSpPr/>
            <p:nvPr/>
          </p:nvSpPr>
          <p:spPr>
            <a:xfrm>
              <a:off x="1400040" y="1895400"/>
              <a:ext cx="1371600" cy="337320"/>
            </a:xfrm>
            <a:prstGeom prst="rect">
              <a:avLst/>
            </a:prstGeom>
            <a:solidFill>
              <a:srgbClr val="fcd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C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ZoneTexte 4"/>
            <p:cNvSpPr/>
            <p:nvPr/>
          </p:nvSpPr>
          <p:spPr>
            <a:xfrm>
              <a:off x="1400040" y="2614680"/>
              <a:ext cx="1371600" cy="337320"/>
            </a:xfrm>
            <a:prstGeom prst="rect">
              <a:avLst/>
            </a:prstGeom>
            <a:solidFill>
              <a:srgbClr val="fcd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C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er 11"/>
          <p:cNvGrpSpPr/>
          <p:nvPr/>
        </p:nvGrpSpPr>
        <p:grpSpPr>
          <a:xfrm>
            <a:off x="3571920" y="1895400"/>
            <a:ext cx="1828800" cy="1818720"/>
            <a:chOff x="3571920" y="1895400"/>
            <a:chExt cx="1828800" cy="1818720"/>
          </a:xfrm>
        </p:grpSpPr>
        <p:sp>
          <p:nvSpPr>
            <p:cNvPr id="598" name="ZoneTexte 5"/>
            <p:cNvSpPr/>
            <p:nvPr/>
          </p:nvSpPr>
          <p:spPr>
            <a:xfrm>
              <a:off x="3571920" y="1895400"/>
              <a:ext cx="1828800" cy="33732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Seconde bac p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ZoneTexte 6"/>
            <p:cNvSpPr/>
            <p:nvPr/>
          </p:nvSpPr>
          <p:spPr>
            <a:xfrm>
              <a:off x="3571920" y="2635200"/>
              <a:ext cx="1828800" cy="33732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Première bac p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ZoneTexte 7"/>
            <p:cNvSpPr/>
            <p:nvPr/>
          </p:nvSpPr>
          <p:spPr>
            <a:xfrm>
              <a:off x="3571920" y="3376800"/>
              <a:ext cx="1828800" cy="33732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Terminale bac p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er 12"/>
          <p:cNvGrpSpPr/>
          <p:nvPr/>
        </p:nvGrpSpPr>
        <p:grpSpPr>
          <a:xfrm>
            <a:off x="6129360" y="1897200"/>
            <a:ext cx="2482920" cy="1797840"/>
            <a:chOff x="6129360" y="1897200"/>
            <a:chExt cx="2482920" cy="1797840"/>
          </a:xfrm>
        </p:grpSpPr>
        <p:sp>
          <p:nvSpPr>
            <p:cNvPr id="602" name="ZoneTexte 8"/>
            <p:cNvSpPr/>
            <p:nvPr/>
          </p:nvSpPr>
          <p:spPr>
            <a:xfrm>
              <a:off x="6129360" y="1897200"/>
              <a:ext cx="2482920" cy="33732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Seconde d’explo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ZoneTexte 9"/>
            <p:cNvSpPr/>
            <p:nvPr/>
          </p:nvSpPr>
          <p:spPr>
            <a:xfrm>
              <a:off x="6129360" y="2627280"/>
              <a:ext cx="2482920" cy="33732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Première technologiq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ZoneTexte 10"/>
            <p:cNvSpPr/>
            <p:nvPr/>
          </p:nvSpPr>
          <p:spPr>
            <a:xfrm>
              <a:off x="6129360" y="3357720"/>
              <a:ext cx="2482920" cy="33732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Terminale technologiq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Flèche vers le bas 38"/>
          <p:cNvSpPr/>
          <p:nvPr/>
        </p:nvSpPr>
        <p:spPr>
          <a:xfrm>
            <a:off x="7191360" y="2246400"/>
            <a:ext cx="380880" cy="3888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lèche vers le bas 82"/>
          <p:cNvSpPr/>
          <p:nvPr/>
        </p:nvSpPr>
        <p:spPr>
          <a:xfrm>
            <a:off x="4371840" y="2235240"/>
            <a:ext cx="381240" cy="40176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lèche vers le bas 96"/>
          <p:cNvSpPr/>
          <p:nvPr/>
        </p:nvSpPr>
        <p:spPr>
          <a:xfrm>
            <a:off x="7191360" y="2963880"/>
            <a:ext cx="380880" cy="3762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lèche vers le bas 97"/>
          <p:cNvSpPr/>
          <p:nvPr/>
        </p:nvSpPr>
        <p:spPr>
          <a:xfrm>
            <a:off x="4371840" y="2975040"/>
            <a:ext cx="381240" cy="401400"/>
          </a:xfrm>
          <a:prstGeom prst="downArrow">
            <a:avLst>
              <a:gd name="adj1" fmla="val 50000"/>
              <a:gd name="adj2" fmla="val 49939"/>
            </a:avLst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lèche vers le bas 99"/>
          <p:cNvSpPr/>
          <p:nvPr/>
        </p:nvSpPr>
        <p:spPr>
          <a:xfrm>
            <a:off x="1933560" y="2235240"/>
            <a:ext cx="380880" cy="40176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fcd5b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lèche vers la droite 100"/>
          <p:cNvSpPr/>
          <p:nvPr/>
        </p:nvSpPr>
        <p:spPr>
          <a:xfrm>
            <a:off x="2771640" y="2768760"/>
            <a:ext cx="800280" cy="150480"/>
          </a:xfrm>
          <a:prstGeom prst="rightArrow">
            <a:avLst>
              <a:gd name="adj1" fmla="val 50000"/>
              <a:gd name="adj2" fmla="val 50129"/>
            </a:avLst>
          </a:prstGeom>
          <a:solidFill>
            <a:srgbClr val="fcd5b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ZoneTexte 101"/>
          <p:cNvSpPr/>
          <p:nvPr/>
        </p:nvSpPr>
        <p:spPr>
          <a:xfrm>
            <a:off x="1389240" y="6283440"/>
            <a:ext cx="6835680" cy="36828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 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ZoneTexte 102"/>
          <p:cNvSpPr/>
          <p:nvPr/>
        </p:nvSpPr>
        <p:spPr>
          <a:xfrm>
            <a:off x="4925880" y="4138560"/>
            <a:ext cx="20098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BTS, DUT 1</a:t>
            </a:r>
            <a:r>
              <a:rPr b="0" lang="fr-FR" sz="1400" spc="-1" strike="noStrike" baseline="30000">
                <a:solidFill>
                  <a:srgbClr val="000000"/>
                </a:solidFill>
                <a:latin typeface="Calibri"/>
              </a:rPr>
              <a:t>ère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anné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ZoneTexte 103"/>
          <p:cNvSpPr/>
          <p:nvPr/>
        </p:nvSpPr>
        <p:spPr>
          <a:xfrm>
            <a:off x="4919760" y="4519440"/>
            <a:ext cx="20048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BTS, DUT 2</a:t>
            </a:r>
            <a:r>
              <a:rPr b="0" lang="fr-FR" sz="1400" spc="-1" strike="noStrike" baseline="30000">
                <a:solidFill>
                  <a:srgbClr val="000000"/>
                </a:solidFill>
                <a:latin typeface="Calibri"/>
              </a:rPr>
              <a:t>ème 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nné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lèche vers le bas 104"/>
          <p:cNvSpPr/>
          <p:nvPr/>
        </p:nvSpPr>
        <p:spPr>
          <a:xfrm>
            <a:off x="6276960" y="3691080"/>
            <a:ext cx="333360" cy="425160"/>
          </a:xfrm>
          <a:prstGeom prst="downArrow">
            <a:avLst>
              <a:gd name="adj1" fmla="val 50000"/>
              <a:gd name="adj2" fmla="val 49970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lèche vers le bas 105"/>
          <p:cNvSpPr/>
          <p:nvPr/>
        </p:nvSpPr>
        <p:spPr>
          <a:xfrm>
            <a:off x="4371840" y="3714840"/>
            <a:ext cx="381240" cy="253188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lèche vers le bas 106"/>
          <p:cNvSpPr/>
          <p:nvPr/>
        </p:nvSpPr>
        <p:spPr>
          <a:xfrm>
            <a:off x="1933560" y="2921040"/>
            <a:ext cx="380880" cy="331308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fcd5b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lèche vers le bas 108"/>
          <p:cNvSpPr/>
          <p:nvPr/>
        </p:nvSpPr>
        <p:spPr>
          <a:xfrm>
            <a:off x="5210280" y="3714840"/>
            <a:ext cx="190440" cy="40140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dbebc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ZoneTexte 109"/>
          <p:cNvSpPr/>
          <p:nvPr/>
        </p:nvSpPr>
        <p:spPr>
          <a:xfrm>
            <a:off x="5894280" y="5281560"/>
            <a:ext cx="3097440" cy="337320"/>
          </a:xfrm>
          <a:prstGeom prst="rect">
            <a:avLst/>
          </a:prstGeom>
          <a:solidFill>
            <a:srgbClr val="bfe5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ic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lèche vers le bas 110"/>
          <p:cNvSpPr/>
          <p:nvPr/>
        </p:nvSpPr>
        <p:spPr>
          <a:xfrm>
            <a:off x="6200640" y="4842000"/>
            <a:ext cx="201600" cy="42516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lèche vers le bas 112"/>
          <p:cNvSpPr/>
          <p:nvPr/>
        </p:nvSpPr>
        <p:spPr>
          <a:xfrm>
            <a:off x="5137200" y="4842000"/>
            <a:ext cx="407880" cy="1404720"/>
          </a:xfrm>
          <a:prstGeom prst="downArrow">
            <a:avLst>
              <a:gd name="adj1" fmla="val 50194"/>
              <a:gd name="adj2" fmla="val 47865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ZoneTexte 128"/>
          <p:cNvSpPr/>
          <p:nvPr/>
        </p:nvSpPr>
        <p:spPr>
          <a:xfrm>
            <a:off x="1476360" y="1014480"/>
            <a:ext cx="3886200" cy="368280"/>
          </a:xfrm>
          <a:prstGeom prst="rect">
            <a:avLst/>
          </a:prstGeom>
          <a:solidFill>
            <a:srgbClr val="c4bd97"/>
          </a:solidFill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oie professionn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ZoneTexte 129"/>
          <p:cNvSpPr/>
          <p:nvPr/>
        </p:nvSpPr>
        <p:spPr>
          <a:xfrm>
            <a:off x="5667480" y="1014480"/>
            <a:ext cx="2895480" cy="368280"/>
          </a:xfrm>
          <a:prstGeom prst="rect">
            <a:avLst/>
          </a:prstGeom>
          <a:solidFill>
            <a:srgbClr val="c4bd97"/>
          </a:solidFill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oie technolog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lèche courbée vers le haut 130"/>
          <p:cNvSpPr/>
          <p:nvPr/>
        </p:nvSpPr>
        <p:spPr>
          <a:xfrm>
            <a:off x="2759040" y="5900760"/>
            <a:ext cx="952560" cy="957240"/>
          </a:xfrm>
          <a:custGeom>
            <a:avLst/>
            <a:gdLst>
              <a:gd name="textAreaLeft" fmla="*/ 148680 w 952560"/>
              <a:gd name="textAreaRight" fmla="*/ 684720 w 952560"/>
              <a:gd name="textAreaTop" fmla="*/ 128160 h 957240"/>
              <a:gd name="textAreaBottom" fmla="*/ 829080 h 9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3035132"/>
                <a:lnTo>
                  <a:pt x="21388" y="5373"/>
                </a:lnTo>
                <a:lnTo>
                  <a:pt x="16200" y="0"/>
                </a:lnTo>
                <a:lnTo>
                  <a:pt x="10588" y="5373"/>
                </a:lnTo>
                <a:lnTo>
                  <a:pt x="13288" y="5373"/>
                </a:lnTo>
                <a:arcTo wR="6750" hR="21600" stAng="2364868" swAng="2569146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solidFill>
            <a:srgbClr val="c4bd97"/>
          </a:solidFill>
          <a:ln w="9360">
            <a:solidFill>
              <a:srgbClr val="4a452a"/>
            </a:solidFill>
            <a:miter/>
          </a:ln>
          <a:effectLst>
            <a:outerShdw dist="23040" dir="5400000" blurRad="0" rotWithShape="0">
              <a:srgbClr val="948a54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ZoneTexte 131"/>
          <p:cNvSpPr/>
          <p:nvPr/>
        </p:nvSpPr>
        <p:spPr>
          <a:xfrm>
            <a:off x="2556000" y="49370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ers tous les diplô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lèche vers le bas 111"/>
          <p:cNvSpPr/>
          <p:nvPr/>
        </p:nvSpPr>
        <p:spPr>
          <a:xfrm>
            <a:off x="6386400" y="5619600"/>
            <a:ext cx="381240" cy="630360"/>
          </a:xfrm>
          <a:prstGeom prst="downArrow">
            <a:avLst>
              <a:gd name="adj1" fmla="val 50000"/>
              <a:gd name="adj2" fmla="val 52895"/>
            </a:avLst>
          </a:prstGeom>
          <a:solidFill>
            <a:srgbClr val="bfe56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lèche vers le bas 62"/>
          <p:cNvSpPr/>
          <p:nvPr/>
        </p:nvSpPr>
        <p:spPr>
          <a:xfrm>
            <a:off x="7997760" y="3701880"/>
            <a:ext cx="163440" cy="1555920"/>
          </a:xfrm>
          <a:prstGeom prst="downArrow">
            <a:avLst>
              <a:gd name="adj1" fmla="val 50000"/>
              <a:gd name="adj2" fmla="val 50023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itre 1"/>
          <p:cNvSpPr/>
          <p:nvPr/>
        </p:nvSpPr>
        <p:spPr>
          <a:xfrm>
            <a:off x="1252440" y="0"/>
            <a:ext cx="7891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es voies de 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ZoneTexte 102"/>
          <p:cNvSpPr/>
          <p:nvPr/>
        </p:nvSpPr>
        <p:spPr>
          <a:xfrm>
            <a:off x="6991200" y="4141800"/>
            <a:ext cx="8193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CP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ZoneTexte 103"/>
          <p:cNvSpPr/>
          <p:nvPr/>
        </p:nvSpPr>
        <p:spPr>
          <a:xfrm>
            <a:off x="6991200" y="4522680"/>
            <a:ext cx="8193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CP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lèche vers le bas 66"/>
          <p:cNvSpPr/>
          <p:nvPr/>
        </p:nvSpPr>
        <p:spPr>
          <a:xfrm>
            <a:off x="7191360" y="3701880"/>
            <a:ext cx="176400" cy="414360"/>
          </a:xfrm>
          <a:prstGeom prst="downArrow">
            <a:avLst>
              <a:gd name="adj1" fmla="val 50000"/>
              <a:gd name="adj2" fmla="val 49948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lèche vers le bas 39"/>
          <p:cNvSpPr/>
          <p:nvPr/>
        </p:nvSpPr>
        <p:spPr>
          <a:xfrm>
            <a:off x="7191360" y="4862520"/>
            <a:ext cx="380880" cy="243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lèche vers le bas 111"/>
          <p:cNvSpPr/>
          <p:nvPr/>
        </p:nvSpPr>
        <p:spPr>
          <a:xfrm>
            <a:off x="7637400" y="5954760"/>
            <a:ext cx="381240" cy="295200"/>
          </a:xfrm>
          <a:prstGeom prst="downArrow">
            <a:avLst>
              <a:gd name="adj1" fmla="val 50000"/>
              <a:gd name="adj2" fmla="val 60755"/>
            </a:avLst>
          </a:prstGeom>
          <a:solidFill>
            <a:srgbClr val="bfe56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lèche vers le bas 111"/>
          <p:cNvSpPr/>
          <p:nvPr/>
        </p:nvSpPr>
        <p:spPr>
          <a:xfrm>
            <a:off x="8480520" y="5965920"/>
            <a:ext cx="223920" cy="596880"/>
          </a:xfrm>
          <a:prstGeom prst="downArrow">
            <a:avLst>
              <a:gd name="adj1" fmla="val 61704"/>
              <a:gd name="adj2" fmla="val 75858"/>
            </a:avLst>
          </a:prstGeom>
          <a:solidFill>
            <a:srgbClr val="bfe56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 contexte en évol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206360" y="1393920"/>
            <a:ext cx="7718400" cy="45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 attentes de personnalisation des parcours de formation et des « outils » associé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compagnement personnalisé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ges ou PFMP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let pédagogique du projet d’établissement : utilisation de la dotation horaire complémentaire, passerelle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modularisation des référentiels au service de la diversification des modes de formation (scolaire, apprentissage, formation continue) et de la mixité des public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passerelles, une procédure à formali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7" name="Object 3" descr=""/>
          <p:cNvPicPr/>
          <p:nvPr/>
        </p:nvPicPr>
        <p:blipFill>
          <a:blip r:embed="rId1"/>
          <a:stretch/>
        </p:blipFill>
        <p:spPr>
          <a:xfrm>
            <a:off x="1511280" y="3413160"/>
            <a:ext cx="5295960" cy="3035160"/>
          </a:xfrm>
          <a:prstGeom prst="rect">
            <a:avLst/>
          </a:prstGeom>
          <a:ln w="0">
            <a:noFill/>
          </a:ln>
        </p:spPr>
      </p:pic>
      <p:grpSp>
        <p:nvGrpSpPr>
          <p:cNvPr id="638" name="Group 4"/>
          <p:cNvGrpSpPr/>
          <p:nvPr/>
        </p:nvGrpSpPr>
        <p:grpSpPr>
          <a:xfrm>
            <a:off x="3102120" y="1063800"/>
            <a:ext cx="5829120" cy="3085920"/>
            <a:chOff x="3102120" y="1063800"/>
            <a:chExt cx="5829120" cy="3085920"/>
          </a:xfrm>
        </p:grpSpPr>
        <p:sp>
          <p:nvSpPr>
            <p:cNvPr id="639" name="Oval 5"/>
            <p:cNvSpPr/>
            <p:nvPr/>
          </p:nvSpPr>
          <p:spPr>
            <a:xfrm>
              <a:off x="3102120" y="1225440"/>
              <a:ext cx="2667600" cy="169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6"/>
            <p:cNvSpPr/>
            <p:nvPr/>
          </p:nvSpPr>
          <p:spPr>
            <a:xfrm>
              <a:off x="6263640" y="1225440"/>
              <a:ext cx="2667600" cy="169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WordArt 7"/>
            <p:cNvSpPr txBox="1"/>
            <p:nvPr/>
          </p:nvSpPr>
          <p:spPr>
            <a:xfrm>
              <a:off x="3102120" y="2761560"/>
              <a:ext cx="2560320" cy="22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ff"/>
                  </a:solidFill>
                  <a:latin typeface="Arial Black"/>
                </a:rPr>
                <a:t>Formation d'origin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2" name="WordArt 8"/>
            <p:cNvSpPr txBox="1"/>
            <p:nvPr/>
          </p:nvSpPr>
          <p:spPr>
            <a:xfrm>
              <a:off x="6164640" y="2761560"/>
              <a:ext cx="2560680" cy="16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ff"/>
                  </a:solidFill>
                  <a:latin typeface="Arial Black"/>
                </a:rPr>
                <a:t>Formation d'arrivé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3" name="Text Box 9"/>
            <p:cNvSpPr/>
            <p:nvPr/>
          </p:nvSpPr>
          <p:spPr>
            <a:xfrm>
              <a:off x="3595680" y="1387080"/>
              <a:ext cx="595080" cy="84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10"/>
            <p:cNvSpPr/>
            <p:nvPr/>
          </p:nvSpPr>
          <p:spPr>
            <a:xfrm>
              <a:off x="4781520" y="1063800"/>
              <a:ext cx="887040" cy="89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11"/>
            <p:cNvSpPr/>
            <p:nvPr/>
          </p:nvSpPr>
          <p:spPr>
            <a:xfrm>
              <a:off x="7548120" y="3085200"/>
              <a:ext cx="1183680" cy="85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12"/>
            <p:cNvSpPr/>
            <p:nvPr/>
          </p:nvSpPr>
          <p:spPr>
            <a:xfrm>
              <a:off x="6559920" y="1144800"/>
              <a:ext cx="985680" cy="75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AutoShape 13"/>
            <p:cNvSpPr/>
            <p:nvPr/>
          </p:nvSpPr>
          <p:spPr>
            <a:xfrm>
              <a:off x="4287240" y="1629720"/>
              <a:ext cx="395640" cy="241920"/>
            </a:xfrm>
            <a:custGeom>
              <a:avLst/>
              <a:gdLst>
                <a:gd name="textAreaLeft" fmla="*/ 61560 w 395640"/>
                <a:gd name="textAreaRight" fmla="*/ 346320 w 395640"/>
                <a:gd name="textAreaTop" fmla="*/ 60480 h 241920"/>
                <a:gd name="textAreaBottom" fmla="*/ 181800 h 24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AutoShape 14"/>
            <p:cNvSpPr/>
            <p:nvPr/>
          </p:nvSpPr>
          <p:spPr>
            <a:xfrm rot="3900000">
              <a:off x="7337520" y="2230200"/>
              <a:ext cx="727560" cy="296280"/>
            </a:xfrm>
            <a:custGeom>
              <a:avLst/>
              <a:gdLst>
                <a:gd name="textAreaLeft" fmla="*/ 113400 w 727560"/>
                <a:gd name="textAreaRight" fmla="*/ 636480 w 727560"/>
                <a:gd name="textAreaTop" fmla="*/ 74160 h 296280"/>
                <a:gd name="textAreaBottom" fmla="*/ 222120 h 29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AutoShape 15"/>
            <p:cNvSpPr/>
            <p:nvPr/>
          </p:nvSpPr>
          <p:spPr>
            <a:xfrm>
              <a:off x="5868360" y="1387080"/>
              <a:ext cx="394920" cy="242640"/>
            </a:xfrm>
            <a:custGeom>
              <a:avLst/>
              <a:gdLst>
                <a:gd name="textAreaLeft" fmla="*/ 61560 w 394920"/>
                <a:gd name="textAreaRight" fmla="*/ 345600 w 394920"/>
                <a:gd name="textAreaTop" fmla="*/ 60840 h 242640"/>
                <a:gd name="textAreaBottom" fmla="*/ 181800 h 24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WordArt 16"/>
            <p:cNvSpPr txBox="1"/>
            <p:nvPr/>
          </p:nvSpPr>
          <p:spPr>
            <a:xfrm>
              <a:off x="3595680" y="2195640"/>
              <a:ext cx="527040" cy="17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Phase 1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651" name="WordArt 17"/>
            <p:cNvSpPr txBox="1"/>
            <p:nvPr/>
          </p:nvSpPr>
          <p:spPr>
            <a:xfrm>
              <a:off x="6658560" y="1872000"/>
              <a:ext cx="527040" cy="17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Phase 3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652" name="WordArt 18"/>
            <p:cNvSpPr txBox="1"/>
            <p:nvPr/>
          </p:nvSpPr>
          <p:spPr>
            <a:xfrm>
              <a:off x="4978800" y="1953360"/>
              <a:ext cx="527040" cy="17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Phase 2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653" name="WordArt 19"/>
            <p:cNvSpPr txBox="1"/>
            <p:nvPr/>
          </p:nvSpPr>
          <p:spPr>
            <a:xfrm>
              <a:off x="7646760" y="3974760"/>
              <a:ext cx="527040" cy="17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Phase 4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654" name="WordArt 20"/>
            <p:cNvSpPr txBox="1"/>
            <p:nvPr/>
          </p:nvSpPr>
          <p:spPr>
            <a:xfrm>
              <a:off x="3595680" y="2398680"/>
              <a:ext cx="691560" cy="32328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Repérage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+ info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655" name="WordArt 21"/>
            <p:cNvSpPr txBox="1"/>
            <p:nvPr/>
          </p:nvSpPr>
          <p:spPr>
            <a:xfrm>
              <a:off x="4978800" y="2156040"/>
              <a:ext cx="691560" cy="32328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Plan de 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préparation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656" name="WordArt 22"/>
            <p:cNvSpPr txBox="1"/>
            <p:nvPr/>
          </p:nvSpPr>
          <p:spPr>
            <a:xfrm>
              <a:off x="6658560" y="2075400"/>
              <a:ext cx="691560" cy="32328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Accueil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parrainage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pic>
          <p:nvPicPr>
            <p:cNvPr id="657" name="Picture 23" descr="confus"/>
            <p:cNvPicPr/>
            <p:nvPr/>
          </p:nvPicPr>
          <p:blipFill>
            <a:blip r:embed="rId2"/>
            <a:stretch/>
          </p:blipFill>
          <p:spPr>
            <a:xfrm>
              <a:off x="3694680" y="1441080"/>
              <a:ext cx="43632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24" descr="organis"/>
            <p:cNvPicPr/>
            <p:nvPr/>
          </p:nvPicPr>
          <p:blipFill>
            <a:blip r:embed="rId3"/>
            <a:stretch/>
          </p:blipFill>
          <p:spPr>
            <a:xfrm>
              <a:off x="4880160" y="1117440"/>
              <a:ext cx="724320" cy="82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Picture 25" descr="gagner"/>
            <p:cNvPicPr/>
            <p:nvPr/>
          </p:nvPicPr>
          <p:blipFill>
            <a:blip r:embed="rId4"/>
            <a:stretch/>
          </p:blipFill>
          <p:spPr>
            <a:xfrm>
              <a:off x="6658560" y="1171440"/>
              <a:ext cx="823680" cy="68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Picture 26" descr="heureux"/>
            <p:cNvPicPr/>
            <p:nvPr/>
          </p:nvPicPr>
          <p:blipFill>
            <a:blip r:embed="rId5"/>
            <a:stretch/>
          </p:blipFill>
          <p:spPr>
            <a:xfrm>
              <a:off x="7646760" y="3166200"/>
              <a:ext cx="1020960" cy="780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s passerel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218960" y="990360"/>
            <a:ext cx="7678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éparer la poursuite d’études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ès la terminale professionnelle en particulier vers les sections de technicien supérie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llaborer entre EPLE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lycées professionnels et lycées généraux et technologiques)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changes d’élèves, banalisation d’heures de formation, création de parcours d’adaptation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changes d’heures d’enseignement (enseignement général et technique)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laboration d’un livret de compétences (portfolio informatique s’étalant entre terminale bac pro et première année de T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ise en compte d’un véritable positionnement en TS1 entraînant un parcours de formation personnalis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 Box 5"/>
          <p:cNvSpPr/>
          <p:nvPr/>
        </p:nvSpPr>
        <p:spPr>
          <a:xfrm>
            <a:off x="1263600" y="5308560"/>
            <a:ext cx="2881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lève issu de bac p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6"/>
          <p:cNvSpPr/>
          <p:nvPr/>
        </p:nvSpPr>
        <p:spPr>
          <a:xfrm>
            <a:off x="1263600" y="6318360"/>
            <a:ext cx="295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lève issu d’un bac tech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7"/>
          <p:cNvSpPr/>
          <p:nvPr/>
        </p:nvSpPr>
        <p:spPr>
          <a:xfrm>
            <a:off x="4216320" y="6534000"/>
            <a:ext cx="460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8"/>
          <p:cNvSpPr/>
          <p:nvPr/>
        </p:nvSpPr>
        <p:spPr>
          <a:xfrm>
            <a:off x="6953400" y="6100920"/>
            <a:ext cx="139212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r-FR" sz="1800" spc="-1" strike="noStrike" baseline="30000">
                <a:solidFill>
                  <a:srgbClr val="000000"/>
                </a:solidFill>
                <a:latin typeface="Calibri"/>
              </a:rPr>
              <a:t>er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10"/>
          <p:cNvSpPr/>
          <p:nvPr/>
        </p:nvSpPr>
        <p:spPr>
          <a:xfrm>
            <a:off x="6943680" y="6245280"/>
            <a:ext cx="1403280" cy="274680"/>
          </a:xfrm>
          <a:custGeom>
            <a:avLst/>
            <a:gdLst>
              <a:gd name="textAreaLeft" fmla="*/ 0 w 1403280"/>
              <a:gd name="textAreaRight" fmla="*/ 1403280 w 14032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891" h="173">
                <a:moveTo>
                  <a:pt x="0" y="0"/>
                </a:moveTo>
                <a:lnTo>
                  <a:pt x="279" y="51"/>
                </a:lnTo>
                <a:lnTo>
                  <a:pt x="648" y="95"/>
                </a:lnTo>
                <a:lnTo>
                  <a:pt x="790" y="119"/>
                </a:lnTo>
                <a:lnTo>
                  <a:pt x="885" y="130"/>
                </a:lnTo>
                <a:lnTo>
                  <a:pt x="891" y="172"/>
                </a:lnTo>
                <a:lnTo>
                  <a:pt x="7" y="173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9"/>
          <p:cNvSpPr/>
          <p:nvPr/>
        </p:nvSpPr>
        <p:spPr>
          <a:xfrm>
            <a:off x="4143240" y="4978440"/>
            <a:ext cx="4176720" cy="14828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1482840"/>
              <a:gd name="textAreaBottom" fmla="*/ 1483200 h 1482840"/>
            </a:gdLst>
            <a:ahLst/>
            <a:rect l="textAreaLeft" t="textAreaTop" r="textAreaRight" b="textAreaBottom"/>
            <a:pathLst>
              <a:path w="2635" h="1013">
                <a:moveTo>
                  <a:pt x="0" y="378"/>
                </a:moveTo>
                <a:cubicBezTo>
                  <a:pt x="192" y="327"/>
                  <a:pt x="908" y="0"/>
                  <a:pt x="1151" y="69"/>
                </a:cubicBezTo>
                <a:cubicBezTo>
                  <a:pt x="1394" y="138"/>
                  <a:pt x="1213" y="636"/>
                  <a:pt x="1460" y="793"/>
                </a:cubicBezTo>
                <a:cubicBezTo>
                  <a:pt x="1707" y="950"/>
                  <a:pt x="2390" y="967"/>
                  <a:pt x="2635" y="1013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1"/>
          <p:cNvSpPr/>
          <p:nvPr/>
        </p:nvSpPr>
        <p:spPr>
          <a:xfrm flipV="1">
            <a:off x="7240680" y="5597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12"/>
          <p:cNvSpPr/>
          <p:nvPr/>
        </p:nvSpPr>
        <p:spPr>
          <a:xfrm>
            <a:off x="7240680" y="55864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3"/>
          <p:cNvSpPr/>
          <p:nvPr/>
        </p:nvSpPr>
        <p:spPr>
          <a:xfrm>
            <a:off x="7529400" y="5238720"/>
            <a:ext cx="1470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pports de connaissances, méthodologi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322280" y="121932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c0504d"/>
                </a:solidFill>
                <a:latin typeface="Arial Black"/>
              </a:rPr>
              <a:t>Eléments de Dé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1332000" y="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a Modular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4"/>
          <p:cNvSpPr/>
          <p:nvPr/>
        </p:nvSpPr>
        <p:spPr>
          <a:xfrm>
            <a:off x="1390680" y="2308320"/>
            <a:ext cx="7378560" cy="38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modularisation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représente la description en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Unités de Formation (UF)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et en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modul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de l’ensemble des activités professionnelles et transversales dédiées à un métier. Elle permet la construction d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arcours de formation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constitués d’UF et de modu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e UF est définie à partir d’un ensemble de compétences relatives à une ou plusieurs activités professionnelles de référence. Chaqu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UF doit viser un ensemble significatif de compétences professionnellement cohéren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8" descr="fluidité"/>
          <p:cNvPicPr/>
          <p:nvPr/>
        </p:nvPicPr>
        <p:blipFill>
          <a:blip r:embed="rId1"/>
          <a:stretch/>
        </p:blipFill>
        <p:spPr>
          <a:xfrm>
            <a:off x="4849920" y="773280"/>
            <a:ext cx="4551120" cy="16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2"/>
          <p:cNvSpPr/>
          <p:nvPr/>
        </p:nvSpPr>
        <p:spPr>
          <a:xfrm>
            <a:off x="1332000" y="1062000"/>
            <a:ext cx="654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c0504d"/>
                </a:solidFill>
                <a:latin typeface="Arial Black"/>
              </a:rPr>
              <a:t>Le sens et les principes de la modularis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1332000" y="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a Modular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1511280" y="2352600"/>
            <a:ext cx="739476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modularisation sert à la création d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arcours de formation flexibl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et facilite la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formation tout au long de la vi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en permettant d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arcours personnalisé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modularisation doit faciliter la mise en place de parcours de formation adaptés à la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iversité de situation des entrants et aux poursuites d’études envisagé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2"/>
          <p:cNvSpPr/>
          <p:nvPr/>
        </p:nvSpPr>
        <p:spPr>
          <a:xfrm>
            <a:off x="1332000" y="1062000"/>
            <a:ext cx="654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c0504d"/>
                </a:solidFill>
                <a:latin typeface="Arial Black"/>
              </a:rPr>
              <a:t>Le sens et les principes de la modularis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1332000" y="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a Modular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1474920" y="2279520"/>
            <a:ext cx="732312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unité de formations générales comportent deux types de mod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d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modules autonom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 dédiés à la formation générale de l’étudiant ou facilitateurs pour la poursuite d’étu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d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modules liés aux enseignements technologiques et professionnel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 qui doivent être placés en cohérence dans le parcours de 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676160" y="36000"/>
            <a:ext cx="746748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a Modularis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Rectangle 6"/>
          <p:cNvSpPr/>
          <p:nvPr/>
        </p:nvSpPr>
        <p:spPr>
          <a:xfrm>
            <a:off x="1370160" y="1562040"/>
            <a:ext cx="7534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référentiels d’un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même champ professionnel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comportent d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UF et des modules communs éventuellement avec des niveaux de performance attendue variables et des UF spécifiqu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 Il est à noter que ce principe peut contribuer à maintenir des formations à faible effectif par regroupement d’étudiants au moins pendant les mod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ériodes de Formation en Entrepris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doivent être intégrées à certaines U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haque référentiel doit comporter une UF permettant de valider d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ompétences professionnelles de synthès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09:18:30Z</dcterms:created>
  <dc:creator>Michel RAGE</dc:creator>
  <dc:description/>
  <dc:language>en-US</dc:language>
  <cp:lastModifiedBy>Pierre</cp:lastModifiedBy>
  <dcterms:modified xsi:type="dcterms:W3CDTF">2011-11-08T11:53:47Z</dcterms:modified>
  <cp:revision>71</cp:revision>
  <dc:subject/>
  <dc:title>L’adaptation des parcours de formation</dc:title>
</cp:coreProperties>
</file>