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dt" idx="3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ftr" idx="4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 type="sldNum" idx="4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4905CC-1981-4F4A-934F-F1267696615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A34B4F-34FB-4CAD-A8E0-BFBDE2DB049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D3538A-1551-4D00-A619-701C3BBA1F0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452771-C1FE-4094-BDB0-B9BC0BC0E37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ajouter les CP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6C529C-B044-42CC-BED2-5BFA0981E4E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A6301E-9037-4AD1-8D01-9B7051869A2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0C42EC-9898-423E-A0F4-16F7ED11730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9288B3-B526-4DDF-AFB4-1B49750B99D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2D27FA-77AC-4F45-BBD7-940A9F8503B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AF188-F5B9-4CDC-90ED-E592F81B7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B0786-C881-405F-9081-79F56B29487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68EC73-FE3D-45A1-B02B-4B468C80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16F870-4C54-45F8-8A83-757CC314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F7E4A0-21B9-4081-B437-9FC357E8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9AF306-A89C-4E86-9C94-4727003E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D4BC04-46AC-4D50-9854-7574BF94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079520-3BAC-4943-BD55-0E5895B1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38054F-995D-4B91-8555-7EC8C97D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7D3471-34ED-4166-96FC-8C1033BFC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324E9B-F2EE-4390-A216-D96BEC496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1401B2-F2AC-43BF-A2F9-F2D96BCF8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9D7B9-0458-4487-8524-9216C183802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8050F3-3F7C-4E5A-A593-D3330D68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D59BC0-D9BA-46C1-800B-AFDFF361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A3918D-DE06-4698-BF15-FE498299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135671-EC7D-43EB-B368-FF3B3A52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2A7151-CC3B-4A55-9DD4-DB1DBBB1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653560-BE36-4827-849E-5330B382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67AABB-2E36-4C0B-8A11-212EF078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11585E-A320-4F0F-A202-A37032CA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A87D16-DF5D-4DC3-B5ED-EA8BF85F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251993-04BA-497D-82F3-9979FC7A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829FD-55C2-478C-B57E-62709C9024F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FD8881-447C-4B0E-89D7-DAEAB5C05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DB83AC-A3CB-4C71-9F88-C0530C74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F13A0F-09ED-4A8B-9573-B9EDA067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45E3E4-8DF5-4A17-B3B0-C75E4F6D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7C2B39-D2E2-4D53-AA39-20824E65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FB025D-0C18-4ACE-AE64-718066B0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000BDA-D4EC-40EF-BA88-670FE4C4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7B36C2-B42E-4B77-8397-4AF889B6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3ECF55-ED8A-48F8-84FD-D22B2034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097A6C0-0F3D-4891-A931-A7F1EF0A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D3C5D-4BAA-4DE7-8217-09FD1D05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97F293-70C1-43C0-959E-20C11619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508F58-E30E-4A03-A4B2-8DD701ADA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727B52-D22F-439B-9036-5C82F74D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7465102-4901-45EA-B450-1F0C3353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F384D2D-8104-45BD-8140-432A9772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9B8C60-7608-4117-BA9C-189B917E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7B56EE-3A96-4665-9AA4-50D5B681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F4EFC2-358B-4A1F-B24F-C8AC0CC5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B86ED3-19C3-4447-AA60-7075EDF1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DC9D79A-610B-409F-96B2-68F26903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6CB5A-7960-4589-A7CB-9BDC6DB7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D309CF7-5235-41F6-83E4-CD69609C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9B94DF-E728-4A78-A69B-6B395232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A75A41-AD0F-4676-97A4-57728B16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FCC845-9A04-4643-B768-D72C39682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E114C1-E656-4D44-8585-D2BB9B3EC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1B80B8-58B4-43B0-B4B1-11D25BCFC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754091-32A4-4179-A8E4-EDE37855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2DD91B-43A9-483D-9BB7-45682EFA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46A120-0358-4CFA-B0C1-DAC3B1B2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665AC4-C4E3-49D3-84ED-4D615552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114E8-FF33-472A-B0D2-909BAC2F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4C836F-32C7-4970-AC79-02B76E4D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1464D8-B239-4172-8661-0C4D9867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226061-0878-4190-AFDD-36EEC6A2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9D5DC1-5F6A-4356-9D04-F47B6945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A59251-AF8B-43DC-93D1-BADF353E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81AF12-6DE0-4DB2-9A5E-7F2BACC4D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7DBBC6-F768-482D-9BBF-71CF4C32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45106-9F12-4603-AE53-341B1B66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FA769-C669-4981-BCBB-D8BDF745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B39A5-734B-46A1-9502-7BE979D2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E7E7E-A0E0-4B82-8C87-14C4F45B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CCE98-5082-4D13-AF3C-F4AD7ECAA1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3A533-17B1-45C8-82B0-B62B1E9E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89A6A-083C-4AF5-80C1-B327E129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BF613-0001-457C-BCE7-61908893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B1A67-52BE-4947-B0BB-C3D9618F9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E71DC-26F5-4843-B2F6-3ABA9267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797E80-5601-46AD-A178-61DE68DB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27B7CC-4247-4D42-8395-9F1342E2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A526CC-AFAE-4FDD-A121-CFE88EB8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A1F0B5-AC06-4146-A2BC-5A3A75B7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F2D55E-CF02-4EEF-826A-C11D5A71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D6FA8-5753-4450-BF9C-7F58AEA2869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4D32B8-15A1-4D96-B7FF-1EB7CAF5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07E994-5E4F-4F86-AF5F-1ED97F9A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863DA5-7254-4712-9BC1-A78CF201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826D49-D7C8-46E1-AAA3-220349D5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FBF28D-96B9-4560-B28E-2AFE0BD1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3A2704-3568-4AE7-8712-6FB197BD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AF2116-D139-4D8F-854D-C99A4C29F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8CD52E-A052-4FF2-8E4F-697EFE3C9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F55632-C99C-4F88-98E1-E97D974D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1A1087-A9F9-45CA-9A97-54A6AB89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5B638-F78C-49CA-809F-D3AAE9434F2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2F5699-836E-4B1B-B495-56A49A1A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D919C1-1981-431F-9304-93F13F3F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467DB7-D8EE-4ADC-8642-428853A6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289CBE-1953-4A39-9A0E-C6A00F3E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350435-4FBB-4D2A-A6FA-23D1EAC0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8FB707-C585-4B8C-BB1E-C0332FD8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1FC47A-C18B-43E5-8190-96E0A296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F6F5C6-005E-4579-8AA1-D35BDA04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04FC8D-546F-4611-A12B-809701A2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D9FAFD-5824-4D03-9586-71D74EE0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C0D4E-2590-4DC2-87A0-51F687EEEFF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DA7EC0-78A4-413C-AE31-F275BC1E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D5AE6D-BC52-466B-8364-6AE2DC3B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937A8C-6C7D-47B3-8C6A-10943532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D137E3-B48F-4A0E-987A-5C5F2682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E429F1-73B9-4378-B567-1E32C53C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BDE9D6-E54A-4F14-8954-E161D648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5F035D-881B-4000-B74F-45A7B512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DFBD35-2749-4B8B-9819-71A7C42F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ED3874-7D9C-4869-95B8-8E692207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D1D6E0-BE54-4EF9-A4EE-462FE9CC2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7FF4B-E1B8-4BCA-83A4-B42969F5532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45662A-0BD9-4E51-99B2-825A485F5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DA373F-706D-4F0B-804C-51D8EB7D0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033AC8-7609-4439-9057-F14FDB32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D9545F-3904-4BD4-92AE-0E040682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4F8CD0-4993-48A6-B1AA-26A334D5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975C49-79A9-4EAF-B4BC-60AF921D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A53456-5092-400E-9B88-5A06E616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A57AE5-018E-4B5C-83DF-A823FC6C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F92BBA-EB93-4A9A-8442-B3C3DCCE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C80464-17EC-425A-9ED0-F1EF6011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4FECE-C26C-40D5-939D-A977A468AD7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122799-649C-4AC8-AB84-51693E1F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FE84DF-AD1A-4859-A8C4-1D20CD5EE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BD4791-0570-4123-B4E1-A2DD27AF8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590FE3-BBF5-4CE0-ADD0-153FC275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91B283-F0C7-491B-A9FB-0D9C5CA7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3B86B7-06D6-4862-9045-B0CEA63E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84B0C5-30BE-4749-9AAA-11111F33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C0C7C8-2598-4629-B65C-E725AA6F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873FF3-2365-44E3-8E21-1DA9BDEC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105524-2956-402F-9EFD-2B0B1C50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D6AF5-2147-4866-AECA-81EB8D86C51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A4215D-09C4-43B0-9F40-A79AAA3F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3C9081-B809-4885-967D-41205364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3B6377-DDA1-4423-BAD9-DA1CAF9E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38B015-F54B-4F76-8C95-AA6AACC8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F9796A-9057-4B57-BA47-3C3E01FB5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E48B62-4946-4C94-B5BC-DBC2F940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ECE012-19D5-4602-AE11-2A25CBBA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54A37A-3F69-4FB6-AA5E-BF797B97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037DB7-F345-4200-A85F-4ABF6692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A834F6-3EB6-4605-9D00-4EB3E988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60DFB-A4D1-42EA-AFEC-787306797FE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252080" y="0"/>
            <a:ext cx="7891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5D7B24-055B-4ECD-B622-D80A7C4C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49385C-25A1-4E1A-B760-339527EF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FD6717-924D-4E42-9906-348FD7CF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E6086D-2D19-4FF7-8DD3-0006EF96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220400" y="3914640"/>
            <a:ext cx="79232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71810B-B9DE-4C91-A254-84A88BFF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80480" y="115416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22040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80480" y="3914640"/>
            <a:ext cx="3866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62509E-4E05-44A6-B9BC-42E5C5F1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9916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78280" y="115416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22040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89916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78280" y="3914640"/>
            <a:ext cx="25509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0C7F88-E662-4C09-A2C5-7502EDE50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FC9BF3-2D5C-4EF8-815B-4090A9D49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224EDD-DEDB-48F2-89E3-088E1571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81BE92-1AD9-47C3-A43E-673D6032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R – IEN 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8809D-0F52-4393-A48E-6FBA6E7494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6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406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8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9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13C16B-721B-47ED-817A-4F0742871D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451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1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2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842DDF-79DE-45CB-A10A-A9A666835F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496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4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5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BFC1B5-F341-4B49-B892-17DD82CCBB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541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36"/>
          </p:nvPr>
        </p:nvSpPr>
        <p:spPr>
          <a:xfrm>
            <a:off x="394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9A1804-8680-400B-8FF1-DD2A06633F23}" type="datetime">
              <a:rPr b="0" lang="fr-FR" sz="24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37"/>
          </p:nvPr>
        </p:nvSpPr>
        <p:spPr>
          <a:xfrm>
            <a:off x="2555640" y="6381360"/>
            <a:ext cx="4608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C1E9B0-489F-4DBC-80A3-F9C844DF44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46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5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9F8888-7D2F-406F-92FB-6AC429EFC4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91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7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8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F3AD05-FB99-4400-AA55-CB2ABEA9BC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136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0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1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F8FF66-A726-47B4-BF29-D186EE05E3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181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3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4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D742F8-035B-4845-93F3-8CF06495E4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226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6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7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7A4AC1-6705-4190-8402-5CD1FAB4C9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271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9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0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699633-B7E4-400C-AEC6-092A415B6E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316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2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3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075084-B73E-4EFE-8716-827E946B1A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Image 7" descr="parcours.jpg"/>
          <p:cNvPicPr/>
          <p:nvPr/>
        </p:nvPicPr>
        <p:blipFill>
          <a:blip r:embed="rId2"/>
          <a:stretch/>
        </p:blipFill>
        <p:spPr>
          <a:xfrm>
            <a:off x="0" y="23760"/>
            <a:ext cx="1220760" cy="68518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6" descr=""/>
          <p:cNvPicPr/>
          <p:nvPr/>
        </p:nvPicPr>
        <p:blipFill>
          <a:blip r:embed="rId3"/>
          <a:stretch/>
        </p:blipFill>
        <p:spPr>
          <a:xfrm>
            <a:off x="-23760" y="11160"/>
            <a:ext cx="1252440" cy="1143000"/>
          </a:xfrm>
          <a:prstGeom prst="rect">
            <a:avLst/>
          </a:prstGeom>
          <a:ln w="0">
            <a:noFill/>
          </a:ln>
        </p:spPr>
      </p:pic>
      <p:sp>
        <p:nvSpPr>
          <p:cNvPr id="361" name="Connecteur droit 9"/>
          <p:cNvSpPr/>
          <p:nvPr/>
        </p:nvSpPr>
        <p:spPr>
          <a:xfrm>
            <a:off x="1228680" y="914400"/>
            <a:ext cx="7908840" cy="1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ZoneTexte 8"/>
          <p:cNvSpPr/>
          <p:nvPr/>
        </p:nvSpPr>
        <p:spPr>
          <a:xfrm>
            <a:off x="0" y="643896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1220400" y="1154160"/>
            <a:ext cx="79232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5"/>
          </p:nvPr>
        </p:nvSpPr>
        <p:spPr>
          <a:xfrm>
            <a:off x="3124080" y="6486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6"/>
          </p:nvPr>
        </p:nvSpPr>
        <p:spPr>
          <a:xfrm>
            <a:off x="7004160" y="6486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A7F06D-5AB6-4CBF-8087-BA51A820BE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88720" y="179676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’adaptation des parcours de 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1371240" y="3855600"/>
            <a:ext cx="759924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outils de l’adaptation des parcours : passerelles, modularisation, accompagnement personnalisé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676160" y="36000"/>
            <a:ext cx="746748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a Modularis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6"/>
          <p:cNvSpPr/>
          <p:nvPr/>
        </p:nvSpPr>
        <p:spPr>
          <a:xfrm>
            <a:off x="1346040" y="1133640"/>
            <a:ext cx="7534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référentiel de certification est découpé en unités de formation et en modules validant d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ompétences terminales.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unités de formation sont regroupées en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unités de certification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règlement d’examen). Seules ces unités sont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ertifiant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unités de formation et les modules constitutifs seront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validé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au fur et à mesure des acquisitions, éventuellement en C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haque unité de formation et chaque module doit permettre d’acquérir un nombre d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rédits ECTS défini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 La proposition d’attribution des ces crédits relève de l’établissement scolaire à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l’exception des crédits relevant du jury du BT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Grouper 31"/>
          <p:cNvGrpSpPr/>
          <p:nvPr/>
        </p:nvGrpSpPr>
        <p:grpSpPr>
          <a:xfrm>
            <a:off x="5591160" y="2608200"/>
            <a:ext cx="1574640" cy="3538440"/>
            <a:chOff x="5591160" y="2608200"/>
            <a:chExt cx="1574640" cy="3538440"/>
          </a:xfrm>
        </p:grpSpPr>
        <p:sp>
          <p:nvSpPr>
            <p:cNvPr id="687" name="Rectangle 26"/>
            <p:cNvSpPr/>
            <p:nvPr/>
          </p:nvSpPr>
          <p:spPr>
            <a:xfrm>
              <a:off x="5591160" y="2608200"/>
              <a:ext cx="352440" cy="3538440"/>
            </a:xfrm>
            <a:prstGeom prst="rect">
              <a:avLst/>
            </a:prstGeom>
            <a:gradFill rotWithShape="0">
              <a:gsLst>
                <a:gs pos="0">
                  <a:srgbClr val="3f80cd"/>
                </a:gs>
                <a:gs pos="100000">
                  <a:srgbClr val="9bc1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ZoneTexte 27"/>
            <p:cNvSpPr/>
            <p:nvPr/>
          </p:nvSpPr>
          <p:spPr>
            <a:xfrm>
              <a:off x="5960160" y="5777280"/>
              <a:ext cx="12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FMP N°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Text Box 7"/>
          <p:cNvSpPr/>
          <p:nvPr/>
        </p:nvSpPr>
        <p:spPr>
          <a:xfrm>
            <a:off x="1544760" y="12715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chéma d’enseignement respectant une chronologie propre à chaque discipline élaborée à partir du référentiel du diplô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9"/>
          <p:cNvSpPr/>
          <p:nvPr/>
        </p:nvSpPr>
        <p:spPr>
          <a:xfrm>
            <a:off x="1701720" y="2679840"/>
            <a:ext cx="1270080" cy="380880"/>
          </a:xfrm>
          <a:prstGeom prst="rect">
            <a:avLst/>
          </a:prstGeom>
          <a:solidFill>
            <a:srgbClr val="e85d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écani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25"/>
          <p:cNvSpPr/>
          <p:nvPr/>
        </p:nvSpPr>
        <p:spPr>
          <a:xfrm>
            <a:off x="1555920" y="2463840"/>
            <a:ext cx="745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26"/>
          <p:cNvSpPr/>
          <p:nvPr/>
        </p:nvSpPr>
        <p:spPr>
          <a:xfrm>
            <a:off x="386244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28"/>
          <p:cNvSpPr/>
          <p:nvPr/>
        </p:nvSpPr>
        <p:spPr>
          <a:xfrm>
            <a:off x="5049720" y="2390760"/>
            <a:ext cx="0" cy="338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29"/>
          <p:cNvSpPr/>
          <p:nvPr/>
        </p:nvSpPr>
        <p:spPr>
          <a:xfrm>
            <a:off x="559116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30"/>
          <p:cNvSpPr/>
          <p:nvPr/>
        </p:nvSpPr>
        <p:spPr>
          <a:xfrm>
            <a:off x="616752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31"/>
          <p:cNvSpPr/>
          <p:nvPr/>
        </p:nvSpPr>
        <p:spPr>
          <a:xfrm>
            <a:off x="674208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32"/>
          <p:cNvSpPr/>
          <p:nvPr/>
        </p:nvSpPr>
        <p:spPr>
          <a:xfrm>
            <a:off x="731844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33"/>
          <p:cNvSpPr/>
          <p:nvPr/>
        </p:nvSpPr>
        <p:spPr>
          <a:xfrm>
            <a:off x="782316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34"/>
          <p:cNvSpPr/>
          <p:nvPr/>
        </p:nvSpPr>
        <p:spPr>
          <a:xfrm>
            <a:off x="839952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36"/>
          <p:cNvSpPr/>
          <p:nvPr/>
        </p:nvSpPr>
        <p:spPr>
          <a:xfrm>
            <a:off x="4438800" y="239220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9"/>
          <p:cNvSpPr/>
          <p:nvPr/>
        </p:nvSpPr>
        <p:spPr>
          <a:xfrm>
            <a:off x="3459240" y="2079720"/>
            <a:ext cx="5273640" cy="380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nchaînement disciplinaire en centres d’intérê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Diagramme 45" descr=""/>
          <p:cNvPicPr/>
          <p:nvPr/>
        </p:nvPicPr>
        <p:blipFill>
          <a:blip r:embed="rId1"/>
          <a:stretch/>
        </p:blipFill>
        <p:spPr>
          <a:xfrm>
            <a:off x="3309840" y="2554200"/>
            <a:ext cx="5608800" cy="639720"/>
          </a:xfrm>
          <a:prstGeom prst="rect">
            <a:avLst/>
          </a:prstGeom>
          <a:ln w="0">
            <a:noFill/>
          </a:ln>
        </p:spPr>
      </p:pic>
      <p:sp>
        <p:nvSpPr>
          <p:cNvPr id="703" name="Text Box 13"/>
          <p:cNvSpPr/>
          <p:nvPr/>
        </p:nvSpPr>
        <p:spPr>
          <a:xfrm rot="16200000">
            <a:off x="46440" y="3936240"/>
            <a:ext cx="2759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Connaissances du référent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33"/>
          <p:cNvGrpSpPr/>
          <p:nvPr/>
        </p:nvGrpSpPr>
        <p:grpSpPr>
          <a:xfrm>
            <a:off x="1679400" y="3119400"/>
            <a:ext cx="7648560" cy="2949120"/>
            <a:chOff x="1679400" y="3119400"/>
            <a:chExt cx="7648560" cy="2949120"/>
          </a:xfrm>
        </p:grpSpPr>
        <p:sp>
          <p:nvSpPr>
            <p:cNvPr id="705" name="Text Box 16"/>
            <p:cNvSpPr/>
            <p:nvPr/>
          </p:nvSpPr>
          <p:spPr>
            <a:xfrm>
              <a:off x="1679400" y="3240000"/>
              <a:ext cx="1366920" cy="382320"/>
            </a:xfrm>
            <a:prstGeom prst="rect">
              <a:avLst/>
            </a:prstGeom>
            <a:solidFill>
              <a:srgbClr val="b4df7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Automatiq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22"/>
            <p:cNvSpPr/>
            <p:nvPr/>
          </p:nvSpPr>
          <p:spPr>
            <a:xfrm>
              <a:off x="1716120" y="3851280"/>
              <a:ext cx="1366560" cy="381240"/>
            </a:xfrm>
            <a:prstGeom prst="rect">
              <a:avLst/>
            </a:prstGeom>
            <a:solidFill>
              <a:srgbClr val="bb9c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Mainte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23"/>
            <p:cNvSpPr/>
            <p:nvPr/>
          </p:nvSpPr>
          <p:spPr>
            <a:xfrm>
              <a:off x="1716120" y="4496400"/>
              <a:ext cx="1366560" cy="380880"/>
            </a:xfrm>
            <a:prstGeom prst="rect">
              <a:avLst/>
            </a:prstGeom>
            <a:solidFill>
              <a:srgbClr val="6dda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Math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42"/>
            <p:cNvSpPr/>
            <p:nvPr/>
          </p:nvSpPr>
          <p:spPr>
            <a:xfrm>
              <a:off x="1716120" y="5090400"/>
              <a:ext cx="1366560" cy="380880"/>
            </a:xfrm>
            <a:prstGeom prst="rect">
              <a:avLst/>
            </a:prstGeom>
            <a:solidFill>
              <a:srgbClr val="ffb46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Physiq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9" name="Diagramme 46" descr=""/>
            <p:cNvPicPr/>
            <p:nvPr/>
          </p:nvPicPr>
          <p:blipFill>
            <a:blip r:embed="rId2"/>
            <a:stretch/>
          </p:blipFill>
          <p:spPr>
            <a:xfrm>
              <a:off x="3294000" y="3119400"/>
              <a:ext cx="602316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Diagramme 47" descr=""/>
            <p:cNvPicPr/>
            <p:nvPr/>
          </p:nvPicPr>
          <p:blipFill>
            <a:blip r:embed="rId3"/>
            <a:stretch/>
          </p:blipFill>
          <p:spPr>
            <a:xfrm>
              <a:off x="3311280" y="3716640"/>
              <a:ext cx="60058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" name="Diagramme 48" descr=""/>
            <p:cNvPicPr/>
            <p:nvPr/>
          </p:nvPicPr>
          <p:blipFill>
            <a:blip r:embed="rId4"/>
            <a:stretch/>
          </p:blipFill>
          <p:spPr>
            <a:xfrm>
              <a:off x="3294000" y="4369320"/>
              <a:ext cx="6023160" cy="6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Diagramme 25" descr=""/>
            <p:cNvPicPr/>
            <p:nvPr/>
          </p:nvPicPr>
          <p:blipFill>
            <a:blip r:embed="rId5"/>
            <a:stretch/>
          </p:blipFill>
          <p:spPr>
            <a:xfrm>
              <a:off x="3305160" y="4979160"/>
              <a:ext cx="6022800" cy="64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Text Box 42"/>
            <p:cNvSpPr/>
            <p:nvPr/>
          </p:nvSpPr>
          <p:spPr>
            <a:xfrm>
              <a:off x="1716120" y="5687640"/>
              <a:ext cx="136656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Autre 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gression pédagogique disciplinai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103"/>
          <p:cNvSpPr/>
          <p:nvPr/>
        </p:nvSpPr>
        <p:spPr>
          <a:xfrm>
            <a:off x="4330800" y="4605480"/>
            <a:ext cx="2415960" cy="979200"/>
          </a:xfrm>
          <a:prstGeom prst="rect">
            <a:avLst/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dule N°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Grouper 69"/>
          <p:cNvGrpSpPr/>
          <p:nvPr/>
        </p:nvGrpSpPr>
        <p:grpSpPr>
          <a:xfrm>
            <a:off x="5076720" y="2682720"/>
            <a:ext cx="1204920" cy="3538800"/>
            <a:chOff x="5076720" y="2682720"/>
            <a:chExt cx="1204920" cy="3538800"/>
          </a:xfrm>
        </p:grpSpPr>
        <p:sp>
          <p:nvSpPr>
            <p:cNvPr id="717" name="Rectangle 70"/>
            <p:cNvSpPr/>
            <p:nvPr/>
          </p:nvSpPr>
          <p:spPr>
            <a:xfrm>
              <a:off x="5921280" y="2682720"/>
              <a:ext cx="352440" cy="35388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ZoneTexte 71"/>
            <p:cNvSpPr/>
            <p:nvPr/>
          </p:nvSpPr>
          <p:spPr>
            <a:xfrm>
              <a:off x="5076720" y="5852160"/>
              <a:ext cx="12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FMP N°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Text Box 9"/>
          <p:cNvSpPr/>
          <p:nvPr/>
        </p:nvSpPr>
        <p:spPr>
          <a:xfrm>
            <a:off x="1701720" y="2679840"/>
            <a:ext cx="1270080" cy="380880"/>
          </a:xfrm>
          <a:prstGeom prst="rect">
            <a:avLst/>
          </a:prstGeom>
          <a:solidFill>
            <a:srgbClr val="e85d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écani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3"/>
          <p:cNvSpPr/>
          <p:nvPr/>
        </p:nvSpPr>
        <p:spPr>
          <a:xfrm rot="16200000">
            <a:off x="44640" y="3936240"/>
            <a:ext cx="2759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Connaissances du référent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6"/>
          <p:cNvSpPr/>
          <p:nvPr/>
        </p:nvSpPr>
        <p:spPr>
          <a:xfrm>
            <a:off x="1701720" y="3321000"/>
            <a:ext cx="1403280" cy="380880"/>
          </a:xfrm>
          <a:prstGeom prst="rect">
            <a:avLst/>
          </a:prstGeom>
          <a:solidFill>
            <a:srgbClr val="b4df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utoma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2"/>
          <p:cNvSpPr/>
          <p:nvPr/>
        </p:nvSpPr>
        <p:spPr>
          <a:xfrm>
            <a:off x="1738440" y="3930480"/>
            <a:ext cx="1388880" cy="381240"/>
          </a:xfrm>
          <a:prstGeom prst="rect">
            <a:avLst/>
          </a:prstGeom>
          <a:solidFill>
            <a:srgbClr val="bb9c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23"/>
          <p:cNvSpPr/>
          <p:nvPr/>
        </p:nvSpPr>
        <p:spPr>
          <a:xfrm>
            <a:off x="1738440" y="4575240"/>
            <a:ext cx="1269720" cy="380880"/>
          </a:xfrm>
          <a:prstGeom prst="rect">
            <a:avLst/>
          </a:prstGeom>
          <a:solidFill>
            <a:srgbClr val="6dda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a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42"/>
          <p:cNvSpPr/>
          <p:nvPr/>
        </p:nvSpPr>
        <p:spPr>
          <a:xfrm>
            <a:off x="1738440" y="5168880"/>
            <a:ext cx="1269720" cy="380880"/>
          </a:xfrm>
          <a:prstGeom prst="rect">
            <a:avLst/>
          </a:prstGeom>
          <a:solidFill>
            <a:srgbClr val="ffb46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hys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42"/>
          <p:cNvSpPr/>
          <p:nvPr/>
        </p:nvSpPr>
        <p:spPr>
          <a:xfrm>
            <a:off x="1738440" y="5765760"/>
            <a:ext cx="12697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utre 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Grouper 35"/>
          <p:cNvGrpSpPr/>
          <p:nvPr/>
        </p:nvGrpSpPr>
        <p:grpSpPr>
          <a:xfrm>
            <a:off x="3457440" y="2692440"/>
            <a:ext cx="2448000" cy="2892240"/>
            <a:chOff x="3457440" y="2692440"/>
            <a:chExt cx="2448000" cy="2892240"/>
          </a:xfrm>
        </p:grpSpPr>
        <p:sp>
          <p:nvSpPr>
            <p:cNvPr id="727" name="Rectangle 100"/>
            <p:cNvSpPr/>
            <p:nvPr/>
          </p:nvSpPr>
          <p:spPr>
            <a:xfrm>
              <a:off x="3457440" y="2692440"/>
              <a:ext cx="2448000" cy="1652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Module N°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01"/>
            <p:cNvSpPr/>
            <p:nvPr/>
          </p:nvSpPr>
          <p:spPr>
            <a:xfrm>
              <a:off x="3517560" y="5170320"/>
              <a:ext cx="826920" cy="4143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02"/>
            <p:cNvSpPr/>
            <p:nvPr/>
          </p:nvSpPr>
          <p:spPr>
            <a:xfrm>
              <a:off x="3487320" y="4589280"/>
              <a:ext cx="825480" cy="4125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Grouper 36"/>
          <p:cNvGrpSpPr/>
          <p:nvPr/>
        </p:nvGrpSpPr>
        <p:grpSpPr>
          <a:xfrm>
            <a:off x="6281640" y="2692440"/>
            <a:ext cx="1684440" cy="3529080"/>
            <a:chOff x="6281640" y="2692440"/>
            <a:chExt cx="1684440" cy="3529080"/>
          </a:xfrm>
        </p:grpSpPr>
        <p:sp>
          <p:nvSpPr>
            <p:cNvPr id="731" name="Rectangle 28"/>
            <p:cNvSpPr/>
            <p:nvPr/>
          </p:nvSpPr>
          <p:spPr>
            <a:xfrm>
              <a:off x="6742080" y="4605480"/>
              <a:ext cx="1224000" cy="1616040"/>
            </a:xfrm>
            <a:prstGeom prst="rect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104"/>
            <p:cNvSpPr/>
            <p:nvPr/>
          </p:nvSpPr>
          <p:spPr>
            <a:xfrm>
              <a:off x="6281640" y="2692440"/>
              <a:ext cx="1684440" cy="1668600"/>
            </a:xfrm>
            <a:prstGeom prst="rect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Module N°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er 29"/>
          <p:cNvGrpSpPr/>
          <p:nvPr/>
        </p:nvGrpSpPr>
        <p:grpSpPr>
          <a:xfrm>
            <a:off x="1555920" y="2079720"/>
            <a:ext cx="7453080" cy="3695760"/>
            <a:chOff x="1555920" y="2079720"/>
            <a:chExt cx="7453080" cy="3695760"/>
          </a:xfrm>
        </p:grpSpPr>
        <p:sp>
          <p:nvSpPr>
            <p:cNvPr id="734" name="Line 25"/>
            <p:cNvSpPr/>
            <p:nvPr/>
          </p:nvSpPr>
          <p:spPr>
            <a:xfrm>
              <a:off x="1555920" y="2464200"/>
              <a:ext cx="74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26"/>
            <p:cNvSpPr/>
            <p:nvPr/>
          </p:nvSpPr>
          <p:spPr>
            <a:xfrm>
              <a:off x="386244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28"/>
            <p:cNvSpPr/>
            <p:nvPr/>
          </p:nvSpPr>
          <p:spPr>
            <a:xfrm>
              <a:off x="5049720" y="23911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29"/>
            <p:cNvSpPr/>
            <p:nvPr/>
          </p:nvSpPr>
          <p:spPr>
            <a:xfrm>
              <a:off x="559116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30"/>
            <p:cNvSpPr/>
            <p:nvPr/>
          </p:nvSpPr>
          <p:spPr>
            <a:xfrm>
              <a:off x="616752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31"/>
            <p:cNvSpPr/>
            <p:nvPr/>
          </p:nvSpPr>
          <p:spPr>
            <a:xfrm>
              <a:off x="674208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32"/>
            <p:cNvSpPr/>
            <p:nvPr/>
          </p:nvSpPr>
          <p:spPr>
            <a:xfrm>
              <a:off x="731844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33"/>
            <p:cNvSpPr/>
            <p:nvPr/>
          </p:nvSpPr>
          <p:spPr>
            <a:xfrm>
              <a:off x="782316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36"/>
            <p:cNvSpPr/>
            <p:nvPr/>
          </p:nvSpPr>
          <p:spPr>
            <a:xfrm>
              <a:off x="443880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Text Box 9"/>
            <p:cNvSpPr/>
            <p:nvPr/>
          </p:nvSpPr>
          <p:spPr>
            <a:xfrm>
              <a:off x="3459240" y="2079720"/>
              <a:ext cx="5273640" cy="38088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Enchaînement de modules de 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34"/>
            <p:cNvSpPr/>
            <p:nvPr/>
          </p:nvSpPr>
          <p:spPr>
            <a:xfrm>
              <a:off x="8399520" y="2392920"/>
              <a:ext cx="0" cy="338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Rectangle 30"/>
          <p:cNvSpPr/>
          <p:nvPr/>
        </p:nvSpPr>
        <p:spPr>
          <a:xfrm>
            <a:off x="7035840" y="3321000"/>
            <a:ext cx="1698480" cy="10400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er 31"/>
          <p:cNvGrpSpPr/>
          <p:nvPr/>
        </p:nvGrpSpPr>
        <p:grpSpPr>
          <a:xfrm>
            <a:off x="7985160" y="2679840"/>
            <a:ext cx="1351080" cy="3538440"/>
            <a:chOff x="7985160" y="2679840"/>
            <a:chExt cx="1351080" cy="3538440"/>
          </a:xfrm>
        </p:grpSpPr>
        <p:sp>
          <p:nvSpPr>
            <p:cNvPr id="747" name="Rectangle 33"/>
            <p:cNvSpPr/>
            <p:nvPr/>
          </p:nvSpPr>
          <p:spPr>
            <a:xfrm>
              <a:off x="7985160" y="2679840"/>
              <a:ext cx="352440" cy="35384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ZoneTexte 32"/>
            <p:cNvSpPr/>
            <p:nvPr/>
          </p:nvSpPr>
          <p:spPr>
            <a:xfrm>
              <a:off x="8131320" y="5848920"/>
              <a:ext cx="12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FMP N°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gression pédagogique modulai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AutoShape 22"/>
          <p:cNvSpPr/>
          <p:nvPr/>
        </p:nvSpPr>
        <p:spPr>
          <a:xfrm>
            <a:off x="484200" y="3543480"/>
            <a:ext cx="1127160" cy="714240"/>
          </a:xfrm>
          <a:prstGeom prst="rightArrow">
            <a:avLst>
              <a:gd name="adj1" fmla="val 50000"/>
              <a:gd name="adj2" fmla="val 39453"/>
            </a:avLst>
          </a:prstGeom>
          <a:solidFill>
            <a:srgbClr val="f5b9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Mise à nive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AutoShape 21"/>
          <p:cNvSpPr/>
          <p:nvPr/>
        </p:nvSpPr>
        <p:spPr>
          <a:xfrm>
            <a:off x="492120" y="1808280"/>
            <a:ext cx="1092240" cy="698400"/>
          </a:xfrm>
          <a:prstGeom prst="rightArrow">
            <a:avLst>
              <a:gd name="adj1" fmla="val 50000"/>
              <a:gd name="adj2" fmla="val 39098"/>
            </a:avLst>
          </a:prstGeom>
          <a:solidFill>
            <a:srgbClr val="78d1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Tronc comm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66"/>
          <p:cNvSpPr/>
          <p:nvPr/>
        </p:nvSpPr>
        <p:spPr>
          <a:xfrm rot="16200000">
            <a:off x="-1722600" y="2881440"/>
            <a:ext cx="4141800" cy="337320"/>
          </a:xfrm>
          <a:prstGeom prst="rect">
            <a:avLst/>
          </a:prstGeom>
          <a:solidFill>
            <a:srgbClr val="ffee93"/>
          </a:solidFill>
          <a:ln w="9360">
            <a:solidFill>
              <a:srgbClr val="ffee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Fonctionnement à mettre en 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85"/>
          <p:cNvSpPr/>
          <p:nvPr/>
        </p:nvSpPr>
        <p:spPr>
          <a:xfrm>
            <a:off x="3456000" y="1089000"/>
            <a:ext cx="936720" cy="2303640"/>
          </a:xfrm>
          <a:prstGeom prst="rightArrow">
            <a:avLst>
              <a:gd name="adj1" fmla="val 64296"/>
              <a:gd name="adj2" fmla="val 47088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spécif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C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I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10"/>
          <p:cNvSpPr/>
          <p:nvPr/>
        </p:nvSpPr>
        <p:spPr>
          <a:xfrm rot="16200000">
            <a:off x="419040" y="3806640"/>
            <a:ext cx="5834160" cy="252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Revue de projet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74"/>
          <p:cNvSpPr/>
          <p:nvPr/>
        </p:nvSpPr>
        <p:spPr>
          <a:xfrm>
            <a:off x="1763640" y="3987720"/>
            <a:ext cx="2592360" cy="486000"/>
          </a:xfrm>
          <a:prstGeom prst="rightArrow">
            <a:avLst>
              <a:gd name="adj1" fmla="val 50000"/>
              <a:gd name="adj2" fmla="val 133352"/>
            </a:avLst>
          </a:prstGeom>
          <a:solidFill>
            <a:srgbClr val="f5b9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ccompag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58"/>
          <p:cNvSpPr/>
          <p:nvPr/>
        </p:nvSpPr>
        <p:spPr>
          <a:xfrm>
            <a:off x="1763640" y="3392640"/>
            <a:ext cx="2592360" cy="541080"/>
          </a:xfrm>
          <a:prstGeom prst="rightArrow">
            <a:avLst>
              <a:gd name="adj1" fmla="val 50000"/>
              <a:gd name="adj2" fmla="val 119777"/>
            </a:avLst>
          </a:prstGeom>
          <a:solidFill>
            <a:srgbClr val="78d1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Enseignements transversaux en commu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28"/>
          <p:cNvSpPr/>
          <p:nvPr/>
        </p:nvSpPr>
        <p:spPr>
          <a:xfrm>
            <a:off x="1800360" y="1089000"/>
            <a:ext cx="1403280" cy="2232000"/>
          </a:xfrm>
          <a:prstGeom prst="rightArrow">
            <a:avLst>
              <a:gd name="adj1" fmla="val 61880"/>
              <a:gd name="adj2" fmla="val 2568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spécif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C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Europlastic I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1"/>
          <p:cNvSpPr/>
          <p:nvPr/>
        </p:nvSpPr>
        <p:spPr>
          <a:xfrm rot="16200000">
            <a:off x="-1238040" y="3803040"/>
            <a:ext cx="5869080" cy="223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Démarche de projet ingénierie simultanée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92"/>
          <p:cNvSpPr/>
          <p:nvPr/>
        </p:nvSpPr>
        <p:spPr>
          <a:xfrm>
            <a:off x="4572000" y="3290760"/>
            <a:ext cx="658800" cy="1182960"/>
          </a:xfrm>
          <a:prstGeom prst="rightArrow">
            <a:avLst>
              <a:gd name="adj1" fmla="val 51676"/>
              <a:gd name="adj2" fmla="val 35903"/>
            </a:avLst>
          </a:prstGeom>
          <a:solidFill>
            <a:srgbClr val="f5b9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Mi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ive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36"/>
          <p:cNvSpPr/>
          <p:nvPr/>
        </p:nvSpPr>
        <p:spPr>
          <a:xfrm>
            <a:off x="4594320" y="1808280"/>
            <a:ext cx="662040" cy="89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9db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Tron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comm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9"/>
          <p:cNvSpPr/>
          <p:nvPr/>
        </p:nvSpPr>
        <p:spPr>
          <a:xfrm rot="16200000">
            <a:off x="1582560" y="3789000"/>
            <a:ext cx="5869080" cy="2523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Stage industriel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utoShape 89"/>
          <p:cNvSpPr/>
          <p:nvPr/>
        </p:nvSpPr>
        <p:spPr>
          <a:xfrm>
            <a:off x="8172360" y="2421000"/>
            <a:ext cx="430200" cy="901800"/>
          </a:xfrm>
          <a:prstGeom prst="rightArrow">
            <a:avLst>
              <a:gd name="adj1" fmla="val 70074"/>
              <a:gd name="adj2" fmla="val 4677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I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13"/>
          <p:cNvSpPr/>
          <p:nvPr/>
        </p:nvSpPr>
        <p:spPr>
          <a:xfrm rot="16200000">
            <a:off x="5792040" y="4440600"/>
            <a:ext cx="4545000" cy="2890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Produire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utoShape 88"/>
          <p:cNvSpPr/>
          <p:nvPr/>
        </p:nvSpPr>
        <p:spPr>
          <a:xfrm>
            <a:off x="6985080" y="2349360"/>
            <a:ext cx="1042920" cy="1044720"/>
          </a:xfrm>
          <a:prstGeom prst="rightArrow">
            <a:avLst>
              <a:gd name="adj1" fmla="val 70074"/>
              <a:gd name="adj2" fmla="val 2852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spécif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I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87"/>
          <p:cNvSpPr/>
          <p:nvPr/>
        </p:nvSpPr>
        <p:spPr>
          <a:xfrm>
            <a:off x="6985080" y="1015920"/>
            <a:ext cx="1619280" cy="1295640"/>
          </a:xfrm>
          <a:prstGeom prst="rightArrow">
            <a:avLst>
              <a:gd name="adj1" fmla="val 72056"/>
              <a:gd name="adj2" fmla="val 58786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spécif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C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86"/>
          <p:cNvSpPr/>
          <p:nvPr/>
        </p:nvSpPr>
        <p:spPr>
          <a:xfrm>
            <a:off x="5508720" y="1125360"/>
            <a:ext cx="1258920" cy="2303640"/>
          </a:xfrm>
          <a:prstGeom prst="rightArrow">
            <a:avLst>
              <a:gd name="adj1" fmla="val 64296"/>
              <a:gd name="adj2" fmla="val 47088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spécif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C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BTS I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8"/>
          <p:cNvSpPr/>
          <p:nvPr/>
        </p:nvSpPr>
        <p:spPr>
          <a:xfrm rot="16200000">
            <a:off x="2465280" y="3771360"/>
            <a:ext cx="5869080" cy="287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Démarche de projet ingénierie simultané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12"/>
          <p:cNvSpPr/>
          <p:nvPr/>
        </p:nvSpPr>
        <p:spPr>
          <a:xfrm rot="16200000">
            <a:off x="5812560" y="3777120"/>
            <a:ext cx="5877000" cy="284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Examens: </a:t>
            </a:r>
            <a:r>
              <a:rPr b="1" i="1" lang="fr-FR" sz="1200" spc="-1" strike="noStrike">
                <a:solidFill>
                  <a:srgbClr val="000000"/>
                </a:solidFill>
                <a:latin typeface="Calibri"/>
              </a:rPr>
              <a:t>BTS CPI, BTS ERO, BTS Euro pla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14"/>
          <p:cNvSpPr/>
          <p:nvPr/>
        </p:nvSpPr>
        <p:spPr>
          <a:xfrm rot="16200000">
            <a:off x="4597560" y="4435560"/>
            <a:ext cx="4581360" cy="2635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Stage europé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Group 75"/>
          <p:cNvGrpSpPr/>
          <p:nvPr/>
        </p:nvGrpSpPr>
        <p:grpSpPr>
          <a:xfrm>
            <a:off x="468360" y="5192640"/>
            <a:ext cx="3935520" cy="1623960"/>
            <a:chOff x="468360" y="5192640"/>
            <a:chExt cx="3935520" cy="1623960"/>
          </a:xfrm>
        </p:grpSpPr>
        <p:sp>
          <p:nvSpPr>
            <p:cNvPr id="771" name="AutoShape 16"/>
            <p:cNvSpPr/>
            <p:nvPr/>
          </p:nvSpPr>
          <p:spPr>
            <a:xfrm>
              <a:off x="471600" y="6311880"/>
              <a:ext cx="3924360" cy="504720"/>
            </a:xfrm>
            <a:prstGeom prst="rightArrow">
              <a:avLst>
                <a:gd name="adj1" fmla="val 50000"/>
                <a:gd name="adj2" fmla="val 194383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Calibri"/>
                </a:rPr>
                <a:t>B.T.S. -  E.R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AutoShape 17"/>
            <p:cNvSpPr/>
            <p:nvPr/>
          </p:nvSpPr>
          <p:spPr>
            <a:xfrm>
              <a:off x="469800" y="5740200"/>
              <a:ext cx="3934080" cy="500040"/>
            </a:xfrm>
            <a:prstGeom prst="rightArrow">
              <a:avLst>
                <a:gd name="adj1" fmla="val 50000"/>
                <a:gd name="adj2" fmla="val 196688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Calibri"/>
                </a:rPr>
                <a:t>B.T.S. Euro plast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AutoShape 19"/>
            <p:cNvSpPr/>
            <p:nvPr/>
          </p:nvSpPr>
          <p:spPr>
            <a:xfrm>
              <a:off x="468360" y="5192640"/>
              <a:ext cx="3933720" cy="434880"/>
            </a:xfrm>
            <a:prstGeom prst="rightArrow">
              <a:avLst>
                <a:gd name="adj1" fmla="val 50000"/>
                <a:gd name="adj2" fmla="val 226138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Calibri"/>
                </a:rPr>
                <a:t>B.T.S. CP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Group 76"/>
          <p:cNvGrpSpPr/>
          <p:nvPr/>
        </p:nvGrpSpPr>
        <p:grpSpPr>
          <a:xfrm>
            <a:off x="4608360" y="5192640"/>
            <a:ext cx="3996000" cy="1582920"/>
            <a:chOff x="4608360" y="5192640"/>
            <a:chExt cx="3996000" cy="1582920"/>
          </a:xfrm>
        </p:grpSpPr>
        <p:sp>
          <p:nvSpPr>
            <p:cNvPr id="775" name="AutoShape 32"/>
            <p:cNvSpPr/>
            <p:nvPr/>
          </p:nvSpPr>
          <p:spPr>
            <a:xfrm>
              <a:off x="4611600" y="6343920"/>
              <a:ext cx="3975120" cy="431640"/>
            </a:xfrm>
            <a:prstGeom prst="rightArrow">
              <a:avLst>
                <a:gd name="adj1" fmla="val 50000"/>
                <a:gd name="adj2" fmla="val 230234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Calibri"/>
                </a:rPr>
                <a:t>B.T.S. -  E.R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AutoShape 33"/>
            <p:cNvSpPr/>
            <p:nvPr/>
          </p:nvSpPr>
          <p:spPr>
            <a:xfrm>
              <a:off x="4610160" y="5807160"/>
              <a:ext cx="2122560" cy="465120"/>
            </a:xfrm>
            <a:prstGeom prst="rightArrow">
              <a:avLst>
                <a:gd name="adj1" fmla="val 50000"/>
                <a:gd name="adj2" fmla="val 11408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Calibri"/>
                </a:rPr>
                <a:t>B.T.S. Euro plas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AutoShape 34"/>
            <p:cNvSpPr/>
            <p:nvPr/>
          </p:nvSpPr>
          <p:spPr>
            <a:xfrm>
              <a:off x="4608360" y="5192640"/>
              <a:ext cx="3996000" cy="471600"/>
            </a:xfrm>
            <a:prstGeom prst="rightArrow">
              <a:avLst>
                <a:gd name="adj1" fmla="val 50000"/>
                <a:gd name="adj2" fmla="val 211832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Calibri"/>
                </a:rPr>
                <a:t>B.T.S. CP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AutoShape 35"/>
            <p:cNvSpPr/>
            <p:nvPr/>
          </p:nvSpPr>
          <p:spPr>
            <a:xfrm>
              <a:off x="7020000" y="5808600"/>
              <a:ext cx="1576440" cy="463680"/>
            </a:xfrm>
            <a:prstGeom prst="rightArrow">
              <a:avLst>
                <a:gd name="adj1" fmla="val 50000"/>
                <a:gd name="adj2" fmla="val 84996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Calibri"/>
                </a:rPr>
                <a:t>B.T.S. Euro plas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Rectangle 37"/>
          <p:cNvSpPr/>
          <p:nvPr/>
        </p:nvSpPr>
        <p:spPr>
          <a:xfrm rot="16200000">
            <a:off x="6203160" y="1532520"/>
            <a:ext cx="1380960" cy="252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Projet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47"/>
          <p:cNvSpPr/>
          <p:nvPr/>
        </p:nvSpPr>
        <p:spPr>
          <a:xfrm>
            <a:off x="5543640" y="4041720"/>
            <a:ext cx="2665440" cy="503280"/>
          </a:xfrm>
          <a:prstGeom prst="rightArrow">
            <a:avLst>
              <a:gd name="adj1" fmla="val 50000"/>
              <a:gd name="adj2" fmla="val 132403"/>
            </a:avLst>
          </a:prstGeom>
          <a:solidFill>
            <a:srgbClr val="f5b9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enfor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59"/>
          <p:cNvSpPr/>
          <p:nvPr/>
        </p:nvSpPr>
        <p:spPr>
          <a:xfrm>
            <a:off x="5543640" y="3465360"/>
            <a:ext cx="3024000" cy="576360"/>
          </a:xfrm>
          <a:prstGeom prst="rightArrow">
            <a:avLst>
              <a:gd name="adj1" fmla="val 50000"/>
              <a:gd name="adj2" fmla="val 131168"/>
            </a:avLst>
          </a:prstGeom>
          <a:solidFill>
            <a:srgbClr val="78d1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Enseignements transversaux en commu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61"/>
          <p:cNvSpPr/>
          <p:nvPr/>
        </p:nvSpPr>
        <p:spPr>
          <a:xfrm>
            <a:off x="539640" y="593640"/>
            <a:ext cx="414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° ann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65"/>
          <p:cNvSpPr/>
          <p:nvPr/>
        </p:nvSpPr>
        <p:spPr>
          <a:xfrm rot="16200000">
            <a:off x="-533160" y="5654880"/>
            <a:ext cx="1736640" cy="669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Fonctionnemen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actu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67"/>
          <p:cNvSpPr/>
          <p:nvPr/>
        </p:nvSpPr>
        <p:spPr>
          <a:xfrm>
            <a:off x="4643280" y="593640"/>
            <a:ext cx="4249800" cy="3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° ann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68"/>
          <p:cNvSpPr/>
          <p:nvPr/>
        </p:nvSpPr>
        <p:spPr>
          <a:xfrm>
            <a:off x="0" y="44280"/>
            <a:ext cx="9144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Organisation fonctionnelle Ingénierie Collaborat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80"/>
          <p:cNvSpPr/>
          <p:nvPr/>
        </p:nvSpPr>
        <p:spPr>
          <a:xfrm>
            <a:off x="5256360" y="4545000"/>
            <a:ext cx="3348000" cy="468360"/>
          </a:xfrm>
          <a:prstGeom prst="rightArrow">
            <a:avLst>
              <a:gd name="adj1" fmla="val 50000"/>
              <a:gd name="adj2" fmla="val 178709"/>
            </a:avLst>
          </a:prstGeom>
          <a:solidFill>
            <a:srgbClr val="ffa8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jet collaboratif support d’ex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79"/>
          <p:cNvSpPr/>
          <p:nvPr/>
        </p:nvSpPr>
        <p:spPr>
          <a:xfrm>
            <a:off x="1584360" y="4545000"/>
            <a:ext cx="2806560" cy="431640"/>
          </a:xfrm>
          <a:prstGeom prst="rightArrow">
            <a:avLst>
              <a:gd name="adj1" fmla="val 62833"/>
              <a:gd name="adj2" fmla="val 167398"/>
            </a:avLst>
          </a:prstGeom>
          <a:solidFill>
            <a:srgbClr val="ffa8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jet collaborat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78"/>
          <p:cNvSpPr/>
          <p:nvPr/>
        </p:nvSpPr>
        <p:spPr>
          <a:xfrm>
            <a:off x="0" y="5121360"/>
            <a:ext cx="9144000" cy="1728720"/>
          </a:xfrm>
          <a:prstGeom prst="rect">
            <a:avLst/>
          </a:prstGeom>
          <a:solidFill>
            <a:srgbClr val="bbe0e3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63"/>
          <p:cNvSpPr/>
          <p:nvPr/>
        </p:nvSpPr>
        <p:spPr>
          <a:xfrm>
            <a:off x="0" y="5084640"/>
            <a:ext cx="9144000" cy="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ZoneTexte 109"/>
          <p:cNvSpPr/>
          <p:nvPr/>
        </p:nvSpPr>
        <p:spPr>
          <a:xfrm>
            <a:off x="6924600" y="5632560"/>
            <a:ext cx="2062080" cy="337320"/>
          </a:xfrm>
          <a:prstGeom prst="rect">
            <a:avLst/>
          </a:prstGeom>
          <a:solidFill>
            <a:srgbClr val="bfe5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er 14"/>
          <p:cNvGrpSpPr/>
          <p:nvPr/>
        </p:nvGrpSpPr>
        <p:grpSpPr>
          <a:xfrm>
            <a:off x="1400040" y="1895400"/>
            <a:ext cx="1371600" cy="1056600"/>
            <a:chOff x="1400040" y="1895400"/>
            <a:chExt cx="1371600" cy="1056600"/>
          </a:xfrm>
        </p:grpSpPr>
        <p:sp>
          <p:nvSpPr>
            <p:cNvPr id="595" name="ZoneTexte 3"/>
            <p:cNvSpPr/>
            <p:nvPr/>
          </p:nvSpPr>
          <p:spPr>
            <a:xfrm>
              <a:off x="1400040" y="1895400"/>
              <a:ext cx="1371600" cy="337320"/>
            </a:xfrm>
            <a:prstGeom prst="rect">
              <a:avLst/>
            </a:prstGeom>
            <a:solidFill>
              <a:srgbClr val="fcd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C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ZoneTexte 4"/>
            <p:cNvSpPr/>
            <p:nvPr/>
          </p:nvSpPr>
          <p:spPr>
            <a:xfrm>
              <a:off x="1400040" y="2614680"/>
              <a:ext cx="1371600" cy="337320"/>
            </a:xfrm>
            <a:prstGeom prst="rect">
              <a:avLst/>
            </a:prstGeom>
            <a:solidFill>
              <a:srgbClr val="fcd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C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er 11"/>
          <p:cNvGrpSpPr/>
          <p:nvPr/>
        </p:nvGrpSpPr>
        <p:grpSpPr>
          <a:xfrm>
            <a:off x="3571920" y="1895400"/>
            <a:ext cx="1828800" cy="1818720"/>
            <a:chOff x="3571920" y="1895400"/>
            <a:chExt cx="1828800" cy="1818720"/>
          </a:xfrm>
        </p:grpSpPr>
        <p:sp>
          <p:nvSpPr>
            <p:cNvPr id="598" name="ZoneTexte 5"/>
            <p:cNvSpPr/>
            <p:nvPr/>
          </p:nvSpPr>
          <p:spPr>
            <a:xfrm>
              <a:off x="3571920" y="1895400"/>
              <a:ext cx="1828800" cy="33732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Seconde bac p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ZoneTexte 6"/>
            <p:cNvSpPr/>
            <p:nvPr/>
          </p:nvSpPr>
          <p:spPr>
            <a:xfrm>
              <a:off x="3571920" y="2635200"/>
              <a:ext cx="1828800" cy="33732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Première bac p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ZoneTexte 7"/>
            <p:cNvSpPr/>
            <p:nvPr/>
          </p:nvSpPr>
          <p:spPr>
            <a:xfrm>
              <a:off x="3571920" y="3376800"/>
              <a:ext cx="1828800" cy="33732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Terminale bac p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er 12"/>
          <p:cNvGrpSpPr/>
          <p:nvPr/>
        </p:nvGrpSpPr>
        <p:grpSpPr>
          <a:xfrm>
            <a:off x="6129360" y="1897200"/>
            <a:ext cx="2482920" cy="1797840"/>
            <a:chOff x="6129360" y="1897200"/>
            <a:chExt cx="2482920" cy="1797840"/>
          </a:xfrm>
        </p:grpSpPr>
        <p:sp>
          <p:nvSpPr>
            <p:cNvPr id="602" name="ZoneTexte 8"/>
            <p:cNvSpPr/>
            <p:nvPr/>
          </p:nvSpPr>
          <p:spPr>
            <a:xfrm>
              <a:off x="6129360" y="1897200"/>
              <a:ext cx="2482920" cy="33732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Seconde d’explo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ZoneTexte 9"/>
            <p:cNvSpPr/>
            <p:nvPr/>
          </p:nvSpPr>
          <p:spPr>
            <a:xfrm>
              <a:off x="6129360" y="2627280"/>
              <a:ext cx="2482920" cy="33732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Première technologiq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ZoneTexte 10"/>
            <p:cNvSpPr/>
            <p:nvPr/>
          </p:nvSpPr>
          <p:spPr>
            <a:xfrm>
              <a:off x="6129360" y="3357720"/>
              <a:ext cx="2482920" cy="33732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alibri"/>
                </a:rPr>
                <a:t>Terminale technologiq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Flèche vers le bas 38"/>
          <p:cNvSpPr/>
          <p:nvPr/>
        </p:nvSpPr>
        <p:spPr>
          <a:xfrm>
            <a:off x="7191360" y="2246400"/>
            <a:ext cx="380880" cy="3888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lèche vers le bas 82"/>
          <p:cNvSpPr/>
          <p:nvPr/>
        </p:nvSpPr>
        <p:spPr>
          <a:xfrm>
            <a:off x="4371840" y="2235240"/>
            <a:ext cx="381240" cy="40176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lèche vers le bas 96"/>
          <p:cNvSpPr/>
          <p:nvPr/>
        </p:nvSpPr>
        <p:spPr>
          <a:xfrm>
            <a:off x="7191360" y="2963880"/>
            <a:ext cx="380880" cy="3762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lèche vers le bas 97"/>
          <p:cNvSpPr/>
          <p:nvPr/>
        </p:nvSpPr>
        <p:spPr>
          <a:xfrm>
            <a:off x="4371840" y="2975040"/>
            <a:ext cx="381240" cy="401400"/>
          </a:xfrm>
          <a:prstGeom prst="downArrow">
            <a:avLst>
              <a:gd name="adj1" fmla="val 50000"/>
              <a:gd name="adj2" fmla="val 49939"/>
            </a:avLst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lèche vers le bas 99"/>
          <p:cNvSpPr/>
          <p:nvPr/>
        </p:nvSpPr>
        <p:spPr>
          <a:xfrm>
            <a:off x="1933560" y="2235240"/>
            <a:ext cx="380880" cy="40176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fcd5b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lèche vers la droite 100"/>
          <p:cNvSpPr/>
          <p:nvPr/>
        </p:nvSpPr>
        <p:spPr>
          <a:xfrm>
            <a:off x="2771640" y="2768760"/>
            <a:ext cx="800280" cy="150480"/>
          </a:xfrm>
          <a:prstGeom prst="rightArrow">
            <a:avLst>
              <a:gd name="adj1" fmla="val 50000"/>
              <a:gd name="adj2" fmla="val 50129"/>
            </a:avLst>
          </a:prstGeom>
          <a:solidFill>
            <a:srgbClr val="fcd5b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ZoneTexte 101"/>
          <p:cNvSpPr/>
          <p:nvPr/>
        </p:nvSpPr>
        <p:spPr>
          <a:xfrm>
            <a:off x="1389240" y="6283440"/>
            <a:ext cx="6835680" cy="36828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 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ZoneTexte 102"/>
          <p:cNvSpPr/>
          <p:nvPr/>
        </p:nvSpPr>
        <p:spPr>
          <a:xfrm>
            <a:off x="4925880" y="4138560"/>
            <a:ext cx="20098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BTS, DUT 1</a:t>
            </a:r>
            <a:r>
              <a:rPr b="0" lang="fr-FR" sz="1400" spc="-1" strike="noStrike" baseline="30000">
                <a:solidFill>
                  <a:srgbClr val="000000"/>
                </a:solidFill>
                <a:latin typeface="Calibri"/>
              </a:rPr>
              <a:t>ère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anné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ZoneTexte 103"/>
          <p:cNvSpPr/>
          <p:nvPr/>
        </p:nvSpPr>
        <p:spPr>
          <a:xfrm>
            <a:off x="4919760" y="4519440"/>
            <a:ext cx="20048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BTS, DUT 2</a:t>
            </a:r>
            <a:r>
              <a:rPr b="0" lang="fr-FR" sz="1400" spc="-1" strike="noStrike" baseline="30000">
                <a:solidFill>
                  <a:srgbClr val="000000"/>
                </a:solidFill>
                <a:latin typeface="Calibri"/>
              </a:rPr>
              <a:t>ème 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nné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lèche vers le bas 104"/>
          <p:cNvSpPr/>
          <p:nvPr/>
        </p:nvSpPr>
        <p:spPr>
          <a:xfrm>
            <a:off x="6276960" y="3691080"/>
            <a:ext cx="333360" cy="425160"/>
          </a:xfrm>
          <a:prstGeom prst="downArrow">
            <a:avLst>
              <a:gd name="adj1" fmla="val 50000"/>
              <a:gd name="adj2" fmla="val 49970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lèche vers le bas 105"/>
          <p:cNvSpPr/>
          <p:nvPr/>
        </p:nvSpPr>
        <p:spPr>
          <a:xfrm>
            <a:off x="4371840" y="3714840"/>
            <a:ext cx="381240" cy="253188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lèche vers le bas 106"/>
          <p:cNvSpPr/>
          <p:nvPr/>
        </p:nvSpPr>
        <p:spPr>
          <a:xfrm>
            <a:off x="1933560" y="2921040"/>
            <a:ext cx="380880" cy="331308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fcd5b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lèche vers le bas 108"/>
          <p:cNvSpPr/>
          <p:nvPr/>
        </p:nvSpPr>
        <p:spPr>
          <a:xfrm>
            <a:off x="5210280" y="3714840"/>
            <a:ext cx="190440" cy="40140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dbebc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ZoneTexte 109"/>
          <p:cNvSpPr/>
          <p:nvPr/>
        </p:nvSpPr>
        <p:spPr>
          <a:xfrm>
            <a:off x="5894280" y="5281560"/>
            <a:ext cx="3097440" cy="337320"/>
          </a:xfrm>
          <a:prstGeom prst="rect">
            <a:avLst/>
          </a:prstGeom>
          <a:solidFill>
            <a:srgbClr val="bfe5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ic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lèche vers le bas 110"/>
          <p:cNvSpPr/>
          <p:nvPr/>
        </p:nvSpPr>
        <p:spPr>
          <a:xfrm>
            <a:off x="6200640" y="4842000"/>
            <a:ext cx="201600" cy="42516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lèche vers le bas 112"/>
          <p:cNvSpPr/>
          <p:nvPr/>
        </p:nvSpPr>
        <p:spPr>
          <a:xfrm>
            <a:off x="5137200" y="4842000"/>
            <a:ext cx="407880" cy="1404720"/>
          </a:xfrm>
          <a:prstGeom prst="downArrow">
            <a:avLst>
              <a:gd name="adj1" fmla="val 50194"/>
              <a:gd name="adj2" fmla="val 47865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ZoneTexte 128"/>
          <p:cNvSpPr/>
          <p:nvPr/>
        </p:nvSpPr>
        <p:spPr>
          <a:xfrm>
            <a:off x="1476360" y="1014480"/>
            <a:ext cx="3886200" cy="368280"/>
          </a:xfrm>
          <a:prstGeom prst="rect">
            <a:avLst/>
          </a:prstGeom>
          <a:solidFill>
            <a:srgbClr val="c4bd97"/>
          </a:solidFill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oie professionn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ZoneTexte 129"/>
          <p:cNvSpPr/>
          <p:nvPr/>
        </p:nvSpPr>
        <p:spPr>
          <a:xfrm>
            <a:off x="5667480" y="1014480"/>
            <a:ext cx="2895480" cy="368280"/>
          </a:xfrm>
          <a:prstGeom prst="rect">
            <a:avLst/>
          </a:prstGeom>
          <a:solidFill>
            <a:srgbClr val="c4bd97"/>
          </a:solidFill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oie technolog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lèche courbée vers le haut 130"/>
          <p:cNvSpPr/>
          <p:nvPr/>
        </p:nvSpPr>
        <p:spPr>
          <a:xfrm>
            <a:off x="2759040" y="5900760"/>
            <a:ext cx="952560" cy="957240"/>
          </a:xfrm>
          <a:custGeom>
            <a:avLst/>
            <a:gdLst>
              <a:gd name="textAreaLeft" fmla="*/ 148680 w 952560"/>
              <a:gd name="textAreaRight" fmla="*/ 684720 w 952560"/>
              <a:gd name="textAreaTop" fmla="*/ 128160 h 957240"/>
              <a:gd name="textAreaBottom" fmla="*/ 829080 h 9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3035132"/>
                <a:lnTo>
                  <a:pt x="21388" y="5373"/>
                </a:lnTo>
                <a:lnTo>
                  <a:pt x="16200" y="0"/>
                </a:lnTo>
                <a:lnTo>
                  <a:pt x="10588" y="5373"/>
                </a:lnTo>
                <a:lnTo>
                  <a:pt x="13288" y="5373"/>
                </a:lnTo>
                <a:arcTo wR="6750" hR="21600" stAng="2364868" swAng="2569146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solidFill>
            <a:srgbClr val="c4bd97"/>
          </a:solidFill>
          <a:ln w="9360">
            <a:solidFill>
              <a:srgbClr val="4a452a"/>
            </a:solidFill>
            <a:miter/>
          </a:ln>
          <a:effectLst>
            <a:outerShdw dist="23040" dir="5400000" blurRad="0" rotWithShape="0">
              <a:srgbClr val="948a54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ZoneTexte 131"/>
          <p:cNvSpPr/>
          <p:nvPr/>
        </p:nvSpPr>
        <p:spPr>
          <a:xfrm>
            <a:off x="2556000" y="49370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ers tous les diplô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lèche vers le bas 111"/>
          <p:cNvSpPr/>
          <p:nvPr/>
        </p:nvSpPr>
        <p:spPr>
          <a:xfrm>
            <a:off x="6386400" y="5619600"/>
            <a:ext cx="381240" cy="630360"/>
          </a:xfrm>
          <a:prstGeom prst="downArrow">
            <a:avLst>
              <a:gd name="adj1" fmla="val 50000"/>
              <a:gd name="adj2" fmla="val 52895"/>
            </a:avLst>
          </a:prstGeom>
          <a:solidFill>
            <a:srgbClr val="bfe56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lèche vers le bas 62"/>
          <p:cNvSpPr/>
          <p:nvPr/>
        </p:nvSpPr>
        <p:spPr>
          <a:xfrm>
            <a:off x="7997760" y="3701880"/>
            <a:ext cx="163440" cy="1555920"/>
          </a:xfrm>
          <a:prstGeom prst="downArrow">
            <a:avLst>
              <a:gd name="adj1" fmla="val 50000"/>
              <a:gd name="adj2" fmla="val 50023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itre 1"/>
          <p:cNvSpPr/>
          <p:nvPr/>
        </p:nvSpPr>
        <p:spPr>
          <a:xfrm>
            <a:off x="1252440" y="0"/>
            <a:ext cx="7891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es voies de 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ZoneTexte 102"/>
          <p:cNvSpPr/>
          <p:nvPr/>
        </p:nvSpPr>
        <p:spPr>
          <a:xfrm>
            <a:off x="6991200" y="4141800"/>
            <a:ext cx="8193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CP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ZoneTexte 103"/>
          <p:cNvSpPr/>
          <p:nvPr/>
        </p:nvSpPr>
        <p:spPr>
          <a:xfrm>
            <a:off x="6991200" y="4522680"/>
            <a:ext cx="8193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CP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lèche vers le bas 66"/>
          <p:cNvSpPr/>
          <p:nvPr/>
        </p:nvSpPr>
        <p:spPr>
          <a:xfrm>
            <a:off x="7191360" y="3701880"/>
            <a:ext cx="176400" cy="414360"/>
          </a:xfrm>
          <a:prstGeom prst="downArrow">
            <a:avLst>
              <a:gd name="adj1" fmla="val 50000"/>
              <a:gd name="adj2" fmla="val 49948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lèche vers le bas 39"/>
          <p:cNvSpPr/>
          <p:nvPr/>
        </p:nvSpPr>
        <p:spPr>
          <a:xfrm>
            <a:off x="7191360" y="4862520"/>
            <a:ext cx="380880" cy="243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lèche vers le bas 111"/>
          <p:cNvSpPr/>
          <p:nvPr/>
        </p:nvSpPr>
        <p:spPr>
          <a:xfrm>
            <a:off x="7637400" y="5954760"/>
            <a:ext cx="381240" cy="295200"/>
          </a:xfrm>
          <a:prstGeom prst="downArrow">
            <a:avLst>
              <a:gd name="adj1" fmla="val 50000"/>
              <a:gd name="adj2" fmla="val 60755"/>
            </a:avLst>
          </a:prstGeom>
          <a:solidFill>
            <a:srgbClr val="bfe56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lèche vers le bas 111"/>
          <p:cNvSpPr/>
          <p:nvPr/>
        </p:nvSpPr>
        <p:spPr>
          <a:xfrm>
            <a:off x="8480520" y="5965920"/>
            <a:ext cx="223920" cy="596880"/>
          </a:xfrm>
          <a:prstGeom prst="downArrow">
            <a:avLst>
              <a:gd name="adj1" fmla="val 61704"/>
              <a:gd name="adj2" fmla="val 75858"/>
            </a:avLst>
          </a:prstGeom>
          <a:solidFill>
            <a:srgbClr val="bfe56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 contexte en évol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206360" y="1393920"/>
            <a:ext cx="7718400" cy="45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 attentes de personnalisation des parcours de formation et des « outils » associé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compagnement personnalisé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ges ou PFMP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let pédagogique du projet d’établissement : utilisation de la dotation horaire complémentaire, passerelle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modularisation des référentiels au service de la diversification des modes de formation (scolaire, apprentissage, formation continue) et de la mixité des public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52080" y="0"/>
            <a:ext cx="7891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passerelles, une procédure à formali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7" name="Object 3" descr=""/>
          <p:cNvPicPr/>
          <p:nvPr/>
        </p:nvPicPr>
        <p:blipFill>
          <a:blip r:embed="rId1"/>
          <a:stretch/>
        </p:blipFill>
        <p:spPr>
          <a:xfrm>
            <a:off x="1511280" y="3413160"/>
            <a:ext cx="5295960" cy="3035160"/>
          </a:xfrm>
          <a:prstGeom prst="rect">
            <a:avLst/>
          </a:prstGeom>
          <a:ln w="0">
            <a:noFill/>
          </a:ln>
        </p:spPr>
      </p:pic>
      <p:grpSp>
        <p:nvGrpSpPr>
          <p:cNvPr id="638" name="Group 4"/>
          <p:cNvGrpSpPr/>
          <p:nvPr/>
        </p:nvGrpSpPr>
        <p:grpSpPr>
          <a:xfrm>
            <a:off x="3102120" y="1063800"/>
            <a:ext cx="5829120" cy="3085920"/>
            <a:chOff x="3102120" y="1063800"/>
            <a:chExt cx="5829120" cy="3085920"/>
          </a:xfrm>
        </p:grpSpPr>
        <p:sp>
          <p:nvSpPr>
            <p:cNvPr id="639" name="Oval 5"/>
            <p:cNvSpPr/>
            <p:nvPr/>
          </p:nvSpPr>
          <p:spPr>
            <a:xfrm>
              <a:off x="3102120" y="1225440"/>
              <a:ext cx="2667600" cy="169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6"/>
            <p:cNvSpPr/>
            <p:nvPr/>
          </p:nvSpPr>
          <p:spPr>
            <a:xfrm>
              <a:off x="6263640" y="1225440"/>
              <a:ext cx="2667600" cy="169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WordArt 7"/>
            <p:cNvSpPr txBox="1"/>
            <p:nvPr/>
          </p:nvSpPr>
          <p:spPr>
            <a:xfrm>
              <a:off x="3102120" y="2761560"/>
              <a:ext cx="2560320" cy="22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ff"/>
                  </a:solidFill>
                  <a:latin typeface="Arial Black"/>
                </a:rPr>
                <a:t>Formation d'origin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2" name="WordArt 8"/>
            <p:cNvSpPr txBox="1"/>
            <p:nvPr/>
          </p:nvSpPr>
          <p:spPr>
            <a:xfrm>
              <a:off x="6164640" y="2761560"/>
              <a:ext cx="2560680" cy="16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ff"/>
                  </a:solidFill>
                  <a:latin typeface="Arial Black"/>
                </a:rPr>
                <a:t>Formation d'arrivé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3" name="Text Box 9"/>
            <p:cNvSpPr/>
            <p:nvPr/>
          </p:nvSpPr>
          <p:spPr>
            <a:xfrm>
              <a:off x="3595680" y="1387080"/>
              <a:ext cx="595080" cy="84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10"/>
            <p:cNvSpPr/>
            <p:nvPr/>
          </p:nvSpPr>
          <p:spPr>
            <a:xfrm>
              <a:off x="4781520" y="1063800"/>
              <a:ext cx="887040" cy="89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11"/>
            <p:cNvSpPr/>
            <p:nvPr/>
          </p:nvSpPr>
          <p:spPr>
            <a:xfrm>
              <a:off x="7548120" y="3085200"/>
              <a:ext cx="1183680" cy="85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12"/>
            <p:cNvSpPr/>
            <p:nvPr/>
          </p:nvSpPr>
          <p:spPr>
            <a:xfrm>
              <a:off x="6559920" y="1144800"/>
              <a:ext cx="985680" cy="75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AutoShape 13"/>
            <p:cNvSpPr/>
            <p:nvPr/>
          </p:nvSpPr>
          <p:spPr>
            <a:xfrm>
              <a:off x="4287240" y="1629720"/>
              <a:ext cx="395640" cy="241920"/>
            </a:xfrm>
            <a:custGeom>
              <a:avLst/>
              <a:gdLst>
                <a:gd name="textAreaLeft" fmla="*/ 61560 w 395640"/>
                <a:gd name="textAreaRight" fmla="*/ 346320 w 395640"/>
                <a:gd name="textAreaTop" fmla="*/ 60480 h 241920"/>
                <a:gd name="textAreaBottom" fmla="*/ 181800 h 24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AutoShape 14"/>
            <p:cNvSpPr/>
            <p:nvPr/>
          </p:nvSpPr>
          <p:spPr>
            <a:xfrm rot="3900000">
              <a:off x="7337520" y="2230200"/>
              <a:ext cx="727560" cy="296280"/>
            </a:xfrm>
            <a:custGeom>
              <a:avLst/>
              <a:gdLst>
                <a:gd name="textAreaLeft" fmla="*/ 113400 w 727560"/>
                <a:gd name="textAreaRight" fmla="*/ 636480 w 727560"/>
                <a:gd name="textAreaTop" fmla="*/ 74160 h 296280"/>
                <a:gd name="textAreaBottom" fmla="*/ 222120 h 29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AutoShape 15"/>
            <p:cNvSpPr/>
            <p:nvPr/>
          </p:nvSpPr>
          <p:spPr>
            <a:xfrm>
              <a:off x="5868360" y="1387080"/>
              <a:ext cx="394920" cy="242640"/>
            </a:xfrm>
            <a:custGeom>
              <a:avLst/>
              <a:gdLst>
                <a:gd name="textAreaLeft" fmla="*/ 61560 w 394920"/>
                <a:gd name="textAreaRight" fmla="*/ 345600 w 394920"/>
                <a:gd name="textAreaTop" fmla="*/ 60840 h 242640"/>
                <a:gd name="textAreaBottom" fmla="*/ 181800 h 24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WordArt 16"/>
            <p:cNvSpPr txBox="1"/>
            <p:nvPr/>
          </p:nvSpPr>
          <p:spPr>
            <a:xfrm>
              <a:off x="3595680" y="2195640"/>
              <a:ext cx="527040" cy="17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Phase 1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651" name="WordArt 17"/>
            <p:cNvSpPr txBox="1"/>
            <p:nvPr/>
          </p:nvSpPr>
          <p:spPr>
            <a:xfrm>
              <a:off x="6658560" y="1872000"/>
              <a:ext cx="527040" cy="17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Phase 3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652" name="WordArt 18"/>
            <p:cNvSpPr txBox="1"/>
            <p:nvPr/>
          </p:nvSpPr>
          <p:spPr>
            <a:xfrm>
              <a:off x="4978800" y="1953360"/>
              <a:ext cx="527040" cy="17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Phase 2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653" name="WordArt 19"/>
            <p:cNvSpPr txBox="1"/>
            <p:nvPr/>
          </p:nvSpPr>
          <p:spPr>
            <a:xfrm>
              <a:off x="7646760" y="3974760"/>
              <a:ext cx="527040" cy="17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Phase 4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654" name="WordArt 20"/>
            <p:cNvSpPr txBox="1"/>
            <p:nvPr/>
          </p:nvSpPr>
          <p:spPr>
            <a:xfrm>
              <a:off x="3595680" y="2398680"/>
              <a:ext cx="691560" cy="32328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Repérage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+ info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655" name="WordArt 21"/>
            <p:cNvSpPr txBox="1"/>
            <p:nvPr/>
          </p:nvSpPr>
          <p:spPr>
            <a:xfrm>
              <a:off x="4978800" y="2156040"/>
              <a:ext cx="691560" cy="32328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Plan de 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préparation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656" name="WordArt 22"/>
            <p:cNvSpPr txBox="1"/>
            <p:nvPr/>
          </p:nvSpPr>
          <p:spPr>
            <a:xfrm>
              <a:off x="6658560" y="2075400"/>
              <a:ext cx="691560" cy="32328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Accueil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parrainage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pic>
          <p:nvPicPr>
            <p:cNvPr id="657" name="Picture 23" descr="confus"/>
            <p:cNvPicPr/>
            <p:nvPr/>
          </p:nvPicPr>
          <p:blipFill>
            <a:blip r:embed="rId2"/>
            <a:stretch/>
          </p:blipFill>
          <p:spPr>
            <a:xfrm>
              <a:off x="3694680" y="1441080"/>
              <a:ext cx="43632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24" descr="organis"/>
            <p:cNvPicPr/>
            <p:nvPr/>
          </p:nvPicPr>
          <p:blipFill>
            <a:blip r:embed="rId3"/>
            <a:stretch/>
          </p:blipFill>
          <p:spPr>
            <a:xfrm>
              <a:off x="4880160" y="1117440"/>
              <a:ext cx="724320" cy="82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Picture 25" descr="gagner"/>
            <p:cNvPicPr/>
            <p:nvPr/>
          </p:nvPicPr>
          <p:blipFill>
            <a:blip r:embed="rId4"/>
            <a:stretch/>
          </p:blipFill>
          <p:spPr>
            <a:xfrm>
              <a:off x="6658560" y="1171440"/>
              <a:ext cx="823680" cy="68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Picture 26" descr="heureux"/>
            <p:cNvPicPr/>
            <p:nvPr/>
          </p:nvPicPr>
          <p:blipFill>
            <a:blip r:embed="rId5"/>
            <a:stretch/>
          </p:blipFill>
          <p:spPr>
            <a:xfrm>
              <a:off x="7646760" y="3166200"/>
              <a:ext cx="1020960" cy="780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s passerel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218960" y="990360"/>
            <a:ext cx="7678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éparer la poursuite d’études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ès la terminale professionnelle en particulier vers les sections de technicien supérie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llaborer entre EPLE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lycées professionnels et lycées généraux et technologiques)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changes d’élèves, banalisation d’heures de formation, création de parcours d’adaptation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changes d’heures d’enseignement (enseignement général et technique)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laboration d’un livret de compétences (portfolio informatique s’étalant entre terminale bac pro et première année de T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ise en compte d’un véritable positionnement en TS1 entraînant un parcours de formation personnalis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 Box 5"/>
          <p:cNvSpPr/>
          <p:nvPr/>
        </p:nvSpPr>
        <p:spPr>
          <a:xfrm>
            <a:off x="1263600" y="5308560"/>
            <a:ext cx="2881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lève issu de bac p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6"/>
          <p:cNvSpPr/>
          <p:nvPr/>
        </p:nvSpPr>
        <p:spPr>
          <a:xfrm>
            <a:off x="1263600" y="6318360"/>
            <a:ext cx="295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lève issu d’un bac tech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7"/>
          <p:cNvSpPr/>
          <p:nvPr/>
        </p:nvSpPr>
        <p:spPr>
          <a:xfrm>
            <a:off x="4216320" y="6534000"/>
            <a:ext cx="460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8"/>
          <p:cNvSpPr/>
          <p:nvPr/>
        </p:nvSpPr>
        <p:spPr>
          <a:xfrm>
            <a:off x="6953400" y="6100920"/>
            <a:ext cx="139212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r-FR" sz="1800" spc="-1" strike="noStrike" baseline="30000">
                <a:solidFill>
                  <a:srgbClr val="000000"/>
                </a:solidFill>
                <a:latin typeface="Calibri"/>
              </a:rPr>
              <a:t>er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10"/>
          <p:cNvSpPr/>
          <p:nvPr/>
        </p:nvSpPr>
        <p:spPr>
          <a:xfrm>
            <a:off x="6943680" y="6245280"/>
            <a:ext cx="1403280" cy="274680"/>
          </a:xfrm>
          <a:custGeom>
            <a:avLst/>
            <a:gdLst>
              <a:gd name="textAreaLeft" fmla="*/ 0 w 1403280"/>
              <a:gd name="textAreaRight" fmla="*/ 1403280 w 14032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891" h="173">
                <a:moveTo>
                  <a:pt x="0" y="0"/>
                </a:moveTo>
                <a:lnTo>
                  <a:pt x="279" y="51"/>
                </a:lnTo>
                <a:lnTo>
                  <a:pt x="648" y="95"/>
                </a:lnTo>
                <a:lnTo>
                  <a:pt x="790" y="119"/>
                </a:lnTo>
                <a:lnTo>
                  <a:pt x="885" y="130"/>
                </a:lnTo>
                <a:lnTo>
                  <a:pt x="891" y="172"/>
                </a:lnTo>
                <a:lnTo>
                  <a:pt x="7" y="173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9"/>
          <p:cNvSpPr/>
          <p:nvPr/>
        </p:nvSpPr>
        <p:spPr>
          <a:xfrm>
            <a:off x="4143240" y="4978440"/>
            <a:ext cx="4176720" cy="14828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1482840"/>
              <a:gd name="textAreaBottom" fmla="*/ 1483200 h 1482840"/>
            </a:gdLst>
            <a:ahLst/>
            <a:rect l="textAreaLeft" t="textAreaTop" r="textAreaRight" b="textAreaBottom"/>
            <a:pathLst>
              <a:path w="2635" h="1013">
                <a:moveTo>
                  <a:pt x="0" y="378"/>
                </a:moveTo>
                <a:cubicBezTo>
                  <a:pt x="192" y="327"/>
                  <a:pt x="908" y="0"/>
                  <a:pt x="1151" y="69"/>
                </a:cubicBezTo>
                <a:cubicBezTo>
                  <a:pt x="1394" y="138"/>
                  <a:pt x="1213" y="636"/>
                  <a:pt x="1460" y="793"/>
                </a:cubicBezTo>
                <a:cubicBezTo>
                  <a:pt x="1707" y="950"/>
                  <a:pt x="2390" y="967"/>
                  <a:pt x="2635" y="1013"/>
                </a:cubicBezTo>
              </a:path>
            </a:pathLst>
          </a:custGeom>
          <a:noFill/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1"/>
          <p:cNvSpPr/>
          <p:nvPr/>
        </p:nvSpPr>
        <p:spPr>
          <a:xfrm flipV="1">
            <a:off x="7240680" y="5597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12"/>
          <p:cNvSpPr/>
          <p:nvPr/>
        </p:nvSpPr>
        <p:spPr>
          <a:xfrm>
            <a:off x="7240680" y="55864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3"/>
          <p:cNvSpPr/>
          <p:nvPr/>
        </p:nvSpPr>
        <p:spPr>
          <a:xfrm>
            <a:off x="7529400" y="5238720"/>
            <a:ext cx="1470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pports de connaissances, méthodologi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322280" y="121932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c0504d"/>
                </a:solidFill>
                <a:latin typeface="Arial Black"/>
              </a:rPr>
              <a:t>Eléments de Dé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1332000" y="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a Modular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4"/>
          <p:cNvSpPr/>
          <p:nvPr/>
        </p:nvSpPr>
        <p:spPr>
          <a:xfrm>
            <a:off x="1390680" y="2308320"/>
            <a:ext cx="7378560" cy="38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modularisation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représente la description en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Unités de Formation (UF)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et en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modul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de l’ensemble des activités professionnelles et transversales dédiées à un métier. Elle permet la construction d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arcours de formation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constitués d’UF et de modu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e UF est définie à partir d’un ensemble de compétences relatives à une ou plusieurs activités professionnelles de référence. Chaqu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UF doit viser un ensemble significatif de compétences professionnellement cohéren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8" descr="fluidité"/>
          <p:cNvPicPr/>
          <p:nvPr/>
        </p:nvPicPr>
        <p:blipFill>
          <a:blip r:embed="rId1"/>
          <a:stretch/>
        </p:blipFill>
        <p:spPr>
          <a:xfrm>
            <a:off x="4849920" y="773280"/>
            <a:ext cx="4551120" cy="16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 Box 2"/>
          <p:cNvSpPr/>
          <p:nvPr/>
        </p:nvSpPr>
        <p:spPr>
          <a:xfrm>
            <a:off x="1332000" y="1062000"/>
            <a:ext cx="654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c0504d"/>
                </a:solidFill>
                <a:latin typeface="Arial Black"/>
              </a:rPr>
              <a:t>Le sens et les principes de la modularis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1332000" y="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a Modular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1511280" y="2352600"/>
            <a:ext cx="739476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modularisation sert à la création d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arcours de formation flexibl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et facilite la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formation tout au long de la vi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en permettant d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arcours personnalisé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modularisation doit faciliter la mise en place de parcours de formation adaptés à la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iversité de situation des entrants et aux poursuites d’études envisagé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2"/>
          <p:cNvSpPr/>
          <p:nvPr/>
        </p:nvSpPr>
        <p:spPr>
          <a:xfrm>
            <a:off x="1332000" y="1062000"/>
            <a:ext cx="654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c0504d"/>
                </a:solidFill>
                <a:latin typeface="Arial Black"/>
              </a:rPr>
              <a:t>Le sens et les principes de la modularis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1332000" y="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a Modular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1474920" y="2279520"/>
            <a:ext cx="732312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unité de formations générales comportent deux types de mod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d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modules autonom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 dédiés à la formation générale de l’étudiant ou facilitateurs pour la poursuite d’étu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d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modules liés aux enseignements technologiques et professionnel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 qui doivent être placés en cohérence dans le parcours de 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676160" y="36000"/>
            <a:ext cx="746748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a Modularis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Rectangle 6"/>
          <p:cNvSpPr/>
          <p:nvPr/>
        </p:nvSpPr>
        <p:spPr>
          <a:xfrm>
            <a:off x="1370160" y="1562040"/>
            <a:ext cx="7534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référentiels d’un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même champ professionnel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comportent d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UF et des modules communs éventuellement avec des niveaux de performance attendue variables et des UF spécifiqu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 Il est à noter que ce principe peut contribuer à maintenir des formations à faible effectif par regroupement d’étudiants au moins pendant les mod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ériodes de Formation en Entrepris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doivent être intégrées à certaines U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haque référentiel doit comporter une UF permettant de valider d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ompétences professionnelles de synthès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09:18:30Z</dcterms:created>
  <dc:creator>Michel RAGE</dc:creator>
  <dc:description/>
  <dc:language>en-US</dc:language>
  <cp:lastModifiedBy>Pierre</cp:lastModifiedBy>
  <dcterms:modified xsi:type="dcterms:W3CDTF">2011-11-08T11:53:47Z</dcterms:modified>
  <cp:revision>71</cp:revision>
  <dc:subject/>
  <dc:title>L’adaptation des parcours de formation</dc:title>
</cp:coreProperties>
</file>