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486-A333-4B44-8718-DE1777F0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214-7D1A-41E1-B524-5E1D149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478-B5A3-41F4-9C80-0C23F7A7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DFA-4F10-43E8-8D00-C00EC436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A5B-6B57-4C7E-870A-7CDAD70A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2B4-77DD-4CCB-8A80-37DA1696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AFB-AD9B-4013-AF95-C56A6EF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3E4-34D3-464D-8627-04A8F0F1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5D5-924D-41D0-B193-5A9FDFC4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B68-E412-4FEB-B22B-F78CA91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59F-F6C4-442A-98FD-DFA06F5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718-1EDD-42F1-8704-19DCF80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3F6-123C-45A8-8F29-C028010EA64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Calibri"/>
              </a:rPr>
              <a:t>Académie de Lill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Mise en œuvre du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BTS Conception et Réalisation de Systèmes Automatiques</a:t>
            </a:r>
            <a:br>
              <a:rPr sz="4000"/>
            </a:b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(BTS CRSA)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8 novembre 2011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Lycée Blaise-Pascal de LONGUENES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280" y="259920"/>
            <a:ext cx="82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uverture du sémin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s activités professionnel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M. GAR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e référentiel de certif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MUNIQUER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NALYSE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. DELPLA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VO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émarche de conception des SA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. HAOUA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préliminaire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nception détaillé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ALISE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ESTIEN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GANI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.DEL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KORB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44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oraires, unités et règlement d’exame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J. DIVERC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 : principes, EC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La modularisation du BTS CRSA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BAC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xemple d’organisation pédagogiqu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DECOCQ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GRA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. LEBAIL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M. HELA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Organisation temporelle de la formati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. GIEZ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personnalisé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s et conclusion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J.P. COLLIGN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35:09Z</dcterms:created>
  <dc:creator>DIVERCHY Jean-Jacques</dc:creator>
  <dc:description/>
  <dc:language>en-US</dc:language>
  <cp:lastModifiedBy>DIVERCHY Jean-Jacques</cp:lastModifiedBy>
  <dcterms:modified xsi:type="dcterms:W3CDTF">2011-11-07T22:07:57Z</dcterms:modified>
  <cp:revision>5</cp:revision>
  <dc:subject/>
  <dc:title>Académie de Lille   Mise en œuvre du BTS Conception et Réalisation de Systèmes Automatiques (BTS CRSA)   8 novembre 2011 Lycée Blaise-Pascal de LONGUENESSE</dc:title>
</cp:coreProperties>
</file>