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54F-8CAB-4C1E-BB8B-00A7E402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0F6-910A-4E57-A9FE-F89C533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59D-C673-4F33-A8AC-5451C3E3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E31-CC79-4123-A332-EBFE93C7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E45-1934-49D1-886C-122E746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979-E428-4702-8ABB-6AD9CD1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2A6-2282-4E97-A1C3-857A3A7F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261-70C3-4A58-9086-F8B85A53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959-4E97-4789-92AF-5BA26199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4AE-A0FD-49E7-91CB-DA130FF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09A-7E04-4627-9AA0-952DBD1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4CF-0F4D-4C13-A54A-61B021B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FCBB-A770-48FD-84FA-4A98A68D74A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Calibri"/>
              </a:rPr>
              <a:t>Académie de Lill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ise en œuvre du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TS Conception et Réalisation de Systèmes Automatiques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(BTS CRSA)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8 novembre 2011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Lycée Blaise-Pascal de LONGUENES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259920"/>
            <a:ext cx="820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uverture du sémin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s activités professionnel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M. GAR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 certif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MMUNIQUER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ALYSER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. DELPLA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VO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émarche de conception des S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. HAOUA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préliminaire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détaillé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ALIS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ESTIEN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GANI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.DEL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KORB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442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oraires, unités et règlement d’examen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 : principes, EC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 du BTS CRSA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BAC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emple d’organisation pédagogiqu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BAIL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HELA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rganisation temporelle de la form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GIEZE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ccompagnement personnalisé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s et conclusion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35:09Z</dcterms:created>
  <dc:creator>DIVERCHY Jean-Jacques</dc:creator>
  <dc:description/>
  <dc:language>en-US</dc:language>
  <cp:lastModifiedBy>DIVERCHY Jean-Jacques</cp:lastModifiedBy>
  <dcterms:modified xsi:type="dcterms:W3CDTF">2011-11-07T22:07:57Z</dcterms:modified>
  <cp:revision>5</cp:revision>
  <dc:subject/>
  <dc:title>Académie de Lille   Mise en œuvre du BTS Conception et Réalisation de Systèmes Automatiques (BTS CRSA)   8 novembre 2011 Lycée Blaise-Pascal de LONGUENESSE</dc:title>
</cp:coreProperties>
</file>