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B45-E782-42FF-9C22-D1FC706F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C8A-6A4B-499A-A60E-66BAFDE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65BD-369C-49A4-AE1B-A13ADACA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C0697-04D1-4C83-974E-F691B535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48513-8130-4F5B-BD57-114F8BE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A8DAB-DD75-49B5-9317-2FA0AAA2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67944-813A-4926-9A2B-74E0F10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11A09-2473-429B-B93D-CF61140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7DC30-96DD-48DE-A463-CD332586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42885-E152-439C-8087-1F9075EF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1626F-EF21-42B1-8531-365FCB4D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9E323-3BB8-4A8A-B695-8AAE1F91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BD5-328D-4792-ABF6-6B75142B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610A1-A4F8-4B30-876D-D1A189E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0FA85-9AEA-42F9-AFDF-74FC6D8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716A8-9AE5-4B82-B29D-594C7B56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D57BA-2BEE-4555-AA15-87257B1E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95035-7D99-45A9-9043-D41BCBC1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B939D-363D-4820-BF54-A45EB37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397AE-53D2-4C94-95C2-9AED738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1E892-5A55-4039-A668-82A9203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A2E69-31A9-496B-8899-A8D67144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E6191-337A-4189-BE80-9C8A52EC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48B-D4BB-4152-B0EB-D2DB6B9A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A109-007F-4183-B89F-2E90B949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1433-A692-4408-B87B-5D03E84C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051B6-54D6-4C43-A802-DBC9E417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9254E-94B5-489C-9925-F7D311D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93C74-0FC2-4329-8D3A-3320BE9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78823-25EB-482D-8EA1-11EEA41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7D37-F172-42DF-9181-DC88B70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04BCE-CBF0-453B-B8FC-743D4B2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C585F-C779-4DC8-BA19-BA00A29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C8109-0A8D-4FA2-9CF5-B30F3475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7D13-FA49-4196-8786-D9EDEAA4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2F283-77D1-4401-B174-3C630023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E6B4-E2BC-4CF6-8D20-CC948797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A0257-9E07-4C11-BA69-D3B1B134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04126-EDEB-42D5-89B3-4BBC3933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D6C5A-7C2D-4254-A615-F93B970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2E233-5DA2-4D60-AE83-5F33D963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E42E5-DFD2-40DB-B479-7E16106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6D318-0065-4B78-AA2A-04D01871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C904C-77A1-484F-ADF4-F576D72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E2D1B-E8C5-4916-AD58-82894CFD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E04B-87A6-4EF9-9F22-332D7A54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1B475-A36D-41A3-B605-1104231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13AB8-653D-4815-84E0-F3BC2FF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3C1B2-3B68-4248-BB61-19190F11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20480-D7E1-4FBB-A3BE-86AE95E3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58FD5-8F5A-48D8-836A-F350BB6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E51-D04A-4D53-9ABA-879106B7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96C0-2EDC-4F02-B01F-08C3B1C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B47-1C1C-4744-8A99-C4757FA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9E39-D5D3-4E43-B2EB-823A6FB9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1FE2-F21E-48E2-8F67-C598DA2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0C6-0C2D-4203-B061-928EB79C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AA80-8C98-4E62-8A8D-13599E43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9B8B-A307-414A-95F0-5AA9A43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FBD-07D1-43F4-BA6A-37941205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BC7-2B86-4803-900D-388A87AE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AC1-C6F1-4043-AB01-DB645A30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085B-B9A2-4B4F-B982-B75E5E53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A653-13E1-44A2-8CAE-06B5EBEC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BEFD-FBA7-48FB-B68E-204C15D1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7BB5-0292-4F3F-BDD0-7ED0F269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0BB6-EFBA-45A3-B5CF-B5B48A10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69E-8D67-4497-8D7B-2E5411A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6158-0FEC-4E35-9C0B-5F2B25CC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A0DC-47CC-420F-9713-D0F93C2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CDC8-E081-479C-AFDC-419BDA42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8263-40BF-4CA2-8663-29B96E40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68BB-443E-4A47-95B8-BC815175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52D7-6857-4E1D-A03A-BCB412D7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9EA7-1CD1-47A0-BFF9-F7D413D5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CBCA-C6B6-4470-827E-A0598064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2F87-6C13-4906-BA8B-152F76FF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FF1E-B3AA-4383-8163-E2BAF38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94A-0960-4DCD-9A85-8122474D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E232-BE61-4778-AE73-7B626147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7F00-C6BB-49B4-8C37-26E7A89B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38B3-748C-442C-8E97-A23EE4C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89A6-82F5-4DA7-81E9-D95305C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BAC7-2A4B-41FF-B7F3-567AD233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9CBC-3393-461F-AECD-54C87933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65A0-DBB4-4CF8-B4A9-4DFB82BB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1EA5-4A04-44E6-BBAE-6F2B7C85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B6AF3-332C-43AF-910B-BD446365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AE90-07EF-4A75-A533-A52C963F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A32-F0C6-46A8-BDF8-64D9ACD5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8BBE-C79C-415A-A2A6-422D9A89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6647-2BB2-43EC-A1DB-351ECAA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FBE3-B7A4-49BF-AF05-2A18E1A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7A67-1677-4DC0-B2B1-9BB7DC8F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D847-796F-4FBB-9C22-DBF898D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C555-A52B-4218-AEEC-CF53816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377D-55E7-4594-B6E3-96778EE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3948-668C-4B61-AC74-DCFF689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84CD5-E8FA-447E-9C38-00AC2C4A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FA2F1-639C-48D5-97E7-1750A485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468-432F-4A93-A7E5-212B11AB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0ECC-68C3-402F-829F-8EB8678D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5AEA-5689-412C-B690-E82F9EAF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3B0D-AD51-4113-B71F-4093EC1D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AEEE-85A7-46A6-98FC-44341D0B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91ABF-CB1C-44D8-8C6F-B01D03A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D273-2010-4363-8582-6A0FB76D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524E-B2C2-4E86-A86E-EC1CA0A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9AB6-1F54-4AAB-A2C2-46328A6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6182-56E8-4BE0-8232-FE06918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BD00-D890-431B-9E81-97443B6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3E8-B403-4E69-81EE-2CB6024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0D140-7068-4DCD-AF68-B4A46C9F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43D75-9245-414F-9577-2F674640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1379-718B-48FD-887C-0AE298D0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B7365-0B46-46B8-9369-4082AA8A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C0104-7D1C-45D6-A7E3-6B5BDE0B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69AC-5F65-41E4-B5DE-AADADD16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2556C-A527-4252-86D4-F652557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021D-2DAD-491D-8F62-E9A10555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9B95-8B7F-4945-BCCD-4ABBAEB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2C18-3742-4DBC-B4ED-81A988C6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703-2318-4393-8185-72F4B85C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13F9-5B43-4E68-B2AC-77B748F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361B3-8194-4F0C-8899-108BAB8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66E4D-DCBE-46C9-ACE0-0259F30A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08E9-11FC-4AE1-BA27-3A4CA398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3352-C559-43FE-ADF7-08DBDC35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EE82-B168-4104-A9BF-BE1620AC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AB4E9-C972-4CB3-AB7E-BE2A781A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3D2DB-F7E0-4F76-BC29-7306E82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54443-1791-49A0-9788-BF9121DB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61A57-D291-49DE-9FB3-EC16768F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E4C-0D0D-42B9-84EF-EE122E9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CE7B-61A8-4A6C-A4BF-7EC2399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A4A6C-C8DE-4253-B19B-E8029D4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C8FC-BD6D-4A80-AE60-01C3084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9301-A2B3-461F-9A2C-FF0EF5A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C7413-AA86-48F9-AB9D-F7D8756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6AA1-E25E-4792-AFC0-95056867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2E06-4919-4670-9380-B2584405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E025-B632-44B5-8DAF-50BA2533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2A2FA-8B13-44DF-A8DA-653D73B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9F1BE-C245-44A7-B376-58D90589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2AA2-1492-41D8-94D8-6AEF8A6CDDD8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rme lib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rme lib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375F-ED26-46B8-B494-83D5A5813064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59D-E9B1-4228-B10E-E8C88117E365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AD0-CE67-4FE7-BE89-9511F7BF2EC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DD8C-692A-4469-995D-DCB6B33C15AC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1B9-EC49-4BCA-AF2B-03771CA927F8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CBD-CD2E-468C-93EF-B14210B346D0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93DD-BBDE-4A6D-BA56-DEF3490C0AB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42C-C1C0-4A36-A8C7-4250D515CDB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16AA-6592-40FB-A01B-7393BD9FC0EF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01B-3696-4EBA-AACD-3DCE14C75373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rme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rme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A97-F066-479C-8FF5-D25D527369FB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87160" y="2372760"/>
            <a:ext cx="8055360" cy="1611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LA FINALITE DES COMPETENCES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DEVELOPPEES EN BAC PRO ELEEC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itre 1"/>
          <p:cNvSpPr/>
          <p:nvPr/>
        </p:nvSpPr>
        <p:spPr>
          <a:xfrm>
            <a:off x="428760" y="9288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LATION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space réservé du contenu 2"/>
          <p:cNvSpPr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est capable de répondre de façon adaptée en fonction de l’attente du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9_11reunion_chantier"/>
          <p:cNvPicPr/>
          <p:nvPr/>
        </p:nvPicPr>
        <p:blipFill>
          <a:blip r:embed="rId1"/>
          <a:stretch/>
        </p:blipFill>
        <p:spPr>
          <a:xfrm>
            <a:off x="5602320" y="3456000"/>
            <a:ext cx="1938240" cy="268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itre 1"/>
          <p:cNvSpPr/>
          <p:nvPr/>
        </p:nvSpPr>
        <p:spPr>
          <a:xfrm>
            <a:off x="428760" y="7858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Espace réservé du contenu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Espace réservé du contenu 2"/>
          <p:cNvSpPr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atteste un niveau de compétences générales et professionnelles permettant au titulaire du diplô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s’insérer professionnellement dans des emplois correspondant à des formations de niveau I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’évoluer vers des niveaux de qualification supérieure, notamment en s’appuyant sur la formation contin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71680" y="1071360"/>
            <a:ext cx="7929360" cy="48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e titulaire du BAC PRO ELEEC est capable 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construire et raccorder des équipements électriq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conduire une équipe de fabr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réaliser des opérations de mainten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de mettre en œuvre des équipements du courant faible (V.D.I., alarmes, …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00040" y="928440"/>
            <a:ext cx="8429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a formation suivie sensibilise les élèves à 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’environnement technologique et qualitatif de l’entrep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x risques professionnels (par l’habilitation BR et le secourism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législation du monde du trav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monde professionnel (22 semaines de stag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8" name="Picture 2" descr="002124-300x300"/>
          <p:cNvPicPr/>
          <p:nvPr/>
        </p:nvPicPr>
        <p:blipFill>
          <a:blip r:embed="rId1"/>
          <a:stretch/>
        </p:blipFill>
        <p:spPr>
          <a:xfrm>
            <a:off x="5815080" y="3816360"/>
            <a:ext cx="265896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Espace réservé du contenu 2"/>
          <p:cNvSpPr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116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e référentiel s’articule autour d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40" indent="1116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6 fonctions principales suivantes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SE E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LATION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UD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 partir d’un cahier des charges et des normes en vigueur, le BAC PRO ELEEC est capable d’établir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dev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produire les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ivr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2" descr="cleardiag_devis"/>
          <p:cNvPicPr/>
          <p:nvPr/>
        </p:nvPicPr>
        <p:blipFill>
          <a:blip r:embed="rId1"/>
          <a:stretch/>
        </p:blipFill>
        <p:spPr>
          <a:xfrm>
            <a:off x="2457360" y="2603520"/>
            <a:ext cx="1943280" cy="1938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instal-electrique"/>
          <p:cNvPicPr/>
          <p:nvPr/>
        </p:nvPicPr>
        <p:blipFill>
          <a:blip r:embed="rId2"/>
          <a:stretch/>
        </p:blipFill>
        <p:spPr>
          <a:xfrm>
            <a:off x="5029200" y="3743280"/>
            <a:ext cx="3517920" cy="231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tre 1"/>
          <p:cNvSpPr/>
          <p:nvPr/>
        </p:nvSpPr>
        <p:spPr>
          <a:xfrm>
            <a:off x="42876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contenu 2"/>
          <p:cNvSpPr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 amont d’une installation ou d’une interven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doit être capable de préparer le travai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ticipation aux réunions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x planifications des chan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partition des tâ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r cela, il prendra en compte le PD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1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PPSPS et les contraintes environne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PHOTO-TRI-SELECTIF_illustration_article"/>
          <p:cNvPicPr/>
          <p:nvPr/>
        </p:nvPicPr>
        <p:blipFill>
          <a:blip r:embed="rId1"/>
          <a:stretch/>
        </p:blipFill>
        <p:spPr>
          <a:xfrm>
            <a:off x="7175520" y="4456080"/>
            <a:ext cx="1724040" cy="1731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"/>
          <p:cNvPicPr/>
          <p:nvPr/>
        </p:nvPicPr>
        <p:blipFill>
          <a:blip r:embed="rId2"/>
          <a:stretch/>
        </p:blipFill>
        <p:spPr>
          <a:xfrm>
            <a:off x="5602320" y="2457360"/>
            <a:ext cx="2498760" cy="169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itre 1"/>
          <p:cNvSpPr/>
          <p:nvPr/>
        </p:nvSpPr>
        <p:spPr>
          <a:xfrm>
            <a:off x="42876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contenu 2"/>
          <p:cNvSpPr/>
          <p:nvPr/>
        </p:nvSpPr>
        <p:spPr>
          <a:xfrm>
            <a:off x="714240" y="1571760"/>
            <a:ext cx="737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câble, raccorde et vérifie le fonctionnement d’équipements électr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58629358_1"/>
          <p:cNvPicPr/>
          <p:nvPr/>
        </p:nvPicPr>
        <p:blipFill>
          <a:blip r:embed="rId1"/>
          <a:stretch/>
        </p:blipFill>
        <p:spPr>
          <a:xfrm>
            <a:off x="5389560" y="2530440"/>
            <a:ext cx="2797200" cy="37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electricien"/>
          <p:cNvPicPr/>
          <p:nvPr/>
        </p:nvPicPr>
        <p:blipFill>
          <a:blip r:embed="rId2"/>
          <a:stretch/>
        </p:blipFill>
        <p:spPr>
          <a:xfrm>
            <a:off x="1243080" y="3389400"/>
            <a:ext cx="2779560" cy="185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itre 1"/>
          <p:cNvSpPr/>
          <p:nvPr/>
        </p:nvSpPr>
        <p:spPr>
          <a:xfrm>
            <a:off x="428760" y="7858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ISE E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contenu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est capable de vérifier la conformité d’une installation ou d’un équipement électr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 sait rendre compte de son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des modifications à ap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tretch/>
        </p:blipFill>
        <p:spPr>
          <a:xfrm>
            <a:off x="5675400" y="3170160"/>
            <a:ext cx="300492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re 1"/>
          <p:cNvSpPr/>
          <p:nvPr/>
        </p:nvSpPr>
        <p:spPr>
          <a:xfrm>
            <a:off x="428760" y="85716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Espace réservé du contenu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BAC PRO ELEEC est capable de réaliser des travaux de maintenance préventive ou corrective à partir de son diagno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 met à jour les fiches d’intervention et les fichiers GMA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4889520" y="2882880"/>
            <a:ext cx="3297240" cy="201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7:48:21Z</dcterms:created>
  <dc:creator>Votre nom d'utilisateur</dc:creator>
  <dc:description/>
  <dc:language>en-US</dc:language>
  <cp:lastModifiedBy>Votre nom d'utilisateur</cp:lastModifiedBy>
  <dcterms:modified xsi:type="dcterms:W3CDTF">2010-03-20T10:01:23Z</dcterms:modified>
  <cp:revision>90</cp:revision>
  <dc:subject/>
  <dc:title>Diapositive 1</dc:title>
</cp:coreProperties>
</file>