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23A-CB02-4542-82DC-21E4AFF1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DA6-6186-4386-8385-8948D3C4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E5F6F-FE7D-4498-AF95-D16A2210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6CF02-97BC-4693-B05E-616C6929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AE0D6-9811-421F-8161-A29F09BC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508AC-DF59-4B6E-BD35-9DFC8E13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6D729-B2E3-40A6-880E-D6818461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AB27F-E159-4FFF-BA17-EB487C04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1DA34-7C37-4210-87D6-50100776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BFDC4-9C17-467D-B02C-A9196E14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20612-98B5-4ADB-97D5-96A60CDC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BEBC9-9A41-4CE6-B85D-1C42C2C0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C5A-3E9E-48AC-B060-B639EA62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85346-7FC5-4AF6-93C8-DA0276E3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E2678-9602-49A1-9FC2-550819BD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57A47-6C8A-4CF3-BD89-C83C527F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54B70-BFE0-4644-8B25-BAAAA357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BED95-B36D-4F5D-BBA6-6511791D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22A3A-E789-46C4-811B-AE3B81B2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67E01-B285-4328-9B53-274A0FDF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80F15-20AE-48B8-A675-B401AAB1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16AF0-73A7-4F2B-B296-186C7BDF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8AE32-CAD8-4A2A-A30C-71A6F744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185-935A-4AC9-B7FD-5BA1A4CA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4AE95-4C51-47C1-AFCE-DA6191E6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DFD68-726A-4C17-AAA1-B2D12C09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B5577-3683-49BF-9D63-9E8220DF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8DB13-006F-4515-A67F-F847736F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1D8FD-BC2D-4593-9F23-5E3C26BC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D2814-2D4C-4884-A471-C9ABA2B8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4BE3B-6C45-4B50-A1A0-7A16CDAE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5D323-2BCA-4EBB-BEF1-044ADC47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0FB57-671D-4EB2-85F7-8EB4298B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9584A-7350-4E91-B1EF-983B05B9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FE6E-E6C0-47C5-B699-084F4BAE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40137-BD6C-40EF-882D-D5A2FFCB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A7663-344F-47A7-BC74-49C5EB7E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64A63-4341-44CB-BAC4-D0DC0C99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B40A2-C487-46C5-AB4A-A947CD72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6F245-D61A-4B33-BCF5-FB79FC5C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8C0C6-1B6F-4707-9958-33057673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8BC81-CE30-4FE0-BA63-3368AC8C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99F11-FDF7-48F7-A491-3ED15B4F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A7CDA-B2F7-4EA0-8D39-BE759D78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5BFF3-C47C-4D9C-B8E0-875B2C6D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24BD-1305-4F50-A16C-990C417C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41A27-5D86-4CA9-84EA-3D4C9350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81549-2894-4869-8F6C-FE155D18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C52D4-5A7F-4928-9231-C8AB944F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CEF77-7366-4403-ACC9-153304F7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2A284-CA81-4C69-AA6A-511E0598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C39E-6EDA-46F3-9508-80A8EFD4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A17C-0BC4-4D7A-868A-E9106CA0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8D12-3957-407C-928C-B0FFF379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8243-650D-4A68-A65C-E09F61A6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7B07-C3A6-4FE2-871C-FF21892D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718-B4F7-47AC-849A-46A93D04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80F5-280F-4EFE-A190-54F37492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6E7C-5C87-4135-A7D3-777B8DC1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8ED4-4E38-490D-A092-DC3589EF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C8EC-484C-4F7D-8C91-91F2B929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96B8-3463-4DA3-964D-B7254693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19624-8CF3-4019-A700-D7CDC4A4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D8BE8-B159-4AA7-8B7C-EE3E4D89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0E7AF-9C94-43E9-95AF-205DF197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E146B-0B14-40F8-BDD7-13FD744F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E50A4-7C77-43C5-9B6E-FC3D0662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F7C8-7C3B-45CE-8696-FBFF996A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5AF1E-D30D-4CCD-9517-8778E102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81F7F-648E-4E77-BF56-907F7F06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BA7D2-EF4F-4FCC-8DCB-4FE5ED73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84E8B-D7CF-441B-8FE8-D66AF2AF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0CA59-D1B4-4A6C-B7F8-F1489E45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08C61-D53E-46C4-BC71-367F652C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7D30F-F180-44B1-AE46-709DF778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D3CD7-9A94-45A2-9D5E-7B0B0376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DBEB5-9B2C-4205-A2C6-31EF71F3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5571E-70EF-4BAC-96BD-FCCBE502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060-12CA-4AAA-BFCD-1541BA07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F2D2F-7593-4CC0-B63E-4D1B09A9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4BE84-FC40-44B9-A7F0-978D6DC9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7F763-F77A-4E72-8EE0-58308EE3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5E8A7-809F-44E1-9D00-73141A42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08C64-DD03-41AC-86B7-9227B7B9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1BA43-4A4A-4240-9B41-EA587659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21832-ECA8-4A93-B2B2-625ED072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457E4-6D0C-4FFA-9090-13A11EDA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8EE03-91D5-401C-8D9D-BEDC2178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EF224-815F-41E4-AD64-C12B176A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8DA-CA00-4974-B341-396A1F25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70859-71ED-4E3E-A82E-376B8157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3D091-18DA-4507-A9EE-34EDB98A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F8226-0AD1-4A9A-819A-5D3FD03E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A74FB-A6FD-4BA3-8CC9-DBA62DF8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9F7F2-7C10-439A-9A35-BF9F56E8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04949-BF1E-4E8C-9B0D-72A4A4BF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80C01-9082-40B9-8171-88E7640D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576CA-8942-4AAF-8157-36FCBB36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52893-ABE8-4CD1-8A87-A281B690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0E70A-3802-4DD7-8007-9A35AE15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0D36-3C6B-4575-BF9E-BD86FD89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E4CF4-1378-4984-BD5F-843C4DAC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CF62D-CF23-4363-B836-8FF451CB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1120B-66B1-4703-9112-06ABD356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729D2-E6F7-4A11-AF4A-24CD51BA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968E9-3DE1-449C-9A6F-6D1F34BD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53B13-2B33-41BF-915D-993ACB9C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5FE83-21F9-4876-BD1F-DF87DED8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6C207-DD16-4E0A-84BA-42896023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A0165-21A9-4E91-8BA4-B58B3373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A5F53-A14F-4E21-A1CB-10014C80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A74-456A-4905-B260-23C35654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1CC0A-FC91-45DE-9A0A-6C9DCF31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E30C9-490F-48E8-BB25-4780D48E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32589-E524-4F0B-9D5E-9F6970F2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234F4-3805-45E3-9411-6798550C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3EFCA-0336-45B7-B3FB-D401B4E4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12C04-B601-4982-ACF5-D287EE13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B2758-0A03-45BF-A532-6801D0CC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6DA32-6DEC-4378-A14C-FDB419EB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57258-0F78-4AA6-A935-67814945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67E84-3852-4954-8EC1-48EFACEB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561-FC01-4BEB-A1D0-B5176289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22C14-AF0E-4E2A-8F19-079B7772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D63B5-9CD4-413D-9D65-60317525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77A47-2E12-40E2-8524-30259BCC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3F06E-D70C-47DF-AB73-65DBC3A7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28E23-0AF2-4748-AAE8-1040C0FA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30473-94B6-4251-B222-6305CA6F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50427-7CEA-4F23-B7AD-69CDB3D2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82748-6302-4225-8ACF-6EC7D9F4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2855D-3A50-4959-9BCE-7F80DB73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E3136-36C5-40FC-B8DE-723B65E3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DA7-D059-44D6-B65D-755BDA9E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123CE-F371-42B6-9DAB-5895E950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56326-91AA-4D74-B1C5-CBD575A8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190E9-FB5B-4818-883A-6F7E0DCA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6DFC1-E9C3-4F38-BA1F-593B25F9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E930F-CF37-41C0-AF0A-4C5844C7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09F19-E36E-44AA-8447-850C5582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A0B80-C0C7-400E-9ACC-5558F37E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D40AB-E8B3-4115-8B22-E346402C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D72DD-A903-45D4-A849-33CE0C19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F7C7A-230B-456F-A8A2-9C04A7B5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ABB8-387C-47FE-9825-B0141A62C4B8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79CA-FB20-4CA4-B837-B78CB4067BEE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rme libre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rme libre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DA3C-FCCB-4B4E-8CE7-1C9762A5E1DD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A8A6-120D-46BC-A984-C01F28206E3A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9F1B-10F9-4F1B-81C3-60F1A403A3B0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ABF4-CFDB-4F8D-A6D0-97C2BF570D2E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A6C8-2960-45C1-A7BE-E118880E9E52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3B68-82CE-45EB-A8EB-B66A3F6B6EB3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4C1E-CAA0-493C-AE5A-E96188A1CD17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5980-0CFD-4A5C-9F87-99476B0EEBE2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1375-43A2-408D-BDC8-1D985C73C575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DDA3-109B-405C-9FA2-CC7EE2192F2E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E457-2844-4B6E-8FB9-2E80FA15497F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53A8-EAF9-4035-AD9D-65F3949E78BE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8788-DE6D-4553-BCED-08C6CB79D05C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83E6-86E2-4DD1-BAD9-7EC74B9170E0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C794-36C2-4C17-A1D5-B471E1E968B4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B234-3FE1-45D5-A909-3F5CCAB7423A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472F-4D7E-44A5-B49A-905C172D38F4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CB16-3518-4EE8-BC5D-843C1A23EFAB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7CCF-6B2C-4279-A51C-A6FD2730B7A1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CCF7-7FD0-447E-A1A7-1C08550CED9E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D6A5-E8E3-4C4B-8B03-A7FD5D2D1506}" type="datetime">
              <a:rPr b="0" lang="fr-FR" sz="1200" spc="-1" strike="noStrike">
                <a:solidFill>
                  <a:srgbClr val="045c75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C45B-9158-458F-8D47-FF830AEE3596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Titre 2" descr=""/>
          <p:cNvPicPr/>
          <p:nvPr/>
        </p:nvPicPr>
        <p:blipFill>
          <a:blip r:embed="rId1"/>
          <a:stretch/>
        </p:blipFill>
        <p:spPr>
          <a:xfrm>
            <a:off x="530280" y="895320"/>
            <a:ext cx="7864560" cy="24084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Etat des lieux  201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Journée académique  Liaison Bac Pro – B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9 novembre 2011, Tourco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Statistiques nationa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885840" y="2666880"/>
            <a:ext cx="4800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rès le bac, les bacheliers technologiques s’orientent majoritairement en BTS (53%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 taux d’orientation des Bac Pros en BTS atteint 17,7 % en 201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9" name="Image 4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2639880" cy="335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Déclinaison académiqu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495680" y="2590560"/>
            <a:ext cx="4191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 STS (globalement)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/5 de Bacs générau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/5 de Bacs pr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/5 de Bacs Techn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2" name="Image 3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3898800" cy="298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Profils de Bacheliers entrant en B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572000" y="1934640"/>
            <a:ext cx="4114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 grande majorité des étudiants issus de Bac Pro poursuivant en BTS ont décroché leur baccalauréat sans mention ou avec la mention A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5" name="Image 3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3824280" cy="26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Constats sur le décroch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0" y="2971800"/>
            <a:ext cx="4114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e décrochage en BTS touche majoritairement les étudiants issus de Bac Professionn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8" name="Image 3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3730680" cy="265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Titre 7" descr=""/>
          <p:cNvPicPr/>
          <p:nvPr/>
        </p:nvPicPr>
        <p:blipFill>
          <a:blip r:embed="rId1"/>
          <a:stretch/>
        </p:blipFill>
        <p:spPr>
          <a:xfrm>
            <a:off x="450720" y="2249640"/>
            <a:ext cx="8315280" cy="2298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4617b"/>
                </a:solidFill>
                <a:latin typeface="Calibri"/>
              </a:rPr>
              <a:t>Origine des étudian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11" name="Espace réservé du contenu 4" descr=""/>
          <p:cNvPicPr/>
          <p:nvPr/>
        </p:nvPicPr>
        <p:blipFill>
          <a:blip r:embed="rId1"/>
          <a:stretch/>
        </p:blipFill>
        <p:spPr>
          <a:xfrm>
            <a:off x="457200" y="1920960"/>
            <a:ext cx="4038480" cy="4433760"/>
          </a:xfrm>
          <a:prstGeom prst="rect">
            <a:avLst/>
          </a:prstGeom>
          <a:ln w="0">
            <a:noFill/>
          </a:ln>
        </p:spPr>
      </p:pic>
      <p:pic>
        <p:nvPicPr>
          <p:cNvPr id="612" name="Espace réservé du contenu 5" descr=""/>
          <p:cNvPicPr/>
          <p:nvPr/>
        </p:nvPicPr>
        <p:blipFill>
          <a:blip r:embed="rId2"/>
          <a:stretch/>
        </p:blipFill>
        <p:spPr>
          <a:xfrm>
            <a:off x="4648320" y="1920960"/>
            <a:ext cx="4038480" cy="4433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% de sorties du BTS Electrotech. Par catégorie d’orig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14" name="Espace réservé du contenu 4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Réussite des étudiants au BTS</a:t>
            </a:r>
            <a:br>
              <a:rPr sz="5000"/>
            </a:br>
            <a:r>
              <a:rPr b="0" lang="fr-FR" sz="2000" spc="-1" strike="noStrike">
                <a:solidFill>
                  <a:srgbClr val="04617b"/>
                </a:solidFill>
                <a:latin typeface="Calibri"/>
              </a:rPr>
              <a:t>(pour ceux qui y arrivent...)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16" name="Espace réservé du contenu 3"/>
          <p:cNvGraphicFramePr/>
          <p:nvPr/>
        </p:nvGraphicFramePr>
        <p:xfrm>
          <a:off x="793800" y="2281320"/>
          <a:ext cx="7554960" cy="36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7" name="Espace réservé du contenu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2281320"/>
                    <a:ext cx="755496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20:58:37Z</dcterms:created>
  <dc:creator>Votre nom d'utilisateur</dc:creator>
  <dc:description/>
  <dc:language>en-US</dc:language>
  <cp:lastModifiedBy>Federico Berera</cp:lastModifiedBy>
  <dcterms:modified xsi:type="dcterms:W3CDTF">2011-11-08T21:14:30Z</dcterms:modified>
  <cp:revision>99</cp:revision>
  <dc:subject/>
  <dc:title>Diapositive 1</dc:title>
</cp:coreProperties>
</file>