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950-1F8C-429E-9157-262F2A52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571-0DAA-4E8A-99DD-7E96914A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9F5-BCA9-48CC-8C0B-30EDA172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7A0-BB8F-4182-97E7-C87E078F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8B71-D66C-4AA8-AA2E-3DE4BEFA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EBEF-7EE2-4F06-85B5-842A5F5B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B15E-8BA3-43B0-8C1A-3649CBC1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4A62-1CE8-4CAC-9224-B52626D9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E5C7-10E0-4469-8590-FE285964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31E3-B409-4585-A558-51675361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C425-B95F-4BE4-A6A4-5E2E1C2C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5D02-870E-4D96-8640-F654377A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6570-705F-4526-A10C-EB438195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20E2-7744-42CE-B06C-D5C741A6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6A17-DAFA-4391-BEE7-E4B4603B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09AA-AABA-45AB-9B7E-3D7707E0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F647-5D3D-496B-961A-10334EB6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4C342-945A-49BB-A5CA-049AB6B7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19B6-0E73-4E38-97B5-F1C0C2D3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8738B-2AA3-40E0-AEBA-905AC60A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A6F78-DC8E-49D7-B6A4-B37CCF8D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81BE4-93A3-44E5-8706-85DF2348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149-5582-4A6D-98FB-E693BBFA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06F8-7AF1-42D8-936F-C6B8C62F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D415E-55F4-48BA-8EB9-E02037CD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AD4B-0CC1-48B3-9772-689EA167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6C78B-4A90-428B-A9E2-62A7F908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0CF7A-061D-48E4-AD04-BF3E887D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BFF3-4A21-4375-833C-430BFA57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1487-B642-4C77-B8CE-AEBE8CCF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CEF1A-071D-4ABF-81BB-DDDE812A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871B1-33C9-453E-9D13-470D46A4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8FFA1-A509-43EA-95C4-6CAC5550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8BB-4BB1-4CBE-89F4-D4126BDB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A4DA7-4DCF-4A7D-BAE8-3FB146B8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DE66E-4CD3-4EA6-92D3-866A5E67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51918-5F9D-43D4-850C-2E4C3213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B75FD-08CF-4E13-9D1A-6BECE783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2B4EB-0EFE-47ED-BA37-40BC3BE6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7EA43-F171-4874-A797-4A28E2D2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4FD4A-F274-46F4-8433-7A32D5F3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A4C7F-CF63-4371-8C2A-41C36AE0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C38C2-6D37-4058-A8DE-D454F4BE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679-15ED-4EDA-A6E4-5929521C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16C-736C-47DD-97ED-92EFE362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A5C-490A-4FDF-8AF2-36F6C5D4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2A0F-0E7A-4982-9D17-390BAB88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8F4-A031-4BE7-9D73-B8467198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ACE5-CA30-4538-B477-5745DE2F4A68}" type="datetime">
              <a:rPr b="0" lang="fr-FR" sz="1000" spc="-1" strike="noStrike">
                <a:solidFill>
                  <a:srgbClr val="a1b4b7"/>
                </a:solidFill>
                <a:latin typeface="Verdana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6FD4-75E0-409A-A69B-20BB2126CB79}" type="slidenum">
              <a:rPr b="0" lang="fr-FR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ounded Rectangle 13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ounded Rectangle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9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57C3-9A6D-4EDF-8457-41E53AFDEF40}" type="datetime">
              <a:rPr b="0" lang="fr-FR" sz="1000" spc="-1" strike="noStrike">
                <a:solidFill>
                  <a:srgbClr val="a1b4b7"/>
                </a:solidFill>
                <a:latin typeface="Verdana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1B3F-229C-42DC-A454-3D87CA92B70D}" type="slidenum">
              <a:rPr b="0" lang="fr-FR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" name="Image 10" descr="illustrator-old-school.png"/>
          <p:cNvPicPr/>
          <p:nvPr/>
        </p:nvPicPr>
        <p:blipFill>
          <a:blip r:embed="rId3"/>
          <a:stretch/>
        </p:blipFill>
        <p:spPr>
          <a:xfrm>
            <a:off x="428760" y="428760"/>
            <a:ext cx="928440" cy="928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6547-572A-4FE1-AB7D-075CEA33BAB9}" type="datetime">
              <a:rPr b="0" lang="fr-FR" sz="1000" spc="-1" strike="noStrike">
                <a:solidFill>
                  <a:srgbClr val="a1b4b7"/>
                </a:solidFill>
                <a:latin typeface="Verdana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a1b4b7"/>
                </a:solidFill>
                <a:latin typeface="Verdana"/>
              </a:rPr>
              <a:t>JPS 201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CB92-6B32-4D0B-8912-78BA57BE3DDF}" type="slidenum">
              <a:rPr b="0" lang="fr-FR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ounded Rectangle 9"/>
          <p:cNvSpPr/>
          <p:nvPr/>
        </p:nvSpPr>
        <p:spPr>
          <a:xfrm>
            <a:off x="320760" y="6060960"/>
            <a:ext cx="8502480" cy="45720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8640">
            <a:solidFill>
              <a:srgbClr val="302f2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EF8A-118E-4468-99F6-EAF56F5F302A}" type="datetime">
              <a:rPr b="0" lang="fr-FR" sz="1000" spc="-1" strike="noStrike">
                <a:solidFill>
                  <a:srgbClr val="a1b4b7"/>
                </a:solidFill>
                <a:latin typeface="Verdana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9016-468D-4C26-BF82-DEE7312B10D1}" type="slidenum">
              <a:rPr b="0" lang="fr-FR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4885e9"/>
                </a:solidFill>
                <a:latin typeface="Verdana"/>
              </a:rPr>
              <a:t>Lycée de l'Europe DUNKERQUE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28760" y="428400"/>
            <a:ext cx="8286480" cy="4500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Exemples de chantier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Réseau A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Image 3" descr="PC050008.JPG"/>
          <p:cNvPicPr/>
          <p:nvPr/>
        </p:nvPicPr>
        <p:blipFill>
          <a:blip r:embed="rId1"/>
          <a:stretch/>
        </p:blipFill>
        <p:spPr>
          <a:xfrm>
            <a:off x="500040" y="4143240"/>
            <a:ext cx="2200320" cy="1649520"/>
          </a:xfrm>
          <a:prstGeom prst="rect">
            <a:avLst/>
          </a:prstGeom>
          <a:ln w="0">
            <a:noFill/>
          </a:ln>
        </p:spPr>
      </p:pic>
      <p:pic>
        <p:nvPicPr>
          <p:cNvPr id="210" name="Image 4" descr="PC050009.JPG"/>
          <p:cNvPicPr/>
          <p:nvPr/>
        </p:nvPicPr>
        <p:blipFill>
          <a:blip r:embed="rId2"/>
          <a:stretch/>
        </p:blipFill>
        <p:spPr>
          <a:xfrm>
            <a:off x="6072120" y="4071960"/>
            <a:ext cx="1238400" cy="1649520"/>
          </a:xfrm>
          <a:prstGeom prst="rect">
            <a:avLst/>
          </a:prstGeom>
          <a:ln w="0">
            <a:noFill/>
          </a:ln>
        </p:spPr>
      </p:pic>
      <p:pic>
        <p:nvPicPr>
          <p:cNvPr id="211" name="Image 5" descr="PC050011.JPG"/>
          <p:cNvPicPr/>
          <p:nvPr/>
        </p:nvPicPr>
        <p:blipFill>
          <a:blip r:embed="rId3"/>
          <a:stretch/>
        </p:blipFill>
        <p:spPr>
          <a:xfrm>
            <a:off x="3071880" y="3857760"/>
            <a:ext cx="2200320" cy="1649160"/>
          </a:xfrm>
          <a:prstGeom prst="rect">
            <a:avLst/>
          </a:prstGeom>
          <a:ln w="0">
            <a:noFill/>
          </a:ln>
        </p:spPr>
      </p:pic>
      <p:pic>
        <p:nvPicPr>
          <p:cNvPr id="212" name="Image 6" descr="PC050013.JPG"/>
          <p:cNvPicPr/>
          <p:nvPr/>
        </p:nvPicPr>
        <p:blipFill>
          <a:blip r:embed="rId4"/>
          <a:stretch/>
        </p:blipFill>
        <p:spPr>
          <a:xfrm>
            <a:off x="7286760" y="2857680"/>
            <a:ext cx="1238040" cy="1649160"/>
          </a:xfrm>
          <a:prstGeom prst="rect">
            <a:avLst/>
          </a:prstGeom>
          <a:ln w="0">
            <a:noFill/>
          </a:ln>
        </p:spPr>
      </p:pic>
      <p:pic>
        <p:nvPicPr>
          <p:cNvPr id="213" name="Image 7" descr="PC050018.JPG"/>
          <p:cNvPicPr/>
          <p:nvPr/>
        </p:nvPicPr>
        <p:blipFill>
          <a:blip r:embed="rId5"/>
          <a:stretch/>
        </p:blipFill>
        <p:spPr>
          <a:xfrm>
            <a:off x="4857840" y="2000160"/>
            <a:ext cx="1238040" cy="1649520"/>
          </a:xfrm>
          <a:prstGeom prst="rect">
            <a:avLst/>
          </a:prstGeom>
          <a:ln w="0">
            <a:noFill/>
          </a:ln>
        </p:spPr>
      </p:pic>
      <p:pic>
        <p:nvPicPr>
          <p:cNvPr id="214" name="Image 8" descr="PC050020.JPG"/>
          <p:cNvPicPr/>
          <p:nvPr/>
        </p:nvPicPr>
        <p:blipFill>
          <a:blip r:embed="rId6"/>
          <a:stretch/>
        </p:blipFill>
        <p:spPr>
          <a:xfrm>
            <a:off x="3214800" y="1571760"/>
            <a:ext cx="1238040" cy="1649160"/>
          </a:xfrm>
          <a:prstGeom prst="rect">
            <a:avLst/>
          </a:prstGeom>
          <a:ln w="0">
            <a:noFill/>
          </a:ln>
        </p:spPr>
      </p:pic>
      <p:pic>
        <p:nvPicPr>
          <p:cNvPr id="215" name="Image 9" descr="PC050006.JPG"/>
          <p:cNvPicPr/>
          <p:nvPr/>
        </p:nvPicPr>
        <p:blipFill>
          <a:blip r:embed="rId7"/>
          <a:stretch/>
        </p:blipFill>
        <p:spPr>
          <a:xfrm>
            <a:off x="6286680" y="1000080"/>
            <a:ext cx="2199960" cy="1649520"/>
          </a:xfrm>
          <a:prstGeom prst="rect">
            <a:avLst/>
          </a:prstGeom>
          <a:ln w="0">
            <a:noFill/>
          </a:ln>
        </p:spPr>
      </p:pic>
      <p:sp>
        <p:nvSpPr>
          <p:cNvPr id="216" name="ZoneTexte 10"/>
          <p:cNvSpPr/>
          <p:nvPr/>
        </p:nvSpPr>
        <p:spPr>
          <a:xfrm>
            <a:off x="694440" y="2286000"/>
            <a:ext cx="245160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7 armoires à réalis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utomat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XB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TeSy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ariateu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scenseu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T°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istribution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Le réseau Asi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ntrai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utillages spécifiques lim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vaux en hau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moire de distibution alimentant tous les arm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vaux sur 3 journ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8 étudiants réquisitionnés 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6 équipes de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Image 9" descr="P9260031.JPG"/>
          <p:cNvPicPr/>
          <p:nvPr/>
        </p:nvPicPr>
        <p:blipFill>
          <a:blip r:embed="rId1"/>
          <a:stretch/>
        </p:blipFill>
        <p:spPr>
          <a:xfrm>
            <a:off x="3000240" y="4500720"/>
            <a:ext cx="2087640" cy="1566720"/>
          </a:xfrm>
          <a:prstGeom prst="rect">
            <a:avLst/>
          </a:prstGeom>
          <a:ln w="0">
            <a:noFill/>
          </a:ln>
        </p:spPr>
      </p:pic>
      <p:pic>
        <p:nvPicPr>
          <p:cNvPr id="220" name="Image 8" descr="P9260032.JPG"/>
          <p:cNvPicPr/>
          <p:nvPr/>
        </p:nvPicPr>
        <p:blipFill>
          <a:blip r:embed="rId2"/>
          <a:stretch/>
        </p:blipFill>
        <p:spPr>
          <a:xfrm>
            <a:off x="571680" y="2786040"/>
            <a:ext cx="1660320" cy="2214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Exemple de chantier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2920" y="1571760"/>
            <a:ext cx="3211560" cy="642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salle 1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Image 3" descr="P9260008.JPG"/>
          <p:cNvPicPr/>
          <p:nvPr/>
        </p:nvPicPr>
        <p:blipFill>
          <a:blip r:embed="rId3"/>
          <a:stretch/>
        </p:blipFill>
        <p:spPr>
          <a:xfrm>
            <a:off x="3071880" y="1643040"/>
            <a:ext cx="2009880" cy="1506600"/>
          </a:xfrm>
          <a:prstGeom prst="rect">
            <a:avLst/>
          </a:prstGeom>
          <a:ln w="0">
            <a:noFill/>
          </a:ln>
        </p:spPr>
      </p:pic>
      <p:pic>
        <p:nvPicPr>
          <p:cNvPr id="224" name="Image 4" descr="P9260005.JPG"/>
          <p:cNvPicPr/>
          <p:nvPr/>
        </p:nvPicPr>
        <p:blipFill>
          <a:blip r:embed="rId4"/>
          <a:stretch/>
        </p:blipFill>
        <p:spPr>
          <a:xfrm>
            <a:off x="5643720" y="3143160"/>
            <a:ext cx="2071440" cy="1554120"/>
          </a:xfrm>
          <a:prstGeom prst="rect">
            <a:avLst/>
          </a:prstGeom>
          <a:ln w="0">
            <a:noFill/>
          </a:ln>
        </p:spPr>
      </p:pic>
      <p:sp>
        <p:nvSpPr>
          <p:cNvPr id="225" name="ZoneTexte 5"/>
          <p:cNvSpPr/>
          <p:nvPr/>
        </p:nvSpPr>
        <p:spPr>
          <a:xfrm>
            <a:off x="1530720" y="3643200"/>
            <a:ext cx="59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0 tables de laboratoire à équiper ave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400V triphasé + 6 PC 230V, protection et signalis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ZoneTexte 6"/>
          <p:cNvSpPr/>
          <p:nvPr/>
        </p:nvSpPr>
        <p:spPr>
          <a:xfrm>
            <a:off x="1499400" y="5072040"/>
            <a:ext cx="66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Équiper la salle de 16 prises RJ45, point d’accès réseau Lycé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ZoneTexte 7"/>
          <p:cNvSpPr/>
          <p:nvPr/>
        </p:nvSpPr>
        <p:spPr>
          <a:xfrm>
            <a:off x="1167840" y="2286000"/>
            <a:ext cx="67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quiper la salle d’une armoire de distribution et deux ‘Canalis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Salle 150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ntrain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TD à 35 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Baie de brassage au RDC 40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Travaux en hauteur dans faux plafond, parois coupe feu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ous traitance ATOSS : Perçage du planc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assage d'élèves dans les couloi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isponibilité des ATOSS en fonction de l'EDT des étudia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ynchronisation des 4 chantiers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ation tables et Armoire de distrib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formatique Pose RJ45 et Pose DLP / PC 2P+T sur mu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ate de fin de chantier imposée : Décemb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ut du projet : 11 K€ 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Pendant les travaux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travaux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Image 3" descr="PB200023.JPG"/>
          <p:cNvPicPr/>
          <p:nvPr/>
        </p:nvPicPr>
        <p:blipFill>
          <a:blip r:embed="rId1"/>
          <a:stretch/>
        </p:blipFill>
        <p:spPr>
          <a:xfrm>
            <a:off x="6286680" y="435780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33" name="Image 4" descr="PB200009.JPG"/>
          <p:cNvPicPr/>
          <p:nvPr/>
        </p:nvPicPr>
        <p:blipFill>
          <a:blip r:embed="rId2"/>
          <a:stretch/>
        </p:blipFill>
        <p:spPr>
          <a:xfrm>
            <a:off x="714240" y="2643120"/>
            <a:ext cx="1640160" cy="1230480"/>
          </a:xfrm>
          <a:prstGeom prst="rect">
            <a:avLst/>
          </a:prstGeom>
          <a:ln w="0">
            <a:noFill/>
          </a:ln>
        </p:spPr>
      </p:pic>
      <p:pic>
        <p:nvPicPr>
          <p:cNvPr id="234" name="Image 5" descr="PB200011.JPG"/>
          <p:cNvPicPr/>
          <p:nvPr/>
        </p:nvPicPr>
        <p:blipFill>
          <a:blip r:embed="rId3"/>
          <a:stretch/>
        </p:blipFill>
        <p:spPr>
          <a:xfrm>
            <a:off x="4857840" y="2214720"/>
            <a:ext cx="1571400" cy="1177920"/>
          </a:xfrm>
          <a:prstGeom prst="rect">
            <a:avLst/>
          </a:prstGeom>
          <a:ln w="0">
            <a:noFill/>
          </a:ln>
        </p:spPr>
      </p:pic>
      <p:pic>
        <p:nvPicPr>
          <p:cNvPr id="235" name="Image 6" descr="PB200015.JPG"/>
          <p:cNvPicPr/>
          <p:nvPr/>
        </p:nvPicPr>
        <p:blipFill>
          <a:blip r:embed="rId4"/>
          <a:stretch/>
        </p:blipFill>
        <p:spPr>
          <a:xfrm>
            <a:off x="6858000" y="1714680"/>
            <a:ext cx="1409760" cy="1877760"/>
          </a:xfrm>
          <a:prstGeom prst="rect">
            <a:avLst/>
          </a:prstGeom>
          <a:ln w="0">
            <a:noFill/>
          </a:ln>
        </p:spPr>
      </p:pic>
      <p:pic>
        <p:nvPicPr>
          <p:cNvPr id="236" name="Image 7" descr="PC040024.JPG"/>
          <p:cNvPicPr/>
          <p:nvPr/>
        </p:nvPicPr>
        <p:blipFill>
          <a:blip r:embed="rId5"/>
          <a:stretch/>
        </p:blipFill>
        <p:spPr>
          <a:xfrm>
            <a:off x="928800" y="442908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37" name="Image 8" descr="PC040019.JPG"/>
          <p:cNvPicPr/>
          <p:nvPr/>
        </p:nvPicPr>
        <p:blipFill>
          <a:blip r:embed="rId6"/>
          <a:stretch/>
        </p:blipFill>
        <p:spPr>
          <a:xfrm>
            <a:off x="4357800" y="3786120"/>
            <a:ext cx="1290600" cy="1720800"/>
          </a:xfrm>
          <a:prstGeom prst="rect">
            <a:avLst/>
          </a:prstGeom>
          <a:ln w="0">
            <a:noFill/>
          </a:ln>
        </p:spPr>
      </p:pic>
      <p:pic>
        <p:nvPicPr>
          <p:cNvPr id="238" name="Image 9" descr="PC110013.JPG"/>
          <p:cNvPicPr/>
          <p:nvPr/>
        </p:nvPicPr>
        <p:blipFill>
          <a:blip r:embed="rId7"/>
          <a:stretch/>
        </p:blipFill>
        <p:spPr>
          <a:xfrm>
            <a:off x="2571840" y="3143160"/>
            <a:ext cx="1606320" cy="2143080"/>
          </a:xfrm>
          <a:prstGeom prst="rect">
            <a:avLst/>
          </a:prstGeom>
          <a:ln w="0">
            <a:noFill/>
          </a:ln>
        </p:spPr>
      </p:pic>
      <p:pic>
        <p:nvPicPr>
          <p:cNvPr id="239" name="Image 10" descr="PC110025.JPG"/>
          <p:cNvPicPr/>
          <p:nvPr/>
        </p:nvPicPr>
        <p:blipFill>
          <a:blip r:embed="rId8"/>
          <a:stretch/>
        </p:blipFill>
        <p:spPr>
          <a:xfrm>
            <a:off x="5715000" y="3286080"/>
            <a:ext cx="1023840" cy="1363680"/>
          </a:xfrm>
          <a:prstGeom prst="rect">
            <a:avLst/>
          </a:prstGeom>
          <a:ln w="0">
            <a:noFill/>
          </a:ln>
        </p:spPr>
      </p:pic>
      <p:pic>
        <p:nvPicPr>
          <p:cNvPr id="240" name="Image 12" descr="PC110002.JPG"/>
          <p:cNvPicPr/>
          <p:nvPr/>
        </p:nvPicPr>
        <p:blipFill>
          <a:blip r:embed="rId9"/>
          <a:stretch/>
        </p:blipFill>
        <p:spPr>
          <a:xfrm>
            <a:off x="3143160" y="164304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Les chantiers réalisés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seau Asi :2007-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esureurs WM12 sur système : 2007-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lle 150 : 2008-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GBT raccordements aux systèmes : 2009-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seau Asi déposé pour les travaux et réinstallé définitivement : 2009-2010 (UF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larme incendie : 2009-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TC : 2009-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En 2010-2011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seau Ethernet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TC suite et f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ntrales de mesures sur départs non prioritaires TGB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ables de laboratoires pour STI 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mande à distance de la vanne d'alimentation en air comprimé du sec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885e9"/>
                </a:solidFill>
                <a:latin typeface="Verdana"/>
              </a:rPr>
              <a:t>Chantier </a:t>
            </a:r>
            <a:r>
              <a:rPr b="1" lang="fr-FR" sz="2400" spc="-1" strike="noStrike">
                <a:solidFill>
                  <a:srgbClr val="4885e9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4885e9"/>
                </a:solidFill>
                <a:latin typeface="Verdana"/>
              </a:rPr>
              <a:t> Projet : même démarche</a:t>
            </a:r>
            <a:endParaRPr b="1" lang="en-US" sz="24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chantier est une préparation au projet 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trouve en projet 4 phas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ORGANIS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Calibri"/>
              </a:rPr>
              <a:t>CONCEPTION (avec réalisati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ILOT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ISE EN 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 projet se sont les étudiants qui conçoivent 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4643280"/>
            <a:ext cx="8183520" cy="121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erci … vos questions 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4885e9"/>
                </a:solidFill>
                <a:latin typeface="Verdana"/>
              </a:rPr>
              <a:t>L'organisation de chantiers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185" name="Image 3" descr="CAT Helmet-64x64.png"/>
          <p:cNvPicPr/>
          <p:nvPr/>
        </p:nvPicPr>
        <p:blipFill>
          <a:blip r:embed="rId1"/>
          <a:stretch/>
        </p:blipFill>
        <p:spPr>
          <a:xfrm>
            <a:off x="571680" y="42876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186" name="Image 4" descr="illustrator-old-school.png"/>
          <p:cNvPicPr/>
          <p:nvPr/>
        </p:nvPicPr>
        <p:blipFill>
          <a:blip r:embed="rId2"/>
          <a:stretch/>
        </p:blipFill>
        <p:spPr>
          <a:xfrm>
            <a:off x="5000760" y="571680"/>
            <a:ext cx="34336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Organisation de chantier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Un chantier est divisé en trois phases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Calibri"/>
              </a:rPr>
              <a:t>Organisation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: Préparation du chanti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Calibri"/>
              </a:rPr>
              <a:t>Réalisation-Pilotag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: Exécution du chanti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Calibri"/>
              </a:rPr>
              <a:t>Mise en service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Réception du chanti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a conception est réalisée en amont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s étudiants disposent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'un dossier de réalisation avec les schém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Bons de commande et de livraison …Dev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cédu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lans du secteurs (ppsp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8183520" cy="6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Les compétences évaluées …en CCF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571680" y="13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0070c0"/>
                </a:solidFill>
                <a:uFillTx/>
                <a:latin typeface="Verdana"/>
              </a:rPr>
              <a:t>La phase d’organisation et de planification du chantier :15 min (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terminer les différentes tâches (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22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lanifier les tâches (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23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nalyser un planning (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2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0070c0"/>
                </a:solidFill>
                <a:uFillTx/>
                <a:latin typeface="Verdana"/>
              </a:rPr>
              <a:t>La phase de pilotage et de suivi de réalisation : 15 min (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concevoir une procédure (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12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ercer une responsabilité hiérarchique (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29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0070c0"/>
                </a:solidFill>
                <a:uFillTx/>
                <a:latin typeface="Verdana"/>
              </a:rPr>
              <a:t>La phase de réception et de contrôle : 15 min (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contrôler la conformité d'un produit (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26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ordonnancer des opérations de maintenance (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3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intervenir sur une installation (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3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mage 3" descr="PB280018.JPG"/>
          <p:cNvPicPr/>
          <p:nvPr/>
        </p:nvPicPr>
        <p:blipFill>
          <a:blip r:embed="rId1"/>
          <a:stretch/>
        </p:blipFill>
        <p:spPr>
          <a:xfrm>
            <a:off x="5076720" y="5229360"/>
            <a:ext cx="1492200" cy="11188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La Phase d’ORGANISATION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travail dans cette phase consiste 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cencer, les tâches et activités à exécuter pendant la phase de réal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lanifier le chant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érifier la disponibilité des perso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voir la sous-trai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cencer les risques liés aux activ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mplir le PPSPS et les fiches par activi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cencer les matériels spécifiques et remplir une fiche de réserv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cencer les matériels utilisés et vérifier la livraison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diter tous les documents nécessaires à la réalisation du chantie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assembler l'équipe d'exécut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Image 4" descr="PB280020.JPG"/>
          <p:cNvPicPr/>
          <p:nvPr/>
        </p:nvPicPr>
        <p:blipFill>
          <a:blip r:embed="rId2"/>
          <a:stretch/>
        </p:blipFill>
        <p:spPr>
          <a:xfrm>
            <a:off x="5754600" y="2349360"/>
            <a:ext cx="14922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La Phase de Réalisation-Pilotage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ans cette phas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3 à 5 exécutants réalisent le chantier sous la direction d'un pilo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pilote doit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chantier (rassembler tous les documents, matériels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ettre en œuvre le chant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r à la sécurité collective et individue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érifier la bonne exécution du trav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ettre à jour le planning ré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érifier les dates et mettre en œuvre des moyens en cas de retard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former le client sur l'avancement des travau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sser les consignes au pilote suivant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Image 3" descr="PB280013.JPG"/>
          <p:cNvPicPr/>
          <p:nvPr/>
        </p:nvPicPr>
        <p:blipFill>
          <a:blip r:embed="rId1"/>
          <a:stretch/>
        </p:blipFill>
        <p:spPr>
          <a:xfrm>
            <a:off x="6516720" y="4941720"/>
            <a:ext cx="1714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La Phase de Mise en service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57176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À la fin de la réalisation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procède à la vérification hors et sous te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vérifie le fonctionnement du systè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réceptionne le chant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présence du client, on présente le système réalisé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client pose ou non des réserves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Image 3" descr="PC050022.JPG"/>
          <p:cNvPicPr/>
          <p:nvPr/>
        </p:nvPicPr>
        <p:blipFill>
          <a:blip r:embed="rId1"/>
          <a:stretch/>
        </p:blipFill>
        <p:spPr>
          <a:xfrm>
            <a:off x="7215120" y="1214280"/>
            <a:ext cx="1214640" cy="1619280"/>
          </a:xfrm>
          <a:prstGeom prst="rect">
            <a:avLst/>
          </a:prstGeom>
          <a:ln w="0">
            <a:noFill/>
          </a:ln>
        </p:spPr>
      </p:pic>
      <p:pic>
        <p:nvPicPr>
          <p:cNvPr id="201" name="Image 4" descr="PB280012.JPG"/>
          <p:cNvPicPr/>
          <p:nvPr/>
        </p:nvPicPr>
        <p:blipFill>
          <a:blip r:embed="rId2"/>
          <a:stretch/>
        </p:blipFill>
        <p:spPr>
          <a:xfrm>
            <a:off x="2857680" y="4643280"/>
            <a:ext cx="150012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Trebuchet MS"/>
              </a:rPr>
              <a:t>Comment ?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0040" y="1643040"/>
            <a:ext cx="818352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Chantier d’apprentissage : 21H en 1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rebuchet MS"/>
              </a:rPr>
              <a:t>ere</a:t>
            </a: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 année (fin avril début ma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Participation à la réalisation du projet des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rebuchet MS"/>
              </a:rPr>
              <a:t>eme</a:t>
            </a: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  ann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Chantier d’évaluation : 21 H en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rebuchet MS"/>
              </a:rPr>
              <a:t>eme</a:t>
            </a: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  ann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rebuchet MS"/>
              </a:rPr>
              <a:t>Découpag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8H </a:t>
            </a: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 Organis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9H </a:t>
            </a: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 Réalis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4H </a:t>
            </a: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 Mise en service – Ré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3 journées de cours à 8H avec une heure en classe entière (novembre de la 2</a:t>
            </a:r>
            <a:r>
              <a:rPr b="0" lang="fr-FR" sz="2200" spc="-1" strike="noStrike" baseline="30000">
                <a:solidFill>
                  <a:srgbClr val="000000"/>
                </a:solidFill>
                <a:latin typeface="Trebuchet MS"/>
              </a:rPr>
              <a:t>eme</a:t>
            </a:r>
            <a:r>
              <a:rPr b="0" lang="fr-FR" sz="2200" spc="-1" strike="noStrike">
                <a:solidFill>
                  <a:srgbClr val="000000"/>
                </a:solidFill>
                <a:latin typeface="Trebuchet MS"/>
              </a:rPr>
              <a:t> anné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1834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885e9"/>
                </a:solidFill>
                <a:latin typeface="Verdana"/>
              </a:rPr>
              <a:t>Le planning chantier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5929200" cy="642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Tableau 3" descr=""/>
          <p:cNvPicPr/>
          <p:nvPr/>
        </p:nvPicPr>
        <p:blipFill>
          <a:blip r:embed="rId1"/>
          <a:stretch/>
        </p:blipFill>
        <p:spPr>
          <a:xfrm>
            <a:off x="566640" y="2000160"/>
            <a:ext cx="78645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27:20Z</dcterms:created>
  <dc:creator/>
  <dc:description/>
  <dc:language>en-US</dc:language>
  <cp:lastModifiedBy/>
  <dcterms:modified xsi:type="dcterms:W3CDTF">2011-10-11T16:41:3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902491036</vt:lpwstr>
  </property>
</Properties>
</file>