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E4D-F16E-4795-B60E-5449E7A5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461-1B1E-416F-ACAF-39B130D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9FE49-1286-4B83-BA85-2F488A2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42495-4D59-42BB-96A6-F44CF259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14CFC-F80F-4E73-B6E3-2BFF516B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10DAA-0318-4DA2-81AA-3D6D54B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2CC67-AE20-45FA-92E6-39C8F2C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9CD0-EFDF-4D3C-914E-33C26F6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7F27E-DA74-43DD-AC72-8E2DE231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6EF6D-3460-41A8-B444-074A8E2E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7AE13-B5C7-4651-A0B1-F015D3A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0D15D-A904-4382-AF68-7A8FAC7A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DFB-D1ED-434B-A031-BB24586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8A383-B676-42EE-ACFE-5B539154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24899-72ED-488A-A986-DA3021BC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90617-1F81-46A9-BC06-E39CCA5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C93E1-FD99-456E-81BA-EFCADA96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8EBFD-D4DF-4EF2-8C9D-E518FEA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ED59E-01DF-4D52-972F-BB3A7AD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45982-A9DA-45ED-85E2-1E33156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7332-80AD-4E1C-8CD9-9586472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85C51-FF67-4C17-B080-8170759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9527-A48D-4351-8E84-93D94FB6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43A-7CFF-4C00-A1E3-962F6338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182F-7230-40EB-9559-EEC77AFE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456D-7583-4938-B53E-073B244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FC23-8B4C-48C1-924F-52F4361B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A5B71-B0C1-4C0D-B9A4-0DF6D34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ED625-96BD-4808-A87E-11BD04D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07F54-44E3-4260-A355-976EA6B9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0636-649B-4A30-AB64-0C06DE0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74D7-9942-4F67-9B69-E983A61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53FFD-9DB6-45F1-8C14-F862DA8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6BBD-4C0A-4C98-AB7B-49650993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604D-214F-4368-B439-195C2ECD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E1D2-E30B-4C8B-8DCA-852F3C5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C8D8-1616-4D81-9991-FBA7DF2A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DF0F8-2BB6-4E55-9C3A-F5073E8D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02578-18FB-435D-B2DF-2B7D06CC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382BB-B6F3-4E3C-9F65-E92CCE5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52A15-BEB3-432E-9F9E-9881030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DBDB-9C12-41DB-9786-543254A3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28C97-E863-49C8-8571-B39D2B1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4AE59-4118-409B-B2CF-912941B0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067F7-D4D4-4620-AB6A-F6C4FF4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846-1B7C-4EF5-A548-E1CE5FE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08448-A619-4DC2-8439-FC8FDDF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FD492-927C-46EE-8053-CDA8B63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3CF73-86C0-426E-94D4-FC0F3DE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BA9D-4BFC-4EDB-9A64-A2B8F6A7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18CAB-555B-41D7-B6EA-E1E3C6BB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9EB-30DF-4D4A-AAEF-FDD7E62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98F-A0C2-443E-B3B4-DC88BF3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C2C7-9E87-4345-BEE8-4E9B773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606-D1F4-477D-80B7-D05D381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319-50A5-4858-AD9E-DC9952A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8D2-E237-4529-BEF7-9F441EA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2DAB-1309-4271-A3A9-880943F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6DCE-F614-4CF3-8FBE-E59E6061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E70D-DFCD-48C3-B4C6-42F1D20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E45-EC26-4DF0-A69F-4FDF8CB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AE8-147F-4844-880D-EB0FAA7D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D8AB-22A5-41E3-B6E9-F271D0B7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7D29-82C7-48B6-90B1-0A7A6AB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96FE-8D15-4D91-AF7B-E99CAD0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3525-A68D-49D8-996D-712D4F4F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E3D9-7E6A-4495-97D1-DA8DCB3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EA1-5437-4F45-99D3-62726BE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AAE9-F279-4065-BACD-BDB19BC7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359C-3799-459D-95AC-1A70335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889A-9A2C-4FEC-ABFD-7AF81D1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4701-CB92-42D1-ABD7-3A3E298D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2525-52B0-4080-98BF-7E769B30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5C9D-8ED3-49FF-9E9F-A698B3E9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F892-21B1-4C7E-AE16-47E059CB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696A-25D8-4680-8AEF-9B995F20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D7FF-C2E0-4D03-A733-8A64808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D9C5-EF0A-45EA-A757-875E8599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1A9-0B1B-449C-A270-E071009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1AE1-F6AC-4732-BD39-7BFF8696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D4F5-2114-4C84-86E4-E6889FA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9FB1-79D2-4864-958B-F17E61E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6C8F-07B6-4EDA-A67F-63A3655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5D50-4E32-4B1B-95E6-43B8595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2E22-3B28-4808-A8C6-F331DBB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FF6D-75F2-4666-AAF1-15A5D664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46DA-0884-46B2-95C5-A25BE024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A88B-E5B8-4C81-AF33-7448F27C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8ED2-E004-45CD-A24C-39B1B5CE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10B-69AD-4FD7-BB39-F83C7E5C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73172-ED36-4B36-B6F5-779415D5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CAF2-CAD3-4572-9BA5-EF541C7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F132-CCC4-4112-BDE4-B1AC6E0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0475-9A0D-4D5C-AE53-98F4A098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14DE-8970-466A-A66C-466063E2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ACBB-A58E-433F-8691-0067FA0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9BBD-F7F7-4DE4-BF1C-27C217E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6F97-EEAC-4F79-8737-D70EED6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6494-2DE5-4220-8502-D0FD5090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70B8-C2C5-4A88-90E9-69D4BB04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367-0033-4EB9-A805-A62F1BF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4ACF-A558-4EE4-A103-C88F27B5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5980-ACD7-4BC9-A26F-349AD337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27B8-269A-40F3-88E0-BB453240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0BCD-5ED6-43B1-A312-7F15D1A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E609-8D25-416E-B5F4-46191282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FB36-CD63-4414-ADD4-ACAE5853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EF0B-61FA-40AE-9556-6ACF6B5D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C27E-B6C8-4B5E-A1EB-EB613DC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AA3F-9204-43F5-90C0-048BEAE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36BA0-FEDB-451D-9152-B1A529F9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703-1146-4279-A339-369607EE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C970-2A79-418F-961C-90A96D93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E0CB-D259-45B3-BBE6-D1D7B2A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9F1F-81EB-4A8D-8E7F-A3EBED8C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B223-4CAA-4A52-8638-316919A4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6C33-28F1-4FEE-AD07-A1FED7E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D230-F60B-4CA9-B7D5-C1458FF7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385C-EE80-4593-B7B6-CCE9CB18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24C1C-F1F9-4241-BA69-970DC51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C87F6-DF27-4033-B5F8-AECF837B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FE43-5956-4354-A317-C402D11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66B-7F1B-4B02-9982-C97FCC4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2A93-4E11-4FAC-A165-20091A1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6209-28AE-4EBF-B50A-6B934A4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FD20-9C0E-4C96-AE2B-F098A410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63D5C-6B4A-4B1F-A772-59B571FA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36A16-1F75-4A31-825A-F955F53B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12F6-BF7A-4115-9C17-FE81E45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2783-796B-4E60-AE5B-A91212E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E0D69-DF7B-448D-99BF-CE5F3E60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851FD-9755-4C99-96A1-3202FAA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291E2-EDD4-45EC-8D6B-5E919198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445-E2C5-418D-AD76-7FE16092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39525-8582-4133-90E6-88C31054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53D4-19F1-4FAF-9C9E-8CF389CF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22C51-54C3-4120-9674-13681B2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6681-50FB-4D52-88B4-B2C3586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DA069-D70B-40F7-A0E2-FB3AD75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ADE4-4964-4102-A3CB-3162C2C3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6207-3529-4C6F-926A-A3B6D483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2612B-A216-4AA6-A776-99334EBA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22FA-71D9-419B-93ED-0A9FC48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FEF4-379D-48CC-8D32-225F3F0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9D2-5B8F-4104-8946-F6528D5BA612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EF3-03B5-4F7D-BF13-C8B4030474D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A8CB-CCA3-4157-8D3A-0275B5ECFF22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770-43E0-4BB4-A330-A54D4704BEE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B90C-8505-4364-B609-53DA52CA413C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1E36-F29A-465C-8049-24DB8FBD1F6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8CB5-42C1-4663-8229-127791A0BDF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994-2C1D-48B5-8C69-FA8AA0C87A3C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A92-7E6F-4167-A2B7-FF914054226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2A6-0869-4CAE-AE3B-21F2A237F1F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A11-FE85-4DBA-8346-7E52A66FCB3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500-8283-4435-9434-5B755022430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57120" y="2571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  </a:t>
            </a: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D’UN  ANCIEN  ETUDIANT</a:t>
            </a: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D’ORIGINE  BAC  PROFESSIONNE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NSEIGNEMENTS  QUI  PLAISENT  LE  +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D / T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GENIE  ELECT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ESSAIS-SYST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NSEIGNEMENTS  QUI  PLAISENT  LE  +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ET  MEILLEURS  RE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D / T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GENIE  ELECT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ESSAIS-SYST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LUS  DIFFICI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ANS  LES  MATIERES  SCIENTIF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OUR  SURMONTER  LES  DIFFICUL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TRE-AIDE  AVEC  LES  AUTRES 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AC PRO  ET  STI CONFO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NSTAT  D’EVOLUTION  SUR  LE  PLAN 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O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tant dans les matières générales que dans les matières professi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TRAVAUX  EN  GENIE  ELECTRIQUE  QUI  PLAISENT  LE  PL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RGANISATION  DE  CHAN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 en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s’occupe de t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RESSENTI  DES  EPREUVES  DE  C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 SE  SENT  PLUS  EN  CONF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  DE  PASSER  UNE  EPREUVE  PON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N  FIN  DE  CU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LA  FORMATION  ETAIT  ELLE  CELLE  QUE VOUS  ATTENDIEZ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’AI  L’IMPRESSION  D’ETRE  ARRIVE  A  MON 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i c’était à refaire,  je referai c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QUELLE  SUGGESTION  PROPOSERIEZ–VOUS  POUR  AMELIORER  LA  FORMATION  B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VOIR  PLUS  DE  TEMPS  POUR  ABORDER  LES  TD/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ourquoi pas refaire  2h de sport / se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AINTENANT ,  QUE  FAITES –VOU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PRES  AVOIR  FAIT  UN   JOB  D’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INTENANT  JE  CHERCHE  UN  VRAI 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Je me sens confia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DIAW  AROUMA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CU  AU  BAC  PROFESSIONNEL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EPARE  AU  LYCEE  TURGOT   (Roubaix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( juin  2009 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DIAW  AROUM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TS  ELECTROTECHNIQU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U  LYCEE  COLBERT  (Tourcoin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( juin  2011 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OTIVATION  EN  T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  POURSUITE  D’ETUD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CONTINUER UN CU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ENVIE D’ALLER AU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OTIVATION  EN  T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  POURSUITE  D’ETUD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RESTER DANS LE DOMAINE DE L’ELECTRO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EMANDE  D’ADMISSION  EN  B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MANDE  SANS  CERTITUDE D’ETRE P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CONSCIENT DES  RESULTATS  OBTENUS  EN  BAC 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 EN  B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ON  SE  SENT PLUS CONFIANT  QUAND IL  Y  A  UN GROUPE  D’ETUDIANTS  D’ORIGINE BAC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- TENDANCE  AU DEBUT,  A  RESTER  ENTRE ETUDIANTS DE BAC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PROGRESSIVE AVEC LES AUTRES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VORISEE PAR UNE ACTION EN DEBUT D’ANN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journée à la mer (char à voile, barbec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itr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83763"/>
                </a:solidFill>
                <a:latin typeface="Calibri"/>
              </a:rPr>
              <a:t>SYNTHESE  D’UN  TEMOIGN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space réservé du contenu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GRATION PROGRESSIVE AVEC LES AUTRES E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EUR  DECLENCHA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voyage à Londres favorisant l’esprit de gro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7:48:21Z</dcterms:created>
  <dc:creator>Votre nom d'utilisateur</dc:creator>
  <dc:description/>
  <dc:language>en-US</dc:language>
  <cp:lastModifiedBy>BTS Electrotechnique</cp:lastModifiedBy>
  <dcterms:modified xsi:type="dcterms:W3CDTF">2011-10-06T11:47:32Z</dcterms:modified>
  <cp:revision>105</cp:revision>
  <dc:subject/>
  <dc:title>Diapositive 1</dc:title>
</cp:coreProperties>
</file>