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40A4-25EB-454A-903D-E715BA93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E14-B8B1-4D23-9B2E-0534DA8C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9761-DA46-4E0C-A1C3-D12FDA44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EFE3-5790-44D8-96C8-8D1A3053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13C9-B7E5-4E79-908A-FED81A3F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1B73-062A-4E02-8788-49BE1239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7266-6CDB-4121-AD35-FEB9605C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E70C-C9CC-4C30-911A-354E71F9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E0C4-7C3F-408D-9ADD-9CFD8AC9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09A4-5E2E-4128-9177-75636E56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7192-A17E-423D-9AE0-37C82DF4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B51-12CE-421C-89FC-9DB82ED3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5198-8320-4B0F-9AE6-540C6CE8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A733-0CA1-4A2A-88DF-A992FB9B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419D-239D-439F-8544-A2F47681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A22A-47ED-4C61-99F3-796D8F79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C8F2-0D8C-461D-990C-134350D1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D6A34-6958-44DE-8F44-A5BE22D6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9E066-5FD4-4272-9435-2AB6FF3A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58DC7-A63E-4EE0-8E59-AB3FE925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33561-04C2-4203-B2B3-C5AD3DEE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A10F4-6D52-4DC6-BA50-6B2652E8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C49-992A-4496-AB77-5A661B32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D87D9-AC3C-41AC-BA69-2E6BB223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C3FB6-A230-4247-B07F-F47BAD0C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50ECA-2311-4F82-B590-63B29C2D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1B527-F1B4-4443-9D73-3B221305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49ACF-834E-4095-A7E0-F6297E37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01526-EEE8-4136-91F7-B24AB569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07127-A29B-4265-B652-8439E9CE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8E4D2-8C1A-49CB-ADAA-9E81CC92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3D4AC-87D2-4F04-889B-9636D04D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22625-E660-4141-8367-74F0E7D8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12C6-846B-4452-8B6B-6391A89C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F3191-C025-4B1B-8AC4-1808CCB8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1D629-CD10-4FF3-BD9B-F48E9EBF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AAC6A-9ECA-4BBF-BB3A-7C45B0D9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B5DEF-D794-4BA3-BE17-17BD619F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084FF-7165-4435-B24A-B748AC9F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4F783-8985-49CC-AF09-133AC52A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488B1-83C2-458D-9FC8-B5209E8B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760DF-B639-42F9-B6AE-06B31417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3D224-D680-48BA-806C-5F427FC3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538F-F1BB-431B-812C-9B8A21B2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DD7-BBBF-4389-B2F0-4AF63CA9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2977-4A2E-4593-9FCE-5C6AF664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FF4-79D9-4BEB-AB8B-9564295F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AD22-6563-48DE-B801-E843A389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9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16B4-55A8-4C0F-A1CE-288E132F7ACB}" type="datetime">
              <a:rPr b="0" lang="fr-FR" sz="1000" spc="-1" strike="noStrike">
                <a:solidFill>
                  <a:srgbClr val="a1b4b7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09C4-62A8-437F-9A3F-491927D61A3F}" type="slidenum">
              <a:rPr b="0" lang="fr-FR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ounded Rectangle 13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ounded Rectangle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Rounded Rectangle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9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17C2-1EB8-4331-9446-6A1F17287C2D}" type="datetime">
              <a:rPr b="0" lang="fr-FR" sz="1000" spc="-1" strike="noStrike">
                <a:solidFill>
                  <a:srgbClr val="a1b4b7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A11E-64A2-4F0A-96C6-DF03F18C07AE}" type="slidenum">
              <a:rPr b="0" lang="fr-FR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ounded Rectangle 9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" name="Image 10" descr="illustrator-old-school.png"/>
          <p:cNvPicPr/>
          <p:nvPr/>
        </p:nvPicPr>
        <p:blipFill>
          <a:blip r:embed="rId3"/>
          <a:stretch/>
        </p:blipFill>
        <p:spPr>
          <a:xfrm>
            <a:off x="428760" y="428760"/>
            <a:ext cx="928440" cy="928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982F-4EFE-43C2-9398-5420CCF347AF}" type="datetime">
              <a:rPr b="0" lang="fr-FR" sz="1000" spc="-1" strike="noStrike">
                <a:solidFill>
                  <a:srgbClr val="a1b4b7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a1b4b7"/>
                </a:solidFill>
                <a:latin typeface="Verdana"/>
              </a:rPr>
              <a:t>JPS 201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0735-966C-422B-83F8-DF643F73AADD}" type="slidenum">
              <a:rPr b="0" lang="fr-FR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ounded Rectangle 9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B269-E86B-4FCD-8605-3A24666C510C}" type="datetime">
              <a:rPr b="0" lang="fr-FR" sz="1000" spc="-1" strike="noStrike">
                <a:solidFill>
                  <a:srgbClr val="a1b4b7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ACF0-DC05-4183-957B-B0B1E194E9F2}" type="slidenum">
              <a:rPr b="0" lang="fr-FR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4885e9"/>
                </a:solidFill>
                <a:latin typeface="Verdana"/>
              </a:rPr>
              <a:t>Lycée de l'Europe DUNKERQUE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28760" y="428400"/>
            <a:ext cx="8286480" cy="4500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Exemples de chantier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157176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Réseau A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Image 3" descr="PC050008.JPG"/>
          <p:cNvPicPr/>
          <p:nvPr/>
        </p:nvPicPr>
        <p:blipFill>
          <a:blip r:embed="rId1"/>
          <a:stretch/>
        </p:blipFill>
        <p:spPr>
          <a:xfrm>
            <a:off x="500040" y="4143240"/>
            <a:ext cx="2200320" cy="1649520"/>
          </a:xfrm>
          <a:prstGeom prst="rect">
            <a:avLst/>
          </a:prstGeom>
          <a:ln w="0">
            <a:noFill/>
          </a:ln>
        </p:spPr>
      </p:pic>
      <p:pic>
        <p:nvPicPr>
          <p:cNvPr id="210" name="Image 4" descr="PC050009.JPG"/>
          <p:cNvPicPr/>
          <p:nvPr/>
        </p:nvPicPr>
        <p:blipFill>
          <a:blip r:embed="rId2"/>
          <a:stretch/>
        </p:blipFill>
        <p:spPr>
          <a:xfrm>
            <a:off x="6072120" y="4071960"/>
            <a:ext cx="1238400" cy="1649520"/>
          </a:xfrm>
          <a:prstGeom prst="rect">
            <a:avLst/>
          </a:prstGeom>
          <a:ln w="0">
            <a:noFill/>
          </a:ln>
        </p:spPr>
      </p:pic>
      <p:pic>
        <p:nvPicPr>
          <p:cNvPr id="211" name="Image 5" descr="PC050011.JPG"/>
          <p:cNvPicPr/>
          <p:nvPr/>
        </p:nvPicPr>
        <p:blipFill>
          <a:blip r:embed="rId3"/>
          <a:stretch/>
        </p:blipFill>
        <p:spPr>
          <a:xfrm>
            <a:off x="3071880" y="3857760"/>
            <a:ext cx="2200320" cy="1649160"/>
          </a:xfrm>
          <a:prstGeom prst="rect">
            <a:avLst/>
          </a:prstGeom>
          <a:ln w="0">
            <a:noFill/>
          </a:ln>
        </p:spPr>
      </p:pic>
      <p:pic>
        <p:nvPicPr>
          <p:cNvPr id="212" name="Image 6" descr="PC050013.JPG"/>
          <p:cNvPicPr/>
          <p:nvPr/>
        </p:nvPicPr>
        <p:blipFill>
          <a:blip r:embed="rId4"/>
          <a:stretch/>
        </p:blipFill>
        <p:spPr>
          <a:xfrm>
            <a:off x="7286760" y="2857680"/>
            <a:ext cx="1238040" cy="1649160"/>
          </a:xfrm>
          <a:prstGeom prst="rect">
            <a:avLst/>
          </a:prstGeom>
          <a:ln w="0">
            <a:noFill/>
          </a:ln>
        </p:spPr>
      </p:pic>
      <p:pic>
        <p:nvPicPr>
          <p:cNvPr id="213" name="Image 7" descr="PC050018.JPG"/>
          <p:cNvPicPr/>
          <p:nvPr/>
        </p:nvPicPr>
        <p:blipFill>
          <a:blip r:embed="rId5"/>
          <a:stretch/>
        </p:blipFill>
        <p:spPr>
          <a:xfrm>
            <a:off x="4857840" y="2000160"/>
            <a:ext cx="1238040" cy="1649520"/>
          </a:xfrm>
          <a:prstGeom prst="rect">
            <a:avLst/>
          </a:prstGeom>
          <a:ln w="0">
            <a:noFill/>
          </a:ln>
        </p:spPr>
      </p:pic>
      <p:pic>
        <p:nvPicPr>
          <p:cNvPr id="214" name="Image 8" descr="PC050020.JPG"/>
          <p:cNvPicPr/>
          <p:nvPr/>
        </p:nvPicPr>
        <p:blipFill>
          <a:blip r:embed="rId6"/>
          <a:stretch/>
        </p:blipFill>
        <p:spPr>
          <a:xfrm>
            <a:off x="3214800" y="1571760"/>
            <a:ext cx="1238040" cy="1649160"/>
          </a:xfrm>
          <a:prstGeom prst="rect">
            <a:avLst/>
          </a:prstGeom>
          <a:ln w="0">
            <a:noFill/>
          </a:ln>
        </p:spPr>
      </p:pic>
      <p:pic>
        <p:nvPicPr>
          <p:cNvPr id="215" name="Image 9" descr="PC050006.JPG"/>
          <p:cNvPicPr/>
          <p:nvPr/>
        </p:nvPicPr>
        <p:blipFill>
          <a:blip r:embed="rId7"/>
          <a:stretch/>
        </p:blipFill>
        <p:spPr>
          <a:xfrm>
            <a:off x="6286680" y="1000080"/>
            <a:ext cx="2199960" cy="1649520"/>
          </a:xfrm>
          <a:prstGeom prst="rect">
            <a:avLst/>
          </a:prstGeom>
          <a:ln w="0">
            <a:noFill/>
          </a:ln>
        </p:spPr>
      </p:pic>
      <p:sp>
        <p:nvSpPr>
          <p:cNvPr id="216" name="ZoneTexte 10"/>
          <p:cNvSpPr/>
          <p:nvPr/>
        </p:nvSpPr>
        <p:spPr>
          <a:xfrm>
            <a:off x="694440" y="2286000"/>
            <a:ext cx="245160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7 armoires à réalise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utomat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XB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TeSy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ariateu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scenseu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T°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istribution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Le réseau Asi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157176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ntrai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utillages spécifiques limit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avaux en hau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moire de distibution alimentant tous les arm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avaux sur 3 journ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8 étudiants réquisitionnés 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6 équipes de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Image 9" descr="P9260031.JPG"/>
          <p:cNvPicPr/>
          <p:nvPr/>
        </p:nvPicPr>
        <p:blipFill>
          <a:blip r:embed="rId1"/>
          <a:stretch/>
        </p:blipFill>
        <p:spPr>
          <a:xfrm>
            <a:off x="3000240" y="4500720"/>
            <a:ext cx="2087640" cy="1566720"/>
          </a:xfrm>
          <a:prstGeom prst="rect">
            <a:avLst/>
          </a:prstGeom>
          <a:ln w="0">
            <a:noFill/>
          </a:ln>
        </p:spPr>
      </p:pic>
      <p:pic>
        <p:nvPicPr>
          <p:cNvPr id="220" name="Image 8" descr="P9260032.JPG"/>
          <p:cNvPicPr/>
          <p:nvPr/>
        </p:nvPicPr>
        <p:blipFill>
          <a:blip r:embed="rId2"/>
          <a:stretch/>
        </p:blipFill>
        <p:spPr>
          <a:xfrm>
            <a:off x="571680" y="2786040"/>
            <a:ext cx="1660320" cy="2214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Exemple de chantier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2920" y="1571760"/>
            <a:ext cx="3211560" cy="642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salle 15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Image 3" descr="P9260008.JPG"/>
          <p:cNvPicPr/>
          <p:nvPr/>
        </p:nvPicPr>
        <p:blipFill>
          <a:blip r:embed="rId3"/>
          <a:stretch/>
        </p:blipFill>
        <p:spPr>
          <a:xfrm>
            <a:off x="3071880" y="1643040"/>
            <a:ext cx="2009880" cy="1506600"/>
          </a:xfrm>
          <a:prstGeom prst="rect">
            <a:avLst/>
          </a:prstGeom>
          <a:ln w="0">
            <a:noFill/>
          </a:ln>
        </p:spPr>
      </p:pic>
      <p:pic>
        <p:nvPicPr>
          <p:cNvPr id="224" name="Image 4" descr="P9260005.JPG"/>
          <p:cNvPicPr/>
          <p:nvPr/>
        </p:nvPicPr>
        <p:blipFill>
          <a:blip r:embed="rId4"/>
          <a:stretch/>
        </p:blipFill>
        <p:spPr>
          <a:xfrm>
            <a:off x="5643720" y="3143160"/>
            <a:ext cx="2071440" cy="1554120"/>
          </a:xfrm>
          <a:prstGeom prst="rect">
            <a:avLst/>
          </a:prstGeom>
          <a:ln w="0">
            <a:noFill/>
          </a:ln>
        </p:spPr>
      </p:pic>
      <p:sp>
        <p:nvSpPr>
          <p:cNvPr id="225" name="ZoneTexte 5"/>
          <p:cNvSpPr/>
          <p:nvPr/>
        </p:nvSpPr>
        <p:spPr>
          <a:xfrm>
            <a:off x="1530720" y="3643200"/>
            <a:ext cx="595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0 tables de laboratoire à équiper ave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400V triphasé + 6 PC 230V, protection et signalis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ZoneTexte 6"/>
          <p:cNvSpPr/>
          <p:nvPr/>
        </p:nvSpPr>
        <p:spPr>
          <a:xfrm>
            <a:off x="1499400" y="5072040"/>
            <a:ext cx="66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Équiper la salle de 16 prises RJ45, point d’accès réseau Lycé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ZoneTexte 7"/>
          <p:cNvSpPr/>
          <p:nvPr/>
        </p:nvSpPr>
        <p:spPr>
          <a:xfrm>
            <a:off x="1167840" y="2286000"/>
            <a:ext cx="67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quiper la salle d’une armoire de distribution et deux ‘Canalis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Salle 150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157176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ontrain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TD à 35 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Baie de brassage au RDC 40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Travaux en hauteur dans faux plafond, parois coupe feu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Sous traitance ATOSS : Perçage du planc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assage d'élèves dans les couloi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isponibilité des ATOSS en fonction de l'EDT des étudia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Synchronisation des 4 chantiers 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alisation tables et Armoire de distrib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formatique Pose RJ45 et Pose DLP / PC 2P+T sur mu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ate de fin de chantier imposée : Décemb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out du projet : 11 K€ 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Pendant les travaux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157176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travaux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Image 3" descr="PB200023.JPG"/>
          <p:cNvPicPr/>
          <p:nvPr/>
        </p:nvPicPr>
        <p:blipFill>
          <a:blip r:embed="rId1"/>
          <a:stretch/>
        </p:blipFill>
        <p:spPr>
          <a:xfrm>
            <a:off x="6286680" y="435780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233" name="Image 4" descr="PB200009.JPG"/>
          <p:cNvPicPr/>
          <p:nvPr/>
        </p:nvPicPr>
        <p:blipFill>
          <a:blip r:embed="rId2"/>
          <a:stretch/>
        </p:blipFill>
        <p:spPr>
          <a:xfrm>
            <a:off x="714240" y="2643120"/>
            <a:ext cx="1640160" cy="1230480"/>
          </a:xfrm>
          <a:prstGeom prst="rect">
            <a:avLst/>
          </a:prstGeom>
          <a:ln w="0">
            <a:noFill/>
          </a:ln>
        </p:spPr>
      </p:pic>
      <p:pic>
        <p:nvPicPr>
          <p:cNvPr id="234" name="Image 5" descr="PB200011.JPG"/>
          <p:cNvPicPr/>
          <p:nvPr/>
        </p:nvPicPr>
        <p:blipFill>
          <a:blip r:embed="rId3"/>
          <a:stretch/>
        </p:blipFill>
        <p:spPr>
          <a:xfrm>
            <a:off x="4857840" y="2214720"/>
            <a:ext cx="1571400" cy="1177920"/>
          </a:xfrm>
          <a:prstGeom prst="rect">
            <a:avLst/>
          </a:prstGeom>
          <a:ln w="0">
            <a:noFill/>
          </a:ln>
        </p:spPr>
      </p:pic>
      <p:pic>
        <p:nvPicPr>
          <p:cNvPr id="235" name="Image 6" descr="PB200015.JPG"/>
          <p:cNvPicPr/>
          <p:nvPr/>
        </p:nvPicPr>
        <p:blipFill>
          <a:blip r:embed="rId4"/>
          <a:stretch/>
        </p:blipFill>
        <p:spPr>
          <a:xfrm>
            <a:off x="6858000" y="1714680"/>
            <a:ext cx="1409760" cy="1877760"/>
          </a:xfrm>
          <a:prstGeom prst="rect">
            <a:avLst/>
          </a:prstGeom>
          <a:ln w="0">
            <a:noFill/>
          </a:ln>
        </p:spPr>
      </p:pic>
      <p:pic>
        <p:nvPicPr>
          <p:cNvPr id="236" name="Image 7" descr="PC040024.JPG"/>
          <p:cNvPicPr/>
          <p:nvPr/>
        </p:nvPicPr>
        <p:blipFill>
          <a:blip r:embed="rId5"/>
          <a:stretch/>
        </p:blipFill>
        <p:spPr>
          <a:xfrm>
            <a:off x="928800" y="442908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237" name="Image 8" descr="PC040019.JPG"/>
          <p:cNvPicPr/>
          <p:nvPr/>
        </p:nvPicPr>
        <p:blipFill>
          <a:blip r:embed="rId6"/>
          <a:stretch/>
        </p:blipFill>
        <p:spPr>
          <a:xfrm>
            <a:off x="4357800" y="3786120"/>
            <a:ext cx="1290600" cy="1720800"/>
          </a:xfrm>
          <a:prstGeom prst="rect">
            <a:avLst/>
          </a:prstGeom>
          <a:ln w="0">
            <a:noFill/>
          </a:ln>
        </p:spPr>
      </p:pic>
      <p:pic>
        <p:nvPicPr>
          <p:cNvPr id="238" name="Image 9" descr="PC110013.JPG"/>
          <p:cNvPicPr/>
          <p:nvPr/>
        </p:nvPicPr>
        <p:blipFill>
          <a:blip r:embed="rId7"/>
          <a:stretch/>
        </p:blipFill>
        <p:spPr>
          <a:xfrm>
            <a:off x="2571840" y="3143160"/>
            <a:ext cx="1606320" cy="2143080"/>
          </a:xfrm>
          <a:prstGeom prst="rect">
            <a:avLst/>
          </a:prstGeom>
          <a:ln w="0">
            <a:noFill/>
          </a:ln>
        </p:spPr>
      </p:pic>
      <p:pic>
        <p:nvPicPr>
          <p:cNvPr id="239" name="Image 10" descr="PC110025.JPG"/>
          <p:cNvPicPr/>
          <p:nvPr/>
        </p:nvPicPr>
        <p:blipFill>
          <a:blip r:embed="rId8"/>
          <a:stretch/>
        </p:blipFill>
        <p:spPr>
          <a:xfrm>
            <a:off x="5715000" y="3286080"/>
            <a:ext cx="1023840" cy="1363680"/>
          </a:xfrm>
          <a:prstGeom prst="rect">
            <a:avLst/>
          </a:prstGeom>
          <a:ln w="0">
            <a:noFill/>
          </a:ln>
        </p:spPr>
      </p:pic>
      <p:pic>
        <p:nvPicPr>
          <p:cNvPr id="240" name="Image 12" descr="PC110002.JPG"/>
          <p:cNvPicPr/>
          <p:nvPr/>
        </p:nvPicPr>
        <p:blipFill>
          <a:blip r:embed="rId9"/>
          <a:stretch/>
        </p:blipFill>
        <p:spPr>
          <a:xfrm>
            <a:off x="3143160" y="164304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Les chantiers réalisés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157176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éseau Asi :2007-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esureurs WM12 sur système : 2007-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lle 150 : 2008-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GBT raccordements aux systèmes : 2009-20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éseau Asi déposé pour les travaux et réinstallé définitivement : 2009-2010 (UF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larme incendie : 2009-20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TC : 2009-20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En 2010-2011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157176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éseau Ethernet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TC suite et f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ntrales de mesures sur départs non prioritaires TGB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ables de laboratoires pour STI 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mande à distance de la vanne d'alimentation en air comprimé du sec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885e9"/>
                </a:solidFill>
                <a:latin typeface="Verdana"/>
              </a:rPr>
              <a:t>Chantier </a:t>
            </a:r>
            <a:r>
              <a:rPr b="1" lang="fr-FR" sz="2400" spc="-1" strike="noStrike">
                <a:solidFill>
                  <a:srgbClr val="4885e9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4885e9"/>
                </a:solidFill>
                <a:latin typeface="Verdana"/>
              </a:rPr>
              <a:t> Projet : même démarche</a:t>
            </a:r>
            <a:endParaRPr b="1" lang="en-US" sz="24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157176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chantier est une préparation au projet 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trouve en projet 4 phas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ORGANIS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Calibri"/>
              </a:rPr>
              <a:t>CONCEPTION (avec réalisati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ILOT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ISE EN 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n projet se sont les étudiants qui conçoivent 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4643280"/>
            <a:ext cx="8183520" cy="121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erci … vos questions 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4885e9"/>
                </a:solidFill>
                <a:latin typeface="Verdana"/>
              </a:rPr>
              <a:t>L'organisation de chantiers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185" name="Image 3" descr="CAT Helmet-64x64.png"/>
          <p:cNvPicPr/>
          <p:nvPr/>
        </p:nvPicPr>
        <p:blipFill>
          <a:blip r:embed="rId1"/>
          <a:stretch/>
        </p:blipFill>
        <p:spPr>
          <a:xfrm>
            <a:off x="571680" y="428760"/>
            <a:ext cx="1285560" cy="1285920"/>
          </a:xfrm>
          <a:prstGeom prst="rect">
            <a:avLst/>
          </a:prstGeom>
          <a:ln w="0">
            <a:noFill/>
          </a:ln>
        </p:spPr>
      </p:pic>
      <p:pic>
        <p:nvPicPr>
          <p:cNvPr id="186" name="Image 4" descr="illustrator-old-school.png"/>
          <p:cNvPicPr/>
          <p:nvPr/>
        </p:nvPicPr>
        <p:blipFill>
          <a:blip r:embed="rId2"/>
          <a:stretch/>
        </p:blipFill>
        <p:spPr>
          <a:xfrm>
            <a:off x="5000760" y="571680"/>
            <a:ext cx="34336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Organisation de chantier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157176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Un chantier est divisé en trois phases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Calibri"/>
              </a:rPr>
              <a:t>Organisation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: Préparation du chanti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Calibri"/>
              </a:rPr>
              <a:t>Réalisation-Pilotag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: Exécution du chanti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Calibri"/>
              </a:rPr>
              <a:t>Mise en service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Réception du chanti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a conception est réalisée en amont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s étudiants disposent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'un dossier de réalisation avec les schém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Bons de commande et de livraison …Dev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cédu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lans du secteurs (ppsp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8183520" cy="6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Les compétences évaluées …en CCF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571680" y="13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 u="sng">
                <a:solidFill>
                  <a:srgbClr val="0070c0"/>
                </a:solidFill>
                <a:uFillTx/>
                <a:latin typeface="Verdana"/>
              </a:rPr>
              <a:t>La phase d’organisation et de planification du chantier :15 min (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terminer les différentes tâches (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22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planifier les tâches (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23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nalyser un planning (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2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 u="sng">
                <a:solidFill>
                  <a:srgbClr val="0070c0"/>
                </a:solidFill>
                <a:uFillTx/>
                <a:latin typeface="Verdana"/>
              </a:rPr>
              <a:t>La phase de pilotage et de suivi de réalisation : 15 min (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concevoir une procédure (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12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ercer une responsabilité hiérarchique (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29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 u="sng">
                <a:solidFill>
                  <a:srgbClr val="0070c0"/>
                </a:solidFill>
                <a:uFillTx/>
                <a:latin typeface="Verdana"/>
              </a:rPr>
              <a:t>La phase de réception et de contrôle : 15 min (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contrôler la conformité d'un produit (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26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ordonnancer des opérations de maintenance (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3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intervenir sur une installation (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3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Image 3" descr="PB280018.JPG"/>
          <p:cNvPicPr/>
          <p:nvPr/>
        </p:nvPicPr>
        <p:blipFill>
          <a:blip r:embed="rId1"/>
          <a:stretch/>
        </p:blipFill>
        <p:spPr>
          <a:xfrm>
            <a:off x="5076720" y="5229360"/>
            <a:ext cx="1492200" cy="11188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La Phase d’ORGANISATION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3280" y="157176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travail dans cette phase consiste 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cencer, les tâches et activités à exécuter pendant la phase de réal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lanifier le chant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érifier la disponibilité des personn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voir la sous-trai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cencer les risques liés aux activ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mplir le PPSPS et les fiches par activit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cencer les matériels spécifiques et remplir une fiche de réserv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cencer les matériels utilisés et vérifier la livraison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diter tous les documents nécessaires à la réalisation du chantie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assembler l'équipe d'exécut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Image 4" descr="PB280020.JPG"/>
          <p:cNvPicPr/>
          <p:nvPr/>
        </p:nvPicPr>
        <p:blipFill>
          <a:blip r:embed="rId2"/>
          <a:stretch/>
        </p:blipFill>
        <p:spPr>
          <a:xfrm>
            <a:off x="5754600" y="2349360"/>
            <a:ext cx="14922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La Phase de Réalisation-Pilotage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157176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ans cette phas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3 à 5 exécutants réalisent le chantier sous la direction d'un pilo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pilote doit 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parer le chantier (rassembler tous les documents, matériels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ettre en œuvre le chant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iller à la sécurité collective et individue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érifier la bonne exécution du trav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ettre à jour le planning ré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érifier les dates et mettre en œuvre des moyens en cas de retard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former le client sur l'avancement des travau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sser les consignes au pilote suivant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Image 3" descr="PB280013.JPG"/>
          <p:cNvPicPr/>
          <p:nvPr/>
        </p:nvPicPr>
        <p:blipFill>
          <a:blip r:embed="rId1"/>
          <a:stretch/>
        </p:blipFill>
        <p:spPr>
          <a:xfrm>
            <a:off x="6516720" y="4941720"/>
            <a:ext cx="1714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La Phase de Mise en service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157176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À la fin de la réalisation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procède à la vérification hors et sous te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vérifie le fonctionnement du systè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réceptionne le chant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 présence du client, on présente le système réalisé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client pose ou non des réserves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Image 3" descr="PC050022.JPG"/>
          <p:cNvPicPr/>
          <p:nvPr/>
        </p:nvPicPr>
        <p:blipFill>
          <a:blip r:embed="rId1"/>
          <a:stretch/>
        </p:blipFill>
        <p:spPr>
          <a:xfrm>
            <a:off x="7215120" y="1214280"/>
            <a:ext cx="1214640" cy="1619280"/>
          </a:xfrm>
          <a:prstGeom prst="rect">
            <a:avLst/>
          </a:prstGeom>
          <a:ln w="0">
            <a:noFill/>
          </a:ln>
        </p:spPr>
      </p:pic>
      <p:pic>
        <p:nvPicPr>
          <p:cNvPr id="201" name="Image 4" descr="PB280012.JPG"/>
          <p:cNvPicPr/>
          <p:nvPr/>
        </p:nvPicPr>
        <p:blipFill>
          <a:blip r:embed="rId2"/>
          <a:stretch/>
        </p:blipFill>
        <p:spPr>
          <a:xfrm>
            <a:off x="2857680" y="4643280"/>
            <a:ext cx="150012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Trebuchet MS"/>
              </a:rPr>
              <a:t>Comment ?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0040" y="164304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Chantier d’apprentissage : 21H en 1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rebuchet MS"/>
              </a:rPr>
              <a:t>ere</a:t>
            </a: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 année (fin avril début ma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Participation à la réalisation du projet des 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rebuchet MS"/>
              </a:rPr>
              <a:t>eme</a:t>
            </a: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  ann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Chantier d’évaluation : 21 H en 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rebuchet MS"/>
              </a:rPr>
              <a:t>eme</a:t>
            </a: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  ann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Découpag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rebuchet MS"/>
              </a:rPr>
              <a:t>8H </a:t>
            </a:r>
            <a:r>
              <a:rPr b="0" lang="fr-FR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200" spc="-1" strike="noStrike">
                <a:solidFill>
                  <a:srgbClr val="000000"/>
                </a:solidFill>
                <a:latin typeface="Trebuchet MS"/>
              </a:rPr>
              <a:t> Organis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rebuchet MS"/>
              </a:rPr>
              <a:t>9H </a:t>
            </a:r>
            <a:r>
              <a:rPr b="0" lang="fr-FR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200" spc="-1" strike="noStrike">
                <a:solidFill>
                  <a:srgbClr val="000000"/>
                </a:solidFill>
                <a:latin typeface="Trebuchet MS"/>
              </a:rPr>
              <a:t> Réalis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rebuchet MS"/>
              </a:rPr>
              <a:t>4H </a:t>
            </a:r>
            <a:r>
              <a:rPr b="0" lang="fr-FR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200" spc="-1" strike="noStrike">
                <a:solidFill>
                  <a:srgbClr val="000000"/>
                </a:solidFill>
                <a:latin typeface="Trebuchet MS"/>
              </a:rPr>
              <a:t> Mise en service – Réce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rebuchet MS"/>
              </a:rPr>
              <a:t>3 journées de cours à 8H avec une heure en classe entière (novembre de la 2</a:t>
            </a:r>
            <a:r>
              <a:rPr b="0" lang="fr-FR" sz="2200" spc="-1" strike="noStrike" baseline="30000">
                <a:solidFill>
                  <a:srgbClr val="000000"/>
                </a:solidFill>
                <a:latin typeface="Trebuchet MS"/>
              </a:rPr>
              <a:t>eme</a:t>
            </a:r>
            <a:r>
              <a:rPr b="0" lang="fr-FR" sz="2200" spc="-1" strike="noStrike">
                <a:solidFill>
                  <a:srgbClr val="000000"/>
                </a:solidFill>
                <a:latin typeface="Trebuchet MS"/>
              </a:rPr>
              <a:t> anné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Le planning chantier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5929200" cy="642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Tableau 3" descr=""/>
          <p:cNvPicPr/>
          <p:nvPr/>
        </p:nvPicPr>
        <p:blipFill>
          <a:blip r:embed="rId1"/>
          <a:stretch/>
        </p:blipFill>
        <p:spPr>
          <a:xfrm>
            <a:off x="566640" y="2000160"/>
            <a:ext cx="78645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27:20Z</dcterms:created>
  <dc:creator/>
  <dc:description/>
  <dc:language>en-US</dc:language>
  <cp:lastModifiedBy/>
  <dcterms:modified xsi:type="dcterms:W3CDTF">2011-10-11T16:41:3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902491036</vt:lpwstr>
  </property>
</Properties>
</file>