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808-9A2E-498F-85AC-72F1ABA3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16C-CCFC-40B6-BABE-1CC1C0B4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449E6-CC22-44ED-ABED-BAB75A25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778C-03F5-4611-BBAB-1FC2060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4602-6213-4EEA-9437-0A493E45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4484C-4FA8-4078-9B6B-1EEAF62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77C7-7C90-4296-80D4-E101271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2528-4F70-4AD8-BB0C-5500E97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5AABA-B396-4595-8F38-2039F3D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39AD-8DEE-47DC-A417-55AB2602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C98A-6467-4AD9-A3FA-AC82F3F1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CAD4C-129F-4ED0-AE5D-D7657666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0D5-32AE-45B3-9912-1CD1C804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7D5F5-10FF-4E2A-BD13-C928943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3BDDD-ABF6-4AD8-A3D5-1EEAF6B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370AA-C12F-4EFE-B961-5ABB59D4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60AC8-3E71-4F95-9DEE-579DFE96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6F0AE-0BC3-42E7-8BEE-EC2C22F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74150-0F1B-4740-AEC0-40EF487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74F2-34F9-45C5-8CBF-71C0C54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33537-EC7B-4ED6-8012-655B979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10AC-43A5-4FC9-AE56-42C507A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B25CD-7EC6-4C6E-BF67-97BBA989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173-A2C4-4429-A755-44848C9D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F7B64-1D71-45DB-AD1A-FD9180D9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F43C9-9DC4-4779-BB06-2E6525EA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314BE-D8FD-434B-BB94-F4C0018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259C-FB22-4F65-9D24-709BFEF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601F-D25C-46AC-BDF3-2AB98DF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5D74D-978D-48F6-B33F-56A4FABE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2D04A-440E-4C11-B1A5-F53ACFC3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8D94F-0F73-41FA-BAE1-CF45ECA5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4E6BF-9A3B-4C9E-B8F7-78F21E0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F805-CC4A-4DF3-8DC8-2966C40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BC1-FB3B-4FC6-BA59-F24CBDC0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48DC7-1CDB-49AA-9D6F-3A63B464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DC247-AC49-490E-8619-17150D87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4557-09B5-4250-AE37-F7699E2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7D80C-5856-44D3-A46E-4883FDD4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C684-736B-43D0-9C93-56924AC2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6D40-5DD3-4316-8061-B622D61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B4B26-34C9-4EFA-944E-70EBF3CE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418EE-63EC-446D-B58C-1FC03760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780FD-1B21-49DC-BBE7-9512EF23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D7BF9-AA1F-47BA-BB55-810CBB9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78A-7E06-4C08-BAA9-E21CB84F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7EB98-4F01-4ECF-945A-DAB4F93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BD12F-68BC-44F1-A37B-16883F7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C993B-E57B-467A-84CF-4762279E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34D57-2363-486A-B38B-21E580A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DE2B5-A9BE-4B6D-8CA6-2ECC6F8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A6E-CF54-4C12-92D0-9C64DCA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B4E9-11DB-4544-8FC2-BF80998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AFF-3D29-49C9-A5FD-134814E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B4E-6CBD-4649-9B89-6CE669FA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F69-0A17-4B3E-94E9-CA48A8BF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9BD-BCC5-4CCA-97D7-1252478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F7A-8278-4BC1-99A3-544851C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106-0462-44D7-A483-34DF4AE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A14E-8F4C-4323-A100-D9F5D838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0F5-56AA-4064-9015-F56FBB2C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C4F-42ED-4C1E-9CCE-9FBBA06B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5C1B-56E1-44FE-8ADD-934D37F5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88FC-28E5-4DCB-9B9C-4C6AD85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0077-8841-41F9-AA7B-2A429499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49DF-3386-4624-86CA-6268C7D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137E-2F09-4244-B487-FF364871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6E3-8996-4351-9396-DFEF0DFD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03A6-D087-4F66-8063-A8386005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B467-A1DB-47AD-9DE2-3CE134E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B3EE-1171-48D7-BDA2-70F65C8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FE38-70DA-4C0F-88B3-740F268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3B42-1BA5-4AFF-ACE0-F62E43D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F910-F226-4D47-B3C8-77115E0F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98B5-4C80-4133-B43B-418EC73E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B617-6312-407B-8789-1B7CFB32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E590-3B18-449B-B1EB-D7B06A23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BFDC-AD46-4DB3-A41D-A45A96B7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9DF-B251-4E1C-8AFB-4D0B4D43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E8E3-53C4-4785-ABB8-72DCD328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E8F1-9C4D-47A1-98C7-9A7CC731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DE2D-385C-402D-8180-A04CA932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FDA7-93F8-4FC3-AD75-E89AAD2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8954-925F-42E0-A21C-D4AA2F2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6331-BB60-4173-ABD5-19C11D0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CD05-ECC6-491C-8F92-63281FE8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AA1E-7814-4B68-9164-2438957E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7E4A-23CE-4BA9-9CAA-FC6D541A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864C-3B83-4530-AEE5-EC606552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E44-91F0-46CE-A6FC-F392694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4C91-3444-4306-BE9E-4C2D7945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66F5-53E2-49D9-A863-9FC9C5D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769C-5EB3-4459-B0B6-B7D070D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0B35-1966-4532-BD78-6E94C8B8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39F3-82C1-4A07-81AC-99AE427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3AD6-99CA-4BB5-B2B5-8F3766C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3E26-0C66-4220-9018-F355EC0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AA3C-6880-4050-8BB0-D1A8B8F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A672-C107-44B4-BD92-9552A79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8C139-6FAF-4136-98B2-061BE65A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CD4-6C69-4BC7-BEB6-4BC28601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4F174-B0FF-4BAD-AF30-B614C036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32EC-4995-42B5-B74B-A24BB4D7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932D-1629-4475-9B23-A886AAA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6E67-09F1-40EC-870C-30A1D58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4164-B800-4639-A318-852A6F9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57BA-15BA-4A31-A136-0B6180C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2A87-BE61-45D6-B4BE-766D1F57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4019-0A0E-4641-B84B-34CDC9A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B6D8-BA4F-44F5-BA37-15201C8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850E-0BA9-4899-B4FD-50EAAC7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940-D0CC-4CFA-B9C9-B778029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7815-3D30-4CD0-BD57-943F380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7757-BCE0-4D3E-A33D-B99744AC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12B5-7826-45CE-B8FA-74BCBEDF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C8BC-12D8-459D-B9DA-F60A8649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309D-7088-41F0-AE88-70404F9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846F6-4D40-4E69-8D18-226EB7C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2361-25B8-4F0E-86CC-2D1D2C8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931F-EA79-4310-90F9-E283B2D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1A5D-7704-4C39-991A-1877B93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2B1B-0E72-47AE-9B6F-753D8D7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A34-32E4-404B-93CF-1E1DD64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DB15-F146-4826-B91B-267A14E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4B2A-255A-423C-B4E2-DF1FE5A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F304-8A7E-49CA-8746-00AD3E1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DAAB-1C28-43BF-94A8-0464149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C23A-5ABD-4223-8BAC-6765D066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D7E5A-9EEA-4683-B68D-66BBC69C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5B709-3048-45CE-9C1D-96829810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20796-0FAF-47FA-A21D-ADDC4E2F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181FD-42C4-420A-9857-2392147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9F8F-4F17-4421-9B08-FD5B6EF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D1E-47EF-44B9-A7BA-998EC5A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631F6-FB16-4102-BA82-2594B42E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CB3E0-5C6E-4DDE-AB88-7FE562E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09BA7-BCA1-434A-855C-63723FD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47E1F-677E-4C2B-85AA-FE5F86D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5BAE-D5F5-4EE7-B36B-F0B0B26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F90E-02CC-4370-9858-892704AD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2E13-2E92-4E38-846B-4EBFD45D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8B9B2-3A71-43A0-939D-D118AEE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2BEA9-1B12-4CFC-8EB9-C2A3C733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10508-7620-44EC-8BA9-F9A942F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D22-5727-425D-8EB9-5E65A419F28C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63D-659D-439E-8683-3696E64A50A8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5A8-003D-4824-8735-25375FF5CC19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DFA-8EE7-4EA0-9623-DEE71368265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EE9C-4B48-4B48-BC54-61915D075D9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522-CCF9-486E-ABAD-3EE83A72F2FD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EAA-11F9-4AC7-9FAE-54090E391C4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765-0625-49BC-91ED-3ECBE98C3C8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C40-DB09-492A-A494-961E0A263C8C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C40C-2408-4D21-870B-780CEC11A1A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65E-DBC4-46EA-B25E-4C221FB1D93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E90-E313-4CDF-BA1F-4BF88B18674D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57120" y="2571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  </a:t>
            </a: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D’UN  ANCIEN  ETUDIANT</a:t>
            </a: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D’ORIGINE  BAC  PROFESSIONNE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NSEIGNEMENTS  QUI  PLAISENT  LE  +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D / T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GENIE  ELECT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ESSAIS-SYST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NSEIGNEMENTS  QUI  PLAISENT  LE  +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T  MEILLEURS  RE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D / T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GENIE  ELECT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ESSAIS-SYST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LUS  DIFFICI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ANS  LES  MATIERES  SCIENTIF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OUR  SURMONTER  LES  DIFFICUL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TRE-AIDE  AVEC  LES  AUTRES 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AC PRO  ET  STI CONFO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NSTAT  D’EVOLUTION  SUR  LE  PLAN 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O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tant dans les matières générales que dans les matières profess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TRAVAUX  EN  GENIE  ELECTRIQUE  QUI  PLAISENT  LE  PL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RGANISATION  DE  CHAN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 en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s’occupe de t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RESSENTI  DES  EPREUVES  DE  C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 SE  SENT  PLUS  EN  CONF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  DE  PASSER  UNE  EPREUVE  PON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FIN  DE  CU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LA  FORMATION  ETAIT  ELLE  CELLE  QUE VOUS  ATTENDIEZ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’AI  L’IMPRESSION  D’ETRE  ARRIVE  A  MON 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i c’était à refaire,  je referai c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QUELLE  SUGGESTION  PROPOSERIEZ–VOUS  POUR  AMELIORER  LA  FORMATION  B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VOIR  PLUS  DE  TEMPS  POUR  ABORDER  LES  TD/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ourquoi pas refaire  2h de sport /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AINTENANT ,  QUE  FAITES –VOU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PRES  AVOIR  FAIT  UN   JOB  D’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INTENANT  JE  CHERCHE  UN  VRAI 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 me sens confia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DIAW  AROUMA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CU  AU  BAC  PROFESSIONNEL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EPARE  AU  LYCEE  TURGOT   (Roubaix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( juin  2009 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DIAW  AROUM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TS  ELECTROTECHNIQU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 LYCEE  COLBERT  (Tourcoin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( juin  2011 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OTIVATION  EN  T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  POURSUITE  D’ETUD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CONTINUER UN CU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ENVIE D’ALLER AU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OTIVATION  EN  T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  POURSUITE  D’ETUD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RESTER DANS LE DOMAINE DE L’ELECTRO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MANDE  D’ADMISSION  EN  B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MANDE  SANS  CERTITUDE D’ETRE P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CONSCIENT DES  RESULTATS  OBTENUS  EN  BAC 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 EN  B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ON  SE  SENT PLUS CONFIANT  QUAND IL  Y  A  UN GROUPE  D’ETUDIANTS  D’ORIGINE BAC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TENDANCE  AU DEBUT,  A  RESTER  ENTRE ETUDIANTS DE BAC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PROGRESSIVE AVEC LES AUTRES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VORISEE PAR UNE ACTION EN DEBUT D’ANN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journée à la mer (char à voile, barbec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PROGRESSIVE AVEC LES AUTRES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EUR  DECLENCHA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voyage à Londres favorisant l’esprit de gro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7:48:21Z</dcterms:created>
  <dc:creator>Votre nom d'utilisateur</dc:creator>
  <dc:description/>
  <dc:language>en-US</dc:language>
  <cp:lastModifiedBy>BTS Electrotechnique</cp:lastModifiedBy>
  <dcterms:modified xsi:type="dcterms:W3CDTF">2011-10-06T11:47:32Z</dcterms:modified>
  <cp:revision>105</cp:revision>
  <dc:subject/>
  <dc:title>Diapositive 1</dc:title>
</cp:coreProperties>
</file>