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D231-60A4-47AA-9F2B-B250AB6B8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DFE6-AA87-4076-940C-C7BA96E1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FC0C9A-DB01-4BDA-BCF3-702EFD00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09AEF4-4437-4CFE-A21C-D69CFFCA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0FC1EF-C1CC-4B61-9AC5-33E98C5F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E9780F-BD25-4451-9DD1-4FD6D898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36D69A-D9B7-4DC4-9AF3-453854F2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E43FF9-1B5A-4E16-AF67-0AB3B9B6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892DB4-7BB1-4EAA-B274-48F023CD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46F3D3-E1D6-41CD-B567-034C9918B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1A860E-FA73-4CD6-A42B-AB08E3895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C99ECB-AFBF-4C34-A929-1A8CC8597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DE56-3569-4022-989F-F56C2DAC9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271DE-7DBB-4D1C-A6F3-786548BD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894759-55BB-484B-A6D2-2D0B8AFA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7F36CB-EF1D-4E20-8473-E93C96BA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F374EB-E28E-43F6-ACF4-90700ABC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1B41B0-ED34-4251-B083-0EE4844E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A4B011-3315-408D-8175-9BBF5A35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B59F6C-EFD6-48AD-804D-DDC7388D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622FE-5D3C-4D4C-B5B8-C6B92B71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1450AD-1762-4662-8343-372121F1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8C9A96-0811-48E7-A3F7-ED10FD840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F61F-F94C-4C81-AA7E-A33BF1CD2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7C3693-1572-4416-A4B1-3FD195454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B70D5B-848C-4105-ACC8-F258B23B2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96D9B-169F-4BE8-A8A5-952B6739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E0ABAA-AF5E-40EC-9409-CDE5E7EB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5C8C59-E541-43C0-AF4C-EDD4302B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F3DB0-F05C-48B9-8E70-ABFF552C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D3B078-2052-4738-AB4D-08E95CA2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D98039-5C4F-4A96-8E81-A2A0FDB0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61AD8-EF38-464C-A88A-4814C662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B141A-634C-4FDA-A3EA-2ED5FA3F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37BD-024F-42B3-BFCE-D0EE6F74D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A31B57-8D70-445A-B465-D2FAA2C1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62834-D9E7-44C8-9F52-5C2D51860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C83E5-F4DB-4236-BD8C-60F19CAAB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53FD79-671F-47CE-967E-E613F5F46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13EE90-8354-4AE1-94A1-1A580588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888957-3417-4B6B-BB8B-3CB265EB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63AA69-948A-4EBA-9B9D-BFC556D3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1BF44D-8B66-47C2-AA2E-73A7B1A8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E33FC3-5422-4E05-9585-3D223CFD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CD895E-C602-4606-8C59-95B688DB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79EA-54D6-4F74-9AAC-998BF29A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2DB824-ECA0-4A60-A7D0-D21F0B8E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33EEFF-71B9-4905-BDF5-11AA04AF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1948EE-C60E-4D92-B102-03CEEEB9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E1F40E-8BC2-4003-9049-82AE02A09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8AA8E4-31D0-4E47-A0BD-FD891EC01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50A45-1345-4722-8BC0-A79CD6A2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6704-22E1-427A-B82C-4E4FBAEB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411F-96C4-40A8-B881-860F510F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FCE8-6585-4518-8491-8C60EDE3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D4CB-BD9B-4E2B-8EF9-41E7F953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6086-3C9E-4CAA-8A48-0CC5073F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1548-3AA7-403C-985D-16A84E43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4EA4-EF16-4386-84AC-7829E29C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BEAB-9A1F-4C13-8258-FA4B29C4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0A623-68DE-4770-9841-953AD5A1A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3154-C52C-46B6-A1FA-153E90B39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EC202-827B-4ED0-942E-35B3190F7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BAFE3-1959-4A1B-A05D-85864128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E6401-A64D-41EF-9AA0-C2A58083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3B4BA-2543-47AD-9673-52363947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66B81-B799-461F-A4E3-B49F0363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EA45-43D4-48DD-A3E5-F3035F70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D7713-4B66-478A-9DE6-B51DA766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217CF-B52B-4621-A9E2-2423ED63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5B56A-59A0-494A-8CDA-77F3F419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F7222-81C7-4136-A95D-A24C4064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24C77-87A9-4A7F-B705-197814B0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F0506-72BF-400E-9265-F8683BA98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DCE08-4CFC-4118-9E37-60E569677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85DF5-D5EB-4C47-B961-F570C828A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18B2E-CBE4-481C-A2E6-91B2AA5E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61A16-5846-4D72-9C67-5D183844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9B42-6DE9-4DFC-8C34-29CE4333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01C97-1C5B-44EE-B2E6-470CA0D4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1105F-D29D-4155-B0CA-84F34A38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BA5A3-96E7-4A24-BAD4-5706937E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E2B4D-EF94-4F41-B369-DDEB7CE6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3DEB8-BCE9-41D3-A6C6-B753C49C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1B427-3CD1-489D-8705-C500707B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07A0B-9D2D-4901-8EDB-82680623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A2CE8-B981-4604-9A35-2254AA8A6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7B44A-7294-4AD6-926F-DF5C25BDF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5ADDD-1ED5-41AD-AD05-CC89E79AF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8A83-1606-4869-9BA8-801CF14A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C9F25-43FB-4C48-A8A1-E0762125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80D25-96B6-49C3-BDD5-B83CDE71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4273C-83E6-46BC-8C7D-2A761DCD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16764-56B7-4F23-9942-23FDE70D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DAD88-EA08-461D-84D3-E9D7E0FC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6162D-15B1-40DC-808D-184CF361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ACB01-4735-4630-9FAC-3D4D4BF7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5EE95-7D40-4DF1-B682-AEE59049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5AD8B-73BD-46F3-9B41-955D26AB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7E79E-F70D-47AA-B4DB-3E3CDB048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B42F-38A9-4061-AEC7-D34F06A0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8A079-C310-4601-8867-E7EA622E3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FD604-F8BC-45DE-8E4D-9BFBE94C5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3D869-A155-44D6-A177-80B6055D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59F68-2CFE-4571-8FB9-6467E571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8B362-3CBC-46B8-8DA2-36259C17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21744-DB60-4DE4-861F-DF4F85EA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34DE0-5EFC-4ECB-AE8F-8F4FF6F4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9CBC5-E088-43B0-A0B9-85496329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C7D4A-E0A2-483E-A531-4ABAD2AE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8A17E-1413-4D6E-9C35-265A85DA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66CB-4652-4E82-AE1D-6DF501B8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1ED2E-9940-47D9-9077-668AA19A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008D4-4AAD-49BF-A860-890DA77CE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52960-94B8-4DA6-8465-316190E4E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F0A0B-629A-4651-BA0D-ECD1A7B82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AEB3D-BADF-4BEF-806A-09FFBF79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0DF80-137B-4A8E-9AA3-08BE2F12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70BF9-14F3-45DD-83B9-11D4FDC4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C7E68-0DF1-4B5B-ADA3-B8212E03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81BFA-0559-4C51-9620-DCACD2E8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52102-5C34-4CBC-9543-D6F2E078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38AE-D4F1-4F42-8442-24B79E4B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97EB1-F07A-4D3A-8F77-E29895BA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375C2-0918-4F36-B16A-5AD7F186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45FDA-0A9F-42CF-B01F-D8FC0D4D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037D5-B671-4550-9C82-A020DCCF7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7604E-74AB-4F63-8A00-9EBAC4A9A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42FFF-034B-4639-A01A-5E14CA433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B3DBA-5695-4856-9CFE-78145884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E023A-297B-4C4F-9FCB-993D3B7A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27D0A-FBF7-4A17-91EF-92974DD0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B80EA-C069-49BF-BAD2-7B94EA9C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3505-0474-49BC-9D55-1E3873DD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352DA-C2A3-43D4-8E63-F9CC6527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8831D-8F52-45BF-841C-C301B583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B4D8C-9F25-4560-818F-8B1301DA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18CE1-D378-4877-8C5D-2C87037D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87043-3BE6-4B17-B673-D36B54AC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50E59-95A9-45BD-8422-215CF0879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77184-810B-46DB-B1AC-6358F5122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05EC79-2D66-4E7E-A4F2-CE2813705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20813F-D0B7-4F8F-82CC-CA88AE9C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5D3645-A72D-40D2-A5CE-68863144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A120-06AF-4B74-A4B4-EEFF5B012B28}" type="datetime">
              <a:rPr b="0" lang="fr-FR" sz="1200" spc="-1" strike="noStrike">
                <a:solidFill>
                  <a:srgbClr val="045c75"/>
                </a:solidFill>
                <a:latin typeface="Constantia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D83B-1EF2-494D-821B-820B2F001415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ogner et arrondir un rectangle à un seul coin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riangle rect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orme libre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orme libre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E211-CF9B-4BCF-889D-2A5B1995173C}" type="datetime">
              <a:rPr b="0" lang="fr-FR" sz="1200" spc="-1" strike="noStrike">
                <a:solidFill>
                  <a:srgbClr val="045c75"/>
                </a:solidFill>
                <a:latin typeface="Constantia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EB0E-1C0C-42F6-9443-D39A63ACC29F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8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99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02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D6DB-E116-44C0-B622-BE585F6C45FD}" type="datetime">
              <a:rPr b="0" lang="fr-FR" sz="1200" spc="-1" strike="noStrike">
                <a:solidFill>
                  <a:srgbClr val="045c75"/>
                </a:solidFill>
                <a:latin typeface="Constantia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4CC2-7EA7-4CA2-BD55-1EB99C0D6E11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8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9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2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B1D6-4416-44CA-8F05-08A86E60AC6F}" type="datetime">
              <a:rPr b="0" lang="fr-FR" sz="1200" spc="-1" strike="noStrike">
                <a:solidFill>
                  <a:srgbClr val="045c75"/>
                </a:solidFill>
                <a:latin typeface="Constantia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6FAE-DB73-4348-83EC-532D896FCE45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6006-DC17-438F-A24E-24D1311C113C}" type="datetime">
              <a:rPr b="0" lang="fr-FR" sz="1200" spc="-1" strike="noStrike">
                <a:solidFill>
                  <a:srgbClr val="045c75"/>
                </a:solidFill>
                <a:latin typeface="Constantia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702E-FDA7-4761-A1E1-3F2C1D4012D3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CACA-B440-43E8-A9E1-038C6AE7B4F1}" type="datetime">
              <a:rPr b="0" lang="fr-FR" sz="1200" spc="-1" strike="noStrike">
                <a:solidFill>
                  <a:srgbClr val="045c75"/>
                </a:solidFill>
                <a:latin typeface="Constantia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0D32-1E87-4C77-B679-D4531C0D0A77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3DE6-E10E-446A-90F7-990564F8D76D}" type="datetime">
              <a:rPr b="0" lang="fr-FR" sz="1200" spc="-1" strike="noStrike">
                <a:solidFill>
                  <a:srgbClr val="045c75"/>
                </a:solidFill>
                <a:latin typeface="Constantia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CB69-4CD3-4088-AF20-F8B659D2B1E9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4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7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40BB-15D8-4AEC-BDEF-4B2A9FD4388D}" type="datetime">
              <a:rPr b="0" lang="fr-FR" sz="1200" spc="-1" strike="noStrike">
                <a:solidFill>
                  <a:srgbClr val="045c75"/>
                </a:solidFill>
                <a:latin typeface="Constantia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620A-C8F9-4086-A12C-DD2E2FA77514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4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7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7121-1101-4F6E-977D-147F733DF7BB}" type="datetime">
              <a:rPr b="0" lang="fr-FR" sz="1200" spc="-1" strike="noStrike">
                <a:solidFill>
                  <a:srgbClr val="045c75"/>
                </a:solidFill>
                <a:latin typeface="Constantia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32F0-B095-43BA-859A-5CB525DAC4AF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04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7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D914-4ACA-4F7B-B337-6789690A8170}" type="datetime">
              <a:rPr b="0" lang="fr-FR" sz="1200" spc="-1" strike="noStrike">
                <a:solidFill>
                  <a:srgbClr val="045c75"/>
                </a:solidFill>
                <a:latin typeface="Constantia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D247-F797-433B-9889-5A958F7C51EB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54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7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7989-F2A9-469A-B9EB-BD98309F387D}" type="datetime">
              <a:rPr b="0" lang="fr-FR" sz="1200" spc="-1" strike="noStrike">
                <a:solidFill>
                  <a:srgbClr val="045c75"/>
                </a:solidFill>
                <a:latin typeface="Constantia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8304-D7C7-4FD5-83C2-50C682A56751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04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7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907F-1E40-43C8-BBFA-FECAC1E840C9}" type="datetime">
              <a:rPr b="0" lang="fr-FR" sz="1200" spc="-1" strike="noStrike">
                <a:solidFill>
                  <a:srgbClr val="045c75"/>
                </a:solidFill>
                <a:latin typeface="Constantia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D7DF-9C08-4514-9B87-37D1565BA29D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Titre 2" descr=""/>
          <p:cNvPicPr/>
          <p:nvPr/>
        </p:nvPicPr>
        <p:blipFill>
          <a:blip r:embed="rId1"/>
          <a:stretch/>
        </p:blipFill>
        <p:spPr>
          <a:xfrm>
            <a:off x="530280" y="895320"/>
            <a:ext cx="7864560" cy="240840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Etat des lieux  201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Journée académique  Liaison Bac Pro – B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9 novembre 2011, Tourco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Statistiques nationa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3885840" y="2666880"/>
            <a:ext cx="4800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près le bac, les bacheliers technologiques s’orientent majoritairement en BTS (53%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 taux d’orientation des Bac Pros en BTS atteint 17,7 % en 201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99" name="Image 4" descr=""/>
          <p:cNvPicPr/>
          <p:nvPr/>
        </p:nvPicPr>
        <p:blipFill>
          <a:blip r:embed="rId1"/>
          <a:stretch/>
        </p:blipFill>
        <p:spPr>
          <a:xfrm>
            <a:off x="762120" y="2666880"/>
            <a:ext cx="2639880" cy="3359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Déclinaison académiqu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495680" y="2590560"/>
            <a:ext cx="41911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n STS (globalement) 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/5 de Bacs généraux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/5 de Bacs pr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3/5 de Bacs Techn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2" name="Image 3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3898800" cy="298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Profils de Bacheliers entrant en B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4572000" y="1934640"/>
            <a:ext cx="4114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 grande majorité des étudiants issus de Bac Pro poursuivant en BTS ont décroché leur baccalauréat sans mention ou avec la mention AB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5" name="Image 3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3824280" cy="262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Constats sur le décrochag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572000" y="2971800"/>
            <a:ext cx="41148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Le décrochage en BTS touche majoritairement les étudiants issus de Bac Professionn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8" name="Image 3" descr=""/>
          <p:cNvPicPr/>
          <p:nvPr/>
        </p:nvPicPr>
        <p:blipFill>
          <a:blip r:embed="rId1"/>
          <a:stretch/>
        </p:blipFill>
        <p:spPr>
          <a:xfrm>
            <a:off x="533520" y="2971800"/>
            <a:ext cx="3730680" cy="2654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Titre 7" descr=""/>
          <p:cNvPicPr/>
          <p:nvPr/>
        </p:nvPicPr>
        <p:blipFill>
          <a:blip r:embed="rId1"/>
          <a:stretch/>
        </p:blipFill>
        <p:spPr>
          <a:xfrm>
            <a:off x="450720" y="2249640"/>
            <a:ext cx="8315280" cy="2298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4617b"/>
                </a:solidFill>
                <a:latin typeface="Calibri"/>
              </a:rPr>
              <a:t>Origine des étudiant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11" name="Espace réservé du contenu 4" descr=""/>
          <p:cNvPicPr/>
          <p:nvPr/>
        </p:nvPicPr>
        <p:blipFill>
          <a:blip r:embed="rId1"/>
          <a:stretch/>
        </p:blipFill>
        <p:spPr>
          <a:xfrm>
            <a:off x="457200" y="1920960"/>
            <a:ext cx="4038480" cy="4433760"/>
          </a:xfrm>
          <a:prstGeom prst="rect">
            <a:avLst/>
          </a:prstGeom>
          <a:ln w="0">
            <a:noFill/>
          </a:ln>
        </p:spPr>
      </p:pic>
      <p:pic>
        <p:nvPicPr>
          <p:cNvPr id="612" name="Espace réservé du contenu 5" descr=""/>
          <p:cNvPicPr/>
          <p:nvPr/>
        </p:nvPicPr>
        <p:blipFill>
          <a:blip r:embed="rId2"/>
          <a:stretch/>
        </p:blipFill>
        <p:spPr>
          <a:xfrm>
            <a:off x="4648320" y="1920960"/>
            <a:ext cx="4038480" cy="4433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% de sorties du BTS Electrotech. Par catégorie d’origin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14" name="Espace réservé du contenu 4" descr=""/>
          <p:cNvPicPr/>
          <p:nvPr/>
        </p:nvPicPr>
        <p:blipFill>
          <a:blip r:embed="rId1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Réussite des étudiants au BTS</a:t>
            </a:r>
            <a:br>
              <a:rPr sz="5000"/>
            </a:br>
            <a:r>
              <a:rPr b="0" lang="fr-FR" sz="2000" spc="-1" strike="noStrike">
                <a:solidFill>
                  <a:srgbClr val="04617b"/>
                </a:solidFill>
                <a:latin typeface="Calibri"/>
              </a:rPr>
              <a:t>(pour ceux qui y arrivent...)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616" name="Espace réservé du contenu 3"/>
          <p:cNvGraphicFramePr/>
          <p:nvPr/>
        </p:nvGraphicFramePr>
        <p:xfrm>
          <a:off x="793800" y="2281320"/>
          <a:ext cx="7554960" cy="369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7" name="Espace réservé du contenu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2281320"/>
                    <a:ext cx="7554960" cy="36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20:58:37Z</dcterms:created>
  <dc:creator>Votre nom d'utilisateur</dc:creator>
  <dc:description/>
  <dc:language>en-US</dc:language>
  <cp:lastModifiedBy>Federico Berera</cp:lastModifiedBy>
  <dcterms:modified xsi:type="dcterms:W3CDTF">2011-11-08T21:14:30Z</dcterms:modified>
  <cp:revision>99</cp:revision>
  <dc:subject/>
  <dc:title>Diapositive 1</dc:title>
</cp:coreProperties>
</file>