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C71-B255-4559-8222-F47D54E2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9D2-BED5-479D-984F-1EDB35BD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86CD4-C902-4C8B-9876-9D526696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7E85F-6739-4E14-9B57-BE8E2811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754A5-6E94-4BFA-9063-02A4895B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2AA6A-D48D-4B91-A598-8B36EFAD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7BA97-C1E3-4E34-85E5-B9DC4414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99B8F-0D1C-487F-B732-B7E2A801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F7A67-3519-4706-A001-1F67F22A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7BD2F-22B8-4059-BCBE-0529E8E3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5777E-C89D-4ADA-BF9C-61F06926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63E8A-4C64-4133-8B10-026A6A96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0AA-BF0E-4920-97A5-FE7DED4B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F7AA1-2D1A-46B1-8F95-D0D5699C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2D8AB-6107-4967-9D88-79EC6DB0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0D6C9-BBAA-43F3-BC07-F469CE9D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D2477-B133-49EE-A1C8-2C00879E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E4437-4BFC-49E2-867C-5BA12534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3966C-1307-45A7-9BBC-5CDEB93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4B72C-7976-4991-A58E-04618FB9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F8192-E626-4834-AA36-3DE6DB2E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73418-2999-4FA5-B996-099E157A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4A6F0-ACF9-4586-BB6D-5FA8F101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D9B-EF83-431D-B538-085CE995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28221-680B-46FC-8EA6-82B59FAB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74ABF-2896-4E0C-957D-0A72E5F3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5036D-5C83-4BD7-9DF8-04FAC84D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4F4C7-4A32-48AC-B4CF-3F2CBA71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24034-50B2-489C-8DB0-90C2161A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11959-CDE5-4F03-A3C0-E9002A1C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42D07-843A-465A-A7B3-2979029E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9558A-CB0B-4423-8C76-95C5A4F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CFF43-8508-41CE-9012-057EB3C8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EC538-50EC-4711-9D0C-958CF50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E897-5D18-44E5-95CC-0702A41E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5B85B-547E-4D7A-B577-10A097D9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5676F-CA53-4CE1-B6AB-38413EE2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AAE10-23EB-4C0A-8D7C-2E100CC1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EDBDE-249E-4199-B987-0EE14985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976BA-6A8F-44D2-BA81-D95F4076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8493D-E3AE-426C-8A0C-7C55FC2F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9FB2F-F1AB-4A9E-A877-0AAE3577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FA583-C8ED-4009-8F4A-D5DA8285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4D090-661F-423B-93D4-2172533C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271BF-BFC9-4DD2-BBCA-F919339E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0520-B3CC-4F6E-AA73-35172A24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F5F3D-3097-4523-AA8F-F27D5867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3F4E0-6BB4-43A2-8773-9D618B31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3EC4D-D515-4A3A-AF7B-1151E3BB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F988E-7AFD-4E8A-9D2C-1AF821B1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DB456-BEE8-4CAA-AC3A-7D4A68E6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BFBD-8CC4-4647-98AB-C9538A86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7D7C-FCB4-4F33-9534-FB81CF3B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3E91-35E7-412A-8C4B-DDAD4924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8BD3-4102-4046-89EA-827E5487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1F28-C4E6-4C28-B472-6F4E6DEE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77B-6F3C-4C06-A4A8-F38477A3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9D0A-EC1B-4BCD-93B4-7BB3D07F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6819-B0B5-44E4-AC7F-0007E41D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1FD8-A28B-4E1C-B0AC-C8A005ED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D98F-D7F0-4897-B99B-16C04D4F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A7D2-D435-4F56-9414-86B9820F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B9CC7-BAA2-4116-8AA8-787822CC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754F-8129-430E-9AA6-4458D535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3C6D-109A-4943-9460-5B8F25C7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D8042-ECF1-48D6-AFAF-4F3FB11C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245B-86DD-4D80-AB0E-89C6BE24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250-2EED-4352-A48A-2B815BEE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3858-EECD-41C8-8863-7E61E404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F95C-2EA7-4648-85EA-B396A58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5144-D6FB-4427-B734-2D983D62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13AEE-BD0E-4C86-A9A0-A98EBB73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0D4D-F402-4FE2-8FA4-A334A6DA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32A2-7A96-4DA5-BF5A-61A5074F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DD9A7-0CFC-4255-B452-AE2AF91C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E7748-0941-40B2-AB80-2C68F587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AE982-F917-4D03-A88F-9A8A454A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257D-1CB7-48BA-B5E0-20727D69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233-5AEF-4A04-9D79-B41095A3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CAD0-0C29-488A-BB52-125A0CCB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2B28-0D7D-4C7D-A8BC-125C569C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C921E-576B-4A72-949D-3F32C0AF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8022D-25C4-42C2-A4E2-6A54AEC1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9F89B-4440-4CF6-89C3-C1183171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0F83-48D8-43EF-BC84-0D42023D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D33C0-B730-4D69-AE34-D1D7E333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4CD94-5B4F-4A43-9BFA-46667A7F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23E8B-5F2F-4356-ADE2-6B81429D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1FC33-F04B-4686-9E6F-BA6296C2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581-D13D-40CB-80CC-0A062738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91728-5B1B-4441-B4CF-1323ECE2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6992-2F89-4044-88C6-BAC886F3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E679C-B7EE-4F73-B3CD-5645EE36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EF50-281F-4F77-ADB6-1DF3897D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53AC1-6C9F-404E-91E9-42F9BFE1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56C86-8726-4684-BBF4-E16E515C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F1B7B-0A8A-423D-945A-B532BE5C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0475E-6167-4DCC-91B2-31CF404E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803B-4155-40D5-92EC-E047E6D2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B8DB2-76D0-42E5-9B8B-52D6C33F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ACD-4B71-41E1-8F70-62A2843E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1BAA2-9CF1-4A1A-A0A6-8E313F14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8BE75-EDED-44C8-8ED8-17A3CA47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50A0-EFB6-427F-B4A7-F7C40C7B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17CEA-39C7-42AD-8367-8466976D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03B96-37D7-4F83-B20A-18A8BEF9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6B79A-24A2-4E21-9816-8C2C8757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B3C2-00EA-438C-A585-3E1C47E8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CCB88-DF45-4295-B0B5-8EEF22CF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41590-275D-4FA2-B990-8861E35D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60B5B-1827-429F-914A-20CF579D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A1E-E317-4050-858C-C56BDCD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13D69-78A7-4610-BDC6-5A0E6913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98917-1312-4647-9FC0-F932096F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0413C-3244-4F27-92CA-4E331252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86179-C349-400E-B455-69689BC3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D927-7714-4251-ACA7-675AC5B6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E60A7-45C9-434F-A816-BF305A99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B3C8D-CB59-4B8C-A7DC-E220DA7E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02B3B-746F-4B0D-83E9-24867EC5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3A4FD-1C7A-4B6B-8A78-453C32A4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469AD-6554-4622-971B-45737DB5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BC1-335F-40B2-B6BE-1ED9C93A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5A68-2EBD-4070-8745-ECCB26D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67208-7C32-4E37-9E25-16D94BB2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FC4C2-17D7-40A0-B926-3F01CFE3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5428E-5799-4957-8D83-6B6DEC45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A8F82-519F-4E78-92E2-E2000B26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957AF-0617-438F-8FE2-7C672ED4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9991A-B714-4272-9C1A-A1A955BD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B03BA-079A-46A3-A8FD-3C25194E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78173-8D00-4619-8444-3BEFF1CD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7FFDD-4E34-40FC-9000-B42CD240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3C6-4546-4AED-B4B5-1ACF091F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206BF-94A8-42B4-8E53-9DD6F6E2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7A91B-2F66-4861-A289-8181DEB4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95609-C1E8-4E8D-9CB9-42F69074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1DAAE-6259-40C6-A503-CB2850FB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DC831-69CB-4A95-AF80-B752E829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4E42B-6B9F-435E-AEF8-AD12E6BC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7E218-DF92-4821-990F-98AC3AFC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A58D6-A736-460C-9344-8B4BDB21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BD37F-71B3-4317-A804-DD5C5C51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BF589-8DDE-4234-A9D5-F935C5F3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37C2-716C-42A5-9F31-CCB3BF26083A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rme lib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rme lib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C960-2DD6-493E-B545-50D2A503B0F1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3F00-5F17-4A5F-A72D-61F17A7629E2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34B0-7F32-4096-B2AA-E1BA17807CDF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0584-79B4-4CF8-A404-AAF96983F6E1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F2B2-B5BB-4ED7-A7C2-0230A5E1B9D5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6C8F-DD04-4ACA-B479-C9AA8F120448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30B9-2D4B-4D73-B11C-98867AB5C701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68A5-3D6A-49B3-AEDD-874737A4B52E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23DC-6B73-442A-8ABD-9C39FB70AD79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4152-124B-4CAC-9B1B-6BB16BB5D5DA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DC8C-919B-4466-A969-3727A640CE16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587160" y="2372760"/>
            <a:ext cx="8055360" cy="1611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LA FINALITE DES COMPETENCES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DEVELOPPEES EN BAC PRO ELEEC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itre 1"/>
          <p:cNvSpPr/>
          <p:nvPr/>
        </p:nvSpPr>
        <p:spPr>
          <a:xfrm>
            <a:off x="428760" y="9288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LATION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space réservé du contenu 2"/>
          <p:cNvSpPr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est capable de répondre de façon adaptée en fonction de l’attente du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9_11reunion_chantier"/>
          <p:cNvPicPr/>
          <p:nvPr/>
        </p:nvPicPr>
        <p:blipFill>
          <a:blip r:embed="rId1"/>
          <a:stretch/>
        </p:blipFill>
        <p:spPr>
          <a:xfrm>
            <a:off x="5602320" y="3456000"/>
            <a:ext cx="1938240" cy="268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itre 1"/>
          <p:cNvSpPr/>
          <p:nvPr/>
        </p:nvSpPr>
        <p:spPr>
          <a:xfrm>
            <a:off x="428760" y="7858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Espace réservé du contenu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Espace réservé du contenu 2"/>
          <p:cNvSpPr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atteste un niveau de compétences générales et professionnelles permettant au titulaire du diplô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s’insérer professionnellement dans des emplois correspondant à des formations de niveau I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’évoluer vers des niveaux de qualification supérieure, notamment en s’appuyant sur la formation contin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71680" y="1071360"/>
            <a:ext cx="7929360" cy="4857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Le titulaire du BAC PRO ELEEC est capable :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de construire et raccorder des équipements électriq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de conduire une équipe de fabr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de réaliser des opérations de mainten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de mettre en œuvre des équipements du courant faible (V.D.I., alarmes, …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00040" y="928440"/>
            <a:ext cx="84297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La formation suivie sensibilise les élèves à :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’environnement technologique et qualitatif de l’entrepr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x risques professionnels (par l’habilitation BR et le secourisme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législation du monde du trav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 monde professionnel (22 semaines de stage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8" name="Picture 2" descr="002124-300x300"/>
          <p:cNvPicPr/>
          <p:nvPr/>
        </p:nvPicPr>
        <p:blipFill>
          <a:blip r:embed="rId1"/>
          <a:stretch/>
        </p:blipFill>
        <p:spPr>
          <a:xfrm>
            <a:off x="5815080" y="3816360"/>
            <a:ext cx="2658960" cy="26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Espace réservé du contenu 2"/>
          <p:cNvSpPr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116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Le référentiel s’articule autour d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40" indent="1116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6 fonctions principales suivantes 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SE E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LATION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TUD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2876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 partir d’un cahier des charges et des normes en vigueur, le BAC PRO ELEEC est capable d’établir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dev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produire les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ivr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3" name="Picture 2" descr="cleardiag_devis"/>
          <p:cNvPicPr/>
          <p:nvPr/>
        </p:nvPicPr>
        <p:blipFill>
          <a:blip r:embed="rId1"/>
          <a:stretch/>
        </p:blipFill>
        <p:spPr>
          <a:xfrm>
            <a:off x="2457360" y="2603520"/>
            <a:ext cx="1943280" cy="1938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instal-electrique"/>
          <p:cNvPicPr/>
          <p:nvPr/>
        </p:nvPicPr>
        <p:blipFill>
          <a:blip r:embed="rId2"/>
          <a:stretch/>
        </p:blipFill>
        <p:spPr>
          <a:xfrm>
            <a:off x="5029200" y="3743280"/>
            <a:ext cx="3517920" cy="231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tre 1"/>
          <p:cNvSpPr/>
          <p:nvPr/>
        </p:nvSpPr>
        <p:spPr>
          <a:xfrm>
            <a:off x="42876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contenu 2"/>
          <p:cNvSpPr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 amont d’une installation ou d’une interven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doit être capable de préparer le travai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rticipation aux réunions 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x planifications des chan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partition des tâ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r cela, il prendra en compte le PD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PPSPS et les contraintes environne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PHOTO-TRI-SELECTIF_illustration_article"/>
          <p:cNvPicPr/>
          <p:nvPr/>
        </p:nvPicPr>
        <p:blipFill>
          <a:blip r:embed="rId1"/>
          <a:stretch/>
        </p:blipFill>
        <p:spPr>
          <a:xfrm>
            <a:off x="7175520" y="4456080"/>
            <a:ext cx="1724040" cy="1731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"/>
          <p:cNvPicPr/>
          <p:nvPr/>
        </p:nvPicPr>
        <p:blipFill>
          <a:blip r:embed="rId2"/>
          <a:stretch/>
        </p:blipFill>
        <p:spPr>
          <a:xfrm>
            <a:off x="5602320" y="2457360"/>
            <a:ext cx="2498760" cy="169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itre 1"/>
          <p:cNvSpPr/>
          <p:nvPr/>
        </p:nvSpPr>
        <p:spPr>
          <a:xfrm>
            <a:off x="42876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contenu 2"/>
          <p:cNvSpPr/>
          <p:nvPr/>
        </p:nvSpPr>
        <p:spPr>
          <a:xfrm>
            <a:off x="714240" y="1571760"/>
            <a:ext cx="737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câble, raccorde et vérifie le fonctionnement d’équipements électr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58629358_1"/>
          <p:cNvPicPr/>
          <p:nvPr/>
        </p:nvPicPr>
        <p:blipFill>
          <a:blip r:embed="rId1"/>
          <a:stretch/>
        </p:blipFill>
        <p:spPr>
          <a:xfrm>
            <a:off x="5389560" y="2530440"/>
            <a:ext cx="2797200" cy="37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electricien"/>
          <p:cNvPicPr/>
          <p:nvPr/>
        </p:nvPicPr>
        <p:blipFill>
          <a:blip r:embed="rId2"/>
          <a:stretch/>
        </p:blipFill>
        <p:spPr>
          <a:xfrm>
            <a:off x="1243080" y="3389400"/>
            <a:ext cx="2779560" cy="185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itre 1"/>
          <p:cNvSpPr/>
          <p:nvPr/>
        </p:nvSpPr>
        <p:spPr>
          <a:xfrm>
            <a:off x="428760" y="78588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ISE E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contenu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est capable de vérifier la conformité d’une installation ou d’un équipement électr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 sait rendre compte de son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des modifications à ap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"/>
          <p:cNvPicPr/>
          <p:nvPr/>
        </p:nvPicPr>
        <p:blipFill>
          <a:blip r:embed="rId1"/>
          <a:stretch/>
        </p:blipFill>
        <p:spPr>
          <a:xfrm>
            <a:off x="5675400" y="3170160"/>
            <a:ext cx="300492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itre 1"/>
          <p:cNvSpPr/>
          <p:nvPr/>
        </p:nvSpPr>
        <p:spPr>
          <a:xfrm>
            <a:off x="428760" y="85716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Espace réservé du contenu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est capable de réaliser des travaux de maintenance préventive ou corrective à partir de son diagno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 met à jour les fiches d’intervention et les fichiers GMA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1"/>
          <a:stretch/>
        </p:blipFill>
        <p:spPr>
          <a:xfrm>
            <a:off x="4889520" y="2882880"/>
            <a:ext cx="3297240" cy="201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7:48:21Z</dcterms:created>
  <dc:creator>Votre nom d'utilisateur</dc:creator>
  <dc:description/>
  <dc:language>en-US</dc:language>
  <cp:lastModifiedBy>Votre nom d'utilisateur</cp:lastModifiedBy>
  <dcterms:modified xsi:type="dcterms:W3CDTF">2010-03-20T10:01:23Z</dcterms:modified>
  <cp:revision>90</cp:revision>
  <dc:subject/>
  <dc:title>Diapositive 1</dc:title>
</cp:coreProperties>
</file>