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0D6-4322-42A6-B564-1AB4DB63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457-2BD1-411A-B941-80B7ED0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828-6EA3-4334-84CC-8A59E0C5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798-7E66-49C3-8B7B-3FF28CC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425-0024-4B20-BE4B-D5E0FAB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B5B-C4EE-4B3D-9A7A-7EA993BE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1C7-2A28-40CE-8958-45D9ED5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34B-F59B-42C7-A33A-FD6B5C7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7E8-E153-4D05-8421-6FE7343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9E7-9A83-4136-9EE4-C36B5D7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071-72F2-41DC-B8B0-BE799B7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BA-42A7-4462-AB9D-3F7777B5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7B5A-C0C4-458E-98A7-61334F546DA7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76C-7EF4-41F0-A6DB-FFA9EBF8D3D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Pr&#233;sentattion%20passerelle%20BAC%20pro%20%20vers%20BTS/LE%20METIER%20D&apos;ELECTROTECHNIQUE.mvd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755640" y="260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6360"/>
            <a:ext cx="89787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PASSERELLE Bac Pro ELEEC vers le BTS E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ude comparative de la pro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 compé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naissance des acquis des élè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BAC professi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s attentes pour poursuivre un B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754-650C-4B22-9DC1-4EF6C8E32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301920" y="17784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963720"/>
            <a:ext cx="4469040" cy="574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2 Modifier le dossier technique  (recollement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ormément au travail exécu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9 Présenter au client l’ouvrage et son 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3 Expliquer et ou traduire les notices et guides d’utili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6 Rendre compte de façon exhaustive des mod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u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6 Collecter les divers éléments de déroulement d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7 Identifier la nature des activités relative aux cha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ant les interventions ou l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8 Identifier et extraire  du programme de déroulement 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tier les activités à réaliser dont il a la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7 Compléter la fiche de gestion du chan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4.5 Transmettre à sa hiérarchie et ou à son équipe, 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nformations utiles au bon déroulement d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2 Etablir la liste des matériels électriques constitu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ouvrage outillage, appareils de mesure  équip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prot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3 S’assurer de la disponibilité des matéri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5.5 Attribuer a chaque équipier, en fonction de 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ompétences spécifiques et de son habilitation, 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activités professionnelles prévues au pla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V="1" rot="9091800">
            <a:off x="3187800" y="673200"/>
            <a:ext cx="831600" cy="165600"/>
          </a:xfrm>
          <a:prstGeom prst="rightArrow">
            <a:avLst>
              <a:gd name="adj1" fmla="val 50000"/>
              <a:gd name="adj2" fmla="val 8316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788000" y="947880"/>
            <a:ext cx="417672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flipV="1" rot="1824600">
            <a:off x="5011200" y="668880"/>
            <a:ext cx="808200" cy="168120"/>
          </a:xfrm>
          <a:prstGeom prst="rightArrow">
            <a:avLst>
              <a:gd name="adj1" fmla="val 50000"/>
              <a:gd name="adj2" fmla="val 9797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91960" y="49536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826160" y="1135080"/>
            <a:ext cx="4140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4 Suivre la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8 Communiquer de façon adaptée à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9 Exercer une responsabilité hiérar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F90-3F9C-4CF1-8042-3A874C0E4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65360" y="152280"/>
            <a:ext cx="3708360" cy="604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intenance des installations électriques et automatiqu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65240" y="1063800"/>
            <a:ext cx="4572000" cy="559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.2 Recueillir auprès de l’utilisateur les infor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écessaires pour conduire une opératio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9 Vérifier les grandeurs caractéristique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1 Effectuer les mesures confirmant l’efficacité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ens de protection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3 Réaliser les interventions de maintenance préven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prenant en compte les 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’environnement et de sécur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2.14 Identifier les éléments défectueux lors d’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ention de maintenance corrective (curative 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liativ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.15 Remplacer les éléments défectu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.16 Rétablir la ou les énergies sur l’ouvrag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à une opération de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.5 Indiquer les modifications ou l’amélioration à prévo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ur supprimer un dys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7 Rendre compte par écrit et par oral d’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 de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1 Proposer un matériel remplissant  les mêmes fo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l’appareil à rempla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 flipV="1" rot="9091800">
            <a:off x="3122280" y="812520"/>
            <a:ext cx="621000" cy="147600"/>
          </a:xfrm>
          <a:prstGeom prst="rightArrow">
            <a:avLst>
              <a:gd name="adj1" fmla="val 50000"/>
              <a:gd name="adj2" fmla="val 7633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26160" y="1063800"/>
            <a:ext cx="4140000" cy="5479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1 Estimer les coûts prévis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2 Concevoir une procé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5 Estimer les délais de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0 Ordonnancer des opération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31 Intervenir sur une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 flipV="1" rot="1824600">
            <a:off x="5316120" y="801720"/>
            <a:ext cx="600120" cy="156960"/>
          </a:xfrm>
          <a:prstGeom prst="rightArrow">
            <a:avLst>
              <a:gd name="adj1" fmla="val 50000"/>
              <a:gd name="adj2" fmla="val 7034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2280" y="243000"/>
            <a:ext cx="1841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781680" y="217440"/>
            <a:ext cx="1892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rot="10800000">
            <a:off x="2033280" y="446040"/>
            <a:ext cx="444600" cy="101520"/>
          </a:xfrm>
          <a:prstGeom prst="rightArrow">
            <a:avLst>
              <a:gd name="adj1" fmla="val 50000"/>
              <a:gd name="adj2" fmla="val 1094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327720" y="371520"/>
            <a:ext cx="444600" cy="101520"/>
          </a:xfrm>
          <a:prstGeom prst="rightArrow">
            <a:avLst>
              <a:gd name="adj1" fmla="val 50000"/>
              <a:gd name="adj2" fmla="val 1094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77840" y="67320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159600" y="68580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6400" y="4254480"/>
            <a:ext cx="146052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25880" y="4457520"/>
            <a:ext cx="812880" cy="5076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6320" y="1434960"/>
            <a:ext cx="685800" cy="107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95680" y="2577960"/>
            <a:ext cx="381240" cy="233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053-2463-4A1E-A146-B5536CC326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52280" y="406440"/>
            <a:ext cx="39880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AC PRO ELE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1 Interroger le client sur ses be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1 Traduire en solutions techniques les besoins du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2 Recueillir auprès de l’utilisateur les informations        nécessaires pour conduire une opération  de        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3 Décoder les documents relatifs à tout ou partie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2 Modifier le dossier technique (recollement) conformément au travail  exécu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 Traduire en solutions techniques les besoins du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.1 Argumenter les solutions retenues relatives aux plans, schémas, planning, devis, liste de matériels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.2 Argumenter auprès du client, du point de vue technique et économique, la solution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2 Compléter les plans, schémas, planning et de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8 Contrôler l’adéquation entre la réalisation et 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- les normes en vigu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9 Vérifier les grandeurs caractéristiques de l’ouvr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1 Effectuer les mesures confirmant l’efficacité des moyens de protections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168880" y="438120"/>
            <a:ext cx="397512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TS Electro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2  Interpréter la demande du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4  Analyser les causes de dys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1 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9  Elaborer les dossiers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7  Argumenter sur la solution technique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0   Réaliser les représentations 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écess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3  Appliquer les nor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7  Mettre en œuvre des moyens de mesu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0" y="3174840"/>
            <a:ext cx="216000" cy="965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800 h 965520"/>
              <a:gd name="textAreaBottom" fmla="*/ 936720 h 96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6"/>
                  <a:pt x="10800" y="2071"/>
                </a:cubicBezTo>
                <a:lnTo>
                  <a:pt x="10800" y="8729"/>
                </a:lnTo>
                <a:cubicBezTo>
                  <a:pt x="10800" y="9765"/>
                  <a:pt x="5400" y="10800"/>
                  <a:pt x="0" y="10800"/>
                </a:cubicBezTo>
                <a:cubicBezTo>
                  <a:pt x="5400" y="10800"/>
                  <a:pt x="10800" y="11836"/>
                  <a:pt x="10800" y="12871"/>
                </a:cubicBezTo>
                <a:lnTo>
                  <a:pt x="10800" y="19529"/>
                </a:lnTo>
                <a:cubicBezTo>
                  <a:pt x="10800" y="205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4264200" y="746280"/>
            <a:ext cx="780840" cy="285480"/>
            <a:chOff x="4264200" y="746280"/>
            <a:chExt cx="780840" cy="285480"/>
          </a:xfrm>
        </p:grpSpPr>
        <p:sp>
          <p:nvSpPr>
            <p:cNvPr id="161" name="Rectangle 6"/>
            <p:cNvSpPr/>
            <p:nvPr/>
          </p:nvSpPr>
          <p:spPr>
            <a:xfrm>
              <a:off x="4264200" y="746280"/>
              <a:ext cx="780840" cy="285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4387680" y="89856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4257720" y="1990800"/>
            <a:ext cx="780840" cy="285840"/>
            <a:chOff x="4257720" y="1990800"/>
            <a:chExt cx="780840" cy="285840"/>
          </a:xfrm>
        </p:grpSpPr>
        <p:sp>
          <p:nvSpPr>
            <p:cNvPr id="164" name="Rectangle 9"/>
            <p:cNvSpPr/>
            <p:nvPr/>
          </p:nvSpPr>
          <p:spPr>
            <a:xfrm>
              <a:off x="4257720" y="199080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4333680" y="205704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4276800" y="1305000"/>
            <a:ext cx="780840" cy="285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4272120" y="2716200"/>
            <a:ext cx="780840" cy="285840"/>
            <a:chOff x="4272120" y="2716200"/>
            <a:chExt cx="780840" cy="285840"/>
          </a:xfrm>
        </p:grpSpPr>
        <p:sp>
          <p:nvSpPr>
            <p:cNvPr id="168" name="Rectangle 20"/>
            <p:cNvSpPr/>
            <p:nvPr/>
          </p:nvSpPr>
          <p:spPr>
            <a:xfrm>
              <a:off x="4272120" y="271620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4348080" y="278244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9"/>
          <p:cNvGrpSpPr/>
          <p:nvPr/>
        </p:nvGrpSpPr>
        <p:grpSpPr>
          <a:xfrm>
            <a:off x="4311720" y="3479760"/>
            <a:ext cx="780840" cy="285840"/>
            <a:chOff x="4311720" y="3479760"/>
            <a:chExt cx="780840" cy="285840"/>
          </a:xfrm>
        </p:grpSpPr>
        <p:sp>
          <p:nvSpPr>
            <p:cNvPr id="171" name="Rectangle 30"/>
            <p:cNvSpPr/>
            <p:nvPr/>
          </p:nvSpPr>
          <p:spPr>
            <a:xfrm>
              <a:off x="4311720" y="347976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4387680" y="354600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3"/>
          <p:cNvGrpSpPr/>
          <p:nvPr/>
        </p:nvGrpSpPr>
        <p:grpSpPr>
          <a:xfrm>
            <a:off x="4248000" y="4317840"/>
            <a:ext cx="780840" cy="285840"/>
            <a:chOff x="4248000" y="4317840"/>
            <a:chExt cx="780840" cy="285840"/>
          </a:xfrm>
        </p:grpSpPr>
        <p:sp>
          <p:nvSpPr>
            <p:cNvPr id="174" name="Rectangle 34"/>
            <p:cNvSpPr/>
            <p:nvPr/>
          </p:nvSpPr>
          <p:spPr>
            <a:xfrm>
              <a:off x="4248000" y="431784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 flipV="1">
              <a:off x="4323960" y="438408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6"/>
          <p:cNvGrpSpPr/>
          <p:nvPr/>
        </p:nvGrpSpPr>
        <p:grpSpPr>
          <a:xfrm>
            <a:off x="4260960" y="4940280"/>
            <a:ext cx="780840" cy="285840"/>
            <a:chOff x="4260960" y="4940280"/>
            <a:chExt cx="780840" cy="285840"/>
          </a:xfrm>
        </p:grpSpPr>
        <p:sp>
          <p:nvSpPr>
            <p:cNvPr id="177" name="Rectangle 37"/>
            <p:cNvSpPr/>
            <p:nvPr/>
          </p:nvSpPr>
          <p:spPr>
            <a:xfrm>
              <a:off x="4260960" y="494028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V="1">
              <a:off x="4336920" y="500652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4303800" y="5522760"/>
            <a:ext cx="780840" cy="285840"/>
            <a:chOff x="4303800" y="5522760"/>
            <a:chExt cx="780840" cy="285840"/>
          </a:xfrm>
        </p:grpSpPr>
        <p:sp>
          <p:nvSpPr>
            <p:cNvPr id="180" name="Rectangle 40"/>
            <p:cNvSpPr/>
            <p:nvPr/>
          </p:nvSpPr>
          <p:spPr>
            <a:xfrm>
              <a:off x="4303800" y="552276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4427280" y="56754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32"/>
          <p:cNvSpPr/>
          <p:nvPr/>
        </p:nvSpPr>
        <p:spPr>
          <a:xfrm>
            <a:off x="0" y="5283360"/>
            <a:ext cx="228600" cy="622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600 h 622080"/>
              <a:gd name="textAreaBottom" fmla="*/ 591480 h 62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1"/>
                  <a:pt x="10800" y="3401"/>
                </a:cubicBezTo>
                <a:lnTo>
                  <a:pt x="10800" y="7399"/>
                </a:lnTo>
                <a:cubicBezTo>
                  <a:pt x="10800" y="9100"/>
                  <a:pt x="5400" y="10800"/>
                  <a:pt x="0" y="10800"/>
                </a:cubicBezTo>
                <a:cubicBezTo>
                  <a:pt x="5400" y="10800"/>
                  <a:pt x="10800" y="12501"/>
                  <a:pt x="10800" y="14201"/>
                </a:cubicBezTo>
                <a:lnTo>
                  <a:pt x="10800" y="18199"/>
                </a:lnTo>
                <a:cubicBezTo>
                  <a:pt x="10800" y="199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37"/>
          <p:cNvSpPr/>
          <p:nvPr/>
        </p:nvSpPr>
        <p:spPr>
          <a:xfrm>
            <a:off x="2730600" y="0"/>
            <a:ext cx="314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165240" y="774720"/>
            <a:ext cx="114120" cy="431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5120 h 431640"/>
              <a:gd name="textAreaBottom" fmla="*/ 41652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5"/>
                  <a:pt x="10800" y="2450"/>
                </a:cubicBezTo>
                <a:lnTo>
                  <a:pt x="10800" y="8350"/>
                </a:lnTo>
                <a:cubicBezTo>
                  <a:pt x="10800" y="9575"/>
                  <a:pt x="5400" y="10800"/>
                  <a:pt x="0" y="10800"/>
                </a:cubicBezTo>
                <a:cubicBezTo>
                  <a:pt x="5400" y="10800"/>
                  <a:pt x="10800" y="12025"/>
                  <a:pt x="10800" y="13250"/>
                </a:cubicBezTo>
                <a:lnTo>
                  <a:pt x="10800" y="19150"/>
                </a:lnTo>
                <a:cubicBezTo>
                  <a:pt x="10800" y="203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55"/>
          <p:cNvSpPr/>
          <p:nvPr/>
        </p:nvSpPr>
        <p:spPr>
          <a:xfrm>
            <a:off x="299736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4410000" y="1371600"/>
            <a:ext cx="581040" cy="1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7"/>
          <p:cNvSpPr/>
          <p:nvPr/>
        </p:nvSpPr>
        <p:spPr>
          <a:xfrm>
            <a:off x="2451240" y="6027840"/>
            <a:ext cx="4470120" cy="830160"/>
          </a:xfrm>
          <a:prstGeom prst="rect">
            <a:avLst/>
          </a:prstGeom>
          <a:solidFill>
            <a:srgbClr val="a2f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301920" y="6143760"/>
            <a:ext cx="35942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On illustre des compétences proches mais d’un niveau taxonomique différ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489040" y="6229440"/>
            <a:ext cx="780840" cy="268200"/>
            <a:chOff x="2489040" y="6229440"/>
            <a:chExt cx="780840" cy="268200"/>
          </a:xfrm>
        </p:grpSpPr>
        <p:sp>
          <p:nvSpPr>
            <p:cNvPr id="190" name="Rectangle 14"/>
            <p:cNvSpPr/>
            <p:nvPr/>
          </p:nvSpPr>
          <p:spPr>
            <a:xfrm>
              <a:off x="2489040" y="6229440"/>
              <a:ext cx="780840" cy="268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V="1">
              <a:off x="2565000" y="6291360"/>
              <a:ext cx="581040" cy="16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830-21B9-4AFA-80AC-202D0D0484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152280" y="927000"/>
            <a:ext cx="3822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AC 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4.5 Transmettre à sa hiérarchie et ou à son équip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s informations utiles au bon dérou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des travaux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5.5 Attribuer a chaque équipier, en fonction de 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ompétences spécifiques et de son habilitation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s activités professionnelles prévues 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lann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.15 Remplacer les éléments défectueux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.16 Rétablir la ou les énergies sur l’ouvrage suite à une opération de maintenanc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18120" y="939960"/>
            <a:ext cx="374652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TS Electro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4 Suivre la réalis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8 Communiquer de façon adaptée à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sit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9 Exercer une responsabilité hiérarchiq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31Intervenir sur une  instal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2"/>
          <p:cNvSpPr/>
          <p:nvPr/>
        </p:nvSpPr>
        <p:spPr>
          <a:xfrm>
            <a:off x="0" y="1308240"/>
            <a:ext cx="304920" cy="1714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0680 h 1714320"/>
              <a:gd name="textAreaBottom" fmla="*/ 167364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3"/>
                  <a:pt x="10800" y="1646"/>
                </a:cubicBezTo>
                <a:lnTo>
                  <a:pt x="10800" y="9154"/>
                </a:lnTo>
                <a:cubicBezTo>
                  <a:pt x="10800" y="9977"/>
                  <a:pt x="5400" y="10800"/>
                  <a:pt x="0" y="10800"/>
                </a:cubicBezTo>
                <a:cubicBezTo>
                  <a:pt x="5400" y="10800"/>
                  <a:pt x="10800" y="11623"/>
                  <a:pt x="10800" y="12446"/>
                </a:cubicBezTo>
                <a:lnTo>
                  <a:pt x="10800" y="19954"/>
                </a:lnTo>
                <a:cubicBezTo>
                  <a:pt x="10800" y="2077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2"/>
          <p:cNvSpPr/>
          <p:nvPr/>
        </p:nvSpPr>
        <p:spPr>
          <a:xfrm>
            <a:off x="4965840" y="1333440"/>
            <a:ext cx="266400" cy="1460520"/>
          </a:xfrm>
          <a:custGeom>
            <a:avLst/>
            <a:gdLst>
              <a:gd name="textAreaLeft" fmla="*/ 170280 w 266400"/>
              <a:gd name="textAreaRight" fmla="*/ 266760 w 266400"/>
              <a:gd name="textAreaTop" fmla="*/ 35640 h 1460520"/>
              <a:gd name="textAreaBottom" fmla="*/ 142488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5"/>
                  <a:pt x="10800" y="1690"/>
                </a:cubicBezTo>
                <a:lnTo>
                  <a:pt x="10800" y="9110"/>
                </a:lnTo>
                <a:cubicBezTo>
                  <a:pt x="10800" y="9955"/>
                  <a:pt x="5400" y="10800"/>
                  <a:pt x="0" y="10800"/>
                </a:cubicBezTo>
                <a:cubicBezTo>
                  <a:pt x="5400" y="10800"/>
                  <a:pt x="10800" y="11645"/>
                  <a:pt x="10800" y="12490"/>
                </a:cubicBezTo>
                <a:lnTo>
                  <a:pt x="10800" y="19910"/>
                </a:lnTo>
                <a:cubicBezTo>
                  <a:pt x="10800" y="207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2"/>
          <p:cNvSpPr/>
          <p:nvPr/>
        </p:nvSpPr>
        <p:spPr>
          <a:xfrm>
            <a:off x="0" y="3441600"/>
            <a:ext cx="279360" cy="838440"/>
          </a:xfrm>
          <a:custGeom>
            <a:avLst/>
            <a:gdLst>
              <a:gd name="textAreaLeft" fmla="*/ 178560 w 279360"/>
              <a:gd name="textAreaRight" fmla="*/ 279720 w 279360"/>
              <a:gd name="textAreaTop" fmla="*/ 37440 h 838440"/>
              <a:gd name="textAreaBottom" fmla="*/ 80100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3"/>
                  <a:pt x="10800" y="3086"/>
                </a:cubicBezTo>
                <a:lnTo>
                  <a:pt x="10800" y="7714"/>
                </a:lnTo>
                <a:cubicBezTo>
                  <a:pt x="10800" y="9257"/>
                  <a:pt x="5400" y="10800"/>
                  <a:pt x="0" y="10800"/>
                </a:cubicBezTo>
                <a:cubicBezTo>
                  <a:pt x="5400" y="10800"/>
                  <a:pt x="10800" y="12343"/>
                  <a:pt x="10800" y="13886"/>
                </a:cubicBezTo>
                <a:lnTo>
                  <a:pt x="10800" y="18514"/>
                </a:lnTo>
                <a:cubicBezTo>
                  <a:pt x="10800" y="2005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6"/>
          <p:cNvGrpSpPr/>
          <p:nvPr/>
        </p:nvGrpSpPr>
        <p:grpSpPr>
          <a:xfrm>
            <a:off x="4076640" y="1905120"/>
            <a:ext cx="786960" cy="342360"/>
            <a:chOff x="4076640" y="1905120"/>
            <a:chExt cx="786960" cy="342360"/>
          </a:xfrm>
        </p:grpSpPr>
        <p:sp>
          <p:nvSpPr>
            <p:cNvPr id="198" name="Rectangle 37"/>
            <p:cNvSpPr/>
            <p:nvPr/>
          </p:nvSpPr>
          <p:spPr>
            <a:xfrm>
              <a:off x="4076640" y="1905120"/>
              <a:ext cx="786960" cy="342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8"/>
            <p:cNvSpPr/>
            <p:nvPr/>
          </p:nvSpPr>
          <p:spPr>
            <a:xfrm flipV="1">
              <a:off x="4159440" y="1949040"/>
              <a:ext cx="633240" cy="21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37"/>
          <p:cNvSpPr/>
          <p:nvPr/>
        </p:nvSpPr>
        <p:spPr>
          <a:xfrm>
            <a:off x="4152960" y="3517920"/>
            <a:ext cx="749160" cy="34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 flipV="1">
            <a:off x="4254480" y="3587400"/>
            <a:ext cx="652320" cy="22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4E2-E3F7-4D3C-BCEA-2550CAE30D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-5144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ertaines  compétences  du  ref.  du  BTS 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ont été validées,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onstantia"/>
              </a:rPr>
              <a:t>dans un contexte défini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par la formation Bac PR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rérequis à vérifier à l’entrée de la formation B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étences  à  vérifier dans un autre contex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étences à prendre  en compte dans la progression de B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lèche vers le bas 6"/>
          <p:cNvSpPr/>
          <p:nvPr/>
        </p:nvSpPr>
        <p:spPr>
          <a:xfrm>
            <a:off x="4178160" y="3390840"/>
            <a:ext cx="292320" cy="82548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E20-6E6B-4CAF-B50A-A05E5D3BBB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514440" indent="-514440" algn="ctr">
              <a:buClr>
                <a:srgbClr val="ff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s  principales  différenc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  Pr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étences plutôt centrées sur d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âches de réalisation, de mise en serv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étences plutôt centrées sur d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âches de conception, relation clientèle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ganisation et suivi de chanti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lèche droite 3"/>
          <p:cNvSpPr/>
          <p:nvPr/>
        </p:nvSpPr>
        <p:spPr>
          <a:xfrm>
            <a:off x="2374920" y="2616120"/>
            <a:ext cx="876240" cy="190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èche droite 4"/>
          <p:cNvSpPr/>
          <p:nvPr/>
        </p:nvSpPr>
        <p:spPr>
          <a:xfrm>
            <a:off x="2374920" y="4622760"/>
            <a:ext cx="876240" cy="190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800-2F14-4226-9B03-D8C713842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914400" indent="-914400" algn="ctr">
              <a:buClr>
                <a:srgbClr val="ff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équences pour notre pratique (BTS)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39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se en compte des compétences acqui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ion possible entre étudiants de BTS et de Bac Professionnel (Projet et/ou chantier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essions différentes en BTS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ité des binômes entre élève venant de STI et Bac P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5C2-D0C9-4966-B680-E342315D0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835200" y="950760"/>
            <a:ext cx="3236760" cy="901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68360" y="4830840"/>
            <a:ext cx="4176720" cy="11523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vet de technicien sup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55640" y="260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2031840" y="2070000"/>
            <a:ext cx="795600" cy="2659320"/>
          </a:xfrm>
          <a:prstGeom prst="downArrow">
            <a:avLst>
              <a:gd name="adj1" fmla="val 50000"/>
              <a:gd name="adj2" fmla="val 875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613480" y="1268280"/>
            <a:ext cx="327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compétences acqu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4130640" y="1459080"/>
            <a:ext cx="1419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546880" y="3017880"/>
            <a:ext cx="3025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étences à compar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 les acquis des étudiants issus du Bac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803920" y="5237280"/>
            <a:ext cx="3174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nouvelles compé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6200000">
            <a:off x="1586160" y="3126600"/>
            <a:ext cx="29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ursuite    d’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4716360" y="5435280"/>
            <a:ext cx="1049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73800" y="2093760"/>
            <a:ext cx="3240000" cy="2681280"/>
          </a:xfrm>
          <a:custGeom>
            <a:avLst/>
            <a:gdLst>
              <a:gd name="textAreaLeft" fmla="*/ 0 w 3240000"/>
              <a:gd name="textAreaRight" fmla="*/ 3240360 w 3240000"/>
              <a:gd name="textAreaTop" fmla="*/ 670320 h 2681280"/>
              <a:gd name="textAreaBottom" fmla="*/ 2010960 h 268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7449" y="16200"/>
                </a:lnTo>
                <a:lnTo>
                  <a:pt x="7449" y="18900"/>
                </a:lnTo>
                <a:lnTo>
                  <a:pt x="4099" y="18900"/>
                </a:lnTo>
                <a:lnTo>
                  <a:pt x="10800" y="21600"/>
                </a:lnTo>
                <a:lnTo>
                  <a:pt x="17501" y="18900"/>
                </a:lnTo>
                <a:lnTo>
                  <a:pt x="14151" y="18900"/>
                </a:lnTo>
                <a:lnTo>
                  <a:pt x="14151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4151" y="5400"/>
                </a:lnTo>
                <a:lnTo>
                  <a:pt x="14151" y="2700"/>
                </a:lnTo>
                <a:lnTo>
                  <a:pt x="17501" y="2700"/>
                </a:lnTo>
                <a:lnTo>
                  <a:pt x="10800" y="0"/>
                </a:lnTo>
                <a:lnTo>
                  <a:pt x="4099" y="2700"/>
                </a:lnTo>
                <a:lnTo>
                  <a:pt x="7449" y="2700"/>
                </a:lnTo>
                <a:lnTo>
                  <a:pt x="7449" y="54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144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ursuite d’études des élèves de Bac Pro en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4F9-CA7F-4C30-8788-29D6FAA93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r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59688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4"/>
          <p:cNvSpPr/>
          <p:nvPr/>
        </p:nvSpPr>
        <p:spPr>
          <a:xfrm>
            <a:off x="368280" y="1130400"/>
            <a:ext cx="162576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0 - ETU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1727280" y="1879920"/>
            <a:ext cx="162540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1 - ORGAN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3073320" y="2667240"/>
            <a:ext cx="166392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2 - RE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2"/>
          <p:cNvSpPr/>
          <p:nvPr/>
        </p:nvSpPr>
        <p:spPr>
          <a:xfrm>
            <a:off x="4241880" y="3649680"/>
            <a:ext cx="149544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3 - MISE EN 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3"/>
          <p:cNvSpPr/>
          <p:nvPr/>
        </p:nvSpPr>
        <p:spPr>
          <a:xfrm>
            <a:off x="5600880" y="4487760"/>
            <a:ext cx="149508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4 - MAINTE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4"/>
          <p:cNvSpPr/>
          <p:nvPr/>
        </p:nvSpPr>
        <p:spPr>
          <a:xfrm>
            <a:off x="6934320" y="5371920"/>
            <a:ext cx="152388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5 - RELATION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EPR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257-78EB-4018-ADF9-E423596A1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r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68292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2"/>
          <p:cNvSpPr/>
          <p:nvPr/>
        </p:nvSpPr>
        <p:spPr>
          <a:xfrm>
            <a:off x="203040" y="1114200"/>
            <a:ext cx="198144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1 – Etude technique et économ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1244520" y="1838160"/>
            <a:ext cx="189252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2 – Réalisation – Exécution - Industr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2374920" y="2575440"/>
            <a:ext cx="198108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3 – Planification, suivi technique et maîtrise des coû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5"/>
          <p:cNvSpPr/>
          <p:nvPr/>
        </p:nvSpPr>
        <p:spPr>
          <a:xfrm>
            <a:off x="3505320" y="3275640"/>
            <a:ext cx="207000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4 – Animation et coordination d’équipe </a:t>
            </a: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(dans le cadre d’un chantier ou d’un proj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4711680" y="4124160"/>
            <a:ext cx="210816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5 – Essai – Mise en service - Contrô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7"/>
          <p:cNvSpPr/>
          <p:nvPr/>
        </p:nvSpPr>
        <p:spPr>
          <a:xfrm>
            <a:off x="5867280" y="4856760"/>
            <a:ext cx="214632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6 – Maintenance – Service après v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6921360" y="5631480"/>
            <a:ext cx="207036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7 - Rela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s -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589-76C0-4832-BEB9-0C43AEC69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58720" y="909720"/>
            <a:ext cx="8229600" cy="481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Calibri"/>
              </a:rPr>
              <a:t>Présentation de l’organigramme</a:t>
            </a:r>
            <a:br>
              <a:rPr sz="5000"/>
            </a:br>
            <a:br>
              <a:rPr sz="5000"/>
            </a:b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Les formations en électrotechn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05A-81F6-4958-A8C7-4A007B777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284640" y="20160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la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79280" y="1427040"/>
            <a:ext cx="4392720" cy="523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1.1 Interroger le client sur ses besoi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1.9 Interroger le client  sur son degré 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isf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2.1 Traduire en solutions techniques 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soins du cli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.18 Compléter la fiche cli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3.2 Argumenter auprès du client, du point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vue technique et économique, la solu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retenu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4.1 Présenter au client les possibilités d’év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 son install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4.2 Présenter au client l’ensemble des pres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posées par son entrepri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 flipV="1" rot="8967600">
            <a:off x="2998440" y="902160"/>
            <a:ext cx="1359000" cy="265320"/>
          </a:xfrm>
          <a:prstGeom prst="rightArrow">
            <a:avLst>
              <a:gd name="adj1" fmla="val 50000"/>
              <a:gd name="adj2" fmla="val 12805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75040" y="1420920"/>
            <a:ext cx="4102200" cy="5271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07 Argumenter sur la solution techniq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retenue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16 Elaborer un support de form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5 Analyser un plann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8 Communiquer de façon adaptée à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32 Interpréter la demande du cli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33 Animer une réun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 flipV="1" rot="1824600">
            <a:off x="4384800" y="920880"/>
            <a:ext cx="1385280" cy="244440"/>
          </a:xfrm>
          <a:prstGeom prst="rightArrow">
            <a:avLst>
              <a:gd name="adj1" fmla="val 50000"/>
              <a:gd name="adj2" fmla="val 12793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52280" y="177840"/>
            <a:ext cx="1994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676840" y="317520"/>
            <a:ext cx="1015920" cy="88920"/>
          </a:xfrm>
          <a:prstGeom prst="rightArrow">
            <a:avLst>
              <a:gd name="adj1" fmla="val 50000"/>
              <a:gd name="adj2" fmla="val 2856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770520" y="179280"/>
            <a:ext cx="1994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 rot="10800000">
            <a:off x="2160720" y="331200"/>
            <a:ext cx="1015920" cy="88920"/>
          </a:xfrm>
          <a:prstGeom prst="rightArrow">
            <a:avLst>
              <a:gd name="adj1" fmla="val 50000"/>
              <a:gd name="adj2" fmla="val 2856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03040" y="99072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134040" y="97776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975120" y="3086280"/>
            <a:ext cx="927000" cy="863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1627200"/>
            <a:ext cx="1320840" cy="374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8280" y="2808360"/>
            <a:ext cx="1206720" cy="2552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112-20D3-4D50-AC31-161536382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33200" y="4381560"/>
            <a:ext cx="889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276720" y="26028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reau d’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1219320"/>
            <a:ext cx="4202280" cy="5340240"/>
          </a:xfrm>
          <a:prstGeom prst="rect">
            <a:avLst/>
          </a:prstGeom>
          <a:noFill/>
          <a:ln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.3 Décoder les documents relatifs à tout 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e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4 Sélectionner la (les) fiche(s) quali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ant aux travaux  à réali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2.2 Compléter les plans, schémas, plannings et de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C3.1 Argumenter les solutions retenue rel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aux  plans, schémas, plannings, devi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liste des matériels, outillage et consig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de sécurités en vue de la constitution 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dossi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d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 flipV="1" rot="9091800">
            <a:off x="3440880" y="861120"/>
            <a:ext cx="800280" cy="161640"/>
          </a:xfrm>
          <a:prstGeom prst="rightArrow">
            <a:avLst>
              <a:gd name="adj1" fmla="val 50000"/>
              <a:gd name="adj2" fmla="val 12377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97560" y="1211400"/>
            <a:ext cx="4354200" cy="539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2 Choisi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3 Analyse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5 Déterminer les ressources et les contrai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C07 Argumenter sur la solution techniqu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retenu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8 Concevoi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9 Elaborer les dossiers techniq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10 Réaliser les représentations graphiqu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nécessai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1Estimer les coûts prévisionn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2 Concevoir une procéd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3 Appliquer les nor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5 Estimer les délais de ré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6 Elaborer un support de form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4 Suivre la ré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5 Analyser un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6 Contrôler la conformité d’un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7 Estimer les délais d’approvisionn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8 Communiquer de façon adaptée à  la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 flipV="1" rot="1153800">
            <a:off x="4638240" y="820440"/>
            <a:ext cx="1067040" cy="163440"/>
          </a:xfrm>
          <a:prstGeom prst="rightArrow">
            <a:avLst>
              <a:gd name="adj1" fmla="val 50000"/>
              <a:gd name="adj2" fmla="val 16321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515280" y="177840"/>
            <a:ext cx="21841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1 et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5549760" y="36828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66680" y="23004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 rot="10800000">
            <a:off x="2376360" y="38196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80880" y="812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375240" y="812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4480" y="2870280"/>
            <a:ext cx="393840" cy="660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32040" y="1561680"/>
            <a:ext cx="1041480" cy="63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84680" y="2730600"/>
            <a:ext cx="888840" cy="622080"/>
          </a:xfrm>
          <a:prstGeom prst="line">
            <a:avLst/>
          </a:prstGeom>
          <a:ln w="50760">
            <a:solidFill>
              <a:srgbClr val="0f6fc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586-F1D0-4414-8127-414B24F069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92240" y="950760"/>
            <a:ext cx="4633920" cy="572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.5 Interpréter un planning d’interven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3 Modifier l’ordonnancement des activité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4 Implanter les constituants d’un 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5 Poser les conduits, supports et conducteurs, 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areils en appliquant les procédures, textes 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èglements en vigue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6 Connecter les différents types de conducteu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2.8 Contrôler l’adéquation entre la réalisation et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le cahier des char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es normes en vigu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3.3 Choisir le mode de pose adapté des constitua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’un 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3.4 Proposer une implantation relative aux constituant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4 Dialoguer avec les différents intervenants du chanti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2.9 Vérifier les grandeurs caractéristiques 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0 Contrôler le fonctionnement de l’instal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2.11 Effectuer les mesures confirmant l’efficacité 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moyens de protection des person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2 Modifier le dossier technique  (recollement 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formément au travail exécuté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9 Présenter au client l’ouvrage et son fonctionn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3 Expliquer et ou traduire les notices et guides d’utili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6 Rendre compte de façon exhaustive des modific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ué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003640" y="933480"/>
            <a:ext cx="3948120" cy="571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2 Choisir une solu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3 Analyser une solu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5 Déterminer les ressources et les 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7 Argumenter sur la solution technique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9 Elaborer les dossiers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0 Réaliser les représentations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cess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1Estimer les coûts prévis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3 Appliquer les n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17 Mettre en œuvre des moyens de mes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4 Suivre la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8 Communiquer de façon adaptée à la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9 Exercer une responsabilité hiérar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 flipV="1" rot="9583200">
            <a:off x="3144600" y="511200"/>
            <a:ext cx="1358640" cy="265320"/>
          </a:xfrm>
          <a:prstGeom prst="rightArrow">
            <a:avLst>
              <a:gd name="adj1" fmla="val 50000"/>
              <a:gd name="adj2" fmla="val 12801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 flipV="1" rot="1359600">
            <a:off x="4824000" y="552240"/>
            <a:ext cx="1297080" cy="234720"/>
          </a:xfrm>
          <a:prstGeom prst="rightArrow">
            <a:avLst>
              <a:gd name="adj1" fmla="val 50000"/>
              <a:gd name="adj2" fmla="val 12830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5994360" y="16524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 rot="10800000">
            <a:off x="2262240" y="17892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52280" y="596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654960" y="54612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147840" y="0"/>
            <a:ext cx="288612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telier de 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959520" y="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2 F4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0" y="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2 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33840" y="2895480"/>
            <a:ext cx="533520" cy="825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2200" y="4152960"/>
            <a:ext cx="939600" cy="355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62520" y="4127400"/>
            <a:ext cx="1054080" cy="787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0D4-78D2-4841-B4D5-03D10B9026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340080" y="228600"/>
            <a:ext cx="2400480" cy="333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22760" y="1085760"/>
            <a:ext cx="4241880" cy="5442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5 Déterminer les ressources et 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0 Réaliser les représentations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cess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13 Appliquer les n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7 Mettre en œuvre des moyen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flipV="1" rot="9091800">
            <a:off x="3230640" y="708120"/>
            <a:ext cx="644400" cy="288720"/>
          </a:xfrm>
          <a:prstGeom prst="rightArrow">
            <a:avLst>
              <a:gd name="adj1" fmla="val 50000"/>
              <a:gd name="adj2" fmla="val 5579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 flipV="1" rot="1824600">
            <a:off x="5165640" y="729360"/>
            <a:ext cx="714600" cy="258840"/>
          </a:xfrm>
          <a:prstGeom prst="rightArrow">
            <a:avLst>
              <a:gd name="adj1" fmla="val 50000"/>
              <a:gd name="adj2" fmla="val 6901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5240" y="190440"/>
            <a:ext cx="2286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1  F2 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730920" y="17928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4 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5791320" y="33012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 rot="10800000">
            <a:off x="2465280" y="344160"/>
            <a:ext cx="798480" cy="138240"/>
          </a:xfrm>
          <a:prstGeom prst="rightArrow">
            <a:avLst>
              <a:gd name="adj1" fmla="val 50000"/>
              <a:gd name="adj2" fmla="val 14429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121440" y="7239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90440" y="1098720"/>
            <a:ext cx="4254480" cy="544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5 Interpréter un planning d’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3 Modifier l’ordonnancement des activit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4 Implanter les constituants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5 Poser les conduits, supports et conducteurs, 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ils en appliquant les procédures, textes 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èglements en vigu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6 Connecter les différents types de conducte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2.8 Contrôler l’adéquation entre la réalisation e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le cahier des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 les normes en vigu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3 Choisir le mode de pose adapté des constitu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4 Proposer une implantation relative aux constitu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4 Dialoguer avec les différents intervenants du chan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9 Vérifier les grandeurs caractéristique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0 Contrôler le fonctionnement de l’insta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2.11 Effectuer les mesures confirmant l’efficacité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yens de protection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997360"/>
            <a:ext cx="711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7080" y="3441240"/>
            <a:ext cx="444600" cy="1917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45A-ECA4-4CD0-ABF2-957A7F9D8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52:38Z</dcterms:created>
  <dc:creator>THERSSEN</dc:creator>
  <dc:description/>
  <dc:language>en-US</dc:language>
  <cp:lastModifiedBy>SEP CARNOT</cp:lastModifiedBy>
  <dcterms:modified xsi:type="dcterms:W3CDTF">2011-10-04T20:20:35Z</dcterms:modified>
  <cp:revision>74</cp:revision>
  <dc:subject/>
  <dc:title>BAC Professionnel</dc:title>
</cp:coreProperties>
</file>