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2655-5F60-4DC7-9639-678E881D6D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4E56-2A55-41EE-BB1D-F70E701CA1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3A96-9662-4923-A0AA-C2AFD03EEC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) :Les horaires ne tiennent pas compte des 8 semaines de stage en milieu professionn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2) :L'horaire annuel est donné à titre indicati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3) :Répartition a)  cours ou synthèse en division entière, b) travaux dirigés en groupe à effectif réduit, c) travaux pratiques par groupes d’atelier, de topographie ou de laborato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4) :La répartition des enseignements relève de la responsabilité du chef d’établissement. Elle est à faire notamment en fonction du contexte local et en fonction du projet pédagogique de l’équipe de professe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5) : Ces enseignements (a,b,c) sont effectués en salle de projet, en laboratoire, en atelier ou sur site extéri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6) : Individualisation du parcours de l'étud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) :Les horaires ne tiennent pas compte des 8 semaines de stage en milieu professionn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2) :L'horaire annuel est donné à titre indicati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3) :Répartition a)  cours ou synthèse en division entière, b) travaux dirigés en groupe à effectif réduit, c) travaux pratiques par groupes d’atelier, de topographie ou de laborato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4) :La répartition des enseignements relève de la responsabilité du chef d’établissement. Elle est à faire notamment en fonction du contexte local et en fonction du projet pédagogique de l’équipe de professe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5) : Ces enseignements (a,b,c) sont effectués en salle de projet, en laboratoire, en atelier ou sur site extéri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6) : Individualisation du parcours de l'étud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C3AF-358A-4922-A970-1E5DF3A889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7CA8-547E-4A20-AE27-581B4A6473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FC24-6669-4452-AA79-5FC9F9AF83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E38E-8488-4E38-B589-B14D949D24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BB65-A9C5-4030-AF57-C112FE3C8D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7E53-AC4C-4815-806E-8B1E166319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BA9-7C6C-48A7-ACE4-F8B0A47C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CA9-5F95-488E-BB7A-FB4F54B9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01B-86F6-48AB-892C-27D84E9F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B87-204C-437A-A788-2F77FB36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733-9A31-4BAF-B195-5860CB4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B8D-7D95-4D4E-BE46-5873E0AD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1A9-6412-4684-BAEB-00C4BA88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7AB-0254-4B7D-9CF7-B46EF6D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25D-CF71-416B-B5F0-F76EF4FA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A28-4594-4389-91A0-CAB4B376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CA6-C903-4292-AF56-7DAC6863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5AF-9E2A-499A-A3F6-C328A3A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03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u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B633-7CCB-4AD6-8744-B7B1F473F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..\..\TP\Textes officiels 2011 BTS TP\attestation ECTS BTS tp\Att_ann_TRAVAUX_PUBLICS_BTS_209956.doc" TargetMode="External"/><Relationship Id="rId2" Type="http://schemas.openxmlformats.org/officeDocument/2006/relationships/hyperlink" Target="..\..\BTS Bat\Nv R&#233;f&#233;rentiel\attestation ECTS BTS Bat\Att_ann_BATIMENT_BTS_209960-1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49600" y="32396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RGANISATION DE LA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TS Bâtiment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TS Travaux Publ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AC94-4743-47AD-8148-2F8BAB189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rganisation génér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Modularisation du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3181-90CB-4314-87E9-2E6EFDCD2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Diagramme 6" descr=""/>
          <p:cNvPicPr/>
          <p:nvPr/>
        </p:nvPicPr>
        <p:blipFill>
          <a:blip r:embed="rId1"/>
          <a:stretch/>
        </p:blipFill>
        <p:spPr>
          <a:xfrm>
            <a:off x="493560" y="1109520"/>
            <a:ext cx="8656920" cy="510228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7"/>
          <p:cNvSpPr/>
          <p:nvPr/>
        </p:nvSpPr>
        <p:spPr>
          <a:xfrm>
            <a:off x="7143840" y="585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livret scol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E2E8-D81B-4A5E-B286-66C83D346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268280"/>
          <a:ext cx="8424720" cy="4896000"/>
        </p:xfrm>
        <a:graphic>
          <a:graphicData uri="http://schemas.openxmlformats.org/drawingml/2006/table">
            <a:tbl>
              <a:tblPr/>
              <a:tblGrid>
                <a:gridCol w="3024360"/>
                <a:gridCol w="1296720"/>
                <a:gridCol w="1582920"/>
                <a:gridCol w="2520720"/>
              </a:tblGrid>
              <a:tr h="61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yenne            Etudiant(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yenne Cla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C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1 CULTURE GENERALE  ET EX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2  LANGUE VIVANT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31  MATHEMA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32  SCIENCES PHYSIQUES  ET CHIMIQUES  APPLIQU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4.1   ETUDES DE CONCEPTION ET DE REALISATION EN MAITRISE D’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4.2 ETUDES DE METHODE ET D’EXEC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5 PREPARATION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6.1 CONDUITE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6.2 Implantation Essais/Contrô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livret scolaire et les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A2C3-7AC9-4868-A8CF-F5574D1E3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55640" y="1484280"/>
          <a:ext cx="7848720" cy="4106880"/>
        </p:xfrm>
        <a:graphic>
          <a:graphicData uri="http://schemas.openxmlformats.org/drawingml/2006/table">
            <a:tbl>
              <a:tblPr/>
              <a:tblGrid>
                <a:gridCol w="1320840"/>
                <a:gridCol w="407880"/>
                <a:gridCol w="1712880"/>
                <a:gridCol w="4407120"/>
              </a:tblGrid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4.1                  ETUDES DE CONCEPTION   ET DE REALISATION      EN MAITRISE D’ŒUV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5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Dimensionnement et conception détaillée d’ouvrages de travaux publ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 : mécanique des s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 : mécanique est structures isost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 : éco-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 : environnement éco-jurid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 : mécanique et structures hyperst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4.2                   ETUDES DE METHODE ET       D’EXEC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 : communication graphiques 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4 : étude de pr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 : communication graphique approfondis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 : techn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5 : mécanique appliqu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e pas oublier qu’il s’agit d’une expérimentation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988640"/>
            <a:ext cx="8569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 qui veut di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saye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aire des bilans d’expérien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poser des pistes d’amélioration et de corr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C006-0408-43C7-9D5D-EBA194400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042920" y="878040"/>
          <a:ext cx="7624800" cy="5979960"/>
        </p:xfrm>
        <a:graphic>
          <a:graphicData uri="http://schemas.openxmlformats.org/drawingml/2006/table">
            <a:tbl>
              <a:tblPr/>
              <a:tblGrid>
                <a:gridCol w="2544840"/>
                <a:gridCol w="750960"/>
                <a:gridCol w="934920"/>
                <a:gridCol w="871560"/>
                <a:gridCol w="711360"/>
                <a:gridCol w="976320"/>
                <a:gridCol w="834840"/>
              </a:tblGrid>
              <a:tr h="54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1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2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 Culture générale et expre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 Angl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 Mathémat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 Sciences physiques appliquée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 Enseignements techniques et professionnels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4 + 12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4 + 12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 Accompagnement personnalisé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6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6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ngue vivante facultative (autre que l’anglai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45"/>
          <p:cNvSpPr/>
          <p:nvPr/>
        </p:nvSpPr>
        <p:spPr>
          <a:xfrm>
            <a:off x="2271600" y="15804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TS Bâtiment - GRILLE HORAIRE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rmation initiale sous statut scol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42920" y="878040"/>
          <a:ext cx="7624800" cy="5979960"/>
        </p:xfrm>
        <a:graphic>
          <a:graphicData uri="http://schemas.openxmlformats.org/drawingml/2006/table">
            <a:tbl>
              <a:tblPr/>
              <a:tblGrid>
                <a:gridCol w="2544840"/>
                <a:gridCol w="750960"/>
                <a:gridCol w="934920"/>
                <a:gridCol w="871560"/>
                <a:gridCol w="711360"/>
                <a:gridCol w="976320"/>
                <a:gridCol w="834840"/>
              </a:tblGrid>
              <a:tr h="54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1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2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 Culture générale et expre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 Angl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 Mathémat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 Sciences physiques appliquée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 Enseignements techniques et professionnels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5 + 11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5 + 11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 Accompagnement personnalisé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7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7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ngue vivante facultative (autre que l’anglai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345"/>
          <p:cNvSpPr/>
          <p:nvPr/>
        </p:nvSpPr>
        <p:spPr>
          <a:xfrm>
            <a:off x="1883520" y="15804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TS Travaux Publics - GRILLE HORAIRE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rmation initiale sous statut scol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érêt de la modular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lus grande fluidité des parcours, facilite la mobilité étudiante ainsi que les réorientations vers les passer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rmet la reconnaissance progressive des acquis des étudi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rganisation en « blocs » d’enseignements cohérent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ens aisés avec la Validation des Acquis de l’Expérien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ossibilités d’organiser facilement la formation continu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rmet à des étudiants de faire valoir leur acquis hors acquisition complète du diplôme (attribution d’ECTS &amp; liens avec l’université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CC4F-AB04-4324-ABBC-8B2F7B1AE4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a formation est découpée en modules à dispenser en présence d'un ou plusieurs enseignants (cours ou synthèse(C), travaux dirigés (TD), travaux pratiques(TP))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module sont définis au niveau national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modalités pédagogiques sont laissées à l'initiative des équipes pédagogiques, dans le respect du volume horaire prévu pour chaque modu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97E-6710-45DD-BEB5-82DD571674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quoi est compos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libellé du module, son code, l’unité de form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sa place prévisionnelle dans le cursus (pas dans la version publiée sur le site du ministère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nombre d’heures alloué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’unité de certification et la ou les compétences terminales ciblé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nombre de points de crédits ECT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pré-requis nécessaire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intentions pédagogiques générale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a compétence terminale ciblé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objectifs visés ainsi que leurs niveaux d’acquisition à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tteindre à l'issue du modul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savoirs associés à mobilis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24C1-588F-43D7-A53B-6DBC055A7F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évalu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507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Les modules, et le stage en entreprise, sont soumis des évaluations en cours de formation. Ces évaluations en cours de formation permettent d'attribuer une note comprise entre 0 et 20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e évaluation en cours de formation doit être précédée d’une situation d’apprenti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 module ne peut être évalué à partir du seul contrôle des connaissanc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D780-647A-4618-BC1C-B216A1E548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valid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507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Un module ou une unité de formation est validé dès lors que la note, coefficientée conformément à l’annexe II.c. « Règlement d’examen » du référentiel de certification du BTS Travaux Publics, attribuée à la suite de l’évaluation est supérieure ou égale à 10/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validation permet d’attribuer les crédits correspond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 référentiel de formation n'organise pas temporellement le cursus de formation. De ce fait, la règle de compensation ne s’applique p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3C65-9E84-47EB-8D2E-0F8E9ACF9B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395280" y="537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testation du parcours de formation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TS TP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BTS Bât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obtenu le BT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conditions de délivrance des BTS construits sous la forme modulaire obéissent aux mêmes règles que tous les BTS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 faut justifier du passage de l'ensemble des unités certificatives, qu’elles soient sous la forme ponctuelle ou en Contrôle en Cours de 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5203-15C7-4810-86F2-D8177B8CDD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8:37:09Z</dcterms:created>
  <dc:creator>KESSENHEIMER Thierry</dc:creator>
  <dc:description/>
  <dc:language>en-US</dc:language>
  <cp:lastModifiedBy>utilisateur</cp:lastModifiedBy>
  <dcterms:modified xsi:type="dcterms:W3CDTF">2012-04-16T07:44:14Z</dcterms:modified>
  <cp:revision>71</cp:revision>
  <dc:subject/>
  <dc:title>BTS Travaux Publics</dc:title>
</cp:coreProperties>
</file>