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15E71-13FA-48E5-ACDF-FEF1BDEAD11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FBE11-1647-4822-80A5-D51C039F954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49CBD-1304-41DC-B2B2-6C2476EE3FF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1) :Les horaires ne tiennent pas compte des 8 semaines de stage en milieu professionn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2) :L'horaire annuel est donné à titre indicati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3) :Répartition a)  cours ou synthèse en division entière, b) travaux dirigés en groupe à effectif réduit, c) travaux pratiques par groupes d’atelier, de topographie ou de laboratoi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4) :La répartition des enseignements relève de la responsabilité du chef d’établissement. Elle est à faire notamment en fonction du contexte local et en fonction du projet pédagogique de l’équipe de professe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5) : Ces enseignements (a,b,c) sont effectués en salle de projet, en laboratoire, en atelier ou sur site extérieu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6) : Individualisation du parcours de l'étudi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1) :Les horaires ne tiennent pas compte des 8 semaines de stage en milieu professionn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2) :L'horaire annuel est donné à titre indicati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3) :Répartition a)  cours ou synthèse en division entière, b) travaux dirigés en groupe à effectif réduit, c) travaux pratiques par groupes d’atelier, de topographie ou de laboratoi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4) :La répartition des enseignements relève de la responsabilité du chef d’établissement. Elle est à faire notamment en fonction du contexte local et en fonction du projet pédagogique de l’équipe de professe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5) : Ces enseignements (a,b,c) sont effectués en salle de projet, en laboratoire, en atelier ou sur site extérieu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6) : Individualisation du parcours de l'étudi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CD49-32FB-480B-89AA-A6AA1211CB7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41333-D71C-444D-8350-8CEEE10264B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4B705-EE2F-4C04-B117-B2238885E28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721CD-2711-49B9-926C-A42C0E2F10A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D4A42-DD07-47B7-A6C4-0BAAFBC692E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D6C96-4167-41B4-BE50-D942B71BA08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524F-AB7A-4AC0-B601-DC7DB75B8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5DBA-BD0C-4B06-B749-E7A27DA76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3BBA-2323-4692-BE21-4D8FBE474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B1B4-CF47-4E67-A401-19563F5F1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1F2D-B0DF-4685-96E1-430C67897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F2CF-F9EE-4B1D-B313-1CE16AAED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1BE8-D3DB-4210-9748-9E394C825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F206-B07D-4FE8-AB39-558B28B0D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A12A-31ED-406A-A879-F9BFD149D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6DC3-DF3E-4349-AB89-FB904897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7532-969A-491B-BE4D-9C59E897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272A-FBCC-4E4E-BFF5-E1578596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03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Modularisation du BTS Bâtiment &amp; Travaux Publ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DC479-B8FC-4E84-8462-D2DF034CFE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..\..\TP\Textes officiels 2011 BTS TP\attestation ECTS BTS tp\Att_ann_TRAVAUX_PUBLICS_BTS_209956.doc" TargetMode="External"/><Relationship Id="rId2" Type="http://schemas.openxmlformats.org/officeDocument/2006/relationships/hyperlink" Target="..\..\BTS Bat\Nv R&#233;f&#233;rentiel\attestation ECTS BTS Bat\Att_ann_BATIMENT_BTS_209960-1.doc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1749600" y="3239640"/>
            <a:ext cx="547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ORGANISATION DE LA 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BTS Bâtiment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BTS Travaux Publ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39D04-2D34-4D5A-8438-DD394479F2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Espace réservé du pied de page 5"/>
          <p:cNvSpPr/>
          <p:nvPr/>
        </p:nvSpPr>
        <p:spPr>
          <a:xfrm>
            <a:off x="3124080" y="6356520"/>
            <a:ext cx="339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Modularisation des BTS Bâtiment &amp; Travaux Publ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Organisation génér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Espace réservé du pied de pag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Modularisation du BTS Bâtiment &amp; Travaux Publ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D43ED-771F-4563-B76E-F01B831D69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Diagramme 6" descr=""/>
          <p:cNvPicPr/>
          <p:nvPr/>
        </p:nvPicPr>
        <p:blipFill>
          <a:blip r:embed="rId1"/>
          <a:stretch/>
        </p:blipFill>
        <p:spPr>
          <a:xfrm>
            <a:off x="493560" y="1109520"/>
            <a:ext cx="8656920" cy="5102280"/>
          </a:xfrm>
          <a:prstGeom prst="rect">
            <a:avLst/>
          </a:prstGeom>
          <a:ln w="0">
            <a:noFill/>
          </a:ln>
        </p:spPr>
      </p:pic>
      <p:sp>
        <p:nvSpPr>
          <p:cNvPr id="123" name="ZoneTexte 7"/>
          <p:cNvSpPr/>
          <p:nvPr/>
        </p:nvSpPr>
        <p:spPr>
          <a:xfrm>
            <a:off x="7143840" y="5857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ff"/>
                </a:solidFill>
                <a:uFillTx/>
                <a:latin typeface="Calibri"/>
              </a:rPr>
              <a:t>Somm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 livret scolai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6850E-5823-4F27-BCDC-0B234FB988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95280" y="1268280"/>
          <a:ext cx="8424720" cy="4896000"/>
        </p:xfrm>
        <a:graphic>
          <a:graphicData uri="http://schemas.openxmlformats.org/drawingml/2006/table">
            <a:tbl>
              <a:tblPr/>
              <a:tblGrid>
                <a:gridCol w="3024360"/>
                <a:gridCol w="1296720"/>
                <a:gridCol w="1582920"/>
                <a:gridCol w="2520720"/>
              </a:tblGrid>
              <a:tr h="617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yenne            Etudiant(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yenne Clas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PRECI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80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1 CULTURE GENERALE  ET EXPRES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2  LANGUE VIVANTE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31  MATHEMATIQ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32  SCIENCES PHYSIQUES  ET CHIMIQUES  APPLIQUE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4.1   ETUDES DE CONCEPTION ET DE REALISATION EN MAITRISE D’ŒUV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4.2 ETUDES DE METHODE ET D’EXECU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5 PREPARATION DE CHANT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6.1 CONDUITE DE CHANT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6.2 Implantation Essais/Contrô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Espace réservé du pied de page 5"/>
          <p:cNvSpPr/>
          <p:nvPr/>
        </p:nvSpPr>
        <p:spPr>
          <a:xfrm>
            <a:off x="3124080" y="6356520"/>
            <a:ext cx="339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Modularisation des BTS Bâtiment &amp; Travaux Publ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 livret scolaire et les mod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0EC6F-508E-4699-AE07-B441C31F5E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755640" y="1484280"/>
          <a:ext cx="7848720" cy="4106880"/>
        </p:xfrm>
        <a:graphic>
          <a:graphicData uri="http://schemas.openxmlformats.org/drawingml/2006/table">
            <a:tbl>
              <a:tblPr/>
              <a:tblGrid>
                <a:gridCol w="1320840"/>
                <a:gridCol w="407880"/>
                <a:gridCol w="1712880"/>
                <a:gridCol w="4407120"/>
              </a:tblGrid>
              <a:tr h="213480">
                <a:tc row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4.1                  ETUDES DE CONCEPTION   ET DE REALISATION      EN MAITRISE D’ŒUV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0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F5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Dimensionnement et conception détaillée d’ouvrages de travaux publi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1 : mécanique des so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2 : mécanique est structures isostatiq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10 : éco-constr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11 : environnement éco-juridi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12 : mécanique et structures hyperstatiq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row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4.2                   ETUDES DE METHODE ET       D’EXECU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3 : communication graphiques ba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4 : étude de pri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13 : communication graphique approfondiss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14 : technolog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15 : mécanique appliqu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Espace réservé du pied de page 5"/>
          <p:cNvSpPr/>
          <p:nvPr/>
        </p:nvSpPr>
        <p:spPr>
          <a:xfrm>
            <a:off x="3124080" y="6356520"/>
            <a:ext cx="339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Modularisation des BTS Bâtiment &amp; Travaux Publ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e pas oublier qu’il s’agit d’une expérimentation 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95280" y="1988640"/>
            <a:ext cx="8569440" cy="29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e qui veut di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ssayer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Faire des bilans d’expérienc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roposer des pistes d’amélioration et de correc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0BCF0-8B65-41D4-BCA2-E75958084B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space réservé du pied de page 5"/>
          <p:cNvSpPr/>
          <p:nvPr/>
        </p:nvSpPr>
        <p:spPr>
          <a:xfrm>
            <a:off x="3124080" y="6356520"/>
            <a:ext cx="339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Modularisation des BTS Bâtiment &amp; Travaux Publ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1042920" y="878040"/>
          <a:ext cx="7624800" cy="5979960"/>
        </p:xfrm>
        <a:graphic>
          <a:graphicData uri="http://schemas.openxmlformats.org/drawingml/2006/table">
            <a:tbl>
              <a:tblPr/>
              <a:tblGrid>
                <a:gridCol w="2544840"/>
                <a:gridCol w="750960"/>
                <a:gridCol w="934920"/>
                <a:gridCol w="871560"/>
                <a:gridCol w="711360"/>
                <a:gridCol w="976320"/>
                <a:gridCol w="834840"/>
              </a:tblGrid>
              <a:tr h="541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Horaire de 1</a:t>
                      </a:r>
                      <a:r>
                        <a:rPr b="1" lang="fr-FR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ère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anné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Horaire de 2</a:t>
                      </a:r>
                      <a:r>
                        <a:rPr b="1" lang="fr-FR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ème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anné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Semai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a + b + c</a:t>
                      </a:r>
                      <a:r>
                        <a:rPr b="1" lang="fr-FR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(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Année </a:t>
                      </a:r>
                      <a:r>
                        <a:rPr b="1" lang="fr-FR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(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Semai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a + b + c</a:t>
                      </a:r>
                      <a:r>
                        <a:rPr b="1" lang="fr-FR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(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Année </a:t>
                      </a:r>
                      <a:r>
                        <a:rPr b="1" lang="fr-FR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(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72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. Culture générale et express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 + 0 +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 + 0 +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. Angla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 + 1 +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 + 1 +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. Mathématiqu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 + 1 +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 + 1 +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4. Sciences physiques appliquées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 + 0 +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 + 0 +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72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5. Enseignements techniques et professionnels</a:t>
                      </a:r>
                      <a:r>
                        <a:rPr b="1" lang="fr-FR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(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 + 4 + 12</a:t>
                      </a:r>
                      <a:r>
                        <a:rPr b="1" lang="fr-FR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(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 + 4 + 12</a:t>
                      </a:r>
                      <a:r>
                        <a:rPr b="1" lang="fr-FR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(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77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. Accompagnement personnalisé</a:t>
                      </a:r>
                      <a:r>
                        <a:rPr b="1" lang="fr-FR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(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4 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2</a:t>
                      </a: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+ 6 +</a:t>
                      </a: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020</a:t>
                      </a:r>
                      <a:r>
                        <a:rPr b="1" lang="fr-FR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(1)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4 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2</a:t>
                      </a: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+ 6 +</a:t>
                      </a: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020</a:t>
                      </a:r>
                      <a:r>
                        <a:rPr b="1" lang="fr-FR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(1)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73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Langue vivante facultative (autre que l’anglai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 + 0 +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 + 0 +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  <p:sp>
        <p:nvSpPr>
          <p:cNvPr id="91" name="Rectangle 345"/>
          <p:cNvSpPr/>
          <p:nvPr/>
        </p:nvSpPr>
        <p:spPr>
          <a:xfrm>
            <a:off x="2271600" y="158040"/>
            <a:ext cx="603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BTS Bâtiment - GRILLE HORAIRE DE LA 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Formation initiale sous statut scolai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042920" y="878040"/>
          <a:ext cx="7624800" cy="5979960"/>
        </p:xfrm>
        <a:graphic>
          <a:graphicData uri="http://schemas.openxmlformats.org/drawingml/2006/table">
            <a:tbl>
              <a:tblPr/>
              <a:tblGrid>
                <a:gridCol w="2544840"/>
                <a:gridCol w="750960"/>
                <a:gridCol w="934920"/>
                <a:gridCol w="871560"/>
                <a:gridCol w="711360"/>
                <a:gridCol w="976320"/>
                <a:gridCol w="834840"/>
              </a:tblGrid>
              <a:tr h="541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Horaire de 1</a:t>
                      </a:r>
                      <a:r>
                        <a:rPr b="1" lang="fr-FR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ère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anné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Horaire de 2</a:t>
                      </a:r>
                      <a:r>
                        <a:rPr b="1" lang="fr-FR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ème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anné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Semai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a + b + c</a:t>
                      </a:r>
                      <a:r>
                        <a:rPr b="1" lang="fr-FR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(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Année </a:t>
                      </a:r>
                      <a:r>
                        <a:rPr b="1" lang="fr-FR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(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Semai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a + b + c</a:t>
                      </a:r>
                      <a:r>
                        <a:rPr b="1" lang="fr-FR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(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Année </a:t>
                      </a:r>
                      <a:r>
                        <a:rPr b="1" lang="fr-FR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(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72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. Culture générale et express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 + 0 +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 + 0 +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. Angla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 + 1 +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 + 1 +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. Mathématiqu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 + 1 +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 + 1 +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4. Sciences physiques appliquées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 + 0 +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 + 0 +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72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5. Enseignements techniques et professionnels</a:t>
                      </a:r>
                      <a:r>
                        <a:rPr b="1" lang="fr-FR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(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 + 5 + 11</a:t>
                      </a:r>
                      <a:r>
                        <a:rPr b="1" lang="fr-FR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(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 + 5 + 11</a:t>
                      </a:r>
                      <a:r>
                        <a:rPr b="1" lang="fr-FR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(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77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. Accompagnement personnalisé</a:t>
                      </a:r>
                      <a:r>
                        <a:rPr b="1" lang="fr-FR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(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4 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2</a:t>
                      </a: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+ 7 +</a:t>
                      </a: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020</a:t>
                      </a:r>
                      <a:r>
                        <a:rPr b="1" lang="fr-FR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(1)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4 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2</a:t>
                      </a: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+ 7 +</a:t>
                      </a: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020</a:t>
                      </a:r>
                      <a:r>
                        <a:rPr b="1" lang="fr-FR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(1)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73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Langue vivante facultative (autre que l’anglai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 + 0 +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 + 0 +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  <p:sp>
        <p:nvSpPr>
          <p:cNvPr id="93" name="Rectangle 345"/>
          <p:cNvSpPr/>
          <p:nvPr/>
        </p:nvSpPr>
        <p:spPr>
          <a:xfrm>
            <a:off x="1883520" y="158040"/>
            <a:ext cx="68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BTS Travaux Publics - GRILLE HORAIRE DE LA 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Formation initiale sous statut scolai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Intérêt de la modularis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Plus grande fluidité des parcours, facilite la mobilité étudiante ainsi que les réorientations vers les passerel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Permet la reconnaissance progressive des acquis des étudi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Organisation en « blocs » d’enseignements cohérents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Liens aisés avec la Validation des Acquis de l’Expérience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Possibilités d’organiser facilement la formation continue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Permet à des étudiants de faire valoir leur acquis hors acquisition complète du diplôme (attribution d’ECTS &amp; liens avec l’université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FE288-557F-4F21-BA75-9CC5AC06C3E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Espace réservé du pied de page 5"/>
          <p:cNvSpPr/>
          <p:nvPr/>
        </p:nvSpPr>
        <p:spPr>
          <a:xfrm>
            <a:off x="3124080" y="6356520"/>
            <a:ext cx="339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Modularisation des BTS Bâtiment &amp; Travaux Publ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rinci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La formation est découpée en modules à dispenser en présence d'un ou plusieurs enseignants (cours ou synthèse(C), travaux dirigés (TD), travaux pratiques(TP)) 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Les module sont définis au niveau national 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les modalités pédagogiques sont laissées à l'initiative des équipes pédagogiques, dans le respect du volume horaire prévu pour chaque modu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6E9DD-8013-4050-BB3F-6846FF57254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Espace réservé du pied de page 5"/>
          <p:cNvSpPr/>
          <p:nvPr/>
        </p:nvSpPr>
        <p:spPr>
          <a:xfrm>
            <a:off x="3124080" y="6356520"/>
            <a:ext cx="339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Modularisation des BTS Bâtiment &amp; Travaux Publ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e quoi est composé un modul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le libellé du module, son code, l’unité de form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sa place prévisionnelle dans le cursus (pas dans la version publiée sur le site du ministère)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le nombre d’heures alloué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l’unité de certification et la ou les compétences terminales ciblées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le nombre de points de crédits ECTS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les pré-requis nécessaires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les intentions pédagogiques générales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la compétence terminale ciblée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les objectifs visés ainsi que leurs niveaux d’acquisition à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atteindre à l'issue du module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les savoirs associés à mobilise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1147D-79F6-4B34-808E-CF86D489B25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Espace réservé du pied de page 5"/>
          <p:cNvSpPr/>
          <p:nvPr/>
        </p:nvSpPr>
        <p:spPr>
          <a:xfrm>
            <a:off x="3124080" y="6356520"/>
            <a:ext cx="339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Modularisation des BTS Bâtiment &amp; Travaux Publ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mment est évalué un modul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599840"/>
            <a:ext cx="850752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alibri"/>
              </a:rPr>
              <a:t>Les modules, et le stage en entreprise, sont soumis des évaluations en cours de formation. Ces évaluations en cours de formation permettent d'attribuer une note comprise entre 0 et 20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alibri"/>
              </a:rPr>
              <a:t>Une évaluation en cours de formation doit être précédée d’une situation d’apprentissag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alibri"/>
              </a:rPr>
              <a:t>Un module ne peut être évalué à partir du seul contrôle des connaissances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12245-ED70-4E61-9736-775A0C1E9D7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space réservé du pied de page 5"/>
          <p:cNvSpPr/>
          <p:nvPr/>
        </p:nvSpPr>
        <p:spPr>
          <a:xfrm>
            <a:off x="3124080" y="6356520"/>
            <a:ext cx="339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Modularisation des BTS Bâtiment &amp; Travaux Publ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mment est validé un modul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99840"/>
            <a:ext cx="850752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Un module ou une unité de formation est validé dès lors que la note, coefficientée conformément à l’annexe II.c. « Règlement d’examen » du référentiel de certification du BTS Travaux Publics, attribuée à la suite de l’évaluation est supérieure ou égale à 10/2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La validation permet d’attribuer les crédits corresponda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Le référentiel de formation n'organise pas temporellement le cursus de formation. De ce fait, la règle de compensation ne s’applique p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4C3E8-392A-43A3-BE57-3F9834B53F1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pied de page 5"/>
          <p:cNvSpPr/>
          <p:nvPr/>
        </p:nvSpPr>
        <p:spPr>
          <a:xfrm>
            <a:off x="3124080" y="6356520"/>
            <a:ext cx="339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Modularisation des BTS Bâtiment &amp; Travaux Publ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ZoneTexte 7"/>
          <p:cNvSpPr/>
          <p:nvPr/>
        </p:nvSpPr>
        <p:spPr>
          <a:xfrm>
            <a:off x="395280" y="537372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ttestation du parcours de formation </a:t>
            </a:r>
            <a:r>
              <a:rPr b="0" lang="fr-FR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BTS TP</a:t>
            </a: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fr-FR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BTS Bâti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mment est obtenu le BTS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Les conditions de délivrance des BTS construits sous la forme modulaire obéissent aux mêmes règles que tous les BTS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Il faut justifier du passage de l'ensemble des unités certificatives, qu’elles soient sous la forme ponctuelle ou en Contrôle en Cours de Form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25CDC-D3CA-438F-B7A8-580654529FD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Espace réservé du pied de page 5"/>
          <p:cNvSpPr/>
          <p:nvPr/>
        </p:nvSpPr>
        <p:spPr>
          <a:xfrm>
            <a:off x="3124080" y="6356520"/>
            <a:ext cx="339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Modularisation des BTS Bâtiment &amp; Travaux Publ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1T08:37:09Z</dcterms:created>
  <dc:creator>KESSENHEIMER Thierry</dc:creator>
  <dc:description/>
  <dc:language>en-US</dc:language>
  <cp:lastModifiedBy>utilisateur</cp:lastModifiedBy>
  <dcterms:modified xsi:type="dcterms:W3CDTF">2012-04-16T07:44:14Z</dcterms:modified>
  <cp:revision>71</cp:revision>
  <dc:subject/>
  <dc:title>BTS Travaux Publics</dc:title>
</cp:coreProperties>
</file>