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9DB8-7DEB-4790-96AE-E451DE5BE2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F0AD-49D2-4385-BF3A-08BE7F54D3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DDB8-835C-4D6A-A544-19712557B5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1) :Les horaires ne tiennent pas compte des 8 semaines de stage en milieu professionn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2) :L'horaire annuel est donné à titre indicati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3) :Répartition a)  cours ou synthèse en division entière, b) travaux dirigés en groupe à effectif réduit, c) travaux pratiques par groupes d’atelier, de topographie ou de laborato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4) :La répartition des enseignements relève de la responsabilité du chef d’établissement. Elle est à faire notamment en fonction du contexte local et en fonction du projet pédagogique de l’équipe de professe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5) : Ces enseignements (a,b,c) sont effectués en salle de projet, en laboratoire, en atelier ou sur site extéri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6) : Individualisation du parcours de l'étud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1) :Les horaires ne tiennent pas compte des 8 semaines de stage en milieu professionn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2) :L'horaire annuel est donné à titre indicati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3) :Répartition a)  cours ou synthèse en division entière, b) travaux dirigés en groupe à effectif réduit, c) travaux pratiques par groupes d’atelier, de topographie ou de laborato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4) :La répartition des enseignements relève de la responsabilité du chef d’établissement. Elle est à faire notamment en fonction du contexte local et en fonction du projet pédagogique de l’équipe de professe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5) : Ces enseignements (a,b,c) sont effectués en salle de projet, en laboratoire, en atelier ou sur site extéri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6) : Individualisation du parcours de l'étud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0098-818D-4060-8557-FF1ED0473D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1F8A-0CB0-4364-96E7-48E499499F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9A47-D9A3-45E0-A340-8570916B09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2474-6854-41AC-8DF1-5BA6B67AD4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AE06-3485-4200-8B9B-1DA71B5AFC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702D-322F-4779-A292-B019F7FE19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982-76F0-4DE9-BBCF-30D36AF9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044-5091-4429-9537-47CC83F2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FE3-F715-4857-9C66-EAD5874D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2B4-ADFD-4808-B9C8-FA492FC6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014-6F7F-489C-A52E-A90785D7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A04-47AC-436F-8A08-8CD630E9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3CC-DCC0-43E5-8841-C63D6B65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F9E-E134-4130-AD97-E6317FEC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81B-5324-4BDF-969D-08970B3B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DA6-406F-4170-AF2C-5DCB751E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886-9E62-4A7B-A545-3F24CBEA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623-968F-41F9-94E6-BAEA8A60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03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u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13FE-E6C7-4DA9-9811-48137413A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..\..\TP\Textes officiels 2011 BTS TP\attestation ECTS BTS tp\Att_ann_TRAVAUX_PUBLICS_BTS_209956.doc" TargetMode="External"/><Relationship Id="rId2" Type="http://schemas.openxmlformats.org/officeDocument/2006/relationships/hyperlink" Target="..\..\BTS Bat\Nv R&#233;f&#233;rentiel\attestation ECTS BTS Bat\Att_ann_BATIMENT_BTS_209960-1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49600" y="32396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RGANISATION DE LA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TS Bâtiment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TS Travaux Publ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CCD5-1BAA-44D2-B888-C95380F7B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rganisation génér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Modularisation du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113A-5B48-4CCC-BD64-B5B869C9B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Diagramme 6" descr=""/>
          <p:cNvPicPr/>
          <p:nvPr/>
        </p:nvPicPr>
        <p:blipFill>
          <a:blip r:embed="rId1"/>
          <a:stretch/>
        </p:blipFill>
        <p:spPr>
          <a:xfrm>
            <a:off x="493560" y="1109520"/>
            <a:ext cx="8656920" cy="5102280"/>
          </a:xfrm>
          <a:prstGeom prst="rect">
            <a:avLst/>
          </a:prstGeom>
          <a:ln w="0">
            <a:noFill/>
          </a:ln>
        </p:spPr>
      </p:pic>
      <p:sp>
        <p:nvSpPr>
          <p:cNvPr id="123" name="ZoneTexte 7"/>
          <p:cNvSpPr/>
          <p:nvPr/>
        </p:nvSpPr>
        <p:spPr>
          <a:xfrm>
            <a:off x="7143840" y="585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livret scol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4DB3-4F95-49F2-ADBC-B6176B32C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268280"/>
          <a:ext cx="8424720" cy="4896000"/>
        </p:xfrm>
        <a:graphic>
          <a:graphicData uri="http://schemas.openxmlformats.org/drawingml/2006/table">
            <a:tbl>
              <a:tblPr/>
              <a:tblGrid>
                <a:gridCol w="3024360"/>
                <a:gridCol w="1296720"/>
                <a:gridCol w="1582920"/>
                <a:gridCol w="2520720"/>
              </a:tblGrid>
              <a:tr h="617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yenne            Etudiant(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yenne Cla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EC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1 CULTURE GENERALE  ET EXP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2  LANGUE VIVANT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31  MATHEMAT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32  SCIENCES PHYSIQUES  ET CHIMIQUES  APPLIQU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4.1   ETUDES DE CONCEPTION ET DE REALISATION EN MAITRISE D’Œ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4.2 ETUDES DE METHODE ET D’EXEC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5 PREPARATION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6.1 CONDUITE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6.2 Implantation Essais/Contrô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livret scolaire et les 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9B79-9B4F-41F3-9622-56E1BF9F0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55640" y="1484280"/>
          <a:ext cx="7848720" cy="4106880"/>
        </p:xfrm>
        <a:graphic>
          <a:graphicData uri="http://schemas.openxmlformats.org/drawingml/2006/table">
            <a:tbl>
              <a:tblPr/>
              <a:tblGrid>
                <a:gridCol w="1320840"/>
                <a:gridCol w="407880"/>
                <a:gridCol w="1712880"/>
                <a:gridCol w="4407120"/>
              </a:tblGrid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4.1                  ETUDES DE CONCEPTION   ET DE REALISATION      EN MAITRISE D’ŒUV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5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Dimensionnement et conception détaillée d’ouvrages de travaux publ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 : mécanique des s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 : mécanique est structures isosta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0 : éco-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1 : environnement éco-jurid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2 : mécanique et structures hypersta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4.2                   ETUDES DE METHODE ET       D’EXEC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 : communication graphiques 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4 : étude de pr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3 : communication graphique approfondis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4 : techn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5 : mécanique appliqu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e pas oublier qu’il s’agit d’une expérimentation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988640"/>
            <a:ext cx="8569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 qui veut di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ssaye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aire des bilans d’expérien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poser des pistes d’amélioration et de corre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73A2-BCB7-4BDA-8A21-88A236E73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042920" y="878040"/>
          <a:ext cx="7624800" cy="5979960"/>
        </p:xfrm>
        <a:graphic>
          <a:graphicData uri="http://schemas.openxmlformats.org/drawingml/2006/table">
            <a:tbl>
              <a:tblPr/>
              <a:tblGrid>
                <a:gridCol w="2544840"/>
                <a:gridCol w="750960"/>
                <a:gridCol w="934920"/>
                <a:gridCol w="871560"/>
                <a:gridCol w="711360"/>
                <a:gridCol w="976320"/>
                <a:gridCol w="834840"/>
              </a:tblGrid>
              <a:tr h="541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1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r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2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m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 Culture générale et expres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 Angl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 Mathémat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 Sciences physiques appliquées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 Enseignements techniques et professionnels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4 + 12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4 + 12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 Accompagnement personnalisé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6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6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ngue vivante facultative (autre que l’anglai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345"/>
          <p:cNvSpPr/>
          <p:nvPr/>
        </p:nvSpPr>
        <p:spPr>
          <a:xfrm>
            <a:off x="2271600" y="15804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TS Bâtiment - GRILLE HORAIRE DE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rmation initiale sous statut scol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42920" y="878040"/>
          <a:ext cx="7624800" cy="5979960"/>
        </p:xfrm>
        <a:graphic>
          <a:graphicData uri="http://schemas.openxmlformats.org/drawingml/2006/table">
            <a:tbl>
              <a:tblPr/>
              <a:tblGrid>
                <a:gridCol w="2544840"/>
                <a:gridCol w="750960"/>
                <a:gridCol w="934920"/>
                <a:gridCol w="871560"/>
                <a:gridCol w="711360"/>
                <a:gridCol w="976320"/>
                <a:gridCol w="834840"/>
              </a:tblGrid>
              <a:tr h="541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1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r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2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m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 Culture générale et expres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 Angl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 Mathémat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 Sciences physiques appliquées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 Enseignements techniques et professionnels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5 + 11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5 + 11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 Accompagnement personnalisé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7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7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ngue vivante facultative (autre que l’anglai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345"/>
          <p:cNvSpPr/>
          <p:nvPr/>
        </p:nvSpPr>
        <p:spPr>
          <a:xfrm>
            <a:off x="1883520" y="158040"/>
            <a:ext cx="68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TS Travaux Publics - GRILLE HORAIRE DE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rmation initiale sous statut scol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érêt de la modular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lus grande fluidité des parcours, facilite la mobilité étudiante ainsi que les réorientations vers les passer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ermet la reconnaissance progressive des acquis des étudi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rganisation en « blocs » d’enseignements cohérent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ens aisés avec la Validation des Acquis de l’Expérien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ossibilités d’organiser facilement la formation continu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ermet à des étudiants de faire valoir leur acquis hors acquisition complète du diplôme (attribution d’ECTS &amp; liens avec l’université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7E53-9C34-4A4A-834D-7B01A5B7A0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a formation est découpée en modules à dispenser en présence d'un ou plusieurs enseignants (cours ou synthèse(C), travaux dirigés (TD), travaux pratiques(TP))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module sont définis au niveau national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modalités pédagogiques sont laissées à l'initiative des équipes pédagogiques, dans le respect du volume horaire prévu pour chaque modu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C3BD-B59C-49E0-8984-F2DC8720AF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 quoi est compos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libellé du module, son code, l’unité de form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sa place prévisionnelle dans le cursus (pas dans la version publiée sur le site du ministère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nombre d’heures alloué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’unité de certification et la ou les compétences terminales ciblée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nombre de points de crédits ECT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pré-requis nécessaires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intentions pédagogiques générales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a compétence terminale ciblé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objectifs visés ainsi que leurs niveaux d’acquisition à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tteindre à l'issue du modul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savoirs associés à mobilis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C71C-475C-4D9F-8EC5-6528AE7898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évalu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507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Les modules, et le stage en entreprise, sont soumis des évaluations en cours de formation. Ces évaluations en cours de formation permettent d'attribuer une note comprise entre 0 et 20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ne évaluation en cours de formation doit être précédée d’une situation d’apprenti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n module ne peut être évalué à partir du seul contrôle des connaissanc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756E-3F9F-4605-BF3C-95D06C9813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valid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5075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Un module ou une unité de formation est validé dès lors que la note, coefficientée conformément à l’annexe II.c. « Règlement d’examen » du référentiel de certification du BTS Travaux Publics, attribuée à la suite de l’évaluation est supérieure ou égale à 10/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validation permet d’attribuer les crédits correspond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 référentiel de formation n'organise pas temporellement le cursus de formation. De ce fait, la règle de compensation ne s’applique p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1CE5-1DF4-48BA-B30D-541EE60F60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395280" y="537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testation du parcours de formation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TS TP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BTS Bât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obtenu le BT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s conditions de délivrance des BTS construits sous la forme modulaire obéissent aux mêmes règles que tous les BTS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l faut justifier du passage de l'ensemble des unités certificatives, qu’elles soient sous la forme ponctuelle ou en Contrôle en Cours de 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C78C-06CC-46F6-BDD9-C48C5ED08D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8:37:09Z</dcterms:created>
  <dc:creator>KESSENHEIMER Thierry</dc:creator>
  <dc:description/>
  <dc:language>en-US</dc:language>
  <cp:lastModifiedBy>utilisateur</cp:lastModifiedBy>
  <dcterms:modified xsi:type="dcterms:W3CDTF">2012-04-16T07:44:14Z</dcterms:modified>
  <cp:revision>71</cp:revision>
  <dc:subject/>
  <dc:title>BTS Travaux Publics</dc:title>
</cp:coreProperties>
</file>