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BBD8-4F19-45FE-8F0F-3032267EBB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4486-D107-4BBB-BF14-5AF33C10E0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2061-55AC-48E4-BAA2-81DC05836D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) :Les horaires ne tiennent pas compte des 8 semaines de stage en milieu professionn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) :L'horaire annuel est donné à titre indicati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3) :Répartition a)  cours ou synthèse en division entière, b) travaux dirigés en groupe à effectif réduit, c) travaux pratiques par groupes d’atelier, de topographie ou de laborato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4) :La répartition des enseignements relève de la responsabilité du chef d’établissement. Elle est à faire notamment en fonction du contexte local et en fonction du projet pédagogique de l’équipe de professe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5) : Ces enseignements (a,b,c) sont effectués en salle de projet, en laboratoire, en atelier ou sur site extéri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6) : Individualisation du parcours de l'étud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F5D7-913F-4684-BFE1-A51064C6CB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13D2-9D34-47E2-9A73-786487BE6A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96F-8AC2-4368-B7B0-7F4D142665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79E6-EB8D-4CE1-A8A6-9D3C6032EC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028B-4BB3-407C-AA4F-BC2F2752E4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EA3F-0339-48BD-986B-4B3599C8A2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6D5-E2B9-40F6-8A48-CDB73D80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6BF-7C9B-4476-AF8C-F644D19A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B4C-A857-43DD-832B-9AD6AB59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AC3-69AD-4565-992C-A2BFB7D1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A1A-790C-4B90-AB05-591679C7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592-D81C-4ABD-AB00-50AAC0C5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FB5-BDA8-427F-9DDF-4979C5B3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DE7-36FE-43C7-8FE7-BA63EC07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E02-6878-47E2-8C45-054C336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464-230B-40B2-962F-42AAC0A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9FF-8592-4AAC-A436-749B57A1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0BE-D87C-4CFA-9027-32B2CBC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03/05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475-7162-40AD-AFC6-41785019B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\..\TP\Textes officiels 2011 BTS TP\attestation ECTS BTS tp\Att_ann_TRAVAUX_PUBLICS_BTS_209956.doc" TargetMode="External"/><Relationship Id="rId2" Type="http://schemas.openxmlformats.org/officeDocument/2006/relationships/hyperlink" Target="..\..\BTS Bat\Nv R&#233;f&#233;rentiel\attestation ECTS BTS Bat\Att_ann_BATIMENT_BTS_209960-1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49600" y="3239640"/>
            <a:ext cx="54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RGANISATION DE LA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Bâtiment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TS Travaux Publ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06EF-2469-4300-A275-84786A2E5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rganisation génér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Modularisation du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3AC-D9E8-427D-BB66-0460723C5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gramme 6" descr=""/>
          <p:cNvPicPr/>
          <p:nvPr/>
        </p:nvPicPr>
        <p:blipFill>
          <a:blip r:embed="rId1"/>
          <a:stretch/>
        </p:blipFill>
        <p:spPr>
          <a:xfrm>
            <a:off x="493560" y="1109520"/>
            <a:ext cx="8656920" cy="510228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7"/>
          <p:cNvSpPr/>
          <p:nvPr/>
        </p:nvSpPr>
        <p:spPr>
          <a:xfrm>
            <a:off x="7143840" y="585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B0F-9FFA-454A-8980-114551A1A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268280"/>
          <a:ext cx="8424720" cy="4896000"/>
        </p:xfrm>
        <a:graphic>
          <a:graphicData uri="http://schemas.openxmlformats.org/drawingml/2006/table">
            <a:tbl>
              <a:tblPr/>
              <a:tblGrid>
                <a:gridCol w="3024360"/>
                <a:gridCol w="1296720"/>
                <a:gridCol w="1582920"/>
                <a:gridCol w="2520720"/>
              </a:tblGrid>
              <a:tr h="617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           Etudiant(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yenne Cla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C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1 CULTURE GENERALE  ET EX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2  LANGUE VIVANT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1  MATHEMA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32  SCIENCES PHYSIQUES  ET CHIMIQUES  APPLIQU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1   ETUDES DE CONCEPTION ET DE REALISATION EN MAITRISE D’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4.2 ETUDES DE METHODE ET D’EXEC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5 PREPARATION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1 CONDUITE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6.2 Implantation Essais/Contrô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livret scolaire et les 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77F2-7870-49BC-9A4E-967EDB916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1484280"/>
          <a:ext cx="7848720" cy="4106880"/>
        </p:xfrm>
        <a:graphic>
          <a:graphicData uri="http://schemas.openxmlformats.org/drawingml/2006/table">
            <a:tbl>
              <a:tblPr/>
              <a:tblGrid>
                <a:gridCol w="1320840"/>
                <a:gridCol w="407880"/>
                <a:gridCol w="1712880"/>
                <a:gridCol w="4407120"/>
              </a:tblGrid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1                  ETUDES DE CONCEPTION   ET DE REALISATION      EN MAITRISE D’ŒU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5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Dimensionnement et conception détaillée d’ouvrages de travaux publ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 : mécanique des s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2 : mécanique est structures iso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0 : éco-constr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1 : environnement éco-jurid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2 : mécanique et structures hyperst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4.2                   ETUDES DE METHODE ET       D’EXEC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3 : communication graphiques 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4 : étude de p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3 : communication graphique approfond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4 : techn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5 : mécanique appliqu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e pas oublier qu’il s’agit d’une expérimentation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988640"/>
            <a:ext cx="8569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qui veut di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ssaye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 des bilans d’expérien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poser des pistes d’amélioration et de cor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B685-459E-4C0C-81DE-7CB0842EA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4 + 12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6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45"/>
          <p:cNvSpPr/>
          <p:nvPr/>
        </p:nvSpPr>
        <p:spPr>
          <a:xfrm>
            <a:off x="2271600" y="158040"/>
            <a:ext cx="60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Bâtiment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042920" y="878040"/>
          <a:ext cx="7624800" cy="5979960"/>
        </p:xfrm>
        <a:graphic>
          <a:graphicData uri="http://schemas.openxmlformats.org/drawingml/2006/table">
            <a:tbl>
              <a:tblPr/>
              <a:tblGrid>
                <a:gridCol w="2544840"/>
                <a:gridCol w="750960"/>
                <a:gridCol w="934920"/>
                <a:gridCol w="871560"/>
                <a:gridCol w="711360"/>
                <a:gridCol w="976320"/>
                <a:gridCol w="834840"/>
              </a:tblGrid>
              <a:tr h="541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1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r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raire de 2</a:t>
                      </a:r>
                      <a:r>
                        <a:rPr b="1" lang="fr-FR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èm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m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 + b + c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nnée 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 Culture générale et expres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 Angl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 Mathémat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 + 1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 Sciences physiques appliquées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 + 0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 Enseignements techniques et professionnels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 + 5 + 11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 Accompagnement personnalisé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4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2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+ 7 +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20</a:t>
                      </a:r>
                      <a:r>
                        <a:rPr b="1" lang="fr-FR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1)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angue vivante facultative (autre que l’anglai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 + 0 +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345"/>
          <p:cNvSpPr/>
          <p:nvPr/>
        </p:nvSpPr>
        <p:spPr>
          <a:xfrm>
            <a:off x="1883520" y="158040"/>
            <a:ext cx="68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TS Travaux Publics - GRILLE HORAIRE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rmation initiale sous statut scola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érêt de la modular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lus grande fluidité des parcours, facilite la mobilité étudiante ainsi que les réorientations vers les passer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la reconnaissance progressive des acquis des étudi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rganisation en « blocs » d’enseignements cohérent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iens aisés avec la Validation des Acquis de l’Expéri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ossibilités d’organiser facilement la formation continu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ermet à des étudiants de faire valoir leur acquis hors acquisition complète du diplôme (attribution d’ECTS &amp; liens avec l’université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320C-C75B-4ACF-A586-C6E0BFD6FC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a formation est découpée en modules à dispenser en présence d'un ou plusieurs enseignants (cours ou synthèse(C), travaux dirigés (TD), travaux pratiques(TP))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ule sont définis au niveau national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modalités pédagogiques sont laissées à l'initiative des équipes pédagogiques, dans le respect du volume horaire prévu pour chaque mod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863F-5DB8-4A46-B7C2-E37749C431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quoi est compos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libellé du module, son code, l’unité de form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sa place prévisionnelle dans le cursus (pas dans la version publiée sur le site du ministère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’heures alloué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’unité de certification et la ou les compétences terminales ciblé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 nombre de points de crédits ECT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pré-requis nécessair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intentions pédagogiques générales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a compétence terminale ciblé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objectifs visés ainsi que leurs niveaux d’acquisition à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tteindre à l'issue du module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les savoirs associés à mobilis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0E8-DF94-4D22-8A17-46BEDB4F01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évalu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507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es modules, et le stage en entreprise, sont soumis des évaluations en cours de formation. Ces évaluations en cours de formation permettent d'attribuer une note comprise entre 0 et 20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e évaluation en cours de formation doit être précédée d’une situation d’apprenti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 module ne peut être évalué à partir du seul contrôle des connaissanc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5270-8119-4204-B33A-BA9DC66CDB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validé un mod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507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 module ou une unité de formation est validé dès lors que la note, coefficientée conformément à l’annexe II.c. « Règlement d’examen » du référentiel de certification du BTS Travaux Publics, attribuée à la suite de l’évaluation est supérieure ou égale à 10/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validation permet d’attribuer les crédits correspond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 référentiel de formation n'organise pas temporellement le cursus de formation. De ce fait, la règle de compensation ne s’applique p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A4F2-D1D3-41E5-A960-E7DB187104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395280" y="5373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testation du parcours de formation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TS TP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BTS Bât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nt est obtenu le BT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conditions de délivrance des BTS construits sous la forme modulaire obéissent aux mêmes règles que tous les BTS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 faut justifier du passage de l'ensemble des unités certificatives, qu’elles soient sous la forme ponctuelle ou en Contrôle en Cours de 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92F3-E63C-44AB-9EE9-CFFC8DFC99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Modularisation des BTS Bâtiment &amp; Travaux Pub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8:37:09Z</dcterms:created>
  <dc:creator>KESSENHEIMER Thierry</dc:creator>
  <dc:description/>
  <dc:language>en-US</dc:language>
  <cp:lastModifiedBy>utilisateur</cp:lastModifiedBy>
  <dcterms:modified xsi:type="dcterms:W3CDTF">2012-04-16T07:44:14Z</dcterms:modified>
  <cp:revision>71</cp:revision>
  <dc:subject/>
  <dc:title>BTS Travaux Publics</dc:title>
</cp:coreProperties>
</file>