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B81924-945B-4A4D-97C7-818B52A8DC6F}"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98ADC4-8142-49C1-92DD-8D6DFDD11BF3}"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75313-3E81-4FDA-B178-06C421FADEF5}"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A3B27E-C513-407E-8365-B0D4C95135CE}"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1AB60-0E52-463B-B644-3E20F3DAE076}"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D74384-A9B2-4FB1-BE04-F088295A8C07}"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8C722-B665-401D-B279-DB82F0B49E5F}"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273" name="Text Box 4"/>
          <p:cNvSpPr/>
          <p:nvPr/>
        </p:nvSpPr>
        <p:spPr>
          <a:xfrm>
            <a:off x="1079640" y="4500720"/>
            <a:ext cx="5040000" cy="1733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2208BC-3286-4454-B660-E0295612D77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E8450D5-6AD8-4DB0-849C-31A25407D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672FDAE-0B38-407D-8C10-313CE420C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93D9837-E7F8-4B47-ACB8-75CED3EA2EB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67C499-0446-4140-8684-4AEB1C59DF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FD1D1C2-AB3A-4E75-906B-609612776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22DFABC-73EC-4B95-ACCF-AADC506F9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35A4A7-5E11-42AA-B186-23EC9FEAC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9483B24-7F28-4A90-83F3-0DA50BD74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B41F3C9-B14D-4C85-909F-0F979066C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8FB69D3-A741-40B0-9210-E93251BC6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7746507-AFE5-4AA1-AEAA-320D93BCF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1CB8B1-CC4A-400A-898F-0B7A8D936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2D607C-03BE-4B3D-8AFC-59FDC5C89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9D23A3-3132-4939-89F2-9EA5D68F5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7872013-569C-4B24-9878-AE177BED3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4ABEE83-208D-4C02-BA0F-FC77323907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2761917-466B-4981-B42B-DE26D000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74D29C8-8EE4-4DAF-9502-CA41B5E74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5721C9B-B4E2-4C62-AA03-271D0B005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5A9957A-4570-4734-89A1-CA52F000B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4538C8F-FCBB-4C9E-A533-91C002C3640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576CFF0-6576-47AF-878B-CFDBCCFF81B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B4FB725-B7ED-4905-A1E8-560383091D3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2BFB55-990A-48C9-9D6C-554AD716307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C99E888-47DA-40F5-8025-043770C70E0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1E5F64C-831A-490D-884E-0774E6BDF1D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AEF113-B96D-4175-B997-FA7B6754422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89A9E8-5EFB-4BC2-9394-90E344AE252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EC6A4B0-BCF0-4370-867B-585BAF95F8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C54839-C5C2-4AE2-9F4C-5A8207D9C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FAA2EE6-64ED-4F57-A126-89AD0B4C22D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BB4C9E8-52ED-4DB2-BC6C-A9AA62486B2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BBF3599-560E-4ABC-B24D-FC97640414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F3CD36-D6EF-4381-800F-AD5E05622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881B797-FB13-4D1D-92C3-9311EE4592F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90692-7892-4D9E-90A6-9BF5C6A107F1}"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Journée pédagogique pour l’enseignement des scienc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industrielles pour l’ingénieur en CPG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Arial Narrow"/>
              </a:rPr>
              <a:t>                                   </a:t>
            </a:r>
            <a:r>
              <a:rPr b="1" lang="fr-FR" sz="2000" spc="-1" strike="noStrike">
                <a:solidFill>
                  <a:srgbClr val="000000"/>
                </a:solidFill>
                <a:latin typeface="Arial Narrow"/>
              </a:rPr>
              <a:t>à l’ENSAM de Lille, le 25 juin 2012 </a:t>
            </a:r>
            <a:endParaRPr b="0" lang="en-US" sz="20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AE1FE-4F63-46CF-A835-53CE34A5FB9C}"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
        <p:nvSpPr>
          <p:cNvPr id="256" name="ZoneTexte 5"/>
          <p:cNvSpPr/>
          <p:nvPr/>
        </p:nvSpPr>
        <p:spPr>
          <a:xfrm>
            <a:off x="250920" y="2395440"/>
            <a:ext cx="8642160" cy="394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000000"/>
                </a:solidFill>
                <a:latin typeface="Arial"/>
                <a:ea typeface="Calibri"/>
              </a:rPr>
              <a:t>Journée pédagogique pour l’enseignement des sciences industrielles pour l’ingénieur en CPGE</a:t>
            </a:r>
            <a:endParaRPr b="0" lang="en-US" sz="36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Arial"/>
                <a:ea typeface="Calibri"/>
              </a:rPr>
              <a:t> </a:t>
            </a: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25 juin 2012 </a:t>
            </a:r>
            <a:endParaRPr b="0" lang="en-US" sz="24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ENSAM de Lille</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58" name=""/>
          <p:cNvGraphicFramePr/>
          <p:nvPr/>
        </p:nvGraphicFramePr>
        <p:xfrm>
          <a:off x="0" y="1521000"/>
          <a:ext cx="9325080" cy="5422680"/>
        </p:xfrm>
        <a:graphic>
          <a:graphicData uri="http://schemas.openxmlformats.org/drawingml/2006/table">
            <a:tbl>
              <a:tblPr/>
              <a:tblGrid>
                <a:gridCol w="774720"/>
                <a:gridCol w="3227400"/>
                <a:gridCol w="5322960"/>
              </a:tblGrid>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Accueil</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u lycée</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Jacques DIVERCHY</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7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baccalauréat STI2D</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Federico BERERA</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nseignement SI en pré-bac 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Michel GAREL</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es CPGE AT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Dider DUHEM et Philippe MARSE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s en CPGE ATS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6897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1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écoconception</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Olivier FORT</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Chef de travaux du lycée Pierre-Forest – Maubeuge</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60" name=""/>
          <p:cNvGraphicFramePr/>
          <p:nvPr/>
        </p:nvGraphicFramePr>
        <p:xfrm>
          <a:off x="0" y="1628640"/>
          <a:ext cx="9144000" cy="5316840"/>
        </p:xfrm>
        <a:graphic>
          <a:graphicData uri="http://schemas.openxmlformats.org/drawingml/2006/table">
            <a:tbl>
              <a:tblPr/>
              <a:tblGrid>
                <a:gridCol w="758880"/>
                <a:gridCol w="4965480"/>
                <a:gridCol w="3419640"/>
              </a:tblGrid>
              <a:tr h="15782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4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Travaux de recherche découlant de l’utilisation de la modélisation Graphe Informationnel Causal (GIC)</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Richard BEAREE et Julien GOMAND</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Maîtres de Conférences de l’école Arts et Métiers ParisTech – Lille et Aix-en-Provenc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38880" marR="38880">
                    <a:lnL>
                      <a:noFill/>
                    </a:lnL>
                    <a:lnR>
                      <a:noFill/>
                    </a:lnR>
                    <a:lnT>
                      <a:noFill/>
                    </a:lnT>
                    <a:lnB>
                      <a:noFill/>
                    </a:lnB>
                    <a:noFill/>
                  </a:tcPr>
                </a:tc>
              </a:tr>
              <a:tr h="198108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5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langage de description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s processus de modélisation d'un système et démarche de conception à l'aide de l'outil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Exemple d'un modèle MATLAB basé sur une description SysML : étude de la balance HALO</a:t>
                      </a:r>
                      <a:endParaRPr b="0" lang="en-US" sz="18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Yann LE GALLOU</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1262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point de vue des Arts et Métiers : les évolutions, les projets, quels ingénieurs pour demai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4953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30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Échange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DIVERCHY Jean-Jacques</cp:lastModifiedBy>
  <dcterms:modified xsi:type="dcterms:W3CDTF">2012-06-25T19:46:10Z</dcterms:modified>
  <cp:revision>11</cp:revision>
  <dc:subject/>
  <dc:title>Diapositive 1</dc:title>
</cp:coreProperties>
</file>