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5AF4D3-2815-4AE0-A097-2361E61F8D3F}"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46E17C-420C-41C0-857E-B343817D6D7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D5BA9-AB8E-4E9C-8A41-073EB6D3293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871CA6-A662-4BF3-A0AC-7BC77F1F5FEB}"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771F2-C011-4348-AE5A-DBEE56A606E1}"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A5E6DA-A8EA-43EE-8AE5-808E0E291727}"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3A20E7-F800-4824-80EC-56FE4669B34A}"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273" name="Text Box 4"/>
          <p:cNvSpPr/>
          <p:nvPr/>
        </p:nvSpPr>
        <p:spPr>
          <a:xfrm>
            <a:off x="1079640" y="4500720"/>
            <a:ext cx="5040000" cy="1733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9F5D6A-590C-406B-A42D-3FF8EECCF1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ED7F407-C7C9-4059-A9B3-D584A244C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D028798-BAB1-42AD-85F2-B2F0F7892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67CC901-6D28-488A-97DB-EF038784315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037D9A-CF8A-4839-8512-25BD01A3A8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0D9088-B87D-4255-9C1F-9DA4578AF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18E429-C022-46C7-A103-7686BD2EA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BE12EAB-28C0-427E-95AE-ADEBFDFF0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9C96CF1-5A9B-4A04-9CAF-7E71D705E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3C88F6B-597F-4CAA-BACD-32B11CC61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0F15A7-2871-4C4A-8E2B-B83591969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66395B5-2403-4F3D-8831-E9211BC5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5324F62-1FDC-40CF-9439-01DDD7216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8490EB-29DB-4C92-994B-F548C4F7C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524051-D0CA-4182-BB98-E6880D6A4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B05F155-BF66-4981-9CC8-70B500868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F7E0BE3-3FA8-49D1-B55B-901CA1A295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38217C5-56E4-4407-BC51-97EC28CD0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3E9EC5C-AE5A-4016-BF10-FA6E0B5BF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0C9F5E9-C251-421F-BF22-661432E37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1CF30FE-4424-46B4-83E3-A63F51BF1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2E78604-FB96-4135-8E2B-B0439033664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6B59CC-B8E1-4CC9-AB9D-6B257C7451F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BBFEA4A-DBA7-4125-8B51-03F7544DB89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B509A08-0AF5-422B-8845-6B48F89D5FD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4603F584-2B0F-416D-8C77-2BCCFD161A1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1ACA3DC-E79B-4949-84AF-FAF626CEE20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CD614A9-8359-48AB-9519-9C80470C13D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62B00F-334F-4F83-B73B-773D809D37D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E2DB74D-EED4-48AE-8A73-EC803E69EA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F9CB8C4-7EBF-4602-ADD5-EBF632F4E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0732841-F8FC-4BC2-8F64-5EE0C97CF72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4667AAF-B5C6-4FC8-B329-FE981C779C5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ECD99DF-BCA8-47A3-9C26-DB7F2FDD34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17E769-7E9D-440F-9AC5-35C06C63E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D12F55-45D8-4893-BCAB-DD41601EFA5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88046-9823-48AB-8546-408066F588C0}"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Journée pédagogique pour l’enseignement des scienc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industrielles pour l’ingénieur en CP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à l’ENSAM de Lille, le 25 juin 2012 </a:t>
            </a:r>
            <a:endParaRPr b="0" lang="en-US" sz="20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8C484-6B3A-4602-9BEC-9D3CBE613640}"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
        <p:nvSpPr>
          <p:cNvPr id="256" name="ZoneTexte 5"/>
          <p:cNvSpPr/>
          <p:nvPr/>
        </p:nvSpPr>
        <p:spPr>
          <a:xfrm>
            <a:off x="250920" y="2395440"/>
            <a:ext cx="8642160" cy="394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Arial"/>
                <a:ea typeface="Calibri"/>
              </a:rPr>
              <a:t>Journée pédagogique pour l’enseignement des sciences industrielles pour l’ingénieur en CPGE</a:t>
            </a:r>
            <a:endParaRPr b="0" lang="en-US" sz="36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Arial"/>
                <a:ea typeface="Calibri"/>
              </a:rPr>
              <a:t> </a:t>
            </a: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25 juin 2012 </a:t>
            </a:r>
            <a:endParaRPr b="0" lang="en-US" sz="24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ENSAM de Lil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58" name=""/>
          <p:cNvGraphicFramePr/>
          <p:nvPr/>
        </p:nvGraphicFramePr>
        <p:xfrm>
          <a:off x="0" y="1521000"/>
          <a:ext cx="9325080" cy="5422680"/>
        </p:xfrm>
        <a:graphic>
          <a:graphicData uri="http://schemas.openxmlformats.org/drawingml/2006/table">
            <a:tbl>
              <a:tblPr/>
              <a:tblGrid>
                <a:gridCol w="774720"/>
                <a:gridCol w="3227400"/>
                <a:gridCol w="5322960"/>
              </a:tblGrid>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ccueil</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u lycée</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Jacques DIVERCHY</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7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baccalauréat STI2D</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Federico BERERA</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nseignement SI en pré-bac 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Michel GAREL</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es CPGE AT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Dider DUHEM et Philippe MARSE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s en CPGE ATS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6897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1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écoconception</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Olivier FOR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Chef de travaux du lycée Pierre-Forest – Maubeuge</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60" name=""/>
          <p:cNvGraphicFramePr/>
          <p:nvPr/>
        </p:nvGraphicFramePr>
        <p:xfrm>
          <a:off x="0" y="1628640"/>
          <a:ext cx="9144000" cy="5316840"/>
        </p:xfrm>
        <a:graphic>
          <a:graphicData uri="http://schemas.openxmlformats.org/drawingml/2006/table">
            <a:tbl>
              <a:tblPr/>
              <a:tblGrid>
                <a:gridCol w="758880"/>
                <a:gridCol w="4965480"/>
                <a:gridCol w="3419640"/>
              </a:tblGrid>
              <a:tr h="15782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4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Travaux de recherche découlant de l’utilisation de la modélisation Graphe Informationnel Causal (GIC)</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Richard BEAREE et Julien GOMAND</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Maîtres de Conférences de l’école Arts et Métiers ParisTech – Lille et Aix-en-Provenc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38880" marR="38880">
                    <a:lnL>
                      <a:noFill/>
                    </a:lnL>
                    <a:lnR>
                      <a:noFill/>
                    </a:lnR>
                    <a:lnT>
                      <a:noFill/>
                    </a:lnT>
                    <a:lnB>
                      <a:noFill/>
                    </a:lnB>
                    <a:noFill/>
                  </a:tcPr>
                </a:tc>
              </a:tr>
              <a:tr h="198108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5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langage de description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s processus de modélisation d'un système et démarche de conception à l'aide de l'outil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Exemple d'un modèle MATLAB basé sur une description SysML : étude de la balance HALO</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Yann LE GALLOU</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1262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point de vue des Arts et Métiers : les évolutions, les projets, quels ingénieurs pour demai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4953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30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Échange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DIVERCHY Jean-Jacques</cp:lastModifiedBy>
  <dcterms:modified xsi:type="dcterms:W3CDTF">2012-06-25T19:46:10Z</dcterms:modified>
  <cp:revision>11</cp:revision>
  <dc:subject/>
  <dc:title>Diapositive 1</dc:title>
</cp:coreProperties>
</file>