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B14D61-7187-4626-A88B-E812B904A400}"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54B8C3-77FE-441F-8B2B-A73B294F07C3}"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875E8-EBED-4B77-B8FA-03E4E1C75268}"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A0F7BF-A453-426A-987A-71D6972195EE}"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5DD5C-C143-4FA9-A113-32A7663D250A}"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F1CBC9-FE86-442A-9E0C-D3A169CC887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4AB3D-BC52-4ACF-8D00-E6709244F207}"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273" name="Text Box 4"/>
          <p:cNvSpPr/>
          <p:nvPr/>
        </p:nvSpPr>
        <p:spPr>
          <a:xfrm>
            <a:off x="1079640" y="4500720"/>
            <a:ext cx="5040000" cy="1733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CC2091-48CD-47C4-8503-1EECD33045A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27DD27D-A607-445B-A600-EAFEA296E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7213E35-C56E-496B-99F7-00B5742B9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BFBE5ED-FC37-420A-BBDA-5493258AAA6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DBAADD-C52F-4683-A3BB-4A7C3A5BB8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6FEB553-C35C-4A8D-8C3E-DB51AFD4E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30024E-A28B-4580-A555-705A17E80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A26E25-1EBD-4DBB-85E2-A1B09B1D8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A2E95FA-803F-46C5-AAE5-5F5FB95A4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E679AAF-4057-4D00-A8EA-48CE011197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36EFF8-6927-490E-A7BA-B81542A33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B514DE5-9AF8-4B8B-9295-F2B0982D3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AFB1E36-DB6A-484A-A5A8-4EE2BAABA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B40F1D2-9CBF-4912-9378-D4A8315BE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8F90FE-6A47-421F-9DEA-7D7990C7C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D36091B-382D-478D-BE03-4835845A5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5F9C1B3-B32A-4683-8946-64E994E1DB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C29897-A582-4678-B593-F0F2978B9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1784EDF-85B0-4B76-AE98-5F803CC5B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4E332AF-3FED-4AC6-9660-1C02EAE7A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55C73EF-04C1-43E8-A08A-77ECAF277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F7CD96-75FE-4F1C-BCBB-6743F99D1DA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431A4AC-803D-4310-9AB9-18BB666C022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BB352DE-D081-4A86-8A91-43413984638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B2B2C06-602A-42CF-9307-88491574671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B511960-7FC2-41DD-A8EF-C34CBFC3D25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88E15C5-8995-4DDF-BAFE-32E5C013706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AA128D2-4EF0-4B87-A3EE-B4A3654D99F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808088-EB26-4380-B1AA-527A740B550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484227-C5C1-4017-91DC-83C028855B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CC7019-3992-413F-84DF-E6BDD6AA3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C32379A-5390-4309-95C0-2E3BA61C484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3386CA4-1D8E-4DA1-85DF-78FC0B022CF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39EF26F-00A8-46CD-B6BF-C6865C51CA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46B1A7-FAED-4C32-BB78-0475AAC82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C3C8FD5-0530-4E51-805B-CBBCAFFD261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8C0EF-5145-461D-BA00-B5F0A6C9F8AF}"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Journée pédagogique pour l’enseignement des scienc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industrielles pour l’ingénieur en CP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à l’ENSAM de Lille, le 25 juin 2012 </a:t>
            </a:r>
            <a:endParaRPr b="0" lang="en-US" sz="20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A875B-F303-4804-8A4A-47A07CE825A6}"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
        <p:nvSpPr>
          <p:cNvPr id="256" name="ZoneTexte 5"/>
          <p:cNvSpPr/>
          <p:nvPr/>
        </p:nvSpPr>
        <p:spPr>
          <a:xfrm>
            <a:off x="250920" y="2395440"/>
            <a:ext cx="8642160" cy="394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Arial"/>
                <a:ea typeface="Calibri"/>
              </a:rPr>
              <a:t>Journée pédagogique pour l’enseignement des sciences industrielles pour l’ingénieur en CPGE</a:t>
            </a:r>
            <a:endParaRPr b="0" lang="en-US" sz="36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Arial"/>
                <a:ea typeface="Calibri"/>
              </a:rPr>
              <a:t> </a:t>
            </a: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25 juin 2012 </a:t>
            </a:r>
            <a:endParaRPr b="0" lang="en-US" sz="24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ENSAM de Lil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58" name=""/>
          <p:cNvGraphicFramePr/>
          <p:nvPr/>
        </p:nvGraphicFramePr>
        <p:xfrm>
          <a:off x="0" y="1521000"/>
          <a:ext cx="9325080" cy="5422680"/>
        </p:xfrm>
        <a:graphic>
          <a:graphicData uri="http://schemas.openxmlformats.org/drawingml/2006/table">
            <a:tbl>
              <a:tblPr/>
              <a:tblGrid>
                <a:gridCol w="774720"/>
                <a:gridCol w="3227400"/>
                <a:gridCol w="5322960"/>
              </a:tblGrid>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ccueil</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u lycée</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Jacques DIVERCHY</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7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baccalauréat STI2D</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Federico BERERA</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nseignement SI en pré-bac 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Michel GAREL</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es CPGE AT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Dider DUHEM et Philippe MARSE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s en CPGE ATS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6897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1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écoconception</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Olivier FOR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Chef de travaux du lycée Pierre-Forest – Maubeuge</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60" name=""/>
          <p:cNvGraphicFramePr/>
          <p:nvPr/>
        </p:nvGraphicFramePr>
        <p:xfrm>
          <a:off x="0" y="1628640"/>
          <a:ext cx="9144000" cy="5316840"/>
        </p:xfrm>
        <a:graphic>
          <a:graphicData uri="http://schemas.openxmlformats.org/drawingml/2006/table">
            <a:tbl>
              <a:tblPr/>
              <a:tblGrid>
                <a:gridCol w="758880"/>
                <a:gridCol w="4965480"/>
                <a:gridCol w="3419640"/>
              </a:tblGrid>
              <a:tr h="15782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4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Travaux de recherche découlant de l’utilisation de la modélisation Graphe Informationnel Causal (GIC)</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Richard BEAREE et Julien GOMAND</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Maîtres de Conférences de l’école Arts et Métiers ParisTech – Lille et Aix-en-Provenc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38880" marR="38880">
                    <a:lnL>
                      <a:noFill/>
                    </a:lnL>
                    <a:lnR>
                      <a:noFill/>
                    </a:lnR>
                    <a:lnT>
                      <a:noFill/>
                    </a:lnT>
                    <a:lnB>
                      <a:noFill/>
                    </a:lnB>
                    <a:noFill/>
                  </a:tcPr>
                </a:tc>
              </a:tr>
              <a:tr h="198108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5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langage de description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s processus de modélisation d'un système et démarche de conception à l'aide de l'outil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Exemple d'un modèle MATLAB basé sur une description SysML : étude de la balance HALO</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Yann LE GALLOU</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1262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point de vue des Arts et Métiers : les évolutions, les projets, quels ingénieurs pour demai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4953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30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Échange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DIVERCHY Jean-Jacques</cp:lastModifiedBy>
  <dcterms:modified xsi:type="dcterms:W3CDTF">2012-06-25T19:46:10Z</dcterms:modified>
  <cp:revision>11</cp:revision>
  <dc:subject/>
  <dc:title>Diapositive 1</dc:title>
</cp:coreProperties>
</file>