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.png" ContentType="image/png"/>
  <Override PartName="/ppt/media/image31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AD7-1303-43FA-97CB-2A727F09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203-56A7-4822-9193-AD5F1BDF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94A-C9C5-4252-807E-3F85C8B4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24176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864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33520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24176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2E8-BE2E-4EF6-A4CF-D0D28748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6AEA-3ABE-45AB-B083-D075568D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A881-35E5-49DB-8332-D8E1D6CC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4406-07A6-4568-9DE8-8357B5B7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F32C-C5FA-4A16-AC94-54125D45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DE06-6F5E-4CC0-AF1C-A577BF0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3673-27E7-447D-8514-D1818949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93CB-B43E-4BDD-9CB3-7D3722C0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AF8-B431-4955-997C-DFCA33B5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DB93-A8EC-47F4-AD3B-6AFE60E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C3CE-A41C-4D1E-B35D-A7768A6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A9C5-1692-41D2-ABE5-A38D114E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6697-83FC-4A9E-AAAA-52B409C5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4176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42864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3520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4176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7348-E8EE-46CE-9B6E-832076F4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8EA-4319-45CF-834D-DB10CFAB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3EF-0820-4482-8620-A5530A1D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AB0-1851-4F54-A58E-7559520E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28C-A757-4A80-8729-EF0D3F90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D82-A369-45C6-A0F7-DA9FFF39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7F9-DF48-4C4C-9BDC-A4E9EF0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91C-98F3-425A-B558-160E57EA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71C7-3F61-45AE-A4B8-3766D95166D0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D507-BDBC-4406-ADC5-0F4653ADB06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38080" y="1066680"/>
            <a:ext cx="82011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RANSFORMATEURS DE MOU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ahoma"/>
              </a:rPr>
              <a:t>PIGNON-CREMAILL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733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ahoma"/>
              </a:rPr>
              <a:t>VIS-ECR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2004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ahoma"/>
              </a:rPr>
              <a:t>C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876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ahoma"/>
              </a:rPr>
              <a:t>BIELLE-MANIV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3434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ahoma"/>
              </a:rPr>
              <a:t>EXCEN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019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ahoma"/>
              </a:rPr>
              <a:t>CROIX de MAL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41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ahoma"/>
              </a:rPr>
              <a:t>MANIVELLE-CADRE à COUL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1523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Exe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16765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Ouvre porte FAIVEL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400" y="68580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VIS-ECROU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58" name="faiveley2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81536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14400" y="68580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à EXCENTRIQU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07324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’entré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523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Princi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89548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057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e sorti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2971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TRANSLATION ALTERN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90720" y="457200"/>
            <a:ext cx="556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à EXCENTRIQU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295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EXE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76720" y="17524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Taille-Haies PEUGE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excentrique_ex3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58676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68580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BIELLE-MANIVELL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3781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’entré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828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Princi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291132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3623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e sorti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291132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ALTERN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14400" y="68580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BIELLE-MANIVELL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828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Exe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175248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icro-moteur 2 temps WEBRA 5 cm</a:t>
            </a:r>
            <a:r>
              <a:rPr b="1" lang="fr-FR" sz="2000" spc="-1" strike="noStrike" baseline="30000">
                <a:solidFill>
                  <a:srgbClr val="ffffff"/>
                </a:solidFill>
                <a:latin typeface="Tahoma"/>
              </a:rPr>
              <a:t>3  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pour modèle rédu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819520" cy="1762200"/>
          </a:xfrm>
          <a:prstGeom prst="rect">
            <a:avLst/>
          </a:prstGeom>
          <a:ln w="0">
            <a:noFill/>
          </a:ln>
        </p:spPr>
      </p:pic>
      <p:pic>
        <p:nvPicPr>
          <p:cNvPr id="188" name="bielle_maniv_ex5" descr=""/>
          <p:cNvPicPr/>
          <p:nvPr/>
        </p:nvPicPr>
        <p:blipFill>
          <a:blip r:embed="rId2"/>
          <a:stretch/>
        </p:blipFill>
        <p:spPr>
          <a:xfrm>
            <a:off x="3352680" y="2963880"/>
            <a:ext cx="563904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14400" y="68580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BIELLE-MANIVELL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828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Exe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1889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Marteau perforateur électro-pneumatique HIL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819520" cy="1762200"/>
          </a:xfrm>
          <a:prstGeom prst="rect">
            <a:avLst/>
          </a:prstGeom>
          <a:ln w="0">
            <a:noFill/>
          </a:ln>
        </p:spPr>
      </p:pic>
      <p:pic>
        <p:nvPicPr>
          <p:cNvPr id="194" name="bielle_maniv_ex3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563868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880" y="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BIELLE-MANIVELL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762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PRINCIPE DE FONCTIONNEMENT D’UN COMPRESSEU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540160" cy="4267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89480" y="141300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600200"/>
            <a:ext cx="5410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Quand le piston descend, le clapet violet s’ouvre et permet à l’air de pénétrer dans la chambre de compres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Le piston arrivant au point mort bas,,il remonte afin de comprimer l’air emprisonné qui sera porté à la pression d’utilisation (tarage des clapets), le clapet jaune s’ouvrant, l’air comprimé sera canalisé dansune cuve de stockage à la pression d’utilis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14400" y="685800"/>
            <a:ext cx="6629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MANIVELLE - CADRE à COULISS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3781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’entré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828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Princi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91132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23623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e sorti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291132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ALTERN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3057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914400" y="685800"/>
            <a:ext cx="6629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MANIVELLE - CADRE à COULISS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828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Exe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19051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Ponceuse à vibrations rotatives FE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manivelle_coul_ex2" descr=""/>
          <p:cNvPicPr/>
          <p:nvPr/>
        </p:nvPicPr>
        <p:blipFill>
          <a:blip r:embed="rId1"/>
          <a:stretch/>
        </p:blipFill>
        <p:spPr>
          <a:xfrm>
            <a:off x="3200400" y="2465280"/>
            <a:ext cx="5791320" cy="4164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914400" y="6858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à CROIX de MALT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996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’entré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447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Princi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9718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98108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e sorti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31240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DIS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95480" y="4800600"/>
            <a:ext cx="3048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6765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ahoma"/>
              </a:rPr>
              <a:t>Transformer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la</a:t>
            </a:r>
            <a:r>
              <a:rPr b="0" lang="fr-F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ff00"/>
                </a:solidFill>
                <a:latin typeface="Tahoma"/>
              </a:rPr>
              <a:t>nature du mouvement</a:t>
            </a:r>
            <a:r>
              <a:rPr b="0" lang="fr-F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ourni par l’organe</a:t>
            </a:r>
            <a:r>
              <a:rPr b="0" lang="fr-F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0033"/>
                </a:solidFill>
                <a:latin typeface="Tahoma"/>
              </a:rPr>
              <a:t>moteur</a:t>
            </a:r>
            <a:r>
              <a:rPr b="0" lang="fr-F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pour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ahoma"/>
              </a:rPr>
              <a:t>l’adapter au besoin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de l’organe</a:t>
            </a:r>
            <a:r>
              <a:rPr b="0" lang="fr-F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0033"/>
                </a:solidFill>
                <a:latin typeface="Tahoma"/>
              </a:rPr>
              <a:t>récepte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fonction%20service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095880" cy="246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066680" y="762120"/>
            <a:ext cx="412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Fonction de servic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14400" y="6858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à CROIX de MALT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16002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Plateau tournant de machine transfe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447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Exe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8" name="croix_malte_ex3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400800" cy="45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5181480"/>
            <a:ext cx="396216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838080"/>
            <a:ext cx="3886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Principaux cas: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91440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’entrée peut êtr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752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ahoma"/>
              </a:rPr>
              <a:t>une 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828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ahoma"/>
              </a:rPr>
              <a:t>une TRANS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9880" y="2514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4400" y="68580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PIGNON-CREMAILLER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996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’entré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447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Princi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59092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TRANS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CONTIN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98108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e sorti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253044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TRANSLATION 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CONTIN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14400" y="68580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PIGNON-CREMAILLERE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523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Exe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16606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Boîtier de direction de voiture de tourism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gnon_crem_ex3" descr=""/>
          <p:cNvPicPr/>
          <p:nvPr/>
        </p:nvPicPr>
        <p:blipFill>
          <a:blip r:embed="rId1"/>
          <a:stretch/>
        </p:blipFill>
        <p:spPr>
          <a:xfrm>
            <a:off x="2819520" y="2279520"/>
            <a:ext cx="63244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14400" y="68580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à CAMES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3781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’entré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828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Princi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1240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3623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e sorti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20040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ALTERN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68580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à CAMES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40226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ame dis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447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Différents types de cam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2193840"/>
            <a:ext cx="2895840" cy="1809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90720" y="4479840"/>
            <a:ext cx="304776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57800" y="4479840"/>
            <a:ext cx="3048120" cy="1905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638496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ame à tambour rainur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40068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ame à tambo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638496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ame à plateau rainur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257800" y="213372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400" y="68580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à CAMES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523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Distribution d’un moteur de voiture de touri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447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Exe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5" name="came_ex5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61722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14400" y="68580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ff0000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Tahoma"/>
              </a:rPr>
              <a:t>Système VIS-ECROU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ff0000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07324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’entré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523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Princi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60676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 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TRANS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77120" y="76320"/>
            <a:ext cx="2666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RANSFORMATEURS DE MOUVEMENT</a:t>
            </a:r>
            <a:endParaRPr b="0" i="1" lang="en-US" sz="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057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e mouvement de sortie e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60676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TRANSLATION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Tahoma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i</cp:lastModifiedBy>
  <dcterms:modified xsi:type="dcterms:W3CDTF">2001-03-06T20:01:39Z</dcterms:modified>
  <cp:revision>27</cp:revision>
  <dc:subject/>
  <dc:title>Présentation PowerPoint</dc:title>
</cp:coreProperties>
</file>