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144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472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6400" y="1447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7720" y="1447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144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6400" y="41144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7720" y="41144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472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144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947960" indent="-4572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2519280" indent="-38088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090960" indent="-38124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090960" indent="-38124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090960" indent="-38124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66680"/>
            <a:ext cx="876312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3- Structure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t topologie des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240" y="40381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Tout est en place pour communiquer !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29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Mais concrètement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pologie des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Bus 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  <a:ea typeface="Times New Roman"/>
              </a:rPr>
              <a:t>(parfois appelé épine dorsa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096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9000" indent="-189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orsqu’une connexion est défaillante (carte, câble…), l’ensemble du réseau est affecté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200400"/>
            <a:ext cx="807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9000" indent="-1890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haque extrémité du câble doit disposer d’un bouchon de terminaison qui empêchent les signaux d’être ré-émis dans l’autre sens afin de libérer la parole pour une autre machine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19920" y="4478400"/>
            <a:ext cx="26668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562720" y="2666880"/>
            <a:ext cx="2743200" cy="2743200"/>
          </a:xfrm>
          <a:prstGeom prst="ellipse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pologie des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nnea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es ordinateurs sont reliés par un même câble circulaire ininterrompu. Les informations parcourent l’anneau dans un seul sens jusqu’à atteindre leur cible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1104840" cy="1222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324480" y="1981080"/>
            <a:ext cx="1105200" cy="122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400800" y="5105520"/>
            <a:ext cx="1104840" cy="122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848720" y="3581280"/>
            <a:ext cx="1104840" cy="1222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5887800" y="3021120"/>
            <a:ext cx="111600" cy="12924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18840" y="2996640"/>
            <a:ext cx="135720" cy="10224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792560" y="5002920"/>
            <a:ext cx="111240" cy="1288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886720" y="4927680"/>
            <a:ext cx="113760" cy="1263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5791320" y="2895480"/>
            <a:ext cx="2286000" cy="2286000"/>
            <a:chOff x="5791320" y="2895480"/>
            <a:chExt cx="2286000" cy="2286000"/>
          </a:xfrm>
        </p:grpSpPr>
        <p:sp>
          <p:nvSpPr>
            <p:cNvPr id="99" name=""/>
            <p:cNvSpPr/>
            <p:nvPr/>
          </p:nvSpPr>
          <p:spPr>
            <a:xfrm flipH="1">
              <a:off x="5791320" y="2895480"/>
              <a:ext cx="2286000" cy="2286000"/>
            </a:xfrm>
            <a:prstGeom prst="ellipse">
              <a:avLst/>
            </a:prstGeom>
            <a:noFill/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7713720" y="3190680"/>
              <a:ext cx="92880" cy="10692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84720" y="3169800"/>
              <a:ext cx="112680" cy="8532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26120" y="4842000"/>
              <a:ext cx="92880" cy="10728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713000" y="4779720"/>
              <a:ext cx="94320" cy="105120"/>
            </a:xfrm>
            <a:prstGeom prst="line">
              <a:avLst/>
            </a:prstGeom>
            <a:ln w="572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562720" y="2666880"/>
            <a:ext cx="2743200" cy="2743200"/>
            <a:chOff x="5562720" y="2666880"/>
            <a:chExt cx="2743200" cy="2743200"/>
          </a:xfrm>
        </p:grpSpPr>
        <p:sp>
          <p:nvSpPr>
            <p:cNvPr id="105" name=""/>
            <p:cNvSpPr/>
            <p:nvPr/>
          </p:nvSpPr>
          <p:spPr>
            <a:xfrm>
              <a:off x="5562720" y="2666880"/>
              <a:ext cx="2743200" cy="2743200"/>
            </a:xfrm>
            <a:prstGeom prst="ellipse">
              <a:avLst/>
            </a:prstGeom>
            <a:noFill/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887800" y="3021120"/>
              <a:ext cx="111600" cy="12924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18840" y="2996640"/>
              <a:ext cx="135720" cy="10224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792560" y="5002920"/>
              <a:ext cx="111240" cy="12888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5886720" y="4927680"/>
              <a:ext cx="113760" cy="12636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pologie des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nnea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En cas de défaillance d’un nœud, tous les ordinateurs situés avant le secteur en panne peuvent continuer à communiquer (dans un seul sens et dans le cas où il n’y a pas besoin de retour d’information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Ce problème est en partie réglé par les structures en double boucle où les données circulent dans un sens dans une boucle et dans l’autre dans le seconde boucle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1104840" cy="122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24480" y="1981080"/>
            <a:ext cx="1105200" cy="1222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400800" y="5102280"/>
            <a:ext cx="1104840" cy="122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848720" y="3581280"/>
            <a:ext cx="1104840" cy="1222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29200" y="3657600"/>
            <a:ext cx="762120" cy="685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7" name=""/>
          <p:cNvCxnSpPr/>
          <p:nvPr/>
        </p:nvCxnSpPr>
        <p:spPr>
          <a:xfrm rot="5400000">
            <a:off x="4056480" y="4019760"/>
            <a:ext cx="2097360" cy="1372320"/>
          </a:xfrm>
          <a:prstGeom prst="bentConnector3">
            <a:avLst>
              <a:gd name="adj1" fmla="val 49957"/>
            </a:avLst>
          </a:prstGeom>
          <a:ln w="57240">
            <a:solidFill>
              <a:srgbClr val="ffffcc"/>
            </a:solidFill>
            <a:miter/>
          </a:ln>
        </p:spPr>
      </p:cxnSp>
      <p:cxnSp>
        <p:nvCxnSpPr>
          <p:cNvPr id="118" name=""/>
          <p:cNvCxnSpPr>
            <a:endCxn id="119" idx="0"/>
          </p:cNvCxnSpPr>
          <p:nvPr/>
        </p:nvCxnSpPr>
        <p:spPr>
          <a:xfrm rot="5400000">
            <a:off x="5038200" y="4200120"/>
            <a:ext cx="1524600" cy="438840"/>
          </a:xfrm>
          <a:prstGeom prst="bentConnector3">
            <a:avLst>
              <a:gd name="adj1" fmla="val 86348"/>
            </a:avLst>
          </a:prstGeom>
          <a:ln w="57240">
            <a:solidFill>
              <a:srgbClr val="ffffcc"/>
            </a:solidFill>
            <a:miter/>
          </a:ln>
        </p:spPr>
      </p:cxnSp>
      <p:cxnSp>
        <p:nvCxnSpPr>
          <p:cNvPr id="120" name=""/>
          <p:cNvCxnSpPr>
            <a:endCxn id="121" idx="0"/>
          </p:cNvCxnSpPr>
          <p:nvPr/>
        </p:nvCxnSpPr>
        <p:spPr>
          <a:xfrm flipH="1" rot="16200000">
            <a:off x="5943600" y="4171320"/>
            <a:ext cx="1524600" cy="496080"/>
          </a:xfrm>
          <a:prstGeom prst="bentConnector3">
            <a:avLst>
              <a:gd name="adj1" fmla="val 86962"/>
            </a:avLst>
          </a:prstGeom>
          <a:ln w="57240">
            <a:solidFill>
              <a:srgbClr val="ffffcc"/>
            </a:solidFill>
            <a:miter/>
          </a:ln>
        </p:spPr>
      </p:cxnSp>
      <p:cxnSp>
        <p:nvCxnSpPr>
          <p:cNvPr id="122" name=""/>
          <p:cNvCxnSpPr>
            <a:endCxn id="123" idx="0"/>
          </p:cNvCxnSpPr>
          <p:nvPr/>
        </p:nvCxnSpPr>
        <p:spPr>
          <a:xfrm flipH="1" rot="16200000">
            <a:off x="6790320" y="3647520"/>
            <a:ext cx="1600920" cy="1467720"/>
          </a:xfrm>
          <a:prstGeom prst="bentConnector3">
            <a:avLst>
              <a:gd name="adj1" fmla="val 72312"/>
            </a:avLst>
          </a:prstGeom>
          <a:ln w="57240">
            <a:solidFill>
              <a:srgbClr val="ffffcc"/>
            </a:solidFill>
            <a:miter/>
          </a:ln>
        </p:spPr>
      </p:cxn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pologie des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nnea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ans la réalité, les ordinateurs ne sont pas reliés physiquement en boucle mais à un répartiteur qui gère la communication en répartissant le temps de parole et le tour de rôle auprès de chaque ordinateur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57600" y="5181480"/>
            <a:ext cx="1104840" cy="1222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772400" y="5181480"/>
            <a:ext cx="1104840" cy="122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029200" y="5181480"/>
            <a:ext cx="1104840" cy="122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400800" y="5181480"/>
            <a:ext cx="1104840" cy="1222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962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3962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3962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5486400" y="3200400"/>
            <a:ext cx="190512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982960" cy="1028880"/>
          </a:xfrm>
          <a:prstGeom prst="rect">
            <a:avLst/>
          </a:prstGeom>
          <a:ln w="0">
            <a:noFill/>
          </a:ln>
        </p:spPr>
      </p:pic>
      <p:cxnSp>
        <p:nvCxnSpPr>
          <p:cNvPr id="136" name=""/>
          <p:cNvCxnSpPr/>
          <p:nvPr/>
        </p:nvCxnSpPr>
        <p:spPr>
          <a:xfrm rot="5400000">
            <a:off x="4056480" y="4019760"/>
            <a:ext cx="2097360" cy="1372320"/>
          </a:xfrm>
          <a:prstGeom prst="bentConnector3">
            <a:avLst>
              <a:gd name="adj1" fmla="val 49957"/>
            </a:avLst>
          </a:prstGeom>
          <a:ln w="57240">
            <a:solidFill>
              <a:srgbClr val="ffffcc"/>
            </a:solidFill>
            <a:miter/>
          </a:ln>
        </p:spPr>
      </p:cxnSp>
      <p:cxnSp>
        <p:nvCxnSpPr>
          <p:cNvPr id="137" name=""/>
          <p:cNvCxnSpPr>
            <a:endCxn id="138" idx="0"/>
          </p:cNvCxnSpPr>
          <p:nvPr/>
        </p:nvCxnSpPr>
        <p:spPr>
          <a:xfrm rot="5400000">
            <a:off x="5228640" y="4009680"/>
            <a:ext cx="1524600" cy="819720"/>
          </a:xfrm>
          <a:prstGeom prst="bentConnector3">
            <a:avLst>
              <a:gd name="adj1" fmla="val 84577"/>
            </a:avLst>
          </a:prstGeom>
          <a:ln w="57240">
            <a:solidFill>
              <a:srgbClr val="ffffcc"/>
            </a:solidFill>
            <a:miter/>
          </a:ln>
        </p:spPr>
      </p:cxnSp>
      <p:cxnSp>
        <p:nvCxnSpPr>
          <p:cNvPr id="139" name=""/>
          <p:cNvCxnSpPr>
            <a:endCxn id="140" idx="0"/>
          </p:cNvCxnSpPr>
          <p:nvPr/>
        </p:nvCxnSpPr>
        <p:spPr>
          <a:xfrm flipH="1" rot="16200000">
            <a:off x="6142680" y="4371480"/>
            <a:ext cx="1448280" cy="172440"/>
          </a:xfrm>
          <a:prstGeom prst="bentConnector3">
            <a:avLst>
              <a:gd name="adj1" fmla="val 65987"/>
            </a:avLst>
          </a:prstGeom>
          <a:ln w="57240">
            <a:solidFill>
              <a:srgbClr val="ffffcc"/>
            </a:solidFill>
            <a:miter/>
          </a:ln>
        </p:spPr>
      </p:cxnSp>
      <p:cxnSp>
        <p:nvCxnSpPr>
          <p:cNvPr id="141" name=""/>
          <p:cNvCxnSpPr>
            <a:endCxn id="142" idx="0"/>
          </p:cNvCxnSpPr>
          <p:nvPr/>
        </p:nvCxnSpPr>
        <p:spPr>
          <a:xfrm flipH="1" rot="16200000">
            <a:off x="6904440" y="3762000"/>
            <a:ext cx="1448280" cy="1391040"/>
          </a:xfrm>
          <a:prstGeom prst="bentConnector3">
            <a:avLst>
              <a:gd name="adj1" fmla="val 50000"/>
            </a:avLst>
          </a:prstGeom>
          <a:ln w="57240">
            <a:solidFill>
              <a:srgbClr val="ffffcc"/>
            </a:solidFill>
            <a:miter/>
          </a:ln>
        </p:spPr>
      </p:cxn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pologie des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9966"/>
                </a:solidFill>
                <a:latin typeface="Arial"/>
              </a:rPr>
              <a:t>Etoi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es ordinateurs sont tous reliés à un point central (hub ou switch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es informations transitent toutes par ce point centra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taille du réseau est limitée par le nombre de ports disponible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657600" y="5181480"/>
            <a:ext cx="1104840" cy="1222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772400" y="5181480"/>
            <a:ext cx="1104840" cy="1222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029200" y="5181480"/>
            <a:ext cx="1104840" cy="1222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6400800" y="5181480"/>
            <a:ext cx="110484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982960" cy="1028880"/>
          </a:xfrm>
          <a:prstGeom prst="rect">
            <a:avLst/>
          </a:prstGeom>
          <a:ln w="0">
            <a:noFill/>
          </a:ln>
        </p:spPr>
      </p:pic>
      <p:cxnSp>
        <p:nvCxnSpPr>
          <p:cNvPr id="150" name=""/>
          <p:cNvCxnSpPr/>
          <p:nvPr/>
        </p:nvCxnSpPr>
        <p:spPr>
          <a:xfrm rot="5400000">
            <a:off x="4056480" y="4019760"/>
            <a:ext cx="2097360" cy="1372320"/>
          </a:xfrm>
          <a:prstGeom prst="bentConnector3">
            <a:avLst>
              <a:gd name="adj1" fmla="val 49957"/>
            </a:avLst>
          </a:prstGeom>
          <a:ln w="57240">
            <a:solidFill>
              <a:srgbClr val="ffffcc"/>
            </a:solidFill>
            <a:miter/>
          </a:ln>
        </p:spPr>
      </p:cxnSp>
      <p:cxnSp>
        <p:nvCxnSpPr>
          <p:cNvPr id="151" name=""/>
          <p:cNvCxnSpPr>
            <a:endCxn id="152" idx="0"/>
          </p:cNvCxnSpPr>
          <p:nvPr/>
        </p:nvCxnSpPr>
        <p:spPr>
          <a:xfrm rot="5400000">
            <a:off x="5228640" y="4009680"/>
            <a:ext cx="1524600" cy="819720"/>
          </a:xfrm>
          <a:prstGeom prst="bentConnector3">
            <a:avLst>
              <a:gd name="adj1" fmla="val 84577"/>
            </a:avLst>
          </a:prstGeom>
          <a:ln w="57240">
            <a:solidFill>
              <a:srgbClr val="ffffcc"/>
            </a:solidFill>
            <a:miter/>
          </a:ln>
        </p:spPr>
      </p:cxnSp>
      <p:cxnSp>
        <p:nvCxnSpPr>
          <p:cNvPr id="153" name=""/>
          <p:cNvCxnSpPr>
            <a:endCxn id="154" idx="0"/>
          </p:cNvCxnSpPr>
          <p:nvPr/>
        </p:nvCxnSpPr>
        <p:spPr>
          <a:xfrm flipH="1" rot="16200000">
            <a:off x="6142680" y="4371480"/>
            <a:ext cx="1448280" cy="172440"/>
          </a:xfrm>
          <a:prstGeom prst="bentConnector3">
            <a:avLst>
              <a:gd name="adj1" fmla="val 65987"/>
            </a:avLst>
          </a:prstGeom>
          <a:ln w="57240">
            <a:solidFill>
              <a:srgbClr val="ffffcc"/>
            </a:solidFill>
            <a:miter/>
          </a:ln>
        </p:spPr>
      </p:cxnSp>
      <p:cxnSp>
        <p:nvCxnSpPr>
          <p:cNvPr id="155" name=""/>
          <p:cNvCxnSpPr>
            <a:endCxn id="156" idx="0"/>
          </p:cNvCxnSpPr>
          <p:nvPr/>
        </p:nvCxnSpPr>
        <p:spPr>
          <a:xfrm flipH="1" rot="16200000">
            <a:off x="6904440" y="3762000"/>
            <a:ext cx="1448280" cy="1391040"/>
          </a:xfrm>
          <a:prstGeom prst="bentConnector3">
            <a:avLst>
              <a:gd name="adj1" fmla="val 50000"/>
            </a:avLst>
          </a:prstGeom>
          <a:ln w="57240">
            <a:solidFill>
              <a:srgbClr val="ffffcc"/>
            </a:solidFill>
            <a:miter/>
          </a:ln>
        </p:spPr>
      </p:cxn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pologie des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toi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orsqu’un câble ou un ordinateur est défaillant, il n’affecte pas le fonctionnement du réseau. Par contre, lorsque le concentrateur est défaillant, tout le réseau est bloqué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657600" y="5181480"/>
            <a:ext cx="1104840" cy="122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772400" y="5181480"/>
            <a:ext cx="1104840" cy="1222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29200" y="5181480"/>
            <a:ext cx="1104840" cy="1222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400800" y="5181480"/>
            <a:ext cx="1104840" cy="1222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648320" y="4343400"/>
            <a:ext cx="761760" cy="685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987720" y="5637240"/>
            <a:ext cx="4316400" cy="1051200"/>
            <a:chOff x="3987720" y="5637240"/>
            <a:chExt cx="4316400" cy="1051200"/>
          </a:xfrm>
        </p:grpSpPr>
        <p:sp>
          <p:nvSpPr>
            <p:cNvPr id="165" name=""/>
            <p:cNvSpPr/>
            <p:nvPr/>
          </p:nvSpPr>
          <p:spPr>
            <a:xfrm>
              <a:off x="4303800" y="5991120"/>
              <a:ext cx="26208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27600" y="5637240"/>
              <a:ext cx="0" cy="353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65520" y="6008760"/>
              <a:ext cx="0" cy="353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6760" y="6008760"/>
              <a:ext cx="0" cy="353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02400" y="5997600"/>
              <a:ext cx="0" cy="353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7720" y="6289560"/>
              <a:ext cx="108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capteu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54760" y="6289560"/>
              <a:ext cx="139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actionneu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26360" y="6289560"/>
              <a:ext cx="18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automatisme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V="1">
            <a:off x="1046160" y="2251080"/>
            <a:ext cx="0" cy="1681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6160" y="1755360"/>
            <a:ext cx="5303880" cy="1030320"/>
            <a:chOff x="146160" y="1755360"/>
            <a:chExt cx="5303880" cy="1030320"/>
          </a:xfrm>
        </p:grpSpPr>
        <p:sp>
          <p:nvSpPr>
            <p:cNvPr id="175" name=""/>
            <p:cNvSpPr/>
            <p:nvPr/>
          </p:nvSpPr>
          <p:spPr>
            <a:xfrm>
              <a:off x="146160" y="2266920"/>
              <a:ext cx="53038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914400" y="1755360"/>
              <a:ext cx="0" cy="500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548080" y="1828800"/>
              <a:ext cx="0" cy="450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37200" y="1871280"/>
              <a:ext cx="0" cy="414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822320" y="2285640"/>
              <a:ext cx="0" cy="500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56000" y="2249280"/>
              <a:ext cx="0" cy="414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ructure d’un réseau industri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278320" y="1770120"/>
            <a:ext cx="1404000" cy="753840"/>
            <a:chOff x="5278320" y="1770120"/>
            <a:chExt cx="1404000" cy="753840"/>
          </a:xfrm>
        </p:grpSpPr>
        <p:sp>
          <p:nvSpPr>
            <p:cNvPr id="183" name=""/>
            <p:cNvSpPr/>
            <p:nvPr/>
          </p:nvSpPr>
          <p:spPr>
            <a:xfrm flipV="1">
              <a:off x="6095520" y="1770120"/>
              <a:ext cx="586800" cy="3268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8320" y="1927080"/>
              <a:ext cx="927360" cy="596880"/>
            </a:xfrm>
            <a:prstGeom prst="flowChartAlternateProcess">
              <a:avLst/>
            </a:prstGeom>
            <a:solidFill>
              <a:srgbClr val="ff9900"/>
            </a:soli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routeur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63680" y="4370400"/>
            <a:ext cx="4657680" cy="952560"/>
            <a:chOff x="463680" y="4370400"/>
            <a:chExt cx="4657680" cy="952560"/>
          </a:xfrm>
        </p:grpSpPr>
        <p:grpSp>
          <p:nvGrpSpPr>
            <p:cNvPr id="186" name=""/>
            <p:cNvGrpSpPr/>
            <p:nvPr/>
          </p:nvGrpSpPr>
          <p:grpSpPr>
            <a:xfrm>
              <a:off x="463680" y="4370400"/>
              <a:ext cx="4657680" cy="482760"/>
              <a:chOff x="463680" y="4370400"/>
              <a:chExt cx="4657680" cy="482760"/>
            </a:xfrm>
          </p:grpSpPr>
          <p:sp>
            <p:nvSpPr>
              <p:cNvPr id="187" name=""/>
              <p:cNvSpPr/>
              <p:nvPr/>
            </p:nvSpPr>
            <p:spPr>
              <a:xfrm>
                <a:off x="463680" y="4840200"/>
                <a:ext cx="465768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38160" y="4400640"/>
                <a:ext cx="0" cy="4525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92280" y="4370400"/>
                <a:ext cx="0" cy="4525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3360" y="4394160"/>
                <a:ext cx="0" cy="4525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189080" y="4857840"/>
              <a:ext cx="0" cy="45252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74840" y="4870440"/>
              <a:ext cx="0" cy="45252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97360" y="4844880"/>
              <a:ext cx="0" cy="45252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81040" y="5068800"/>
            <a:ext cx="4724280" cy="860400"/>
            <a:chOff x="581040" y="5068800"/>
            <a:chExt cx="4724280" cy="86040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581040" y="5068800"/>
              <a:ext cx="9698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676600" y="5106960"/>
              <a:ext cx="927000" cy="596880"/>
            </a:xfrm>
            <a:prstGeom prst="flowChartAlternateProcess">
              <a:avLst/>
            </a:prstGeom>
            <a:solidFill>
              <a:srgbClr val="ff9900"/>
            </a:soli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robo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78320" y="5113440"/>
              <a:ext cx="927000" cy="596880"/>
            </a:xfrm>
            <a:prstGeom prst="flowChartAlternateProcess">
              <a:avLst/>
            </a:prstGeom>
            <a:solidFill>
              <a:srgbClr val="ff9900"/>
            </a:soli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"/>
                </a:rPr>
                <a:t>API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450120" y="1305000"/>
            <a:ext cx="2449440" cy="1011240"/>
            <a:chOff x="6450120" y="1305000"/>
            <a:chExt cx="2449440" cy="1011240"/>
          </a:xfrm>
        </p:grpSpPr>
        <p:sp>
          <p:nvSpPr>
            <p:cNvPr id="199" name=""/>
            <p:cNvSpPr/>
            <p:nvPr/>
          </p:nvSpPr>
          <p:spPr>
            <a:xfrm>
              <a:off x="7364520" y="1805040"/>
              <a:ext cx="5731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7601040" y="1554120"/>
              <a:ext cx="12985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450120" y="1305000"/>
              <a:ext cx="1011240" cy="1011240"/>
            </a:xfrm>
            <a:prstGeom prst="ellipse">
              <a:avLst/>
            </a:prstGeom>
            <a:solidFill>
              <a:srgbClr val="9966ff"/>
            </a:solidFill>
            <a:ln w="3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cc"/>
                  </a:solidFill>
                  <a:latin typeface="Arial"/>
                </a:rPr>
                <a:t>WEB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66760" y="2364840"/>
            <a:ext cx="3837600" cy="1123560"/>
            <a:chOff x="4766760" y="2364840"/>
            <a:chExt cx="3837600" cy="1123560"/>
          </a:xfrm>
        </p:grpSpPr>
        <p:sp>
          <p:nvSpPr>
            <p:cNvPr id="203" name=""/>
            <p:cNvSpPr/>
            <p:nvPr/>
          </p:nvSpPr>
          <p:spPr>
            <a:xfrm>
              <a:off x="5335560" y="2784600"/>
              <a:ext cx="326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9900"/>
                  </a:solidFill>
                  <a:latin typeface="Arial"/>
                </a:rPr>
                <a:t>Réseau d’entreprise (Ethernet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4766760" y="2364840"/>
              <a:ext cx="474840" cy="669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524560" y="5132520"/>
            <a:ext cx="3268440" cy="768240"/>
            <a:chOff x="5524560" y="5132520"/>
            <a:chExt cx="3268440" cy="768240"/>
          </a:xfrm>
        </p:grpSpPr>
        <p:sp>
          <p:nvSpPr>
            <p:cNvPr id="206" name=""/>
            <p:cNvSpPr/>
            <p:nvPr/>
          </p:nvSpPr>
          <p:spPr>
            <a:xfrm>
              <a:off x="5524560" y="5132520"/>
              <a:ext cx="326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ff00"/>
                  </a:solidFill>
                  <a:latin typeface="Arial"/>
                </a:rPr>
                <a:t>Bus de terrain (ASI, CAN, Profibus…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1520" y="5583240"/>
              <a:ext cx="378000" cy="317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74680" y="1052640"/>
            <a:ext cx="4767120" cy="1109520"/>
            <a:chOff x="274680" y="1052640"/>
            <a:chExt cx="4767120" cy="1109520"/>
          </a:xfrm>
        </p:grpSpPr>
        <p:sp>
          <p:nvSpPr>
            <p:cNvPr id="209" name=""/>
            <p:cNvSpPr/>
            <p:nvPr/>
          </p:nvSpPr>
          <p:spPr>
            <a:xfrm rot="16200000">
              <a:off x="-10440" y="1569240"/>
              <a:ext cx="8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compta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1519560" y="1569240"/>
              <a:ext cx="8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gest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17680" y="1052640"/>
              <a:ext cx="4524120" cy="1109520"/>
              <a:chOff x="517680" y="1052640"/>
              <a:chExt cx="4524120" cy="1109520"/>
            </a:xfrm>
          </p:grpSpPr>
          <p:pic>
            <p:nvPicPr>
              <p:cNvPr id="2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7680" y="1287360"/>
                <a:ext cx="1298520" cy="71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30480" y="1287360"/>
                <a:ext cx="1298520" cy="71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743280" y="1287360"/>
                <a:ext cx="129852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 rot="16200000">
                <a:off x="3106800" y="1453680"/>
                <a:ext cx="110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cc"/>
                    </a:solidFill>
                    <a:latin typeface="Arial"/>
                  </a:rPr>
                  <a:t>secrétariat</a:t>
                </a:r>
                <a:endParaRPr b="0" lang="en-US" sz="1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1154160" y="2424240"/>
            <a:ext cx="3159000" cy="877680"/>
            <a:chOff x="1154160" y="2424240"/>
            <a:chExt cx="3159000" cy="877680"/>
          </a:xfrm>
        </p:grpSpPr>
        <p:pic>
          <p:nvPicPr>
            <p:cNvPr id="217" name="" descr=""/>
            <p:cNvPicPr/>
            <p:nvPr/>
          </p:nvPicPr>
          <p:blipFill>
            <a:blip r:embed="rId7"/>
            <a:stretch/>
          </p:blipFill>
          <p:spPr>
            <a:xfrm>
              <a:off x="1401840" y="2475000"/>
              <a:ext cx="129852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8"/>
            <a:stretch/>
          </p:blipFill>
          <p:spPr>
            <a:xfrm>
              <a:off x="3014640" y="2475000"/>
              <a:ext cx="129852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16200000">
              <a:off x="868680" y="2709360"/>
              <a:ext cx="87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ca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2475360" y="2709360"/>
              <a:ext cx="87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cfa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819680" y="4214880"/>
            <a:ext cx="4324320" cy="703800"/>
            <a:chOff x="4819680" y="4214880"/>
            <a:chExt cx="4324320" cy="703800"/>
          </a:xfrm>
        </p:grpSpPr>
        <p:sp>
          <p:nvSpPr>
            <p:cNvPr id="222" name=""/>
            <p:cNvSpPr/>
            <p:nvPr/>
          </p:nvSpPr>
          <p:spPr>
            <a:xfrm>
              <a:off x="5176800" y="4214880"/>
              <a:ext cx="396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Réseau d’atelier et inter-automates (Ethernet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819680" y="4398840"/>
              <a:ext cx="40320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0680" y="3100320"/>
            <a:ext cx="4802040" cy="1611360"/>
            <a:chOff x="220680" y="3100320"/>
            <a:chExt cx="4802040" cy="1611360"/>
          </a:xfrm>
        </p:grpSpPr>
        <p:pic>
          <p:nvPicPr>
            <p:cNvPr id="225" name="" descr=""/>
            <p:cNvPicPr/>
            <p:nvPr/>
          </p:nvPicPr>
          <p:blipFill>
            <a:blip r:embed="rId9"/>
            <a:stretch/>
          </p:blipFill>
          <p:spPr>
            <a:xfrm>
              <a:off x="498600" y="3781440"/>
              <a:ext cx="129852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0"/>
            <a:stretch/>
          </p:blipFill>
          <p:spPr>
            <a:xfrm>
              <a:off x="2111400" y="3781440"/>
              <a:ext cx="1298520" cy="7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1"/>
            <a:stretch/>
          </p:blipFill>
          <p:spPr>
            <a:xfrm>
              <a:off x="3724200" y="3781440"/>
              <a:ext cx="129852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16200000">
              <a:off x="-254160" y="3929400"/>
              <a:ext cx="12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supervis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1409040" y="3929400"/>
              <a:ext cx="12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contrôle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2802240" y="3752280"/>
              <a:ext cx="161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programmation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ractéristiqu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7800" y="1447560"/>
            <a:ext cx="6996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Arial"/>
              </a:rPr>
              <a:t>Débi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Arial"/>
              </a:rPr>
              <a:t>Nombre de bits transportés par seconde exprimé en millions de  bits par secondes (Mbps ou Mbits/s)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2800" spc="-1" strike="noStrike">
                <a:solidFill>
                  <a:srgbClr val="ffffcc"/>
                </a:solidFill>
                <a:latin typeface="Arial"/>
              </a:rPr>
              <a:t>Actuellement, les vitesses de transmission traditionnelles vont de 10 à 100 Mbps en liaison filaire et 11 à 54 Mbps en liaison sans fi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2800" spc="-1" strike="noStrike">
                <a:solidFill>
                  <a:srgbClr val="ffffcc"/>
                </a:solidFill>
                <a:latin typeface="Arial"/>
              </a:rPr>
              <a:t>En liaison Gigabit Ethernet, on atteint 1000 Mbp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ractéristiqu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39720" y="145872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9966"/>
                </a:solidFill>
                <a:latin typeface="Arial"/>
              </a:rPr>
              <a:t>Support de transmi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Filaire : Intern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Fibre optiq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Sans fil : GSM, UMTS, GPRS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; Bluetooth, WiFi (802.11a,b ou g)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ructure et topologie des réseaux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447560"/>
            <a:ext cx="7086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ypes de réseau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eriod"/>
              <a:tabLst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S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eriod"/>
              <a:tabLst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P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eriod"/>
              <a:tabLst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LAN ou R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eriod"/>
              <a:tabLst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M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eriod"/>
              <a:tabLst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W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</a:rPr>
              <a:t>Topologie b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</a:rPr>
              <a:t>Topologie annea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</a:rPr>
              <a:t>Topologie étoi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AutoNum type="arabicPeriod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</a:rPr>
              <a:t>Caractéristiques des réseau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ypes de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GB" sz="3200" spc="-1" strike="noStrike">
                <a:solidFill>
                  <a:srgbClr val="ff9966"/>
                </a:solidFill>
                <a:latin typeface="Arial"/>
                <a:ea typeface="Times New Roman"/>
              </a:rPr>
              <a:t>SAN (Short Area Network) : structure d’interconnex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69244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Très haut débit et fiabilité maximu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479760"/>
            <a:ext cx="8153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us de terrain : réseaux organisés autour d’un API et d’îlots de capteurs et préactioneurs (exemples : CAN, profibus…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105520"/>
            <a:ext cx="8153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éseaux de très courte distance fédérant les périphériques d’un ordinateur (IDE, SCSI, USB…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ypes de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9966"/>
                </a:solidFill>
                <a:latin typeface="Arial"/>
                <a:ea typeface="Times New Roman"/>
              </a:rPr>
              <a:t>PAN (Personnal Area Network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69244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nterconnexion des équipements personnels (ordinateur portable, PDA, web-cam…)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ypes de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9966"/>
                </a:solidFill>
                <a:latin typeface="Arial"/>
                <a:ea typeface="Times New Roman"/>
              </a:rPr>
              <a:t>LAN (Local Area Network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8592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9966"/>
                </a:solidFill>
                <a:latin typeface="Arial"/>
                <a:ea typeface="Times New Roman"/>
              </a:rPr>
              <a:t>RLE (Réseau Local d’Entreprise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8954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Réseau local qui relie des ordinateurs ou des périphériques proches les uns des aut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4956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Nombre d’ordinateurs limité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ypes de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87600" y="1447560"/>
            <a:ext cx="7175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9966"/>
                </a:solidFill>
                <a:latin typeface="Arial"/>
                <a:ea typeface="Times New Roman"/>
              </a:rPr>
              <a:t>MAN (Metropolitan Area Network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Réseau métropolitain qui relie des ordinateurs et des réseaux locaux situés dans une même zone géographiqu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Typiquement, réseau d’université reliant les différents sites et laboratoir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ypes de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9966"/>
                </a:solidFill>
                <a:latin typeface="Arial"/>
                <a:ea typeface="Times New Roman"/>
              </a:rPr>
              <a:t>WAN (Wide Area Network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666880"/>
            <a:ext cx="81532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Réseau étendu reliant les LAN et MAN répartis dans le monde entier (Internet, Transpac par exemple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330800"/>
            <a:ext cx="81532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Dans cette catégorie, on retrouve le réseau terrestre et le réseau satellitair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ypes de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fr-FR" sz="3200" spc="-1" strike="noStrike">
                <a:solidFill>
                  <a:srgbClr val="ff9966"/>
                </a:solidFill>
                <a:latin typeface="Arial"/>
                <a:ea typeface="Times New Roman"/>
              </a:rPr>
              <a:t>WAN (Wide Area Network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76520" y="2666880"/>
            <a:ext cx="5562360" cy="2745720"/>
            <a:chOff x="1676520" y="2666880"/>
            <a:chExt cx="5562360" cy="27457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1676520" y="3200400"/>
              <a:ext cx="54068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828800" y="29718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Arial"/>
                </a:rPr>
                <a:t>LAN 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05120" y="49528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Arial"/>
                </a:rPr>
                <a:t>LAN 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91320" y="2971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Arial"/>
                </a:rPr>
                <a:t>MAN 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38680" y="4419720"/>
              <a:ext cx="160020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Arial"/>
                </a:rPr>
                <a:t>WEB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1280" y="2666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Arial"/>
                </a:rPr>
                <a:t>Routeur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pologie des rése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Bus </a:t>
            </a:r>
            <a:r>
              <a:rPr b="0" lang="en-US" sz="3200" spc="-1" strike="noStrike">
                <a:solidFill>
                  <a:srgbClr val="ff9966"/>
                </a:solidFill>
                <a:latin typeface="Arial"/>
                <a:ea typeface="Times New Roman"/>
              </a:rPr>
              <a:t>(parfois appelé épine dorsa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es ordinateurs sont tous reliés au même câble. Les informations parcourent l’ensemble du câble et un seul ordinateur peut transférer des données à la foi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523880" y="4191120"/>
            <a:ext cx="5943600" cy="1679040"/>
            <a:chOff x="1523880" y="4191120"/>
            <a:chExt cx="5943600" cy="1679040"/>
          </a:xfrm>
        </p:grpSpPr>
        <p:sp>
          <p:nvSpPr>
            <p:cNvPr id="73" name=""/>
            <p:cNvSpPr/>
            <p:nvPr/>
          </p:nvSpPr>
          <p:spPr>
            <a:xfrm>
              <a:off x="2286000" y="4191120"/>
              <a:ext cx="0" cy="8380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33560" y="4191120"/>
              <a:ext cx="0" cy="8380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57800" y="4191120"/>
              <a:ext cx="0" cy="8380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05360" y="4191120"/>
              <a:ext cx="0" cy="83808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752480" y="4647960"/>
              <a:ext cx="110484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3225600" y="4647960"/>
              <a:ext cx="110484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4698720" y="4647960"/>
              <a:ext cx="110520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>
              <a:off x="6172200" y="4647960"/>
              <a:ext cx="110484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523880" y="4191120"/>
              <a:ext cx="594360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6:58:36Z</dcterms:created>
  <dc:creator>Schanen Thierry</dc:creator>
  <dc:description/>
  <dc:language>en-US</dc:language>
  <cp:lastModifiedBy>LERMYTTE</cp:lastModifiedBy>
  <dcterms:modified xsi:type="dcterms:W3CDTF">2006-10-01T12:25:54Z</dcterms:modified>
  <cp:revision>115</cp:revision>
  <dc:subject/>
  <dc:title>Les réseaux</dc:title>
</cp:coreProperties>
</file>