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144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472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6400" y="1447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7720" y="1447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144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6400" y="41144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7720" y="41144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472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144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947960" indent="-4572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2519280" indent="-38088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090960" indent="-38124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090960" indent="-38124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090960" indent="-38124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66680"/>
            <a:ext cx="876312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ress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Présen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Adressage physique (Ethernet, MAC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ressage logique (IP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asses de réseau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Arial"/>
              <a:buAutoNum type="arabicPeriod"/>
              <a:tabLst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asse 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Arial"/>
              <a:buAutoNum type="arabicPeriod"/>
              <a:tabLst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asse B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Arial"/>
              <a:buAutoNum type="arabicPeriod"/>
              <a:tabLst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asse 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resses IP particuliè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tribution des adresses 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Arial"/>
              <a:buAutoNum type="arabicPeriod"/>
              <a:tabLst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dresses réservé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ques de sous-réseau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heminement des donné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 classes de résea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Classe 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s deux premiers octets représentent le réseau avec les premiers bits valant 1 et 0, ce qui signifie qu'il y a 2</a:t>
            </a:r>
            <a:r>
              <a:rPr b="0" lang="en-US" sz="20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14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possibilités de réseaux (10000000 00000000 à 10111111 11111111 ) c’est à dire 16384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s réseaux disponibles en classe B sont donc les réseaux allant 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128.0.0.0 à 191.255.0.0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s deux octets de droite représentent les ordinateurs du réseaux, le réseau peut donc contenir 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-2 = 65534 ordinateur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Une adresse IP de classe B, en binaire, ressemble à ceci 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0xxxxxx.xxxxxxxx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.xxxxxxxx.xxxxxxxx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éseaux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Ordinateu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 classes de résea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Classe 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s trois premiers octets représentent le réseau avec les premiers bits valant 1, 1 et 0, ce qui signifie qu'il y a 2</a:t>
            </a:r>
            <a:r>
              <a:rPr b="0" lang="en-US" sz="20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21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possibilités de réseaux c’est à dire 2 097 152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s réseaux disponibles en classe C sont donc les réseaux allant 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192.0.0.0       à      223.255.255.0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’octet de droite représente les ordinateurs du réseaux, le réseau peut donc contenir 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8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-2 = 254 ordinateur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Une adresse IP de classe C, en binaire, ressemble à ceci 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0xxxxxx.xxxxxxxx.xxxxxxxx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.xxxxxxxx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éseaux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    Ordinateu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resses IP particuliè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orsque 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l’host-ID est à 0</a:t>
            </a:r>
            <a:r>
              <a:rPr b="0" lang="fr-F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, on obtient l'adresse réseau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194.28.12.0 est une adresse réseau et on ne peut donc pas l'attribuer à un des ordinateurs du réseau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orsque tous les bits de la partie 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host-ID sont à 1</a:t>
            </a:r>
            <a:r>
              <a:rPr b="0" lang="fr-F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, on obtient l'adresse de diffusion (broadcast), c'est-à-dire une adresse qui permettra d'envoyer le message à toutes les machines situées sur le réseau spécifié par le net-I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insi, sur le réseau 112, les adresses 112.0.0.0 et 112.255.255.255 ne peuvent pas exist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'adresse 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127.0.0.1</a:t>
            </a:r>
            <a:r>
              <a:rPr b="0" lang="fr-F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est appelée adresse de boucle locale (localhost), car elle désigne la machine elle-même.</a:t>
            </a:r>
            <a:r>
              <a:rPr b="0" lang="fr-F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ttribution des adresses IP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e but de la division des adresses IP en trois classes A,B et C est de faciliter la recherche d'un ordinateur sur le réseau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n effet, avec cette notation, il est possible de rechercher dans un premier temps le réseau que l'on désire atteindre puis de chercher un ordinateur sur celui-ci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insi l'attribution des adresses IP se fait selon la taille du réseau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es adresses de classe A sont réservées aux très grands réseaux, tandis que l'on attribuera les adresses de classe C à des petits réseaux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resses réservé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289160"/>
            <a:ext cx="82962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Si un réseau est connecté à Internet, l’attribution de l’adresse IP des machines reliées à l’extérieur ne peut se faire sans prendre en compte toutes les adresses déjà occupé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l est possible d’obtenir auprès de l’Internic une adresse fixe, lib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Tous les autres ordinateurs du réseau ayant cependant besoin d’une adresse IP, l’Internic a défini une série d’adresses IP à utiliser dans les réseaux locaux qui n’interfèreront pas avec les adresses réservées au WEB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resses réservé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89160"/>
            <a:ext cx="82962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dresses disponibles pour les réseaux privés 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Classe 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net-ID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1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host-ID de 0.0.1 à 255.255.25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Classe 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net-ID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172.16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à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172.3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host-ID de 0.1 à 255.25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Classe 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net-ID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192.168.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à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192.167.25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host-ID de 1 à 25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ucune autre adresse ne doit être utilisée dés lors que la machine est connectée à Interne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asque de sous résea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160" y="1447560"/>
            <a:ext cx="7086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 notion de masque de sous réseau a été développée pour améliorer la gestion des réseaux au niveau du routage d’adress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e masque permet de connaître le réseau associé à une adresse IP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Un masque se présente comme une adresse IP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l comprend (dans sa notation binaire) des zéros au niveau des bits du host-ID et des 1 au niveau de ceux du net-I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asque de sous résea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Exemple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 : pour connaître l'adresse du réseau associé à l'adresse IP 34.56.123.12 (classe A) on applique un masque dont le premier octet ne comporte que des 1, puis des 0 sur les octets suivant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Le masque est 11111111.00000000.00000000.00000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donc 255.0.0.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25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a valeur binaire de 34.208.123.12 est 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00100010.11010000.01111011.000011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Un ET entre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00100010.11010000.01111011.000011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             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et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11111111.00000000.00000000.00000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     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donne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00100010.00000000.00000000.00000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Courier New"/>
              </a:rPr>
              <a:t>C'est-à-dir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Courier New"/>
              </a:rPr>
              <a:t>34.0.0.0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asque de sous résea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n généralisant, on obtient les masques suivants pour chaque classe 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our une adresse de Classe A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e masque est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255.0.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our une adresse de Classe B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e masque est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255.255.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our une adresse de Classe C,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e masque est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255.255.255.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cheminement des donné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Les ordinateurs du réseaux ont tous une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passerelle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par défaut. C’est à elle qu’ils s’adressent quand il ne savent pas où envoyer les données..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Pour envoyer une donnée sur le réseau, l’ordinateur commence par demander à ses voisins s’ils sont concerné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i ce n’est pas le cas, il envoie les données à sa passerelle qui est généralement le routeur le plus proch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Le routeur regarde l’adresse IP et la compare avec celles qu’il connaît. S’il ne la trouve pas, il l’envoie vers sa propre passerelle qui est un autre routeur plus importa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Le routeur est capable d’analyser une partie de l’adress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Par exemple, si l’adresse est 180.155.1.200 et qu’il ne la connaît pas, peut-être a t’il une information sur 180.155.x.x ou 180.x.x.x et saura donc où envoyer la tram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insi, de routeurs en routeurs, les trames se baladent jusqu’à destination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ress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fin de diriger les informations vers le bon destinataire, il est nécessaire d’affecter un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adress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différente dans le réseau à chaque ordinateur ou périphériqu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3657600"/>
            <a:ext cx="80773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es appareils son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identifié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ar un numéro ou une adresse (chaîne SCSI, USB…) et les données qui circulent sont accompagnées de ce « numéro adresse » pour que seul l’appareil concerné les réceptionne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ressage physiqu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Sur un réseau chaque élément est affecté d’un numéro unique l’identifiant physiqu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ette adresse physique (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adresse MAC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– Media Access Control) est représentée par une suite de 6 octet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2670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es bits de poids fort indiquent le constructeu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3581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0.80.91.79.40.202           (hexa : 00.50.5B.4F.28.CA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581280"/>
            <a:ext cx="1219320" cy="4572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876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es bits de poids faible indiquent le numéro de série ou un identifiant unique de la car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3581280"/>
            <a:ext cx="1447560" cy="4572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ressage physique et logiqu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’adresse MAC (adresse de bas niveau) permet à tous les coups d’identifier la machin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ependant les applications doivent éviter d’utiliser cette adresse car il faudrait la changer dés lors qu’on change un ordinateur ou une carte dans le réseau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ussi, les applications travaillent avec une adresse logique, immuable, et maintiennent à jour une table de correspondance entre adresses physiques (MAC) et adresses logiques (IP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ressage logique - IP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Sur un réseau de type Ethernet, les ordinateurs communiquent entre eux grâce au protocole TCP-IP qui utilise des adresses de 32 bits, que l'on écrit sous forme de 4 nombres 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a.b.c.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ù chaque nombre représente un nombre entre 0 et 255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l ne doit pas exister deux ordinateurs sur le même réseau ayant la même adresse IP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échiffrage d’une adresse IP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96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Une partie des nombres à gauche désigne le réseau (on l'appelle net-ID)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2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2960" indent="-282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es nombres restant à droite désignent les ordinateurs de ce réseau (on l'appelle host-I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43200" y="4191120"/>
            <a:ext cx="4190760" cy="1068840"/>
            <a:chOff x="2743200" y="4191120"/>
            <a:chExt cx="4190760" cy="1068840"/>
          </a:xfrm>
        </p:grpSpPr>
        <p:sp>
          <p:nvSpPr>
            <p:cNvPr id="58" name=""/>
            <p:cNvSpPr/>
            <p:nvPr/>
          </p:nvSpPr>
          <p:spPr>
            <a:xfrm>
              <a:off x="2743200" y="480024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Net-I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57800" y="480024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Host-I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413520" y="4800240"/>
              <a:ext cx="1173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22280" y="4800240"/>
              <a:ext cx="1173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97400" y="4191120"/>
              <a:ext cx="259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Arial"/>
                  <a:ea typeface="Times New Roman"/>
                </a:rPr>
                <a:t>192.168.20.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86200" y="3581280"/>
            <a:ext cx="1828800" cy="685800"/>
          </a:xfrm>
          <a:prstGeom prst="cloudCallout">
            <a:avLst>
              <a:gd name="adj1" fmla="val -44532"/>
              <a:gd name="adj2" fmla="val 6990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114800"/>
            <a:ext cx="11430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4114800"/>
            <a:ext cx="1371600" cy="38088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768" y="240"/>
                </a:move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4572000"/>
            <a:ext cx="761760" cy="68580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480" y="0"/>
                </a:moveTo>
                <a:lnTo>
                  <a:pt x="480" y="144"/>
                </a:lnTo>
                <a:lnTo>
                  <a:pt x="0" y="144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572000"/>
            <a:ext cx="228600" cy="609480"/>
          </a:xfrm>
          <a:custGeom>
            <a:avLst/>
            <a:gdLst/>
            <a:ahLst/>
            <a:rect l="l" t="t" r="r" b="b"/>
            <a:pathLst>
              <a:path w="144" h="384">
                <a:moveTo>
                  <a:pt x="144" y="0"/>
                </a:moveTo>
                <a:lnTo>
                  <a:pt x="144" y="192"/>
                </a:lnTo>
                <a:lnTo>
                  <a:pt x="0" y="192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4572000"/>
            <a:ext cx="152280" cy="609480"/>
          </a:xfrm>
          <a:custGeom>
            <a:avLst/>
            <a:gdLst/>
            <a:ahLst/>
            <a:rect l="l" t="t" r="r" b="b"/>
            <a:pathLst>
              <a:path w="96" h="384">
                <a:moveTo>
                  <a:pt x="0" y="0"/>
                </a:moveTo>
                <a:lnTo>
                  <a:pt x="0" y="192"/>
                </a:lnTo>
                <a:lnTo>
                  <a:pt x="96" y="192"/>
                </a:lnTo>
                <a:lnTo>
                  <a:pt x="96" y="384"/>
                </a:ln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45720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0"/>
                </a:moveTo>
                <a:lnTo>
                  <a:pt x="0" y="96"/>
                </a:lnTo>
                <a:lnTo>
                  <a:pt x="288" y="96"/>
                </a:lnTo>
                <a:lnTo>
                  <a:pt x="288" y="432"/>
                </a:ln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4572000"/>
            <a:ext cx="762120" cy="68580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480" y="0"/>
                </a:moveTo>
                <a:lnTo>
                  <a:pt x="480" y="144"/>
                </a:lnTo>
                <a:lnTo>
                  <a:pt x="0" y="144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4572000"/>
            <a:ext cx="228600" cy="609480"/>
          </a:xfrm>
          <a:custGeom>
            <a:avLst/>
            <a:gdLst/>
            <a:ahLst/>
            <a:rect l="l" t="t" r="r" b="b"/>
            <a:pathLst>
              <a:path w="144" h="384">
                <a:moveTo>
                  <a:pt x="144" y="0"/>
                </a:moveTo>
                <a:lnTo>
                  <a:pt x="144" y="192"/>
                </a:lnTo>
                <a:lnTo>
                  <a:pt x="0" y="192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4572000"/>
            <a:ext cx="152280" cy="609480"/>
          </a:xfrm>
          <a:custGeom>
            <a:avLst/>
            <a:gdLst/>
            <a:ahLst/>
            <a:rect l="l" t="t" r="r" b="b"/>
            <a:pathLst>
              <a:path w="96" h="384">
                <a:moveTo>
                  <a:pt x="0" y="0"/>
                </a:moveTo>
                <a:lnTo>
                  <a:pt x="0" y="192"/>
                </a:lnTo>
                <a:lnTo>
                  <a:pt x="96" y="192"/>
                </a:lnTo>
                <a:lnTo>
                  <a:pt x="96" y="384"/>
                </a:ln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45720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0"/>
                </a:moveTo>
                <a:lnTo>
                  <a:pt x="0" y="96"/>
                </a:lnTo>
                <a:lnTo>
                  <a:pt x="288" y="96"/>
                </a:lnTo>
                <a:lnTo>
                  <a:pt x="288" y="432"/>
                </a:ln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échiffrage d’une adresse IP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Exemp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Internet est représenté ici par deux petits réseaux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 réseau de gauche est identifié par le net-ID 194.28.12 et il contient les ordinateurs : 194.28.12.1 à 194.28.12.4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Celui de droite a le net-ID 178.12.77 et comprend les ordinateurs : 178.12.77.1 à 178.12.77.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352680" y="5181480"/>
            <a:ext cx="554040" cy="61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717640" y="5181480"/>
            <a:ext cx="554040" cy="612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082960" y="5181480"/>
            <a:ext cx="554040" cy="612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47920" y="5181480"/>
            <a:ext cx="554040" cy="612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162920" y="5181480"/>
            <a:ext cx="554040" cy="61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527880" y="5181480"/>
            <a:ext cx="554040" cy="61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5892840" y="5181480"/>
            <a:ext cx="554040" cy="612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5257800" y="5181480"/>
            <a:ext cx="554040" cy="612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2362320" y="4267080"/>
            <a:ext cx="1066680" cy="36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6019920" y="4267080"/>
            <a:ext cx="1066680" cy="368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17974800">
            <a:off x="894960" y="59500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94.28.12.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7974800">
            <a:off x="1555200" y="594864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94.28.12.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7974800">
            <a:off x="2215800" y="59500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94.28.12.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7974800">
            <a:off x="2876040" y="59500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94.28.12.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7974800">
            <a:off x="4827600" y="595116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78.12.77.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7974800">
            <a:off x="5487480" y="59500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78.12.77.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7974800">
            <a:off x="6148440" y="595116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78.12.77.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7974800">
            <a:off x="6808680" y="595116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78.12.77.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 classes de résea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21337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Les adresses IP sont réparties en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class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, selon le nombre d'octets qui représentent le réseau (taille du net-ID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 classes de résea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Classe 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 premier octet représente le réseau et son bit de poids fort est à zéro, ce qui signifie qu'il y a 2</a:t>
            </a:r>
            <a:r>
              <a:rPr b="0" lang="en-US" sz="20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7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possibilités de réseaux (00000000 à 01111111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 réseau 0 (00000000) n'existe pas et le nombre 127 est réservé pour désigner la machine local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s réseaux disponibles en classe A sont donc les réseaux allant 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1.0.0.0 à 126.0.0.0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s trois octets de droite représentent les ordinateurs du réseaux, le réseau peut donc contenir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24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-2 = 16777214 ordinateur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Une adresse IP de classe A, en binaire, ressemble à ceci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0xxxxxxx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xxxxxxxx.xxxxxxxx.xxxxxxxx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éseaux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Ordinateu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6:58:36Z</dcterms:created>
  <dc:creator>Schanen Thierry</dc:creator>
  <dc:description/>
  <dc:language>en-US</dc:language>
  <cp:lastModifiedBy>LERMYTTE</cp:lastModifiedBy>
  <dcterms:modified xsi:type="dcterms:W3CDTF">2006-10-01T12:20:23Z</dcterms:modified>
  <cp:revision>115</cp:revision>
  <dc:subject/>
  <dc:title>Les réseaux</dc:title>
</cp:coreProperties>
</file>