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36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33.jpeg" ContentType="image/jpeg"/>
  <Override PartName="/ppt/media/image22.jpeg" ContentType="image/jpeg"/>
  <Override PartName="/ppt/media/image9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B97C-F41A-48E5-9206-215B52F122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F55E-1B85-40A6-B67A-EBB60AF03D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CBBE-F990-45F3-ADFC-3206E07C07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62BC-734B-4819-9EC0-C663C9AFC3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6DDD-006B-4D3F-99F7-57E3B38C8C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15D4-2E7B-441B-8CA3-43D083B774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F901-A99A-4BB8-881C-1E2DF820B9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5B64-0153-4FB1-8323-3263DAB737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38EB-5F32-4894-BDB0-0F35C1919F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06A4-93C4-44F7-9CB2-FDD8E40B14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14D4-A7FF-4AC0-AE91-9511362F0E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D1E4-541F-48B7-B671-00219EC6B7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0780-1D6F-450D-ACBC-C4630EA36F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0AD7-9062-40DA-BC5B-2A3ECB1392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7882-E022-410D-B4D1-16553777B7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19EE-57DE-4C5A-978A-3880273E24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165A-3C44-4A59-BC6A-FCC8574AF9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1499-D027-4ECE-A664-F735716AA8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CE3C-D71B-4E61-83D2-82A25FD22E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3A0A-1830-4C17-9208-FC51FE88DB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715F-E847-4922-AF92-636D2FD265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A793-3283-4D1C-88DF-328129213A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247B-1C86-4A77-A480-BD8D2B2FCF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E7E5-55BA-44B9-A330-4028AAD672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5BB2-E4B7-45AF-87A1-FC1F893A83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A9DD-1396-4BB5-B1E3-AB68B1AA41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3DDA-5B76-4C9A-91D1-7F9439E616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ordination du rythme des part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: la capacité de traitement des ordinateurs ayant augmenté (loi de Moore), il est possible d’intégrer d’autre fonctions à la manette de jeu, le port jeux sur carte son n’est alors plus suffisant, il faut numériser le signal à la source c’est-à-dire sur la manet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ransition du micro vers le micro 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n dématérialise la communication vers le sans f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5057-AEF0-4C99-8BD9-6A965273F6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C1C6-3CC2-40EA-94AD-0FAC8D3BB8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0B67-70F5-4ED1-8EA8-E2941B61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BD7-BCBA-4BC9-98D1-D13B4E86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4634-8D8C-42D9-BBFF-B706EFD6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A200-48F6-436B-ACC0-B241A4CA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0A7A-269E-4632-B59E-9E5D61C3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4F5D-4CFD-4E3C-9A3E-E94C6925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8A76-744E-465A-B433-C7E74A81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33DE-1F84-4D8E-9017-116B191C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BEF-9089-4CE1-AEA5-C3CE75D3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37D-3BD0-415A-B19A-5BC7032B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A77-35E7-43A0-9733-89EF884E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594-6DD1-4C51-BCAA-AE21A7A0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9548-FAFD-4DCB-9E9D-AAD7049948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12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20.jpeg"/><Relationship Id="rId4" Type="http://schemas.openxmlformats.org/officeDocument/2006/relationships/image" Target="../media/image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762120" y="1447920"/>
            <a:ext cx="75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REATIO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E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INNOVATION TECHNOLOGIQ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609480" y="5334120"/>
            <a:ext cx="8077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. Zborowski, P. Watiotienne, G. Richard, E. Hello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. Guitton, O. Fort, L. Buissy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paul-duez-2"/>
          <p:cNvPicPr/>
          <p:nvPr/>
        </p:nvPicPr>
        <p:blipFill>
          <a:blip r:embed="rId2"/>
          <a:stretch/>
        </p:blipFill>
        <p:spPr>
          <a:xfrm>
            <a:off x="304920" y="304920"/>
            <a:ext cx="27432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ctivité commune aux trois questionn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493560"/>
            <a:ext cx="914400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ctivité commune aux trois questionn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493560"/>
            <a:ext cx="914400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ctivité commune aux trois questionn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515880"/>
            <a:ext cx="914400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Questionnement 1 : Ergonomie e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468360"/>
            <a:ext cx="922500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Questionnement 1 : Ergonomie e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468360"/>
            <a:ext cx="922500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Questionnement 1 : Ergonomie e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523800"/>
            <a:ext cx="91440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Questionnement 1 : Ergonomie e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573120"/>
            <a:ext cx="9144000" cy="6284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133720" y="3048120"/>
            <a:ext cx="1447560" cy="380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Questionnement 1 : Ergonomie e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523800"/>
            <a:ext cx="91440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Questionnement 1 : Ergonomie e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Questionnement 2 : L’immers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434880"/>
            <a:ext cx="91440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914400" y="152280"/>
            <a:ext cx="75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UPPORT  RETEN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cyborgX"/>
          <p:cNvPicPr/>
          <p:nvPr/>
        </p:nvPicPr>
        <p:blipFill>
          <a:blip r:embed="rId2"/>
          <a:stretch/>
        </p:blipFill>
        <p:spPr>
          <a:xfrm>
            <a:off x="3048120" y="2590920"/>
            <a:ext cx="3130560" cy="3429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838080" y="1219320"/>
            <a:ext cx="75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ontrôleurs de jeu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6400800" y="4952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 ludique ;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80880" y="281952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sant partie du quotid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nos élè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04920" y="47242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 le mar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6324480" y="29718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è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Questionnement 2 : L’immers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493560"/>
            <a:ext cx="914400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Questionnement 2 : L’immers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434880"/>
            <a:ext cx="91440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Questionnement 3 : La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490680"/>
            <a:ext cx="914400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Questionnement 3 : La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Questionnement 3 : La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066680" y="990720"/>
            <a:ext cx="720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Questionnement 3 : La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72770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8"/>
          <p:cNvSpPr/>
          <p:nvPr/>
        </p:nvSpPr>
        <p:spPr>
          <a:xfrm>
            <a:off x="2133720" y="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ROJET C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0" descr="usr_vieville"/>
          <p:cNvPicPr/>
          <p:nvPr/>
        </p:nvPicPr>
        <p:blipFill>
          <a:blip r:embed="rId2"/>
          <a:srcRect l="4337" t="15566" r="15024" b="0"/>
          <a:stretch/>
        </p:blipFill>
        <p:spPr>
          <a:xfrm>
            <a:off x="468360" y="836640"/>
            <a:ext cx="7993080" cy="5580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71640" y="2997360"/>
            <a:ext cx="3240000" cy="23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8"/>
          <p:cNvSpPr/>
          <p:nvPr/>
        </p:nvSpPr>
        <p:spPr>
          <a:xfrm>
            <a:off x="2133720" y="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ROJET C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207" name="Oval 16"/>
          <p:cNvSpPr/>
          <p:nvPr/>
        </p:nvSpPr>
        <p:spPr>
          <a:xfrm>
            <a:off x="3657600" y="2438280"/>
            <a:ext cx="1371600" cy="2362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248520" y="1219320"/>
            <a:ext cx="1598400" cy="22096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58000" y="3657600"/>
            <a:ext cx="533520" cy="1295280"/>
          </a:xfrm>
          <a:prstGeom prst="downArrow">
            <a:avLst>
              <a:gd name="adj1" fmla="val 40000"/>
              <a:gd name="adj2" fmla="val 6701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48769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Unicode MS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2666880" y="27432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ERC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2133720" y="1371600"/>
            <a:ext cx="41068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ZoneTexte 16" descr=""/>
          <p:cNvPicPr/>
          <p:nvPr/>
        </p:nvPicPr>
        <p:blipFill>
          <a:blip r:embed="rId2"/>
          <a:stretch/>
        </p:blipFill>
        <p:spPr>
          <a:xfrm>
            <a:off x="2664000" y="609480"/>
            <a:ext cx="3260520" cy="682920"/>
          </a:xfrm>
          <a:prstGeom prst="rect">
            <a:avLst/>
          </a:prstGeom>
          <a:ln w="0">
            <a:noFill/>
          </a:ln>
        </p:spPr>
      </p:pic>
      <p:pic>
        <p:nvPicPr>
          <p:cNvPr id="63" name="ZoneTexte 16" descr=""/>
          <p:cNvPicPr/>
          <p:nvPr/>
        </p:nvPicPr>
        <p:blipFill>
          <a:blip r:embed="rId3"/>
          <a:stretch/>
        </p:blipFill>
        <p:spPr>
          <a:xfrm>
            <a:off x="2664000" y="609480"/>
            <a:ext cx="3260520" cy="682920"/>
          </a:xfrm>
          <a:prstGeom prst="rect">
            <a:avLst/>
          </a:prstGeom>
          <a:ln w="0">
            <a:noFill/>
          </a:ln>
        </p:spPr>
      </p:pic>
      <p:pic>
        <p:nvPicPr>
          <p:cNvPr id="64" name="Ellipse 3" descr=""/>
          <p:cNvPicPr/>
          <p:nvPr/>
        </p:nvPicPr>
        <p:blipFill>
          <a:blip r:embed="rId4"/>
          <a:stretch/>
        </p:blipFill>
        <p:spPr>
          <a:xfrm>
            <a:off x="1295280" y="304920"/>
            <a:ext cx="6221520" cy="6145200"/>
          </a:xfrm>
          <a:prstGeom prst="rect">
            <a:avLst/>
          </a:prstGeom>
          <a:ln w="0">
            <a:noFill/>
          </a:ln>
        </p:spPr>
      </p:pic>
      <p:pic>
        <p:nvPicPr>
          <p:cNvPr id="65" name="Ellipse 5" descr=""/>
          <p:cNvPicPr/>
          <p:nvPr/>
        </p:nvPicPr>
        <p:blipFill>
          <a:blip r:embed="rId5"/>
          <a:stretch/>
        </p:blipFill>
        <p:spPr>
          <a:xfrm>
            <a:off x="3048120" y="2133720"/>
            <a:ext cx="2657520" cy="2663640"/>
          </a:xfrm>
          <a:prstGeom prst="rect">
            <a:avLst/>
          </a:prstGeom>
          <a:ln w="0">
            <a:noFill/>
          </a:ln>
        </p:spPr>
      </p:pic>
      <p:pic>
        <p:nvPicPr>
          <p:cNvPr id="66" name="ZoneTexte 16" descr=""/>
          <p:cNvPicPr/>
          <p:nvPr/>
        </p:nvPicPr>
        <p:blipFill>
          <a:blip r:embed="rId6"/>
          <a:stretch/>
        </p:blipFill>
        <p:spPr>
          <a:xfrm>
            <a:off x="2743200" y="536400"/>
            <a:ext cx="3255840" cy="6829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33"/>
          <p:cNvSpPr/>
          <p:nvPr/>
        </p:nvSpPr>
        <p:spPr>
          <a:xfrm>
            <a:off x="5715000" y="2438280"/>
            <a:ext cx="1295280" cy="1371600"/>
          </a:xfrm>
          <a:custGeom>
            <a:avLst/>
            <a:gdLst>
              <a:gd name="textAreaLeft" fmla="*/ 189720 w 1295280"/>
              <a:gd name="textAreaRight" fmla="*/ 1105560 w 129528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18182" y="11976"/>
                </a:moveTo>
                <a:cubicBezTo>
                  <a:pt x="18244" y="11587"/>
                  <a:pt x="18276" y="11194"/>
                  <a:pt x="18276" y="10800"/>
                </a:cubicBezTo>
                <a:cubicBezTo>
                  <a:pt x="18276" y="8502"/>
                  <a:pt x="17219" y="6332"/>
                  <a:pt x="15411" y="4915"/>
                </a:cubicBezTo>
                <a:lnTo>
                  <a:pt x="17461" y="2299"/>
                </a:lnTo>
                <a:cubicBezTo>
                  <a:pt x="20073" y="4346"/>
                  <a:pt x="21600" y="7480"/>
                  <a:pt x="21600" y="10800"/>
                </a:cubicBezTo>
                <a:cubicBezTo>
                  <a:pt x="21600" y="11369"/>
                  <a:pt x="21554" y="11937"/>
                  <a:pt x="21465" y="12500"/>
                </a:cubicBezTo>
                <a:lnTo>
                  <a:pt x="24131" y="12925"/>
                </a:lnTo>
                <a:lnTo>
                  <a:pt x="19137" y="16546"/>
                </a:lnTo>
                <a:lnTo>
                  <a:pt x="15516" y="11551"/>
                </a:lnTo>
                <a:lnTo>
                  <a:pt x="18182" y="11976"/>
                </a:lnTo>
                <a:close/>
              </a:path>
            </a:pathLst>
          </a:cu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5" descr="joystick atari"/>
          <p:cNvPicPr/>
          <p:nvPr/>
        </p:nvPicPr>
        <p:blipFill>
          <a:blip r:embed="rId7"/>
          <a:stretch/>
        </p:blipFill>
        <p:spPr>
          <a:xfrm>
            <a:off x="5410080" y="1295280"/>
            <a:ext cx="1220760" cy="129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6" descr="quickshort ventouse"/>
          <p:cNvPicPr/>
          <p:nvPr/>
        </p:nvPicPr>
        <p:blipFill>
          <a:blip r:embed="rId8"/>
          <a:stretch/>
        </p:blipFill>
        <p:spPr>
          <a:xfrm>
            <a:off x="5791320" y="3733920"/>
            <a:ext cx="1085760" cy="14475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38"/>
          <p:cNvSpPr/>
          <p:nvPr/>
        </p:nvSpPr>
        <p:spPr>
          <a:xfrm>
            <a:off x="3733920" y="5029200"/>
            <a:ext cx="2209680" cy="83808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122760 h 838080"/>
              <a:gd name="textAreaBottom" fmla="*/ 715320 h 838080"/>
            </a:gdLst>
            <a:ahLst/>
            <a:rect l="textAreaLeft" t="textAreaTop" r="textAreaRight" b="textAreaBottom"/>
            <a:pathLst>
              <a:path w="21600" h="21600">
                <a:moveTo>
                  <a:pt x="12754" y="17426"/>
                </a:moveTo>
                <a:cubicBezTo>
                  <a:pt x="14737" y="16841"/>
                  <a:pt x="16354" y="15399"/>
                  <a:pt x="17161" y="13496"/>
                </a:cubicBezTo>
                <a:lnTo>
                  <a:pt x="20743" y="15015"/>
                </a:lnTo>
                <a:cubicBezTo>
                  <a:pt x="19482" y="17990"/>
                  <a:pt x="16955" y="20244"/>
                  <a:pt x="13855" y="21158"/>
                </a:cubicBezTo>
                <a:lnTo>
                  <a:pt x="14619" y="23748"/>
                </a:lnTo>
                <a:lnTo>
                  <a:pt x="8848" y="20608"/>
                </a:lnTo>
                <a:lnTo>
                  <a:pt x="11990" y="14836"/>
                </a:lnTo>
                <a:lnTo>
                  <a:pt x="12754" y="17426"/>
                </a:lnTo>
                <a:close/>
              </a:path>
            </a:pathLst>
          </a:cu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9" descr="logiteck attack 3"/>
          <p:cNvPicPr/>
          <p:nvPr/>
        </p:nvPicPr>
        <p:blipFill>
          <a:blip r:embed="rId9"/>
          <a:stretch/>
        </p:blipFill>
        <p:spPr>
          <a:xfrm>
            <a:off x="1828800" y="3276720"/>
            <a:ext cx="96516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40"/>
          <p:cNvSpPr/>
          <p:nvPr/>
        </p:nvSpPr>
        <p:spPr>
          <a:xfrm>
            <a:off x="2514600" y="3886200"/>
            <a:ext cx="1523880" cy="1752480"/>
          </a:xfrm>
          <a:custGeom>
            <a:avLst/>
            <a:gdLst>
              <a:gd name="textAreaLeft" fmla="*/ 223200 w 1523880"/>
              <a:gd name="textAreaRight" fmla="*/ 1300680 w 1523880"/>
              <a:gd name="textAreaTop" fmla="*/ 256320 h 1752480"/>
              <a:gd name="textAreaBottom" fmla="*/ 1496160 h 1752480"/>
            </a:gdLst>
            <a:ahLst/>
            <a:rect l="textAreaLeft" t="textAreaTop" r="textAreaRight" b="textAreaBottom"/>
            <a:pathLst>
              <a:path w="21600" h="21600">
                <a:moveTo>
                  <a:pt x="3713" y="15064"/>
                </a:moveTo>
                <a:cubicBezTo>
                  <a:pt x="4746" y="16781"/>
                  <a:pt x="6367" y="18064"/>
                  <a:pt x="8275" y="18676"/>
                </a:cubicBezTo>
                <a:lnTo>
                  <a:pt x="7503" y="21084"/>
                </a:lnTo>
                <a:cubicBezTo>
                  <a:pt x="5012" y="20286"/>
                  <a:pt x="2895" y="18610"/>
                  <a:pt x="1546" y="16368"/>
                </a:cubicBezTo>
                <a:lnTo>
                  <a:pt x="-767" y="17761"/>
                </a:lnTo>
                <a:lnTo>
                  <a:pt x="584" y="12320"/>
                </a:lnTo>
                <a:lnTo>
                  <a:pt x="6026" y="13672"/>
                </a:lnTo>
                <a:lnTo>
                  <a:pt x="3713" y="15064"/>
                </a:lnTo>
                <a:close/>
              </a:path>
            </a:pathLst>
          </a:cu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1" descr="Microsoft-SidewinderFF2"/>
          <p:cNvPicPr/>
          <p:nvPr/>
        </p:nvPicPr>
        <p:blipFill>
          <a:blip r:embed="rId10"/>
          <a:stretch/>
        </p:blipFill>
        <p:spPr>
          <a:xfrm>
            <a:off x="3352680" y="4876920"/>
            <a:ext cx="1100160" cy="12952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42"/>
          <p:cNvSpPr/>
          <p:nvPr/>
        </p:nvSpPr>
        <p:spPr>
          <a:xfrm>
            <a:off x="1676520" y="2362320"/>
            <a:ext cx="1143000" cy="175248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256320 h 1752480"/>
              <a:gd name="textAreaBottom" fmla="*/ 1496160 h 1752480"/>
            </a:gdLst>
            <a:ahLst/>
            <a:rect l="textAreaLeft" t="textAreaTop" r="textAreaRight" b="textAreaBottom"/>
            <a:pathLst>
              <a:path w="21600" h="21600">
                <a:moveTo>
                  <a:pt x="4658" y="5439"/>
                </a:moveTo>
                <a:cubicBezTo>
                  <a:pt x="3687" y="6551"/>
                  <a:pt x="3036" y="7907"/>
                  <a:pt x="2776" y="9360"/>
                </a:cubicBezTo>
                <a:lnTo>
                  <a:pt x="169" y="8893"/>
                </a:lnTo>
                <a:cubicBezTo>
                  <a:pt x="515" y="6967"/>
                  <a:pt x="1376" y="5171"/>
                  <a:pt x="2663" y="3698"/>
                </a:cubicBezTo>
                <a:lnTo>
                  <a:pt x="629" y="1922"/>
                </a:lnTo>
                <a:lnTo>
                  <a:pt x="6306" y="1536"/>
                </a:lnTo>
                <a:lnTo>
                  <a:pt x="6692" y="7214"/>
                </a:lnTo>
                <a:lnTo>
                  <a:pt x="4658" y="5439"/>
                </a:lnTo>
                <a:close/>
              </a:path>
            </a:pathLst>
          </a:cu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3" descr="cyborgX"/>
          <p:cNvPicPr/>
          <p:nvPr/>
        </p:nvPicPr>
        <p:blipFill>
          <a:blip r:embed="rId11"/>
          <a:stretch/>
        </p:blipFill>
        <p:spPr>
          <a:xfrm>
            <a:off x="2362320" y="1219320"/>
            <a:ext cx="1081080" cy="1185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934320" y="1523880"/>
            <a:ext cx="2514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TOR à l’analog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Formes comple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5638680"/>
            <a:ext cx="3429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Stabil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Retour d’eff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Capteurs à effet H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562720"/>
            <a:ext cx="3429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762120" y="1447920"/>
            <a:ext cx="3429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Modular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Démon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2"/>
          <a:stretch/>
        </p:blipFill>
        <p:spPr>
          <a:xfrm>
            <a:off x="3657600" y="2514600"/>
            <a:ext cx="13716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2"/>
          <p:cNvSpPr/>
          <p:nvPr/>
        </p:nvSpPr>
        <p:spPr>
          <a:xfrm>
            <a:off x="2133720" y="1371600"/>
            <a:ext cx="41068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ZoneTexte 16" descr=""/>
          <p:cNvPicPr/>
          <p:nvPr/>
        </p:nvPicPr>
        <p:blipFill>
          <a:blip r:embed="rId2"/>
          <a:stretch/>
        </p:blipFill>
        <p:spPr>
          <a:xfrm>
            <a:off x="2664000" y="609480"/>
            <a:ext cx="3260520" cy="682920"/>
          </a:xfrm>
          <a:prstGeom prst="rect">
            <a:avLst/>
          </a:prstGeom>
          <a:ln w="0">
            <a:noFill/>
          </a:ln>
        </p:spPr>
      </p:pic>
      <p:pic>
        <p:nvPicPr>
          <p:cNvPr id="84" name="ZoneTexte 16" descr=""/>
          <p:cNvPicPr/>
          <p:nvPr/>
        </p:nvPicPr>
        <p:blipFill>
          <a:blip r:embed="rId3"/>
          <a:stretch/>
        </p:blipFill>
        <p:spPr>
          <a:xfrm>
            <a:off x="2664000" y="609480"/>
            <a:ext cx="3260520" cy="68292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31"/>
          <p:cNvGrpSpPr/>
          <p:nvPr/>
        </p:nvGrpSpPr>
        <p:grpSpPr>
          <a:xfrm>
            <a:off x="1295280" y="304920"/>
            <a:ext cx="6221160" cy="6145200"/>
            <a:chOff x="1295280" y="304920"/>
            <a:chExt cx="6221160" cy="6145200"/>
          </a:xfrm>
        </p:grpSpPr>
        <p:pic>
          <p:nvPicPr>
            <p:cNvPr id="86" name="Ellipse 3" descr=""/>
            <p:cNvPicPr/>
            <p:nvPr/>
          </p:nvPicPr>
          <p:blipFill>
            <a:blip r:embed="rId4"/>
            <a:stretch/>
          </p:blipFill>
          <p:spPr>
            <a:xfrm>
              <a:off x="1295280" y="304920"/>
              <a:ext cx="6221160" cy="614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Ellipse 5" descr=""/>
            <p:cNvPicPr/>
            <p:nvPr/>
          </p:nvPicPr>
          <p:blipFill>
            <a:blip r:embed="rId5"/>
            <a:stretch/>
          </p:blipFill>
          <p:spPr>
            <a:xfrm>
              <a:off x="3035160" y="2133720"/>
              <a:ext cx="2657520" cy="266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ZoneTexte 16" descr=""/>
            <p:cNvPicPr/>
            <p:nvPr/>
          </p:nvPicPr>
          <p:blipFill>
            <a:blip r:embed="rId6"/>
            <a:stretch/>
          </p:blipFill>
          <p:spPr>
            <a:xfrm>
              <a:off x="2742840" y="536760"/>
              <a:ext cx="3256200" cy="68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AutoShape 33"/>
          <p:cNvSpPr/>
          <p:nvPr/>
        </p:nvSpPr>
        <p:spPr>
          <a:xfrm>
            <a:off x="5715000" y="2438280"/>
            <a:ext cx="1295280" cy="1371600"/>
          </a:xfrm>
          <a:custGeom>
            <a:avLst/>
            <a:gdLst>
              <a:gd name="textAreaLeft" fmla="*/ 189720 w 1295280"/>
              <a:gd name="textAreaRight" fmla="*/ 1105560 w 129528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18182" y="11976"/>
                </a:moveTo>
                <a:cubicBezTo>
                  <a:pt x="18244" y="11587"/>
                  <a:pt x="18276" y="11194"/>
                  <a:pt x="18276" y="10800"/>
                </a:cubicBezTo>
                <a:cubicBezTo>
                  <a:pt x="18276" y="8502"/>
                  <a:pt x="17219" y="6332"/>
                  <a:pt x="15411" y="4915"/>
                </a:cubicBezTo>
                <a:lnTo>
                  <a:pt x="17461" y="2299"/>
                </a:lnTo>
                <a:cubicBezTo>
                  <a:pt x="20073" y="4346"/>
                  <a:pt x="21600" y="7480"/>
                  <a:pt x="21600" y="10800"/>
                </a:cubicBezTo>
                <a:cubicBezTo>
                  <a:pt x="21600" y="11369"/>
                  <a:pt x="21554" y="11937"/>
                  <a:pt x="21465" y="12500"/>
                </a:cubicBezTo>
                <a:lnTo>
                  <a:pt x="24131" y="12925"/>
                </a:lnTo>
                <a:lnTo>
                  <a:pt x="19137" y="16546"/>
                </a:lnTo>
                <a:lnTo>
                  <a:pt x="15516" y="11551"/>
                </a:lnTo>
                <a:lnTo>
                  <a:pt x="18182" y="11976"/>
                </a:lnTo>
                <a:close/>
              </a:path>
            </a:pathLst>
          </a:cu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5" descr="joystick atari"/>
          <p:cNvPicPr/>
          <p:nvPr/>
        </p:nvPicPr>
        <p:blipFill>
          <a:blip r:embed="rId7"/>
          <a:stretch/>
        </p:blipFill>
        <p:spPr>
          <a:xfrm>
            <a:off x="5410080" y="1295280"/>
            <a:ext cx="1220760" cy="129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6" descr="quickshort ventouse"/>
          <p:cNvPicPr/>
          <p:nvPr/>
        </p:nvPicPr>
        <p:blipFill>
          <a:blip r:embed="rId8"/>
          <a:stretch/>
        </p:blipFill>
        <p:spPr>
          <a:xfrm>
            <a:off x="5791320" y="3733920"/>
            <a:ext cx="1085760" cy="14475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38"/>
          <p:cNvSpPr/>
          <p:nvPr/>
        </p:nvSpPr>
        <p:spPr>
          <a:xfrm>
            <a:off x="3733920" y="5029200"/>
            <a:ext cx="2209680" cy="83808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122760 h 838080"/>
              <a:gd name="textAreaBottom" fmla="*/ 715320 h 838080"/>
            </a:gdLst>
            <a:ahLst/>
            <a:rect l="textAreaLeft" t="textAreaTop" r="textAreaRight" b="textAreaBottom"/>
            <a:pathLst>
              <a:path w="21600" h="21600">
                <a:moveTo>
                  <a:pt x="12754" y="17426"/>
                </a:moveTo>
                <a:cubicBezTo>
                  <a:pt x="14737" y="16841"/>
                  <a:pt x="16354" y="15399"/>
                  <a:pt x="17161" y="13496"/>
                </a:cubicBezTo>
                <a:lnTo>
                  <a:pt x="20743" y="15015"/>
                </a:lnTo>
                <a:cubicBezTo>
                  <a:pt x="19482" y="17990"/>
                  <a:pt x="16955" y="20244"/>
                  <a:pt x="13855" y="21158"/>
                </a:cubicBezTo>
                <a:lnTo>
                  <a:pt x="14619" y="23748"/>
                </a:lnTo>
                <a:lnTo>
                  <a:pt x="8848" y="20608"/>
                </a:lnTo>
                <a:lnTo>
                  <a:pt x="11990" y="14836"/>
                </a:lnTo>
                <a:lnTo>
                  <a:pt x="12754" y="17426"/>
                </a:lnTo>
                <a:close/>
              </a:path>
            </a:pathLst>
          </a:cu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9" descr="logiteck attack 3"/>
          <p:cNvPicPr/>
          <p:nvPr/>
        </p:nvPicPr>
        <p:blipFill>
          <a:blip r:embed="rId9"/>
          <a:stretch/>
        </p:blipFill>
        <p:spPr>
          <a:xfrm>
            <a:off x="1752480" y="3352680"/>
            <a:ext cx="965160" cy="13338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40"/>
          <p:cNvSpPr/>
          <p:nvPr/>
        </p:nvSpPr>
        <p:spPr>
          <a:xfrm>
            <a:off x="2514600" y="3886200"/>
            <a:ext cx="1523880" cy="1752480"/>
          </a:xfrm>
          <a:custGeom>
            <a:avLst/>
            <a:gdLst>
              <a:gd name="textAreaLeft" fmla="*/ 223200 w 1523880"/>
              <a:gd name="textAreaRight" fmla="*/ 1300680 w 1523880"/>
              <a:gd name="textAreaTop" fmla="*/ 256320 h 1752480"/>
              <a:gd name="textAreaBottom" fmla="*/ 1496160 h 1752480"/>
            </a:gdLst>
            <a:ahLst/>
            <a:rect l="textAreaLeft" t="textAreaTop" r="textAreaRight" b="textAreaBottom"/>
            <a:pathLst>
              <a:path w="21600" h="21600">
                <a:moveTo>
                  <a:pt x="3713" y="15064"/>
                </a:moveTo>
                <a:cubicBezTo>
                  <a:pt x="4746" y="16781"/>
                  <a:pt x="6367" y="18064"/>
                  <a:pt x="8275" y="18676"/>
                </a:cubicBezTo>
                <a:lnTo>
                  <a:pt x="7503" y="21084"/>
                </a:lnTo>
                <a:cubicBezTo>
                  <a:pt x="5012" y="20286"/>
                  <a:pt x="2895" y="18610"/>
                  <a:pt x="1546" y="16368"/>
                </a:cubicBezTo>
                <a:lnTo>
                  <a:pt x="-767" y="17761"/>
                </a:lnTo>
                <a:lnTo>
                  <a:pt x="584" y="12320"/>
                </a:lnTo>
                <a:lnTo>
                  <a:pt x="6026" y="13672"/>
                </a:lnTo>
                <a:lnTo>
                  <a:pt x="3713" y="15064"/>
                </a:lnTo>
                <a:close/>
              </a:path>
            </a:pathLst>
          </a:cu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1" descr="Microsoft-SidewinderFF2"/>
          <p:cNvPicPr/>
          <p:nvPr/>
        </p:nvPicPr>
        <p:blipFill>
          <a:blip r:embed="rId10"/>
          <a:stretch/>
        </p:blipFill>
        <p:spPr>
          <a:xfrm>
            <a:off x="3406680" y="4952880"/>
            <a:ext cx="1035000" cy="121932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2"/>
          <p:cNvSpPr/>
          <p:nvPr/>
        </p:nvSpPr>
        <p:spPr>
          <a:xfrm>
            <a:off x="1676520" y="2362320"/>
            <a:ext cx="1143000" cy="175248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256320 h 1752480"/>
              <a:gd name="textAreaBottom" fmla="*/ 1496160 h 1752480"/>
            </a:gdLst>
            <a:ahLst/>
            <a:rect l="textAreaLeft" t="textAreaTop" r="textAreaRight" b="textAreaBottom"/>
            <a:pathLst>
              <a:path w="21600" h="21600">
                <a:moveTo>
                  <a:pt x="4658" y="5439"/>
                </a:moveTo>
                <a:cubicBezTo>
                  <a:pt x="3687" y="6551"/>
                  <a:pt x="3036" y="7907"/>
                  <a:pt x="2776" y="9360"/>
                </a:cubicBezTo>
                <a:lnTo>
                  <a:pt x="169" y="8893"/>
                </a:lnTo>
                <a:cubicBezTo>
                  <a:pt x="515" y="6967"/>
                  <a:pt x="1376" y="5171"/>
                  <a:pt x="2663" y="3698"/>
                </a:cubicBezTo>
                <a:lnTo>
                  <a:pt x="629" y="1922"/>
                </a:lnTo>
                <a:lnTo>
                  <a:pt x="6306" y="1536"/>
                </a:lnTo>
                <a:lnTo>
                  <a:pt x="6692" y="7214"/>
                </a:lnTo>
                <a:lnTo>
                  <a:pt x="4658" y="5439"/>
                </a:lnTo>
                <a:close/>
              </a:path>
            </a:pathLst>
          </a:cu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3" descr="cyborgX"/>
          <p:cNvPicPr/>
          <p:nvPr/>
        </p:nvPicPr>
        <p:blipFill>
          <a:blip r:embed="rId11"/>
          <a:stretch/>
        </p:blipFill>
        <p:spPr>
          <a:xfrm>
            <a:off x="2362320" y="1219320"/>
            <a:ext cx="1081080" cy="11858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0" y="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îne d’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6324480" y="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îne d’éne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0" y="6248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é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781680" y="58672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éri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Diagramme 23" descr=""/>
          <p:cNvPicPr/>
          <p:nvPr/>
        </p:nvPicPr>
        <p:blipFill>
          <a:blip r:embed="rId12"/>
          <a:stretch/>
        </p:blipFill>
        <p:spPr>
          <a:xfrm>
            <a:off x="4114800" y="4419720"/>
            <a:ext cx="1182600" cy="738000"/>
          </a:xfrm>
          <a:prstGeom prst="rect">
            <a:avLst/>
          </a:prstGeom>
          <a:ln w="0">
            <a:noFill/>
          </a:ln>
        </p:spPr>
      </p:pic>
      <p:pic>
        <p:nvPicPr>
          <p:cNvPr id="103" name="Diagramme 36" descr=""/>
          <p:cNvPicPr/>
          <p:nvPr/>
        </p:nvPicPr>
        <p:blipFill>
          <a:blip r:embed="rId13"/>
          <a:stretch/>
        </p:blipFill>
        <p:spPr>
          <a:xfrm>
            <a:off x="5181480" y="2590920"/>
            <a:ext cx="10731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Image1"/>
          <p:cNvPicPr/>
          <p:nvPr/>
        </p:nvPicPr>
        <p:blipFill>
          <a:blip r:embed="rId2"/>
          <a:stretch/>
        </p:blipFill>
        <p:spPr>
          <a:xfrm>
            <a:off x="609480" y="457200"/>
            <a:ext cx="4114800" cy="3463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joystick vintage 1"/>
          <p:cNvPicPr/>
          <p:nvPr/>
        </p:nvPicPr>
        <p:blipFill>
          <a:blip r:embed="rId3"/>
          <a:stretch/>
        </p:blipFill>
        <p:spPr>
          <a:xfrm>
            <a:off x="4913280" y="2362320"/>
            <a:ext cx="3738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0"/>
          <p:cNvSpPr/>
          <p:nvPr/>
        </p:nvSpPr>
        <p:spPr>
          <a:xfrm>
            <a:off x="60948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Questionnement n°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1217520"/>
          <a:ext cx="9144000" cy="5640480"/>
        </p:xfrm>
        <a:graphic>
          <a:graphicData uri="http://schemas.openxmlformats.org/drawingml/2006/table">
            <a:tbl>
              <a:tblPr/>
              <a:tblGrid>
                <a:gridCol w="1127160"/>
                <a:gridCol w="1235160"/>
                <a:gridCol w="1052280"/>
                <a:gridCol w="1386000"/>
                <a:gridCol w="1574640"/>
                <a:gridCol w="2768760"/>
              </a:tblGrid>
              <a:tr h="417600">
                <a:tc gridSpan="2"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is d’évolu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i 4 : Augmentation du niveau d’idéalité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mp technolog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novation princip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lution technolog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ipe phys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tés associées / piste de proj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5680">
                <a:tc>
                  <a:txBody>
                    <a:bodyPr lIns="0" rIns="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ucture et matéri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îne numérique de p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ulage complex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Utilisation modeleur volum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 gridSpan="2">
                  <a:txBody>
                    <a:bodyPr lIns="0" rIns="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is d’évolu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756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i 4 : Augmentation du niveau d’idéalit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0840">
                <a:tc>
                  <a:txBody>
                    <a:bodyPr lIns="0" rIns="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ucture et matéri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bilit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 élar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Analyse du bascul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4040">
                <a:tc gridSpan="2">
                  <a:txBody>
                    <a:bodyPr lIns="0" rIns="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is d’évolu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756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i 4 : Augmentation du niveau d’idéalit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i 7: Loi de transition du niveau « macro » vers le niveau « micro » (on passe d’une structure rigide à une structure modulair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8080">
                <a:tc>
                  <a:txBody>
                    <a:bodyPr lIns="0" rIns="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ucture et matéri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gonomie, encombr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chitecture régl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ularit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ude morpho-dimensionnel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10" name="Picture 202" descr="quickshort ventouse"/>
          <p:cNvPicPr/>
          <p:nvPr/>
        </p:nvPicPr>
        <p:blipFill>
          <a:blip r:embed="rId2"/>
          <a:stretch/>
        </p:blipFill>
        <p:spPr>
          <a:xfrm>
            <a:off x="228600" y="2209680"/>
            <a:ext cx="628560" cy="838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3" descr="logiteck attack 3"/>
          <p:cNvPicPr/>
          <p:nvPr/>
        </p:nvPicPr>
        <p:blipFill>
          <a:blip r:embed="rId3"/>
          <a:stretch/>
        </p:blipFill>
        <p:spPr>
          <a:xfrm>
            <a:off x="304920" y="3733920"/>
            <a:ext cx="606240" cy="838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7" descr="cyborgX"/>
          <p:cNvPicPr/>
          <p:nvPr/>
        </p:nvPicPr>
        <p:blipFill>
          <a:blip r:embed="rId4"/>
          <a:stretch/>
        </p:blipFill>
        <p:spPr>
          <a:xfrm>
            <a:off x="152280" y="5638680"/>
            <a:ext cx="873360" cy="957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66680" y="533520"/>
            <a:ext cx="8686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uelles sont les innovations ayant permis d’améliorer l’ergonomi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t le design des contrôleurs de jeux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5" descr="joystick atari"/>
          <p:cNvPicPr/>
          <p:nvPr/>
        </p:nvPicPr>
        <p:blipFill>
          <a:blip r:embed="rId5"/>
          <a:stretch/>
        </p:blipFill>
        <p:spPr>
          <a:xfrm>
            <a:off x="228600" y="152280"/>
            <a:ext cx="861840" cy="914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880" y="1066680"/>
            <a:ext cx="381240" cy="609840"/>
          </a:xfrm>
          <a:prstGeom prst="downArrow">
            <a:avLst>
              <a:gd name="adj1" fmla="val 40000"/>
              <a:gd name="adj2" fmla="val 4415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1219320"/>
            <a:ext cx="678168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3048120"/>
            <a:ext cx="381240" cy="609480"/>
          </a:xfrm>
          <a:prstGeom prst="downArrow">
            <a:avLst>
              <a:gd name="adj1" fmla="val 40000"/>
              <a:gd name="adj2" fmla="val 4412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4800600"/>
            <a:ext cx="381240" cy="609480"/>
          </a:xfrm>
          <a:prstGeom prst="downArrow">
            <a:avLst>
              <a:gd name="adj1" fmla="val 40000"/>
              <a:gd name="adj2" fmla="val 4412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3124080"/>
            <a:ext cx="67816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4724280"/>
            <a:ext cx="678168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0" y="2057400"/>
          <a:ext cx="9144000" cy="2879640"/>
        </p:xfrm>
        <a:graphic>
          <a:graphicData uri="http://schemas.openxmlformats.org/drawingml/2006/table">
            <a:tbl>
              <a:tblPr/>
              <a:tblGrid>
                <a:gridCol w="1127160"/>
                <a:gridCol w="1082520"/>
                <a:gridCol w="1204920"/>
                <a:gridCol w="1239840"/>
                <a:gridCol w="1720800"/>
                <a:gridCol w="2768760"/>
              </a:tblGrid>
              <a:tr h="441360">
                <a:tc gridSpan="2"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is d’évolu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7560" bIns="0" anchor="ctr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i n°8    Augmentation de la contrôlabilité et du dynamism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mp technolog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novation princip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lution technolog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ipe phys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tés associées / piste de proj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18960">
                <a:tc>
                  <a:txBody>
                    <a:bodyPr lIns="0" rIns="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écision de la comm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tentiomè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i d’Oh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 de la nature du sig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9960">
                <a:tc gridSpan="2">
                  <a:txBody>
                    <a:bodyPr lIns="0" rIns="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is d’évolu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7560" bIns="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i n°8    Augmentation de la contrôlabilité et du dynamism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3" name="Rectangle 10"/>
          <p:cNvSpPr/>
          <p:nvPr/>
        </p:nvSpPr>
        <p:spPr>
          <a:xfrm>
            <a:off x="60948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Questionnement n°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4724280"/>
          <a:ext cx="9144000" cy="1384560"/>
        </p:xfrm>
        <a:graphic>
          <a:graphicData uri="http://schemas.openxmlformats.org/drawingml/2006/table">
            <a:tbl>
              <a:tblPr/>
              <a:tblGrid>
                <a:gridCol w="1127160"/>
                <a:gridCol w="1082520"/>
                <a:gridCol w="1204920"/>
                <a:gridCol w="1239840"/>
                <a:gridCol w="1720800"/>
                <a:gridCol w="2768760"/>
              </a:tblGrid>
              <a:tr h="1384560">
                <a:tc>
                  <a:txBody>
                    <a:bodyPr lIns="0" rIns="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our d’effo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tor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 ax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Mise en œuvre du retour d’effo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Mesure et analyse de la variation des efforts ressent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25" name="Picture 34" descr="Microsoft-SidewinderFF2"/>
          <p:cNvPicPr/>
          <p:nvPr/>
        </p:nvPicPr>
        <p:blipFill>
          <a:blip r:embed="rId2"/>
          <a:stretch/>
        </p:blipFill>
        <p:spPr>
          <a:xfrm>
            <a:off x="152280" y="4952880"/>
            <a:ext cx="906480" cy="1067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7" descr="quickshort ventouse"/>
          <p:cNvPicPr/>
          <p:nvPr/>
        </p:nvPicPr>
        <p:blipFill>
          <a:blip r:embed="rId3"/>
          <a:stretch/>
        </p:blipFill>
        <p:spPr>
          <a:xfrm>
            <a:off x="228600" y="3124080"/>
            <a:ext cx="743040" cy="990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38080" y="762120"/>
            <a:ext cx="8686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uelles sont les innovations ayant permis d’amélio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es sensations d’immersion pour les jeux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5" descr="joystick atari"/>
          <p:cNvPicPr/>
          <p:nvPr/>
        </p:nvPicPr>
        <p:blipFill>
          <a:blip r:embed="rId4"/>
          <a:stretch/>
        </p:blipFill>
        <p:spPr>
          <a:xfrm>
            <a:off x="228600" y="609480"/>
            <a:ext cx="861840" cy="914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0880" y="1676520"/>
            <a:ext cx="381240" cy="609480"/>
          </a:xfrm>
          <a:prstGeom prst="downArrow">
            <a:avLst>
              <a:gd name="adj1" fmla="val 40000"/>
              <a:gd name="adj2" fmla="val 4412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4191120"/>
            <a:ext cx="381240" cy="609480"/>
          </a:xfrm>
          <a:prstGeom prst="downArrow">
            <a:avLst>
              <a:gd name="adj1" fmla="val 40000"/>
              <a:gd name="adj2" fmla="val 4412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2057400"/>
            <a:ext cx="693432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4267080"/>
            <a:ext cx="693432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5" descr="joystick atari"/>
          <p:cNvPicPr/>
          <p:nvPr/>
        </p:nvPicPr>
        <p:blipFill>
          <a:blip r:embed="rId5"/>
          <a:stretch/>
        </p:blipFill>
        <p:spPr>
          <a:xfrm>
            <a:off x="228600" y="609480"/>
            <a:ext cx="861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0"/>
          <p:cNvSpPr/>
          <p:nvPr/>
        </p:nvSpPr>
        <p:spPr>
          <a:xfrm>
            <a:off x="68580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Questionnement n°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1550880"/>
          <a:ext cx="9144000" cy="5372280"/>
        </p:xfrm>
        <a:graphic>
          <a:graphicData uri="http://schemas.openxmlformats.org/drawingml/2006/table">
            <a:tbl>
              <a:tblPr/>
              <a:tblGrid>
                <a:gridCol w="1066680"/>
                <a:gridCol w="60480"/>
                <a:gridCol w="1158840"/>
                <a:gridCol w="1128600"/>
                <a:gridCol w="1309680"/>
                <a:gridCol w="1650960"/>
                <a:gridCol w="2768760"/>
              </a:tblGrid>
              <a:tr h="417600">
                <a:tc gridSpan="3">
                  <a:txBody>
                    <a:bodyPr lIns="0" rIns="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i d’év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i n°4 : Augmentation du niveau d’idé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mp technolog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novation princip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lution technolog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ipe phys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tés associées / piste de proj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3040">
                <a:tc>
                  <a:txBody>
                    <a:bodyPr lIns="0" rIns="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 TOR à l’analog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tentiomè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i d’Oh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Conversion analogique / numé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480">
                <a:tc gridSpan="3">
                  <a:txBody>
                    <a:bodyPr lIns="0" rIns="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i d’év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756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i 1: Loi d’intégralité des parties du systè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0480">
                <a:tc gridSpan="2">
                  <a:txBody>
                    <a:bodyPr lIns="0" rIns="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éliorer la compatibilit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U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agation d’un signal élect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age-Transmission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écodage d’un mess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600">
                <a:tc gridSpan="3">
                  <a:txBody>
                    <a:bodyPr lIns="0" rIns="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i d’év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i n°4 : Augmentation du niveau d’idéalit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i n°8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mentation de la contrôlabilité et du dynamism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5560">
                <a:tc gridSpan="2">
                  <a:txBody>
                    <a:bodyPr lIns="0" rIns="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s f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étection des mouv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uetoo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éléromè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agation d’ondes électromagnét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éation d’un T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sure des accélé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7" name="Picture 202" descr="quickshort ventouse"/>
          <p:cNvPicPr/>
          <p:nvPr/>
        </p:nvPicPr>
        <p:blipFill>
          <a:blip r:embed="rId2"/>
          <a:stretch/>
        </p:blipFill>
        <p:spPr>
          <a:xfrm>
            <a:off x="228600" y="2514600"/>
            <a:ext cx="62856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G:\SI CIT\photo manettes\wiimote.jpg"/>
          <p:cNvPicPr/>
          <p:nvPr/>
        </p:nvPicPr>
        <p:blipFill>
          <a:blip r:embed="rId3"/>
          <a:stretch/>
        </p:blipFill>
        <p:spPr>
          <a:xfrm>
            <a:off x="152280" y="5791320"/>
            <a:ext cx="833400" cy="838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66680" y="685800"/>
            <a:ext cx="8686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uelles sont les innovations ayant permis d’améliorer  la communic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ntre les contrôleurs de jeux et les ordinateurs ?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5" descr="joystick atari"/>
          <p:cNvPicPr/>
          <p:nvPr/>
        </p:nvPicPr>
        <p:blipFill>
          <a:blip r:embed="rId4"/>
          <a:stretch/>
        </p:blipFill>
        <p:spPr>
          <a:xfrm>
            <a:off x="152280" y="304920"/>
            <a:ext cx="862200" cy="914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1295280"/>
            <a:ext cx="381240" cy="609840"/>
          </a:xfrm>
          <a:prstGeom prst="downArrow">
            <a:avLst>
              <a:gd name="adj1" fmla="val 40000"/>
              <a:gd name="adj2" fmla="val 4415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3429000"/>
            <a:ext cx="381240" cy="609480"/>
          </a:xfrm>
          <a:prstGeom prst="downArrow">
            <a:avLst>
              <a:gd name="adj1" fmla="val 40000"/>
              <a:gd name="adj2" fmla="val 4412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105520"/>
            <a:ext cx="381240" cy="609480"/>
          </a:xfrm>
          <a:prstGeom prst="downArrow">
            <a:avLst>
              <a:gd name="adj1" fmla="val 40000"/>
              <a:gd name="adj2" fmla="val 4412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03" descr="logiteck attack 3"/>
          <p:cNvPicPr/>
          <p:nvPr/>
        </p:nvPicPr>
        <p:blipFill>
          <a:blip r:embed="rId5"/>
          <a:stretch/>
        </p:blipFill>
        <p:spPr>
          <a:xfrm>
            <a:off x="228600" y="4114800"/>
            <a:ext cx="606600" cy="838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286000" y="1523880"/>
            <a:ext cx="68580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3505320"/>
            <a:ext cx="68580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5105520"/>
            <a:ext cx="685800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fond d'écran 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ctivité commune aux trois questionn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453960"/>
            <a:ext cx="914400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0:36:42Z</dcterms:created>
  <dc:creator>Laurent</dc:creator>
  <dc:description/>
  <dc:language>en-US</dc:language>
  <cp:lastModifiedBy>modele</cp:lastModifiedBy>
  <dcterms:modified xsi:type="dcterms:W3CDTF">2010-06-07T12:13:00Z</dcterms:modified>
  <cp:revision>56</cp:revision>
  <dc:subject/>
  <dc:title>Présentation PowerPoint</dc:title>
</cp:coreProperties>
</file>