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AE1-ACF1-4B3A-82CF-3FCC964D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FE3-A83F-4759-9801-8904CE29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FDA-66CF-47CD-8FF6-E3641A7E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237A-B9EB-4ABF-B953-3616FA23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1E26-159B-422B-BACB-4656DF34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6A4D-2DBD-458E-906B-2AF8DA5C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F0E7-3FCA-4655-90FB-CD3A0E22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F87F-AC10-4A5E-96AB-2F7B4FD2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B98A-6665-4B77-9D71-794EBA01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C62E-9E2D-494D-9997-0509EB4C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8A41-4395-4C9B-868B-69465673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DD1-36F4-441B-92E7-1D9DC2E2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720E-FB22-4E67-8253-176A7245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1F6E-063D-4BEA-B986-0ACCDB02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098F-46E8-46DA-BC71-79088ED4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B78B-72B1-419E-A8D3-85ACC686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5B0C-FA3D-4576-B1E0-A988CF8D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5850-C939-4CFF-8558-3D4490EB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5BC-0355-4E44-AC8C-04AE9F84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9F9-A96B-4994-AD12-032F4EF8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EF8-CD7B-4E3F-81F7-51819ACD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D6E3-E038-4924-B372-604C6312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884-9064-425D-9304-95F2D173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D2C-B659-4C8B-8C31-73948B63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7864-3FA9-40A9-8A90-391C94CCA5E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07FE-B30F-4F7E-92F1-0EBA240E0A4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16000" y="2276640"/>
          <a:ext cx="8748720" cy="3420720"/>
        </p:xfrm>
        <a:graphic>
          <a:graphicData uri="http://schemas.openxmlformats.org/drawingml/2006/table">
            <a:tbl>
              <a:tblPr/>
              <a:tblGrid>
                <a:gridCol w="2879640"/>
                <a:gridCol w="5869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8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édiger un rappo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 rapport est correctement rédig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présentation est soigné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contraintes rédactionnelles sont respectées      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informations sont correctement structuré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éléments techniques essentiels sont  correctement mis en évid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informations sont nécessaires et suffisantes à la compréhens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RAPPORT DE STAGE DE 1</a:t>
            </a:r>
            <a:r>
              <a:rPr b="1" lang="fr-FR" sz="36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Réd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re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49400" y="2193840"/>
          <a:ext cx="8928000" cy="445608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ésenter l’entreprise et le service maintenance 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oser le dossier en fonction du temps imparti en utilisant un vocabulaire technique adapt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présentation est correctement structuré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supports présentés sont correctement rédigé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contraintes de la présentation sont respectées Le vocabulaire technique est utilisé à bon escien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d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Pré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re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RAPPORT DE STAGE DE 1</a:t>
            </a:r>
            <a:r>
              <a:rPr b="1" lang="fr-FR" sz="36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49400" y="2193840"/>
          <a:ext cx="8928000" cy="454824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ésenter l’entreprise et le service maintenance 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oser le dossier en fonction du temps imparti en utilisant un vocabulaire technique adapt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présentation est correctement structuré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supports présentés sont correctement rédigé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contraintes de la présentation sont respectées Le vocabulaire technique est utilisé à bon escien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senter les activités de maintenance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tre en évidence et argumenter les éléments techniques essenti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éléments techniques essentiels sont correctement mis en évid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d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Pré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re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RAPPORT DE STAGE DE 1</a:t>
            </a:r>
            <a:r>
              <a:rPr b="1" lang="fr-FR" sz="36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49400" y="2430360"/>
          <a:ext cx="8928000" cy="189864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8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orter des réponses judicieuses et pertinentes aux questions posé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réponses apportées sont judicieuses et pertinent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d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Entre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RAPPORT DE STAGE DE 1</a:t>
            </a:r>
            <a:r>
              <a:rPr b="1" lang="fr-FR" sz="36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RAPPORT DE STAGE DE 1</a:t>
            </a:r>
            <a:r>
              <a:rPr b="1" lang="fr-FR" sz="36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d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re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84720" y="31417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otal /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DOSSIER TECHNIQUE L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U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estion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Étu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0000" y="3213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es indicateurs de performances sont ceux définis dans le référentiel de certif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16000" y="2276640"/>
          <a:ext cx="8748720" cy="2950920"/>
        </p:xfrm>
        <a:graphic>
          <a:graphicData uri="http://schemas.openxmlformats.org/drawingml/2006/table">
            <a:tbl>
              <a:tblPr/>
              <a:tblGrid>
                <a:gridCol w="2879640"/>
                <a:gridCol w="5869080"/>
              </a:tblGrid>
              <a:tr h="5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érer le projet techn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note de cadrage du projet est correctement réalisée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finition du beso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ication des contraintes et des informations nécessaires au proje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finition des tâches nécessaires au déroulement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Gestion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Étu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DOSSIER TECHNIQUE L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U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49400" y="2193840"/>
          <a:ext cx="8928000" cy="315432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47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uer l’étude préalable technique     (si la note de cadrage le précise) 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laborer le dossier de réalisation du proje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propositions de solutions techniques sont pertinentes 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solution est correctement décrite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estion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Étu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DOSSIER TECHNIQUE L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U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49400" y="2193840"/>
          <a:ext cx="8928000" cy="314640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5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uer l’étude préalable technique     (si la note de cadrage le précise) 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laborer le dossier de réalisation du proje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propositions de solutions techniques sont pertinentes 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solution est correctement décrite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besoins matériels pour la réalisation du projet sont correctement définis 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 planning prévisionnel pour la réalisation du projet est correctement établi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estion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Étu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DOSSIER TECHNIQUE L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U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49400" y="2430360"/>
          <a:ext cx="8928000" cy="199872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tre en œuvre la réalisation du proje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réalisation du projet est correctement mise en œuvr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4" marL="1752480"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estion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Étu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DOSSIER TECHNIQUE L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U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1066680"/>
            <a:ext cx="7772400" cy="351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SOUS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PREUVE E6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S EN MILIEU PROFESSIONN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544500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 Narrow"/>
              </a:rPr>
              <a:t>preuve ponctuelle orale : durée 1he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149400" y="2430360"/>
          <a:ext cx="8928000" cy="199872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tre en œuvre la réalisation du proje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réalisation du projet est correctement mise en œuvr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solution est opérationnell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estion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Étu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DOSSIER TECHNIQUE L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U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384720" y="2997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otal /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estion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Étu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DOSSIER TECHNIQUE L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U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ynthè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0000" y="3213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es indicateurs de performances sont ceux définis dans le référentiel de certif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E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LA REVUE DE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16000" y="2276640"/>
          <a:ext cx="8748720" cy="3179520"/>
        </p:xfrm>
        <a:graphic>
          <a:graphicData uri="http://schemas.openxmlformats.org/drawingml/2006/table">
            <a:tbl>
              <a:tblPr/>
              <a:tblGrid>
                <a:gridCol w="2879640"/>
                <a:gridCol w="586908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arer et mettre en œuvre les moyens nécessaires pour assurer le bon déroulement de la réunion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senter l’ordre du jour de la réun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organisation de la réunion est correctement effectué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ordre du jour est correctement présenté et respect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E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LA REVUE DE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Pré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ynthè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149400" y="2193840"/>
          <a:ext cx="8928000" cy="208116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duir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 animer la réun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que participant a pu s’exprimer, les opinions et avis exprimés sont pris en considératio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moyens de communication choisis facilitent la compréhension et le traitement du problè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E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LA REVUE DE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ynthè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49400" y="2430360"/>
          <a:ext cx="8928000" cy="190044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8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Élaborer une synthèse par rapport aux objectifs fixés et établir le bilan de la réun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s éléments essentiels de la réunion sont mis en éviden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E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LA REVUE DE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Synthè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E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LA REVUE DE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84720" y="2997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otal /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ynthè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LAN GLOBAL DE L’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            DE LA SOUS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PREUVE E63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41972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/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24360" y="41972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/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12000" y="41972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/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84720" y="54561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otal /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326088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apport de s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0" y="326088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327168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vue de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1773360"/>
            <a:ext cx="2592360" cy="82548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apport de stage de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èr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0" y="1774800"/>
            <a:ext cx="5472360" cy="825480"/>
          </a:xfrm>
          <a:prstGeom prst="rect">
            <a:avLst/>
          </a:prstGeom>
          <a:gradFill rotWithShape="0">
            <a:gsLst>
              <a:gs pos="0">
                <a:srgbClr val="fef8f5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jet technique                                                en milieu professio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84720" y="59594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oef. 4 / 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403280" y="213372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rci de votre atten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TRUCTURE DE L’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PREUV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55640" y="1134720"/>
            <a:ext cx="2808360" cy="2964240"/>
            <a:chOff x="755640" y="1134720"/>
            <a:chExt cx="2808360" cy="2964240"/>
          </a:xfrm>
        </p:grpSpPr>
        <p:sp>
          <p:nvSpPr>
            <p:cNvPr id="92" name=""/>
            <p:cNvSpPr/>
            <p:nvPr/>
          </p:nvSpPr>
          <p:spPr>
            <a:xfrm>
              <a:off x="755640" y="2278080"/>
              <a:ext cx="2808360" cy="182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pport de stage de 1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èr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né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6925200">
              <a:off x="2086920" y="1593360"/>
              <a:ext cx="1152720" cy="215640"/>
            </a:xfrm>
            <a:custGeom>
              <a:avLst/>
              <a:gdLst>
                <a:gd name="textAreaLeft" fmla="*/ 180000 w 1152720"/>
                <a:gd name="textAreaRight" fmla="*/ 1008720 w 115272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219640" y="1134720"/>
            <a:ext cx="3024360" cy="3003840"/>
            <a:chOff x="5219640" y="1134720"/>
            <a:chExt cx="3024360" cy="3003840"/>
          </a:xfrm>
        </p:grpSpPr>
        <p:sp>
          <p:nvSpPr>
            <p:cNvPr id="95" name=""/>
            <p:cNvSpPr/>
            <p:nvPr/>
          </p:nvSpPr>
          <p:spPr>
            <a:xfrm>
              <a:off x="5219640" y="2278080"/>
              <a:ext cx="3024360" cy="186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jet technique en milieu professionn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14674800">
              <a:off x="5688000" y="1593720"/>
              <a:ext cx="1152720" cy="216000"/>
            </a:xfrm>
            <a:custGeom>
              <a:avLst/>
              <a:gdLst>
                <a:gd name="textAreaLeft" fmla="*/ 180000 w 1152720"/>
                <a:gd name="textAreaRight" fmla="*/ 1008720 w 115272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5280" y="4221000"/>
            <a:ext cx="3816360" cy="160920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Exposé du rapport                   15 mn max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Entretien avec la commission 10 mn max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4221000"/>
            <a:ext cx="3816360" cy="1609200"/>
          </a:xfrm>
          <a:prstGeom prst="rect">
            <a:avLst/>
          </a:prstGeom>
          <a:gradFill rotWithShape="0">
            <a:gsLst>
              <a:gs pos="0">
                <a:srgbClr val="fef8f5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Exposé du projet                     15 mn max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Entretien avec la commission 20 mn max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920" y="5986440"/>
            <a:ext cx="8964720" cy="67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La commission d'interrogation est composée de 2 enseignants assurant l’enseignement des activités pratiques et d’un représentant de la profess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OBJET DE L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PREUV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55640" y="1277640"/>
            <a:ext cx="2808360" cy="2964240"/>
            <a:chOff x="755640" y="1277640"/>
            <a:chExt cx="2808360" cy="2964240"/>
          </a:xfrm>
        </p:grpSpPr>
        <p:sp>
          <p:nvSpPr>
            <p:cNvPr id="102" name=""/>
            <p:cNvSpPr/>
            <p:nvPr/>
          </p:nvSpPr>
          <p:spPr>
            <a:xfrm>
              <a:off x="755640" y="2421000"/>
              <a:ext cx="2808360" cy="182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pport de stage de 1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èr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né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6925200">
              <a:off x="2086920" y="1736280"/>
              <a:ext cx="1152720" cy="215640"/>
            </a:xfrm>
            <a:custGeom>
              <a:avLst/>
              <a:gdLst>
                <a:gd name="textAreaLeft" fmla="*/ 180000 w 1152720"/>
                <a:gd name="textAreaRight" fmla="*/ 1008720 w 115272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219640" y="1277640"/>
            <a:ext cx="3024360" cy="3003840"/>
            <a:chOff x="5219640" y="1277640"/>
            <a:chExt cx="3024360" cy="3003840"/>
          </a:xfrm>
        </p:grpSpPr>
        <p:sp>
          <p:nvSpPr>
            <p:cNvPr id="105" name=""/>
            <p:cNvSpPr/>
            <p:nvPr/>
          </p:nvSpPr>
          <p:spPr>
            <a:xfrm>
              <a:off x="5219640" y="2421000"/>
              <a:ext cx="3024360" cy="186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jet technique en milieu professionn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14674800">
              <a:off x="5688000" y="1736640"/>
              <a:ext cx="1152720" cy="216000"/>
            </a:xfrm>
            <a:custGeom>
              <a:avLst/>
              <a:gdLst>
                <a:gd name="textAreaLeft" fmla="*/ 180000 w 1152720"/>
                <a:gd name="textAreaRight" fmla="*/ 1008720 w 115272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95280" y="4556160"/>
            <a:ext cx="3816360" cy="2113200"/>
          </a:xfrm>
          <a:prstGeom prst="rect">
            <a:avLst/>
          </a:prstGeom>
          <a:gradFill rotWithShape="0">
            <a:gsLst>
              <a:gs pos="0">
                <a:srgbClr val="fefef7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P51 : Rédiger une note, un rapport, un argumentaire technique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P52 : Exposer un dossier techn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03640" y="4556160"/>
            <a:ext cx="3816360" cy="2113200"/>
          </a:xfrm>
          <a:prstGeom prst="rect">
            <a:avLst/>
          </a:prstGeom>
          <a:gradFill rotWithShape="0">
            <a:gsLst>
              <a:gs pos="0">
                <a:srgbClr val="fef8f5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P15 : Réaliser un projet technique en milieu professionnel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P53 : Animer une réunion techn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2736720"/>
            <a:ext cx="813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Seules les compétences désignées ci-dessous sont évaluées. Si d’autres compétences peuvent être mobilisées, elles ne donneront pas lieu à é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UPPORTS DE L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PREUV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55640" y="1277640"/>
            <a:ext cx="2808360" cy="2964240"/>
            <a:chOff x="755640" y="1277640"/>
            <a:chExt cx="2808360" cy="2964240"/>
          </a:xfrm>
        </p:grpSpPr>
        <p:sp>
          <p:nvSpPr>
            <p:cNvPr id="112" name=""/>
            <p:cNvSpPr/>
            <p:nvPr/>
          </p:nvSpPr>
          <p:spPr>
            <a:xfrm>
              <a:off x="755640" y="2421000"/>
              <a:ext cx="2808360" cy="182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pport de stage de 1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èr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né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6925200">
              <a:off x="2086920" y="1736280"/>
              <a:ext cx="1152720" cy="215640"/>
            </a:xfrm>
            <a:custGeom>
              <a:avLst/>
              <a:gdLst>
                <a:gd name="textAreaLeft" fmla="*/ 180000 w 1152720"/>
                <a:gd name="textAreaRight" fmla="*/ 1008720 w 115272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003640" y="1277640"/>
            <a:ext cx="3816360" cy="4978440"/>
            <a:chOff x="5003640" y="1277640"/>
            <a:chExt cx="3816360" cy="4978440"/>
          </a:xfrm>
        </p:grpSpPr>
        <p:grpSp>
          <p:nvGrpSpPr>
            <p:cNvPr id="115" name=""/>
            <p:cNvGrpSpPr/>
            <p:nvPr/>
          </p:nvGrpSpPr>
          <p:grpSpPr>
            <a:xfrm>
              <a:off x="5219640" y="1277640"/>
              <a:ext cx="3024360" cy="3003840"/>
              <a:chOff x="5219640" y="1277640"/>
              <a:chExt cx="3024360" cy="3003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219640" y="2421000"/>
                <a:ext cx="3024360" cy="1860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jet technique en milieu professionne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4674800">
                <a:off x="5688000" y="1736640"/>
                <a:ext cx="1152720" cy="216000"/>
              </a:xfrm>
              <a:custGeom>
                <a:avLst/>
                <a:gdLst>
                  <a:gd name="textAreaLeft" fmla="*/ 180000 w 1152720"/>
                  <a:gd name="textAreaRight" fmla="*/ 1008720 w 1152720"/>
                  <a:gd name="textAreaTop" fmla="*/ 54000 h 216000"/>
                  <a:gd name="textAreaBottom" fmla="*/ 162000 h 21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5003640" y="4508640"/>
              <a:ext cx="3816360" cy="1747440"/>
            </a:xfrm>
            <a:prstGeom prst="rect">
              <a:avLst/>
            </a:prstGeom>
            <a:gradFill rotWithShape="0">
              <a:gsLst>
                <a:gs pos="0">
                  <a:srgbClr val="fef8f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 algn="just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ossier techn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2520" indent="-182520" algn="just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Fiche d’évaluation de la revue de projet animée par le candidat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CONTENU DES DOCUMENTS SUPPORTS DE L’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PREUV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3571920"/>
            <a:ext cx="4032360" cy="2303640"/>
          </a:xfrm>
          <a:prstGeom prst="rect">
            <a:avLst/>
          </a:prstGeom>
          <a:gradFill rotWithShape="0">
            <a:gsLst>
              <a:gs pos="0">
                <a:srgbClr val="fefee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sentation de l’entrepris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sentation de la fonction maintenanc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sentation des activités de maintenan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1628640"/>
            <a:ext cx="2808360" cy="182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port de stage de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1447920"/>
            <a:ext cx="3024360" cy="1860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ssier technique lié a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324240"/>
            <a:ext cx="3816360" cy="3553560"/>
          </a:xfrm>
          <a:prstGeom prst="rect">
            <a:avLst/>
          </a:prstGeom>
          <a:gradFill rotWithShape="0">
            <a:gsLst>
              <a:gs pos="0">
                <a:srgbClr val="fef8f5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Description du travail réalis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- Note de cad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- Macrop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- Étude préa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- Dossier de 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Présentation de la mise en œuv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Bilan du proj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MISE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À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DISPOSITION DES DOCUMENTS SUPPORTS DE L’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PREUV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571920"/>
            <a:ext cx="3816360" cy="1099440"/>
          </a:xfrm>
          <a:prstGeom prst="rect">
            <a:avLst/>
          </a:prstGeom>
          <a:gradFill rotWithShape="0">
            <a:gsLst>
              <a:gs pos="0">
                <a:srgbClr val="fefee8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it être rendu impérativement à une date fixée annuellement au niveau de chaque académi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3571920"/>
            <a:ext cx="3816360" cy="1434600"/>
          </a:xfrm>
          <a:prstGeom prst="rect">
            <a:avLst/>
          </a:prstGeom>
          <a:gradFill rotWithShape="0">
            <a:gsLst>
              <a:gs pos="0">
                <a:srgbClr val="fef8f5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it être mis à disposition  de la commission d’examen 15 jours avant la date de démarrage de l’épreuv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1628640"/>
            <a:ext cx="2808360" cy="182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port de stage de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1628640"/>
            <a:ext cx="3024360" cy="1860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ssier technique lié a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5084640"/>
            <a:ext cx="884556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d0d"/>
                </a:solidFill>
                <a:latin typeface="Arial Narrow"/>
              </a:rPr>
              <a:t>Un candidat n’ayant pas remis son rapport, ou son projet, à la date fixée se verra attribuer la notation « non validée » pour l’épreuve E6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8000" y="5934240"/>
            <a:ext cx="886140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d0d"/>
                </a:solidFill>
                <a:latin typeface="Arial Narrow"/>
              </a:rPr>
              <a:t>Un candidat qui aurait remis son rapport, ou son projet, et répondu à sa convocation mais qui ne soutient pas son dossier se verra attribuer la note «0»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RAPPORT DE STAGE DE 1</a:t>
            </a:r>
            <a:r>
              <a:rPr b="1" lang="fr-FR" sz="36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d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re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0000" y="3213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es indicateurs de performances sont ceux définis dans le référentiel de certif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16000" y="2276640"/>
          <a:ext cx="8748720" cy="3409920"/>
        </p:xfrm>
        <a:graphic>
          <a:graphicData uri="http://schemas.openxmlformats.org/drawingml/2006/table">
            <a:tbl>
              <a:tblPr/>
              <a:tblGrid>
                <a:gridCol w="2879640"/>
                <a:gridCol w="5869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8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édiger un rappo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 rapport est correctement rédig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présentation est soigné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contraintes rédactionnelles sont respectées      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RAPPORT DE STAGE DE 1</a:t>
            </a:r>
            <a:r>
              <a:rPr b="1" lang="fr-FR" sz="36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Réd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re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François Giezek</dc:creator>
  <dc:description/>
  <dc:language>en-US</dc:language>
  <cp:lastModifiedBy>DURIEZ DOMINIQUE</cp:lastModifiedBy>
  <dcterms:modified xsi:type="dcterms:W3CDTF">2005-12-01T19:28:07Z</dcterms:modified>
  <cp:revision>75</cp:revision>
  <dc:subject/>
  <dc:title>activités et tâches professionnelles </dc:title>
</cp:coreProperties>
</file>