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448-8388-4432-A25D-F4226AE1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B18-6C12-4923-A11A-BFAA875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CBA-7B25-4B0A-B6BA-86760C41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7DC-FEC9-436B-83B6-C8C6B85C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79E7-E22E-4096-8F03-7CD77EA5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EEE-C4B3-43A0-AF71-334B2BB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23CC-3881-443B-9335-209A345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B48B-56A4-4FCA-9BB8-16F35EBB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362D-5330-441C-91D9-E7C6B83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A287-BF8C-4753-B79F-E8D6E181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E94A-0933-4F9C-BABC-533995CE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998-5AD0-4260-98A9-4124ECCD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3A3F-EFD3-4C26-909E-4D9745F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AA8D-37D2-437B-B09F-82F6D18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A41-4912-4E93-A7AE-E23A366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6AF8-250C-4260-A983-59223A58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2188-CF25-4F38-9878-87861682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EA9-D960-4909-B1B0-EF2EA839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3F1-553F-47C1-9F77-8142509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2E0-FCCB-4CF9-B72D-C3B80122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9EF-7F2D-46B4-9D88-CFBFB4D2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66B-FFE9-418E-B6F8-B847FA2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984-BA91-4ECD-9088-330FC467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BFB-5B1E-4649-BB2E-478D35F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F58B-4379-40E9-A094-D5737FE15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4B8-3D5C-4297-9C8D-304619BBE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848720" cy="15238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 projet techniqu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9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demande de projet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de la part de l’industr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8769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’est donc la conclusion d’une discussion entre l’étudiant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idé par l’équipe pédagogique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t l’entreprise d’accueil du stage de première ann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133720"/>
            <a:ext cx="76197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a intégré dans sa demande de stage de première année la possibilité de développement d’un projet de réalisation en deuxième anné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avec l’aide de l’équipe pédagogique discute avec son tuteur des possibilités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209680"/>
            <a:ext cx="7239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équipe pédagogique vérifie  la compatibilité du projet avec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objectifs du référent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contraintes tempor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données technico-économ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Étude de faisabilité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514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recommandé de n’affecter qu’un étudiant par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581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plusieurs  candidats réalisent un même projet, une attention particulière sera portée à 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artition des tâches dans le contrat individuel de travail de chaque étud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 projet est retenu et confié à un étud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ontexte du projet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971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vironnement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6576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ervices à réa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434340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 livrables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5943600" y="2286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5257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4343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868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952880"/>
            <a:ext cx="815328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 note de cadrage est un élément de l’é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’étudiant rédige l’avant projet (à joindre au dossi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’équipe pédagogique corrige et présente cette note de cadrage à la commission de vali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438280"/>
            <a:ext cx="7086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ontexte du projet techniqu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xpression du bes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but cib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secteur concern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quipements, moyens, personnels concern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acteurs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artenaires inter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582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243828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vironnement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lai (date de début et de f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yens mis à 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s antéri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intes techniques particuli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que d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810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ervices à réalise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514600"/>
            <a:ext cx="8915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Étude préalable si nécessai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cette étude a pu être réalisée précédemment par l’entreprise. Le projet consiste alors à la mise en oeuvre d’une solution décidée par l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114800"/>
            <a:ext cx="8382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Étude de réalis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cette étude ne doit pas dépasser la première période de stage de 3 semaines, le dossier de réalisation est effectu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86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ntage,câblage, programmation, tests…) dans la deuxième période de stage de 3 semai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895480"/>
            <a:ext cx="6933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 livrables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sier relatif à l’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sier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système instal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sultats des tests à la mise en oeuv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validation des proje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coordonnées de l’entreprise, la description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définition du projet comprenant les éléments de la note de cadr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contrat individuel de chaque étudiant sur un même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moyens mis à disposition des étudi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ion des cahiers des charges des projets qui comprenn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105520"/>
            <a:ext cx="7696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validation est sous la responsabilité de l’IA IPR chargé de la coordination du BTS MI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avant la fin du premier trimestre de l’année scola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e MACROPLANNING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981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quipes pédagogiques fixent le positionnement des périodes de stage avec les contraintes suiv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e ne peut pas commencer avant la validation par la commission (inter)académ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343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tervalle entre l’étude de réalisation et la réalisation doit pouvoir absorber les délais de livraison du matériel commandé suite à cette é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7913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09480"/>
            <a:ext cx="62485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éfinition du proj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annexe IIIc du référentie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057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projet technique de seconde année a une double finalit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3048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éter les acquis dans des situations particulières qui ont intérêt à s’appuyer sur un projet technique en milieu industr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876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ter les connaissances acqui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rque: Le projet technique doit relever d’une situation industrielle authent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e MACROPLANNING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90512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définit, ordonne et planifie les tâches nécessaires à la réalisation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666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technique préal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 bes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44956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se en 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10080"/>
            <a:ext cx="8382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Le Macroplanning est un élément  de l’é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343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ait appel a des connaissances acquises principalement en «Activités pratiques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 temps consacré à la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se en œuvr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du projet ne doit pas être inférieur à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5909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52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préalable et l’élaboration du dossier de réalis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nt des activités permettant de  synthétiser les savoirs des différents domaines de la formatio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670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ndant le déroulement du projet, un suivi est mis en place et permet à l’étudiant d’animer des réunions technique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52388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première période de s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 réservé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préal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 demandée dans 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ventuellement à 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se en œuvre parti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648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deuxième période de s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 exclusivement réservée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alisation ( mise en  œuvre de la sol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vers la fin de la première période de 3 semaines (après l’étude de réalisation) organise une revue de projet avec le tuteur et au moins un enseignant chargé de l’enseignement des activités prat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anime cette revu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quipe pédagogique et le tuteur évaluent la qualité de l’animation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(une grille d’évaluation nationale est en cours de réalis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projet est support de la validation de la compétence CP5.3 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imer une réunion techni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an du proj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réunit pour la présentation de son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8195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macro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documents du dossier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léments justifiant la réalisation (photos,vidé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bilan technique de la solution mise en œuvre  et la justification des écarts (temporel, technique…) entre la solution réalisée et la solution prév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thès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8600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niveau de l’entrepr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présentation du BTS rénové, du contenu des stages en entreprise et plus particulièrement du projet techniqu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forcement des partenariats avec les entrep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3716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niveau de la form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e implication de l’ensemble de l’équip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à la Démarch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à la Communication  et à l’Animation de réun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295280"/>
            <a:ext cx="883908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Apports en « Activités pratiques »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65000" indent="-98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xplicitation de la démarche de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étapes d’un projet (Note de cadrage, Macroplanning, …, Revue de projet, Bila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outils de gestion associ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ise en œuvre de la réal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65000" indent="-98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à l’animation de réun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029200"/>
            <a:ext cx="87631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orts dans les autres discip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 de réalisatio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3880" y="2438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étences visées par le projet 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P1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éa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 projet technique en milieu professio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276720"/>
            <a:ext cx="73152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P5.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m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e réunion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378400"/>
            <a:ext cx="7315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e projet est un des supports de l’épreuve E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« Activités en milieu professionnel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8229600" y="1981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Less" w="21600" h="24688">
                <a:moveTo>
                  <a:pt x="5273" y="5529"/>
                </a:moveTo>
                <a:lnTo>
                  <a:pt x="12271" y="5529"/>
                </a:lnTo>
                <a:lnTo>
                  <a:pt x="16327" y="9028"/>
                </a:lnTo>
                <a:lnTo>
                  <a:pt x="16327" y="19159"/>
                </a:lnTo>
                <a:lnTo>
                  <a:pt x="5273" y="19159"/>
                </a:lnTo>
                <a:close/>
              </a:path>
              <a:path fill="darken" w="21600" h="24688">
                <a:moveTo>
                  <a:pt x="12271" y="5529"/>
                </a:moveTo>
                <a:lnTo>
                  <a:pt x="16327" y="9028"/>
                </a:lnTo>
                <a:lnTo>
                  <a:pt x="12271" y="902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P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238880" y="3276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Less" w="21600" h="24673">
                <a:moveTo>
                  <a:pt x="5273" y="5522"/>
                </a:moveTo>
                <a:lnTo>
                  <a:pt x="12271" y="5522"/>
                </a:lnTo>
                <a:lnTo>
                  <a:pt x="16327" y="9021"/>
                </a:lnTo>
                <a:lnTo>
                  <a:pt x="16327" y="19152"/>
                </a:lnTo>
                <a:lnTo>
                  <a:pt x="5273" y="19152"/>
                </a:lnTo>
                <a:close/>
              </a:path>
              <a:path fill="darken" w="21600" h="24673">
                <a:moveTo>
                  <a:pt x="12271" y="5522"/>
                </a:moveTo>
                <a:lnTo>
                  <a:pt x="16327" y="9021"/>
                </a:lnTo>
                <a:lnTo>
                  <a:pt x="12271" y="9021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P5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924680" y="4114800"/>
            <a:ext cx="990720" cy="106668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Less" w="21600" h="23256">
                <a:moveTo>
                  <a:pt x="5273" y="4813"/>
                </a:moveTo>
                <a:lnTo>
                  <a:pt x="12271" y="4813"/>
                </a:lnTo>
                <a:lnTo>
                  <a:pt x="16327" y="8312"/>
                </a:lnTo>
                <a:lnTo>
                  <a:pt x="16327" y="18443"/>
                </a:lnTo>
                <a:lnTo>
                  <a:pt x="5273" y="18443"/>
                </a:lnTo>
                <a:close/>
              </a:path>
              <a:path fill="darken" w="21600" h="23256">
                <a:moveTo>
                  <a:pt x="12271" y="4813"/>
                </a:moveTo>
                <a:lnTo>
                  <a:pt x="16327" y="8312"/>
                </a:lnTo>
                <a:lnTo>
                  <a:pt x="12271" y="8312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s savoi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ssoci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7724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Less" w="21600" h="24303">
                <a:moveTo>
                  <a:pt x="5273" y="5337"/>
                </a:moveTo>
                <a:lnTo>
                  <a:pt x="12271" y="5337"/>
                </a:lnTo>
                <a:lnTo>
                  <a:pt x="16327" y="8835"/>
                </a:lnTo>
                <a:lnTo>
                  <a:pt x="16327" y="18967"/>
                </a:lnTo>
                <a:lnTo>
                  <a:pt x="5273" y="18967"/>
                </a:lnTo>
                <a:close/>
              </a:path>
              <a:path fill="darken" w="21600" h="24303">
                <a:moveTo>
                  <a:pt x="12271" y="5337"/>
                </a:moveTo>
                <a:lnTo>
                  <a:pt x="16327" y="8835"/>
                </a:lnTo>
                <a:lnTo>
                  <a:pt x="12271" y="8835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E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05720" cy="59137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Arial"/>
              </a:rPr>
              <a:t>CP1.5 : Réaliser un projet technique en milieu industri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95280" y="882720"/>
            <a:ext cx="6172200" cy="5975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Arial"/>
              </a:rPr>
              <a:t>CP5.3 : Animer une réunion techniqu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Arial"/>
              </a:rPr>
              <a:t>S9 Associés au proj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315200" cy="5892840"/>
          </a:xfrm>
          <a:prstGeom prst="rect">
            <a:avLst/>
          </a:prstGeom>
          <a:ln w="0">
            <a:noFill/>
          </a:ln>
        </p:spPr>
      </p:pic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86104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8380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1240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479920" cy="65530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Arial"/>
              </a:rPr>
              <a:t>U63 : activités en milieu industriel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81080" y="243000"/>
            <a:ext cx="4767480" cy="661500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2133720"/>
            <a:ext cx="350496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4419720"/>
            <a:ext cx="449604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Évolution du projet en BTS MI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0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ntrainte imposée par l’ancien référentiel : validation de la compétence CP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: méthode de maintenance associée à des compétences de réalisat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962520"/>
            <a:ext cx="7543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uveau référentiel 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validation des compétences liées à la stratégie de maintenance par une épreuve spécifique CC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657600"/>
            <a:ext cx="75438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5000" indent="-3078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g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 d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tivités d’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Étud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t d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éalisati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 solutions techniques en milieu industri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actéristique générale des proj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149800"/>
            <a:ext cx="64008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écessité d’une période Entreprise de 6 semaine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47920"/>
            <a:ext cx="7848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r>
              <a:rPr b="0" i="1" lang="fr-FR" sz="24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3078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Élargissement du champ des activités pouvant être développées par l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1998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Étud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staller et mettre au 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un moyen de surveillanc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12408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Étud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staller et mettre au 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un système d’aide au diagnostic sur une ou plusieurs machines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5100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oncevoi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éalise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s solutions d’amélioration d’un système de production en vue d’améliorer sa fiabilité et/ou sa maintenabilité et/ou sa sécurité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199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oncevo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éa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 outillage spécifique d’aide à la maintenance 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80773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éfinir</a:t>
            </a:r>
            <a:r>
              <a:rPr b="0" lang="en-US" sz="2400" spc="-1" strike="noStrike">
                <a:solidFill>
                  <a:srgbClr val="ccff99"/>
                </a:solidFill>
                <a:latin typeface="Arial"/>
                <a:ea typeface="Times New Roman"/>
              </a:rPr>
              <a:t> ou optimi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un plan de maintenance préventive et l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lider par s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581280"/>
            <a:ext cx="80769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Prépar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’installation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articip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à la réception et la mise en service de nouveaux biens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Prépar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articip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à une intervention lourde de maintenance corrective ou préventiv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ystémat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133720"/>
            <a:ext cx="79246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Optimi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gestion quotidienne de la fonction maintenance 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lider les solutions par leur mise en œuv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914400" y="838080"/>
            <a:ext cx="70102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mande de Réalisation d’un projet issue de l’entrepr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914400" y="1600200"/>
            <a:ext cx="70102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Étude de faisabilit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914400" y="2286000"/>
            <a:ext cx="70102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e projet est retenu et confié à un étud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971800"/>
            <a:ext cx="70102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daction de 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3581280"/>
            <a:ext cx="7010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alidation du projet par une commission (inter)académ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914400" y="3886200"/>
            <a:ext cx="70102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914400" y="4724280"/>
            <a:ext cx="38862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CUTION DES T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914400" y="5867280"/>
            <a:ext cx="70102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304776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É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257800"/>
            <a:ext cx="304776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Réalis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2280" y="533520"/>
            <a:ext cx="762120" cy="914400"/>
            <a:chOff x="152280" y="533520"/>
            <a:chExt cx="762120" cy="914400"/>
          </a:xfrm>
        </p:grpSpPr>
        <p:sp>
          <p:nvSpPr>
            <p:cNvPr id="142" name=""/>
            <p:cNvSpPr/>
            <p:nvPr/>
          </p:nvSpPr>
          <p:spPr>
            <a:xfrm rot="10800000">
              <a:off x="152280" y="533520"/>
              <a:ext cx="609840" cy="91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Étud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990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52280" y="2666880"/>
            <a:ext cx="762120" cy="914400"/>
            <a:chOff x="152280" y="2666880"/>
            <a:chExt cx="762120" cy="914400"/>
          </a:xfrm>
        </p:grpSpPr>
        <p:sp>
          <p:nvSpPr>
            <p:cNvPr id="145" name=""/>
            <p:cNvSpPr/>
            <p:nvPr/>
          </p:nvSpPr>
          <p:spPr>
            <a:xfrm rot="10800000">
              <a:off x="152280" y="2666880"/>
              <a:ext cx="609840" cy="91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Étud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3200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924680" y="1371600"/>
            <a:ext cx="532800" cy="2286000"/>
            <a:chOff x="7924680" y="1371600"/>
            <a:chExt cx="532800" cy="2286000"/>
          </a:xfrm>
        </p:grpSpPr>
        <p:sp>
          <p:nvSpPr>
            <p:cNvPr id="148" name=""/>
            <p:cNvSpPr/>
            <p:nvPr/>
          </p:nvSpPr>
          <p:spPr>
            <a:xfrm rot="10800000">
              <a:off x="8084160" y="1371600"/>
              <a:ext cx="373320" cy="228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Équipe pédagogique S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924680" y="190512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924680" y="251460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924680" y="320040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924680" y="3581280"/>
              <a:ext cx="15984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885840"/>
            <a:ext cx="762120" cy="2818440"/>
            <a:chOff x="152280" y="3885840"/>
            <a:chExt cx="762120" cy="2818440"/>
          </a:xfrm>
        </p:grpSpPr>
        <p:grpSp>
          <p:nvGrpSpPr>
            <p:cNvPr id="154" name=""/>
            <p:cNvGrpSpPr/>
            <p:nvPr/>
          </p:nvGrpSpPr>
          <p:grpSpPr>
            <a:xfrm>
              <a:off x="152280" y="3885840"/>
              <a:ext cx="762120" cy="2818440"/>
              <a:chOff x="152280" y="3885840"/>
              <a:chExt cx="762120" cy="2818440"/>
            </a:xfrm>
          </p:grpSpPr>
          <p:sp>
            <p:nvSpPr>
              <p:cNvPr id="155" name=""/>
              <p:cNvSpPr/>
              <p:nvPr/>
            </p:nvSpPr>
            <p:spPr>
              <a:xfrm rot="10800000">
                <a:off x="152280" y="3885840"/>
                <a:ext cx="609840" cy="2818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Étudia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2120" y="553068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62120" y="4191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6095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924320" y="380880"/>
            <a:ext cx="1219680" cy="1067040"/>
            <a:chOff x="7924320" y="380880"/>
            <a:chExt cx="1219680" cy="1067040"/>
          </a:xfrm>
        </p:grpSpPr>
        <p:sp>
          <p:nvSpPr>
            <p:cNvPr id="160" name=""/>
            <p:cNvSpPr/>
            <p:nvPr/>
          </p:nvSpPr>
          <p:spPr>
            <a:xfrm rot="10800000">
              <a:off x="8686800" y="380880"/>
              <a:ext cx="457200" cy="1067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L’entrepri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924320" y="990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rot="10800000">
            <a:off x="8686800" y="3962520"/>
            <a:ext cx="45720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’entrepr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8" action="ppaction://hlinksldjump"/>
          </p:cNvPr>
          <p:cNvSpPr/>
          <p:nvPr/>
        </p:nvSpPr>
        <p:spPr>
          <a:xfrm>
            <a:off x="129528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375" h="21600">
                <a:moveTo>
                  <a:pt x="10660" y="3985"/>
                </a:moveTo>
                <a:lnTo>
                  <a:pt x="17658" y="3985"/>
                </a:lnTo>
                <a:lnTo>
                  <a:pt x="21714" y="7484"/>
                </a:lnTo>
                <a:lnTo>
                  <a:pt x="21714" y="17615"/>
                </a:lnTo>
                <a:lnTo>
                  <a:pt x="10660" y="17615"/>
                </a:lnTo>
                <a:close/>
              </a:path>
              <a:path fill="darken" w="32375" h="21600">
                <a:moveTo>
                  <a:pt x="17658" y="3985"/>
                </a:moveTo>
                <a:lnTo>
                  <a:pt x="21714" y="7484"/>
                </a:lnTo>
                <a:lnTo>
                  <a:pt x="17658" y="748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thè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7:41:13Z</dcterms:created>
  <dc:creator>DURIEZ DOMINIQUE</dc:creator>
  <dc:description/>
  <dc:language>en-US</dc:language>
  <cp:lastModifiedBy>DURIEZ DOMINIQUE</cp:lastModifiedBy>
  <dcterms:modified xsi:type="dcterms:W3CDTF">2005-12-01T19:21:24Z</dcterms:modified>
  <cp:revision>39</cp:revision>
  <dc:subject/>
  <dc:title>Le projet technique S9</dc:title>
</cp:coreProperties>
</file>