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C81-A8E7-440D-9840-7CA2810D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E20-8CAE-40C2-8C80-8BB23D92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957-BBD9-49AF-BEB0-EEBD5C8E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FA5-401F-4CBA-8255-6C41281D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4BC-1E93-43D4-B69B-F57C7706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470F-1239-4A79-A688-ED3082A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19B-7FA7-447B-A663-8F21B62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745B-F9EB-4975-8299-06516175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E821-FED7-41D0-988B-0BF4D9D3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529-26E5-48B1-9321-78ADB399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18CF-696B-4426-ABBA-A80D54E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CDE-DD64-4B52-8C90-048C2D4F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281-EE12-4CA1-9865-E265B75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DBCC-DF3A-4BA7-B7B4-A91690D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ADE-8FE2-47B5-A023-3B8B593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016-B222-4C55-BE9F-F21D240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1AB-C3F9-4896-87DB-7137A4A9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DD9-1207-4820-914A-C21804FF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418-666B-45BD-AF95-CE54266D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7B0-19D2-447E-B24D-B97BB6E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818-632C-4D26-9DA3-C2B4746B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64C-942F-4E56-8D60-D98F313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F3E-1665-48DD-9A1D-0DFFC263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E75-73B6-4258-877B-2F617EC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BE2E-9750-4EC6-A58A-AE521ACE0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C40F-3510-4707-811A-04006F4D7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909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ÉER DE LA COMPRÉH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0992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ndre conscience des différents éléments qui constituent une situation de travail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ur articulation et l’incidence en terme de risqu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 processus qui conduit à l’apparition d’accidents du travail ou d’atteintes à la san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923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ÉER DE LA COMPRÉH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158920"/>
            <a:ext cx="79250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a diversité et de la multiplicité des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a multi-causalité des accident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eur propre exposition aux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que la PRP ne soit perçue uniquement comme un ensemble de règles à respecter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tre en évidence la nécessité de méthodologies pour pouvoir maîtriser les ris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969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PPORTER DE LA MÉTHODOLOG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82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l’appréhension des risques dans n’importe quelle situation de trav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697120"/>
            <a:ext cx="2590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 Narrow"/>
              </a:rPr>
              <a:t>OBJECT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6280" y="4525920"/>
            <a:ext cx="2590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 Narrow"/>
              </a:rPr>
              <a:t>PRINC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22936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e de la situation de travail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tion de mesures de préven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972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PPORTER DE LA MÉTHODOLOG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386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érentes démarches de prévention permettent de mettre en œuvre cette méthodologie en fonction des situations et des objectifs recherché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UTES CES DÉMARCHES CONTRIBUENT DE MANIÈRES DIFFÉRENTES À LA PRÉVENTION D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1800" y="3838680"/>
            <a:ext cx="2514600" cy="1191240"/>
          </a:xfrm>
          <a:prstGeom prst="rect">
            <a:avLst/>
          </a:prstGeom>
          <a:gradFill rotWithShape="0">
            <a:gsLst>
              <a:gs pos="0">
                <a:srgbClr val="e1fee1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D’ANALYSE    D’UN AC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848040"/>
            <a:ext cx="2514600" cy="119124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DE MAÎTRISE D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857760"/>
            <a:ext cx="2514600" cy="1373760"/>
          </a:xfrm>
          <a:prstGeom prst="rect">
            <a:avLst/>
          </a:prstGeom>
          <a:gradFill rotWithShape="0">
            <a:gsLst>
              <a:gs pos="0">
                <a:srgbClr val="feeff2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ERGONOM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185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193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204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6149880"/>
            <a:ext cx="2519280" cy="64260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75ff7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6157800"/>
            <a:ext cx="2519280" cy="642600"/>
          </a:xfrm>
          <a:prstGeom prst="rect">
            <a:avLst/>
          </a:prstGeom>
          <a:gradFill rotWithShape="0">
            <a:gsLst>
              <a:gs pos="0">
                <a:srgbClr val="fef4f4"/>
              </a:gs>
              <a:gs pos="100000">
                <a:srgbClr val="ff656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8920" y="6148440"/>
            <a:ext cx="2519280" cy="642600"/>
          </a:xfrm>
          <a:prstGeom prst="rect">
            <a:avLst/>
          </a:prstGeom>
          <a:gradFill rotWithShape="0">
            <a:gsLst>
              <a:gs pos="0">
                <a:srgbClr val="eeeefe"/>
              </a:gs>
              <a:gs pos="100000">
                <a:srgbClr val="7979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89308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1800" y="1886040"/>
            <a:ext cx="2514600" cy="642600"/>
          </a:xfrm>
          <a:prstGeom prst="rect">
            <a:avLst/>
          </a:prstGeom>
          <a:gradFill rotWithShape="0">
            <a:gsLst>
              <a:gs pos="0">
                <a:srgbClr val="e1fee1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ÉMARCHE D’ANALYSE  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1905120"/>
            <a:ext cx="2514600" cy="642600"/>
          </a:xfrm>
          <a:prstGeom prst="rect">
            <a:avLst/>
          </a:prstGeom>
          <a:gradFill rotWithShape="0">
            <a:gsLst>
              <a:gs pos="0">
                <a:srgbClr val="feeff2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ÉMARCHE ERGONOM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6149880"/>
            <a:ext cx="2519280" cy="64260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75ff7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6157800"/>
            <a:ext cx="2519280" cy="642600"/>
          </a:xfrm>
          <a:prstGeom prst="rect">
            <a:avLst/>
          </a:prstGeom>
          <a:gradFill rotWithShape="0">
            <a:gsLst>
              <a:gs pos="0">
                <a:srgbClr val="fef4f4"/>
              </a:gs>
              <a:gs pos="100000">
                <a:srgbClr val="ff656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895400"/>
            <a:ext cx="3097080" cy="206460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ÉMA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 MAÎT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28920" y="6148440"/>
            <a:ext cx="2519280" cy="642600"/>
          </a:xfrm>
          <a:prstGeom prst="rect">
            <a:avLst/>
          </a:prstGeom>
          <a:gradFill rotWithShape="0">
            <a:gsLst>
              <a:gs pos="0">
                <a:srgbClr val="eeeefe"/>
              </a:gs>
              <a:gs pos="100000">
                <a:srgbClr val="7979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89308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1900080"/>
            <a:ext cx="3097080" cy="206460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ÉMA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 MAÎT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3360" y="2843280"/>
            <a:ext cx="2951280" cy="3450960"/>
            <a:chOff x="63360" y="2843280"/>
            <a:chExt cx="2951280" cy="3450960"/>
          </a:xfrm>
        </p:grpSpPr>
        <p:sp>
          <p:nvSpPr>
            <p:cNvPr id="233" name=""/>
            <p:cNvSpPr/>
            <p:nvPr/>
          </p:nvSpPr>
          <p:spPr>
            <a:xfrm>
              <a:off x="63360" y="4737240"/>
              <a:ext cx="295128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qui s’applique à une très grande majorité de situ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1151640" y="2878920"/>
              <a:ext cx="1224000" cy="1152720"/>
            </a:xfrm>
            <a:custGeom>
              <a:avLst/>
              <a:gdLst>
                <a:gd name="textAreaLeft" fmla="*/ 360 w 1224000"/>
                <a:gd name="textAreaRight" fmla="*/ 1224720 w 122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61040" y="2843280"/>
            <a:ext cx="2874960" cy="3821400"/>
            <a:chOff x="6161040" y="2843280"/>
            <a:chExt cx="2874960" cy="3821400"/>
          </a:xfrm>
        </p:grpSpPr>
        <p:sp>
          <p:nvSpPr>
            <p:cNvPr id="236" name=""/>
            <p:cNvSpPr/>
            <p:nvPr/>
          </p:nvSpPr>
          <p:spPr>
            <a:xfrm>
              <a:off x="6161040" y="4741920"/>
              <a:ext cx="287496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qui permet de transcrire facilement les dangers       (document uniqu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6768360" y="2878920"/>
              <a:ext cx="1224000" cy="115272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132000" y="4138560"/>
            <a:ext cx="2951280" cy="1074240"/>
            <a:chOff x="3132000" y="4138560"/>
            <a:chExt cx="2951280" cy="1074240"/>
          </a:xfrm>
        </p:grpSpPr>
        <p:sp>
          <p:nvSpPr>
            <p:cNvPr id="239" name=""/>
            <p:cNvSpPr/>
            <p:nvPr/>
          </p:nvSpPr>
          <p:spPr>
            <a:xfrm>
              <a:off x="3132000" y="4753080"/>
              <a:ext cx="2951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« simple 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56000" y="4138560"/>
              <a:ext cx="503280" cy="504720"/>
            </a:xfrm>
            <a:prstGeom prst="downArrow">
              <a:avLst>
                <a:gd name="adj1" fmla="val 50000"/>
                <a:gd name="adj2" fmla="val 2507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000" y="609120"/>
            <a:ext cx="90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LIQUER EN SITUATION RÉEL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773360"/>
            <a:ext cx="79250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ransformer des savoirs et des savoir-faire en véritable compétence à assurer sa sécurité et contribuer à celle des autr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se en application doit être répétée tout au long du cycle de formation professionnelle pour pouvoir être intégrée dans les comportements et les pratiques professionnel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se en application ne doit pas être limitée aux situations d’enseignement, elle doit également s’effectuer en entrepr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’ENSEIGNEMENT        DE LA PRÉVENTION    DES RISQUES PROFESSIONNE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736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NAÎTRE LES PRINCIPAUX RISQUES PROFESSIONN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989000"/>
            <a:ext cx="81536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haque risque constitue un champ de connaissances très important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est nécessaire de bien délimiter les savoirs relatifs aux différentes familles de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mettre de situer chaque risque dans le cadre d’une approche transversale à partir des éléme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hénomène dangereux / Danger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ituation dangereuse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énement dangereux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ommage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40000"/>
              </a:lnSpc>
              <a:spcBef>
                <a:spcPts val="1250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esure de préven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2459160"/>
            <a:ext cx="9144000" cy="110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partir d’une vidéo représentant un étudiant de BTS MI en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000" y="3089160"/>
            <a:ext cx="2682720" cy="3568680"/>
            <a:chOff x="324000" y="3089160"/>
            <a:chExt cx="2682720" cy="3568680"/>
          </a:xfrm>
        </p:grpSpPr>
        <p:sp>
          <p:nvSpPr>
            <p:cNvPr id="258" name=""/>
            <p:cNvSpPr/>
            <p:nvPr/>
          </p:nvSpPr>
          <p:spPr>
            <a:xfrm rot="6925200">
              <a:off x="1511280" y="354780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000" y="4232160"/>
              <a:ext cx="2682720" cy="2425680"/>
            </a:xfrm>
            <a:prstGeom prst="rect">
              <a:avLst/>
            </a:prstGeom>
            <a:gradFill rotWithShape="0">
              <a:gsLst>
                <a:gs pos="0">
                  <a:srgbClr val="fef9f0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llustrer la dangerosité liée à l’activité industrielle et aux activités de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03640" y="3151080"/>
            <a:ext cx="2682720" cy="3476160"/>
            <a:chOff x="3203640" y="3151080"/>
            <a:chExt cx="2682720" cy="3476160"/>
          </a:xfrm>
        </p:grpSpPr>
        <p:sp>
          <p:nvSpPr>
            <p:cNvPr id="261" name=""/>
            <p:cNvSpPr/>
            <p:nvPr/>
          </p:nvSpPr>
          <p:spPr>
            <a:xfrm rot="5400000">
              <a:off x="4030920" y="3547080"/>
              <a:ext cx="1008000" cy="215640"/>
            </a:xfrm>
            <a:custGeom>
              <a:avLst/>
              <a:gdLst>
                <a:gd name="textAreaLeft" fmla="*/ 157320 w 1008000"/>
                <a:gd name="textAreaRight" fmla="*/ 882000 w 100800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232160"/>
              <a:ext cx="2682720" cy="2395080"/>
            </a:xfrm>
            <a:prstGeom prst="rect">
              <a:avLst/>
            </a:prstGeom>
            <a:gradFill rotWithShape="0">
              <a:gsLst>
                <a:gs pos="0">
                  <a:srgbClr val="feeff5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tre en évidence la difficulté des étudiant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à identifier les dang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10360" y="3089160"/>
            <a:ext cx="2682720" cy="3431520"/>
            <a:chOff x="6210360" y="3089160"/>
            <a:chExt cx="2682720" cy="3431520"/>
          </a:xfrm>
        </p:grpSpPr>
        <p:sp>
          <p:nvSpPr>
            <p:cNvPr id="264" name=""/>
            <p:cNvSpPr/>
            <p:nvPr/>
          </p:nvSpPr>
          <p:spPr>
            <a:xfrm flipH="1" rot="14674800">
              <a:off x="6408720" y="354780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10360" y="4232160"/>
              <a:ext cx="2682720" cy="2288520"/>
            </a:xfrm>
            <a:prstGeom prst="rect">
              <a:avLst/>
            </a:prstGeom>
            <a:gradFill rotWithShape="0">
              <a:gsLst>
                <a:gs pos="0">
                  <a:srgbClr val="fefbf9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tre en évidence la nécessité d’une méthodologie pour assurer la sécurité et préserver la santé au trava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042920" y="1312920"/>
            <a:ext cx="7201080" cy="110808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rder la PRP à travers la problématique de santé et sécurité au travail en 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3141720"/>
            <a:ext cx="36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ès la première sé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312920"/>
            <a:ext cx="7201080" cy="1108080"/>
          </a:xfrm>
          <a:prstGeom prst="rect">
            <a:avLst/>
          </a:prstGeom>
          <a:gradFill rotWithShape="0">
            <a:gsLst>
              <a:gs pos="0">
                <a:srgbClr val="e8fee8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senter le processus d’apparition d’un dom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43200" y="3749040"/>
            <a:ext cx="2743200" cy="2710440"/>
            <a:chOff x="2743200" y="3749040"/>
            <a:chExt cx="2743200" cy="2710440"/>
          </a:xfrm>
        </p:grpSpPr>
        <p:sp>
          <p:nvSpPr>
            <p:cNvPr id="271" name=""/>
            <p:cNvSpPr/>
            <p:nvPr/>
          </p:nvSpPr>
          <p:spPr>
            <a:xfrm rot="5933400">
              <a:off x="3573360" y="4160880"/>
              <a:ext cx="1371600" cy="628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56960 h 628560"/>
                <a:gd name="textAreaBottom" fmla="*/ 47160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524016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ee9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1960" y="55641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Dom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95280" y="1557360"/>
            <a:ext cx="5343120" cy="2679480"/>
            <a:chOff x="395280" y="1557360"/>
            <a:chExt cx="5343120" cy="2679480"/>
          </a:xfrm>
        </p:grpSpPr>
        <p:grpSp>
          <p:nvGrpSpPr>
            <p:cNvPr id="275" name=""/>
            <p:cNvGrpSpPr/>
            <p:nvPr/>
          </p:nvGrpSpPr>
          <p:grpSpPr>
            <a:xfrm>
              <a:off x="3276720" y="2636640"/>
              <a:ext cx="2461680" cy="1600200"/>
              <a:chOff x="3276720" y="2636640"/>
              <a:chExt cx="2461680" cy="16002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3330360" y="2636640"/>
                <a:ext cx="914040" cy="103572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535200" y="2636640"/>
                <a:ext cx="1093320" cy="12394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797280" y="2720160"/>
                <a:ext cx="1158480" cy="13132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101840" y="2840400"/>
                <a:ext cx="1158840" cy="13132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449600" y="3007080"/>
                <a:ext cx="1085400" cy="12297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902120" y="3228480"/>
                <a:ext cx="836280" cy="9478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276720" y="2937600"/>
                <a:ext cx="326880" cy="3700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95280" y="1557360"/>
              <a:ext cx="4065120" cy="1515600"/>
              <a:chOff x="395280" y="1557360"/>
              <a:chExt cx="4065120" cy="151560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95280" y="1557360"/>
                <a:ext cx="3208320" cy="459720"/>
              </a:xfrm>
              <a:prstGeom prst="rect">
                <a:avLst/>
              </a:prstGeom>
              <a:solidFill>
                <a:srgbClr val="fffee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</a:rPr>
                  <a:t>Situation dangereu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3604680" y="2249280"/>
                <a:ext cx="792360" cy="765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384080" y="3003840"/>
                <a:ext cx="75960" cy="6912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260880" y="2362320"/>
            <a:ext cx="5438520" cy="2020680"/>
            <a:chOff x="3260880" y="2362320"/>
            <a:chExt cx="5438520" cy="2020680"/>
          </a:xfrm>
        </p:grpSpPr>
        <p:sp>
          <p:nvSpPr>
            <p:cNvPr id="288" name=""/>
            <p:cNvSpPr/>
            <p:nvPr/>
          </p:nvSpPr>
          <p:spPr>
            <a:xfrm>
              <a:off x="3260880" y="2362320"/>
              <a:ext cx="5438520" cy="2020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3048120"/>
              <a:ext cx="252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ersonn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80880" y="2387520"/>
            <a:ext cx="5453280" cy="2021040"/>
            <a:chOff x="380880" y="2387520"/>
            <a:chExt cx="5453280" cy="2021040"/>
          </a:xfrm>
        </p:grpSpPr>
        <p:sp>
          <p:nvSpPr>
            <p:cNvPr id="291" name=""/>
            <p:cNvSpPr/>
            <p:nvPr/>
          </p:nvSpPr>
          <p:spPr>
            <a:xfrm>
              <a:off x="393840" y="2387520"/>
              <a:ext cx="5440320" cy="20210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2895480"/>
              <a:ext cx="3124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hénomène dangereu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038480" y="1752480"/>
            <a:ext cx="4746600" cy="1925280"/>
            <a:chOff x="4038480" y="1752480"/>
            <a:chExt cx="4746600" cy="1925280"/>
          </a:xfrm>
        </p:grpSpPr>
        <p:sp>
          <p:nvSpPr>
            <p:cNvPr id="294" name=""/>
            <p:cNvSpPr/>
            <p:nvPr/>
          </p:nvSpPr>
          <p:spPr>
            <a:xfrm>
              <a:off x="4038480" y="3108240"/>
              <a:ext cx="914400" cy="569520"/>
            </a:xfrm>
            <a:prstGeom prst="irregularSeal1">
              <a:avLst/>
            </a:prstGeom>
            <a:solidFill>
              <a:srgbClr val="ff0033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76760" y="1752480"/>
              <a:ext cx="3208320" cy="825480"/>
            </a:xfrm>
            <a:prstGeom prst="rect">
              <a:avLst/>
            </a:prstGeom>
            <a:solidFill>
              <a:srgbClr val="fffee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É</a:t>
              </a:r>
              <a:r>
                <a:rPr b="0" lang="fr-FR" sz="2400" spc="-1" strike="noStrike">
                  <a:solidFill>
                    <a:srgbClr val="ff0033"/>
                  </a:solidFill>
                  <a:latin typeface="Arial"/>
                </a:rPr>
                <a:t>vénement dangereu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72000" y="2129400"/>
              <a:ext cx="990720" cy="12628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3392640"/>
              <a:ext cx="763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79280" y="1268280"/>
            <a:ext cx="8785440" cy="5473800"/>
            <a:chOff x="179280" y="1268280"/>
            <a:chExt cx="8785440" cy="5473800"/>
          </a:xfrm>
        </p:grpSpPr>
        <p:sp>
          <p:nvSpPr>
            <p:cNvPr id="299" name=""/>
            <p:cNvSpPr/>
            <p:nvPr/>
          </p:nvSpPr>
          <p:spPr>
            <a:xfrm>
              <a:off x="179280" y="1268280"/>
              <a:ext cx="8785440" cy="5473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9440" y="62118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ituation de trava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9280" y="1376280"/>
            <a:ext cx="8785440" cy="5481720"/>
            <a:chOff x="179280" y="1376280"/>
            <a:chExt cx="8785440" cy="54817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39640" y="1376280"/>
              <a:ext cx="8140680" cy="548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79280" y="1378080"/>
              <a:ext cx="8785440" cy="5473440"/>
              <a:chOff x="179280" y="1378080"/>
              <a:chExt cx="8785440" cy="5473440"/>
            </a:xfrm>
          </p:grpSpPr>
          <p:sp>
            <p:nvSpPr>
              <p:cNvPr id="305" name=""/>
              <p:cNvSpPr/>
              <p:nvPr/>
            </p:nvSpPr>
            <p:spPr>
              <a:xfrm>
                <a:off x="179280" y="1378080"/>
                <a:ext cx="8785440" cy="54734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29440" y="632124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Situation de trav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2743200" y="3749040"/>
            <a:ext cx="2743200" cy="2710440"/>
            <a:chOff x="2743200" y="3749040"/>
            <a:chExt cx="2743200" cy="2710440"/>
          </a:xfrm>
        </p:grpSpPr>
        <p:sp>
          <p:nvSpPr>
            <p:cNvPr id="308" name=""/>
            <p:cNvSpPr/>
            <p:nvPr/>
          </p:nvSpPr>
          <p:spPr>
            <a:xfrm rot="5933400">
              <a:off x="3573360" y="4160880"/>
              <a:ext cx="1371600" cy="628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56960 h 628560"/>
                <a:gd name="textAreaBottom" fmla="*/ 47160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3200" y="524016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ee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71960" y="55641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Brûlur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6720" y="1557360"/>
            <a:ext cx="5369040" cy="2666520"/>
            <a:chOff x="396720" y="1557360"/>
            <a:chExt cx="5369040" cy="2666520"/>
          </a:xfrm>
        </p:grpSpPr>
        <p:grpSp>
          <p:nvGrpSpPr>
            <p:cNvPr id="312" name=""/>
            <p:cNvGrpSpPr/>
            <p:nvPr/>
          </p:nvGrpSpPr>
          <p:grpSpPr>
            <a:xfrm>
              <a:off x="3448080" y="2624040"/>
              <a:ext cx="2317680" cy="1599840"/>
              <a:chOff x="3448080" y="2624040"/>
              <a:chExt cx="2317680" cy="159984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3448080" y="2852280"/>
                <a:ext cx="596880" cy="67644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3562200" y="2624040"/>
                <a:ext cx="1094040" cy="123984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824280" y="2706480"/>
                <a:ext cx="1158840" cy="13143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129200" y="2827080"/>
                <a:ext cx="1158840" cy="13143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476600" y="2993760"/>
                <a:ext cx="1086120" cy="123012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929120" y="3215880"/>
                <a:ext cx="836640" cy="9478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6720" y="1557360"/>
              <a:ext cx="3407040" cy="1942560"/>
              <a:chOff x="396720" y="1557360"/>
              <a:chExt cx="3407040" cy="1942560"/>
            </a:xfrm>
          </p:grpSpPr>
          <p:sp>
            <p:nvSpPr>
              <p:cNvPr id="320" name=""/>
              <p:cNvSpPr/>
              <p:nvPr/>
            </p:nvSpPr>
            <p:spPr>
              <a:xfrm flipH="1" flipV="1">
                <a:off x="3203280" y="2349000"/>
                <a:ext cx="576360" cy="1150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396720" y="1557360"/>
                <a:ext cx="3208320" cy="825480"/>
              </a:xfrm>
              <a:prstGeom prst="rect">
                <a:avLst/>
              </a:prstGeom>
              <a:solidFill>
                <a:srgbClr val="fffee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Nettoyer avec des produits corrosif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3727440" y="3429000"/>
                <a:ext cx="76320" cy="698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3440160" y="2470320"/>
            <a:ext cx="5667480" cy="2020680"/>
            <a:chOff x="3440160" y="2470320"/>
            <a:chExt cx="5667480" cy="2020680"/>
          </a:xfrm>
        </p:grpSpPr>
        <p:sp>
          <p:nvSpPr>
            <p:cNvPr id="324" name=""/>
            <p:cNvSpPr/>
            <p:nvPr/>
          </p:nvSpPr>
          <p:spPr>
            <a:xfrm>
              <a:off x="3440160" y="2470320"/>
              <a:ext cx="5438880" cy="2020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85120" y="2879640"/>
              <a:ext cx="252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ersonn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0880" y="2387520"/>
            <a:ext cx="5453280" cy="2021040"/>
            <a:chOff x="380880" y="2387520"/>
            <a:chExt cx="5453280" cy="2021040"/>
          </a:xfrm>
        </p:grpSpPr>
        <p:sp>
          <p:nvSpPr>
            <p:cNvPr id="327" name=""/>
            <p:cNvSpPr/>
            <p:nvPr/>
          </p:nvSpPr>
          <p:spPr>
            <a:xfrm>
              <a:off x="393840" y="2387520"/>
              <a:ext cx="5440320" cy="20210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895480"/>
              <a:ext cx="3124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roduit  dangereu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038480" y="1752480"/>
            <a:ext cx="4746600" cy="1925280"/>
            <a:chOff x="4038480" y="1752480"/>
            <a:chExt cx="4746600" cy="1925280"/>
          </a:xfrm>
        </p:grpSpPr>
        <p:sp>
          <p:nvSpPr>
            <p:cNvPr id="330" name=""/>
            <p:cNvSpPr/>
            <p:nvPr/>
          </p:nvSpPr>
          <p:spPr>
            <a:xfrm>
              <a:off x="4038480" y="3108240"/>
              <a:ext cx="914400" cy="569520"/>
            </a:xfrm>
            <a:prstGeom prst="irregularSeal1">
              <a:avLst/>
            </a:prstGeom>
            <a:solidFill>
              <a:srgbClr val="ff0033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76760" y="1752480"/>
              <a:ext cx="3208320" cy="825480"/>
            </a:xfrm>
            <a:prstGeom prst="rect">
              <a:avLst/>
            </a:prstGeom>
            <a:solidFill>
              <a:srgbClr val="fffee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ntact du produit avec la pe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72000" y="2129400"/>
              <a:ext cx="990720" cy="12628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5680" y="3392640"/>
              <a:ext cx="763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050920" y="3068640"/>
            <a:ext cx="48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ppliquer cette analyse                          à toutes les situations de travail           lors des activité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341360"/>
            <a:ext cx="7488360" cy="963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border l’EPRP à travers la problématique de santé et sécurité au travail en entrepr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608200"/>
            <a:ext cx="7632720" cy="96516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senter le processus d’apparition d’un dommage et l’appliquer à toutes les situations en activités pratiq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3852720"/>
            <a:ext cx="7705800" cy="584280"/>
          </a:xfrm>
          <a:prstGeom prst="rect">
            <a:avLst/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senter la démarche de maîtrise des risq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4720" y="4726080"/>
            <a:ext cx="7630920" cy="9349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orter les savoirs liés aux principaux risques en commençant les plus rencontré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5950080"/>
            <a:ext cx="7488360" cy="64764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orter les savoirs relatifs aux autres méthodolog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2637000"/>
            <a:ext cx="5832360" cy="27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 intégrant dans chacune de ces étapes la composante rég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MPLICATION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4720" y="2681280"/>
            <a:ext cx="7127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enseign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ivent être formé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à la démarche de maîtrise des risqu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5099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risque électrique est un risque parmi d’autr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présente les caractéristiques suivant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équence des accidents fa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é impor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glementation spécif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5516640"/>
            <a:ext cx="835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 intervention sur un équipement électrique ne réduit pas les risques au seul risqu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25640" y="1925640"/>
            <a:ext cx="2682720" cy="3895920"/>
            <a:chOff x="1025640" y="1925640"/>
            <a:chExt cx="2682720" cy="3895920"/>
          </a:xfrm>
        </p:grpSpPr>
        <p:sp>
          <p:nvSpPr>
            <p:cNvPr id="349" name=""/>
            <p:cNvSpPr/>
            <p:nvPr/>
          </p:nvSpPr>
          <p:spPr>
            <a:xfrm rot="6925200">
              <a:off x="2212920" y="238428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25640" y="3068640"/>
              <a:ext cx="2682720" cy="2752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ormation théo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alisée dans le cadre de l’enseignement de génie électrique, elle se termine par une validation des acquis théor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35640" y="1925640"/>
            <a:ext cx="2682720" cy="4200840"/>
            <a:chOff x="5435640" y="1925640"/>
            <a:chExt cx="2682720" cy="4200840"/>
          </a:xfrm>
        </p:grpSpPr>
        <p:sp>
          <p:nvSpPr>
            <p:cNvPr id="352" name=""/>
            <p:cNvSpPr/>
            <p:nvPr/>
          </p:nvSpPr>
          <p:spPr>
            <a:xfrm flipH="1" rot="14674800">
              <a:off x="5634000" y="238428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35640" y="3068640"/>
              <a:ext cx="2682720" cy="3057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ormation prat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alisée dans le cadre des activités pratiques, elle se termine par une validation pratique à travers la mise en œuvre des tâches professionnel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509920"/>
            <a:ext cx="792504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hase pratique nécessite d’intégrer la démarche de prévention au sein d’une démarche technique liée au travail à effectu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manque d’expérience, associé à la difficulté de faire le lien entre la réglementation, les procédures qu’elle impose, et le risque de dommage associé, amènent souvent les élèves à se mettre en situation dangereuse sans qu’ils ne s’en rendent comp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étudiants sont parfois (souvent ?) confrontés à un manque de rigueur des enseignants dans la mise en œuvre des mesures de préven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risque électrique n’est pas toujours facile à mettre en évidence sur les matériels existants : absence de situation de voisin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1943280"/>
            <a:ext cx="5832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ématique liée à la formation pr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781360"/>
            <a:ext cx="792504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dentification des situations dangereuses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œuvre des mesures de protecti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de protection individuell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individuel de sécurité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collectif de sécurit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œuvre de la consigna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place du dispositif de mise à la terre et en court circu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2060640"/>
            <a:ext cx="374328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entissage spécif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 VI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6360" y="1960560"/>
            <a:ext cx="8316720" cy="110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076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1.6 : Identifier les risques, définir et mettre en œuvre les mesures de prévention adapt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76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7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5280" y="3294000"/>
            <a:ext cx="2521080" cy="2387520"/>
            <a:chOff x="395280" y="3294000"/>
            <a:chExt cx="2521080" cy="2387520"/>
          </a:xfrm>
        </p:grpSpPr>
        <p:sp>
          <p:nvSpPr>
            <p:cNvPr id="92" name=""/>
            <p:cNvSpPr/>
            <p:nvPr/>
          </p:nvSpPr>
          <p:spPr>
            <a:xfrm>
              <a:off x="395280" y="4516560"/>
              <a:ext cx="2521080" cy="11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entifie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6925200">
              <a:off x="1511280" y="375264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156360" y="3294000"/>
            <a:ext cx="2663640" cy="2427480"/>
            <a:chOff x="6156360" y="3294000"/>
            <a:chExt cx="2663640" cy="2427480"/>
          </a:xfrm>
        </p:grpSpPr>
        <p:sp>
          <p:nvSpPr>
            <p:cNvPr id="95" name=""/>
            <p:cNvSpPr/>
            <p:nvPr/>
          </p:nvSpPr>
          <p:spPr>
            <a:xfrm>
              <a:off x="6156360" y="4502160"/>
              <a:ext cx="266364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tre en œuvre            les mesures de prév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4674800">
              <a:off x="6408720" y="375264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3640" y="3284640"/>
            <a:ext cx="2663640" cy="2449440"/>
            <a:chOff x="3203640" y="3284640"/>
            <a:chExt cx="2663640" cy="2449440"/>
          </a:xfrm>
        </p:grpSpPr>
        <p:sp>
          <p:nvSpPr>
            <p:cNvPr id="98" name=""/>
            <p:cNvSpPr/>
            <p:nvPr/>
          </p:nvSpPr>
          <p:spPr>
            <a:xfrm>
              <a:off x="3203640" y="4502160"/>
              <a:ext cx="2663640" cy="123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éfinir            les mesures de prév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3958920" y="3753000"/>
              <a:ext cx="1152360" cy="21564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14360" y="4508640"/>
            <a:ext cx="8353440" cy="12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îtriser les ris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781360"/>
            <a:ext cx="7925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tâches doivent être intégrées aux activités pratiques en veillant à les situer dans un contexte le plus proche possible des réalités industriel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activité pratique peut englober plusieurs tâches et avoir une finalité plus large que la ou les tâches considérées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aines tâches peuvent faire l’objet d’un scénario mettant en œuvre plusieurs intervena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060640"/>
            <a:ext cx="5616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e en œuvre de tâches profess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852640"/>
            <a:ext cx="792504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formation étant un préalable à la mise en situations professionnelles présentant des risques électriques, celle-ci doit débuter le plus tôt possibl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’acquisition de la certification au niveau BR doit être visée avant le début du stage d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è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n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2205000"/>
            <a:ext cx="5616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e en œuvre de tâches profess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nouveau référentiel de formation a été élaboré et sera prochainement officialis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403280" y="2871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TENCE / 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S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OFESSIONNEL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343224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îtriser               les ris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0920" y="1990800"/>
            <a:ext cx="3211560" cy="1555200"/>
            <a:chOff x="250920" y="1990800"/>
            <a:chExt cx="3211560" cy="1555200"/>
          </a:xfrm>
        </p:grpSpPr>
        <p:sp>
          <p:nvSpPr>
            <p:cNvPr id="104" name=""/>
            <p:cNvSpPr/>
            <p:nvPr/>
          </p:nvSpPr>
          <p:spPr>
            <a:xfrm>
              <a:off x="250920" y="199080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ntenance correc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3205400">
              <a:off x="2970360" y="325548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36600" y="1990800"/>
            <a:ext cx="3155040" cy="1567440"/>
            <a:chOff x="5736600" y="1990800"/>
            <a:chExt cx="3155040" cy="1567440"/>
          </a:xfrm>
        </p:grpSpPr>
        <p:sp>
          <p:nvSpPr>
            <p:cNvPr id="107" name=""/>
            <p:cNvSpPr/>
            <p:nvPr/>
          </p:nvSpPr>
          <p:spPr>
            <a:xfrm>
              <a:off x="5940360" y="199080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ntenance préven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8394600">
              <a:off x="5722920" y="3268440"/>
              <a:ext cx="505080" cy="144000"/>
            </a:xfrm>
            <a:custGeom>
              <a:avLst/>
              <a:gdLst>
                <a:gd name="textAreaLeft" fmla="*/ 78840 w 505080"/>
                <a:gd name="textAreaRight" fmla="*/ 442080 w 505080"/>
                <a:gd name="textAreaTop" fmla="*/ 36000 h 144000"/>
                <a:gd name="textAreaBottom" fmla="*/ 10800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50640" y="4652280"/>
            <a:ext cx="3141000" cy="1585080"/>
            <a:chOff x="5750640" y="4652280"/>
            <a:chExt cx="3141000" cy="1585080"/>
          </a:xfrm>
        </p:grpSpPr>
        <p:sp>
          <p:nvSpPr>
            <p:cNvPr id="110" name=""/>
            <p:cNvSpPr/>
            <p:nvPr/>
          </p:nvSpPr>
          <p:spPr>
            <a:xfrm>
              <a:off x="5940360" y="487044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égration de nouveaux bie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 rot="13205400">
              <a:off x="5738040" y="47973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9280" y="4653000"/>
            <a:ext cx="3229200" cy="1584360"/>
            <a:chOff x="179280" y="4653000"/>
            <a:chExt cx="3229200" cy="1584360"/>
          </a:xfrm>
        </p:grpSpPr>
        <p:sp>
          <p:nvSpPr>
            <p:cNvPr id="113" name=""/>
            <p:cNvSpPr/>
            <p:nvPr/>
          </p:nvSpPr>
          <p:spPr>
            <a:xfrm>
              <a:off x="179280" y="487044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élio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8394600">
              <a:off x="2916360" y="479808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ICULARITÉ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989000"/>
            <a:ext cx="5048280" cy="191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’apport de savoirs et de savoir-faire doit être ancrés dans les pratiques professionnel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AVOIRS S9 </a:t>
            </a:r>
            <a:br>
              <a:rPr sz="40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S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ATIQU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37644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vention    des risques professionn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960" y="219060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19384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81500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aptation amélior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2760" y="4815000"/>
            <a:ext cx="1946520" cy="89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3840" y="5335560"/>
            <a:ext cx="1946160" cy="901800"/>
          </a:xfrm>
          <a:prstGeom prst="ellipse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glages ess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3680" y="355932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ed2b5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urveillance inspec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186228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6eff6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ganisation logistiq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6560" y="351936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ee8e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ICULARITÉ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276640"/>
            <a:ext cx="5048280" cy="19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’apport de savoirs et de savoir-faire doit être ancrés dans les pratiques professionnel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4076640"/>
            <a:ext cx="4968720" cy="188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a PRP vise à développer des  «savoir-être» indispensables à la maîtrise des risques inhérents à l’activité professionne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NDEMENT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dements de l’EP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0920" y="1700280"/>
            <a:ext cx="3211560" cy="1555200"/>
            <a:chOff x="250920" y="1700280"/>
            <a:chExt cx="3211560" cy="1555200"/>
          </a:xfrm>
        </p:grpSpPr>
        <p:sp>
          <p:nvSpPr>
            <p:cNvPr id="133" name=""/>
            <p:cNvSpPr/>
            <p:nvPr/>
          </p:nvSpPr>
          <p:spPr>
            <a:xfrm>
              <a:off x="250920" y="170028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éer de la compréhen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3205400">
              <a:off x="2970360" y="29649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36600" y="1700280"/>
            <a:ext cx="3155040" cy="1567440"/>
            <a:chOff x="5736600" y="1700280"/>
            <a:chExt cx="3155040" cy="1567440"/>
          </a:xfrm>
        </p:grpSpPr>
        <p:sp>
          <p:nvSpPr>
            <p:cNvPr id="136" name=""/>
            <p:cNvSpPr/>
            <p:nvPr/>
          </p:nvSpPr>
          <p:spPr>
            <a:xfrm>
              <a:off x="5940360" y="170028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orter de la méthodolog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8394600">
              <a:off x="5722920" y="2977920"/>
              <a:ext cx="505080" cy="144000"/>
            </a:xfrm>
            <a:custGeom>
              <a:avLst/>
              <a:gdLst>
                <a:gd name="textAreaLeft" fmla="*/ 78840 w 505080"/>
                <a:gd name="textAreaRight" fmla="*/ 442080 w 505080"/>
                <a:gd name="textAreaTop" fmla="*/ 36000 h 144000"/>
                <a:gd name="textAreaBottom" fmla="*/ 10800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750640" y="4361760"/>
            <a:ext cx="3141000" cy="1585080"/>
            <a:chOff x="5750640" y="4361760"/>
            <a:chExt cx="3141000" cy="1585080"/>
          </a:xfrm>
        </p:grpSpPr>
        <p:sp>
          <p:nvSpPr>
            <p:cNvPr id="139" name=""/>
            <p:cNvSpPr/>
            <p:nvPr/>
          </p:nvSpPr>
          <p:spPr>
            <a:xfrm>
              <a:off x="5940360" y="45799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naître les principaux ris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 rot="13205400">
              <a:off x="5738040" y="450684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79280" y="4362480"/>
            <a:ext cx="3229200" cy="1584360"/>
            <a:chOff x="179280" y="4362480"/>
            <a:chExt cx="3229200" cy="1584360"/>
          </a:xfrm>
        </p:grpSpPr>
        <p:sp>
          <p:nvSpPr>
            <p:cNvPr id="142" name=""/>
            <p:cNvSpPr/>
            <p:nvPr/>
          </p:nvSpPr>
          <p:spPr>
            <a:xfrm>
              <a:off x="179280" y="45799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liquer en situation ré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8394600">
              <a:off x="2916360" y="45075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dements de l’EP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17806" y="10872"/>
                </a:lnTo>
                <a:lnTo>
                  <a:pt x="3794" y="1787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2-01T20:21:21Z</dcterms:modified>
  <cp:revision>75</cp:revision>
  <dc:subject/>
  <dc:title>activités et tâches professionnelles </dc:title>
</cp:coreProperties>
</file>