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B297-B80E-411C-8675-99846E75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EB3C-A0B3-493F-8A01-DDCD9DFA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2A34-874E-4B93-864C-D067139E6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0B57-930E-4DA8-9797-40A906F8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9E9C-C5D0-4D1C-BA10-95F67673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1695-1AE3-4764-A175-4500B8C3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0F19-045A-4497-88C8-7226F89E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5D1B-8069-4C86-994D-3586D24D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F0F6-9A14-4BD2-BBAD-C433B1B2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865E-B007-43BA-A3C0-E5E75ADB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8C50-553E-487F-BEAF-1BBC3F59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662F-93D4-4FDA-A579-CEDBF021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1F65-CC9F-47E9-B0BE-819AC96C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1517-983A-442D-8CDE-C2ED7BD1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6699-2779-4A97-AAB9-D3A5CCAA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7443-AD80-4A3C-9863-7ACA70E3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61D4-E504-4477-9366-4D73A429B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412C-F529-478A-93B8-D271FB24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F573-70EA-4D49-AE52-2C25C655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CC29-53FA-4A3B-95E8-2C12F798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AF59-BCE5-481D-A50C-5AB57323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1294-D486-4DF6-B203-385B957D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374A-C2BB-4039-AF95-B422EE12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8292-B841-47E6-A349-E128AFFF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B983-F88F-420F-9F1E-891113FA5D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7989-27A2-4ACC-B0FC-B5CE204C87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43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STRAT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GIE P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DAGOGIQU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1484280"/>
            <a:ext cx="8351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264960"/>
                <a:tab algn="l" pos="981000"/>
                <a:tab algn="l" pos="1616040"/>
                <a:tab algn="l" pos="259704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’organisation des activités pratiques se fait autour d’items génér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4960"/>
                <a:tab algn="l" pos="981000"/>
                <a:tab algn="l" pos="1616040"/>
                <a:tab algn="l" pos="259704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2565360"/>
            <a:ext cx="8351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264960"/>
                <a:tab algn="l" pos="808200"/>
                <a:tab algn="l" pos="1616040"/>
                <a:tab algn="l" pos="259704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ise en place d’une démarche inductiv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640" indent="-25056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SzPct val="90000"/>
              <a:buFont typeface="Arial"/>
              <a:buChar char="-"/>
              <a:tabLst>
                <a:tab algn="l" pos="264960"/>
                <a:tab algn="l" pos="808200"/>
                <a:tab algn="l" pos="1616040"/>
                <a:tab algn="l" pos="259704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Définition de séquences pédagogiques autour d’un voir 2 item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640" indent="-25056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SzPct val="90000"/>
              <a:buFont typeface="Arial"/>
              <a:buChar char="-"/>
              <a:tabLst>
                <a:tab algn="l" pos="264960"/>
                <a:tab algn="l" pos="808200"/>
                <a:tab algn="l" pos="1616040"/>
                <a:tab algn="l" pos="259704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TP « découverte » suivi d’une synthès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640" indent="-25056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SzPct val="90000"/>
              <a:buFont typeface="Arial"/>
              <a:buChar char="-"/>
              <a:tabLst>
                <a:tab algn="l" pos="264960"/>
                <a:tab algn="l" pos="808200"/>
                <a:tab algn="l" pos="1616040"/>
                <a:tab algn="l" pos="259704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TP «  approfondissement » permettant l’ancrage des savoir-fai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64960"/>
                <a:tab algn="l" pos="808200"/>
                <a:tab algn="l" pos="1616040"/>
                <a:tab algn="l" pos="259704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5072040"/>
            <a:ext cx="7632720" cy="151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les contraintes liées aux équipements et aux volumes horaires ne sont pas toujours compatibles avec cette démar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43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STRAT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GIE P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DAGOGIQU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484280"/>
            <a:ext cx="8351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264960"/>
                <a:tab algn="l" pos="981000"/>
                <a:tab algn="l" pos="1616040"/>
                <a:tab algn="l" pos="259704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’organisation des activités pratiques se fait autour d’items génér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4960"/>
                <a:tab algn="l" pos="981000"/>
                <a:tab algn="l" pos="1616040"/>
                <a:tab algn="l" pos="259704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2565360"/>
            <a:ext cx="8351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264960"/>
                <a:tab algn="l" pos="808200"/>
                <a:tab algn="l" pos="1616040"/>
                <a:tab algn="l" pos="259704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is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n place d’une démarche inductiv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640" indent="-25056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SzPct val="90000"/>
              <a:buFont typeface="Arial"/>
              <a:buChar char="-"/>
              <a:tabLst>
                <a:tab algn="l" pos="264960"/>
                <a:tab algn="l" pos="808200"/>
                <a:tab algn="l" pos="1616040"/>
                <a:tab algn="l" pos="259704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Définition de séquences pédagogiques autour d’un voir 2 item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640" indent="-25056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SzPct val="90000"/>
              <a:buFont typeface="Arial"/>
              <a:buChar char="-"/>
              <a:tabLst>
                <a:tab algn="l" pos="264960"/>
                <a:tab algn="l" pos="808200"/>
                <a:tab algn="l" pos="1616040"/>
                <a:tab algn="l" pos="259704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TP « découverte » suivi d’une synthès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640" indent="-25056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SzPct val="90000"/>
              <a:buFont typeface="Arial"/>
              <a:buChar char="-"/>
              <a:tabLst>
                <a:tab algn="l" pos="264960"/>
                <a:tab algn="l" pos="808200"/>
                <a:tab algn="l" pos="1616040"/>
                <a:tab algn="l" pos="259704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TP «  approfondissement » permettant l’ancrage des savoir-fai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64960"/>
                <a:tab algn="l" pos="808200"/>
                <a:tab algn="l" pos="1616040"/>
                <a:tab algn="l" pos="259704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5084640"/>
            <a:ext cx="8351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264960"/>
                <a:tab algn="l" pos="808200"/>
                <a:tab algn="l" pos="1616040"/>
                <a:tab algn="l" pos="259704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ise en compt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640" indent="-25056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SzPct val="90000"/>
              <a:buFont typeface="Arial"/>
              <a:buChar char="-"/>
              <a:tabLst>
                <a:tab algn="l" pos="264960"/>
                <a:tab algn="l" pos="808200"/>
                <a:tab algn="l" pos="1616040"/>
                <a:tab algn="l" pos="259704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Gradation des difficulté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640" indent="-25056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SzPct val="90000"/>
              <a:buFont typeface="Arial"/>
              <a:buChar char="-"/>
              <a:tabLst>
                <a:tab algn="l" pos="264960"/>
                <a:tab algn="l" pos="808200"/>
                <a:tab algn="l" pos="1616040"/>
                <a:tab algn="l" pos="259704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Apport des savoirs disciplinai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640" indent="-25056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SzPct val="90000"/>
              <a:buFont typeface="Arial"/>
              <a:buChar char="-"/>
              <a:tabLst>
                <a:tab algn="l" pos="264960"/>
                <a:tab algn="l" pos="808200"/>
                <a:tab algn="l" pos="1616040"/>
                <a:tab algn="l" pos="259704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Niveau d’autonomie des étudian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64960"/>
                <a:tab algn="l" pos="808200"/>
                <a:tab algn="l" pos="1616040"/>
                <a:tab algn="l" pos="259704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3068640"/>
            <a:ext cx="763272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Les premières activités pratiques doivent pouvoir être réalisées sans qu’aucun cours préalable ne soit nécessai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1341360"/>
            <a:ext cx="84582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68360" y="1944720"/>
          <a:ext cx="8675280" cy="5661000"/>
        </p:xfrm>
        <a:graphic>
          <a:graphicData uri="http://schemas.openxmlformats.org/drawingml/2006/table">
            <a:tbl>
              <a:tblPr/>
              <a:tblGrid>
                <a:gridCol w="5932440"/>
                <a:gridCol w="2491200"/>
                <a:gridCol w="25164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 d’activité / domaine de form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33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or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33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lotage des systèm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RGANISATION DES ENSEIGN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126828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3520" indent="-26352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mple de répartition du temps d’enseign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95280" y="1341360"/>
            <a:ext cx="84582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944720"/>
          <a:ext cx="8675280" cy="5661000"/>
        </p:xfrm>
        <a:graphic>
          <a:graphicData uri="http://schemas.openxmlformats.org/drawingml/2006/table">
            <a:tbl>
              <a:tblPr/>
              <a:tblGrid>
                <a:gridCol w="5932440"/>
                <a:gridCol w="2491200"/>
                <a:gridCol w="25164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 d’activité / domaine de form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33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or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33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lotage des systèm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pa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RGANISATION DES ENSEIGN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126828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3520" indent="-26352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mple de répartition du temps d’enseign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95280" y="1341360"/>
            <a:ext cx="84582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944720"/>
          <a:ext cx="8675280" cy="5661000"/>
        </p:xfrm>
        <a:graphic>
          <a:graphicData uri="http://schemas.openxmlformats.org/drawingml/2006/table">
            <a:tbl>
              <a:tblPr/>
              <a:tblGrid>
                <a:gridCol w="5932440"/>
                <a:gridCol w="2491200"/>
                <a:gridCol w="25164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 d’activité / domaine de form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33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or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33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lotage des systèm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pa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gnos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RGANISATION DES ENSEIGN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126828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3520" indent="-26352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mple de répartition du temps d’enseign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1341360"/>
            <a:ext cx="84582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8360" y="1944720"/>
          <a:ext cx="8675280" cy="5661000"/>
        </p:xfrm>
        <a:graphic>
          <a:graphicData uri="http://schemas.openxmlformats.org/drawingml/2006/table">
            <a:tbl>
              <a:tblPr/>
              <a:tblGrid>
                <a:gridCol w="5932440"/>
                <a:gridCol w="2491200"/>
                <a:gridCol w="25164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 d’activité / domaine de form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33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or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33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lotage des systèm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pa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gnos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éliorations et adapta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RGANISATION DES ENSEIGN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126828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3520" indent="-26352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mple de répartition du temps d’enseign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95280" y="1341360"/>
            <a:ext cx="84582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8360" y="1944720"/>
          <a:ext cx="8675280" cy="5661000"/>
        </p:xfrm>
        <a:graphic>
          <a:graphicData uri="http://schemas.openxmlformats.org/drawingml/2006/table">
            <a:tbl>
              <a:tblPr/>
              <a:tblGrid>
                <a:gridCol w="5932440"/>
                <a:gridCol w="2491200"/>
                <a:gridCol w="25164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 d’activité / domaine de form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33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or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33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lotage des systèm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pa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gnos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éliorations et adapta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ntenance préven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RGANISATION DES ENSEIGN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126828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3520" indent="-26352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mple de répartition du temps d’enseign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1341360"/>
            <a:ext cx="84582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68360" y="1944720"/>
          <a:ext cx="8675280" cy="5661000"/>
        </p:xfrm>
        <a:graphic>
          <a:graphicData uri="http://schemas.openxmlformats.org/drawingml/2006/table">
            <a:tbl>
              <a:tblPr/>
              <a:tblGrid>
                <a:gridCol w="5932440"/>
                <a:gridCol w="2491200"/>
                <a:gridCol w="25164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 d’activité / domaine de form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33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or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33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lotage des systèm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pa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gnos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éliorations et adapta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ntenance préven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évention des ris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RGANISATION DES ENSEIGN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126828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3520" indent="-26352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mple de répartition du temps d’enseign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95280" y="1341360"/>
            <a:ext cx="84582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68360" y="1944720"/>
          <a:ext cx="8675280" cy="5661000"/>
        </p:xfrm>
        <a:graphic>
          <a:graphicData uri="http://schemas.openxmlformats.org/drawingml/2006/table">
            <a:tbl>
              <a:tblPr/>
              <a:tblGrid>
                <a:gridCol w="5932440"/>
                <a:gridCol w="2491200"/>
                <a:gridCol w="25164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 d’activité / domaine de form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33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or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33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lotage des systèm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pa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gnos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éliorations et adapta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ntenance préven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évention des ris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unication et anim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RGANISATION DES ENSEIGN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126828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3520" indent="-26352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mple de répartition du temps d’enseign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95280" y="1341360"/>
            <a:ext cx="84582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68360" y="1944720"/>
          <a:ext cx="8675280" cy="5661000"/>
        </p:xfrm>
        <a:graphic>
          <a:graphicData uri="http://schemas.openxmlformats.org/drawingml/2006/table">
            <a:tbl>
              <a:tblPr/>
              <a:tblGrid>
                <a:gridCol w="5932440"/>
                <a:gridCol w="2491200"/>
                <a:gridCol w="25164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 d’activité / domaine de form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33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or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33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lotage des systèm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pa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gnos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éliorations et adapta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ntenance préven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évention des ris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unication et anim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stion du projet techniq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RGANISATION DES ENSEIGN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26828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3520" indent="-26352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mple de répartition du temps d’enseign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8080" y="2362320"/>
            <a:ext cx="7848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00"/>
                </a:solidFill>
                <a:latin typeface="Arial"/>
              </a:rPr>
              <a:t>ACTIVIT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800" spc="-1" strike="noStrike">
                <a:solidFill>
                  <a:srgbClr val="ffff00"/>
                </a:solidFill>
                <a:latin typeface="Arial"/>
              </a:rPr>
              <a:t>S PRATIQUES</a:t>
            </a:r>
            <a:br>
              <a:rPr sz="4800"/>
            </a:br>
            <a:r>
              <a:rPr b="1" lang="fr-FR" sz="4800" spc="-1" strike="noStrike">
                <a:solidFill>
                  <a:srgbClr val="ffff00"/>
                </a:solidFill>
                <a:latin typeface="Arial"/>
              </a:rPr>
              <a:t>S9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47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EXEMPLES                           D’ACTIVIT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S PRATIQU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4360" y="2852640"/>
            <a:ext cx="7991280" cy="459720"/>
          </a:xfrm>
          <a:prstGeom prst="rect">
            <a:avLst/>
          </a:prstGeom>
          <a:gradFill rotWithShape="0">
            <a:gsLst>
              <a:gs pos="0">
                <a:srgbClr val="fefcfb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ite à l’arrêt en cours de cy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4360" y="3451320"/>
            <a:ext cx="7991280" cy="459720"/>
          </a:xfrm>
          <a:prstGeom prst="rect">
            <a:avLst/>
          </a:prstGeom>
          <a:gradFill rotWithShape="0">
            <a:gsLst>
              <a:gs pos="0">
                <a:srgbClr val="fefcfb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ite à une intervention de l’opérateur de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4360" y="4124160"/>
            <a:ext cx="7991280" cy="459720"/>
          </a:xfrm>
          <a:prstGeom prst="rect">
            <a:avLst/>
          </a:prstGeom>
          <a:gradFill rotWithShape="0">
            <a:gsLst>
              <a:gs pos="0">
                <a:srgbClr val="fefcfb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ite au déclenchement d’une fonction de sécuri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2108160"/>
            <a:ext cx="30668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gnos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4360" y="4772160"/>
            <a:ext cx="7991280" cy="459720"/>
          </a:xfrm>
          <a:prstGeom prst="rect">
            <a:avLst/>
          </a:prstGeom>
          <a:gradFill rotWithShape="0">
            <a:gsLst>
              <a:gs pos="0">
                <a:srgbClr val="fefcfb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ite à un fonctionnement dégrad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5419800"/>
            <a:ext cx="7991280" cy="459720"/>
          </a:xfrm>
          <a:prstGeom prst="rect">
            <a:avLst/>
          </a:prstGeom>
          <a:gradFill rotWithShape="0">
            <a:gsLst>
              <a:gs pos="0">
                <a:srgbClr val="fefcfb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ite à la modification de paramèt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11280" y="1844640"/>
            <a:ext cx="30668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ép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3357720"/>
            <a:ext cx="76327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hange standard d’un réducteur, d’une pom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1280" y="3882960"/>
            <a:ext cx="763272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placement d’un couple conique, de joints d’étanchéité, de rou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1280" y="4764240"/>
            <a:ext cx="76327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ment d’un actionneur et  réglages associ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5289480"/>
            <a:ext cx="76327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ment de capteurs et réglages associ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5805360"/>
            <a:ext cx="763272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ment d’un pré actionneur, d’un organe de protection, et réglages associ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2462040"/>
            <a:ext cx="763272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placement d’un organe de guidage ou d’un adaptat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7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EXEMPLES                           D’ACTIVIT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S PRATIQU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84360" y="1973160"/>
            <a:ext cx="431928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tenance préven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4360" y="5661000"/>
            <a:ext cx="7632720" cy="825480"/>
          </a:xfrm>
          <a:prstGeom prst="rect">
            <a:avLst/>
          </a:prstGeom>
          <a:gradFill rotWithShape="0">
            <a:gsLst>
              <a:gs pos="0">
                <a:srgbClr val="fef5fe"/>
              </a:gs>
              <a:gs pos="100000">
                <a:srgbClr val="ff6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trôles non destructifs (ultra-son, ressuage, magnétoscopie, courants de Foucaul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4360" y="3716280"/>
            <a:ext cx="7632720" cy="459720"/>
          </a:xfrm>
          <a:prstGeom prst="rect">
            <a:avLst/>
          </a:prstGeom>
          <a:gradFill rotWithShape="0">
            <a:gsLst>
              <a:gs pos="0">
                <a:srgbClr val="fef5fe"/>
              </a:gs>
              <a:gs pos="100000">
                <a:srgbClr val="ff6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veillance des fluides hydraul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4360" y="4365720"/>
            <a:ext cx="7632720" cy="459720"/>
          </a:xfrm>
          <a:prstGeom prst="rect">
            <a:avLst/>
          </a:prstGeom>
          <a:gradFill rotWithShape="0">
            <a:gsLst>
              <a:gs pos="0">
                <a:srgbClr val="fef5fe"/>
              </a:gs>
              <a:gs pos="100000">
                <a:srgbClr val="ff6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veillance des installations par thermograph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4360" y="5013360"/>
            <a:ext cx="7632720" cy="459720"/>
          </a:xfrm>
          <a:prstGeom prst="rect">
            <a:avLst/>
          </a:prstGeom>
          <a:gradFill rotWithShape="0">
            <a:gsLst>
              <a:gs pos="0">
                <a:srgbClr val="fef5fe"/>
              </a:gs>
              <a:gs pos="100000">
                <a:srgbClr val="ff6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veillance par analyseur de rése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4360" y="2708280"/>
            <a:ext cx="7632720" cy="825480"/>
          </a:xfrm>
          <a:prstGeom prst="rect">
            <a:avLst/>
          </a:prstGeom>
          <a:gradFill rotWithShape="0">
            <a:gsLst>
              <a:gs pos="0">
                <a:srgbClr val="fef5fe"/>
              </a:gs>
              <a:gs pos="100000">
                <a:srgbClr val="ff6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veillance des machines tournantes par analyse vibrato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47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EXEMPLES                           D’ACTIVIT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S PRATIQU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55640" y="1773360"/>
            <a:ext cx="3067200" cy="520560"/>
          </a:xfrm>
          <a:prstGeom prst="rect">
            <a:avLst/>
          </a:prstGeom>
          <a:gradFill rotWithShape="0">
            <a:gsLst>
              <a:gs pos="0">
                <a:srgbClr val="f8e1e1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élio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4689360"/>
            <a:ext cx="7848720" cy="429120"/>
          </a:xfrm>
          <a:prstGeom prst="rect">
            <a:avLst/>
          </a:prstGeom>
          <a:gradFill rotWithShape="0">
            <a:gsLst>
              <a:gs pos="0">
                <a:srgbClr val="f5fef5"/>
              </a:gs>
              <a:gs pos="100000">
                <a:srgbClr val="6dff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mission de message sur console de dialog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55640" y="2994120"/>
            <a:ext cx="7848720" cy="429120"/>
          </a:xfrm>
          <a:prstGeom prst="rect">
            <a:avLst/>
          </a:prstGeom>
          <a:gradFill rotWithShape="0">
            <a:gsLst>
              <a:gs pos="0">
                <a:srgbClr val="f5fef5"/>
              </a:gs>
              <a:gs pos="100000">
                <a:srgbClr val="6dff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rveillance par temps d’enveloppe ou retour d’éta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5640" y="3564000"/>
            <a:ext cx="7848720" cy="429120"/>
          </a:xfrm>
          <a:prstGeom prst="rect">
            <a:avLst/>
          </a:prstGeom>
          <a:gradFill rotWithShape="0">
            <a:gsLst>
              <a:gs pos="0">
                <a:srgbClr val="f5fef5"/>
              </a:gs>
              <a:gs pos="100000">
                <a:srgbClr val="6dff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rôle automatique d’isolement par module dédié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5640" y="4129200"/>
            <a:ext cx="7848720" cy="429120"/>
          </a:xfrm>
          <a:prstGeom prst="rect">
            <a:avLst/>
          </a:prstGeom>
          <a:gradFill rotWithShape="0">
            <a:gsLst>
              <a:gs pos="0">
                <a:srgbClr val="f5fef5"/>
              </a:gs>
              <a:gs pos="100000">
                <a:srgbClr val="6dff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rveillance par réseau Ethernet ou câblé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55640" y="2421000"/>
            <a:ext cx="7848720" cy="429120"/>
          </a:xfrm>
          <a:prstGeom prst="rect">
            <a:avLst/>
          </a:prstGeom>
          <a:gradFill rotWithShape="0">
            <a:gsLst>
              <a:gs pos="0">
                <a:srgbClr val="f5fef5"/>
              </a:gs>
              <a:gs pos="100000">
                <a:srgbClr val="6dff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stallation de capteur, réglages et paramétrag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5243400"/>
            <a:ext cx="7848720" cy="429120"/>
          </a:xfrm>
          <a:prstGeom prst="rect">
            <a:avLst/>
          </a:prstGeom>
          <a:gradFill rotWithShape="0">
            <a:gsLst>
              <a:gs pos="0">
                <a:srgbClr val="f5fef5"/>
              </a:gs>
              <a:gs pos="100000">
                <a:srgbClr val="6dff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ide au diagnostic intégré sur automate (page Web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5640" y="6330960"/>
            <a:ext cx="7848720" cy="429120"/>
          </a:xfrm>
          <a:prstGeom prst="rect">
            <a:avLst/>
          </a:prstGeom>
          <a:gradFill rotWithShape="0">
            <a:gsLst>
              <a:gs pos="0">
                <a:srgbClr val="f5fef5"/>
              </a:gs>
              <a:gs pos="100000">
                <a:srgbClr val="6dff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se en place d’une carte de commande d’axe asserv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47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EXEMPLES                           D’ACTIVIT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S PRATIQU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5780160"/>
            <a:ext cx="7848720" cy="429120"/>
          </a:xfrm>
          <a:prstGeom prst="rect">
            <a:avLst/>
          </a:prstGeom>
          <a:gradFill rotWithShape="0">
            <a:gsLst>
              <a:gs pos="0">
                <a:srgbClr val="f5fef5"/>
              </a:gs>
              <a:gs pos="100000">
                <a:srgbClr val="6dff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Mise en place d’un régulateur PID sur un circuit hyd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95280" y="1341360"/>
            <a:ext cx="84582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92280"/>
            <a:ext cx="91440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FORMATION AU PROJET TECHNIQUE EN MILIEU PROFESSIONN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1484280"/>
            <a:ext cx="8137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9000"/>
          </a:bodyPr>
          <a:p>
            <a:pPr marL="76320" indent="-76320">
              <a:lnSpc>
                <a:spcPct val="100000"/>
              </a:lnSpc>
              <a:spcAft>
                <a:spcPts val="14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s étapes de la démarche de proj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6320" indent="-76320">
              <a:lnSpc>
                <a:spcPct val="100000"/>
              </a:lnSpc>
              <a:spcAft>
                <a:spcPts val="14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s outils de la démar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59200" indent="-104040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te de cad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59200" indent="-104040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Macro-pl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59200" indent="-104040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Bi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6320" indent="-76320">
              <a:lnSpc>
                <a:spcPct val="100000"/>
              </a:lnSpc>
              <a:spcAft>
                <a:spcPts val="15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76320" indent="-763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76320" indent="-763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5280" y="4076640"/>
            <a:ext cx="8424720" cy="2669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L’apprentissage lié à l’étude préalable et à l’étude de réalisation est effectué dans les différentes disciplines professionnel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 algn="just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La terminologie liée au projet doit être commu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 algn="just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L’apprentissage lié aux étapes du projet et à la note de cadrage doit être réalisé avant le stage de 1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èr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ann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95280" y="1341360"/>
            <a:ext cx="84582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692280"/>
            <a:ext cx="91440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FORMATION À LA        COMMUNICATION TECHNIQU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1701720"/>
            <a:ext cx="813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7000"/>
          </a:bodyPr>
          <a:p>
            <a:pPr marL="44640" indent="-44640">
              <a:lnSpc>
                <a:spcPct val="100000"/>
              </a:lnSpc>
              <a:spcAft>
                <a:spcPts val="14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entissage à la réd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51920" indent="-60840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’un rapport techn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51920" indent="-60840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’un argumentaire techn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51920" indent="-60840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’un compte rendu d’activi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40" indent="-44640">
              <a:lnSpc>
                <a:spcPct val="100000"/>
              </a:lnSpc>
              <a:spcAft>
                <a:spcPts val="14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entissage à la présentation or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640" indent="-44640">
              <a:lnSpc>
                <a:spcPct val="100000"/>
              </a:lnSpc>
              <a:spcAft>
                <a:spcPts val="14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entissage à l’organisation et à l’animation d’une réunion techn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640" indent="-44640">
              <a:lnSpc>
                <a:spcPct val="100000"/>
              </a:lnSpc>
              <a:spcAft>
                <a:spcPts val="15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4640" indent="-44640">
              <a:lnSpc>
                <a:spcPct val="100000"/>
              </a:lnSpc>
              <a:spcAft>
                <a:spcPts val="15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4640" indent="-44640">
              <a:lnSpc>
                <a:spcPct val="100000"/>
              </a:lnSpc>
              <a:spcAft>
                <a:spcPts val="15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5621400"/>
            <a:ext cx="84247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L’apprentissage lié à la rédaction et à la présentation orale doit être abordé dès la 1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èr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année de 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QUIPEMENTS N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CESSAIR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1701720"/>
            <a:ext cx="813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spcAft>
                <a:spcPts val="15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ystème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5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us systèm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5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tériel de surveillanc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5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utils informatiqu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édac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itement des donné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ésentation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9600" y="260280"/>
            <a:ext cx="842004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IDENTIFICATION DES BESOI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24000" y="1268280"/>
          <a:ext cx="8640720" cy="4622760"/>
        </p:xfrm>
        <a:graphic>
          <a:graphicData uri="http://schemas.openxmlformats.org/drawingml/2006/table">
            <a:tbl>
              <a:tblPr/>
              <a:tblGrid>
                <a:gridCol w="1439640"/>
                <a:gridCol w="4103640"/>
                <a:gridCol w="720720"/>
                <a:gridCol w="720720"/>
                <a:gridCol w="719280"/>
                <a:gridCol w="936720"/>
              </a:tblGrid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ma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és prat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ilan glob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rowSpan="9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épa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nge standard d’un réducte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nge standard d’une pomp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placement joints d’étanchéit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placement couple coniq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placement roulem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placement capteur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placements actionneu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placement convertisseur de fréqu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324000" y="5734080"/>
            <a:ext cx="85690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Pour chaque activité, les équipes pédagogiques prendront soin de déterminer les critères qui permettront d’effectuer une analyse plus fine de la mise en œuvre de l’activi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9600" y="260280"/>
            <a:ext cx="842004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IDENTIFICATION DES BESOI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24000" y="1268280"/>
          <a:ext cx="8640720" cy="4351320"/>
        </p:xfrm>
        <a:graphic>
          <a:graphicData uri="http://schemas.openxmlformats.org/drawingml/2006/table">
            <a:tbl>
              <a:tblPr/>
              <a:tblGrid>
                <a:gridCol w="1439640"/>
                <a:gridCol w="4103640"/>
                <a:gridCol w="720720"/>
                <a:gridCol w="720720"/>
                <a:gridCol w="719280"/>
                <a:gridCol w="936720"/>
              </a:tblGrid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ma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és prat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ilan glob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gnos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ite à un arrêt en cours de cyc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ite à une intervention de l’opérate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ite à un déclenchement d’une fonction de sécurit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ite à un fonctionnement dégrad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ite à une modification de paramèt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324000" y="5734080"/>
            <a:ext cx="85690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Pour chaque activité, les équipes pédagogiques prendront soin de déterminer les critères qui permettront d’effectuer une analyse plus fine de la mise en œuvre de l’activi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9600" y="260280"/>
            <a:ext cx="842004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IDENTIFICATION DES BESOI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24000" y="1268280"/>
          <a:ext cx="8640720" cy="4927680"/>
        </p:xfrm>
        <a:graphic>
          <a:graphicData uri="http://schemas.openxmlformats.org/drawingml/2006/table">
            <a:tbl>
              <a:tblPr/>
              <a:tblGrid>
                <a:gridCol w="1622160"/>
                <a:gridCol w="3921120"/>
                <a:gridCol w="720720"/>
                <a:gridCol w="720720"/>
                <a:gridCol w="719280"/>
                <a:gridCol w="936720"/>
              </a:tblGrid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ma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és prat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ilan glob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élior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stallation d’un nouveau capte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se en place d’une surveill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dition de message sur conso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ngement de technolog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se en place d’un syst de surv. des paramètres de fonct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se en place d’un module de contrôle d’isol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de au diag sur API (carte web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se en place régulateur P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324000" y="5805360"/>
            <a:ext cx="85690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Pour chaque activité, les équipes pédagogiques prendront soin de déterminer les critères qui permettront d’effectuer une analyse plus fine de la mise en œuvre de l’activi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8000" y="340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Arial"/>
              </a:rPr>
              <a:t>FINALI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          DES ACTIVI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Arial"/>
              </a:rPr>
              <a:t>S PRATIQU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31640" y="3573360"/>
            <a:ext cx="8461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agnos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épannage ou répa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rveillance et insp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mélior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844640"/>
            <a:ext cx="84614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cquisition des savoirs et des savoir-faire nécessaires à la mise en œuvre des activités professionnelles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4349880"/>
            <a:ext cx="29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En sécurit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5286240"/>
            <a:ext cx="763272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La professionnalisation des activités pratiques interdit tout développement de TP disciplinai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9600" y="260280"/>
            <a:ext cx="842004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IDENTIFICATION DES BESOI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24000" y="1268280"/>
          <a:ext cx="8640720" cy="3346560"/>
        </p:xfrm>
        <a:graphic>
          <a:graphicData uri="http://schemas.openxmlformats.org/drawingml/2006/table">
            <a:tbl>
              <a:tblPr/>
              <a:tblGrid>
                <a:gridCol w="1511280"/>
                <a:gridCol w="4032000"/>
                <a:gridCol w="720720"/>
                <a:gridCol w="720720"/>
                <a:gridCol w="719280"/>
                <a:gridCol w="936720"/>
              </a:tblGrid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ma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és prat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ilan glob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ntenanc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éven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rveillance machine tournante par analyse vibratoi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rveillance d’une armoire électriq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rveillance des hui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ôles non destructif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324000" y="5726160"/>
            <a:ext cx="85690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Pour chaque activité, les équipes pédagogiques prendront soin de déterminer les critères qui permettront d’effectuer une analyse plus fine de la mise en œuvre de l’activi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414000"/>
            <a:ext cx="834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INCIDENCE SUR LA STRUCTURE ET L’ORGANIS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5280" y="170028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 algn="just">
              <a:lnSpc>
                <a:spcPct val="100000"/>
              </a:lnSpc>
              <a:spcAft>
                <a:spcPts val="7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e en place des z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buClr>
                <a:srgbClr val="ffff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one systèmes / sous systè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buClr>
                <a:srgbClr val="ffff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one répa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 algn="just">
              <a:lnSpc>
                <a:spcPct val="100000"/>
              </a:lnSpc>
              <a:spcAft>
                <a:spcPts val="14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éfinir et acquérir les équipements complémentaires nécessaires à la mise en œuvre des épreuves d’exam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 algn="just">
              <a:lnSpc>
                <a:spcPct val="100000"/>
              </a:lnSpc>
              <a:spcAft>
                <a:spcPts val="14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è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née, prévoir une journée complète pour les  activités pratiques (en prévision des CC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 algn="just">
              <a:lnSpc>
                <a:spcPct val="100000"/>
              </a:lnSpc>
              <a:spcAft>
                <a:spcPts val="14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620720" y="2781360"/>
            <a:ext cx="57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Merci de votre atten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340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Arial"/>
              </a:rPr>
              <a:t>FINALI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          DES ACTIVI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Arial"/>
              </a:rPr>
              <a:t>S PRATIQU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1640" y="2781360"/>
            <a:ext cx="8461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Aft>
                <a:spcPts val="14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éalisation d’un projet en milieu profession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imation d’une réunion techniqu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1844640"/>
            <a:ext cx="8461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cquisition de compétences spécifiques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404640"/>
            <a:ext cx="864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TERACTIONS AVEC                                       LES AUTRES ENSEIGNEMENT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16360" y="3503520"/>
            <a:ext cx="3311280" cy="136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9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és prati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50920" y="2062080"/>
            <a:ext cx="3187800" cy="1621080"/>
            <a:chOff x="250920" y="2062080"/>
            <a:chExt cx="3187800" cy="1621080"/>
          </a:xfrm>
        </p:grpSpPr>
        <p:sp>
          <p:nvSpPr>
            <p:cNvPr id="100" name=""/>
            <p:cNvSpPr/>
            <p:nvPr/>
          </p:nvSpPr>
          <p:spPr>
            <a:xfrm>
              <a:off x="250920" y="2062080"/>
              <a:ext cx="2950920" cy="136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5                    AF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756200">
              <a:off x="2846520" y="3339720"/>
              <a:ext cx="576000" cy="216000"/>
            </a:xfrm>
            <a:custGeom>
              <a:avLst/>
              <a:gdLst>
                <a:gd name="textAreaLeft" fmla="*/ 90000 w 576000"/>
                <a:gd name="textAreaRight" fmla="*/ 504000 w 57600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779800" y="2062080"/>
            <a:ext cx="3111840" cy="1638720"/>
            <a:chOff x="5779800" y="2062080"/>
            <a:chExt cx="3111840" cy="1638720"/>
          </a:xfrm>
        </p:grpSpPr>
        <p:sp>
          <p:nvSpPr>
            <p:cNvPr id="103" name=""/>
            <p:cNvSpPr/>
            <p:nvPr/>
          </p:nvSpPr>
          <p:spPr>
            <a:xfrm>
              <a:off x="5940360" y="2062080"/>
              <a:ext cx="2951280" cy="136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6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utomatiqu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rot="19843800">
              <a:off x="5794920" y="3357720"/>
              <a:ext cx="576360" cy="215640"/>
            </a:xfrm>
            <a:custGeom>
              <a:avLst/>
              <a:gdLst>
                <a:gd name="textAreaLeft" fmla="*/ 90000 w 576360"/>
                <a:gd name="textAreaRight" fmla="*/ 504360 w 576360"/>
                <a:gd name="textAreaTop" fmla="*/ 54000 h 215640"/>
                <a:gd name="textAreaBottom" fmla="*/ 162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708520" y="4670280"/>
            <a:ext cx="3183120" cy="1638360"/>
            <a:chOff x="5708520" y="4670280"/>
            <a:chExt cx="3183120" cy="1638360"/>
          </a:xfrm>
        </p:grpSpPr>
        <p:sp>
          <p:nvSpPr>
            <p:cNvPr id="106" name=""/>
            <p:cNvSpPr/>
            <p:nvPr/>
          </p:nvSpPr>
          <p:spPr>
            <a:xfrm>
              <a:off x="5940360" y="4941720"/>
              <a:ext cx="2951280" cy="136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8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ratégie de maintenan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 rot="1756200">
              <a:off x="5724360" y="4797360"/>
              <a:ext cx="576360" cy="216000"/>
            </a:xfrm>
            <a:custGeom>
              <a:avLst/>
              <a:gdLst>
                <a:gd name="textAreaLeft" fmla="*/ 90000 w 576360"/>
                <a:gd name="textAreaRight" fmla="*/ 504360 w 57636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79280" y="4670280"/>
            <a:ext cx="3184920" cy="1638360"/>
            <a:chOff x="179280" y="4670280"/>
            <a:chExt cx="3184920" cy="1638360"/>
          </a:xfrm>
        </p:grpSpPr>
        <p:sp>
          <p:nvSpPr>
            <p:cNvPr id="109" name=""/>
            <p:cNvSpPr/>
            <p:nvPr/>
          </p:nvSpPr>
          <p:spPr>
            <a:xfrm>
              <a:off x="179280" y="4941720"/>
              <a:ext cx="2951280" cy="136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7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énie électriqu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 rot="19843800">
              <a:off x="2771640" y="4797360"/>
              <a:ext cx="576360" cy="216000"/>
            </a:xfrm>
            <a:custGeom>
              <a:avLst/>
              <a:gdLst>
                <a:gd name="textAreaLeft" fmla="*/ 90000 w 576360"/>
                <a:gd name="textAreaRight" fmla="*/ 504360 w 57636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492360" y="1844640"/>
            <a:ext cx="424836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Décomposition fonctionnelle et structurel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Montage / démont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Caractérisation des composa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1844640"/>
            <a:ext cx="4248000" cy="224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Structure des systèmes automatisé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Composants des chaînes fonctionnel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Programme API, Consoles de dialog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71640" y="5060880"/>
            <a:ext cx="424800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Terminologi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Outils de surveill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GMA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92360" y="5060880"/>
            <a:ext cx="4248360" cy="8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Protection des personn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Connaissances des composa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50920" y="404640"/>
            <a:ext cx="864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TERACTIONS AVEC                                       LES AUTRES ENSEIGNEMENT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8000" y="2565360"/>
            <a:ext cx="5185080" cy="265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Nécessité de planifier les TP réalisés en activités pratiques afin que chaque enseignement disciplinaire puisse en tenir compte dans sa propre planific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000" y="340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Arial"/>
              </a:rPr>
              <a:t>APPORTS S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Arial"/>
              </a:rPr>
              <a:t>CIFIQUES                                        AUX ACTIVI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Arial"/>
              </a:rPr>
              <a:t>S PRATIQU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31640" y="1916280"/>
            <a:ext cx="8461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80000"/>
              </a:lnSpc>
              <a:spcAft>
                <a:spcPts val="1199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agnost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Aft>
                <a:spcPts val="1199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pert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Aft>
                <a:spcPts val="1199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épa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Aft>
                <a:spcPts val="1199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aptation et amélio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Aft>
                <a:spcPts val="1199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églage, mise au point, essais et remise en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Aft>
                <a:spcPts val="1199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pérations de surveillance et d’insp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Aft>
                <a:spcPts val="1199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rganisation et logistique de mainten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Aft>
                <a:spcPts val="1199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évention des risques professio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Aft>
                <a:spcPts val="1199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t technique en milieu professio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Aft>
                <a:spcPts val="1199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munication techniqu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1844640"/>
            <a:ext cx="8461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43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STRAT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GIE P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DAGOGIQU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1484280"/>
            <a:ext cx="867564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264960"/>
                <a:tab algn="l" pos="981000"/>
                <a:tab algn="l" pos="1616040"/>
                <a:tab algn="l" pos="259704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’organisation des activités pratiques se fait autour d’items génér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4960"/>
                <a:tab algn="l" pos="981000"/>
                <a:tab algn="l" pos="1616040"/>
                <a:tab algn="l" pos="259704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95280" y="47628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Arial"/>
              </a:rPr>
              <a:t>EXEMPLES D’ITEMS G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É</a:t>
            </a:r>
            <a:r>
              <a:rPr b="1" lang="fr-FR" sz="3200" spc="-1" strike="noStrike">
                <a:solidFill>
                  <a:srgbClr val="ffff00"/>
                </a:solidFill>
                <a:latin typeface="Arial"/>
              </a:rPr>
              <a:t>R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932360" y="2349360"/>
            <a:ext cx="3146400" cy="1177200"/>
            <a:chOff x="4932360" y="2349360"/>
            <a:chExt cx="3146400" cy="1177200"/>
          </a:xfrm>
        </p:grpSpPr>
        <p:sp>
          <p:nvSpPr>
            <p:cNvPr id="124" name=""/>
            <p:cNvSpPr/>
            <p:nvPr/>
          </p:nvSpPr>
          <p:spPr>
            <a:xfrm>
              <a:off x="4932360" y="2349360"/>
              <a:ext cx="3146400" cy="337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s effecteu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32360" y="2781000"/>
              <a:ext cx="3146400" cy="337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s chaînes d’a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32360" y="3189240"/>
              <a:ext cx="3146400" cy="337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s chaînes d’acquisi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219320" y="3911760"/>
            <a:ext cx="313668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rveill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5373720"/>
            <a:ext cx="320040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ations et amélio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5799240"/>
            <a:ext cx="320040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églages, mise en serv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1268280"/>
            <a:ext cx="308772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lotage des systèm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52520" y="1752480"/>
            <a:ext cx="306720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agnost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0" y="2276640"/>
            <a:ext cx="306684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épa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932360" y="3933720"/>
            <a:ext cx="3146400" cy="1177200"/>
            <a:chOff x="4932360" y="3933720"/>
            <a:chExt cx="3146400" cy="1177200"/>
          </a:xfrm>
        </p:grpSpPr>
        <p:sp>
          <p:nvSpPr>
            <p:cNvPr id="134" name=""/>
            <p:cNvSpPr/>
            <p:nvPr/>
          </p:nvSpPr>
          <p:spPr>
            <a:xfrm>
              <a:off x="4932360" y="3933720"/>
              <a:ext cx="3146400" cy="337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ar analyse vibratoi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32360" y="4365360"/>
              <a:ext cx="3146400" cy="337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ar thermographi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932360" y="4773600"/>
              <a:ext cx="3146400" cy="337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ar analyseur de résea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6920" y="2206800"/>
            <a:ext cx="7632720" cy="287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La logistique de maintenance et la prévention des risques professionnels ne constituent pas des i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 algn="just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Ce sont des savoirs et des savoir-faire à mettre en œuvre tout au long de la 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7:45:57Z</dcterms:created>
  <dc:creator>repmi</dc:creator>
  <dc:description/>
  <dc:language>en-US</dc:language>
  <cp:lastModifiedBy>Giezek François</cp:lastModifiedBy>
  <dcterms:modified xsi:type="dcterms:W3CDTF">2005-12-01T20:34:43Z</dcterms:modified>
  <cp:revision>149</cp:revision>
  <dc:subject/>
  <dc:title>activités et tâches professionnelles </dc:title>
</cp:coreProperties>
</file>