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DomCasual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ffffff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ffffff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ffffff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ffffff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724960" y="648972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BC97-E50D-414F-B8AC-D2A03414D4C4}" type="slidenum">
              <a:rPr b="1" lang="fr-FR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RA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GIE 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DAGOGIQU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844640"/>
            <a:ext cx="5760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xemple d’items génériqu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escription fonctionn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ransmission de puiss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3367080"/>
            <a:ext cx="8351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just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Fonctions techniques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(liaisons complètes et guidag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Solutions constructi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Conditions fonctionnel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Lubr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Étanchéi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Régl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Causes et modes de défaill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Opérations de maintenance associé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RA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GIE 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DAGOGIQU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844640"/>
            <a:ext cx="5760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xemple d’items génériqu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escription fonctionn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ransmission de puiss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Fonctions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3879720"/>
            <a:ext cx="57607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just">
              <a:lnSpc>
                <a:spcPct val="100000"/>
              </a:lnSpc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imensionnement / matéria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Caractéristiques / aptitu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Désign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Traitements thermi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Caractéristiques mécaniques d’un bi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RA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GIE 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DAGOGIQU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844640"/>
            <a:ext cx="5760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xemple d’items génériqu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escription fonctionn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ransmission de puiss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Fonctions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imensionnement / matéria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3879720"/>
            <a:ext cx="71276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mélioration / adap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1001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Recherche de solu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1001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Élaboration de dossier de réalis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1001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Intégration de la maintenance à la conce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RA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GIE 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DAGOGIQU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1844640"/>
            <a:ext cx="5760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xemple d’items génériqu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escription fonctionn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ransmission de puiss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Fonctions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imensionnement / matéria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mélioration / adap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229360"/>
            <a:ext cx="83534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Pour chaque item : l’enseignant définit des TP permettant l’étude d’un panel représentatif des solutions existantes                                et les inscrit dans une séquence pédagog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84720" y="292428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 Narrow"/>
              </a:rPr>
              <a:t>Au cours des TP, il est constamment fait appel aux outils de représentation et de d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RA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GIE 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DAGOGIQU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23640" y="1700280"/>
            <a:ext cx="85690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 algn="just">
              <a:lnSpc>
                <a:spcPct val="90000"/>
              </a:lnSpc>
              <a:spcAft>
                <a:spcPts val="18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’enseignement d’AFS doit être développé d’un point de vue mainten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 algn="just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fr-FR" sz="2400" spc="-1" strike="noStrike" baseline="30000">
                <a:solidFill>
                  <a:srgbClr val="ffff00"/>
                </a:solidFill>
                <a:latin typeface="Arial"/>
              </a:rPr>
              <a:t>ère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 anné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3068640"/>
            <a:ext cx="8569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just">
              <a:lnSpc>
                <a:spcPct val="90000"/>
              </a:lnSpc>
              <a:spcAft>
                <a:spcPts val="18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’enseignement privilégie la méthode inductive par la mise en œuvre de travaux prat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393372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just">
              <a:lnSpc>
                <a:spcPct val="90000"/>
              </a:lnSpc>
              <a:spcAft>
                <a:spcPts val="18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 formation est structurée autour d’items génériques organisés en séquences pédagog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486900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just">
              <a:lnSpc>
                <a:spcPct val="9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fr-FR" sz="24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 ann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90000"/>
              </a:lnSpc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s séances de TD répondent à une problématiqu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9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Analyse d’un existant à partir d’un dossier industri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9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Recherche de solutions d’amélio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9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Élaboration d’un dossier de réalis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3125880"/>
            <a:ext cx="583272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 Narrow"/>
              </a:rPr>
              <a:t>Les TD s’appuient sur les même items que précédemment, mais un même TD peut aborder plusieurs i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ORGANISATION DES ENSEIGN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1840" y="1915920"/>
            <a:ext cx="89121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7840" indent="0" algn="just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’organisation prend en compte les deux compétences visée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 algn="just"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nalyse de l’exis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 algn="just">
              <a:lnSpc>
                <a:spcPct val="120000"/>
              </a:lnSpc>
              <a:spcAft>
                <a:spcPts val="18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Recherche et définition de solutions d’amélio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just">
              <a:lnSpc>
                <a:spcPct val="12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3889440"/>
            <a:ext cx="85690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a formation à chacune de ces compétences se décompose en deux phas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4870440"/>
            <a:ext cx="8569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hase d’apprentiss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hase d’approfondissement et de préparation au contexte de l’exa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84360" y="4437000"/>
            <a:ext cx="46800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Arial Narrow"/>
              </a:rPr>
              <a:t>4 périodes de 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ORGANISATION DES ENSEIGN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3933720"/>
            <a:ext cx="4176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ours + TP en lien avec les matériels présents au sein des zones des sections de TS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2349360"/>
            <a:ext cx="381636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2349360"/>
            <a:ext cx="381636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184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1</a:t>
            </a:r>
            <a:r>
              <a:rPr b="1" lang="fr-FR" sz="2400" spc="-1" strike="noStrike" baseline="30000">
                <a:solidFill>
                  <a:srgbClr val="ffffff"/>
                </a:solidFill>
                <a:latin typeface="Arial Narrow"/>
              </a:rPr>
              <a:t>ère</a:t>
            </a: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ann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51640" y="18684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2</a:t>
            </a:r>
            <a:r>
              <a:rPr b="1" lang="fr-FR" sz="2400" spc="-1" strike="noStrike" baseline="30000">
                <a:solidFill>
                  <a:srgbClr val="ffffff"/>
                </a:solidFill>
                <a:latin typeface="Arial Narrow"/>
              </a:rPr>
              <a:t>ème</a:t>
            </a: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ann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2708280"/>
            <a:ext cx="37432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Analyse de l’exista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 Narrow"/>
              </a:rPr>
              <a:t>Approfondissement et prépar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 Narrow"/>
              </a:rPr>
              <a:t>au contexte de l’exam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2708280"/>
            <a:ext cx="367164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fef7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Analyse de l’exista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 Narrow"/>
              </a:rPr>
              <a:t>Apprenti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3640" y="3860640"/>
            <a:ext cx="3240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e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Recherche de solu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 Narrow"/>
              </a:rPr>
              <a:t>Approfondissement et prépar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 Narrow"/>
              </a:rPr>
              <a:t>au contexte de l’exam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8000" y="3860640"/>
            <a:ext cx="3024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e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Recherche de solu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 Narrow"/>
              </a:rPr>
              <a:t>Apprenti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11640" y="4076640"/>
            <a:ext cx="4176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ours + TD à partir de dossiers techniques industri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4941720"/>
            <a:ext cx="489564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pprentissage lié :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1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À l’utilisation des outils logiciel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1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ux méthodologies de choix et de détermination des composan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1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95640" y="4941720"/>
            <a:ext cx="4896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se en œuvre d’une démarche d’amélioration sur une problématique industrielle de maintenance   (plusieurs item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90" dur="1" fill="hold"/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ORGANISATION DES ENSEIGN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1701720"/>
            <a:ext cx="777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Exemple de répartition du temps d’enseignem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3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ORGANISATION DES ENSEIGN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701720"/>
            <a:ext cx="777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Exemple de répartition du temps d’enseignem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3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8360" y="2533680"/>
          <a:ext cx="8280360" cy="4064040"/>
        </p:xfrm>
        <a:graphic>
          <a:graphicData uri="http://schemas.openxmlformats.org/drawingml/2006/table">
            <a:tbl>
              <a:tblPr/>
              <a:tblGrid>
                <a:gridCol w="6769080"/>
                <a:gridCol w="1511280"/>
              </a:tblGrid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tems génériqu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 fonctionnel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ORGANISATION DES ENSEIGN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1701720"/>
            <a:ext cx="777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Exemple de répartition du temps d’enseignem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3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68360" y="2533680"/>
          <a:ext cx="8280360" cy="4064040"/>
        </p:xfrm>
        <a:graphic>
          <a:graphicData uri="http://schemas.openxmlformats.org/drawingml/2006/table">
            <a:tbl>
              <a:tblPr/>
              <a:tblGrid>
                <a:gridCol w="6769080"/>
                <a:gridCol w="1511280"/>
              </a:tblGrid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tems génériqu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 fonctionnel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mission de puissa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ANALYSE FONCTIONNELLE ET STRUCTREL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3357720"/>
            <a:ext cx="8569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 algn="just">
              <a:spcAft>
                <a:spcPts val="21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CP 22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: Permettre l’analyse de l’organisation fonctionnelle et des solutions mécaniques réalisant les fonctions opérativ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>
              <a:spcBef>
                <a:spcPts val="700"/>
              </a:spcBef>
              <a:spcAft>
                <a:spcPts val="21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CP 41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: Rechercher, argumenter et réaliser les dossiers des solutions mécaniques réalisant les fonctions opéra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2278080"/>
            <a:ext cx="889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Objectifs de l’enseignement d’AF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ORGANISATION DES ENSEIGN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1701720"/>
            <a:ext cx="777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Exemple de répartition du temps d’enseignem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3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68360" y="2533680"/>
          <a:ext cx="8280360" cy="4064040"/>
        </p:xfrm>
        <a:graphic>
          <a:graphicData uri="http://schemas.openxmlformats.org/drawingml/2006/table">
            <a:tbl>
              <a:tblPr/>
              <a:tblGrid>
                <a:gridCol w="6769080"/>
                <a:gridCol w="1511280"/>
              </a:tblGrid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tems génériqu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 fonctionnel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mission de puissa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nctions techniqu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ORGANISATION DES ENSEIGN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1701720"/>
            <a:ext cx="777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Exemple de répartition du temps d’enseignem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3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8360" y="2533680"/>
          <a:ext cx="8280360" cy="4064040"/>
        </p:xfrm>
        <a:graphic>
          <a:graphicData uri="http://schemas.openxmlformats.org/drawingml/2006/table">
            <a:tbl>
              <a:tblPr/>
              <a:tblGrid>
                <a:gridCol w="6769080"/>
                <a:gridCol w="1511280"/>
              </a:tblGrid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tems génériqu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 fonctionnel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mission de puissa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nctions techniqu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mensionnement et matériau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ORGANISATION DES ENSEIGN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1701720"/>
            <a:ext cx="777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Exemple de répartition du temps d’enseignem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3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68360" y="2533680"/>
          <a:ext cx="8280360" cy="4064040"/>
        </p:xfrm>
        <a:graphic>
          <a:graphicData uri="http://schemas.openxmlformats.org/drawingml/2006/table">
            <a:tbl>
              <a:tblPr/>
              <a:tblGrid>
                <a:gridCol w="6769080"/>
                <a:gridCol w="1511280"/>
              </a:tblGrid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tems génériqu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 fonctionnel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mission de puissa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nctions techniqu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mensionnement et matériau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élioration d’un systè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QUIPEMENTS N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CESSAI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1701720"/>
            <a:ext cx="813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100000"/>
              </a:lnSpc>
              <a:spcAft>
                <a:spcPts val="13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Postes d’étude des guidag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3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Postes d’étude des transmissions de puissanc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3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Postes d’étude des actionneurs et récepteu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3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Postes d’étude avec utilisation de l’outil informatique spécifiqu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>
              <a:lnSpc>
                <a:spcPct val="100000"/>
              </a:lnSpc>
              <a:spcAft>
                <a:spcPts val="1100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DomCasual BT"/>
              </a:rPr>
              <a:t>Modeleur volumiq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>
              <a:lnSpc>
                <a:spcPct val="100000"/>
              </a:lnSpc>
              <a:spcAft>
                <a:spcPts val="1100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DomCasual BT"/>
              </a:rPr>
              <a:t>Logiciels de mécaniq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>
              <a:lnSpc>
                <a:spcPct val="100000"/>
              </a:lnSpc>
              <a:spcAft>
                <a:spcPts val="1100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DomCasual BT"/>
              </a:rPr>
              <a:t>Logiciels d’aide au choix de composan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>
              <a:lnSpc>
                <a:spcPct val="100000"/>
              </a:lnSpc>
              <a:spcAft>
                <a:spcPts val="1100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DomCasual BT"/>
              </a:rPr>
              <a:t>Bibliothèques de composants numérisés (3D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3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3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3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34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INCIDENCE SUR LA STRUCTURE ET L’ORGANIS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2060640"/>
            <a:ext cx="842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100000"/>
              </a:lnSpc>
              <a:spcAft>
                <a:spcPts val="13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Laboratoire d’AFS organisé autour de postes de travail dédiés aux travaux pratiqu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3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Accès aux zone système/sous système et ressources pendant les heures de travaux pratiqu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3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050920" y="278136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Merci de votre atten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INTERRELATIONS ENTRE LES ENSEIGNEMEN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23640" y="2707920"/>
            <a:ext cx="8569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 algn="just">
              <a:spcAft>
                <a:spcPts val="21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s savoirs et savoirs faire associés à l’AFS sont utilisés dans les autres disciplines notamment en « Activités pratiques », en « Stratégie de maintenance »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 algn="just">
              <a:lnSpc>
                <a:spcPct val="80000"/>
              </a:lnSpc>
              <a:spcBef>
                <a:spcPts val="700"/>
              </a:spcBef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971640" y="4653000"/>
            <a:ext cx="7634160" cy="1739160"/>
            <a:chOff x="971640" y="4653000"/>
            <a:chExt cx="7634160" cy="1739160"/>
          </a:xfrm>
        </p:grpSpPr>
        <p:sp>
          <p:nvSpPr>
            <p:cNvPr id="47" name=""/>
            <p:cNvSpPr/>
            <p:nvPr/>
          </p:nvSpPr>
          <p:spPr>
            <a:xfrm>
              <a:off x="971640" y="5445000"/>
              <a:ext cx="7634160" cy="94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0000"/>
                  </a:solidFill>
                  <a:latin typeface="Arial Narrow"/>
                </a:rPr>
                <a:t>Nécessité de prendre en compte cette interdépendance dans l’organisation temporelle de l’AF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4653000"/>
              <a:ext cx="287640" cy="576360"/>
            </a:xfrm>
            <a:prstGeom prst="downArrow">
              <a:avLst>
                <a:gd name="adj1" fmla="val 50000"/>
                <a:gd name="adj2" fmla="val 50094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RA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GIE 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DAGOGIQU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3640" y="1623600"/>
            <a:ext cx="856908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 algn="just">
              <a:spcAft>
                <a:spcPts val="18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’enseignement d’AFS doit être développé d’un point de vue mainten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35280" y="3716280"/>
            <a:ext cx="705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619280" y="2637000"/>
            <a:ext cx="6408720" cy="1718280"/>
            <a:chOff x="1619280" y="2637000"/>
            <a:chExt cx="6408720" cy="1718280"/>
          </a:xfrm>
        </p:grpSpPr>
        <p:sp>
          <p:nvSpPr>
            <p:cNvPr id="53" name=""/>
            <p:cNvSpPr/>
            <p:nvPr/>
          </p:nvSpPr>
          <p:spPr>
            <a:xfrm>
              <a:off x="1619280" y="3408120"/>
              <a:ext cx="6408720" cy="94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0000"/>
                  </a:solidFill>
                  <a:latin typeface="Arial Narrow"/>
                </a:rPr>
                <a:t>Tous les apprentissages sont introduits par des problématiques de maintenance réel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43280" y="2637000"/>
              <a:ext cx="360360" cy="647280"/>
            </a:xfrm>
            <a:prstGeom prst="downArrow">
              <a:avLst>
                <a:gd name="adj1" fmla="val 50000"/>
                <a:gd name="adj2" fmla="val 44905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RA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GIE 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DAGOGIQU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23640" y="1628640"/>
            <a:ext cx="85690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 algn="just">
              <a:spcAft>
                <a:spcPts val="18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’enseignement d’AFS doit être développé d’un point de vue mainten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856908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just">
              <a:lnSpc>
                <a:spcPct val="9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fr-FR" sz="2400" spc="-1" strike="noStrike" baseline="30000">
                <a:solidFill>
                  <a:srgbClr val="ffff00"/>
                </a:solidFill>
                <a:latin typeface="Arial"/>
              </a:rPr>
              <a:t>ère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 ann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90000"/>
              </a:lnSpc>
              <a:spcAft>
                <a:spcPts val="18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’enseignement privilégie la méthode inductive par la mise en œuvre de travaux prat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9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RA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GIE 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DAGOGIQU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31840" y="1484280"/>
            <a:ext cx="8712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s travaux pratiques d’AFS visent à faciliter l’acquisition des savoirs et savoir-faire à travers des activités de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2664000"/>
            <a:ext cx="85690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écomposition fonctionnelle et structur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Montage et démontage (permettant de mieux appréhender l’agencement des différentes pièces, les procédures d’assemblage, de réglage et de maintenan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aractérisation et détermination de compos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alcul, dimensionnement, choix de matéria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Recherche de solutions d’amélio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Modification de maquette numér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RA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GIE 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DAGOGIQU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23640" y="1700280"/>
            <a:ext cx="85690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 algn="just">
              <a:lnSpc>
                <a:spcPct val="90000"/>
              </a:lnSpc>
              <a:spcAft>
                <a:spcPts val="18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’enseignement d’AFS doit être développé d’un point de vue mainten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 algn="just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fr-FR" sz="2400" spc="-1" strike="noStrike" baseline="30000">
                <a:solidFill>
                  <a:srgbClr val="ffff00"/>
                </a:solidFill>
                <a:latin typeface="Arial"/>
              </a:rPr>
              <a:t>ère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 anné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3068640"/>
            <a:ext cx="8569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just">
              <a:lnSpc>
                <a:spcPct val="90000"/>
              </a:lnSpc>
              <a:spcAft>
                <a:spcPts val="18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’enseignement privilégie la méthode inductive par la mise en œuvre de travaux prat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3933720"/>
            <a:ext cx="856908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just">
              <a:lnSpc>
                <a:spcPct val="90000"/>
              </a:lnSpc>
              <a:spcAft>
                <a:spcPts val="18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 formation est structurée autour d’items génériques et organisée en séquences pédagog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RA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GIE 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DAGOGIQU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2349360"/>
            <a:ext cx="8496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escription fonctionn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DomCasual BT"/>
              </a:rPr>
              <a:t>Approche structurée des systèmes </a:t>
            </a:r>
            <a:r>
              <a:rPr b="0" lang="fr-FR" sz="2400" spc="-1" strike="noStrike">
                <a:solidFill>
                  <a:srgbClr val="ffff00"/>
                </a:solidFill>
                <a:latin typeface="DomCasual BT"/>
              </a:rPr>
              <a:t>de l’atel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DomCasual BT"/>
              </a:rPr>
              <a:t>Approche structurée des lignes de production industriel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184464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xemple d’items génériqu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RA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GIE 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DAGOGIQU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1844640"/>
            <a:ext cx="6335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xemple d’items génériqu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escription fonctionn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2852640"/>
            <a:ext cx="63356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ransmissions de puiss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DomCasual BT"/>
              </a:rPr>
              <a:t>Composants et chaînes cinémat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Lois entrées / so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Puissance / rend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Caractérisation et détermin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Conditions de montage, régl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Conditions d’utilis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Modes de défaill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1001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Opérations de maintenance associé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0T13:06:46Z</dcterms:created>
  <dc:creator>REPMI INRS</dc:creator>
  <dc:description/>
  <dc:language>en-US</dc:language>
  <cp:lastModifiedBy>Giezek François</cp:lastModifiedBy>
  <cp:lastPrinted>1998-01-10T16:37:20Z</cp:lastPrinted>
  <dcterms:modified xsi:type="dcterms:W3CDTF">2005-12-01T19:58:02Z</dcterms:modified>
  <cp:revision>336</cp:revision>
  <dc:subject/>
  <dc:title>Aucun titre de diapositive</dc:title>
</cp:coreProperties>
</file>