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985-41C8-4215-A6CF-F7925098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E81-F435-4134-9D3C-5200BA11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ECC-1F9F-48C5-8AF7-F1AFA486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D75-58C8-4FB7-B43B-191AA4FA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42EB-82C3-4C93-8681-F606E24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CC0-A3D4-4124-8E44-9BBB02C9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A52D-325B-42DA-B81E-C84F3579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49E8-215A-4529-9312-BC7DAD24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D6D4-03B3-400F-88C8-D61F44E6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646E-4C89-4348-B27C-DC4406AD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E8C-6DD0-4372-8FE7-E89EAB9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5E2-5B95-458F-B464-BB413540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F6F3-EE91-44BA-AFC8-8E7AD1B7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3313-5624-4901-9ED0-CDA25267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304E-BDA1-4863-B089-36C1DD6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1A24-B5C6-4775-9CE8-D01872BB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FDD8-B2DE-41A7-841D-BD10F276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449-E46E-4F8F-BA0B-8AFD455A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487-C4C0-43FA-9420-D1A4F77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B56-437D-4FE7-BB93-A983B4E2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FA3-50D7-41B6-AD9E-74249508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D35-9AE9-49E7-B227-A69718C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A32-81B5-480C-93AA-9D1B1CB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11E-DDAF-4CFD-9E8E-85AF952E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4A3D-63C8-4874-9D66-6A88F8CAF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A32-55F7-4AD5-ABF8-C5AF7CA44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9400" y="115920"/>
          <a:ext cx="8928000" cy="6313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et répertorier les composants liés à la non réalisation de la fonction et susceptibles d’être défaill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mposants de la chaîne défaillante sont répertori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ser la panne : réaliser les tests, mesures, contrôles permettant de valider ou non les hypothè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appareils de mesure et de contrôle sont correctement choisis et mis en œuv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dentification de l’élément défectueux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49400" y="115920"/>
          <a:ext cx="8928000" cy="67262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et répertorier les composants liés à la non réalisation de la fonction et susceptibles d’être défaill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mposants de la chaîne défaillante sont répertori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ser la panne : réaliser les tests, mesures, contrôles permettant de valider ou non les hypothè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appareils de mesure et de contrôle sont correctement choisis et mis en œuv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dentification de l’élément défectueux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les phénomènes dangereux et les situations dangereu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terminer et appliquer les mesures de pré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phénomènes dangereux et les situations dangereuses sont identifiés, les mesures de prévention sont adaptées aux situations dangereuses identifié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mise en œuvre des mesures de prévention est correcte, les procédures de mise en œuvre des équipements de sécurité sont confor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77640"/>
            <a:ext cx="835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L’INTERVEN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49400" y="803160"/>
          <a:ext cx="8928000" cy="49323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9400" y="803160"/>
          <a:ext cx="8928000" cy="51465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iter un moyen de mesure automatis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rer les appareils ou les moyen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exploitation du moyen de surveillance automatisé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aramétrage est correct et respecte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49400" y="803160"/>
          <a:ext cx="8928000" cy="51465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iter un moyen de mesure automatis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rer les appareils ou les moyen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exploitation du moyen de surveillance automatisé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aramétrage est correct et respecte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er les informations et vérifier qu’elles soient plausi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recueillies sont exploitables et respectent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49400" y="803160"/>
          <a:ext cx="8928000" cy="51465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iter un moyen de mesure automatis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rer les appareils ou les moyen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exploitation du moyen de surveillance automatisé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aramétrage est correct et respecte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er les informations et vérifier qu’elles soient plausi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recueillies sont exploitables et respectent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tablir un rapport de surveillance ou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enseignements sont exploitables e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49400" y="331920"/>
          <a:ext cx="8928000" cy="57625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49400" y="331920"/>
          <a:ext cx="8928000" cy="60451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er l’ensemble des composants et effectuer les raccord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modifications logicielles ou les adaptations logici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travaux sont effectués dans les règles de l’art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49400" y="331920"/>
          <a:ext cx="8928000" cy="61214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er l’ensemble des composants et effectuer les raccord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modifications logicielles ou les adaptations logici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travaux sont effectués dans les règles de l’art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tests, procéder à la mise au point et à la remise en 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églages et paramétrages sont corrects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amélioration a été effectuée dans un temps prédétermi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bien a retrouvé son état spécifi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066680"/>
            <a:ext cx="7772400" cy="351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OU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PREUVE E6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49400" y="331920"/>
          <a:ext cx="8928000" cy="61214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er l’ensemble des composants et effectuer les raccord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modifications logicielles ou les adaptations logici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travaux sont effectués dans les règles de l’art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tests, procéder à la mise au point et à la remise en 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églages et paramétrages sont corrects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amélioration a été effectuée dans un temps prédétermi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bien a retrouvé son état spécifi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seigner l’historique du bien et mettre à jour si nécessaire la documentation techn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enseignements sont exploitables e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3280" y="2583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TRUCTURE DE L’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5640" y="2192760"/>
            <a:ext cx="2808360" cy="2479320"/>
            <a:chOff x="755640" y="2192760"/>
            <a:chExt cx="2808360" cy="2479320"/>
          </a:xfrm>
        </p:grpSpPr>
        <p:sp>
          <p:nvSpPr>
            <p:cNvPr id="91" name=""/>
            <p:cNvSpPr/>
            <p:nvPr/>
          </p:nvSpPr>
          <p:spPr>
            <a:xfrm>
              <a:off x="755640" y="285120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agnos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925200">
              <a:off x="2628720" y="2422080"/>
              <a:ext cx="644400" cy="216000"/>
            </a:xfrm>
            <a:custGeom>
              <a:avLst/>
              <a:gdLst>
                <a:gd name="textAreaLeft" fmla="*/ 100440 w 644400"/>
                <a:gd name="textAreaRight" fmla="*/ 564120 w 6444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95280" y="4794120"/>
            <a:ext cx="3816360" cy="93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Durée : 4 heures, coef.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CC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794120"/>
            <a:ext cx="3816360" cy="93888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Durée : 4 heures, coef.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CC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5805360"/>
            <a:ext cx="8424720" cy="96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Le candidat réalise son épreuve en présence de deux enseignants   assurant l’enseignement des activités pratiques                                         et d’un représentant de la profes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1268280"/>
            <a:ext cx="2520720" cy="825480"/>
          </a:xfrm>
          <a:prstGeom prst="rect">
            <a:avLst/>
          </a:prstGeom>
          <a:gradFill rotWithShape="0">
            <a:gsLst>
              <a:gs pos="0">
                <a:srgbClr val="f7fef7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tuations d’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19640" y="2208960"/>
            <a:ext cx="3024360" cy="2502720"/>
            <a:chOff x="5219640" y="2208960"/>
            <a:chExt cx="3024360" cy="2502720"/>
          </a:xfrm>
        </p:grpSpPr>
        <p:sp>
          <p:nvSpPr>
            <p:cNvPr id="98" name=""/>
            <p:cNvSpPr/>
            <p:nvPr/>
          </p:nvSpPr>
          <p:spPr>
            <a:xfrm>
              <a:off x="5219640" y="2851200"/>
              <a:ext cx="3024360" cy="18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se en œuvre d’une interven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14674800">
              <a:off x="5653440" y="2438280"/>
              <a:ext cx="644400" cy="215640"/>
            </a:xfrm>
            <a:custGeom>
              <a:avLst/>
              <a:gdLst>
                <a:gd name="textAreaLeft" fmla="*/ 100440 w 644400"/>
                <a:gd name="textAreaRight" fmla="*/ 564120 w 64440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BJET DE L’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824280"/>
            <a:ext cx="3816360" cy="1472400"/>
          </a:xfrm>
          <a:prstGeom prst="rect">
            <a:avLst/>
          </a:prstGeom>
          <a:gradFill rotWithShape="0">
            <a:gsLst>
              <a:gs pos="0">
                <a:srgbClr val="fefef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1 : Diagnostiquer les pannes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6 : Identifier les risques, définir et mettre en œuvre les mesures de prévention adapté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41720"/>
            <a:ext cx="3816360" cy="361944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ut ou partie des compétences suiv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2 : Réparer ou dépanner les biens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3 : Mettre en œuvre des opérations de surveillance et d’insp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4 : Mettre en œuvre des travaux d’amélioration et intégrer des moyens de surve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2808360" cy="18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1052640"/>
            <a:ext cx="3024360" cy="186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e en œuvre d’une 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986440"/>
            <a:ext cx="842472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ules ces compétences sont évaluées. Si d’autres compétences sont mobilisées, elle ne donnent pas lieu à évalu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À l’issue de chaque évalu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8446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quipe pédagogique de l’établissement de formation constitue, pour chaque candidat, un dossier comprena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781360"/>
            <a:ext cx="7991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texte complet du sujet po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description sommaire des moyens matériels et les documents mis à dis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documents rédigés par le candid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iche d’évaluation du travail réali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5589720"/>
            <a:ext cx="7632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’ensemble du dossier sera tenu à la disposition du jury et de l’autorité rectorale jusqu’à la session suiv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565360"/>
            <a:ext cx="5688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fiche d’évaluation du travail réalisé, rédigée et mise à jour                          par l’inspection générale,                  sera diffusée aux établissements par  les services rector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37920"/>
            <a:ext cx="91440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TABLISSEMENT NON HABIL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À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 PRATIQUER LE CCF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2637000"/>
            <a:ext cx="56880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s deux situations d’évaluation s’effectuent sous la forme ponctuelle dans le même esprit que le contrôle en cour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77640"/>
            <a:ext cx="842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DIAGNOSTIC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9400" y="115920"/>
          <a:ext cx="8928000" cy="6313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9400" y="115920"/>
          <a:ext cx="8928000" cy="6313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et répertorier les composants liés à la non réalisation de la fonction et susceptibles d’être défaill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mposants de la chaîne défaillante sont répertori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repmi</dc:creator>
  <dc:description/>
  <dc:language>en-US</dc:language>
  <cp:lastModifiedBy>Giezek François</cp:lastModifiedBy>
  <dcterms:modified xsi:type="dcterms:W3CDTF">2005-11-28T21:26:39Z</dcterms:modified>
  <cp:revision>79</cp:revision>
  <dc:subject/>
  <dc:title>activités et tâches professionnelles </dc:title>
</cp:coreProperties>
</file>