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1233-7E0E-43A8-B70E-02FF62DD0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A40D-D2BC-4011-98E7-D586B8870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C5E8-AB02-4D9E-BA67-3BA040826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C6E2-E9EF-43C6-A6E3-BD1C5D6EE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79BE2-6895-4BCF-9F6F-C5C7A5BA4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76596-2B59-4920-B39C-A694424E4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8A7BA-0834-4AEF-8B52-A18F7C437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972ED-6DE1-44D4-9035-95FE3B314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91264-C131-4716-AA36-2ACFED8BE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D300C-2620-4A56-ACE3-02E8C7C4E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402BA-B984-49D6-B4BF-07966E67C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6228-860D-4645-856C-1B18AB449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128D4-D854-40B4-8A49-D7D9EE1DF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BA93C-F348-4EBB-BCD3-169DC0C90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D2F3A-8658-4DB5-AB5B-A3CDCD385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C0C4F-0FEF-417B-AF56-D9D51CD6F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90DF2-4A0E-47AA-B5BB-F762A5BAB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4EB4-7837-4F55-BA8C-1C254F53B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B29D-DB5B-4DC8-B7DA-B8BAE2F6A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A160-7658-42A5-89B7-83A33349C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5DE4-B8DE-452E-8CE5-4315A69D6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5FC9-0B98-4130-BC69-93E09D7A3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C449-0D76-4C9A-9B72-CC190B8FF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D1A8-883D-4BFD-A3BD-BB1DB0047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249CF-88EC-4AA6-8332-1C2BE8E8C9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1EF08-4E9C-48F2-8581-47806970B0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" Target="slide29.xml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" Target="slide29.xml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" Target="slide29.xml"/><Relationship Id="rId5" Type="http://schemas.openxmlformats.org/officeDocument/2006/relationships/image" Target="../media/image5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image" Target="../media/image7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image" Target="../media/image7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209680"/>
            <a:ext cx="8077320" cy="1828800"/>
          </a:xfrm>
          <a:prstGeom prst="rect">
            <a:avLst/>
          </a:prstGeom>
          <a:noFill/>
          <a:ln w="12600">
            <a:solidFill>
              <a:srgbClr val="ffcc00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Automatique</a:t>
            </a:r>
            <a:br>
              <a:rPr sz="5400"/>
            </a:b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S6</a:t>
            </a:r>
            <a:endParaRPr b="0" lang="en-US" sz="5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 rot="20844000">
            <a:off x="2595600" y="1773000"/>
            <a:ext cx="6548400" cy="2693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940360" y="2924280"/>
            <a:ext cx="504720" cy="503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50920" y="1700280"/>
            <a:ext cx="2950920" cy="1366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6969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S5 Analyse Fonctionnelle et Structurelle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(Cours-TD-TP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940360" y="1700280"/>
            <a:ext cx="2951280" cy="1366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S6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utomatique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(Cours-TD-TP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916360" y="3141720"/>
            <a:ext cx="3311280" cy="1366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9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vités pratique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TP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79280" y="4579920"/>
            <a:ext cx="2951280" cy="1366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00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S7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Génie électrique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(Cours-TP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940360" y="4579920"/>
            <a:ext cx="2951280" cy="1366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S8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Stratégie de maintenance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(Cours-TD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utomatiq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79280" y="2924280"/>
            <a:ext cx="856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Quelle stratégie pédagogique 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utomatiq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utomatiq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" y="836640"/>
            <a:ext cx="77724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Les horaires de form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55640" y="6237360"/>
            <a:ext cx="75614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cquisition des savoirs en TRAVAUX PRATIQ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539640" y="1757520"/>
          <a:ext cx="7777440" cy="3400200"/>
        </p:xfrm>
        <a:graphic>
          <a:graphicData uri="http://schemas.openxmlformats.org/drawingml/2006/table">
            <a:tbl>
              <a:tblPr/>
              <a:tblGrid>
                <a:gridCol w="1555920"/>
                <a:gridCol w="1555560"/>
                <a:gridCol w="1554120"/>
                <a:gridCol w="1555920"/>
                <a:gridCol w="1555920"/>
              </a:tblGrid>
              <a:tr h="958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u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222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ère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anné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218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ème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anné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149" name=""/>
          <p:cNvSpPr/>
          <p:nvPr/>
        </p:nvSpPr>
        <p:spPr>
          <a:xfrm>
            <a:off x="5219640" y="1773360"/>
            <a:ext cx="1513080" cy="3384360"/>
          </a:xfrm>
          <a:prstGeom prst="ellipse">
            <a:avLst/>
          </a:prstGeom>
          <a:noFill/>
          <a:ln w="5724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219640" y="5300640"/>
            <a:ext cx="151308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Arial"/>
              </a:rPr>
              <a:t>4 / 7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2565360"/>
            <a:ext cx="9144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Comment organiser, structurer, planifier l’enseignement de l’automatique 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utomatiq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utomatiq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58920" y="1844640"/>
            <a:ext cx="8424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ls sont définis à partir des contenus du référentiel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Exemples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rchitecture d’une chaîne fonctionnelle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Représentation et schématisation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omportement (dysfonctionnement et défaillanc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ilotage et dialog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écurité des Systèmes Automatisé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urveill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ommande des SA (proportionnelle et asservi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50920" y="609480"/>
            <a:ext cx="8642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Les Item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utomatiq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0920" y="609480"/>
            <a:ext cx="8642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Les Item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92040" y="1844640"/>
            <a:ext cx="8501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33280" indent="-2332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La définition des Items ne couvre pas obligatoirement l’ensemble des savoi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33280" indent="-2332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Certains contenus de formation peuvent être abordés de manière transversa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33280" indent="-2332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33280" indent="-233280" algn="just"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Exemple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« la technologie pneumatique » peut être abordée par l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items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33280" indent="-233280" algn="just"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architecture d’une chaîne fonctionnelle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33280" indent="-233280" algn="just"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représentation et schématisation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33280" indent="-233280" algn="just"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étude du comportement et des défaillanc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33280" indent="-2332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33280" indent="-233280" algn="just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33280" indent="-233280" algn="just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33280" indent="-233280" algn="just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utomatiq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90520" y="62064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Les séquences pédagogiques / Items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57200" y="2057400"/>
            <a:ext cx="8435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 séquence pédagogique ( TP, TD, Cours) est définie autour d’un ou deux Ite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’organisation temporelle des Items abordés est fonction des « besoins » de l’enseignement des activités pratiqu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754200" y="4797360"/>
            <a:ext cx="7634160" cy="1739160"/>
            <a:chOff x="754200" y="4797360"/>
            <a:chExt cx="7634160" cy="1739160"/>
          </a:xfrm>
        </p:grpSpPr>
        <p:sp>
          <p:nvSpPr>
            <p:cNvPr id="163" name=""/>
            <p:cNvSpPr/>
            <p:nvPr/>
          </p:nvSpPr>
          <p:spPr>
            <a:xfrm>
              <a:off x="754200" y="5589360"/>
              <a:ext cx="7634160" cy="947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 Narrow"/>
                </a:rPr>
                <a:t>Définir les étapes de formation de l’Automatique (S6) en fonction des Activités pratiques (S9)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425840" y="4797360"/>
              <a:ext cx="287640" cy="576360"/>
            </a:xfrm>
            <a:prstGeom prst="downArrow">
              <a:avLst>
                <a:gd name="adj1" fmla="val 50000"/>
                <a:gd name="adj2" fmla="val 50094"/>
              </a:avLst>
            </a:prstGeom>
            <a:solidFill>
              <a:srgbClr val="ffffff"/>
            </a:soli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2781360"/>
            <a:ext cx="9144000" cy="3672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08000" y="2781360"/>
            <a:ext cx="0" cy="3097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1484280"/>
            <a:ext cx="9144000" cy="398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99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VITES PRATIQUES (S9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907920"/>
            <a:ext cx="4572000" cy="33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èr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anné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1989000"/>
            <a:ext cx="2987640" cy="520200"/>
          </a:xfrm>
          <a:prstGeom prst="rect">
            <a:avLst/>
          </a:prstGeom>
          <a:gradFill rotWithShape="0">
            <a:gsLst>
              <a:gs pos="0">
                <a:srgbClr val="339966"/>
              </a:gs>
              <a:gs pos="50000">
                <a:srgbClr val="ffffff"/>
              </a:gs>
              <a:gs pos="100000">
                <a:srgbClr val="3399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ase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’Apprentissag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572000" y="907920"/>
            <a:ext cx="4572000" cy="33732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èm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anné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516720" y="1989000"/>
            <a:ext cx="2627280" cy="520200"/>
          </a:xfrm>
          <a:prstGeom prst="rect">
            <a:avLst/>
          </a:prstGeom>
          <a:gradFill rotWithShape="0">
            <a:gsLst>
              <a:gs pos="0">
                <a:srgbClr val="339966"/>
              </a:gs>
              <a:gs pos="50000">
                <a:srgbClr val="ffffff"/>
              </a:gs>
              <a:gs pos="100000">
                <a:srgbClr val="3399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ase de Préparation à la certification (E61-E63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2781360"/>
            <a:ext cx="1835280" cy="3070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tape 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6021360"/>
            <a:ext cx="914400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TOMATIQUE (S6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716360" y="3211560"/>
            <a:ext cx="442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Approfondissement des acquisition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3213000"/>
            <a:ext cx="18352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Vérification et harmonisation des acquis de Termina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4294080"/>
            <a:ext cx="19080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Acquisitions des pré requis nécessaires aux premières séquences d’Activités pratiqu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utomatiq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979640" y="4294080"/>
            <a:ext cx="2592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Apport de nouvelles connaissanc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981080" y="3213000"/>
            <a:ext cx="2590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Consolidation des acquis de l’étape 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059280" y="1989000"/>
            <a:ext cx="3384360" cy="520200"/>
          </a:xfrm>
          <a:prstGeom prst="rect">
            <a:avLst/>
          </a:prstGeom>
          <a:gradFill rotWithShape="0">
            <a:gsLst>
              <a:gs pos="0">
                <a:srgbClr val="339966"/>
              </a:gs>
              <a:gs pos="50000">
                <a:srgbClr val="ffffff"/>
              </a:gs>
              <a:gs pos="100000">
                <a:srgbClr val="3399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ase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 Renforce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979640" y="2781360"/>
            <a:ext cx="2521080" cy="3070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tape 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643280" y="2781360"/>
            <a:ext cx="4500720" cy="3070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tape 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979640" y="5229360"/>
            <a:ext cx="2592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- Préparation à la sous-épreuve E61 (Intervention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581360" y="2781360"/>
            <a:ext cx="0" cy="3097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716360" y="4292640"/>
            <a:ext cx="4427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- Préparation à la sous-épreuve E51 (Automatique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0" y="6054840"/>
            <a:ext cx="9144000" cy="7189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5021280"/>
            <a:ext cx="9144000" cy="368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99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VITES PRATIQUES (S9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4589640"/>
            <a:ext cx="4572000" cy="33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èr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anné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5452920"/>
            <a:ext cx="2987640" cy="520200"/>
          </a:xfrm>
          <a:prstGeom prst="rect">
            <a:avLst/>
          </a:prstGeom>
          <a:gradFill rotWithShape="0">
            <a:gsLst>
              <a:gs pos="0">
                <a:srgbClr val="339966"/>
              </a:gs>
              <a:gs pos="50000">
                <a:srgbClr val="ffffff"/>
              </a:gs>
              <a:gs pos="100000">
                <a:srgbClr val="3399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ase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’Apprentissag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572000" y="4589640"/>
            <a:ext cx="4572000" cy="33732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èm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anné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516720" y="5452920"/>
            <a:ext cx="2627280" cy="520200"/>
          </a:xfrm>
          <a:prstGeom prst="rect">
            <a:avLst/>
          </a:prstGeom>
          <a:gradFill rotWithShape="0">
            <a:gsLst>
              <a:gs pos="0">
                <a:srgbClr val="339966"/>
              </a:gs>
              <a:gs pos="50000">
                <a:srgbClr val="ffffff"/>
              </a:gs>
              <a:gs pos="100000">
                <a:srgbClr val="3399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ase de Préparation à la certification (E61-E63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6054840"/>
            <a:ext cx="1835280" cy="3070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tape 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6461280"/>
            <a:ext cx="9144000" cy="398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TOMATIQUE (S6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utomatiq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059280" y="5452920"/>
            <a:ext cx="3384360" cy="520200"/>
          </a:xfrm>
          <a:prstGeom prst="rect">
            <a:avLst/>
          </a:prstGeom>
          <a:gradFill rotWithShape="0">
            <a:gsLst>
              <a:gs pos="0">
                <a:srgbClr val="339966"/>
              </a:gs>
              <a:gs pos="50000">
                <a:srgbClr val="ffffff"/>
              </a:gs>
              <a:gs pos="100000">
                <a:srgbClr val="3399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ase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 Renforce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979640" y="6054840"/>
            <a:ext cx="2521080" cy="3070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tape 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643280" y="6054840"/>
            <a:ext cx="4500720" cy="3070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tape 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250920" y="1268280"/>
          <a:ext cx="8642160" cy="3168720"/>
        </p:xfrm>
        <a:graphic>
          <a:graphicData uri="http://schemas.openxmlformats.org/drawingml/2006/table">
            <a:tbl>
              <a:tblPr/>
              <a:tblGrid>
                <a:gridCol w="4321080"/>
                <a:gridCol w="1440000"/>
                <a:gridCol w="1439640"/>
                <a:gridCol w="1441440"/>
              </a:tblGrid>
              <a:tr h="507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tape 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tape 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tape 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81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chitecture d’une chaîne fonctionnel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4d4d4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présentation et schématisat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4d4d4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lotage et dialogu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4d4d4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mporteme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4d4d4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4d4d4d"/>
                    </a:solidFill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écurité des Systèmes Automatisé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4d4d4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4d4d4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rveillanc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4d4d4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4d4d4d"/>
                    </a:solidFill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mmande des Systèmes Automatisé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4d4d4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4d4d4d"/>
                    </a:solidFill>
                  </a:tcPr>
                </a:tc>
              </a:tr>
            </a:tbl>
          </a:graphicData>
        </a:graphic>
      </p:graphicFrame>
      <p:sp>
        <p:nvSpPr>
          <p:cNvPr id="199" name=""/>
          <p:cNvSpPr/>
          <p:nvPr/>
        </p:nvSpPr>
        <p:spPr>
          <a:xfrm>
            <a:off x="685800" y="620640"/>
            <a:ext cx="77724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xemple de répartition des Items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0" y="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utomatiq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" y="476280"/>
            <a:ext cx="777240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Démarches pédagogiqu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1384200"/>
            <a:ext cx="9144000" cy="16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42880" indent="-162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Démarche déductive : Cours suivis de TD et/ou  de TP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2880" indent="-162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émarche inductiv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: TD et/ou TP suivis d’une synthèse en Cour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08000" y="4221000"/>
            <a:ext cx="9036000" cy="21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90000" tIns="46800" bIns="46800" anchor="t">
            <a:normAutofit/>
          </a:bodyPr>
          <a:p>
            <a:pPr marL="3808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érie de TP sur 1 ou 2 ITE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urée moyenne de 4 semai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s d’obligation de réaliser tous les T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nthèses permettant de formaliser ce qu’il faut reteni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50920" y="3213000"/>
            <a:ext cx="864216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Quelques règles de mise en place des Travaux Pratiques</a:t>
            </a: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209680"/>
            <a:ext cx="8077320" cy="1828800"/>
          </a:xfrm>
          <a:prstGeom prst="rect">
            <a:avLst/>
          </a:prstGeom>
          <a:noFill/>
          <a:ln w="12600">
            <a:solidFill>
              <a:srgbClr val="ffcc00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L’automatique du point de vue maintenance</a:t>
            </a:r>
            <a:endParaRPr b="0" lang="en-US" sz="5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0" y="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utomatiq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08000" y="620640"/>
            <a:ext cx="9036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Incidence de la démarche pédagogique sur les équipements et les zones d’enseign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4000" y="1628640"/>
            <a:ext cx="9036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L’enseignement de l’Automatique s’appuie sur des problématiques réelles de maintenance à partir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84360" y="3149640"/>
            <a:ext cx="43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des systèmes de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l’ateli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003640" y="3222720"/>
            <a:ext cx="648000" cy="360360"/>
          </a:xfrm>
          <a:prstGeom prst="rightArrow">
            <a:avLst>
              <a:gd name="adj1" fmla="val 50000"/>
              <a:gd name="adj2" fmla="val 44955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84360" y="3941640"/>
            <a:ext cx="41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de dossiers industrie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8920" y="5734080"/>
            <a:ext cx="8424720" cy="947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Narrow"/>
              </a:rPr>
              <a:t>Incidence sur les emplois du temps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 Narrow"/>
              </a:rPr>
              <a:t>(Accès à la Zone Système lors des séances d’Automatiqu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4720" y="2997360"/>
            <a:ext cx="2808360" cy="863280"/>
          </a:xfrm>
          <a:prstGeom prst="flowChartAlternateProcess">
            <a:avLst/>
          </a:prstGeom>
          <a:gradFill rotWithShape="0">
            <a:gsLst>
              <a:gs pos="0">
                <a:srgbClr val="ff6600"/>
              </a:gs>
              <a:gs pos="50000">
                <a:srgbClr val="ffffff"/>
              </a:gs>
              <a:gs pos="100000">
                <a:srgbClr val="ff66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ZONE SYS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È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0" y="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utomatiq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08000" y="620640"/>
            <a:ext cx="9036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Incidence de la démarche pédagogique sur les équipements et les zones d’enseign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58920" y="6165720"/>
            <a:ext cx="842472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Narrow"/>
              </a:rPr>
              <a:t>Structurer un laboratoire d’Automatique/Génie Electriqu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rot="5400000">
            <a:off x="3185280" y="3339360"/>
            <a:ext cx="648000" cy="179280"/>
          </a:xfrm>
          <a:prstGeom prst="rightArrow">
            <a:avLst>
              <a:gd name="adj1" fmla="val 50000"/>
              <a:gd name="adj2" fmla="val 90361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132000" y="2205000"/>
            <a:ext cx="2880000" cy="720720"/>
          </a:xfrm>
          <a:prstGeom prst="flowChartAlternateProcess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TE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55640" y="3933720"/>
            <a:ext cx="3095640" cy="863640"/>
          </a:xfrm>
          <a:prstGeom prst="flowChartAlternateProcess">
            <a:avLst/>
          </a:prstGeom>
          <a:gradFill rotWithShape="0">
            <a:gsLst>
              <a:gs pos="0">
                <a:srgbClr val="ff6600"/>
              </a:gs>
              <a:gs pos="50000">
                <a:srgbClr val="ffffff"/>
              </a:gs>
              <a:gs pos="100000">
                <a:srgbClr val="ff66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SYS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È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M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292720" y="3933720"/>
            <a:ext cx="3598920" cy="863640"/>
          </a:xfrm>
          <a:prstGeom prst="flowChartAlternateProcess">
            <a:avLst/>
          </a:prstGeom>
          <a:gradFill rotWithShape="0">
            <a:gsLst>
              <a:gs pos="0">
                <a:srgbClr val="3366ff"/>
              </a:gs>
              <a:gs pos="50000">
                <a:srgbClr val="ffffff"/>
              </a:gs>
              <a:gs pos="100000">
                <a:srgbClr val="3366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ostes de travail dédiés au T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rot="5400000">
            <a:off x="5417280" y="3339360"/>
            <a:ext cx="648000" cy="179280"/>
          </a:xfrm>
          <a:prstGeom prst="rightArrow">
            <a:avLst>
              <a:gd name="adj1" fmla="val 50000"/>
              <a:gd name="adj2" fmla="val 90361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275000" y="1511280"/>
            <a:ext cx="165096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5608" y="22669"/>
                </a:moveTo>
                <a:lnTo>
                  <a:pt x="-997" y="4000"/>
                </a:lnTo>
              </a:path>
              <a:path w="21600" h="21600">
                <a:moveTo>
                  <a:pt x="-997" y="0"/>
                </a:moveTo>
                <a:lnTo>
                  <a:pt x="-997" y="21600"/>
                </a:lnTo>
              </a:path>
            </a:pathLst>
          </a:custGeom>
          <a:gradFill rotWithShape="0">
            <a:gsLst>
              <a:gs pos="0">
                <a:srgbClr val="ffff66"/>
              </a:gs>
              <a:gs pos="50000">
                <a:srgbClr val="ffffff"/>
              </a:gs>
              <a:gs pos="100000">
                <a:srgbClr val="ffff66"/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voi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voir fai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2349360"/>
            <a:ext cx="2484360" cy="1295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4457" y="25491"/>
                </a:moveTo>
                <a:lnTo>
                  <a:pt x="22262" y="1906"/>
                </a:lnTo>
              </a:path>
              <a:path w="21600" h="21600">
                <a:moveTo>
                  <a:pt x="22262" y="0"/>
                </a:moveTo>
                <a:lnTo>
                  <a:pt x="22262" y="21600"/>
                </a:ln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Appréhender la problématique dans son contexte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(analyse de l’existant,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cherche de solution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547640" y="4786200"/>
            <a:ext cx="2718000" cy="803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3858" y="-7043"/>
                </a:moveTo>
                <a:lnTo>
                  <a:pt x="22206" y="3074"/>
                </a:lnTo>
              </a:path>
              <a:path w="21600" h="21600">
                <a:moveTo>
                  <a:pt x="22206" y="0"/>
                </a:moveTo>
                <a:lnTo>
                  <a:pt x="22206" y="21600"/>
                </a:ln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Extraire la partie concernée par les apprentissages souhaité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211640" y="4149720"/>
            <a:ext cx="719280" cy="287280"/>
          </a:xfrm>
          <a:prstGeom prst="rightArrow">
            <a:avLst>
              <a:gd name="adj1" fmla="val 50000"/>
              <a:gd name="adj2" fmla="val 62594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443640" y="2631960"/>
            <a:ext cx="2654280" cy="1044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809" y="26032"/>
                </a:moveTo>
                <a:lnTo>
                  <a:pt x="-620" y="2364"/>
                </a:lnTo>
              </a:path>
              <a:path w="21600" h="21600">
                <a:moveTo>
                  <a:pt x="-620" y="0"/>
                </a:moveTo>
                <a:lnTo>
                  <a:pt x="-620" y="21600"/>
                </a:ln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0360" indent="-90360">
              <a:lnSpc>
                <a:spcPct val="100000"/>
              </a:lnSpc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  <a:ea typeface="Arial"/>
              </a:rPr>
              <a:t>Apprentissage des fondamentau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90360" indent="-90360">
              <a:lnSpc>
                <a:spcPct val="100000"/>
              </a:lnSpc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  <a:ea typeface="Arial"/>
              </a:rPr>
              <a:t>Validation de solu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rot="5400000">
            <a:off x="6372720" y="5301360"/>
            <a:ext cx="1368360" cy="360360"/>
          </a:xfrm>
          <a:prstGeom prst="rightArrow">
            <a:avLst>
              <a:gd name="adj1" fmla="val 50000"/>
              <a:gd name="adj2" fmla="val 9493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0" y="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utomatiq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57200" y="60948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Les évolutions technologiques et l’automatique en maintenan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03280" y="1916280"/>
            <a:ext cx="8136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La surveillanc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rôler et inform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rôl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ise en compte des moyens  inclus à l’automat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auto diagnostic intégré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rveillance PO par PC : développement de métho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0" y="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utomatiq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60948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Les évolutions technologiques et l’automatique en maintenan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68360" y="1981080"/>
            <a:ext cx="8424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Arial"/>
              </a:rPr>
              <a:t>La surveillance :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contrôler et inform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Informer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: </a:t>
            </a:r>
            <a:r>
              <a:rPr b="1" lang="fr-FR" sz="2800" spc="-1" strike="noStrike">
                <a:solidFill>
                  <a:srgbClr val="ffff00"/>
                </a:solidFill>
                <a:latin typeface="Arial"/>
              </a:rPr>
              <a:t>transférer et visualis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Transférer : mise en œuvre des réseaux de communication (Ethernet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Visualiser : utiliser et ou développer les sites WEB intégrés aux automates et aux préactionneurs</a:t>
            </a:r>
            <a:br>
              <a:rPr sz="2400"/>
            </a:b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(aides aux diagnostics et aux intervention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0" y="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utomatiq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80880" y="609480"/>
            <a:ext cx="8534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Les évolutions technologiques et l’automatique en maintenan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50920" y="2133720"/>
            <a:ext cx="8642160" cy="28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81080" indent="-181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La simulation virtuelle</a:t>
            </a:r>
            <a:br>
              <a:rPr sz="28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érifier la faisabilité d’une solution d’amélioration avant sa mise en œuvre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81080" indent="-181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génération automatique des programmes automa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81080" indent="-181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évolution virtuelle dynamique en 3D de la PO à partir de l’exécution du program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287280" y="5084640"/>
            <a:ext cx="8569080" cy="1561680"/>
            <a:chOff x="287280" y="5084640"/>
            <a:chExt cx="8569080" cy="1561680"/>
          </a:xfrm>
        </p:grpSpPr>
        <p:sp>
          <p:nvSpPr>
            <p:cNvPr id="237" name=""/>
            <p:cNvSpPr/>
            <p:nvPr/>
          </p:nvSpPr>
          <p:spPr>
            <a:xfrm>
              <a:off x="287280" y="5820840"/>
              <a:ext cx="8569080" cy="825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É</a:t>
              </a:r>
              <a:r>
                <a:rPr b="0" lang="fr-FR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volution prochaine des méthodes et moyens mis en œuvre pour l’enseignement de l’automatique en BTS Maintenanc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408560" y="5084640"/>
              <a:ext cx="322560" cy="535680"/>
            </a:xfrm>
            <a:prstGeom prst="downArrow">
              <a:avLst>
                <a:gd name="adj1" fmla="val 50000"/>
                <a:gd name="adj2" fmla="val 41518"/>
              </a:avLst>
            </a:prstGeom>
            <a:solidFill>
              <a:srgbClr val="ffffff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0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333360" y="3800520"/>
            <a:ext cx="1255680" cy="97452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252360" y="1461960"/>
            <a:ext cx="1890720" cy="151308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328680" y="4672080"/>
            <a:ext cx="377640" cy="30312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4807080" y="3949560"/>
            <a:ext cx="971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Contrôleur Virtue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826160" y="5043600"/>
            <a:ext cx="1014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IHM Virtuel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476600" y="2997360"/>
            <a:ext cx="447840" cy="215640"/>
          </a:xfrm>
          <a:prstGeom prst="downArrow">
            <a:avLst>
              <a:gd name="adj1" fmla="val 49648"/>
              <a:gd name="adj2" fmla="val 18671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4"/>
          <a:stretch/>
        </p:blipFill>
        <p:spPr>
          <a:xfrm>
            <a:off x="3552840" y="1433520"/>
            <a:ext cx="2071800" cy="1467000"/>
          </a:xfrm>
          <a:prstGeom prst="rect">
            <a:avLst/>
          </a:prstGeom>
          <a:ln w="0">
            <a:noFill/>
          </a:ln>
        </p:spPr>
      </p:pic>
      <p:sp>
        <p:nvSpPr>
          <p:cNvPr id="246" name="">
            <a:hlinkClick r:id="rId5" action="ppaction://hlinksldjump"/>
          </p:cNvPr>
          <p:cNvSpPr/>
          <p:nvPr/>
        </p:nvSpPr>
        <p:spPr>
          <a:xfrm rot="5400000">
            <a:off x="2940120" y="2393640"/>
            <a:ext cx="457200" cy="3137040"/>
          </a:xfrm>
          <a:prstGeom prst="upDownArrow">
            <a:avLst>
              <a:gd name="adj1" fmla="val 45139"/>
              <a:gd name="adj2" fmla="val 85863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28600" y="1446120"/>
            <a:ext cx="1922400" cy="14986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565440" y="1438200"/>
            <a:ext cx="2055960" cy="14716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22320" y="347760"/>
            <a:ext cx="6202440" cy="936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36000" tIns="-37440" bIns="-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375280" y="-3240"/>
            <a:ext cx="12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36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MS PGothic"/>
              </a:rPr>
              <a:t>VIRTU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rot="19800000">
            <a:off x="0" y="1516680"/>
            <a:ext cx="995400" cy="326160"/>
          </a:xfrm>
          <a:prstGeom prst="ellipse">
            <a:avLst/>
          </a:prstGeom>
          <a:gradFill rotWithShape="0">
            <a:gsLst>
              <a:gs pos="0">
                <a:srgbClr val="0000ff"/>
              </a:gs>
              <a:gs pos="100000">
                <a:srgbClr val="ff6600"/>
              </a:gs>
            </a:gsLst>
            <a:lin ang="126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Times New Roman"/>
                <a:ea typeface="MS PGothic"/>
              </a:rPr>
              <a:t>Multi-CA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025720" y="2054160"/>
            <a:ext cx="1566720" cy="405000"/>
          </a:xfrm>
          <a:custGeom>
            <a:avLst/>
            <a:gdLst>
              <a:gd name="textAreaLeft" fmla="*/ 273960 w 1566720"/>
              <a:gd name="textAreaRight" fmla="*/ 1135800 w 1566720"/>
              <a:gd name="textAreaTop" fmla="*/ 54000 h 405000"/>
              <a:gd name="textAreaBottom" fmla="*/ 351000 h 405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6"/>
          <a:stretch/>
        </p:blipFill>
        <p:spPr>
          <a:xfrm>
            <a:off x="4998960" y="4554360"/>
            <a:ext cx="690480" cy="55584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7"/>
          <a:stretch/>
        </p:blipFill>
        <p:spPr>
          <a:xfrm>
            <a:off x="4991040" y="3435480"/>
            <a:ext cx="669960" cy="57132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108000" y="620640"/>
            <a:ext cx="2519280" cy="7318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  <a:ea typeface="MS PGothic"/>
              </a:rPr>
              <a:t>Définition des Équipements Virtuels munis de leurs Entrées/Sorti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284640" y="765000"/>
            <a:ext cx="2643120" cy="5065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  <a:ea typeface="MS PGothic"/>
              </a:rPr>
              <a:t>Programmation de la cellule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  <a:ea typeface="MS PGothic"/>
              </a:rPr>
              <a:t>à partir des mécanismes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utomatiq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042920" y="4869000"/>
            <a:ext cx="382896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Connection des équipements virtuels a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contrôleur virtuel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Simulation de la cellule.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74800" y="2997360"/>
            <a:ext cx="447480" cy="215640"/>
          </a:xfrm>
          <a:prstGeom prst="downArrow">
            <a:avLst>
              <a:gd name="adj1" fmla="val 49648"/>
              <a:gd name="adj2" fmla="val 18671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0"/>
            <a:ext cx="23760" cy="5965920"/>
          </a:xfrm>
          <a:prstGeom prst="line">
            <a:avLst/>
          </a:prstGeom>
          <a:ln cap="rnd" w="381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79280" y="3284640"/>
            <a:ext cx="5616720" cy="2449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87280" y="5902200"/>
            <a:ext cx="8569440" cy="947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Narrow"/>
              </a:rPr>
              <a:t>Validation de solutions dans le cadre d’amélioration.</a:t>
            </a:r>
            <a:br>
              <a:rPr sz="2800"/>
            </a:br>
            <a:r>
              <a:rPr b="0" lang="en-US" sz="2800" spc="-1" strike="noStrike">
                <a:solidFill>
                  <a:srgbClr val="ff0000"/>
                </a:solidFill>
                <a:latin typeface="Arial Narrow"/>
              </a:rPr>
              <a:t>Le système existant est déjà modélisé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874800" y="3005280"/>
            <a:ext cx="447480" cy="691920"/>
          </a:xfrm>
          <a:prstGeom prst="downArrow">
            <a:avLst>
              <a:gd name="adj1" fmla="val 49648"/>
              <a:gd name="adj2" fmla="val 2887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333360" y="3800520"/>
            <a:ext cx="1255680" cy="97452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252360" y="1461960"/>
            <a:ext cx="1890720" cy="151308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3"/>
          <a:stretch/>
        </p:blipFill>
        <p:spPr>
          <a:xfrm>
            <a:off x="328680" y="4672080"/>
            <a:ext cx="377640" cy="30312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4343400" y="3949560"/>
            <a:ext cx="130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Contrôleur Virtue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067280" y="5229360"/>
            <a:ext cx="162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IHM Virtuel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>
            <a:hlinkClick r:id="rId4" action="ppaction://hlinksldjump"/>
          </p:cNvPr>
          <p:cNvSpPr/>
          <p:nvPr/>
        </p:nvSpPr>
        <p:spPr>
          <a:xfrm rot="5400000">
            <a:off x="2724120" y="2971800"/>
            <a:ext cx="457200" cy="2666880"/>
          </a:xfrm>
          <a:prstGeom prst="upDownArrow">
            <a:avLst>
              <a:gd name="adj1" fmla="val 45139"/>
              <a:gd name="adj2" fmla="val 72994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28600" y="1446120"/>
            <a:ext cx="1922400" cy="14986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320" y="347760"/>
            <a:ext cx="6202440" cy="936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36000" tIns="-37440" bIns="-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375280" y="-3240"/>
            <a:ext cx="12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36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MS PGothic"/>
              </a:rPr>
              <a:t>VIRTU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227640" y="0"/>
            <a:ext cx="23760" cy="5965920"/>
          </a:xfrm>
          <a:prstGeom prst="line">
            <a:avLst/>
          </a:prstGeom>
          <a:ln cap="rnd" w="381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5"/>
          <a:stretch/>
        </p:blipFill>
        <p:spPr>
          <a:xfrm>
            <a:off x="4572000" y="4653000"/>
            <a:ext cx="690480" cy="55548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6"/>
          <a:stretch/>
        </p:blipFill>
        <p:spPr>
          <a:xfrm>
            <a:off x="4572000" y="3359160"/>
            <a:ext cx="669960" cy="57132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0" y="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utomatiq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79280" y="3284640"/>
            <a:ext cx="5616720" cy="2449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874800" y="3005280"/>
            <a:ext cx="447480" cy="691920"/>
          </a:xfrm>
          <a:prstGeom prst="downArrow">
            <a:avLst>
              <a:gd name="adj1" fmla="val 49648"/>
              <a:gd name="adj2" fmla="val 2887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333360" y="3800520"/>
            <a:ext cx="1255680" cy="97452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2"/>
          <a:stretch/>
        </p:blipFill>
        <p:spPr>
          <a:xfrm>
            <a:off x="252360" y="1461960"/>
            <a:ext cx="1890720" cy="151308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3"/>
          <a:stretch/>
        </p:blipFill>
        <p:spPr>
          <a:xfrm>
            <a:off x="328680" y="4672080"/>
            <a:ext cx="377640" cy="30312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067280" y="4724280"/>
            <a:ext cx="16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IHM Virtuel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27640" y="566100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  <a:ea typeface="MS PGothic"/>
              </a:rPr>
              <a:t>Automate Ré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>
            <a:hlinkClick r:id="rId4" action="ppaction://hlinksldjump"/>
          </p:cNvPr>
          <p:cNvSpPr/>
          <p:nvPr/>
        </p:nvSpPr>
        <p:spPr>
          <a:xfrm rot="5400000">
            <a:off x="2781360" y="2552400"/>
            <a:ext cx="457200" cy="2819520"/>
          </a:xfrm>
          <a:prstGeom prst="upDownArrow">
            <a:avLst>
              <a:gd name="adj1" fmla="val 45139"/>
              <a:gd name="adj2" fmla="val 77172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73160" y="3389400"/>
            <a:ext cx="5616360" cy="2441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28600" y="1446120"/>
            <a:ext cx="1922400" cy="14986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22320" y="347760"/>
            <a:ext cx="6202440" cy="936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36000" tIns="-37440" bIns="-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375280" y="-3240"/>
            <a:ext cx="12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36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MS PGothic"/>
              </a:rPr>
              <a:t>VIRTU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30880" y="351000"/>
            <a:ext cx="2935440" cy="7920"/>
          </a:xfrm>
          <a:prstGeom prst="line">
            <a:avLst/>
          </a:prstGeom>
          <a:ln w="38160">
            <a:solidFill>
              <a:srgbClr val="ff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36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948360" y="-3240"/>
            <a:ext cx="144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33"/>
                </a:solidFill>
                <a:latin typeface="Arial"/>
                <a:ea typeface="MS PGothic"/>
              </a:rPr>
              <a:t>RÉ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227640" y="0"/>
            <a:ext cx="23760" cy="5965920"/>
          </a:xfrm>
          <a:prstGeom prst="line">
            <a:avLst/>
          </a:prstGeom>
          <a:ln cap="rnd" w="381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5"/>
          <a:stretch/>
        </p:blipFill>
        <p:spPr>
          <a:xfrm>
            <a:off x="4419720" y="3809880"/>
            <a:ext cx="1071360" cy="86364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0" y="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utomatiq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2057400" y="6019560"/>
            <a:ext cx="0" cy="53316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838080" y="6553080"/>
            <a:ext cx="70866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6858000" y="6172200"/>
            <a:ext cx="0" cy="3808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133720" y="601992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086600" y="617220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veu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6"/>
          <a:stretch/>
        </p:blipFill>
        <p:spPr>
          <a:xfrm>
            <a:off x="6324480" y="4560840"/>
            <a:ext cx="1524240" cy="94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1371600" y="2590920"/>
            <a:ext cx="2500200" cy="200016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6227640" y="0"/>
            <a:ext cx="23760" cy="5965920"/>
          </a:xfrm>
          <a:prstGeom prst="line">
            <a:avLst/>
          </a:prstGeom>
          <a:ln cap="rnd" w="381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2057400" y="6019560"/>
            <a:ext cx="0" cy="53316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38080" y="6553080"/>
            <a:ext cx="70866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6858000" y="6172200"/>
            <a:ext cx="0" cy="3808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133720" y="601992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086600" y="609588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veu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22320" y="347760"/>
            <a:ext cx="6202440" cy="936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36000" tIns="-37440" bIns="-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375280" y="-3240"/>
            <a:ext cx="12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36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MS PGothic"/>
              </a:rPr>
              <a:t>VIRTU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230880" y="351000"/>
            <a:ext cx="2935440" cy="7920"/>
          </a:xfrm>
          <a:prstGeom prst="line">
            <a:avLst/>
          </a:prstGeom>
          <a:ln w="38160">
            <a:solidFill>
              <a:srgbClr val="ff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36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948360" y="-3240"/>
            <a:ext cx="144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33"/>
                </a:solidFill>
                <a:latin typeface="Arial"/>
                <a:ea typeface="MS PGothic"/>
              </a:rPr>
              <a:t>RÉ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0" y="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utomatiq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8013600" y="5016600"/>
            <a:ext cx="1130400" cy="1039320"/>
            <a:chOff x="8013600" y="5016600"/>
            <a:chExt cx="1130400" cy="1039320"/>
          </a:xfrm>
        </p:grpSpPr>
        <p:graphicFrame>
          <p:nvGraphicFramePr>
            <p:cNvPr id="313" name=""/>
            <p:cNvGraphicFramePr/>
            <p:nvPr/>
          </p:nvGraphicFramePr>
          <p:xfrm>
            <a:off x="8013600" y="5020200"/>
            <a:ext cx="1130400" cy="10332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1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013600" y="5020200"/>
                      <a:ext cx="1130400" cy="1033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15" name=""/>
            <p:cNvSpPr/>
            <p:nvPr/>
          </p:nvSpPr>
          <p:spPr>
            <a:xfrm>
              <a:off x="8015040" y="5016600"/>
              <a:ext cx="1119240" cy="10393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36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316" name="" descr=""/>
          <p:cNvPicPr/>
          <p:nvPr/>
        </p:nvPicPr>
        <p:blipFill>
          <a:blip r:embed="rId4"/>
          <a:stretch/>
        </p:blipFill>
        <p:spPr>
          <a:xfrm>
            <a:off x="6324480" y="4776840"/>
            <a:ext cx="1524240" cy="94608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 flipH="1">
            <a:off x="7848360" y="5245200"/>
            <a:ext cx="152280" cy="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27640" y="5732640"/>
            <a:ext cx="17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  <a:ea typeface="MS PGothic"/>
              </a:rPr>
              <a:t>Automate Ré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8101080" y="4292640"/>
            <a:ext cx="9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  <a:ea typeface="MS PGothic"/>
              </a:rPr>
              <a:t>IHM Réel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1371600" y="2590920"/>
            <a:ext cx="2500200" cy="2000160"/>
          </a:xfrm>
          <a:prstGeom prst="rect">
            <a:avLst/>
          </a:prstGeom>
          <a:ln w="0">
            <a:noFill/>
          </a:ln>
        </p:spPr>
      </p:pic>
      <p:grpSp>
        <p:nvGrpSpPr>
          <p:cNvPr id="321" name=""/>
          <p:cNvGrpSpPr/>
          <p:nvPr/>
        </p:nvGrpSpPr>
        <p:grpSpPr>
          <a:xfrm>
            <a:off x="8013600" y="4800600"/>
            <a:ext cx="1130400" cy="1039320"/>
            <a:chOff x="8013600" y="4800600"/>
            <a:chExt cx="1130400" cy="1039320"/>
          </a:xfrm>
        </p:grpSpPr>
        <p:graphicFrame>
          <p:nvGraphicFramePr>
            <p:cNvPr id="322" name=""/>
            <p:cNvGraphicFramePr/>
            <p:nvPr/>
          </p:nvGraphicFramePr>
          <p:xfrm>
            <a:off x="8013600" y="4804200"/>
            <a:ext cx="1130400" cy="10332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23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013600" y="4804200"/>
                      <a:ext cx="1130400" cy="1033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24" name=""/>
            <p:cNvSpPr/>
            <p:nvPr/>
          </p:nvSpPr>
          <p:spPr>
            <a:xfrm>
              <a:off x="8015040" y="4800600"/>
              <a:ext cx="1119240" cy="10393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36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5" name=""/>
          <p:cNvSpPr/>
          <p:nvPr/>
        </p:nvSpPr>
        <p:spPr>
          <a:xfrm>
            <a:off x="6227640" y="0"/>
            <a:ext cx="23760" cy="5965920"/>
          </a:xfrm>
          <a:prstGeom prst="line">
            <a:avLst/>
          </a:prstGeom>
          <a:ln cap="rnd" w="381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4"/>
          <a:stretch/>
        </p:blipFill>
        <p:spPr>
          <a:xfrm>
            <a:off x="6324480" y="4560840"/>
            <a:ext cx="1524240" cy="94608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 flipV="1">
            <a:off x="2057400" y="6019560"/>
            <a:ext cx="0" cy="53316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838080" y="6553080"/>
            <a:ext cx="70866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6858000" y="6172200"/>
            <a:ext cx="0" cy="3808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133720" y="601992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086600" y="609588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veu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7086600" y="2971440"/>
            <a:ext cx="0" cy="152388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7848360" y="5029200"/>
            <a:ext cx="152280" cy="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V="1">
            <a:off x="22320" y="347760"/>
            <a:ext cx="6202440" cy="936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36000" tIns="-37440" bIns="-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375280" y="-3240"/>
            <a:ext cx="12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36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MS PGothic"/>
              </a:rPr>
              <a:t>VIRTU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230880" y="351000"/>
            <a:ext cx="2935440" cy="7920"/>
          </a:xfrm>
          <a:prstGeom prst="line">
            <a:avLst/>
          </a:prstGeom>
          <a:ln w="38160">
            <a:solidFill>
              <a:srgbClr val="ff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36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948360" y="-3240"/>
            <a:ext cx="144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33"/>
                </a:solidFill>
                <a:latin typeface="Arial"/>
                <a:ea typeface="MS PGothic"/>
              </a:rPr>
              <a:t>RÉ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0" y="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utomatiq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5"/>
          <a:stretch/>
        </p:blipFill>
        <p:spPr>
          <a:xfrm>
            <a:off x="6443640" y="981000"/>
            <a:ext cx="2500200" cy="200016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6372360" y="98100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O réel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227640" y="5516640"/>
            <a:ext cx="17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  <a:ea typeface="MS PGothic"/>
              </a:rPr>
              <a:t>Automate Ré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8101080" y="4076640"/>
            <a:ext cx="9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  <a:ea typeface="MS PGothic"/>
              </a:rPr>
              <a:t>IHM Réel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50920" y="1268280"/>
            <a:ext cx="88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’enseignement de l’automatique vise l’acquisition des compétences nécessaires à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utomatiq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71640" y="2565360"/>
            <a:ext cx="792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- la </a:t>
            </a:r>
            <a:r>
              <a:rPr b="1" lang="fr-FR" sz="2400" spc="-1" strike="noStrike" u="sng">
                <a:solidFill>
                  <a:srgbClr val="ffff00"/>
                </a:solidFill>
                <a:uFillTx/>
                <a:latin typeface="Arial"/>
              </a:rPr>
              <a:t>R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É</a:t>
            </a:r>
            <a:r>
              <a:rPr b="1" lang="fr-FR" sz="2400" spc="-1" strike="noStrike" u="sng">
                <a:solidFill>
                  <a:srgbClr val="ffff00"/>
                </a:solidFill>
                <a:uFillTx/>
                <a:latin typeface="Arial"/>
              </a:rPr>
              <a:t>ALISATION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des interventions de maintenance sur des Systèmes Automatisé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690560" y="342900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Diagnost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92360" y="3933720"/>
            <a:ext cx="74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Amélioration, intégration de moyens de surveill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3" name=""/>
          <p:cNvGrpSpPr/>
          <p:nvPr/>
        </p:nvGrpSpPr>
        <p:grpSpPr>
          <a:xfrm>
            <a:off x="8013600" y="4800600"/>
            <a:ext cx="1130400" cy="1039320"/>
            <a:chOff x="8013600" y="4800600"/>
            <a:chExt cx="1130400" cy="1039320"/>
          </a:xfrm>
        </p:grpSpPr>
        <p:graphicFrame>
          <p:nvGraphicFramePr>
            <p:cNvPr id="344" name=""/>
            <p:cNvGraphicFramePr/>
            <p:nvPr/>
          </p:nvGraphicFramePr>
          <p:xfrm>
            <a:off x="8013600" y="4804200"/>
            <a:ext cx="1130400" cy="1033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4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8013600" y="4804200"/>
                      <a:ext cx="1130400" cy="1033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46" name=""/>
            <p:cNvSpPr/>
            <p:nvPr/>
          </p:nvSpPr>
          <p:spPr>
            <a:xfrm>
              <a:off x="8015040" y="4800600"/>
              <a:ext cx="1119240" cy="10393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36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6227640" y="0"/>
            <a:ext cx="23760" cy="5965920"/>
          </a:xfrm>
          <a:prstGeom prst="line">
            <a:avLst/>
          </a:prstGeom>
          <a:ln cap="rnd" w="381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3"/>
          <a:stretch/>
        </p:blipFill>
        <p:spPr>
          <a:xfrm>
            <a:off x="6324480" y="4560840"/>
            <a:ext cx="1524240" cy="94608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 flipV="1">
            <a:off x="7086600" y="2971440"/>
            <a:ext cx="0" cy="152388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7848360" y="5029200"/>
            <a:ext cx="152280" cy="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230880" y="351000"/>
            <a:ext cx="2935440" cy="7920"/>
          </a:xfrm>
          <a:prstGeom prst="line">
            <a:avLst/>
          </a:prstGeom>
          <a:ln w="38160">
            <a:solidFill>
              <a:srgbClr val="ff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36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48360" y="-3240"/>
            <a:ext cx="144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33"/>
                </a:solidFill>
                <a:latin typeface="Arial"/>
                <a:ea typeface="MS PGothic"/>
              </a:rPr>
              <a:t>RÉ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utomatiq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4"/>
          <a:stretch/>
        </p:blipFill>
        <p:spPr>
          <a:xfrm>
            <a:off x="6443640" y="981000"/>
            <a:ext cx="2500200" cy="200016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6372360" y="98100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O réel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27640" y="5516640"/>
            <a:ext cx="17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  <a:ea typeface="MS PGothic"/>
              </a:rPr>
              <a:t>Automate Ré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8101080" y="4076640"/>
            <a:ext cx="9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  <a:ea typeface="MS PGothic"/>
              </a:rPr>
              <a:t>IHM Réel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0" y="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utomatiq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14200" y="476280"/>
            <a:ext cx="87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La solution DELMIA AUTOMATION appliquée à la cellule ERSMATES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1946160" y="1579680"/>
            <a:ext cx="5249880" cy="52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0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5" dur="162000" fill="hold"/>
                                        <p:tgtEl>
                                          <p:spTgt spid="3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6" restart="whenNotActive" nodeType="interactiveSeq" fill="hold">
                <p:stCondLst>
                  <p:cond evt="onClick">
                    <p:tgtEl>
                      <p:spTgt spid="360"/>
                    </p:tgtEl>
                  </p:cond>
                </p:stCondLst>
                <p:childTnLst>
                  <p:par>
                    <p:cTn id="337" fill="hold">
                      <p:stCondLst>
                        <p:cond evt="onClick">
                          <p:tgtEl>
                            <p:spTgt spid="360"/>
                          </p:tgtEl>
                        </p:cond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40" dur="1" fill="hold"/>
                                        <p:tgtEl>
                                          <p:spTgt spid="3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0" y="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utomatiq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914400" y="2895480"/>
            <a:ext cx="741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Merci de votre atten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50920" y="1268280"/>
            <a:ext cx="88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’enseignement de l’automatique vise l’acquisition des compétences nécessaires à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utomatiq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71640" y="2565360"/>
            <a:ext cx="792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- la </a:t>
            </a:r>
            <a:r>
              <a:rPr b="1" lang="fr-FR" sz="24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É</a:t>
            </a:r>
            <a:r>
              <a:rPr b="1" lang="fr-FR" sz="2400" spc="-1" strike="noStrike" u="sng">
                <a:solidFill>
                  <a:srgbClr val="ffffff"/>
                </a:solidFill>
                <a:uFillTx/>
                <a:latin typeface="Arial"/>
              </a:rPr>
              <a:t>ALISATION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des interventions de maintenance sur des Systèmes Automatisé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71640" y="4076640"/>
            <a:ext cx="77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- la </a:t>
            </a:r>
            <a:r>
              <a:rPr b="1" lang="fr-FR" sz="2400" spc="-1" strike="noStrike" u="sng">
                <a:solidFill>
                  <a:srgbClr val="ffff00"/>
                </a:solidFill>
                <a:uFillTx/>
                <a:latin typeface="Arial"/>
              </a:rPr>
              <a:t>CONCEPTION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des solutions d’amélioration de la DISPONIBILI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É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et/ou de la 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É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CURI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50920" y="1268280"/>
            <a:ext cx="88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’enseignement de l’automatique vise l’acquisition des compétences nécessaires à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utomatiq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71640" y="2565360"/>
            <a:ext cx="792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- la </a:t>
            </a:r>
            <a:r>
              <a:rPr b="1" lang="fr-FR" sz="24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É</a:t>
            </a:r>
            <a:r>
              <a:rPr b="1" lang="fr-FR" sz="2400" spc="-1" strike="noStrike" u="sng">
                <a:solidFill>
                  <a:srgbClr val="ffffff"/>
                </a:solidFill>
                <a:uFillTx/>
                <a:latin typeface="Arial"/>
              </a:rPr>
              <a:t>ALISATION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des interventions de maintenance sur des Systèmes Automatisé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71640" y="4076640"/>
            <a:ext cx="77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- la </a:t>
            </a:r>
            <a:r>
              <a:rPr b="1" lang="fr-FR" sz="2400" spc="-1" strike="noStrike" u="sng">
                <a:solidFill>
                  <a:srgbClr val="ffffff"/>
                </a:solidFill>
                <a:uFillTx/>
                <a:latin typeface="Arial"/>
              </a:rPr>
              <a:t>CONCEPTION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des solutions d’amélioration de la </a:t>
            </a:r>
            <a:r>
              <a:rPr b="1" lang="fr-FR" sz="2400" spc="-1" strike="noStrike">
                <a:solidFill>
                  <a:srgbClr val="ffff00"/>
                </a:solidFill>
                <a:latin typeface="Arial"/>
              </a:rPr>
              <a:t>DISPONIBILIT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É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et/ou de la 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É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CURI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692360" y="501336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fiabilité </a:t>
            </a:r>
            <a:r>
              <a:rPr b="0" lang="en-US" sz="1800" spc="-1" strike="noStrike">
                <a:solidFill>
                  <a:srgbClr val="ffffff"/>
                </a:solidFill>
                <a:latin typeface="Wingdings 3"/>
                <a:ea typeface="Wingdings 3"/>
              </a:rPr>
              <a:t>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51280" y="5229360"/>
            <a:ext cx="5032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5013360"/>
            <a:ext cx="18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rveillance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92360" y="558972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- maintenabilité </a:t>
            </a:r>
            <a:r>
              <a:rPr b="0" lang="fr-FR" sz="1800" spc="-1" strike="noStrike">
                <a:solidFill>
                  <a:srgbClr val="ffffff"/>
                </a:solidFill>
                <a:latin typeface="Wingdings 3"/>
                <a:ea typeface="Wingdings 3"/>
              </a:rPr>
              <a:t>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52720" y="5805360"/>
            <a:ext cx="5032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0" y="558972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ffichage de défauts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50920" y="1268280"/>
            <a:ext cx="88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’enseignement de l’automatique vise l’acquisition des compétences nécessaires à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utomatiq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71640" y="2565360"/>
            <a:ext cx="792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- la </a:t>
            </a:r>
            <a:r>
              <a:rPr b="1" lang="fr-FR" sz="24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É</a:t>
            </a:r>
            <a:r>
              <a:rPr b="1" lang="fr-FR" sz="2400" spc="-1" strike="noStrike" u="sng">
                <a:solidFill>
                  <a:srgbClr val="ffffff"/>
                </a:solidFill>
                <a:uFillTx/>
                <a:latin typeface="Arial"/>
              </a:rPr>
              <a:t>ALISATION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des interventions de maintenance sur des Systèmes Automatisé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71640" y="4076640"/>
            <a:ext cx="77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- la </a:t>
            </a:r>
            <a:r>
              <a:rPr b="1" lang="fr-FR" sz="2400" spc="-1" strike="noStrike" u="sng">
                <a:solidFill>
                  <a:srgbClr val="ffffff"/>
                </a:solidFill>
                <a:uFillTx/>
                <a:latin typeface="Arial"/>
              </a:rPr>
              <a:t>CONCEPTION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des solutions d’amélioration de la 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DISPONIBILI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É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et/ou de la </a:t>
            </a:r>
            <a:r>
              <a:rPr b="1" lang="fr-FR" sz="24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É</a:t>
            </a:r>
            <a:r>
              <a:rPr b="1" lang="fr-FR" sz="2400" spc="-1" strike="noStrike">
                <a:solidFill>
                  <a:srgbClr val="ffff00"/>
                </a:solidFill>
                <a:latin typeface="Arial"/>
              </a:rPr>
              <a:t>CURIT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692360" y="501336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Dispositif de protec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92360" y="558972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Redonda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92360" y="623736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Surveilla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209520" y="292428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Les compétences du référenti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utomatiq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utomatiq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1989000"/>
            <a:ext cx="864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CP2.3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:</a:t>
            </a: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 Analyser le fonctionnement et l’organisation d’un système automatisé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0920" y="2637000"/>
            <a:ext cx="864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03160" indent="-8031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CP4.2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:</a:t>
            </a: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 Rechercher, argumenter des solutions d’automatisme et réaliser les dossiers correspondan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50920" y="3645000"/>
            <a:ext cx="864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03160" indent="-8031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CP2.5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Analyser les solutions de production, de distribution et de conversion des énergies </a:t>
            </a:r>
            <a:r>
              <a:rPr b="1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pneumatique et hydrauliq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0920" y="4437000"/>
            <a:ext cx="864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03160" indent="-8031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CP4.5 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Rechercher, argumenter des solutions </a:t>
            </a:r>
            <a:r>
              <a:rPr b="1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pneumatique et hydrauliqu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et réaliser les dossiers correspondan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50920" y="609480"/>
            <a:ext cx="8642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’enseignement de l’automatique doit rendre l’étudiant capable de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754200" y="5013360"/>
            <a:ext cx="7634160" cy="1739160"/>
            <a:chOff x="754200" y="5013360"/>
            <a:chExt cx="7634160" cy="1739160"/>
          </a:xfrm>
        </p:grpSpPr>
        <p:sp>
          <p:nvSpPr>
            <p:cNvPr id="125" name=""/>
            <p:cNvSpPr/>
            <p:nvPr/>
          </p:nvSpPr>
          <p:spPr>
            <a:xfrm>
              <a:off x="754200" y="5805360"/>
              <a:ext cx="7634160" cy="947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 Narrow"/>
                </a:rPr>
                <a:t>É</a:t>
              </a:r>
              <a:r>
                <a:rPr b="0" lang="fr-FR" sz="2800" spc="-1" strike="noStrike">
                  <a:solidFill>
                    <a:srgbClr val="ff0000"/>
                  </a:solidFill>
                  <a:latin typeface="Arial Narrow"/>
                </a:rPr>
                <a:t>preuve ponctuelle – E51</a:t>
              </a:r>
              <a:br>
                <a:rPr sz="2800"/>
              </a:br>
              <a:r>
                <a:rPr b="0" lang="fr-FR" sz="2800" spc="-1" strike="noStrike">
                  <a:solidFill>
                    <a:srgbClr val="ff0000"/>
                  </a:solidFill>
                  <a:latin typeface="Arial Narrow"/>
                </a:rPr>
                <a:t>Durée : 4 heures – Coefficient : 3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425840" y="5013360"/>
              <a:ext cx="287640" cy="576360"/>
            </a:xfrm>
            <a:prstGeom prst="downArrow">
              <a:avLst>
                <a:gd name="adj1" fmla="val 50000"/>
                <a:gd name="adj2" fmla="val 50094"/>
              </a:avLst>
            </a:prstGeom>
            <a:solidFill>
              <a:srgbClr val="ffffff"/>
            </a:soli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utomatiq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50920" y="1989000"/>
            <a:ext cx="864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ux épreuves d’interventions (E6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116000" y="256536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- diagnosti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50920" y="609480"/>
            <a:ext cx="8642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’enseignement de l’automatique permet la mise en œuvre de savoirs et de savoir-faire nécessaires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116000" y="3141720"/>
            <a:ext cx="684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- amélioration et/ ou intégration de moyens de surveillance (mise en œuvr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50920" y="4149720"/>
            <a:ext cx="864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u projet technique (E63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116000" y="4726080"/>
            <a:ext cx="612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- élaborer le dossier de réalis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116000" y="5302080"/>
            <a:ext cx="755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- mettre en œuvre la réalisation du proj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5T07:45:57Z</dcterms:created>
  <dc:creator>Gérard HANNICQ</dc:creator>
  <dc:description/>
  <dc:language>en-US</dc:language>
  <cp:lastModifiedBy>Giezek François</cp:lastModifiedBy>
  <cp:lastPrinted>2005-11-05T18:31:52Z</cp:lastPrinted>
  <dcterms:modified xsi:type="dcterms:W3CDTF">2005-12-01T21:46:55Z</dcterms:modified>
  <cp:revision>103</cp:revision>
  <dc:subject/>
  <dc:title>Stratégie de maintenance</dc:title>
</cp:coreProperties>
</file>