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4E1-2DA9-4777-97C2-CBF131DB9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ertification des compétences liées à la stratégie de maintenance est réalisée par la sous-épreuve E62 appartenant à l ’épreuve professionnelle de synthèse E6. Cette sous-épreuve E62 a un coefficien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éfinir le questionnement correspondant aux actions des compétences évalué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questions posées permettent l ’évaluation de la compétence. Il n ’est pas question de redéfinir le contenu de la compé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s de situations d ’évalua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ir de problématiques industrielles différentes, des typologies de situations d ’évaluation apparaissent permettant de certifier les compétences de la sous épreuve E6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e des exe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 ’autres typologies sont envisage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faut couvrir l ’ensemble des compétences pour une même session d ’examen, ce qui permet de s ’assurer que la formation ait été entièrement dispens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remarque que par rapport aux 5 situations d ’évaluation présenté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e valider l ’ensemble des compétenc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 dans la majorité des cas, elles mobilisent 2 compé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guide d ’élaboration accompagné d ’un exemple est disponible sur le site du RPM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 ’évaluation du candidat est effectuée à partir des indicateurs de performance de la compétence. Une grille d ’évaluation nationale sera diffusée avec la circulaire d ’organisation des examens. Elle sera disponible sur le site du RP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de la fiche d ’é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her les  compétences à évaluer  en fonction de la problématique de maintenance trait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retrouve les actions et les indicateurs définis dans la fiche compétence du référenti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organiser l ’évaluation en C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pe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éparation écrite 1H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on orale : 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ison de 30 minutes par candidat (interrogation orale = 20 minutes, évaluation et changement de candidat = 10 minutes) il est possible d ’évaluer 8 candidats en 4 he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d éval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in de mettre en place cette évaluation dans les meilleures conditions, il serait souhaitable de créer une banque de sujets au niveau 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groupe de travail propose qu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que académie élabore un sujet sous la responsabilité de l ’IPR en charge de la maintenance industrielle pou le mois d ’avril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que IPR transmet au RPMI le sujet élaboré pour sa mise à disposition auprès des équipes pédagog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te banque de suj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era le travail des équipes pédagogiques pour la première s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mentera une banque d ’études  de cas exploitables en 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te épreuve est une interrogation orale de 20 minutes précédée d ’une préparation écrite de 1H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ommission d ’interrogation est composée de 2 enseignants de maintenance et d ’un représentant de la prof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réglementation prévoit 2 modes d ’évaluation : un contrôle en cours de formation et une forme ponctu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majorité des candidats passeront en CC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lque soit le mode d ’évaluation, le support de l ’épreuve est une problématique de maintenance industri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impossible d ’évaluer toutes les compétences car elles s ’appuient sur des  problématiques différentes. On évaluera donc un certain nombre de compétences parmi les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 seule action d ’une compétence unique ne peut être retenue comme situation d ’évaluation. Par exemple, un simple calcul de coût ne permet d ’évaluer correctement le candid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problème posé doit permettre d ’évaluer le candidat à partir d ’un champ d ’actions suffisamment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 : plusieurs actions de deux compétences permettent d ’évaluer correctement le candi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créer une situation d ’évaluation, il fau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dentifier une problématique de maintenance industri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le : Fiabiliser un bien en mettant en place un suivi vibra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r les compétences évaluables par la résolution du problème po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finir les données nécessaires à la résolution du problè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exte de la problé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ctifs de l ’entre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onnées technico-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yens mis à disposition pour résoudre le problème (logiciels, documentation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TTENTION : les données doivent être exploitables dans le temps imparti. Il faudra parfois limiter le nombre d ’informations , rappel : durée de préparation 1H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800-67E6-4E6F-8FF0-E62C9B5E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8A6-8F5A-4DA5-B014-DC3BA7BD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03E-4D4F-4C1B-9DC6-11E589D0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1D2-4EEC-4F7C-9551-1696265E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DA2-53C2-4C1E-8D7A-8463BFDD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BE1-969C-4482-BD3B-47B44BDF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08B6-1EDB-48BB-A2BB-64714C35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4F7F-8540-4FA3-A174-953400D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7A1-63EA-4CF4-B475-A2C6532C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B11-8992-4665-830F-E0968C55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646D-04A2-4C4F-BC18-7B5907A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CBF-919A-4E12-8F39-4CCB367A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BDE7-CFB1-48CD-B539-44E0E49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651C-B883-4555-948F-CFFFD42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C1EF-19B1-4625-8ECC-8F6FD2B1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2EC-6ED1-494C-BB16-BEFE3409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4311-D1EC-4EBA-8A66-22CA9A0F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F95-6551-43E6-9110-C4897F4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DB1-8096-47A4-9D53-A85F6AF0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2DD-76C5-45E4-8124-A79461F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5CD-5A07-443E-89CE-BFE185F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8B1-7F2E-4CBF-8232-70C1490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3B8-1688-4C4A-A02D-EA61B1B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403-DD9B-460A-9128-F127D5B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BA42-4452-4BBF-947A-400C0C6EF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6928-9EA1-45BF-9879-B38D21E25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373480"/>
            <a:ext cx="8642160" cy="1861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Sous-épreuve E62 – Unité U62 :</a:t>
            </a:r>
            <a:br>
              <a:rPr sz="4400"/>
            </a:b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br>
              <a:rPr sz="4400"/>
            </a:b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(Coefficient 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066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Définir le questionnement correspondant aux actions des compétences évalu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63640"/>
          <a:ext cx="876312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63640"/>
                    <a:ext cx="876312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57200" y="3886200"/>
            <a:ext cx="41148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86200"/>
            <a:ext cx="396252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114800"/>
            <a:ext cx="45720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533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s typologies des situations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95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1295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étences évalu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7524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éfinir les axes d ’améliorations de la stratégie de la maintenance (type de maintenance, méthodes, moyens…) à partir des indicateurs de disponibilité et de coû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1749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1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45744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abiliser un bien en mettant en place un suivi vibrato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2004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P2.1 : Analyser la fiabilité, la maintenabilité et la sécurité d 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115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3 : Définir, préparer ordonnancer et optimiser la maintenance préven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029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roître la disponibilité d ’un équipement en améliorant sa maintenabilité et la logistiqu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0292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P2.1 : Analyser la fiabilité, la maintenabilité et la sécurité d 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867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5 : Définir et/ou optimiser l ’organisation des activité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295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mple de probléma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193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2193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533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s typologies des situations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95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1295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étences évalu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7524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fier et préparer une intervention corrective importante suite à un dépann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49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1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765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fier et préparer une amél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657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P2.1 : Analyser la fiabilité, la maintenabilité et la sécurité d 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45720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4 : Définir, préparer et ordonnancer les travaux d ’amélioration ou d ’intégration d ’un nouveau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295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mple de probléma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219320"/>
            <a:ext cx="0" cy="464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1219320"/>
            <a:ext cx="0" cy="464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965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2514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2 : Définir, préparer, ordonnancer, optimiser la maintenance corre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6095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’autres typologies sont envisage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5335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s typologies des situations d ’évalua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5791320"/>
            <a:ext cx="86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 guide d’élaboration accompagné d’un exemple est disponible sur le site du RP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3320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Couvrir l’ensemble des compétences sur une session d ’ex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47920" y="1981080"/>
          <a:ext cx="6248160" cy="30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24816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10666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8288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Indicateurs de performance de la compé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240" y="25322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Grille d ’évaluation nationale (Fiche E6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6680" y="3065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ffusée avec la circulaire d ’organisation des exam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6680" y="367524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sponible sur le site du RP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715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cune autre fiche ne devra être utilis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957240" y="60480"/>
          <a:ext cx="7577280" cy="67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60480"/>
                    <a:ext cx="757728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58920" y="37940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d évaluer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144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tion de l ’évaluation en CCF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3480" y="440388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ant les horaires d ’activités prat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920" y="150804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ée de travail du candidat sur le problème posé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éparation en salle (1H30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nterrogation orale (0H2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/2 journée de certification (4 heures d ’interrogation)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8 candid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3480" y="493704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ant une plage horaire banalisée et programm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480" y="554688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ant la période de stage en milieu professio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1066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’une banque nationale de suje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7366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haque académie élabore un sujet sous la responsabilité de l ’IPR en charge de la maintenance industrielle </a:t>
            </a:r>
            <a:r>
              <a:rPr b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(avril 2006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7273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haque IPR transmet au RPMI le sujet élaboré pour sa mise à disposition auprès des équipes pédagogiqu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3886200"/>
          <a:ext cx="8001000" cy="25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80010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8954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9144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euve ora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4000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Préparation écrite : 1H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905120"/>
            <a:ext cx="50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Interrogation orale : 20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429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es d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Contrôle en cours de formation (CC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390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Forme ponct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2578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port de l’épreuv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715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Une problématique de maintenance industri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40840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Commission d’interrogation : 2 enseignants de maintenance et un représentant de la prof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60020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CP2.1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: Analyser la fiabilité, la maintenabilité et la sécurité d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9680"/>
            <a:ext cx="70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1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19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2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corre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3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préven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4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 et ordonnancer les travaux d’amélioration ou d’intégration d’un nouveau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76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5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’organisation des activité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épreuve a pour objet de valide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out ou parti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 compétenc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5715000"/>
            <a:ext cx="8610480" cy="8863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Impossibilité d’évaluer toutes les compétences</a:t>
            </a:r>
            <a:br>
              <a:rPr sz="2800"/>
            </a:b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(problématiques différen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0020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CP2.1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: Analyser la fiabilité, la maintenabilité et la sécurité d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09680"/>
            <a:ext cx="70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CP3.1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19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CP3.2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orre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CP3.3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réven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CP3.4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 et ordonnancer les travaux d’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mélioratio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ou d’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intégratio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d’un nouveau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876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CP3.5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’organisation des activité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épreuve a pour objet de valide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out ou parti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 compétenc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752480" y="0"/>
          <a:ext cx="5729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729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0880" y="4952880"/>
            <a:ext cx="842508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e seule action d’une compétence unique ne peut être retenue comme situation d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1371600"/>
            <a:ext cx="28195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057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étences validé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66880"/>
            <a:ext cx="9144000" cy="2228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636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CP2.1. Analyser la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, la maintenabilité et la sécurité d’un bien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- déterminer les indicateurs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u bie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- identifier les sous-ensembles ou les composants les plus pénalisant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du point de vue de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/ou de la maintenabilité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- proposer des axes de solutions visant à amélior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la maintenabilité et la sécurité du b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24280"/>
            <a:ext cx="9144000" cy="1923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P3.3. Définir, préparer, ordonnancer, optimiser la maintenance préventive 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 type d ’opérations préventi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s opérations de maintenance conditionnelle ou prévisionnel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loiter les informations issues de la surve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62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 problème posé doit permettre d’évaluer le candidat à partir d’un champ d’actions suffisamment lar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1143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Identifier une problématiqu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220840"/>
          <a:ext cx="9144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20840"/>
                    <a:ext cx="9144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2209680"/>
            <a:ext cx="457200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2220840"/>
          <a:ext cx="9144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20840"/>
                    <a:ext cx="9144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3520" y="11430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Identifier les compétences évaluables par la résolution du problè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09880"/>
            <a:ext cx="457200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562720"/>
            <a:ext cx="457200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20840"/>
          <a:ext cx="9144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20840"/>
                    <a:ext cx="9144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99072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Définir les données nécessaires (contexte, objectifs, données technico-économiques, moyens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765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ttention : les données  sont exploitables dans le temps impar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133720"/>
            <a:ext cx="457200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érard HANNICQ</dc:creator>
  <dc:description/>
  <dc:language>en-US</dc:language>
  <cp:lastModifiedBy>Giezek François</cp:lastModifiedBy>
  <cp:lastPrinted>2005-11-05T18:31:52Z</cp:lastPrinted>
  <dcterms:modified xsi:type="dcterms:W3CDTF">2005-12-01T20:12:48Z</dcterms:modified>
  <cp:revision>80</cp:revision>
  <dc:subject/>
  <dc:title>Stratégie de maintenance</dc:title>
</cp:coreProperties>
</file>