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0063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034-16FD-44AA-A4F7-0BD0D404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F78-E523-4707-9302-13DA9B54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AFE-4C7F-4C33-8B8B-4AB8616E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309-813E-422B-BE56-DD76A533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B142-C2E5-4E65-A6C0-5A41FFB7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2DDE-C6A4-4B67-AA47-6CBB3E1E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E4E3-FD05-46E0-B798-857BDA9B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FDCD-3392-4D5F-9C3A-D3C291E6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5177-451E-42D5-9C8B-67C192EC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B83E-8968-45AE-A0FE-880056FE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558C-33AA-4C34-81FB-605D1FAD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746-A7D0-4370-8C89-2BE7E393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4915-4C6C-4652-88D6-EDCEA1A0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C984-BEF3-4010-9FEC-BC6D89B0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491F-9D7D-4DEC-B6A0-BA45FBD6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C753-CF4E-4E49-B658-8FDC37C0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6C68-CA75-4C99-9B57-E9C39810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823-902C-4633-90BF-3DCC1115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BC9-0215-47C4-AABF-59BCB3F5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BE3-59A7-4934-BF21-ED795001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295-15A3-48BE-A82A-3BA35952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224-6911-46EB-A8F0-C5E54D4E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10F-5120-4419-A4BD-B657EC6F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0CA-648A-442F-AECE-8B250BBC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5884-8829-4EC3-A45C-10A3AB38F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F7B8-00A7-44ED-B923-20FE439AC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0440" y="1828800"/>
            <a:ext cx="71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ÉSENTATION  DU RÉFÉRENTIEL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4600" y="533520"/>
            <a:ext cx="80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TS MAINTENANCE INDUSTRIEL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27920" y="3581280"/>
            <a:ext cx="4169160" cy="5814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ÉNI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ÉLECTR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200" y="624852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lais le 2-12-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257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82680" y="380880"/>
            <a:ext cx="18586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380880"/>
            <a:ext cx="70102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838080" y="914400"/>
            <a:ext cx="8001000" cy="5791320"/>
            <a:chOff x="838080" y="914400"/>
            <a:chExt cx="8001000" cy="5791320"/>
          </a:xfrm>
        </p:grpSpPr>
        <p:sp>
          <p:nvSpPr>
            <p:cNvPr id="263" name=""/>
            <p:cNvSpPr/>
            <p:nvPr/>
          </p:nvSpPr>
          <p:spPr>
            <a:xfrm>
              <a:off x="5943600" y="3657600"/>
              <a:ext cx="289548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ppliqués à  l’ensemble de la chaîne de transfert d’énergi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080" y="914400"/>
              <a:ext cx="4343400" cy="5791320"/>
            </a:xfrm>
            <a:prstGeom prst="rect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333760" y="4419720"/>
              <a:ext cx="53316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250320" y="1676520"/>
            <a:ext cx="206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util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escrip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t d ’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69920" y="898560"/>
            <a:ext cx="4144680" cy="5793840"/>
            <a:chOff x="1069920" y="898560"/>
            <a:chExt cx="4144680" cy="5793840"/>
          </a:xfrm>
        </p:grpSpPr>
        <p:sp>
          <p:nvSpPr>
            <p:cNvPr id="268" name=""/>
            <p:cNvSpPr/>
            <p:nvPr/>
          </p:nvSpPr>
          <p:spPr>
            <a:xfrm>
              <a:off x="1071000" y="898560"/>
              <a:ext cx="348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pprovisionnement e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nergie électr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69920" y="3352680"/>
              <a:ext cx="414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istribution de l ’énergi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lectrique  en basse ten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71000" y="4587840"/>
              <a:ext cx="35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incipaux actionneur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lectriques  et mode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e comman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52840" y="623268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TILISA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43200" y="577548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69920" y="2117880"/>
              <a:ext cx="38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otection des person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et des bie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66880" y="173664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66880" y="295596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66880" y="417528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278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82680" y="380880"/>
            <a:ext cx="18586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33720" y="380880"/>
            <a:ext cx="70102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3520" y="4724280"/>
            <a:ext cx="3542040" cy="1981440"/>
            <a:chOff x="533520" y="4724280"/>
            <a:chExt cx="3542040" cy="1981440"/>
          </a:xfrm>
        </p:grpSpPr>
        <p:sp>
          <p:nvSpPr>
            <p:cNvPr id="284" name=""/>
            <p:cNvSpPr/>
            <p:nvPr/>
          </p:nvSpPr>
          <p:spPr>
            <a:xfrm>
              <a:off x="533520" y="4724280"/>
              <a:ext cx="3504960" cy="1981440"/>
            </a:xfrm>
            <a:prstGeom prst="rect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7840" y="4800600"/>
              <a:ext cx="35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incipaux actionneur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lectriques  et mode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e comman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43360" y="609588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TILISA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84120" y="1768320"/>
            <a:ext cx="4221000" cy="2730600"/>
            <a:chOff x="384120" y="1768320"/>
            <a:chExt cx="4221000" cy="2730600"/>
          </a:xfrm>
        </p:grpSpPr>
        <p:sp>
          <p:nvSpPr>
            <p:cNvPr id="288" name=""/>
            <p:cNvSpPr/>
            <p:nvPr/>
          </p:nvSpPr>
          <p:spPr>
            <a:xfrm>
              <a:off x="384840" y="1768320"/>
              <a:ext cx="348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pprovisionnement e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nergie électr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440" y="3673440"/>
              <a:ext cx="414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istribution de l ’énergi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lectrique  en basse ten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4120" y="2759040"/>
              <a:ext cx="38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otection des person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et des bie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" y="914400"/>
            <a:ext cx="8686800" cy="4724280"/>
            <a:chOff x="457200" y="914400"/>
            <a:chExt cx="8686800" cy="4724280"/>
          </a:xfrm>
        </p:grpSpPr>
        <p:grpSp>
          <p:nvGrpSpPr>
            <p:cNvPr id="292" name=""/>
            <p:cNvGrpSpPr/>
            <p:nvPr/>
          </p:nvGrpSpPr>
          <p:grpSpPr>
            <a:xfrm>
              <a:off x="457200" y="914400"/>
              <a:ext cx="8686800" cy="990720"/>
              <a:chOff x="457200" y="914400"/>
              <a:chExt cx="8686800" cy="990720"/>
            </a:xfrm>
          </p:grpSpPr>
          <p:sp>
            <p:nvSpPr>
              <p:cNvPr id="293" name=""/>
              <p:cNvSpPr/>
              <p:nvPr/>
            </p:nvSpPr>
            <p:spPr>
              <a:xfrm>
                <a:off x="457200" y="914400"/>
                <a:ext cx="868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buClr>
                    <a:srgbClr val="ff99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Qualité de l ’énergie électrique continuité de servic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6553080" y="1371600"/>
                <a:ext cx="0" cy="533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962520" y="1981080"/>
              <a:ext cx="4647960" cy="3657600"/>
              <a:chOff x="3962520" y="1981080"/>
              <a:chExt cx="4647960" cy="365760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4876920" y="1981080"/>
                <a:ext cx="3733560" cy="1295640"/>
                <a:chOff x="4876920" y="1981080"/>
                <a:chExt cx="3733560" cy="1295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031000" y="2438280"/>
                  <a:ext cx="1488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FLUENC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858360" y="2286000"/>
                  <a:ext cx="1453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Qualitative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857640" y="2743200"/>
                  <a:ext cx="1608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Quantitative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876920" y="1981080"/>
                  <a:ext cx="3733560" cy="1295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3962520" y="2209680"/>
                <a:ext cx="83808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43400" y="2971800"/>
                <a:ext cx="45720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5410080" y="3352680"/>
                <a:ext cx="0" cy="22860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4267080"/>
                <a:ext cx="60948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" name=""/>
          <p:cNvGrpSpPr/>
          <p:nvPr/>
        </p:nvGrpSpPr>
        <p:grpSpPr>
          <a:xfrm>
            <a:off x="5643000" y="3352680"/>
            <a:ext cx="3398040" cy="2742840"/>
            <a:chOff x="5643000" y="3352680"/>
            <a:chExt cx="3398040" cy="2742840"/>
          </a:xfrm>
        </p:grpSpPr>
        <p:grpSp>
          <p:nvGrpSpPr>
            <p:cNvPr id="306" name=""/>
            <p:cNvGrpSpPr/>
            <p:nvPr/>
          </p:nvGrpSpPr>
          <p:grpSpPr>
            <a:xfrm>
              <a:off x="5643000" y="3962160"/>
              <a:ext cx="3398040" cy="2133360"/>
              <a:chOff x="5643000" y="3962160"/>
              <a:chExt cx="3398040" cy="2133360"/>
            </a:xfrm>
          </p:grpSpPr>
          <p:sp>
            <p:nvSpPr>
              <p:cNvPr id="307" name=""/>
              <p:cNvSpPr/>
              <p:nvPr/>
            </p:nvSpPr>
            <p:spPr>
              <a:xfrm>
                <a:off x="5643000" y="3962160"/>
                <a:ext cx="339804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99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Outils de surveillanc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des réseaux électriqu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ff99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Outils d ’analy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ff99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Outils de mesures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5818320" y="5485680"/>
                <a:ext cx="1143000" cy="609840"/>
                <a:chOff x="5818320" y="5485680"/>
                <a:chExt cx="1143000" cy="609840"/>
              </a:xfrm>
            </p:grpSpPr>
            <p:sp>
              <p:nvSpPr>
                <p:cNvPr id="309" name=""/>
                <p:cNvSpPr/>
                <p:nvPr/>
              </p:nvSpPr>
              <p:spPr>
                <a:xfrm flipV="1">
                  <a:off x="6961320" y="5485680"/>
                  <a:ext cx="0" cy="60948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818320" y="6019560"/>
                  <a:ext cx="1143000" cy="759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>
              <a:off x="6961320" y="3352680"/>
              <a:ext cx="0" cy="6094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429000" y="5715000"/>
            <a:ext cx="2362320" cy="685800"/>
            <a:chOff x="3429000" y="5715000"/>
            <a:chExt cx="2362320" cy="685800"/>
          </a:xfrm>
        </p:grpSpPr>
        <p:sp>
          <p:nvSpPr>
            <p:cNvPr id="313" name=""/>
            <p:cNvSpPr/>
            <p:nvPr/>
          </p:nvSpPr>
          <p:spPr>
            <a:xfrm>
              <a:off x="3429000" y="5715000"/>
              <a:ext cx="2362320" cy="685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5320" y="58672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ERFORMANC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316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59000" y="380880"/>
            <a:ext cx="18586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0" y="380880"/>
            <a:ext cx="68580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60440" y="914400"/>
            <a:ext cx="4144680" cy="5793840"/>
            <a:chOff x="460440" y="914400"/>
            <a:chExt cx="4144680" cy="5793840"/>
          </a:xfrm>
        </p:grpSpPr>
        <p:sp>
          <p:nvSpPr>
            <p:cNvPr id="322" name=""/>
            <p:cNvSpPr/>
            <p:nvPr/>
          </p:nvSpPr>
          <p:spPr>
            <a:xfrm>
              <a:off x="461160" y="914400"/>
              <a:ext cx="348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pprovisionnement e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nergie électr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0440" y="3368520"/>
              <a:ext cx="414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istribution de l ’énergi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lectrique  en basse ten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1520" y="4603680"/>
              <a:ext cx="35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incipaux actionneur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lectriques  et mode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e comman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43000" y="624852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TILISA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133360" y="579132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0440" y="2133720"/>
              <a:ext cx="38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otection des person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et des bie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57040" y="175248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57040" y="297180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57040" y="419112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648320" y="1066680"/>
            <a:ext cx="4343400" cy="5639040"/>
            <a:chOff x="4648320" y="1066680"/>
            <a:chExt cx="4343400" cy="5639040"/>
          </a:xfrm>
        </p:grpSpPr>
        <p:sp>
          <p:nvSpPr>
            <p:cNvPr id="332" name=""/>
            <p:cNvSpPr/>
            <p:nvPr/>
          </p:nvSpPr>
          <p:spPr>
            <a:xfrm>
              <a:off x="5951520" y="2835360"/>
              <a:ext cx="304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OMPOSA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SOUS ENSEMB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4648320" y="1066680"/>
              <a:ext cx="1294920" cy="5639040"/>
              <a:chOff x="4648320" y="1066680"/>
              <a:chExt cx="1294920" cy="5639040"/>
            </a:xfrm>
          </p:grpSpPr>
          <p:sp>
            <p:nvSpPr>
              <p:cNvPr id="334" name=""/>
              <p:cNvSpPr/>
              <p:nvPr/>
            </p:nvSpPr>
            <p:spPr>
              <a:xfrm>
                <a:off x="4648320" y="1066680"/>
                <a:ext cx="0" cy="5639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00600" y="3200400"/>
                <a:ext cx="114264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5562720" y="3962520"/>
            <a:ext cx="3429000" cy="1877040"/>
            <a:chOff x="5562720" y="3962520"/>
            <a:chExt cx="3429000" cy="1877040"/>
          </a:xfrm>
        </p:grpSpPr>
        <p:sp>
          <p:nvSpPr>
            <p:cNvPr id="337" name=""/>
            <p:cNvSpPr/>
            <p:nvPr/>
          </p:nvSpPr>
          <p:spPr>
            <a:xfrm>
              <a:off x="5562720" y="464832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Les modes de défaillance et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maintenance associé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38880" y="3962520"/>
              <a:ext cx="0" cy="7617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340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9000" y="380880"/>
            <a:ext cx="18586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380880"/>
            <a:ext cx="68580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981080" y="2133720"/>
            <a:ext cx="6891480" cy="1313640"/>
            <a:chOff x="1981080" y="2133720"/>
            <a:chExt cx="6891480" cy="1313640"/>
          </a:xfrm>
        </p:grpSpPr>
        <p:sp>
          <p:nvSpPr>
            <p:cNvPr id="346" name=""/>
            <p:cNvSpPr/>
            <p:nvPr/>
          </p:nvSpPr>
          <p:spPr>
            <a:xfrm>
              <a:off x="4384440" y="2133720"/>
              <a:ext cx="1787760" cy="13136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Outils d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descripti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et d ’analy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81080" y="2133720"/>
              <a:ext cx="2286000" cy="13136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Les modes 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défaillance 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maintenanc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associé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40320" y="2133720"/>
              <a:ext cx="2532240" cy="13136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Outils d ’analy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de mesures, et d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surveillance d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réseaux électriqu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981080" y="1371600"/>
            <a:ext cx="6858000" cy="459720"/>
            <a:chOff x="1981080" y="1371600"/>
            <a:chExt cx="6858000" cy="459720"/>
          </a:xfrm>
        </p:grpSpPr>
        <p:sp>
          <p:nvSpPr>
            <p:cNvPr id="350" name=""/>
            <p:cNvSpPr/>
            <p:nvPr/>
          </p:nvSpPr>
          <p:spPr>
            <a:xfrm>
              <a:off x="5790960" y="1371600"/>
              <a:ext cx="3048120" cy="4597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Énergie électrique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81080" y="1371600"/>
              <a:ext cx="3733920" cy="45972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Système de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35680" y="1143000"/>
            <a:ext cx="14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iè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’œuv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6400" y="1981080"/>
            <a:ext cx="1314720" cy="1359000"/>
            <a:chOff x="536400" y="1981080"/>
            <a:chExt cx="1314720" cy="1359000"/>
          </a:xfrm>
        </p:grpSpPr>
        <p:sp>
          <p:nvSpPr>
            <p:cNvPr id="354" name=""/>
            <p:cNvSpPr/>
            <p:nvPr/>
          </p:nvSpPr>
          <p:spPr>
            <a:xfrm>
              <a:off x="536400" y="2514600"/>
              <a:ext cx="131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uti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’ étu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19320" y="1981080"/>
              <a:ext cx="0" cy="533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222920" y="3352680"/>
            <a:ext cx="2940840" cy="1511280"/>
            <a:chOff x="1222920" y="3352680"/>
            <a:chExt cx="2940840" cy="1511280"/>
          </a:xfrm>
        </p:grpSpPr>
        <p:sp>
          <p:nvSpPr>
            <p:cNvPr id="357" name=""/>
            <p:cNvSpPr/>
            <p:nvPr/>
          </p:nvSpPr>
          <p:spPr>
            <a:xfrm>
              <a:off x="1523880" y="3352680"/>
              <a:ext cx="0" cy="68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22920" y="4038480"/>
              <a:ext cx="294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ysfonctionneme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érive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191120" y="4114800"/>
            <a:ext cx="4745880" cy="2120760"/>
            <a:chOff x="4191120" y="4114800"/>
            <a:chExt cx="4745880" cy="2120760"/>
          </a:xfrm>
        </p:grpSpPr>
        <p:sp>
          <p:nvSpPr>
            <p:cNvPr id="360" name=""/>
            <p:cNvSpPr/>
            <p:nvPr/>
          </p:nvSpPr>
          <p:spPr>
            <a:xfrm>
              <a:off x="4973760" y="4114800"/>
              <a:ext cx="3963240" cy="5205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oncevoir des solu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01600" y="5410080"/>
              <a:ext cx="2277720" cy="825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méliore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disponibilité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20120" y="47242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91120" y="4343400"/>
              <a:ext cx="685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34320" y="3352680"/>
            <a:ext cx="4803120" cy="3020040"/>
            <a:chOff x="634320" y="3352680"/>
            <a:chExt cx="4803120" cy="3020040"/>
          </a:xfrm>
        </p:grpSpPr>
        <p:sp>
          <p:nvSpPr>
            <p:cNvPr id="365" name=""/>
            <p:cNvSpPr/>
            <p:nvPr/>
          </p:nvSpPr>
          <p:spPr>
            <a:xfrm>
              <a:off x="838080" y="3352680"/>
              <a:ext cx="0" cy="1828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4320" y="5181480"/>
              <a:ext cx="4803120" cy="11912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ptimiser: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maintenance préventi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 ’organisation de la mainten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438280" y="380880"/>
            <a:ext cx="67057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’enseignement du Génie Électrique es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0" y="0"/>
            <a:ext cx="9144000" cy="398880"/>
            <a:chOff x="0" y="0"/>
            <a:chExt cx="9144000" cy="398880"/>
          </a:xfrm>
        </p:grpSpPr>
        <p:sp>
          <p:nvSpPr>
            <p:cNvPr id="369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38088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61880" y="38088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33520" y="1143000"/>
            <a:ext cx="8458200" cy="2286000"/>
            <a:chOff x="533520" y="1143000"/>
            <a:chExt cx="8458200" cy="2286000"/>
          </a:xfrm>
        </p:grpSpPr>
        <p:sp>
          <p:nvSpPr>
            <p:cNvPr id="373" name=""/>
            <p:cNvSpPr/>
            <p:nvPr/>
          </p:nvSpPr>
          <p:spPr>
            <a:xfrm>
              <a:off x="533520" y="1143000"/>
              <a:ext cx="8458200" cy="2286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21640" y="1766160"/>
              <a:ext cx="1946160" cy="90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09760" y="1835640"/>
              <a:ext cx="193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Évolu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pédagog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33520" y="3733920"/>
            <a:ext cx="8458200" cy="1295280"/>
            <a:chOff x="533520" y="3733920"/>
            <a:chExt cx="8458200" cy="1295280"/>
          </a:xfrm>
        </p:grpSpPr>
        <p:sp>
          <p:nvSpPr>
            <p:cNvPr id="377" name=""/>
            <p:cNvSpPr/>
            <p:nvPr/>
          </p:nvSpPr>
          <p:spPr>
            <a:xfrm>
              <a:off x="533520" y="3733920"/>
              <a:ext cx="8458200" cy="1295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55400" y="3962520"/>
              <a:ext cx="3054960" cy="825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Évolution au niveau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De l’interdisciplinarité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37120" y="2971800"/>
            <a:ext cx="49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sé sur une démarche indu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1295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ticulé autour d ’activités définies pou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34720" y="182880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asse entière, 1H/sema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34720" y="236232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 groupes d ’atelier,  2H/sema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3733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ienté vers les TP de 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9280" y="4343400"/>
            <a:ext cx="48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uyé par les autres discip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-3008520" y="3387960"/>
            <a:ext cx="6477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4160" y="5410080"/>
            <a:ext cx="83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 est aussi le cadre de la formation théorique à la pré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 risques d ’origine électrique en vue de la cer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38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222560" y="1295280"/>
            <a:ext cx="22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 ’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65920" y="1676520"/>
            <a:ext cx="609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Mettre en évidence une problématique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maintenance, dans le domaine du gé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65920" y="2743200"/>
            <a:ext cx="42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orter des connaiss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65920" y="3124080"/>
            <a:ext cx="53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lustrer par des exemples industr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classe entiè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-2970360" y="342612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4876920"/>
            <a:ext cx="3962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s moyen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socié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920" y="814320"/>
            <a:ext cx="16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i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914400" y="5334120"/>
            <a:ext cx="7162920" cy="740160"/>
            <a:chOff x="914400" y="5334120"/>
            <a:chExt cx="7162920" cy="740160"/>
          </a:xfrm>
        </p:grpSpPr>
        <p:sp>
          <p:nvSpPr>
            <p:cNvPr id="400" name=""/>
            <p:cNvSpPr/>
            <p:nvPr/>
          </p:nvSpPr>
          <p:spPr>
            <a:xfrm>
              <a:off x="4572000" y="5334120"/>
              <a:ext cx="350532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1250"/>
                </a:spcBef>
                <a:buClr>
                  <a:srgbClr val="ffff00"/>
                </a:buClr>
                <a:buSzPct val="5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gram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1250"/>
                </a:spcBef>
                <a:buClr>
                  <a:srgbClr val="ffff00"/>
                </a:buClr>
                <a:buSzPct val="5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tices techniques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1008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250"/>
                </a:spcBef>
                <a:buClr>
                  <a:srgbClr val="ffff00"/>
                </a:buClr>
                <a:buSzPct val="5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xtraits de dossiers  techniqu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219320" y="3581280"/>
            <a:ext cx="7619760" cy="1143000"/>
            <a:chOff x="1219320" y="3581280"/>
            <a:chExt cx="7619760" cy="1143000"/>
          </a:xfrm>
        </p:grpSpPr>
        <p:sp>
          <p:nvSpPr>
            <p:cNvPr id="403" name=""/>
            <p:cNvSpPr/>
            <p:nvPr/>
          </p:nvSpPr>
          <p:spPr>
            <a:xfrm>
              <a:off x="1219320" y="3581280"/>
              <a:ext cx="7619760" cy="1143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62720" y="3657600"/>
              <a:ext cx="2971800" cy="10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Relatives aux TP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e Gelec, et de M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222200" y="4191120"/>
            <a:ext cx="25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 form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19320" y="3657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 synthè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10280" y="6172200"/>
            <a:ext cx="380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 le zone systèmes si pos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0880" y="5730840"/>
            <a:ext cx="8763120" cy="8254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L’identification des ITEMS est du domaine de compétence de l’équipe pédag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1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352680" y="1371600"/>
            <a:ext cx="5114880" cy="825480"/>
            <a:chOff x="3352680" y="1371600"/>
            <a:chExt cx="5114880" cy="825480"/>
          </a:xfrm>
        </p:grpSpPr>
        <p:sp>
          <p:nvSpPr>
            <p:cNvPr id="416" name=""/>
            <p:cNvSpPr/>
            <p:nvPr/>
          </p:nvSpPr>
          <p:spPr>
            <a:xfrm>
              <a:off x="3352680" y="1752480"/>
              <a:ext cx="914400" cy="0"/>
            </a:xfrm>
            <a:prstGeom prst="line">
              <a:avLst/>
            </a:prstGeom>
            <a:ln w="7632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43400" y="1371600"/>
              <a:ext cx="4124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qui vont CONVERGER ver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n même ITEM GÉNÉR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457200" y="914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YCLE DE FORMATION 4 À 5 SÉ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4640" y="152388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stitué de 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2286000"/>
            <a:ext cx="876312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mple d ’Items génér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3597120"/>
            <a:ext cx="198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ÉNÉR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438280" y="2895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IG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Approche des systè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38280" y="3276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IG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Distribution et gestion de l ’énerg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3657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IG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Protection des person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38280" y="4038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IG4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Protection des b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38280" y="4419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IG5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onstituants des chaînes d’énerg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38280" y="4800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IG6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ommande de puiss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38280" y="5181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IG7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omportement de systèmes ré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3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4480" y="914400"/>
            <a:ext cx="85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e chaîne de transfert d’énergie peut être un point de dé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51360" y="3048120"/>
            <a:ext cx="308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7960" y="1905120"/>
            <a:ext cx="44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3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388080" y="235116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4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50280" y="3048120"/>
            <a:ext cx="34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92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457200"/>
            <a:ext cx="9144000" cy="990720"/>
            <a:chOff x="0" y="457200"/>
            <a:chExt cx="9144000" cy="990720"/>
          </a:xfrm>
        </p:grpSpPr>
        <p:sp>
          <p:nvSpPr>
            <p:cNvPr id="95" name=""/>
            <p:cNvSpPr/>
            <p:nvPr/>
          </p:nvSpPr>
          <p:spPr>
            <a:xfrm>
              <a:off x="0" y="45720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L’enseignement du Génie Électrique doit être dispensé d’un point de vue MAINTENANCE INDUSTRIELLE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47920"/>
              <a:ext cx="914400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0" y="1600200"/>
            <a:ext cx="9144000" cy="1523880"/>
            <a:chOff x="0" y="1600200"/>
            <a:chExt cx="9144000" cy="1523880"/>
          </a:xfrm>
        </p:grpSpPr>
        <p:sp>
          <p:nvSpPr>
            <p:cNvPr id="98" name=""/>
            <p:cNvSpPr/>
            <p:nvPr/>
          </p:nvSpPr>
          <p:spPr>
            <a:xfrm>
              <a:off x="1828800" y="213372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valider les compétences CP24, CP4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16002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La finalité de l ’enseignement du Génie électrique est dou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33840" y="2590920"/>
              <a:ext cx="58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ontribuer aux activités de mainten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124080"/>
              <a:ext cx="914400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91560" y="5791320"/>
            <a:ext cx="73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lidation par une épreuve écrite de 3H coefficient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165480"/>
            <a:ext cx="9144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P24: analyser les solutions de gestion, de distribution et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version de l ’énergie électr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4079880"/>
            <a:ext cx="9144000" cy="1482840"/>
            <a:chOff x="0" y="4079880"/>
            <a:chExt cx="9144000" cy="1482840"/>
          </a:xfrm>
        </p:grpSpPr>
        <p:sp>
          <p:nvSpPr>
            <p:cNvPr id="105" name=""/>
            <p:cNvSpPr/>
            <p:nvPr/>
          </p:nvSpPr>
          <p:spPr>
            <a:xfrm>
              <a:off x="0" y="4079880"/>
              <a:ext cx="914400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P43: rechercher, argumenter des solutions liées à la ges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   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la distribution et la conversion de l ’énergie électrique,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   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et de réaliser les dossiers correspondant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5562720"/>
              <a:ext cx="914400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57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403920" y="270036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1474200" y="27925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63760" y="29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6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50280" y="3048120"/>
            <a:ext cx="31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77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2445120" y="27352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6200000">
            <a:off x="388080" y="258624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1458360" y="267876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4792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6232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9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9200" y="304812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9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16200000">
            <a:off x="2460960" y="284976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403920" y="270036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1474200" y="27925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3228480" y="277920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63760" y="29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378160" y="29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68520" y="29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1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9560" y="3048120"/>
            <a:ext cx="32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23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2445120" y="27352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388080" y="258624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16200000">
            <a:off x="1458360" y="267876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16200000">
            <a:off x="3212640" y="26647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16200000">
            <a:off x="4210560" y="267156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4792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36232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35268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9112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049200" y="3048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41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4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16200000">
            <a:off x="2445120" y="294012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388080" y="279108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1458360" y="28828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16200000">
            <a:off x="3212640" y="288216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rot="16200000">
            <a:off x="4210560" y="28764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16200000">
            <a:off x="5130360" y="288288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3048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62320" y="3048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52680" y="3048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91120" y="3048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181480" y="3048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050280" y="3048120"/>
            <a:ext cx="31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6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57200"/>
            <a:ext cx="9144000" cy="82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ribuer aux activités de mainte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emples d’ activités de génie électrique associé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32920" y="1447920"/>
            <a:ext cx="7845840" cy="779760"/>
            <a:chOff x="232920" y="1447920"/>
            <a:chExt cx="7845840" cy="779760"/>
          </a:xfrm>
        </p:grpSpPr>
        <p:sp>
          <p:nvSpPr>
            <p:cNvPr id="112" name=""/>
            <p:cNvSpPr/>
            <p:nvPr/>
          </p:nvSpPr>
          <p:spPr>
            <a:xfrm>
              <a:off x="232920" y="1447920"/>
              <a:ext cx="784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Mettre en œuvre et optimiser la maintenance correcti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04400" y="1828800"/>
              <a:ext cx="196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diagnostiquer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46240" y="2270160"/>
            <a:ext cx="8894520" cy="856080"/>
            <a:chOff x="246240" y="2270160"/>
            <a:chExt cx="8894520" cy="856080"/>
          </a:xfrm>
        </p:grpSpPr>
        <p:sp>
          <p:nvSpPr>
            <p:cNvPr id="115" name=""/>
            <p:cNvSpPr/>
            <p:nvPr/>
          </p:nvSpPr>
          <p:spPr>
            <a:xfrm>
              <a:off x="246240" y="2270160"/>
              <a:ext cx="889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éfinir mettre en œuvre et optimiser la maintenance préventi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1880" y="2727360"/>
              <a:ext cx="428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Identifier les modes de défaillance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31840" y="5622840"/>
            <a:ext cx="8805240" cy="856080"/>
            <a:chOff x="231840" y="5622840"/>
            <a:chExt cx="8805240" cy="856080"/>
          </a:xfrm>
        </p:grpSpPr>
        <p:sp>
          <p:nvSpPr>
            <p:cNvPr id="118" name=""/>
            <p:cNvSpPr/>
            <p:nvPr/>
          </p:nvSpPr>
          <p:spPr>
            <a:xfrm>
              <a:off x="231840" y="5622840"/>
              <a:ext cx="83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Optimiser l ’organisation de la mainten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94680" y="6080040"/>
              <a:ext cx="714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Renseigner la GMAO, tenir à jour la structure documentaire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38680" y="3184560"/>
            <a:ext cx="8804520" cy="1465560"/>
            <a:chOff x="238680" y="3184560"/>
            <a:chExt cx="8804520" cy="1465560"/>
          </a:xfrm>
        </p:grpSpPr>
        <p:sp>
          <p:nvSpPr>
            <p:cNvPr id="121" name=""/>
            <p:cNvSpPr/>
            <p:nvPr/>
          </p:nvSpPr>
          <p:spPr>
            <a:xfrm>
              <a:off x="238680" y="3184560"/>
              <a:ext cx="880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méliorer la sécurité, la disponibilité et optimiser les coûts lié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à la maintenanc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0080" y="3946680"/>
              <a:ext cx="39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Assurer la continuité de service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98640" y="4251240"/>
              <a:ext cx="635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Analyser la qualité et quantité d’énergie consommée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35440" y="4708440"/>
            <a:ext cx="6606720" cy="856080"/>
            <a:chOff x="235440" y="4708440"/>
            <a:chExt cx="6606720" cy="856080"/>
          </a:xfrm>
        </p:grpSpPr>
        <p:sp>
          <p:nvSpPr>
            <p:cNvPr id="125" name=""/>
            <p:cNvSpPr/>
            <p:nvPr/>
          </p:nvSpPr>
          <p:spPr>
            <a:xfrm>
              <a:off x="235440" y="4708440"/>
              <a:ext cx="41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Intégrer les nouveaux bie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99000" y="5165640"/>
              <a:ext cx="494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Mettre en service, </a:t>
              </a: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vérifier les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performan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77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2445120" y="27352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388080" y="258624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16200000">
            <a:off x="1458360" y="267876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3212640" y="26647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rot="16200000">
            <a:off x="4210560" y="267156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5130360" y="26784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6220440" y="270000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6232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5268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9112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8148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17220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049920" y="3048120"/>
            <a:ext cx="36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9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607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2445120" y="28638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16200000">
            <a:off x="388080" y="271476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1458360" y="28072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6200000">
            <a:off x="3272760" y="279324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4210560" y="28000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6200000">
            <a:off x="5130360" y="280692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rot="16200000">
            <a:off x="6220440" y="28285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6200000">
            <a:off x="7013520" y="270828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36232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268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8148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7220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6292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050640" y="304812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631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63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2292840" y="28638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235800" y="271476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6200000">
            <a:off x="1306080" y="28072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16200000">
            <a:off x="3120480" y="279324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16200000">
            <a:off x="4058280" y="28000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16200000">
            <a:off x="4978080" y="280692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rot="16200000">
            <a:off x="6067800" y="28285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rot="16200000">
            <a:off x="6860880" y="270828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rot="16200000">
            <a:off x="7960680" y="28911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9528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0968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0040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920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1992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01028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92468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66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48480" y="3048120"/>
            <a:ext cx="31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tection 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son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673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16200000">
            <a:off x="2292840" y="33512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6200000">
            <a:off x="235800" y="320220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1306080" y="32940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3120480" y="32806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6200000">
            <a:off x="4058280" y="32875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rot="16200000">
            <a:off x="4978080" y="32940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6067800" y="33159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rot="16200000">
            <a:off x="6860880" y="31957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rot="16200000">
            <a:off x="7960680" y="33786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295280" y="3459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09680" y="3459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200400" y="3459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038480" y="3459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29200" y="3459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19920" y="3459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10280" y="3459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924680" y="3459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057400" y="4143960"/>
            <a:ext cx="6705720" cy="1808280"/>
            <a:chOff x="2057400" y="4143960"/>
            <a:chExt cx="6705720" cy="1808280"/>
          </a:xfrm>
        </p:grpSpPr>
        <p:sp>
          <p:nvSpPr>
            <p:cNvPr id="696" name=""/>
            <p:cNvSpPr/>
            <p:nvPr/>
          </p:nvSpPr>
          <p:spPr>
            <a:xfrm rot="16200000">
              <a:off x="1505160" y="469620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tection d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erson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5400000">
              <a:off x="5715360" y="1553400"/>
              <a:ext cx="151920" cy="5943600"/>
            </a:xfrm>
            <a:custGeom>
              <a:avLst/>
              <a:gdLst>
                <a:gd name="textAreaLeft" fmla="*/ 0 w 151920"/>
                <a:gd name="textAreaRight" fmla="*/ 106560 w 151920"/>
                <a:gd name="textAreaTop" fmla="*/ 45000 h 5943600"/>
                <a:gd name="textAreaBottom" fmla="*/ 589860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4"/>
                    <a:pt x="21600" y="328"/>
                  </a:cubicBezTo>
                  <a:lnTo>
                    <a:pt x="21600" y="21272"/>
                  </a:lnTo>
                  <a:cubicBezTo>
                    <a:pt x="21600" y="21436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048480" y="304812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reinag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702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71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16200000">
            <a:off x="2292840" y="37022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235800" y="355284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rot="16200000">
            <a:off x="1306080" y="36450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120480" y="36316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rot="16200000">
            <a:off x="4058280" y="36378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4978080" y="36450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16200000">
            <a:off x="6067800" y="36669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16200000">
            <a:off x="6860880" y="35467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16200000">
            <a:off x="7960680" y="37296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29528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20968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004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03848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0292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1992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01028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92468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2057400" y="4494600"/>
            <a:ext cx="6705720" cy="1808280"/>
            <a:chOff x="2057400" y="4494600"/>
            <a:chExt cx="6705720" cy="1808280"/>
          </a:xfrm>
        </p:grpSpPr>
        <p:sp>
          <p:nvSpPr>
            <p:cNvPr id="733" name=""/>
            <p:cNvSpPr/>
            <p:nvPr/>
          </p:nvSpPr>
          <p:spPr>
            <a:xfrm rot="16200000">
              <a:off x="1505160" y="504684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tection d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erson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5400000">
              <a:off x="5715000" y="1904760"/>
              <a:ext cx="152280" cy="5943600"/>
            </a:xfrm>
            <a:custGeom>
              <a:avLst/>
              <a:gdLst>
                <a:gd name="textAreaLeft" fmla="*/ 0 w 152280"/>
                <a:gd name="textAreaRight" fmla="*/ 106920 w 152280"/>
                <a:gd name="textAreaTop" fmla="*/ 45000 h 5943600"/>
                <a:gd name="textAreaBottom" fmla="*/ 589860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4"/>
                    <a:pt x="21600" y="328"/>
                  </a:cubicBezTo>
                  <a:lnTo>
                    <a:pt x="21600" y="21272"/>
                  </a:lnTo>
                  <a:cubicBezTo>
                    <a:pt x="21600" y="21436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3886200" y="2179800"/>
            <a:ext cx="36576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ein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7162920" y="26366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6172200" y="26366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191120" y="26366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4800600" y="26370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743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57200" y="3809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Surveiller les réseaux électriqu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2952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 est possible de situer les outil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mesure, d’analyse, de repré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360" y="58248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s principales évolu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129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9280" y="2666880"/>
            <a:ext cx="40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 niveau méthodolog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6760" y="1828800"/>
            <a:ext cx="37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 niveau du progra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120" y="3505320"/>
            <a:ext cx="36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 niveau des matér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60" y="4343400"/>
            <a:ext cx="67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 niveau de l ’utilisation de l ’outil informa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753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rot="16200000">
            <a:off x="2445120" y="26654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16200000">
            <a:off x="388080" y="251640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rot="16200000">
            <a:off x="1458360" y="26082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rot="16200000">
            <a:off x="3272760" y="25948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16200000">
            <a:off x="4210560" y="26017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rot="16200000">
            <a:off x="5130360" y="26082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rot="16200000">
            <a:off x="6220440" y="26301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rot="16200000">
            <a:off x="7013520" y="25099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16200000">
            <a:off x="8113320" y="26928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47920" y="2773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2773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352680" y="2773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191120" y="2773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181480" y="2773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72200" y="2773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162920" y="2773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077320" y="2773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343400" y="3505320"/>
            <a:ext cx="37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 des person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5400000">
            <a:off x="5867280" y="867960"/>
            <a:ext cx="152640" cy="5943600"/>
          </a:xfrm>
          <a:custGeom>
            <a:avLst/>
            <a:gdLst>
              <a:gd name="textAreaLeft" fmla="*/ 0 w 152640"/>
              <a:gd name="textAreaRight" fmla="*/ 107280 w 152640"/>
              <a:gd name="textAreaTop" fmla="*/ 45000 h 5943600"/>
              <a:gd name="textAreaBottom" fmla="*/ 589860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64"/>
                  <a:pt x="21600" y="328"/>
                </a:cubicBezTo>
                <a:lnTo>
                  <a:pt x="21600" y="21272"/>
                </a:lnTo>
                <a:cubicBezTo>
                  <a:pt x="21600" y="21436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038480" y="1143000"/>
            <a:ext cx="36576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ein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7315200" y="15998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324480" y="15998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4343400" y="15998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952880" y="1600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" y="5715000"/>
            <a:ext cx="8686800" cy="5205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urveiller les réseaux électr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00200" y="3048120"/>
            <a:ext cx="0" cy="25905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257800" y="3962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05320" y="3048120"/>
            <a:ext cx="0" cy="25905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043600" y="4419720"/>
            <a:ext cx="3875040" cy="7038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leur prise de terre, impéd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e boucle, flicker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78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" y="3809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Étudier les modes de défaillance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2952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 est possible de placer les outil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mesure, d’analyse, de repré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79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rot="16200000">
            <a:off x="2292840" y="28940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rot="16200000">
            <a:off x="235800" y="274500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rot="16200000">
            <a:off x="1306080" y="28368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16200000">
            <a:off x="3120480" y="28234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16200000">
            <a:off x="4058280" y="28303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4978080" y="28368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rot="16200000">
            <a:off x="6067800" y="28587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rot="16200000">
            <a:off x="6860880" y="27385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6200000">
            <a:off x="7960680" y="2921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2952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096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20040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384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02920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0102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9246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2057400" y="3686760"/>
            <a:ext cx="6705720" cy="1808280"/>
            <a:chOff x="2057400" y="3686760"/>
            <a:chExt cx="6705720" cy="1808280"/>
          </a:xfrm>
        </p:grpSpPr>
        <p:sp>
          <p:nvSpPr>
            <p:cNvPr id="821" name=""/>
            <p:cNvSpPr/>
            <p:nvPr/>
          </p:nvSpPr>
          <p:spPr>
            <a:xfrm rot="16200000">
              <a:off x="1505160" y="423900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tection d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erson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5400000">
              <a:off x="5715360" y="1096200"/>
              <a:ext cx="151920" cy="5943600"/>
            </a:xfrm>
            <a:custGeom>
              <a:avLst/>
              <a:gdLst>
                <a:gd name="textAreaLeft" fmla="*/ 0 w 151920"/>
                <a:gd name="textAreaRight" fmla="*/ 106560 w 151920"/>
                <a:gd name="textAreaTop" fmla="*/ 45000 h 5943600"/>
                <a:gd name="textAreaBottom" fmla="*/ 589860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4"/>
                    <a:pt x="21600" y="328"/>
                  </a:cubicBezTo>
                  <a:lnTo>
                    <a:pt x="21600" y="21272"/>
                  </a:lnTo>
                  <a:cubicBezTo>
                    <a:pt x="21600" y="21436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3886200" y="1371600"/>
            <a:ext cx="36576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ein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716292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617220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19112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4800600" y="18288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7200" y="5965920"/>
            <a:ext cx="8686800" cy="5205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Étudier les modes de défaillanc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514600" y="5486400"/>
            <a:ext cx="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15000" y="3809880"/>
            <a:ext cx="0" cy="2133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86200" y="3809880"/>
            <a:ext cx="0" cy="2133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800600" y="3809880"/>
            <a:ext cx="0" cy="2133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971800" y="3809880"/>
            <a:ext cx="0" cy="2133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057400" y="3809880"/>
            <a:ext cx="0" cy="2133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429000" y="3200400"/>
            <a:ext cx="0" cy="2743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426280" y="4495680"/>
            <a:ext cx="3082320" cy="7038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empérature, diélectr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uvaise utilisation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83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57200" y="3809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Définir le type mainten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2952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 est possible de placer les outil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mesure, d’analyse, de repré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84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6200000">
            <a:off x="2292840" y="297036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rot="16200000">
            <a:off x="235800" y="282132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rot="16200000">
            <a:off x="1306080" y="29131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rot="16200000">
            <a:off x="3120480" y="289980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rot="16200000">
            <a:off x="4058280" y="29059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16200000">
            <a:off x="4978080" y="291312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16200000">
            <a:off x="6067800" y="293508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16200000">
            <a:off x="6860880" y="281484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16200000">
            <a:off x="7960680" y="2997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29528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20968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20040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3848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02920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992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01028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92468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2057400" y="3656520"/>
            <a:ext cx="6705720" cy="1808280"/>
            <a:chOff x="2057400" y="3656520"/>
            <a:chExt cx="6705720" cy="1808280"/>
          </a:xfrm>
        </p:grpSpPr>
        <p:sp>
          <p:nvSpPr>
            <p:cNvPr id="871" name=""/>
            <p:cNvSpPr/>
            <p:nvPr/>
          </p:nvSpPr>
          <p:spPr>
            <a:xfrm rot="16200000">
              <a:off x="1505160" y="420876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tection d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erson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5400000">
              <a:off x="5715360" y="1065960"/>
              <a:ext cx="151920" cy="5943600"/>
            </a:xfrm>
            <a:custGeom>
              <a:avLst/>
              <a:gdLst>
                <a:gd name="textAreaLeft" fmla="*/ 0 w 151920"/>
                <a:gd name="textAreaRight" fmla="*/ 106560 w 151920"/>
                <a:gd name="textAreaTop" fmla="*/ 45000 h 5943600"/>
                <a:gd name="textAreaBottom" fmla="*/ 589860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4"/>
                    <a:pt x="21600" y="328"/>
                  </a:cubicBezTo>
                  <a:lnTo>
                    <a:pt x="21600" y="21272"/>
                  </a:lnTo>
                  <a:cubicBezTo>
                    <a:pt x="21600" y="21436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3886200" y="1447920"/>
            <a:ext cx="36576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ein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7162920" y="190476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172200" y="190476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4191120" y="190476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4800600" y="19051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57200" y="5919840"/>
            <a:ext cx="8686800" cy="5205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éfinir le type mainte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715000" y="3809880"/>
            <a:ext cx="0" cy="2057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276720" y="3276720"/>
            <a:ext cx="0" cy="25905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4495680"/>
            <a:ext cx="4038480" cy="8625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S PV systématique el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V cond méca (analyse vi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895480" y="50292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88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7200" y="3809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Mesur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952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 est possible de placer les outil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mesure, d’analyse, de repré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89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rot="16200000">
            <a:off x="2292840" y="28940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rot="16200000">
            <a:off x="235800" y="274500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rot="16200000">
            <a:off x="1306080" y="28368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rot="16200000">
            <a:off x="3120480" y="28234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16200000">
            <a:off x="4058280" y="28303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16200000">
            <a:off x="4978080" y="28368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16200000">
            <a:off x="6067800" y="28587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rot="16200000">
            <a:off x="6860880" y="27385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rot="16200000">
            <a:off x="7960680" y="2921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2952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2096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0040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0384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2920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01992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0102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9246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2057400" y="3686760"/>
            <a:ext cx="6705720" cy="1808280"/>
            <a:chOff x="2057400" y="3686760"/>
            <a:chExt cx="6705720" cy="1808280"/>
          </a:xfrm>
        </p:grpSpPr>
        <p:sp>
          <p:nvSpPr>
            <p:cNvPr id="917" name=""/>
            <p:cNvSpPr/>
            <p:nvPr/>
          </p:nvSpPr>
          <p:spPr>
            <a:xfrm rot="16200000">
              <a:off x="1505160" y="423900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tection d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erson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5400000">
              <a:off x="5715360" y="1096200"/>
              <a:ext cx="151920" cy="5943600"/>
            </a:xfrm>
            <a:custGeom>
              <a:avLst/>
              <a:gdLst>
                <a:gd name="textAreaLeft" fmla="*/ 0 w 151920"/>
                <a:gd name="textAreaRight" fmla="*/ 106560 w 151920"/>
                <a:gd name="textAreaTop" fmla="*/ 45000 h 5943600"/>
                <a:gd name="textAreaBottom" fmla="*/ 589860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4"/>
                    <a:pt x="21600" y="328"/>
                  </a:cubicBezTo>
                  <a:lnTo>
                    <a:pt x="21600" y="21272"/>
                  </a:lnTo>
                  <a:cubicBezTo>
                    <a:pt x="21600" y="21436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886200" y="1371600"/>
            <a:ext cx="36576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ein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716292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617220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419112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4800600" y="18288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5737320"/>
            <a:ext cx="8686800" cy="5205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esur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172200" y="3276720"/>
            <a:ext cx="0" cy="2438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447920" y="3124080"/>
            <a:ext cx="0" cy="25909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410080" y="4495680"/>
            <a:ext cx="3581640" cy="7038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erforman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uple/vitesse, accélé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33520" y="4419720"/>
            <a:ext cx="1295280" cy="7038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VAR, TDH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93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57200" y="3809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Représente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2952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 est possible de placer les outil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mesure, d’analyse, de repré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94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16200000">
            <a:off x="2292840" y="28940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rot="16200000">
            <a:off x="235800" y="274500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6200000">
            <a:off x="1306080" y="28368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6200000">
            <a:off x="3120480" y="28234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6200000">
            <a:off x="4058280" y="28303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6200000">
            <a:off x="4978080" y="28368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6200000">
            <a:off x="6067800" y="28587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6200000">
            <a:off x="6860880" y="27385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rot="16200000">
            <a:off x="7960680" y="2921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2952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2096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20040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0384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02920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01992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102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9246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057400" y="3686760"/>
            <a:ext cx="6705720" cy="1808280"/>
            <a:chOff x="2057400" y="3686760"/>
            <a:chExt cx="6705720" cy="1808280"/>
          </a:xfrm>
        </p:grpSpPr>
        <p:sp>
          <p:nvSpPr>
            <p:cNvPr id="963" name=""/>
            <p:cNvSpPr/>
            <p:nvPr/>
          </p:nvSpPr>
          <p:spPr>
            <a:xfrm rot="16200000">
              <a:off x="1505160" y="423900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tection d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erson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5400000">
              <a:off x="5715360" y="1096200"/>
              <a:ext cx="151920" cy="5943600"/>
            </a:xfrm>
            <a:custGeom>
              <a:avLst/>
              <a:gdLst>
                <a:gd name="textAreaLeft" fmla="*/ 0 w 151920"/>
                <a:gd name="textAreaRight" fmla="*/ 106560 w 151920"/>
                <a:gd name="textAreaTop" fmla="*/ 45000 h 5943600"/>
                <a:gd name="textAreaBottom" fmla="*/ 589860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4"/>
                    <a:pt x="21600" y="328"/>
                  </a:cubicBezTo>
                  <a:lnTo>
                    <a:pt x="21600" y="21272"/>
                  </a:lnTo>
                  <a:cubicBezTo>
                    <a:pt x="21600" y="21436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3886200" y="1371600"/>
            <a:ext cx="36576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ein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716292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617220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419112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4800600" y="18288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57200" y="5919840"/>
            <a:ext cx="8686800" cy="5205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présen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505320" y="2133720"/>
            <a:ext cx="2514600" cy="2361960"/>
          </a:xfrm>
          <a:prstGeom prst="rect">
            <a:avLst/>
          </a:prstGeom>
          <a:noFill/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724280" y="4572000"/>
            <a:ext cx="0" cy="1295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35560" y="4800600"/>
            <a:ext cx="3039840" cy="7038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chéma de puissance 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4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975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57200" y="3809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Analyser le fonctionn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2952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 est possible de placer les outil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mesure, d’analyse, de repré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136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80880" y="380880"/>
            <a:ext cx="205740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80880"/>
            <a:ext cx="67057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5120" y="1447920"/>
            <a:ext cx="59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rovisionnement en énerg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2240" y="1981080"/>
            <a:ext cx="457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alité de l ’énergie électr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inuité de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0880" y="2819520"/>
            <a:ext cx="45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tection des personnes, S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5480" y="3352680"/>
            <a:ext cx="74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tribution de l ’énergie électrique en basse 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3886200"/>
            <a:ext cx="83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incipaux actionneurs électriques et modes de comma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0800" y="4419720"/>
            <a:ext cx="757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ils d ’analyse, de mesures, et de surveillance 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seaux élect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2600" y="990720"/>
            <a:ext cx="47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ils de description et d’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9520" y="5334120"/>
            <a:ext cx="8483400" cy="82548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compétences attendues permettent de limiter les cham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’investigation des savoirs associés aux conten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985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rot="16200000">
            <a:off x="2292840" y="28940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rot="16200000">
            <a:off x="235800" y="274500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16200000">
            <a:off x="1306080" y="28368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00000">
            <a:off x="3120480" y="28234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rot="16200000">
            <a:off x="4058280" y="28303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rot="16200000">
            <a:off x="4978080" y="28368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16200000">
            <a:off x="6067800" y="28587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16200000">
            <a:off x="6860880" y="27385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00000">
            <a:off x="7960680" y="2921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952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2096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20040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384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02920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01992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0102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9246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2057400" y="3686760"/>
            <a:ext cx="6705720" cy="1808280"/>
            <a:chOff x="2057400" y="3686760"/>
            <a:chExt cx="6705720" cy="1808280"/>
          </a:xfrm>
        </p:grpSpPr>
        <p:sp>
          <p:nvSpPr>
            <p:cNvPr id="1008" name=""/>
            <p:cNvSpPr/>
            <p:nvPr/>
          </p:nvSpPr>
          <p:spPr>
            <a:xfrm rot="16200000">
              <a:off x="1505160" y="423900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tection d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erson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5400000">
              <a:off x="5715360" y="1096200"/>
              <a:ext cx="151920" cy="5943600"/>
            </a:xfrm>
            <a:custGeom>
              <a:avLst/>
              <a:gdLst>
                <a:gd name="textAreaLeft" fmla="*/ 0 w 151920"/>
                <a:gd name="textAreaRight" fmla="*/ 106560 w 151920"/>
                <a:gd name="textAreaTop" fmla="*/ 45000 h 5943600"/>
                <a:gd name="textAreaBottom" fmla="*/ 589860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4"/>
                    <a:pt x="21600" y="328"/>
                  </a:cubicBezTo>
                  <a:lnTo>
                    <a:pt x="21600" y="21272"/>
                  </a:lnTo>
                  <a:cubicBezTo>
                    <a:pt x="21600" y="21436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3886200" y="1371600"/>
            <a:ext cx="36576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ein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716292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617220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419112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4800600" y="18288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57200" y="5889600"/>
            <a:ext cx="8686800" cy="5205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nalyser le fonction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495680" y="2209680"/>
            <a:ext cx="1600200" cy="1676520"/>
          </a:xfrm>
          <a:prstGeom prst="rect">
            <a:avLst/>
          </a:prstGeom>
          <a:noFill/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334120" y="4038480"/>
            <a:ext cx="0" cy="1828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952880" y="4495680"/>
            <a:ext cx="3886200" cy="10209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cture du modulat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mportement de l’assoc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oto/variateur, 4 quadran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2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57200" y="8380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IG5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onstituants des chaînes d’énerg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057400" y="1752480"/>
            <a:ext cx="68580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Contenu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teur asynchrone, moteur à courant conti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53600" y="2438280"/>
            <a:ext cx="42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Étudier le démarrage direct du 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52520" y="425124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Étudier le démarrage direct du M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90720" y="2971800"/>
            <a:ext cx="449568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ractéristiques électro/méca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ractéristique à v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ériels associ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990720" y="480060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ractéristiques électro/méca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57200" y="5486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Découvrir la caractérisation industriel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des MAS, MC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042920" y="1295280"/>
            <a:ext cx="66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Centre d’intérêt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émarrage des moteurs électr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5257800" y="2362320"/>
            <a:ext cx="3733920" cy="4343400"/>
            <a:chOff x="5257800" y="2362320"/>
            <a:chExt cx="3733920" cy="4343400"/>
          </a:xfrm>
        </p:grpSpPr>
        <p:sp>
          <p:nvSpPr>
            <p:cNvPr id="1034" name=""/>
            <p:cNvSpPr/>
            <p:nvPr/>
          </p:nvSpPr>
          <p:spPr>
            <a:xfrm>
              <a:off x="5257800" y="2362320"/>
              <a:ext cx="327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blématiques pouvant être associées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257800" y="2362320"/>
              <a:ext cx="3733920" cy="43434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410080" y="31240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Échauffement anormal des mach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410080" y="3886200"/>
            <a:ext cx="367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licitations importantes de la mécanique entraînée et des composants de la ligne d’ali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410080" y="53341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sommation excessive d’énergie réactive (coû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4072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ractérisation incomplè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41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, support,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3600" y="990720"/>
            <a:ext cx="42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Étudier le démarrage direct du 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00200" y="190512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upler le moteur et câbl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ever  I démarrage = f (t)    relever la vitesse = f 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cer I dém = f (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surer I à vide, la tension d’alimentation, le Co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5880" y="1447920"/>
            <a:ext cx="36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P1: support  « banc d’essai 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06960" y="3962520"/>
            <a:ext cx="46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TP2: support   « logiciel de simulation 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668960" y="4351320"/>
            <a:ext cx="5060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ever la caractéristique de couple = f 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vec un couple résistant constant = 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ever I = f (t) et N = f 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ever U, I, Co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n régime étab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52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, support,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52520" y="304812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Étudier le démarrage direct du M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279440" y="42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295280" y="3780000"/>
            <a:ext cx="769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ever  I démarrage = f (t)    relever la vitesse = f 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ever les caractéristiques de couple, d’intensité, vites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 fonction du temps, avec un couple résistant constant = 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4800" y="914400"/>
            <a:ext cx="36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P3: support « système réel 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515240" y="1295280"/>
            <a:ext cx="622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écoder une plaque signalé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dentifier les matériels associés au démarrage 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écoder les sché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surer l’intensité absorbée en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érifier les calibres des prot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06960" y="3429000"/>
            <a:ext cx="469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P4: support «  logiciel de simulation  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57200" y="5029200"/>
            <a:ext cx="64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Découvrir la caractérisation industrielle des MAS, MC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00840" y="5334120"/>
            <a:ext cx="56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P5: support «  AMMI  », sites de constructeu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057760" y="5867280"/>
            <a:ext cx="16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stit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264920" y="5791320"/>
            <a:ext cx="287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on de mon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tenance associ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6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, organisation,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867280" cy="5943600"/>
          </a:xfrm>
          <a:prstGeom prst="rect">
            <a:avLst/>
          </a:prstGeom>
          <a:ln w="0">
            <a:noFill/>
          </a:ln>
        </p:spPr>
      </p:pic>
      <p:grpSp>
        <p:nvGrpSpPr>
          <p:cNvPr id="1074" name=""/>
          <p:cNvGrpSpPr/>
          <p:nvPr/>
        </p:nvGrpSpPr>
        <p:grpSpPr>
          <a:xfrm>
            <a:off x="1371600" y="3200400"/>
            <a:ext cx="7698240" cy="1600200"/>
            <a:chOff x="1371600" y="3200400"/>
            <a:chExt cx="7698240" cy="1600200"/>
          </a:xfrm>
        </p:grpSpPr>
        <p:sp>
          <p:nvSpPr>
            <p:cNvPr id="1075" name=""/>
            <p:cNvSpPr/>
            <p:nvPr/>
          </p:nvSpPr>
          <p:spPr>
            <a:xfrm>
              <a:off x="6808680" y="3581280"/>
              <a:ext cx="226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Les binômes 1,2,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réalisent 3 T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1371600" y="3200400"/>
              <a:ext cx="5410080" cy="1600200"/>
              <a:chOff x="1371600" y="3200400"/>
              <a:chExt cx="5410080" cy="1600200"/>
            </a:xfrm>
          </p:grpSpPr>
          <p:sp>
            <p:nvSpPr>
              <p:cNvPr id="1077" name=""/>
              <p:cNvSpPr/>
              <p:nvPr/>
            </p:nvSpPr>
            <p:spPr>
              <a:xfrm>
                <a:off x="1371600" y="3200400"/>
                <a:ext cx="3048120" cy="1600200"/>
              </a:xfrm>
              <a:prstGeom prst="rect">
                <a:avLst/>
              </a:prstGeom>
              <a:noFill/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495680" y="3962520"/>
                <a:ext cx="2286000" cy="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8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2362320" y="457200"/>
            <a:ext cx="678168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86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8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, organisation,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867280" cy="5943600"/>
          </a:xfrm>
          <a:prstGeom prst="rect">
            <a:avLst/>
          </a:prstGeom>
          <a:ln w="0">
            <a:noFill/>
          </a:ln>
        </p:spPr>
      </p:pic>
      <p:grpSp>
        <p:nvGrpSpPr>
          <p:cNvPr id="1092" name=""/>
          <p:cNvGrpSpPr/>
          <p:nvPr/>
        </p:nvGrpSpPr>
        <p:grpSpPr>
          <a:xfrm>
            <a:off x="1371600" y="3641760"/>
            <a:ext cx="7774200" cy="3216240"/>
            <a:chOff x="1371600" y="3641760"/>
            <a:chExt cx="7774200" cy="3216240"/>
          </a:xfrm>
        </p:grpSpPr>
        <p:sp>
          <p:nvSpPr>
            <p:cNvPr id="1093" name=""/>
            <p:cNvSpPr/>
            <p:nvPr/>
          </p:nvSpPr>
          <p:spPr>
            <a:xfrm>
              <a:off x="6884640" y="3641760"/>
              <a:ext cx="226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Les binômes 4,5,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réalisent 2 T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371600" y="4800600"/>
              <a:ext cx="3048120" cy="2057400"/>
            </a:xfrm>
            <a:prstGeom prst="rect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4419720" y="4038120"/>
              <a:ext cx="761760" cy="7621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181480" y="4038480"/>
              <a:ext cx="16002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6322680" y="914400"/>
            <a:ext cx="22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binômes 1,2,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éalisent 3 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9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2362320" y="457200"/>
            <a:ext cx="678168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105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, organisation,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867280" cy="594360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6322680" y="1600200"/>
            <a:ext cx="22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binômes 4,5,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éalisent 2 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4952880" y="4800600"/>
            <a:ext cx="4142520" cy="2057400"/>
            <a:chOff x="4952880" y="4800600"/>
            <a:chExt cx="4142520" cy="2057400"/>
          </a:xfrm>
        </p:grpSpPr>
        <p:sp>
          <p:nvSpPr>
            <p:cNvPr id="1113" name=""/>
            <p:cNvSpPr/>
            <p:nvPr/>
          </p:nvSpPr>
          <p:spPr>
            <a:xfrm>
              <a:off x="7005240" y="5105520"/>
              <a:ext cx="2090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t collectent 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résultats d’un T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qu’ils n’ont p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réalisé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4" name=""/>
            <p:cNvGrpSpPr/>
            <p:nvPr/>
          </p:nvGrpSpPr>
          <p:grpSpPr>
            <a:xfrm>
              <a:off x="4952880" y="4800600"/>
              <a:ext cx="1981440" cy="2057400"/>
              <a:chOff x="4952880" y="4800600"/>
              <a:chExt cx="1981440" cy="2057400"/>
            </a:xfrm>
          </p:grpSpPr>
          <p:sp>
            <p:nvSpPr>
              <p:cNvPr id="1115" name=""/>
              <p:cNvSpPr/>
              <p:nvPr/>
            </p:nvSpPr>
            <p:spPr>
              <a:xfrm>
                <a:off x="4952880" y="4800600"/>
                <a:ext cx="1371600" cy="2057400"/>
              </a:xfrm>
              <a:prstGeom prst="rect">
                <a:avLst/>
              </a:prstGeom>
              <a:noFill/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24480" y="5791320"/>
                <a:ext cx="609840" cy="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7" name=""/>
          <p:cNvSpPr/>
          <p:nvPr/>
        </p:nvSpPr>
        <p:spPr>
          <a:xfrm>
            <a:off x="6322680" y="914400"/>
            <a:ext cx="22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binômes 1,2,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éalisent 3 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11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1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, organisation,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867280" cy="594360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6322680" y="1584360"/>
            <a:ext cx="22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binômes 4,5,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éalisent 2 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324480" y="2286000"/>
            <a:ext cx="22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 collectent 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ésultats d’un 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u’ils n’ont p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éalis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322680" y="914400"/>
            <a:ext cx="22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binômes 1,2,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éalisent 3 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4952880" y="4419720"/>
            <a:ext cx="4193640" cy="1923480"/>
            <a:chOff x="4952880" y="4419720"/>
            <a:chExt cx="4193640" cy="1923480"/>
          </a:xfrm>
        </p:grpSpPr>
        <p:grpSp>
          <p:nvGrpSpPr>
            <p:cNvPr id="1129" name=""/>
            <p:cNvGrpSpPr/>
            <p:nvPr/>
          </p:nvGrpSpPr>
          <p:grpSpPr>
            <a:xfrm>
              <a:off x="4952880" y="4419720"/>
              <a:ext cx="4193640" cy="1923480"/>
              <a:chOff x="4952880" y="4419720"/>
              <a:chExt cx="4193640" cy="19234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391800" y="4419720"/>
                <a:ext cx="27547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Lors de la dernièr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Séance un élève es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Chargé de mettr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n forme un docum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De support pou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La synthès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952880" y="5105520"/>
                <a:ext cx="1371600" cy="380880"/>
              </a:xfrm>
              <a:prstGeom prst="rect">
                <a:avLst/>
              </a:prstGeom>
              <a:noFill/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2" name=""/>
            <p:cNvSpPr/>
            <p:nvPr/>
          </p:nvSpPr>
          <p:spPr>
            <a:xfrm>
              <a:off x="6477120" y="5257800"/>
              <a:ext cx="15228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715000" cy="5943600"/>
          </a:xfrm>
          <a:prstGeom prst="rect">
            <a:avLst/>
          </a:prstGeom>
          <a:ln w="0">
            <a:noFill/>
          </a:ln>
        </p:spPr>
      </p:pic>
      <p:grpSp>
        <p:nvGrpSpPr>
          <p:cNvPr id="1134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135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, organisation,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6019560" y="4876920"/>
            <a:ext cx="3127320" cy="1008720"/>
            <a:chOff x="6019560" y="4876920"/>
            <a:chExt cx="3127320" cy="1008720"/>
          </a:xfrm>
        </p:grpSpPr>
        <p:sp>
          <p:nvSpPr>
            <p:cNvPr id="1141" name=""/>
            <p:cNvSpPr/>
            <p:nvPr/>
          </p:nvSpPr>
          <p:spPr>
            <a:xfrm>
              <a:off x="6599520" y="4876920"/>
              <a:ext cx="2547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ous les deux cyc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Décaler l’activité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réda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5400000">
              <a:off x="6019560" y="5105160"/>
              <a:ext cx="533160" cy="5331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57" y="12857"/>
                  </a:moveTo>
                  <a:arcTo wR="-7241" hR="-7241" stAng="9809822" swAng="-9809822"/>
                  <a:lnTo>
                    <a:pt x="0" y="10800"/>
                  </a:lnTo>
                  <a:arcTo wR="10800" hR="10800" stAng="10800000" swAng="9809822"/>
                  <a:lnTo>
                    <a:pt x="23744" y="6965"/>
                  </a:lnTo>
                  <a:lnTo>
                    <a:pt x="20721" y="12533"/>
                  </a:lnTo>
                  <a:lnTo>
                    <a:pt x="15154" y="951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457200" y="2743200"/>
            <a:ext cx="8688960" cy="4114800"/>
            <a:chOff x="457200" y="2743200"/>
            <a:chExt cx="8688960" cy="4114800"/>
          </a:xfrm>
        </p:grpSpPr>
        <p:sp>
          <p:nvSpPr>
            <p:cNvPr id="1144" name=""/>
            <p:cNvSpPr/>
            <p:nvPr/>
          </p:nvSpPr>
          <p:spPr>
            <a:xfrm>
              <a:off x="6516360" y="2743200"/>
              <a:ext cx="2629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our le cycle suivant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il convient d’inverse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les Binôm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1,2,3 et 4,5,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57200" y="2895480"/>
              <a:ext cx="914400" cy="3962520"/>
            </a:xfrm>
            <a:prstGeom prst="rect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71600" y="3429000"/>
              <a:ext cx="518148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14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, organisation,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275200" y="234144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multiplication des suppo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292480" y="2819520"/>
            <a:ext cx="44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réalisation d’activités vari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91760" y="330516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e implication par rapport au grou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612360" y="1168560"/>
            <a:ext cx="7779600" cy="1082520"/>
            <a:chOff x="612360" y="1168560"/>
            <a:chExt cx="7779600" cy="1082520"/>
          </a:xfrm>
        </p:grpSpPr>
        <p:sp>
          <p:nvSpPr>
            <p:cNvPr id="1157" name=""/>
            <p:cNvSpPr/>
            <p:nvPr/>
          </p:nvSpPr>
          <p:spPr>
            <a:xfrm>
              <a:off x="612360" y="1168560"/>
              <a:ext cx="469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Cet exemple d’organisation 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222200" y="1730520"/>
              <a:ext cx="716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Favorise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 l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 motivation et l’intérêt des étudiants par 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1282680" y="407844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met à l’enseignan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578240" y="457200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 suivi plus efficace de la séance de 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608120" y="510552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 développer l’autonomie des étudi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577880" y="5638680"/>
            <a:ext cx="64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’organiser plus facilement son enseig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02896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151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80880" y="380880"/>
            <a:ext cx="205740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80880"/>
            <a:ext cx="67057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38080" y="2209680"/>
            <a:ext cx="7696440" cy="4571640"/>
            <a:chOff x="838080" y="2209680"/>
            <a:chExt cx="7696440" cy="45716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838080" y="2209680"/>
              <a:ext cx="7696440" cy="4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rcRect l="0" t="0" r="0" b="27520"/>
            <a:stretch/>
          </p:blipFill>
          <p:spPr>
            <a:xfrm>
              <a:off x="838080" y="2612880"/>
              <a:ext cx="7696440" cy="41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457200" y="1523880"/>
            <a:ext cx="3657600" cy="3810240"/>
            <a:chOff x="457200" y="1523880"/>
            <a:chExt cx="3657600" cy="3810240"/>
          </a:xfrm>
        </p:grpSpPr>
        <p:sp>
          <p:nvSpPr>
            <p:cNvPr id="160" name=""/>
            <p:cNvSpPr/>
            <p:nvPr/>
          </p:nvSpPr>
          <p:spPr>
            <a:xfrm>
              <a:off x="457200" y="15238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Savoirs associé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8080" y="2590920"/>
              <a:ext cx="3276720" cy="2743200"/>
            </a:xfrm>
            <a:prstGeom prst="rect">
              <a:avLst/>
            </a:prstGeom>
            <a:noFill/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" y="1905120"/>
              <a:ext cx="0" cy="19047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838080" y="914400"/>
            <a:ext cx="6553440" cy="1523880"/>
            <a:chOff x="838080" y="914400"/>
            <a:chExt cx="6553440" cy="1523880"/>
          </a:xfrm>
        </p:grpSpPr>
        <p:sp>
          <p:nvSpPr>
            <p:cNvPr id="165" name=""/>
            <p:cNvSpPr/>
            <p:nvPr/>
          </p:nvSpPr>
          <p:spPr>
            <a:xfrm>
              <a:off x="838080" y="2209680"/>
              <a:ext cx="6553440" cy="228600"/>
            </a:xfrm>
            <a:prstGeom prst="rect">
              <a:avLst/>
            </a:prstGeom>
            <a:noFill/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38080" y="91440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Les conten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6720" y="1295280"/>
              <a:ext cx="0" cy="83844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191120" y="914400"/>
            <a:ext cx="4224240" cy="4419720"/>
            <a:chOff x="4191120" y="914400"/>
            <a:chExt cx="4224240" cy="4419720"/>
          </a:xfrm>
        </p:grpSpPr>
        <p:sp>
          <p:nvSpPr>
            <p:cNvPr id="169" name=""/>
            <p:cNvSpPr/>
            <p:nvPr/>
          </p:nvSpPr>
          <p:spPr>
            <a:xfrm>
              <a:off x="4422960" y="914400"/>
              <a:ext cx="39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Les compétences attendu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91120" y="2590920"/>
              <a:ext cx="3276360" cy="2743200"/>
            </a:xfrm>
            <a:prstGeom prst="rect">
              <a:avLst/>
            </a:prstGeom>
            <a:noFill/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1295280"/>
              <a:ext cx="0" cy="16002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026040" y="1447920"/>
            <a:ext cx="2870640" cy="2286000"/>
            <a:chOff x="6026040" y="1447920"/>
            <a:chExt cx="2870640" cy="2286000"/>
          </a:xfrm>
        </p:grpSpPr>
        <p:sp>
          <p:nvSpPr>
            <p:cNvPr id="173" name=""/>
            <p:cNvSpPr/>
            <p:nvPr/>
          </p:nvSpPr>
          <p:spPr>
            <a:xfrm>
              <a:off x="6026040" y="1447920"/>
              <a:ext cx="287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Niveau d’autonomi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43800" y="2209680"/>
              <a:ext cx="990720" cy="1524240"/>
            </a:xfrm>
            <a:prstGeom prst="rect">
              <a:avLst/>
            </a:prstGeom>
            <a:noFill/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96080" y="1828800"/>
              <a:ext cx="0" cy="9144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16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tuation du gén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533520" y="990720"/>
            <a:ext cx="3504960" cy="3962160"/>
            <a:chOff x="533520" y="990720"/>
            <a:chExt cx="3504960" cy="3962160"/>
          </a:xfrm>
        </p:grpSpPr>
        <p:sp>
          <p:nvSpPr>
            <p:cNvPr id="1170" name=""/>
            <p:cNvSpPr/>
            <p:nvPr/>
          </p:nvSpPr>
          <p:spPr>
            <a:xfrm>
              <a:off x="533520" y="990720"/>
              <a:ext cx="3504960" cy="39621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517400" y="3429000"/>
              <a:ext cx="1454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xplique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Étudi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Synthétis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Formalis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4114800" y="1143000"/>
            <a:ext cx="4648320" cy="2695680"/>
            <a:chOff x="4114800" y="1143000"/>
            <a:chExt cx="4648320" cy="2695680"/>
          </a:xfrm>
        </p:grpSpPr>
        <p:sp>
          <p:nvSpPr>
            <p:cNvPr id="1173" name=""/>
            <p:cNvSpPr/>
            <p:nvPr/>
          </p:nvSpPr>
          <p:spPr>
            <a:xfrm>
              <a:off x="5638680" y="2238480"/>
              <a:ext cx="3124440" cy="16002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19200" y="2619360"/>
              <a:ext cx="2416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avaux pratiqu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De maintenance S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563800" y="114300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pplique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4800" y="1324080"/>
              <a:ext cx="144792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7086600" y="1324080"/>
              <a:ext cx="1219320" cy="837720"/>
              <a:chOff x="7086600" y="1324080"/>
              <a:chExt cx="1219320" cy="837720"/>
            </a:xfrm>
          </p:grpSpPr>
          <p:sp>
            <p:nvSpPr>
              <p:cNvPr id="1178" name=""/>
              <p:cNvSpPr/>
              <p:nvPr/>
            </p:nvSpPr>
            <p:spPr>
              <a:xfrm>
                <a:off x="8305920" y="1324080"/>
                <a:ext cx="0" cy="8377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086600" y="1324080"/>
                <a:ext cx="1219320" cy="93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0" name=""/>
          <p:cNvGrpSpPr/>
          <p:nvPr/>
        </p:nvGrpSpPr>
        <p:grpSpPr>
          <a:xfrm>
            <a:off x="2286000" y="4952520"/>
            <a:ext cx="2438280" cy="1679040"/>
            <a:chOff x="2286000" y="4952520"/>
            <a:chExt cx="2438280" cy="1679040"/>
          </a:xfrm>
        </p:grpSpPr>
        <p:sp>
          <p:nvSpPr>
            <p:cNvPr id="1181" name=""/>
            <p:cNvSpPr/>
            <p:nvPr/>
          </p:nvSpPr>
          <p:spPr>
            <a:xfrm flipV="1">
              <a:off x="3886200" y="4952520"/>
              <a:ext cx="0" cy="12193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286000" y="6232680"/>
              <a:ext cx="2438280" cy="3988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hysique appliqué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914400" y="4952880"/>
            <a:ext cx="2741760" cy="1161000"/>
            <a:chOff x="914400" y="4952880"/>
            <a:chExt cx="2741760" cy="1161000"/>
          </a:xfrm>
        </p:grpSpPr>
        <p:sp>
          <p:nvSpPr>
            <p:cNvPr id="1184" name=""/>
            <p:cNvSpPr/>
            <p:nvPr/>
          </p:nvSpPr>
          <p:spPr>
            <a:xfrm flipV="1">
              <a:off x="2209680" y="4952880"/>
              <a:ext cx="0" cy="5335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914400" y="5410080"/>
              <a:ext cx="2741760" cy="703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nalyse Fonctionnell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t structurel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457200" y="4952520"/>
            <a:ext cx="1735200" cy="1666080"/>
            <a:chOff x="457200" y="4952520"/>
            <a:chExt cx="1735200" cy="1666080"/>
          </a:xfrm>
        </p:grpSpPr>
        <p:sp>
          <p:nvSpPr>
            <p:cNvPr id="1187" name=""/>
            <p:cNvSpPr/>
            <p:nvPr/>
          </p:nvSpPr>
          <p:spPr>
            <a:xfrm flipV="1">
              <a:off x="685800" y="4952520"/>
              <a:ext cx="0" cy="12193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7200" y="6219720"/>
              <a:ext cx="1735200" cy="3988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tomatism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685800" y="1066680"/>
            <a:ext cx="2971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seignement d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énie électrique S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914400" y="1752480"/>
            <a:ext cx="2514600" cy="1542240"/>
            <a:chOff x="914400" y="1752480"/>
            <a:chExt cx="2514600" cy="1542240"/>
          </a:xfrm>
        </p:grpSpPr>
        <p:sp>
          <p:nvSpPr>
            <p:cNvPr id="1191" name=""/>
            <p:cNvSpPr/>
            <p:nvPr/>
          </p:nvSpPr>
          <p:spPr>
            <a:xfrm>
              <a:off x="1219320" y="1752480"/>
              <a:ext cx="1904760" cy="70380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lasse entièr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1H/sema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914400" y="2590920"/>
              <a:ext cx="2514600" cy="70380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roupes d ’ateli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2H/sema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4114800" y="1600200"/>
            <a:ext cx="1297440" cy="2819520"/>
            <a:chOff x="4114800" y="1600200"/>
            <a:chExt cx="1297440" cy="2819520"/>
          </a:xfrm>
        </p:grpSpPr>
        <p:grpSp>
          <p:nvGrpSpPr>
            <p:cNvPr id="1194" name=""/>
            <p:cNvGrpSpPr/>
            <p:nvPr/>
          </p:nvGrpSpPr>
          <p:grpSpPr>
            <a:xfrm>
              <a:off x="4114800" y="1600200"/>
              <a:ext cx="812160" cy="2819520"/>
              <a:chOff x="4114800" y="1600200"/>
              <a:chExt cx="812160" cy="2819520"/>
            </a:xfrm>
          </p:grpSpPr>
          <p:grpSp>
            <p:nvGrpSpPr>
              <p:cNvPr id="1195" name=""/>
              <p:cNvGrpSpPr/>
              <p:nvPr/>
            </p:nvGrpSpPr>
            <p:grpSpPr>
              <a:xfrm>
                <a:off x="4421520" y="2057400"/>
                <a:ext cx="505440" cy="1786320"/>
                <a:chOff x="4421520" y="2057400"/>
                <a:chExt cx="505440" cy="1786320"/>
              </a:xfrm>
            </p:grpSpPr>
            <p:sp>
              <p:nvSpPr>
                <p:cNvPr id="1196" name=""/>
                <p:cNvSpPr/>
                <p:nvPr/>
              </p:nvSpPr>
              <p:spPr>
                <a:xfrm>
                  <a:off x="4421520" y="2057400"/>
                  <a:ext cx="505440" cy="3988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T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4421520" y="2530440"/>
                  <a:ext cx="505440" cy="3988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T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421520" y="2987640"/>
                  <a:ext cx="505440" cy="3988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T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4421520" y="3444840"/>
                  <a:ext cx="505440" cy="3988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T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V="1">
                <a:off x="4114800" y="1600200"/>
                <a:ext cx="685800" cy="380880"/>
              </a:xfrm>
              <a:custGeom>
                <a:avLst/>
                <a:gdLst>
                  <a:gd name="textAreaLeft" fmla="*/ 251280 w 685800"/>
                  <a:gd name="textAreaRight" fmla="*/ 549360 w 685800"/>
                  <a:gd name="textAreaTop" fmla="*/ 246240 h 380880"/>
                  <a:gd name="textAreaBottom" fmla="*/ 3056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8250"/>
                    </a:moveTo>
                    <a:lnTo>
                      <a:pt x="13950" y="18250"/>
                    </a:lnTo>
                    <a:lnTo>
                      <a:pt x="13950" y="7920"/>
                    </a:lnTo>
                    <a:lnTo>
                      <a:pt x="9650" y="7920"/>
                    </a:lnTo>
                    <a:lnTo>
                      <a:pt x="15625" y="0"/>
                    </a:lnTo>
                    <a:lnTo>
                      <a:pt x="21600" y="7920"/>
                    </a:lnTo>
                    <a:lnTo>
                      <a:pt x="17300" y="7920"/>
                    </a:lnTo>
                    <a:lnTo>
                      <a:pt x="173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 rot="5400000">
                <a:off x="4152600" y="3848040"/>
                <a:ext cx="533520" cy="609480"/>
              </a:xfrm>
              <a:custGeom>
                <a:avLst/>
                <a:gdLst>
                  <a:gd name="textAreaLeft" fmla="*/ 195480 w 533520"/>
                  <a:gd name="textAreaRight" fmla="*/ 427320 w 533520"/>
                  <a:gd name="textAreaTop" fmla="*/ 393480 h 609480"/>
                  <a:gd name="textAreaBottom" fmla="*/ 48780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8250"/>
                    </a:moveTo>
                    <a:lnTo>
                      <a:pt x="13950" y="18250"/>
                    </a:lnTo>
                    <a:lnTo>
                      <a:pt x="13950" y="7920"/>
                    </a:lnTo>
                    <a:lnTo>
                      <a:pt x="9650" y="7920"/>
                    </a:lnTo>
                    <a:lnTo>
                      <a:pt x="15625" y="0"/>
                    </a:lnTo>
                    <a:lnTo>
                      <a:pt x="21600" y="7920"/>
                    </a:lnTo>
                    <a:lnTo>
                      <a:pt x="17300" y="7920"/>
                    </a:lnTo>
                    <a:lnTo>
                      <a:pt x="173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2" name=""/>
            <p:cNvSpPr/>
            <p:nvPr/>
          </p:nvSpPr>
          <p:spPr>
            <a:xfrm rot="16200000">
              <a:off x="4298400" y="2772360"/>
              <a:ext cx="1828800" cy="3988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xpérimen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4114440" y="3962520"/>
            <a:ext cx="4267440" cy="1449720"/>
            <a:chOff x="4114440" y="3962520"/>
            <a:chExt cx="4267440" cy="1449720"/>
          </a:xfrm>
        </p:grpSpPr>
        <p:grpSp>
          <p:nvGrpSpPr>
            <p:cNvPr id="1204" name=""/>
            <p:cNvGrpSpPr/>
            <p:nvPr/>
          </p:nvGrpSpPr>
          <p:grpSpPr>
            <a:xfrm>
              <a:off x="4114440" y="3962520"/>
              <a:ext cx="4267440" cy="916200"/>
              <a:chOff x="4114440" y="3962520"/>
              <a:chExt cx="4267440" cy="916200"/>
            </a:xfrm>
          </p:grpSpPr>
          <p:sp>
            <p:nvSpPr>
              <p:cNvPr id="1205" name=""/>
              <p:cNvSpPr/>
              <p:nvPr/>
            </p:nvSpPr>
            <p:spPr>
              <a:xfrm>
                <a:off x="5820480" y="4479840"/>
                <a:ext cx="134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Découvrir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 flipV="1">
                <a:off x="4114440" y="4647960"/>
                <a:ext cx="1523880" cy="1260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7" name=""/>
              <p:cNvGrpSpPr/>
              <p:nvPr/>
            </p:nvGrpSpPr>
            <p:grpSpPr>
              <a:xfrm>
                <a:off x="7162920" y="3962520"/>
                <a:ext cx="1218960" cy="698040"/>
                <a:chOff x="7162920" y="3962520"/>
                <a:chExt cx="1218960" cy="698040"/>
              </a:xfrm>
            </p:grpSpPr>
            <p:sp>
              <p:nvSpPr>
                <p:cNvPr id="1208" name=""/>
                <p:cNvSpPr/>
                <p:nvPr/>
              </p:nvSpPr>
              <p:spPr>
                <a:xfrm flipH="1">
                  <a:off x="7162920" y="4660560"/>
                  <a:ext cx="1218960" cy="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8305560" y="3962520"/>
                  <a:ext cx="75960" cy="6980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0" name=""/>
            <p:cNvSpPr/>
            <p:nvPr/>
          </p:nvSpPr>
          <p:spPr>
            <a:xfrm>
              <a:off x="5845320" y="5013360"/>
              <a:ext cx="146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onsolide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 rot="5400000">
              <a:off x="7315200" y="4800600"/>
              <a:ext cx="533520" cy="533520"/>
            </a:xfrm>
            <a:custGeom>
              <a:avLst/>
              <a:gdLst>
                <a:gd name="textAreaLeft" fmla="*/ 195480 w 533520"/>
                <a:gd name="textAreaRight" fmla="*/ 427320 w 533520"/>
                <a:gd name="textAreaTop" fmla="*/ 344520 h 533520"/>
                <a:gd name="textAreaBottom" fmla="*/ 427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250"/>
                  </a:moveTo>
                  <a:lnTo>
                    <a:pt x="13950" y="18250"/>
                  </a:lnTo>
                  <a:lnTo>
                    <a:pt x="13950" y="7920"/>
                  </a:lnTo>
                  <a:lnTo>
                    <a:pt x="9650" y="7920"/>
                  </a:lnTo>
                  <a:lnTo>
                    <a:pt x="15625" y="0"/>
                  </a:lnTo>
                  <a:lnTo>
                    <a:pt x="21600" y="7920"/>
                  </a:lnTo>
                  <a:lnTo>
                    <a:pt x="17300" y="7920"/>
                  </a:lnTo>
                  <a:lnTo>
                    <a:pt x="173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 rot="10800000">
              <a:off x="5257800" y="4724280"/>
              <a:ext cx="533520" cy="533520"/>
            </a:xfrm>
            <a:custGeom>
              <a:avLst/>
              <a:gdLst>
                <a:gd name="textAreaLeft" fmla="*/ 195480 w 533520"/>
                <a:gd name="textAreaRight" fmla="*/ 427320 w 533520"/>
                <a:gd name="textAreaTop" fmla="*/ 344520 h 533520"/>
                <a:gd name="textAreaBottom" fmla="*/ 427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250"/>
                  </a:moveTo>
                  <a:lnTo>
                    <a:pt x="13950" y="18250"/>
                  </a:lnTo>
                  <a:lnTo>
                    <a:pt x="13950" y="7920"/>
                  </a:lnTo>
                  <a:lnTo>
                    <a:pt x="9650" y="7920"/>
                  </a:lnTo>
                  <a:lnTo>
                    <a:pt x="15625" y="0"/>
                  </a:lnTo>
                  <a:lnTo>
                    <a:pt x="21600" y="7920"/>
                  </a:lnTo>
                  <a:lnTo>
                    <a:pt x="17300" y="7920"/>
                  </a:lnTo>
                  <a:lnTo>
                    <a:pt x="173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21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tuation du gén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>
            <a:off x="1600200" y="979560"/>
            <a:ext cx="6400800" cy="344016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/>
          <p:nvPr/>
        </p:nvSpPr>
        <p:spPr>
          <a:xfrm>
            <a:off x="522000" y="4251240"/>
            <a:ext cx="724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e diagramme est constitué de deu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oucles imbriquées qui peuvent être parcourues différem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533520" y="5029200"/>
            <a:ext cx="8458200" cy="685800"/>
            <a:chOff x="533520" y="5029200"/>
            <a:chExt cx="8458200" cy="685800"/>
          </a:xfrm>
        </p:grpSpPr>
        <p:sp>
          <p:nvSpPr>
            <p:cNvPr id="1222" name=""/>
            <p:cNvSpPr/>
            <p:nvPr/>
          </p:nvSpPr>
          <p:spPr>
            <a:xfrm>
              <a:off x="533520" y="5029200"/>
              <a:ext cx="8458200" cy="6858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3" name=""/>
            <p:cNvGrpSpPr/>
            <p:nvPr/>
          </p:nvGrpSpPr>
          <p:grpSpPr>
            <a:xfrm>
              <a:off x="610200" y="5089680"/>
              <a:ext cx="8381160" cy="398880"/>
              <a:chOff x="610200" y="5089680"/>
              <a:chExt cx="8381160" cy="398880"/>
            </a:xfrm>
          </p:grpSpPr>
          <p:sp>
            <p:nvSpPr>
              <p:cNvPr id="1224" name=""/>
              <p:cNvSpPr/>
              <p:nvPr/>
            </p:nvSpPr>
            <p:spPr>
              <a:xfrm>
                <a:off x="610200" y="508968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xpliquer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056680" y="5089680"/>
                <a:ext cx="169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xpériment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114440" y="5089680"/>
                <a:ext cx="1524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Synthétiser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68360" y="5089680"/>
                <a:ext cx="132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Appliquer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521480" y="5089680"/>
                <a:ext cx="1469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Consolider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9" name=""/>
            <p:cNvSpPr/>
            <p:nvPr/>
          </p:nvSpPr>
          <p:spPr>
            <a:xfrm>
              <a:off x="685800" y="5562720"/>
              <a:ext cx="8077320" cy="0"/>
            </a:xfrm>
            <a:prstGeom prst="line">
              <a:avLst/>
            </a:prstGeom>
            <a:ln w="76320">
              <a:solidFill>
                <a:srgbClr val="ff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533520" y="5867280"/>
            <a:ext cx="8458200" cy="685800"/>
            <a:chOff x="533520" y="5867280"/>
            <a:chExt cx="8458200" cy="685800"/>
          </a:xfrm>
        </p:grpSpPr>
        <p:sp>
          <p:nvSpPr>
            <p:cNvPr id="1231" name=""/>
            <p:cNvSpPr/>
            <p:nvPr/>
          </p:nvSpPr>
          <p:spPr>
            <a:xfrm>
              <a:off x="533520" y="5867280"/>
              <a:ext cx="8458200" cy="6858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8760" y="5943600"/>
              <a:ext cx="13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Découvri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058120" y="59436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Étudie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275640" y="5943600"/>
              <a:ext cx="190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xpérimenter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409000" y="5943600"/>
              <a:ext cx="190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xpérimenter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544880" y="594360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pplique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2120" y="6400800"/>
              <a:ext cx="8076960" cy="0"/>
            </a:xfrm>
            <a:prstGeom prst="line">
              <a:avLst/>
            </a:prstGeom>
            <a:ln w="76320">
              <a:solidFill>
                <a:srgbClr val="ff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23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1752480" y="457200"/>
            <a:ext cx="73915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s d’équip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83760" y="457200"/>
            <a:ext cx="1416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ér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80880" y="990720"/>
            <a:ext cx="53341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ostes d’études avec char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70400" y="5334120"/>
            <a:ext cx="81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 compensation d ’énergie réactive et solutions associ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83360" y="4527720"/>
            <a:ext cx="75996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 perturbations des réseaux électriques et solu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ocié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65360" y="152388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émarrage protection du 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63200" y="2057400"/>
            <a:ext cx="60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riation de vitesse du MAS à U/f const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67880" y="2666880"/>
            <a:ext cx="80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riation de vitesse du MAS commande vectorielle de fl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51320" y="3276720"/>
            <a:ext cx="84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riation de vitesse du MCC variateur de vitesse 4 quad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66440" y="3886200"/>
            <a:ext cx="57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riation de vitesse du moteur Brushl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81920" y="586728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 schémas de liaison à la ter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25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6" name=""/>
          <p:cNvSpPr/>
          <p:nvPr/>
        </p:nvSpPr>
        <p:spPr>
          <a:xfrm>
            <a:off x="1752480" y="457200"/>
            <a:ext cx="73915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s d’équip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3760" y="457200"/>
            <a:ext cx="1416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ér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58640" y="863640"/>
            <a:ext cx="744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utils d ’analyse de mesure et de surveil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8600" y="1600200"/>
            <a:ext cx="53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rôleur d ’installation multifo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70400" y="2209680"/>
            <a:ext cx="515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rôleur d ’appareillag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66800" y="274320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alyseur d ’éner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44920" y="335268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mographie infrarou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44920" y="4419720"/>
            <a:ext cx="47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scilloscopes portable à mémo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41320" y="38862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momètre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44200" y="502920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registreur graph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46720" y="563868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inces multifonctions à sortie ana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26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1752480" y="457200"/>
            <a:ext cx="73915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s d’équip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83760" y="457200"/>
            <a:ext cx="1416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ér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8640" y="91440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ostes de câbl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057320" y="156384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areillage de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073520" y="205740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xiliaires de câbl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115360" y="2449440"/>
            <a:ext cx="218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mbou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uméros rep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llier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27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1752480" y="457200"/>
            <a:ext cx="73915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81960" y="457200"/>
            <a:ext cx="2517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FORMA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64640" y="129528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sources documentaires (Internet, Cdro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67160" y="182880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sources pédagogiques (AMM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67880" y="228600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llecte et analyse de donn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910880" y="2771640"/>
            <a:ext cx="66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: PC + analyseur de réseau + logiciel assoc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70400" y="327672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mensionnement d’instal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66440" y="380988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ide au choix de compos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67160" y="43434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mulation de foncti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67160" y="487692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Élaboration de schéma, de dossiers techniqu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 présen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66800" y="579132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unication (e-mai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29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6" name=""/>
          <p:cNvSpPr/>
          <p:nvPr/>
        </p:nvSpPr>
        <p:spPr>
          <a:xfrm>
            <a:off x="1752480" y="457200"/>
            <a:ext cx="73915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UCTURE du laboratoire de 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81960" y="457200"/>
            <a:ext cx="2517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FORMA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567240" y="2633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609480" y="1905120"/>
            <a:ext cx="8458200" cy="4800240"/>
            <a:chOff x="609480" y="1905120"/>
            <a:chExt cx="8458200" cy="4800240"/>
          </a:xfrm>
        </p:grpSpPr>
        <p:grpSp>
          <p:nvGrpSpPr>
            <p:cNvPr id="1301" name=""/>
            <p:cNvGrpSpPr/>
            <p:nvPr/>
          </p:nvGrpSpPr>
          <p:grpSpPr>
            <a:xfrm>
              <a:off x="609480" y="4343400"/>
              <a:ext cx="2514600" cy="2209680"/>
              <a:chOff x="609480" y="4343400"/>
              <a:chExt cx="2514600" cy="2209680"/>
            </a:xfrm>
          </p:grpSpPr>
          <p:grpSp>
            <p:nvGrpSpPr>
              <p:cNvPr id="1302" name=""/>
              <p:cNvGrpSpPr/>
              <p:nvPr/>
            </p:nvGrpSpPr>
            <p:grpSpPr>
              <a:xfrm>
                <a:off x="1371600" y="4343400"/>
                <a:ext cx="1752480" cy="762120"/>
                <a:chOff x="1371600" y="4343400"/>
                <a:chExt cx="1752480" cy="76212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1371600" y="4343400"/>
                  <a:ext cx="1752480" cy="7621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304" name=""/>
                <p:cNvGraphicFramePr/>
                <p:nvPr/>
              </p:nvGraphicFramePr>
              <p:xfrm>
                <a:off x="2217600" y="4343400"/>
                <a:ext cx="906480" cy="6962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30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217600" y="4343400"/>
                          <a:ext cx="906480" cy="696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306" name=""/>
              <p:cNvSpPr/>
              <p:nvPr/>
            </p:nvSpPr>
            <p:spPr>
              <a:xfrm>
                <a:off x="609480" y="4343400"/>
                <a:ext cx="762120" cy="220968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371600" y="541008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Poste de travai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609480" y="1905120"/>
              <a:ext cx="2514600" cy="2209680"/>
              <a:chOff x="609480" y="1905120"/>
              <a:chExt cx="2514600" cy="2209680"/>
            </a:xfrm>
          </p:grpSpPr>
          <p:grpSp>
            <p:nvGrpSpPr>
              <p:cNvPr id="1309" name=""/>
              <p:cNvGrpSpPr/>
              <p:nvPr/>
            </p:nvGrpSpPr>
            <p:grpSpPr>
              <a:xfrm>
                <a:off x="1371600" y="1905120"/>
                <a:ext cx="1752480" cy="762120"/>
                <a:chOff x="1371600" y="1905120"/>
                <a:chExt cx="1752480" cy="76212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1371600" y="1905120"/>
                  <a:ext cx="1752480" cy="7621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311" name=""/>
                <p:cNvGraphicFramePr/>
                <p:nvPr/>
              </p:nvGraphicFramePr>
              <p:xfrm>
                <a:off x="2217600" y="1905120"/>
                <a:ext cx="906480" cy="6962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312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2217600" y="1905120"/>
                          <a:ext cx="906480" cy="696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313" name=""/>
              <p:cNvSpPr/>
              <p:nvPr/>
            </p:nvSpPr>
            <p:spPr>
              <a:xfrm>
                <a:off x="609480" y="1905120"/>
                <a:ext cx="762120" cy="220968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371600" y="297180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Poste de travai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3581280" y="4343400"/>
              <a:ext cx="2514600" cy="2209680"/>
              <a:chOff x="3581280" y="4343400"/>
              <a:chExt cx="2514600" cy="2209680"/>
            </a:xfrm>
          </p:grpSpPr>
          <p:grpSp>
            <p:nvGrpSpPr>
              <p:cNvPr id="1316" name=""/>
              <p:cNvGrpSpPr/>
              <p:nvPr/>
            </p:nvGrpSpPr>
            <p:grpSpPr>
              <a:xfrm>
                <a:off x="4343400" y="4343400"/>
                <a:ext cx="1752480" cy="761760"/>
                <a:chOff x="4343400" y="4343400"/>
                <a:chExt cx="1752480" cy="76176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4343400" y="4343400"/>
                  <a:ext cx="1752480" cy="7617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318" name=""/>
                <p:cNvGraphicFramePr/>
                <p:nvPr/>
              </p:nvGraphicFramePr>
              <p:xfrm>
                <a:off x="5189400" y="4343400"/>
                <a:ext cx="906480" cy="69588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319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189400" y="4343400"/>
                          <a:ext cx="906480" cy="69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320" name=""/>
              <p:cNvSpPr/>
              <p:nvPr/>
            </p:nvSpPr>
            <p:spPr>
              <a:xfrm>
                <a:off x="3581280" y="4343400"/>
                <a:ext cx="762120" cy="220968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343400" y="5410080"/>
                <a:ext cx="1447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Poste de travai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6553080" y="4495680"/>
              <a:ext cx="2514600" cy="2209680"/>
              <a:chOff x="6553080" y="4495680"/>
              <a:chExt cx="2514600" cy="2209680"/>
            </a:xfrm>
          </p:grpSpPr>
          <p:grpSp>
            <p:nvGrpSpPr>
              <p:cNvPr id="1323" name=""/>
              <p:cNvGrpSpPr/>
              <p:nvPr/>
            </p:nvGrpSpPr>
            <p:grpSpPr>
              <a:xfrm>
                <a:off x="7315200" y="4495680"/>
                <a:ext cx="1752480" cy="762120"/>
                <a:chOff x="7315200" y="4495680"/>
                <a:chExt cx="1752480" cy="76212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7315200" y="4495680"/>
                  <a:ext cx="1752480" cy="7621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325" name=""/>
                <p:cNvGraphicFramePr/>
                <p:nvPr/>
              </p:nvGraphicFramePr>
              <p:xfrm>
                <a:off x="8161200" y="4495680"/>
                <a:ext cx="906480" cy="69624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326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8161200" y="4495680"/>
                          <a:ext cx="906480" cy="696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327" name=""/>
              <p:cNvSpPr/>
              <p:nvPr/>
            </p:nvSpPr>
            <p:spPr>
              <a:xfrm>
                <a:off x="6553080" y="4495680"/>
                <a:ext cx="762120" cy="220968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315200" y="556236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Poste de travai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9" name=""/>
          <p:cNvGrpSpPr/>
          <p:nvPr/>
        </p:nvGrpSpPr>
        <p:grpSpPr>
          <a:xfrm>
            <a:off x="5864760" y="1066680"/>
            <a:ext cx="2107080" cy="1158840"/>
            <a:chOff x="5864760" y="1066680"/>
            <a:chExt cx="2107080" cy="1158840"/>
          </a:xfrm>
        </p:grpSpPr>
        <p:sp>
          <p:nvSpPr>
            <p:cNvPr id="1330" name=""/>
            <p:cNvSpPr/>
            <p:nvPr/>
          </p:nvSpPr>
          <p:spPr>
            <a:xfrm>
              <a:off x="5987880" y="1463400"/>
              <a:ext cx="1752480" cy="7621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31" name=""/>
            <p:cNvGraphicFramePr/>
            <p:nvPr/>
          </p:nvGraphicFramePr>
          <p:xfrm>
            <a:off x="5987880" y="1555560"/>
            <a:ext cx="838080" cy="669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3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87880" y="1555560"/>
                      <a:ext cx="83808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3" name=""/>
            <p:cNvSpPr/>
            <p:nvPr/>
          </p:nvSpPr>
          <p:spPr>
            <a:xfrm>
              <a:off x="5864760" y="1066680"/>
              <a:ext cx="21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oste professeu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590920" y="1066680"/>
            <a:ext cx="5945040" cy="3429000"/>
            <a:chOff x="2590920" y="1066680"/>
            <a:chExt cx="5945040" cy="3429000"/>
          </a:xfrm>
        </p:grpSpPr>
        <p:sp>
          <p:nvSpPr>
            <p:cNvPr id="1335" name=""/>
            <p:cNvSpPr/>
            <p:nvPr/>
          </p:nvSpPr>
          <p:spPr>
            <a:xfrm>
              <a:off x="4724280" y="1523880"/>
              <a:ext cx="1800" cy="289584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666240" y="1066680"/>
              <a:ext cx="1430280" cy="459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RÉSEA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124080" y="2286000"/>
              <a:ext cx="1600200" cy="144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724280" y="3809880"/>
              <a:ext cx="3810240" cy="18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534520" y="3809880"/>
              <a:ext cx="1440" cy="6858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2590920" y="3657240"/>
              <a:ext cx="1440" cy="6858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590920" y="3657600"/>
              <a:ext cx="2133360" cy="144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724280" y="1905120"/>
              <a:ext cx="1295640" cy="144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5712120" y="2286000"/>
            <a:ext cx="236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trôler les accè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rri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853920" y="2009880"/>
            <a:ext cx="763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MERCI DE VOTRE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TTENTIO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177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80880" y="380880"/>
            <a:ext cx="205740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80880"/>
            <a:ext cx="67057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90720" y="990720"/>
            <a:ext cx="4419360" cy="5793480"/>
            <a:chOff x="990720" y="990720"/>
            <a:chExt cx="4419360" cy="5793480"/>
          </a:xfrm>
        </p:grpSpPr>
        <p:sp>
          <p:nvSpPr>
            <p:cNvPr id="183" name=""/>
            <p:cNvSpPr/>
            <p:nvPr/>
          </p:nvSpPr>
          <p:spPr>
            <a:xfrm>
              <a:off x="990720" y="990720"/>
              <a:ext cx="4419360" cy="4876560"/>
            </a:xfrm>
            <a:prstGeom prst="rect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829160" y="5867280"/>
              <a:ext cx="2178720" cy="916920"/>
              <a:chOff x="1829160" y="5867280"/>
              <a:chExt cx="2178720" cy="916920"/>
            </a:xfrm>
          </p:grpSpPr>
          <p:sp>
            <p:nvSpPr>
              <p:cNvPr id="185" name=""/>
              <p:cNvSpPr/>
              <p:nvPr/>
            </p:nvSpPr>
            <p:spPr>
              <a:xfrm>
                <a:off x="1829160" y="6324480"/>
                <a:ext cx="21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UTILISATION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819160" y="586728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5718960" y="3505320"/>
            <a:ext cx="319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savoirs associ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nt similaires à ceu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 référentiel de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68920" y="1143000"/>
            <a:ext cx="2838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nctions de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étudiées d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 program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’enseignement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én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69920" y="1752480"/>
            <a:ext cx="3827160" cy="1206720"/>
            <a:chOff x="1069920" y="1752480"/>
            <a:chExt cx="3827160" cy="1206720"/>
          </a:xfrm>
        </p:grpSpPr>
        <p:sp>
          <p:nvSpPr>
            <p:cNvPr id="190" name=""/>
            <p:cNvSpPr/>
            <p:nvPr/>
          </p:nvSpPr>
          <p:spPr>
            <a:xfrm>
              <a:off x="1069920" y="2133720"/>
              <a:ext cx="38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otection des person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et des bie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66880" y="175248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146240" y="3048120"/>
            <a:ext cx="4144680" cy="1221840"/>
            <a:chOff x="1146240" y="3048120"/>
            <a:chExt cx="4144680" cy="1221840"/>
          </a:xfrm>
        </p:grpSpPr>
        <p:sp>
          <p:nvSpPr>
            <p:cNvPr id="193" name=""/>
            <p:cNvSpPr/>
            <p:nvPr/>
          </p:nvSpPr>
          <p:spPr>
            <a:xfrm>
              <a:off x="1146240" y="3444480"/>
              <a:ext cx="414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istribution de l ’énergi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lectrique  en basse ten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43200" y="3048120"/>
              <a:ext cx="0" cy="45684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71000" y="4191120"/>
            <a:ext cx="3537720" cy="1603800"/>
            <a:chOff x="1071000" y="4191120"/>
            <a:chExt cx="3537720" cy="1603800"/>
          </a:xfrm>
        </p:grpSpPr>
        <p:sp>
          <p:nvSpPr>
            <p:cNvPr id="196" name=""/>
            <p:cNvSpPr/>
            <p:nvPr/>
          </p:nvSpPr>
          <p:spPr>
            <a:xfrm>
              <a:off x="1071000" y="4603680"/>
              <a:ext cx="35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incipaux actionneur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lectriques  et mode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e comman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419112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071000" y="914400"/>
            <a:ext cx="348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rovisionnement 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énerg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200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80880" y="380880"/>
            <a:ext cx="205740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380880"/>
            <a:ext cx="67057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160020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ntifier:    4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isir:       2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éterminer  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déli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lculer      1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s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57200" y="914400"/>
            <a:ext cx="3152160" cy="5775480"/>
            <a:chOff x="457200" y="914400"/>
            <a:chExt cx="3152160" cy="5775480"/>
          </a:xfrm>
        </p:grpSpPr>
        <p:sp>
          <p:nvSpPr>
            <p:cNvPr id="207" name=""/>
            <p:cNvSpPr/>
            <p:nvPr/>
          </p:nvSpPr>
          <p:spPr>
            <a:xfrm>
              <a:off x="457200" y="914400"/>
              <a:ext cx="3124080" cy="4876920"/>
            </a:xfrm>
            <a:prstGeom prst="rect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991080" y="5791320"/>
              <a:ext cx="1681920" cy="898560"/>
              <a:chOff x="991080" y="5791320"/>
              <a:chExt cx="1681920" cy="898560"/>
            </a:xfrm>
          </p:grpSpPr>
          <p:sp>
            <p:nvSpPr>
              <p:cNvPr id="209" name=""/>
              <p:cNvSpPr/>
              <p:nvPr/>
            </p:nvSpPr>
            <p:spPr>
              <a:xfrm>
                <a:off x="991080" y="6321600"/>
                <a:ext cx="1681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TILISATION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828800" y="579132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60440" y="1752480"/>
              <a:ext cx="2911320" cy="1096920"/>
              <a:chOff x="460440" y="1752480"/>
              <a:chExt cx="2911320" cy="1096920"/>
            </a:xfrm>
          </p:grpSpPr>
          <p:sp>
            <p:nvSpPr>
              <p:cNvPr id="212" name=""/>
              <p:cNvSpPr/>
              <p:nvPr/>
            </p:nvSpPr>
            <p:spPr>
              <a:xfrm>
                <a:off x="460440" y="2206800"/>
                <a:ext cx="2911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rotection des personne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et des bien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52480" y="175248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61160" y="2971800"/>
              <a:ext cx="3148200" cy="1112400"/>
              <a:chOff x="461160" y="2971800"/>
              <a:chExt cx="3148200" cy="1112400"/>
            </a:xfrm>
          </p:grpSpPr>
          <p:sp>
            <p:nvSpPr>
              <p:cNvPr id="215" name=""/>
              <p:cNvSpPr/>
              <p:nvPr/>
            </p:nvSpPr>
            <p:spPr>
              <a:xfrm>
                <a:off x="461160" y="3441600"/>
                <a:ext cx="3148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Distribution de l ’énergie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électrique  en basse tens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52480" y="297180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60440" y="4191120"/>
              <a:ext cx="2694960" cy="1402560"/>
              <a:chOff x="460440" y="4191120"/>
              <a:chExt cx="2694960" cy="1402560"/>
            </a:xfrm>
          </p:grpSpPr>
          <p:sp>
            <p:nvSpPr>
              <p:cNvPr id="218" name=""/>
              <p:cNvSpPr/>
              <p:nvPr/>
            </p:nvSpPr>
            <p:spPr>
              <a:xfrm>
                <a:off x="460440" y="4676760"/>
                <a:ext cx="2694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rincipaux actionneurs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électriques  et modes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de command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52480" y="419112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460800" y="987480"/>
              <a:ext cx="265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pprovisionnement e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énergie électriq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737880" y="10666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férentiel de 199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7880" y="40384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férentiel de 2005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114800" y="4419720"/>
            <a:ext cx="4495680" cy="2288520"/>
            <a:chOff x="4114800" y="4419720"/>
            <a:chExt cx="4495680" cy="2288520"/>
          </a:xfrm>
        </p:grpSpPr>
        <p:sp>
          <p:nvSpPr>
            <p:cNvPr id="224" name=""/>
            <p:cNvSpPr/>
            <p:nvPr/>
          </p:nvSpPr>
          <p:spPr>
            <a:xfrm>
              <a:off x="4114800" y="4419720"/>
              <a:ext cx="3733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nalys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éfinir, choisir, justifi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Identifier, caractéris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Lire, décoder,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représenter,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rédig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72400" y="4419720"/>
              <a:ext cx="838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53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1%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227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82680" y="380880"/>
            <a:ext cx="18586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380880"/>
            <a:ext cx="70102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2600" y="1676520"/>
            <a:ext cx="206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util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escrip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t d ’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6760" y="914400"/>
            <a:ext cx="4144680" cy="5793840"/>
            <a:chOff x="536760" y="914400"/>
            <a:chExt cx="4144680" cy="5793840"/>
          </a:xfrm>
        </p:grpSpPr>
        <p:sp>
          <p:nvSpPr>
            <p:cNvPr id="234" name=""/>
            <p:cNvSpPr/>
            <p:nvPr/>
          </p:nvSpPr>
          <p:spPr>
            <a:xfrm>
              <a:off x="537480" y="914400"/>
              <a:ext cx="348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pprovisionnement e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nergie électr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219680" y="5791320"/>
              <a:ext cx="2178720" cy="916920"/>
              <a:chOff x="1219680" y="5791320"/>
              <a:chExt cx="2178720" cy="916920"/>
            </a:xfrm>
          </p:grpSpPr>
          <p:sp>
            <p:nvSpPr>
              <p:cNvPr id="236" name=""/>
              <p:cNvSpPr/>
              <p:nvPr/>
            </p:nvSpPr>
            <p:spPr>
              <a:xfrm>
                <a:off x="1219680" y="6248520"/>
                <a:ext cx="21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UTILISATION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09680" y="579132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36760" y="1752480"/>
              <a:ext cx="3827160" cy="1206720"/>
              <a:chOff x="536760" y="1752480"/>
              <a:chExt cx="3827160" cy="1206720"/>
            </a:xfrm>
          </p:grpSpPr>
          <p:sp>
            <p:nvSpPr>
              <p:cNvPr id="239" name=""/>
              <p:cNvSpPr/>
              <p:nvPr/>
            </p:nvSpPr>
            <p:spPr>
              <a:xfrm>
                <a:off x="536760" y="2133720"/>
                <a:ext cx="3827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Protection des personn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et des bien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33720" y="175248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36760" y="2971800"/>
              <a:ext cx="4144680" cy="1222200"/>
              <a:chOff x="536760" y="2971800"/>
              <a:chExt cx="4144680" cy="1222200"/>
            </a:xfrm>
          </p:grpSpPr>
          <p:sp>
            <p:nvSpPr>
              <p:cNvPr id="242" name=""/>
              <p:cNvSpPr/>
              <p:nvPr/>
            </p:nvSpPr>
            <p:spPr>
              <a:xfrm>
                <a:off x="536760" y="3368520"/>
                <a:ext cx="4144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Distribution de l ’énergi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électrique  en basse tens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33720" y="297180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37840" y="4191120"/>
              <a:ext cx="3537720" cy="1603800"/>
              <a:chOff x="537840" y="4191120"/>
              <a:chExt cx="3537720" cy="1603800"/>
            </a:xfrm>
          </p:grpSpPr>
          <p:sp>
            <p:nvSpPr>
              <p:cNvPr id="245" name=""/>
              <p:cNvSpPr/>
              <p:nvPr/>
            </p:nvSpPr>
            <p:spPr>
              <a:xfrm>
                <a:off x="537840" y="4603680"/>
                <a:ext cx="3537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Principaux actionneurs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électriques  et modes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de command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133720" y="419112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4800240" y="1143000"/>
            <a:ext cx="4191480" cy="5486400"/>
            <a:chOff x="4800240" y="1143000"/>
            <a:chExt cx="4191480" cy="5486400"/>
          </a:xfrm>
        </p:grpSpPr>
        <p:sp>
          <p:nvSpPr>
            <p:cNvPr id="248" name=""/>
            <p:cNvSpPr/>
            <p:nvPr/>
          </p:nvSpPr>
          <p:spPr>
            <a:xfrm>
              <a:off x="6095880" y="3886200"/>
              <a:ext cx="289584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ppliqués à un sous ensemble de la chaîne de transfert d’énergi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4800240" y="1143000"/>
              <a:ext cx="1219680" cy="5486400"/>
              <a:chOff x="4800240" y="1143000"/>
              <a:chExt cx="1219680" cy="5486400"/>
            </a:xfrm>
          </p:grpSpPr>
          <p:sp>
            <p:nvSpPr>
              <p:cNvPr id="250" name=""/>
              <p:cNvSpPr/>
              <p:nvPr/>
            </p:nvSpPr>
            <p:spPr>
              <a:xfrm>
                <a:off x="6019920" y="1143000"/>
                <a:ext cx="0" cy="548640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4800240" y="1371600"/>
                <a:ext cx="106668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4800240" y="2362320"/>
                <a:ext cx="106668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4800240" y="3657600"/>
                <a:ext cx="106668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4800240" y="5029200"/>
                <a:ext cx="106668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4800240" y="6477120"/>
                <a:ext cx="106668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Gilbert Grialou</dc:creator>
  <dc:description/>
  <dc:language>en-US</dc:language>
  <cp:lastModifiedBy>philippe</cp:lastModifiedBy>
  <cp:lastPrinted>2005-07-31T14:11:41Z</cp:lastPrinted>
  <dcterms:modified xsi:type="dcterms:W3CDTF">2005-08-01T07:20:58Z</dcterms:modified>
  <cp:revision>119</cp:revision>
  <dc:subject/>
  <dc:title>activités et tâches professionnelles </dc:title>
</cp:coreProperties>
</file>