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1C30-D53C-45CE-826A-C61BDAB917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3267-5ECE-41A6-927B-0B620BC05D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0"/>
            <a:ext cx="29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871236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71236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29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36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24960" y="64897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6166-6E58-4B94-922A-D1FF3BE21DD4}" type="slidenum"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1800" y="26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1700280"/>
          <a:ext cx="8569080" cy="1828800"/>
        </p:xfrm>
        <a:graphic>
          <a:graphicData uri="http://schemas.openxmlformats.org/drawingml/2006/table">
            <a:tbl>
              <a:tblPr/>
              <a:tblGrid>
                <a:gridCol w="863280"/>
                <a:gridCol w="5472360"/>
                <a:gridCol w="2233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aliser les intervention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er le fonctionnement d’un bi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1800" y="26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1700280"/>
          <a:ext cx="8569080" cy="2743200"/>
        </p:xfrm>
        <a:graphic>
          <a:graphicData uri="http://schemas.openxmlformats.org/drawingml/2006/table">
            <a:tbl>
              <a:tblPr/>
              <a:tblGrid>
                <a:gridCol w="863280"/>
                <a:gridCol w="5472360"/>
                <a:gridCol w="2233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aliser les intervention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er le fonctionnement d’un bi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er et optimiser les activité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1800" y="26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1700280"/>
          <a:ext cx="8569080" cy="3747960"/>
        </p:xfrm>
        <a:graphic>
          <a:graphicData uri="http://schemas.openxmlformats.org/drawingml/2006/table">
            <a:tbl>
              <a:tblPr/>
              <a:tblGrid>
                <a:gridCol w="863280"/>
                <a:gridCol w="5472360"/>
                <a:gridCol w="223344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aliser les intervention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er le fonctionnement d’un bi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er et optimiser les activité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voir des solutions d’amélioration et d’intégration des biens et d’adaptation pour l’installation de nouveaux compos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1800" y="26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700280"/>
          <a:ext cx="8569080" cy="4662360"/>
        </p:xfrm>
        <a:graphic>
          <a:graphicData uri="http://schemas.openxmlformats.org/drawingml/2006/table">
            <a:tbl>
              <a:tblPr/>
              <a:tblGrid>
                <a:gridCol w="863280"/>
                <a:gridCol w="5472360"/>
                <a:gridCol w="2233440"/>
              </a:tblGrid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aliser les intervention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er le fonctionnement d’un bi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er et optimiser les activité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voir des solutions d’amélioration et d’intégration des biens et d’adaptation pour l’installation de nouveaux compos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quer des informations et animer une réunion techn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341360"/>
          <a:ext cx="8642160" cy="481032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1341360"/>
          <a:ext cx="8642160" cy="481032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341360"/>
          <a:ext cx="8642160" cy="492120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92120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341360"/>
          <a:ext cx="8642160" cy="492120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341360"/>
          <a:ext cx="8642160" cy="5035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00"/>
                </a:solidFill>
                <a:latin typeface="Arial"/>
              </a:rPr>
              <a:t>BTS MAINTENANCE INDUSTRIELLE 2005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400536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érentiel des activités professionn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érentiel de cer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ités constitutives du diplô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preuves d’exa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2920" y="2278080"/>
            <a:ext cx="889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3200" spc="-1" strike="noStrike" baseline="30000">
                <a:solidFill>
                  <a:srgbClr val="ffffff"/>
                </a:solidFill>
                <a:latin typeface="Arial"/>
              </a:rPr>
              <a:t>èr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art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ctr">
              <a:lnSpc>
                <a:spcPct val="80000"/>
              </a:lnSpc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Rappels généraux sur le référentiel de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0920" y="1341360"/>
          <a:ext cx="8642160" cy="5035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5035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7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341360"/>
          <a:ext cx="8642160" cy="5035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7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8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TR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E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341360"/>
          <a:ext cx="8642160" cy="5035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7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8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TR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E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9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CTIV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1341360"/>
          <a:ext cx="8642160" cy="52642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7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8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TR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E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9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CTIV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r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    TOTAL : 11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m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TOTAL : 11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144960" y="5535720"/>
            <a:ext cx="576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51080" y="6275520"/>
            <a:ext cx="5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1341360"/>
          <a:ext cx="8642160" cy="52642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7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8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TR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E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9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CTIV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r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    TOTAL : 11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r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                   TOTAL : 21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m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TOTAL : 11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m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                   TOTAL : 20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144960" y="5535720"/>
            <a:ext cx="576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51080" y="6275520"/>
            <a:ext cx="5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34240" y="5535720"/>
            <a:ext cx="5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40720" y="6275520"/>
            <a:ext cx="5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8920" y="2541240"/>
            <a:ext cx="453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echerche des inter-relations entr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hysique appliquée</a:t>
            </a: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écanique appliquée (composante de l’AFS)</a:t>
            </a: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énie électrique</a:t>
            </a: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32360" y="3573000"/>
            <a:ext cx="396072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épartition dans l’écriture des savoirs de chacune de ces trois discip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6034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ndements de l’écriture des savo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2570040"/>
            <a:ext cx="4191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ise en œuvre de travaux pratiques par disciplin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our accéder aux apprentissages fondament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5200" y="3165480"/>
            <a:ext cx="43131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Définition d’une méthodologie d’enseignement adapt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6034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ndements de l’écriture des savo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16000" y="2712960"/>
            <a:ext cx="38512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ise en place d’un programme spécifique d’Activités pratiqu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63560" y="2732040"/>
            <a:ext cx="45291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s activités pratiques sont organisées essentiellement autour d’activités de réal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034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ndements de l’écriture des savo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88440"/>
            <a:ext cx="8807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CONSTITUTIVES        DU DIPL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M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360520"/>
            <a:ext cx="8001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unités sont définies indépendamment du mode cert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aque définition fait le lien entre les compétences du référentiel de certification et les activités professionnelles décrites dans le R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661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 Narrow"/>
              </a:rPr>
              <a:t>C’est le RAP qui constitue le référent principal pour la V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981080"/>
          <a:ext cx="8642160" cy="128916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Langue vivant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 4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 2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Langue vivant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 4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 2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hématiques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Langue vivant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 4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 2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hématiques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iences physiqu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Langue vivant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 4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 2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hématiques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iences physiqu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/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075280" y="6381720"/>
            <a:ext cx="936720" cy="459720"/>
          </a:xfrm>
          <a:prstGeom prst="rect">
            <a:avLst/>
          </a:prstGeom>
          <a:solidFill>
            <a:srgbClr val="111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29,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Langue vivant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 4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 2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hématiques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iences physiqu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/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308640" y="5934240"/>
            <a:ext cx="93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0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75280" y="6381720"/>
            <a:ext cx="936720" cy="459720"/>
          </a:xfrm>
          <a:prstGeom prst="rect">
            <a:avLst/>
          </a:prstGeom>
          <a:solidFill>
            <a:srgbClr val="111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29,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381720"/>
            <a:ext cx="93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37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16000" y="1522440"/>
          <a:ext cx="8820000" cy="324648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Analyse fonctionnelle et structurell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16000" y="1522440"/>
          <a:ext cx="8820000" cy="324648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Analyse fonctionnelle et structurell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5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Automatiqu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6000" y="1522440"/>
          <a:ext cx="8820000" cy="324648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Analyse fonctionnelle et structurell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5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Automatiqu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5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Génie électriqu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14200" y="1523880"/>
          <a:ext cx="8750520" cy="3849840"/>
        </p:xfrm>
        <a:graphic>
          <a:graphicData uri="http://schemas.openxmlformats.org/drawingml/2006/table">
            <a:tbl>
              <a:tblPr/>
              <a:tblGrid>
                <a:gridCol w="3687840"/>
                <a:gridCol w="1125720"/>
                <a:gridCol w="939600"/>
                <a:gridCol w="1447920"/>
                <a:gridCol w="1549440"/>
              </a:tblGrid>
              <a:tr h="68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Interven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itu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981080"/>
          <a:ext cx="8642160" cy="198936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8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, mettre en œuvre et optimiser la 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14200" y="1523880"/>
          <a:ext cx="8750520" cy="4591080"/>
        </p:xfrm>
        <a:graphic>
          <a:graphicData uri="http://schemas.openxmlformats.org/drawingml/2006/table">
            <a:tbl>
              <a:tblPr/>
              <a:tblGrid>
                <a:gridCol w="3687840"/>
                <a:gridCol w="1125720"/>
                <a:gridCol w="939600"/>
                <a:gridCol w="1447920"/>
                <a:gridCol w="1549440"/>
              </a:tblGrid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Interven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itu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atégie de maintenanc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a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o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523880"/>
          <a:ext cx="8750520" cy="4592880"/>
        </p:xfrm>
        <a:graphic>
          <a:graphicData uri="http://schemas.openxmlformats.org/drawingml/2006/table">
            <a:tbl>
              <a:tblPr/>
              <a:tblGrid>
                <a:gridCol w="3687840"/>
                <a:gridCol w="1125720"/>
                <a:gridCol w="939600"/>
                <a:gridCol w="1447920"/>
                <a:gridCol w="1549440"/>
              </a:tblGrid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Interven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itu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atégie de maintenanc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a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o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6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Sous épreuve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s en milieu profession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ctuelle or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14200" y="1523880"/>
          <a:ext cx="8750520" cy="4592880"/>
        </p:xfrm>
        <a:graphic>
          <a:graphicData uri="http://schemas.openxmlformats.org/drawingml/2006/table">
            <a:tbl>
              <a:tblPr/>
              <a:tblGrid>
                <a:gridCol w="3687840"/>
                <a:gridCol w="1125720"/>
                <a:gridCol w="939600"/>
                <a:gridCol w="1447920"/>
                <a:gridCol w="1549440"/>
              </a:tblGrid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Interven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itu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atégie de maintenanc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a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o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6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Sous épreuve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s en milieu profession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ctuelle or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3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/27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6275520"/>
            <a:ext cx="998640" cy="459720"/>
          </a:xfrm>
          <a:prstGeom prst="rect">
            <a:avLst/>
          </a:prstGeom>
          <a:solidFill>
            <a:srgbClr val="111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70,4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14200" y="1523880"/>
          <a:ext cx="8750520" cy="4592880"/>
        </p:xfrm>
        <a:graphic>
          <a:graphicData uri="http://schemas.openxmlformats.org/drawingml/2006/table">
            <a:tbl>
              <a:tblPr/>
              <a:tblGrid>
                <a:gridCol w="3687840"/>
                <a:gridCol w="1125720"/>
                <a:gridCol w="939600"/>
                <a:gridCol w="1447920"/>
                <a:gridCol w="1549440"/>
              </a:tblGrid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Interven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itu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atégie de maintenanc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a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o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6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Sous épreuve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s en milieu profession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ctuelle or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3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/27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6360" y="5516640"/>
            <a:ext cx="93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7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6275520"/>
            <a:ext cx="93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63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6275520"/>
            <a:ext cx="998640" cy="459720"/>
          </a:xfrm>
          <a:prstGeom prst="rect">
            <a:avLst/>
          </a:prstGeom>
          <a:solidFill>
            <a:srgbClr val="111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70,4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580536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5805360"/>
            <a:ext cx="460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L’EPS représente 10 coef / 27 soit 37% du BTS (8 coef dans l’anci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00"/>
                </a:solidFill>
                <a:latin typeface="Arial"/>
              </a:rPr>
              <a:t>BTS MAINTENANCE INDUSTRIELLE 2005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560" y="4005360"/>
            <a:ext cx="8425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Aft>
                <a:spcPts val="28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ndements du nouveau référ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spcAft>
                <a:spcPts val="28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errelations entre les enseign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roduction aux items génér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2920" y="2278080"/>
            <a:ext cx="889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3200" spc="-1" strike="noStrike" baseline="30000">
                <a:solidFill>
                  <a:srgbClr val="ffffff"/>
                </a:solidFill>
                <a:latin typeface="Arial"/>
              </a:rPr>
              <a:t>èm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art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ctr">
              <a:lnSpc>
                <a:spcPct val="80000"/>
              </a:lnSpc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Introduction aux repères pour la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320" y="457200"/>
            <a:ext cx="9077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FONDEMENTS DU NOUVEAU R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RENTIE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792440"/>
            <a:ext cx="8664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just">
              <a:spcAft>
                <a:spcPts val="29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enforcement de l’acquisition des savoir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ar l’introduction d’une démarche inductive : mise en œuvre de TP disciplinai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argissement de l’épreuve d’interven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aux 4 activités principales de la maintenanc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iagnostic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79240" indent="-22284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éparation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79240" indent="-22284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ntenance préventive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79240" indent="-222840" algn="just">
              <a:lnSpc>
                <a:spcPct val="100000"/>
              </a:lnSpc>
              <a:spcAft>
                <a:spcPts val="25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mélioration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marL="267480" indent="-267480" algn="just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Évaluation des compétences en stratégie de maintenanc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ar une épreuve spécif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64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just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Un projet technique en milieu professionnel renforc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 algn="just">
              <a:lnSpc>
                <a:spcPct val="100000"/>
              </a:lnSpc>
              <a:spcAft>
                <a:spcPts val="125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urée 6 semaines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05080" indent="-194040" algn="just">
              <a:lnSpc>
                <a:spcPct val="100000"/>
              </a:lnSpc>
              <a:spcAft>
                <a:spcPts val="125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largissement du champs des activités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05080" indent="-194040" algn="just">
              <a:lnSpc>
                <a:spcPct val="100000"/>
              </a:lnSpc>
              <a:spcAft>
                <a:spcPts val="25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tégration obligatoire de la phase de réalisation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marL="233280" indent="-233280" algn="just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ntroduction de nouvelles compét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 algn="just">
              <a:lnSpc>
                <a:spcPct val="100000"/>
              </a:lnSpc>
              <a:spcAft>
                <a:spcPts val="125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et sécurité au travail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05080" indent="-19404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marL="233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ntroduction du C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 algn="just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us 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euve d’intervention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05080" indent="-194040" algn="just">
              <a:lnSpc>
                <a:spcPct val="100000"/>
              </a:lnSpc>
              <a:spcAft>
                <a:spcPts val="25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ous épreuve de stratégie de maintenance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05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320" y="457200"/>
            <a:ext cx="9077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FONDEMENTS DU NOUVEAU R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RENTIE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58831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95560" y="58831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58831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5560" y="58831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58831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95560" y="58831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58831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5560" y="58831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58831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95560" y="58831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1480" y="395640"/>
            <a:ext cx="7610400" cy="1569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114480" bIns="114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INTERRELATIONS ENTRE LES ENSEIGNEMENTS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8200" y="1928880"/>
            <a:ext cx="7921440" cy="4668840"/>
            <a:chOff x="538200" y="1928880"/>
            <a:chExt cx="7921440" cy="4668840"/>
          </a:xfrm>
        </p:grpSpPr>
        <p:grpSp>
          <p:nvGrpSpPr>
            <p:cNvPr id="175" name=""/>
            <p:cNvGrpSpPr/>
            <p:nvPr/>
          </p:nvGrpSpPr>
          <p:grpSpPr>
            <a:xfrm>
              <a:off x="592200" y="3076560"/>
              <a:ext cx="7761240" cy="3521160"/>
              <a:chOff x="592200" y="3076560"/>
              <a:chExt cx="7761240" cy="35211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592200" y="3076560"/>
                <a:ext cx="3889440" cy="1803600"/>
                <a:chOff x="592200" y="3076560"/>
                <a:chExt cx="3889440" cy="1803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92200" y="3076560"/>
                  <a:ext cx="3889440" cy="1803600"/>
                </a:xfrm>
                <a:custGeom>
                  <a:avLst/>
                  <a:gdLst/>
                  <a:ahLst/>
                  <a:rect l="l" t="t" r="r" b="b"/>
                  <a:pathLst>
                    <a:path w="2450" h="1136">
                      <a:moveTo>
                        <a:pt x="2450" y="283"/>
                      </a:moveTo>
                      <a:lnTo>
                        <a:pt x="2450" y="0"/>
                      </a:lnTo>
                      <a:lnTo>
                        <a:pt x="0" y="0"/>
                      </a:lnTo>
                      <a:lnTo>
                        <a:pt x="2" y="1136"/>
                      </a:lnTo>
                      <a:lnTo>
                        <a:pt x="220" y="1136"/>
                      </a:lnTo>
                      <a:lnTo>
                        <a:pt x="230" y="1114"/>
                      </a:lnTo>
                      <a:lnTo>
                        <a:pt x="230" y="1099"/>
                      </a:lnTo>
                      <a:lnTo>
                        <a:pt x="224" y="1077"/>
                      </a:lnTo>
                      <a:lnTo>
                        <a:pt x="211" y="1054"/>
                      </a:lnTo>
                      <a:lnTo>
                        <a:pt x="199" y="1026"/>
                      </a:lnTo>
                      <a:lnTo>
                        <a:pt x="192" y="1004"/>
                      </a:lnTo>
                      <a:lnTo>
                        <a:pt x="190" y="985"/>
                      </a:lnTo>
                      <a:lnTo>
                        <a:pt x="197" y="963"/>
                      </a:lnTo>
                      <a:lnTo>
                        <a:pt x="207" y="943"/>
                      </a:lnTo>
                      <a:lnTo>
                        <a:pt x="230" y="922"/>
                      </a:lnTo>
                      <a:lnTo>
                        <a:pt x="258" y="907"/>
                      </a:lnTo>
                      <a:lnTo>
                        <a:pt x="288" y="891"/>
                      </a:lnTo>
                      <a:lnTo>
                        <a:pt x="321" y="880"/>
                      </a:lnTo>
                      <a:lnTo>
                        <a:pt x="362" y="870"/>
                      </a:lnTo>
                      <a:lnTo>
                        <a:pt x="398" y="867"/>
                      </a:lnTo>
                      <a:lnTo>
                        <a:pt x="448" y="865"/>
                      </a:lnTo>
                      <a:lnTo>
                        <a:pt x="508" y="868"/>
                      </a:lnTo>
                      <a:lnTo>
                        <a:pt x="546" y="870"/>
                      </a:lnTo>
                      <a:lnTo>
                        <a:pt x="579" y="876"/>
                      </a:lnTo>
                      <a:lnTo>
                        <a:pt x="611" y="887"/>
                      </a:lnTo>
                      <a:lnTo>
                        <a:pt x="651" y="905"/>
                      </a:lnTo>
                      <a:lnTo>
                        <a:pt x="677" y="922"/>
                      </a:lnTo>
                      <a:lnTo>
                        <a:pt x="700" y="940"/>
                      </a:lnTo>
                      <a:lnTo>
                        <a:pt x="713" y="960"/>
                      </a:lnTo>
                      <a:lnTo>
                        <a:pt x="721" y="978"/>
                      </a:lnTo>
                      <a:lnTo>
                        <a:pt x="721" y="998"/>
                      </a:lnTo>
                      <a:lnTo>
                        <a:pt x="717" y="1019"/>
                      </a:lnTo>
                      <a:lnTo>
                        <a:pt x="709" y="1038"/>
                      </a:lnTo>
                      <a:lnTo>
                        <a:pt x="700" y="1056"/>
                      </a:lnTo>
                      <a:lnTo>
                        <a:pt x="689" y="1076"/>
                      </a:lnTo>
                      <a:lnTo>
                        <a:pt x="683" y="1095"/>
                      </a:lnTo>
                      <a:lnTo>
                        <a:pt x="683" y="1112"/>
                      </a:lnTo>
                      <a:lnTo>
                        <a:pt x="692" y="1131"/>
                      </a:lnTo>
                      <a:lnTo>
                        <a:pt x="1102" y="1131"/>
                      </a:lnTo>
                      <a:lnTo>
                        <a:pt x="1098" y="1091"/>
                      </a:lnTo>
                      <a:lnTo>
                        <a:pt x="1102" y="1062"/>
                      </a:lnTo>
                      <a:lnTo>
                        <a:pt x="1102" y="1041"/>
                      </a:lnTo>
                      <a:lnTo>
                        <a:pt x="1104" y="1020"/>
                      </a:lnTo>
                      <a:lnTo>
                        <a:pt x="1108" y="998"/>
                      </a:lnTo>
                      <a:lnTo>
                        <a:pt x="1117" y="977"/>
                      </a:lnTo>
                      <a:lnTo>
                        <a:pt x="1127" y="962"/>
                      </a:lnTo>
                      <a:lnTo>
                        <a:pt x="1142" y="949"/>
                      </a:lnTo>
                      <a:lnTo>
                        <a:pt x="1163" y="938"/>
                      </a:lnTo>
                      <a:lnTo>
                        <a:pt x="1187" y="930"/>
                      </a:lnTo>
                      <a:lnTo>
                        <a:pt x="1214" y="925"/>
                      </a:lnTo>
                      <a:lnTo>
                        <a:pt x="1244" y="922"/>
                      </a:lnTo>
                      <a:lnTo>
                        <a:pt x="1271" y="921"/>
                      </a:lnTo>
                      <a:lnTo>
                        <a:pt x="1307" y="921"/>
                      </a:lnTo>
                      <a:lnTo>
                        <a:pt x="1341" y="922"/>
                      </a:lnTo>
                      <a:lnTo>
                        <a:pt x="1369" y="925"/>
                      </a:lnTo>
                      <a:lnTo>
                        <a:pt x="1405" y="926"/>
                      </a:lnTo>
                      <a:lnTo>
                        <a:pt x="1443" y="928"/>
                      </a:lnTo>
                      <a:lnTo>
                        <a:pt x="1485" y="928"/>
                      </a:lnTo>
                      <a:lnTo>
                        <a:pt x="1521" y="926"/>
                      </a:lnTo>
                      <a:lnTo>
                        <a:pt x="1557" y="922"/>
                      </a:lnTo>
                      <a:lnTo>
                        <a:pt x="1595" y="917"/>
                      </a:lnTo>
                      <a:lnTo>
                        <a:pt x="1622" y="909"/>
                      </a:lnTo>
                      <a:lnTo>
                        <a:pt x="1652" y="898"/>
                      </a:lnTo>
                      <a:lnTo>
                        <a:pt x="1671" y="884"/>
                      </a:lnTo>
                      <a:lnTo>
                        <a:pt x="1690" y="868"/>
                      </a:lnTo>
                      <a:lnTo>
                        <a:pt x="1699" y="852"/>
                      </a:lnTo>
                      <a:lnTo>
                        <a:pt x="1703" y="834"/>
                      </a:lnTo>
                      <a:lnTo>
                        <a:pt x="1699" y="816"/>
                      </a:lnTo>
                      <a:lnTo>
                        <a:pt x="1696" y="797"/>
                      </a:lnTo>
                      <a:lnTo>
                        <a:pt x="1699" y="776"/>
                      </a:lnTo>
                      <a:lnTo>
                        <a:pt x="1705" y="760"/>
                      </a:lnTo>
                      <a:lnTo>
                        <a:pt x="1713" y="743"/>
                      </a:lnTo>
                      <a:lnTo>
                        <a:pt x="1726" y="728"/>
                      </a:lnTo>
                      <a:lnTo>
                        <a:pt x="1743" y="717"/>
                      </a:lnTo>
                      <a:lnTo>
                        <a:pt x="1771" y="706"/>
                      </a:lnTo>
                      <a:lnTo>
                        <a:pt x="1804" y="699"/>
                      </a:lnTo>
                      <a:lnTo>
                        <a:pt x="1838" y="693"/>
                      </a:lnTo>
                      <a:lnTo>
                        <a:pt x="1870" y="688"/>
                      </a:lnTo>
                      <a:lnTo>
                        <a:pt x="1904" y="683"/>
                      </a:lnTo>
                      <a:lnTo>
                        <a:pt x="1948" y="678"/>
                      </a:lnTo>
                      <a:lnTo>
                        <a:pt x="1982" y="675"/>
                      </a:lnTo>
                      <a:lnTo>
                        <a:pt x="2018" y="669"/>
                      </a:lnTo>
                      <a:lnTo>
                        <a:pt x="2048" y="662"/>
                      </a:lnTo>
                      <a:lnTo>
                        <a:pt x="2077" y="655"/>
                      </a:lnTo>
                      <a:lnTo>
                        <a:pt x="2101" y="646"/>
                      </a:lnTo>
                      <a:lnTo>
                        <a:pt x="2122" y="636"/>
                      </a:lnTo>
                      <a:lnTo>
                        <a:pt x="2145" y="620"/>
                      </a:lnTo>
                      <a:lnTo>
                        <a:pt x="2160" y="606"/>
                      </a:lnTo>
                      <a:lnTo>
                        <a:pt x="2172" y="589"/>
                      </a:lnTo>
                      <a:lnTo>
                        <a:pt x="2179" y="567"/>
                      </a:lnTo>
                      <a:lnTo>
                        <a:pt x="2175" y="549"/>
                      </a:lnTo>
                      <a:lnTo>
                        <a:pt x="2170" y="530"/>
                      </a:lnTo>
                      <a:lnTo>
                        <a:pt x="2160" y="507"/>
                      </a:lnTo>
                      <a:lnTo>
                        <a:pt x="2149" y="481"/>
                      </a:lnTo>
                      <a:lnTo>
                        <a:pt x="2139" y="458"/>
                      </a:lnTo>
                      <a:lnTo>
                        <a:pt x="2136" y="440"/>
                      </a:lnTo>
                      <a:lnTo>
                        <a:pt x="2136" y="423"/>
                      </a:lnTo>
                      <a:lnTo>
                        <a:pt x="2141" y="400"/>
                      </a:lnTo>
                      <a:lnTo>
                        <a:pt x="2151" y="381"/>
                      </a:lnTo>
                      <a:lnTo>
                        <a:pt x="2162" y="366"/>
                      </a:lnTo>
                      <a:lnTo>
                        <a:pt x="2177" y="352"/>
                      </a:lnTo>
                      <a:lnTo>
                        <a:pt x="2198" y="336"/>
                      </a:lnTo>
                      <a:lnTo>
                        <a:pt x="2221" y="321"/>
                      </a:lnTo>
                      <a:lnTo>
                        <a:pt x="2251" y="307"/>
                      </a:lnTo>
                      <a:lnTo>
                        <a:pt x="2282" y="296"/>
                      </a:lnTo>
                      <a:lnTo>
                        <a:pt x="2312" y="290"/>
                      </a:lnTo>
                      <a:lnTo>
                        <a:pt x="2342" y="285"/>
                      </a:lnTo>
                      <a:lnTo>
                        <a:pt x="2373" y="283"/>
                      </a:lnTo>
                      <a:lnTo>
                        <a:pt x="2412" y="283"/>
                      </a:lnTo>
                      <a:lnTo>
                        <a:pt x="2450" y="283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20720" y="3473640"/>
                  <a:ext cx="342900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482760" indent="-48276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S5 : Analyse Fonctionnelle et structurell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308320" y="3522600"/>
                <a:ext cx="4311720" cy="2698920"/>
                <a:chOff x="2308320" y="3522600"/>
                <a:chExt cx="4311720" cy="26989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308320" y="3522600"/>
                  <a:ext cx="4311720" cy="2698920"/>
                </a:xfrm>
                <a:custGeom>
                  <a:avLst/>
                  <a:gdLst/>
                  <a:ahLst/>
                  <a:rect l="l" t="t" r="r" b="b"/>
                  <a:pathLst>
                    <a:path w="2716" h="1700">
                      <a:moveTo>
                        <a:pt x="1034" y="355"/>
                      </a:moveTo>
                      <a:lnTo>
                        <a:pt x="1062" y="336"/>
                      </a:lnTo>
                      <a:lnTo>
                        <a:pt x="1081" y="317"/>
                      </a:lnTo>
                      <a:lnTo>
                        <a:pt x="1091" y="297"/>
                      </a:lnTo>
                      <a:lnTo>
                        <a:pt x="1091" y="270"/>
                      </a:lnTo>
                      <a:lnTo>
                        <a:pt x="1079" y="240"/>
                      </a:lnTo>
                      <a:lnTo>
                        <a:pt x="1068" y="215"/>
                      </a:lnTo>
                      <a:lnTo>
                        <a:pt x="1053" y="183"/>
                      </a:lnTo>
                      <a:lnTo>
                        <a:pt x="1047" y="149"/>
                      </a:lnTo>
                      <a:lnTo>
                        <a:pt x="1053" y="129"/>
                      </a:lnTo>
                      <a:lnTo>
                        <a:pt x="1064" y="104"/>
                      </a:lnTo>
                      <a:lnTo>
                        <a:pt x="1085" y="77"/>
                      </a:lnTo>
                      <a:lnTo>
                        <a:pt x="1115" y="52"/>
                      </a:lnTo>
                      <a:lnTo>
                        <a:pt x="1153" y="31"/>
                      </a:lnTo>
                      <a:lnTo>
                        <a:pt x="1187" y="15"/>
                      </a:lnTo>
                      <a:lnTo>
                        <a:pt x="1233" y="6"/>
                      </a:lnTo>
                      <a:lnTo>
                        <a:pt x="1288" y="1"/>
                      </a:lnTo>
                      <a:lnTo>
                        <a:pt x="1347" y="0"/>
                      </a:lnTo>
                      <a:lnTo>
                        <a:pt x="1428" y="0"/>
                      </a:lnTo>
                      <a:lnTo>
                        <a:pt x="1491" y="3"/>
                      </a:lnTo>
                      <a:lnTo>
                        <a:pt x="1527" y="11"/>
                      </a:lnTo>
                      <a:lnTo>
                        <a:pt x="1555" y="20"/>
                      </a:lnTo>
                      <a:lnTo>
                        <a:pt x="1584" y="31"/>
                      </a:lnTo>
                      <a:lnTo>
                        <a:pt x="1614" y="48"/>
                      </a:lnTo>
                      <a:lnTo>
                        <a:pt x="1641" y="70"/>
                      </a:lnTo>
                      <a:lnTo>
                        <a:pt x="1663" y="89"/>
                      </a:lnTo>
                      <a:lnTo>
                        <a:pt x="1673" y="106"/>
                      </a:lnTo>
                      <a:lnTo>
                        <a:pt x="1682" y="135"/>
                      </a:lnTo>
                      <a:lnTo>
                        <a:pt x="1682" y="160"/>
                      </a:lnTo>
                      <a:lnTo>
                        <a:pt x="1675" y="186"/>
                      </a:lnTo>
                      <a:lnTo>
                        <a:pt x="1667" y="205"/>
                      </a:lnTo>
                      <a:lnTo>
                        <a:pt x="1656" y="236"/>
                      </a:lnTo>
                      <a:lnTo>
                        <a:pt x="1641" y="269"/>
                      </a:lnTo>
                      <a:lnTo>
                        <a:pt x="1635" y="290"/>
                      </a:lnTo>
                      <a:lnTo>
                        <a:pt x="1646" y="310"/>
                      </a:lnTo>
                      <a:lnTo>
                        <a:pt x="1658" y="325"/>
                      </a:lnTo>
                      <a:lnTo>
                        <a:pt x="1682" y="344"/>
                      </a:lnTo>
                      <a:lnTo>
                        <a:pt x="1716" y="360"/>
                      </a:lnTo>
                      <a:lnTo>
                        <a:pt x="1747" y="373"/>
                      </a:lnTo>
                      <a:lnTo>
                        <a:pt x="1794" y="384"/>
                      </a:lnTo>
                      <a:lnTo>
                        <a:pt x="1840" y="391"/>
                      </a:lnTo>
                      <a:lnTo>
                        <a:pt x="1885" y="397"/>
                      </a:lnTo>
                      <a:lnTo>
                        <a:pt x="1931" y="401"/>
                      </a:lnTo>
                      <a:lnTo>
                        <a:pt x="1980" y="408"/>
                      </a:lnTo>
                      <a:lnTo>
                        <a:pt x="2018" y="415"/>
                      </a:lnTo>
                      <a:lnTo>
                        <a:pt x="2048" y="424"/>
                      </a:lnTo>
                      <a:lnTo>
                        <a:pt x="2071" y="433"/>
                      </a:lnTo>
                      <a:lnTo>
                        <a:pt x="2088" y="444"/>
                      </a:lnTo>
                      <a:lnTo>
                        <a:pt x="2101" y="458"/>
                      </a:lnTo>
                      <a:lnTo>
                        <a:pt x="2111" y="473"/>
                      </a:lnTo>
                      <a:lnTo>
                        <a:pt x="2115" y="488"/>
                      </a:lnTo>
                      <a:lnTo>
                        <a:pt x="2120" y="501"/>
                      </a:lnTo>
                      <a:lnTo>
                        <a:pt x="2120" y="519"/>
                      </a:lnTo>
                      <a:lnTo>
                        <a:pt x="2115" y="540"/>
                      </a:lnTo>
                      <a:lnTo>
                        <a:pt x="2115" y="555"/>
                      </a:lnTo>
                      <a:lnTo>
                        <a:pt x="2122" y="575"/>
                      </a:lnTo>
                      <a:lnTo>
                        <a:pt x="2137" y="592"/>
                      </a:lnTo>
                      <a:lnTo>
                        <a:pt x="2153" y="606"/>
                      </a:lnTo>
                      <a:lnTo>
                        <a:pt x="2175" y="617"/>
                      </a:lnTo>
                      <a:lnTo>
                        <a:pt x="2202" y="629"/>
                      </a:lnTo>
                      <a:lnTo>
                        <a:pt x="2230" y="636"/>
                      </a:lnTo>
                      <a:lnTo>
                        <a:pt x="2272" y="641"/>
                      </a:lnTo>
                      <a:lnTo>
                        <a:pt x="2308" y="644"/>
                      </a:lnTo>
                      <a:lnTo>
                        <a:pt x="2342" y="645"/>
                      </a:lnTo>
                      <a:lnTo>
                        <a:pt x="2380" y="644"/>
                      </a:lnTo>
                      <a:lnTo>
                        <a:pt x="2426" y="641"/>
                      </a:lnTo>
                      <a:lnTo>
                        <a:pt x="2462" y="640"/>
                      </a:lnTo>
                      <a:lnTo>
                        <a:pt x="2498" y="638"/>
                      </a:lnTo>
                      <a:lnTo>
                        <a:pt x="2532" y="636"/>
                      </a:lnTo>
                      <a:lnTo>
                        <a:pt x="2572" y="638"/>
                      </a:lnTo>
                      <a:lnTo>
                        <a:pt x="2593" y="640"/>
                      </a:lnTo>
                      <a:lnTo>
                        <a:pt x="2619" y="644"/>
                      </a:lnTo>
                      <a:lnTo>
                        <a:pt x="2642" y="651"/>
                      </a:lnTo>
                      <a:lnTo>
                        <a:pt x="2668" y="662"/>
                      </a:lnTo>
                      <a:lnTo>
                        <a:pt x="2687" y="674"/>
                      </a:lnTo>
                      <a:lnTo>
                        <a:pt x="2701" y="692"/>
                      </a:lnTo>
                      <a:lnTo>
                        <a:pt x="2708" y="708"/>
                      </a:lnTo>
                      <a:lnTo>
                        <a:pt x="2712" y="727"/>
                      </a:lnTo>
                      <a:lnTo>
                        <a:pt x="2716" y="762"/>
                      </a:lnTo>
                      <a:lnTo>
                        <a:pt x="2714" y="803"/>
                      </a:lnTo>
                      <a:lnTo>
                        <a:pt x="2716" y="847"/>
                      </a:lnTo>
                      <a:lnTo>
                        <a:pt x="2710" y="897"/>
                      </a:lnTo>
                      <a:lnTo>
                        <a:pt x="2703" y="932"/>
                      </a:lnTo>
                      <a:lnTo>
                        <a:pt x="2697" y="960"/>
                      </a:lnTo>
                      <a:lnTo>
                        <a:pt x="2687" y="976"/>
                      </a:lnTo>
                      <a:lnTo>
                        <a:pt x="2670" y="990"/>
                      </a:lnTo>
                      <a:lnTo>
                        <a:pt x="2651" y="1000"/>
                      </a:lnTo>
                      <a:lnTo>
                        <a:pt x="2625" y="1009"/>
                      </a:lnTo>
                      <a:lnTo>
                        <a:pt x="2596" y="1013"/>
                      </a:lnTo>
                      <a:lnTo>
                        <a:pt x="2570" y="1017"/>
                      </a:lnTo>
                      <a:lnTo>
                        <a:pt x="2517" y="1018"/>
                      </a:lnTo>
                      <a:lnTo>
                        <a:pt x="2471" y="1017"/>
                      </a:lnTo>
                      <a:lnTo>
                        <a:pt x="2433" y="1013"/>
                      </a:lnTo>
                      <a:lnTo>
                        <a:pt x="2399" y="1012"/>
                      </a:lnTo>
                      <a:lnTo>
                        <a:pt x="2361" y="1011"/>
                      </a:lnTo>
                      <a:lnTo>
                        <a:pt x="2327" y="1011"/>
                      </a:lnTo>
                      <a:lnTo>
                        <a:pt x="2297" y="1012"/>
                      </a:lnTo>
                      <a:lnTo>
                        <a:pt x="2266" y="1013"/>
                      </a:lnTo>
                      <a:lnTo>
                        <a:pt x="2228" y="1019"/>
                      </a:lnTo>
                      <a:lnTo>
                        <a:pt x="2206" y="1024"/>
                      </a:lnTo>
                      <a:lnTo>
                        <a:pt x="2187" y="1029"/>
                      </a:lnTo>
                      <a:lnTo>
                        <a:pt x="2162" y="1039"/>
                      </a:lnTo>
                      <a:lnTo>
                        <a:pt x="2145" y="1051"/>
                      </a:lnTo>
                      <a:lnTo>
                        <a:pt x="2132" y="1062"/>
                      </a:lnTo>
                      <a:lnTo>
                        <a:pt x="2120" y="1075"/>
                      </a:lnTo>
                      <a:lnTo>
                        <a:pt x="2113" y="1088"/>
                      </a:lnTo>
                      <a:lnTo>
                        <a:pt x="2111" y="1103"/>
                      </a:lnTo>
                      <a:lnTo>
                        <a:pt x="2113" y="1119"/>
                      </a:lnTo>
                      <a:lnTo>
                        <a:pt x="2113" y="1145"/>
                      </a:lnTo>
                      <a:lnTo>
                        <a:pt x="2111" y="1173"/>
                      </a:lnTo>
                      <a:lnTo>
                        <a:pt x="2098" y="1193"/>
                      </a:lnTo>
                      <a:lnTo>
                        <a:pt x="2086" y="1210"/>
                      </a:lnTo>
                      <a:lnTo>
                        <a:pt x="2067" y="1222"/>
                      </a:lnTo>
                      <a:lnTo>
                        <a:pt x="2039" y="1232"/>
                      </a:lnTo>
                      <a:lnTo>
                        <a:pt x="2012" y="1241"/>
                      </a:lnTo>
                      <a:lnTo>
                        <a:pt x="1980" y="1245"/>
                      </a:lnTo>
                      <a:lnTo>
                        <a:pt x="1940" y="1250"/>
                      </a:lnTo>
                      <a:lnTo>
                        <a:pt x="1906" y="1256"/>
                      </a:lnTo>
                      <a:lnTo>
                        <a:pt x="1866" y="1260"/>
                      </a:lnTo>
                      <a:lnTo>
                        <a:pt x="1832" y="1264"/>
                      </a:lnTo>
                      <a:lnTo>
                        <a:pt x="1794" y="1268"/>
                      </a:lnTo>
                      <a:lnTo>
                        <a:pt x="1764" y="1277"/>
                      </a:lnTo>
                      <a:lnTo>
                        <a:pt x="1730" y="1285"/>
                      </a:lnTo>
                      <a:lnTo>
                        <a:pt x="1699" y="1296"/>
                      </a:lnTo>
                      <a:lnTo>
                        <a:pt x="1675" y="1311"/>
                      </a:lnTo>
                      <a:lnTo>
                        <a:pt x="1654" y="1328"/>
                      </a:lnTo>
                      <a:lnTo>
                        <a:pt x="1637" y="1348"/>
                      </a:lnTo>
                      <a:lnTo>
                        <a:pt x="1633" y="1366"/>
                      </a:lnTo>
                      <a:lnTo>
                        <a:pt x="1635" y="1387"/>
                      </a:lnTo>
                      <a:lnTo>
                        <a:pt x="1641" y="1406"/>
                      </a:lnTo>
                      <a:lnTo>
                        <a:pt x="1652" y="1427"/>
                      </a:lnTo>
                      <a:lnTo>
                        <a:pt x="1661" y="1450"/>
                      </a:lnTo>
                      <a:lnTo>
                        <a:pt x="1667" y="1470"/>
                      </a:lnTo>
                      <a:lnTo>
                        <a:pt x="1675" y="1497"/>
                      </a:lnTo>
                      <a:lnTo>
                        <a:pt x="1675" y="1523"/>
                      </a:lnTo>
                      <a:lnTo>
                        <a:pt x="1665" y="1550"/>
                      </a:lnTo>
                      <a:lnTo>
                        <a:pt x="1654" y="1570"/>
                      </a:lnTo>
                      <a:lnTo>
                        <a:pt x="1641" y="1591"/>
                      </a:lnTo>
                      <a:lnTo>
                        <a:pt x="1625" y="1610"/>
                      </a:lnTo>
                      <a:lnTo>
                        <a:pt x="1601" y="1635"/>
                      </a:lnTo>
                      <a:lnTo>
                        <a:pt x="1576" y="1650"/>
                      </a:lnTo>
                      <a:lnTo>
                        <a:pt x="1555" y="1661"/>
                      </a:lnTo>
                      <a:lnTo>
                        <a:pt x="1527" y="1674"/>
                      </a:lnTo>
                      <a:lnTo>
                        <a:pt x="1498" y="1686"/>
                      </a:lnTo>
                      <a:lnTo>
                        <a:pt x="1470" y="1693"/>
                      </a:lnTo>
                      <a:lnTo>
                        <a:pt x="1445" y="1696"/>
                      </a:lnTo>
                      <a:lnTo>
                        <a:pt x="1402" y="1699"/>
                      </a:lnTo>
                      <a:lnTo>
                        <a:pt x="1354" y="1700"/>
                      </a:lnTo>
                      <a:lnTo>
                        <a:pt x="1295" y="1699"/>
                      </a:lnTo>
                      <a:lnTo>
                        <a:pt x="1267" y="1699"/>
                      </a:lnTo>
                      <a:lnTo>
                        <a:pt x="1231" y="1695"/>
                      </a:lnTo>
                      <a:lnTo>
                        <a:pt x="1193" y="1689"/>
                      </a:lnTo>
                      <a:lnTo>
                        <a:pt x="1159" y="1678"/>
                      </a:lnTo>
                      <a:lnTo>
                        <a:pt x="1138" y="1668"/>
                      </a:lnTo>
                      <a:lnTo>
                        <a:pt x="1115" y="1655"/>
                      </a:lnTo>
                      <a:lnTo>
                        <a:pt x="1096" y="1643"/>
                      </a:lnTo>
                      <a:lnTo>
                        <a:pt x="1077" y="1627"/>
                      </a:lnTo>
                      <a:lnTo>
                        <a:pt x="1062" y="1612"/>
                      </a:lnTo>
                      <a:lnTo>
                        <a:pt x="1049" y="1592"/>
                      </a:lnTo>
                      <a:lnTo>
                        <a:pt x="1043" y="1572"/>
                      </a:lnTo>
                      <a:lnTo>
                        <a:pt x="1041" y="1556"/>
                      </a:lnTo>
                      <a:lnTo>
                        <a:pt x="1041" y="1534"/>
                      </a:lnTo>
                      <a:lnTo>
                        <a:pt x="1043" y="1516"/>
                      </a:lnTo>
                      <a:lnTo>
                        <a:pt x="1053" y="1497"/>
                      </a:lnTo>
                      <a:lnTo>
                        <a:pt x="1062" y="1474"/>
                      </a:lnTo>
                      <a:lnTo>
                        <a:pt x="1072" y="1452"/>
                      </a:lnTo>
                      <a:lnTo>
                        <a:pt x="1079" y="1433"/>
                      </a:lnTo>
                      <a:lnTo>
                        <a:pt x="1081" y="1415"/>
                      </a:lnTo>
                      <a:lnTo>
                        <a:pt x="1079" y="1400"/>
                      </a:lnTo>
                      <a:lnTo>
                        <a:pt x="1072" y="1386"/>
                      </a:lnTo>
                      <a:lnTo>
                        <a:pt x="1055" y="1367"/>
                      </a:lnTo>
                      <a:lnTo>
                        <a:pt x="1039" y="1355"/>
                      </a:lnTo>
                      <a:lnTo>
                        <a:pt x="1017" y="1342"/>
                      </a:lnTo>
                      <a:lnTo>
                        <a:pt x="994" y="1332"/>
                      </a:lnTo>
                      <a:lnTo>
                        <a:pt x="971" y="1323"/>
                      </a:lnTo>
                      <a:lnTo>
                        <a:pt x="937" y="1316"/>
                      </a:lnTo>
                      <a:lnTo>
                        <a:pt x="907" y="1311"/>
                      </a:lnTo>
                      <a:lnTo>
                        <a:pt x="869" y="1306"/>
                      </a:lnTo>
                      <a:lnTo>
                        <a:pt x="835" y="1303"/>
                      </a:lnTo>
                      <a:lnTo>
                        <a:pt x="804" y="1299"/>
                      </a:lnTo>
                      <a:lnTo>
                        <a:pt x="766" y="1294"/>
                      </a:lnTo>
                      <a:lnTo>
                        <a:pt x="734" y="1287"/>
                      </a:lnTo>
                      <a:lnTo>
                        <a:pt x="696" y="1280"/>
                      </a:lnTo>
                      <a:lnTo>
                        <a:pt x="666" y="1273"/>
                      </a:lnTo>
                      <a:lnTo>
                        <a:pt x="643" y="1262"/>
                      </a:lnTo>
                      <a:lnTo>
                        <a:pt x="624" y="1248"/>
                      </a:lnTo>
                      <a:lnTo>
                        <a:pt x="611" y="1230"/>
                      </a:lnTo>
                      <a:lnTo>
                        <a:pt x="601" y="1206"/>
                      </a:lnTo>
                      <a:lnTo>
                        <a:pt x="599" y="1186"/>
                      </a:lnTo>
                      <a:lnTo>
                        <a:pt x="601" y="1164"/>
                      </a:lnTo>
                      <a:lnTo>
                        <a:pt x="605" y="1148"/>
                      </a:lnTo>
                      <a:lnTo>
                        <a:pt x="601" y="1127"/>
                      </a:lnTo>
                      <a:lnTo>
                        <a:pt x="590" y="1111"/>
                      </a:lnTo>
                      <a:lnTo>
                        <a:pt x="571" y="1094"/>
                      </a:lnTo>
                      <a:lnTo>
                        <a:pt x="552" y="1084"/>
                      </a:lnTo>
                      <a:lnTo>
                        <a:pt x="529" y="1073"/>
                      </a:lnTo>
                      <a:lnTo>
                        <a:pt x="497" y="1065"/>
                      </a:lnTo>
                      <a:lnTo>
                        <a:pt x="461" y="1058"/>
                      </a:lnTo>
                      <a:lnTo>
                        <a:pt x="423" y="1056"/>
                      </a:lnTo>
                      <a:lnTo>
                        <a:pt x="391" y="1053"/>
                      </a:lnTo>
                      <a:lnTo>
                        <a:pt x="355" y="1053"/>
                      </a:lnTo>
                      <a:lnTo>
                        <a:pt x="324" y="1056"/>
                      </a:lnTo>
                      <a:lnTo>
                        <a:pt x="292" y="1057"/>
                      </a:lnTo>
                      <a:lnTo>
                        <a:pt x="260" y="1059"/>
                      </a:lnTo>
                      <a:lnTo>
                        <a:pt x="228" y="1062"/>
                      </a:lnTo>
                      <a:lnTo>
                        <a:pt x="175" y="1062"/>
                      </a:lnTo>
                      <a:lnTo>
                        <a:pt x="142" y="1061"/>
                      </a:lnTo>
                      <a:lnTo>
                        <a:pt x="106" y="1056"/>
                      </a:lnTo>
                      <a:lnTo>
                        <a:pt x="80" y="1048"/>
                      </a:lnTo>
                      <a:lnTo>
                        <a:pt x="53" y="1036"/>
                      </a:lnTo>
                      <a:lnTo>
                        <a:pt x="34" y="1023"/>
                      </a:lnTo>
                      <a:lnTo>
                        <a:pt x="21" y="1009"/>
                      </a:lnTo>
                      <a:lnTo>
                        <a:pt x="6" y="981"/>
                      </a:lnTo>
                      <a:lnTo>
                        <a:pt x="4" y="952"/>
                      </a:lnTo>
                      <a:lnTo>
                        <a:pt x="2" y="923"/>
                      </a:lnTo>
                      <a:lnTo>
                        <a:pt x="0" y="887"/>
                      </a:lnTo>
                      <a:lnTo>
                        <a:pt x="4" y="855"/>
                      </a:lnTo>
                      <a:lnTo>
                        <a:pt x="6" y="821"/>
                      </a:lnTo>
                      <a:lnTo>
                        <a:pt x="8" y="791"/>
                      </a:lnTo>
                      <a:lnTo>
                        <a:pt x="13" y="760"/>
                      </a:lnTo>
                      <a:lnTo>
                        <a:pt x="19" y="736"/>
                      </a:lnTo>
                      <a:lnTo>
                        <a:pt x="25" y="709"/>
                      </a:lnTo>
                      <a:lnTo>
                        <a:pt x="34" y="688"/>
                      </a:lnTo>
                      <a:lnTo>
                        <a:pt x="46" y="675"/>
                      </a:lnTo>
                      <a:lnTo>
                        <a:pt x="65" y="662"/>
                      </a:lnTo>
                      <a:lnTo>
                        <a:pt x="84" y="653"/>
                      </a:lnTo>
                      <a:lnTo>
                        <a:pt x="110" y="644"/>
                      </a:lnTo>
                      <a:lnTo>
                        <a:pt x="133" y="641"/>
                      </a:lnTo>
                      <a:lnTo>
                        <a:pt x="163" y="638"/>
                      </a:lnTo>
                      <a:lnTo>
                        <a:pt x="201" y="636"/>
                      </a:lnTo>
                      <a:lnTo>
                        <a:pt x="235" y="638"/>
                      </a:lnTo>
                      <a:lnTo>
                        <a:pt x="281" y="641"/>
                      </a:lnTo>
                      <a:lnTo>
                        <a:pt x="321" y="642"/>
                      </a:lnTo>
                      <a:lnTo>
                        <a:pt x="355" y="644"/>
                      </a:lnTo>
                      <a:lnTo>
                        <a:pt x="402" y="645"/>
                      </a:lnTo>
                      <a:lnTo>
                        <a:pt x="450" y="641"/>
                      </a:lnTo>
                      <a:lnTo>
                        <a:pt x="491" y="636"/>
                      </a:lnTo>
                      <a:lnTo>
                        <a:pt x="529" y="628"/>
                      </a:lnTo>
                      <a:lnTo>
                        <a:pt x="554" y="620"/>
                      </a:lnTo>
                      <a:lnTo>
                        <a:pt x="580" y="606"/>
                      </a:lnTo>
                      <a:lnTo>
                        <a:pt x="599" y="589"/>
                      </a:lnTo>
                      <a:lnTo>
                        <a:pt x="611" y="572"/>
                      </a:lnTo>
                      <a:lnTo>
                        <a:pt x="615" y="554"/>
                      </a:lnTo>
                      <a:lnTo>
                        <a:pt x="613" y="541"/>
                      </a:lnTo>
                      <a:lnTo>
                        <a:pt x="611" y="516"/>
                      </a:lnTo>
                      <a:lnTo>
                        <a:pt x="613" y="490"/>
                      </a:lnTo>
                      <a:lnTo>
                        <a:pt x="622" y="471"/>
                      </a:lnTo>
                      <a:lnTo>
                        <a:pt x="632" y="453"/>
                      </a:lnTo>
                      <a:lnTo>
                        <a:pt x="647" y="439"/>
                      </a:lnTo>
                      <a:lnTo>
                        <a:pt x="677" y="426"/>
                      </a:lnTo>
                      <a:lnTo>
                        <a:pt x="709" y="417"/>
                      </a:lnTo>
                      <a:lnTo>
                        <a:pt x="749" y="409"/>
                      </a:lnTo>
                      <a:lnTo>
                        <a:pt x="789" y="403"/>
                      </a:lnTo>
                      <a:lnTo>
                        <a:pt x="823" y="398"/>
                      </a:lnTo>
                      <a:lnTo>
                        <a:pt x="865" y="395"/>
                      </a:lnTo>
                      <a:lnTo>
                        <a:pt x="905" y="390"/>
                      </a:lnTo>
                      <a:lnTo>
                        <a:pt x="952" y="383"/>
                      </a:lnTo>
                      <a:lnTo>
                        <a:pt x="996" y="372"/>
                      </a:lnTo>
                      <a:lnTo>
                        <a:pt x="1034" y="3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006720" y="4579920"/>
                  <a:ext cx="32767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S9 : Activités pratiqu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464000" y="4794480"/>
                <a:ext cx="3889440" cy="1803240"/>
                <a:chOff x="4464000" y="4794480"/>
                <a:chExt cx="3889440" cy="18032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464000" y="4794480"/>
                  <a:ext cx="3889440" cy="1803240"/>
                </a:xfrm>
                <a:custGeom>
                  <a:avLst/>
                  <a:gdLst/>
                  <a:ahLst/>
                  <a:rect l="l" t="t" r="r" b="b"/>
                  <a:pathLst>
                    <a:path w="2450" h="1136">
                      <a:moveTo>
                        <a:pt x="0" y="898"/>
                      </a:moveTo>
                      <a:lnTo>
                        <a:pt x="0" y="1136"/>
                      </a:lnTo>
                      <a:lnTo>
                        <a:pt x="2450" y="1136"/>
                      </a:lnTo>
                      <a:lnTo>
                        <a:pt x="2448" y="0"/>
                      </a:lnTo>
                      <a:lnTo>
                        <a:pt x="2230" y="0"/>
                      </a:lnTo>
                      <a:lnTo>
                        <a:pt x="2219" y="22"/>
                      </a:lnTo>
                      <a:lnTo>
                        <a:pt x="2219" y="37"/>
                      </a:lnTo>
                      <a:lnTo>
                        <a:pt x="2226" y="59"/>
                      </a:lnTo>
                      <a:lnTo>
                        <a:pt x="2238" y="82"/>
                      </a:lnTo>
                      <a:lnTo>
                        <a:pt x="2251" y="110"/>
                      </a:lnTo>
                      <a:lnTo>
                        <a:pt x="2257" y="131"/>
                      </a:lnTo>
                      <a:lnTo>
                        <a:pt x="2257" y="151"/>
                      </a:lnTo>
                      <a:lnTo>
                        <a:pt x="2253" y="173"/>
                      </a:lnTo>
                      <a:lnTo>
                        <a:pt x="2242" y="193"/>
                      </a:lnTo>
                      <a:lnTo>
                        <a:pt x="2219" y="212"/>
                      </a:lnTo>
                      <a:lnTo>
                        <a:pt x="2192" y="229"/>
                      </a:lnTo>
                      <a:lnTo>
                        <a:pt x="2162" y="245"/>
                      </a:lnTo>
                      <a:lnTo>
                        <a:pt x="2128" y="256"/>
                      </a:lnTo>
                      <a:lnTo>
                        <a:pt x="2088" y="264"/>
                      </a:lnTo>
                      <a:lnTo>
                        <a:pt x="2052" y="269"/>
                      </a:lnTo>
                      <a:lnTo>
                        <a:pt x="2001" y="270"/>
                      </a:lnTo>
                      <a:lnTo>
                        <a:pt x="1942" y="268"/>
                      </a:lnTo>
                      <a:lnTo>
                        <a:pt x="1904" y="264"/>
                      </a:lnTo>
                      <a:lnTo>
                        <a:pt x="1870" y="260"/>
                      </a:lnTo>
                      <a:lnTo>
                        <a:pt x="1838" y="249"/>
                      </a:lnTo>
                      <a:lnTo>
                        <a:pt x="1798" y="231"/>
                      </a:lnTo>
                      <a:lnTo>
                        <a:pt x="1773" y="214"/>
                      </a:lnTo>
                      <a:lnTo>
                        <a:pt x="1750" y="196"/>
                      </a:lnTo>
                      <a:lnTo>
                        <a:pt x="1737" y="176"/>
                      </a:lnTo>
                      <a:lnTo>
                        <a:pt x="1728" y="158"/>
                      </a:lnTo>
                      <a:lnTo>
                        <a:pt x="1728" y="138"/>
                      </a:lnTo>
                      <a:lnTo>
                        <a:pt x="1733" y="117"/>
                      </a:lnTo>
                      <a:lnTo>
                        <a:pt x="1741" y="98"/>
                      </a:lnTo>
                      <a:lnTo>
                        <a:pt x="1750" y="80"/>
                      </a:lnTo>
                      <a:lnTo>
                        <a:pt x="1760" y="60"/>
                      </a:lnTo>
                      <a:lnTo>
                        <a:pt x="1766" y="41"/>
                      </a:lnTo>
                      <a:lnTo>
                        <a:pt x="1766" y="24"/>
                      </a:lnTo>
                      <a:lnTo>
                        <a:pt x="1758" y="5"/>
                      </a:lnTo>
                      <a:lnTo>
                        <a:pt x="1348" y="5"/>
                      </a:lnTo>
                      <a:lnTo>
                        <a:pt x="1352" y="44"/>
                      </a:lnTo>
                      <a:lnTo>
                        <a:pt x="1348" y="72"/>
                      </a:lnTo>
                      <a:lnTo>
                        <a:pt x="1345" y="95"/>
                      </a:lnTo>
                      <a:lnTo>
                        <a:pt x="1345" y="116"/>
                      </a:lnTo>
                      <a:lnTo>
                        <a:pt x="1341" y="138"/>
                      </a:lnTo>
                      <a:lnTo>
                        <a:pt x="1333" y="159"/>
                      </a:lnTo>
                      <a:lnTo>
                        <a:pt x="1322" y="174"/>
                      </a:lnTo>
                      <a:lnTo>
                        <a:pt x="1307" y="187"/>
                      </a:lnTo>
                      <a:lnTo>
                        <a:pt x="1286" y="198"/>
                      </a:lnTo>
                      <a:lnTo>
                        <a:pt x="1263" y="206"/>
                      </a:lnTo>
                      <a:lnTo>
                        <a:pt x="1235" y="211"/>
                      </a:lnTo>
                      <a:lnTo>
                        <a:pt x="1206" y="214"/>
                      </a:lnTo>
                      <a:lnTo>
                        <a:pt x="1178" y="215"/>
                      </a:lnTo>
                      <a:lnTo>
                        <a:pt x="1142" y="215"/>
                      </a:lnTo>
                      <a:lnTo>
                        <a:pt x="1109" y="212"/>
                      </a:lnTo>
                      <a:lnTo>
                        <a:pt x="1081" y="211"/>
                      </a:lnTo>
                      <a:lnTo>
                        <a:pt x="1045" y="210"/>
                      </a:lnTo>
                      <a:lnTo>
                        <a:pt x="1007" y="208"/>
                      </a:lnTo>
                      <a:lnTo>
                        <a:pt x="965" y="208"/>
                      </a:lnTo>
                      <a:lnTo>
                        <a:pt x="929" y="210"/>
                      </a:lnTo>
                      <a:lnTo>
                        <a:pt x="893" y="212"/>
                      </a:lnTo>
                      <a:lnTo>
                        <a:pt x="855" y="218"/>
                      </a:lnTo>
                      <a:lnTo>
                        <a:pt x="827" y="227"/>
                      </a:lnTo>
                      <a:lnTo>
                        <a:pt x="798" y="238"/>
                      </a:lnTo>
                      <a:lnTo>
                        <a:pt x="779" y="252"/>
                      </a:lnTo>
                      <a:lnTo>
                        <a:pt x="759" y="268"/>
                      </a:lnTo>
                      <a:lnTo>
                        <a:pt x="751" y="284"/>
                      </a:lnTo>
                      <a:lnTo>
                        <a:pt x="747" y="302"/>
                      </a:lnTo>
                      <a:lnTo>
                        <a:pt x="751" y="320"/>
                      </a:lnTo>
                      <a:lnTo>
                        <a:pt x="753" y="339"/>
                      </a:lnTo>
                      <a:lnTo>
                        <a:pt x="751" y="360"/>
                      </a:lnTo>
                      <a:lnTo>
                        <a:pt x="745" y="376"/>
                      </a:lnTo>
                      <a:lnTo>
                        <a:pt x="736" y="392"/>
                      </a:lnTo>
                      <a:lnTo>
                        <a:pt x="724" y="408"/>
                      </a:lnTo>
                      <a:lnTo>
                        <a:pt x="707" y="419"/>
                      </a:lnTo>
                      <a:lnTo>
                        <a:pt x="679" y="430"/>
                      </a:lnTo>
                      <a:lnTo>
                        <a:pt x="645" y="437"/>
                      </a:lnTo>
                      <a:lnTo>
                        <a:pt x="611" y="443"/>
                      </a:lnTo>
                      <a:lnTo>
                        <a:pt x="580" y="448"/>
                      </a:lnTo>
                      <a:lnTo>
                        <a:pt x="546" y="453"/>
                      </a:lnTo>
                      <a:lnTo>
                        <a:pt x="501" y="458"/>
                      </a:lnTo>
                      <a:lnTo>
                        <a:pt x="468" y="461"/>
                      </a:lnTo>
                      <a:lnTo>
                        <a:pt x="432" y="467"/>
                      </a:lnTo>
                      <a:lnTo>
                        <a:pt x="402" y="473"/>
                      </a:lnTo>
                      <a:lnTo>
                        <a:pt x="372" y="481"/>
                      </a:lnTo>
                      <a:lnTo>
                        <a:pt x="349" y="490"/>
                      </a:lnTo>
                      <a:lnTo>
                        <a:pt x="328" y="500"/>
                      </a:lnTo>
                      <a:lnTo>
                        <a:pt x="305" y="516"/>
                      </a:lnTo>
                      <a:lnTo>
                        <a:pt x="290" y="530"/>
                      </a:lnTo>
                      <a:lnTo>
                        <a:pt x="277" y="547"/>
                      </a:lnTo>
                      <a:lnTo>
                        <a:pt x="271" y="568"/>
                      </a:lnTo>
                      <a:lnTo>
                        <a:pt x="275" y="587"/>
                      </a:lnTo>
                      <a:lnTo>
                        <a:pt x="279" y="606"/>
                      </a:lnTo>
                      <a:lnTo>
                        <a:pt x="290" y="629"/>
                      </a:lnTo>
                      <a:lnTo>
                        <a:pt x="300" y="655"/>
                      </a:lnTo>
                      <a:lnTo>
                        <a:pt x="309" y="678"/>
                      </a:lnTo>
                      <a:lnTo>
                        <a:pt x="313" y="696"/>
                      </a:lnTo>
                      <a:lnTo>
                        <a:pt x="313" y="713"/>
                      </a:lnTo>
                      <a:lnTo>
                        <a:pt x="309" y="736"/>
                      </a:lnTo>
                      <a:lnTo>
                        <a:pt x="298" y="755"/>
                      </a:lnTo>
                      <a:lnTo>
                        <a:pt x="290" y="772"/>
                      </a:lnTo>
                      <a:lnTo>
                        <a:pt x="277" y="788"/>
                      </a:lnTo>
                      <a:lnTo>
                        <a:pt x="260" y="808"/>
                      </a:lnTo>
                      <a:lnTo>
                        <a:pt x="237" y="831"/>
                      </a:lnTo>
                      <a:lnTo>
                        <a:pt x="212" y="848"/>
                      </a:lnTo>
                      <a:lnTo>
                        <a:pt x="186" y="861"/>
                      </a:lnTo>
                      <a:lnTo>
                        <a:pt x="163" y="873"/>
                      </a:lnTo>
                      <a:lnTo>
                        <a:pt x="138" y="883"/>
                      </a:lnTo>
                      <a:lnTo>
                        <a:pt x="112" y="889"/>
                      </a:lnTo>
                      <a:lnTo>
                        <a:pt x="76" y="894"/>
                      </a:lnTo>
                      <a:lnTo>
                        <a:pt x="36" y="898"/>
                      </a:lnTo>
                      <a:lnTo>
                        <a:pt x="0" y="8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lin ang="13500000"/>
                </a:gra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468760" y="5759640"/>
                  <a:ext cx="24624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S7 : Génie électriqu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481640" y="3076560"/>
                <a:ext cx="3871800" cy="2152800"/>
                <a:chOff x="4481640" y="3076560"/>
                <a:chExt cx="3871800" cy="21528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481640" y="3076560"/>
                  <a:ext cx="3871800" cy="2152800"/>
                </a:xfrm>
                <a:custGeom>
                  <a:avLst/>
                  <a:gdLst/>
                  <a:ahLst/>
                  <a:rect l="l" t="t" r="r" b="b"/>
                  <a:pathLst>
                    <a:path w="2439" h="1356">
                      <a:moveTo>
                        <a:pt x="0" y="283"/>
                      </a:moveTo>
                      <a:lnTo>
                        <a:pt x="0" y="0"/>
                      </a:lnTo>
                      <a:lnTo>
                        <a:pt x="2437" y="0"/>
                      </a:lnTo>
                      <a:lnTo>
                        <a:pt x="2439" y="1083"/>
                      </a:lnTo>
                      <a:lnTo>
                        <a:pt x="2227" y="1083"/>
                      </a:lnTo>
                      <a:lnTo>
                        <a:pt x="2219" y="1093"/>
                      </a:lnTo>
                      <a:lnTo>
                        <a:pt x="2212" y="1106"/>
                      </a:lnTo>
                      <a:lnTo>
                        <a:pt x="2212" y="1117"/>
                      </a:lnTo>
                      <a:lnTo>
                        <a:pt x="2215" y="1130"/>
                      </a:lnTo>
                      <a:lnTo>
                        <a:pt x="2223" y="1147"/>
                      </a:lnTo>
                      <a:lnTo>
                        <a:pt x="2231" y="1169"/>
                      </a:lnTo>
                      <a:lnTo>
                        <a:pt x="2240" y="1183"/>
                      </a:lnTo>
                      <a:lnTo>
                        <a:pt x="2246" y="1201"/>
                      </a:lnTo>
                      <a:lnTo>
                        <a:pt x="2251" y="1218"/>
                      </a:lnTo>
                      <a:lnTo>
                        <a:pt x="2251" y="1235"/>
                      </a:lnTo>
                      <a:lnTo>
                        <a:pt x="2246" y="1251"/>
                      </a:lnTo>
                      <a:lnTo>
                        <a:pt x="2240" y="1268"/>
                      </a:lnTo>
                      <a:lnTo>
                        <a:pt x="2229" y="1284"/>
                      </a:lnTo>
                      <a:lnTo>
                        <a:pt x="2212" y="1296"/>
                      </a:lnTo>
                      <a:lnTo>
                        <a:pt x="2189" y="1310"/>
                      </a:lnTo>
                      <a:lnTo>
                        <a:pt x="2166" y="1321"/>
                      </a:lnTo>
                      <a:lnTo>
                        <a:pt x="2145" y="1332"/>
                      </a:lnTo>
                      <a:lnTo>
                        <a:pt x="2119" y="1340"/>
                      </a:lnTo>
                      <a:lnTo>
                        <a:pt x="2090" y="1346"/>
                      </a:lnTo>
                      <a:lnTo>
                        <a:pt x="2054" y="1352"/>
                      </a:lnTo>
                      <a:lnTo>
                        <a:pt x="2020" y="1355"/>
                      </a:lnTo>
                      <a:lnTo>
                        <a:pt x="1990" y="1356"/>
                      </a:lnTo>
                      <a:lnTo>
                        <a:pt x="1959" y="1356"/>
                      </a:lnTo>
                      <a:lnTo>
                        <a:pt x="1929" y="1355"/>
                      </a:lnTo>
                      <a:lnTo>
                        <a:pt x="1906" y="1352"/>
                      </a:lnTo>
                      <a:lnTo>
                        <a:pt x="1878" y="1348"/>
                      </a:lnTo>
                      <a:lnTo>
                        <a:pt x="1851" y="1343"/>
                      </a:lnTo>
                      <a:lnTo>
                        <a:pt x="1830" y="1336"/>
                      </a:lnTo>
                      <a:lnTo>
                        <a:pt x="1806" y="1326"/>
                      </a:lnTo>
                      <a:lnTo>
                        <a:pt x="1785" y="1314"/>
                      </a:lnTo>
                      <a:lnTo>
                        <a:pt x="1764" y="1300"/>
                      </a:lnTo>
                      <a:lnTo>
                        <a:pt x="1745" y="1287"/>
                      </a:lnTo>
                      <a:lnTo>
                        <a:pt x="1730" y="1273"/>
                      </a:lnTo>
                      <a:lnTo>
                        <a:pt x="1720" y="1255"/>
                      </a:lnTo>
                      <a:lnTo>
                        <a:pt x="1711" y="1234"/>
                      </a:lnTo>
                      <a:lnTo>
                        <a:pt x="1711" y="1215"/>
                      </a:lnTo>
                      <a:lnTo>
                        <a:pt x="1720" y="1195"/>
                      </a:lnTo>
                      <a:lnTo>
                        <a:pt x="1728" y="1176"/>
                      </a:lnTo>
                      <a:lnTo>
                        <a:pt x="1736" y="1157"/>
                      </a:lnTo>
                      <a:lnTo>
                        <a:pt x="1747" y="1135"/>
                      </a:lnTo>
                      <a:lnTo>
                        <a:pt x="1751" y="1118"/>
                      </a:lnTo>
                      <a:lnTo>
                        <a:pt x="1751" y="1108"/>
                      </a:lnTo>
                      <a:lnTo>
                        <a:pt x="1749" y="1100"/>
                      </a:lnTo>
                      <a:lnTo>
                        <a:pt x="1743" y="1090"/>
                      </a:lnTo>
                      <a:lnTo>
                        <a:pt x="1337" y="1090"/>
                      </a:lnTo>
                      <a:lnTo>
                        <a:pt x="1343" y="1049"/>
                      </a:lnTo>
                      <a:lnTo>
                        <a:pt x="1341" y="1026"/>
                      </a:lnTo>
                      <a:lnTo>
                        <a:pt x="1337" y="1004"/>
                      </a:lnTo>
                      <a:lnTo>
                        <a:pt x="1332" y="984"/>
                      </a:lnTo>
                      <a:lnTo>
                        <a:pt x="1326" y="971"/>
                      </a:lnTo>
                      <a:lnTo>
                        <a:pt x="1315" y="959"/>
                      </a:lnTo>
                      <a:lnTo>
                        <a:pt x="1303" y="948"/>
                      </a:lnTo>
                      <a:lnTo>
                        <a:pt x="1282" y="938"/>
                      </a:lnTo>
                      <a:lnTo>
                        <a:pt x="1258" y="930"/>
                      </a:lnTo>
                      <a:lnTo>
                        <a:pt x="1235" y="925"/>
                      </a:lnTo>
                      <a:lnTo>
                        <a:pt x="1214" y="922"/>
                      </a:lnTo>
                      <a:lnTo>
                        <a:pt x="1178" y="921"/>
                      </a:lnTo>
                      <a:lnTo>
                        <a:pt x="1136" y="921"/>
                      </a:lnTo>
                      <a:lnTo>
                        <a:pt x="1095" y="923"/>
                      </a:lnTo>
                      <a:lnTo>
                        <a:pt x="1051" y="925"/>
                      </a:lnTo>
                      <a:lnTo>
                        <a:pt x="1017" y="927"/>
                      </a:lnTo>
                      <a:lnTo>
                        <a:pt x="973" y="928"/>
                      </a:lnTo>
                      <a:lnTo>
                        <a:pt x="937" y="927"/>
                      </a:lnTo>
                      <a:lnTo>
                        <a:pt x="905" y="925"/>
                      </a:lnTo>
                      <a:lnTo>
                        <a:pt x="856" y="919"/>
                      </a:lnTo>
                      <a:lnTo>
                        <a:pt x="825" y="910"/>
                      </a:lnTo>
                      <a:lnTo>
                        <a:pt x="795" y="898"/>
                      </a:lnTo>
                      <a:lnTo>
                        <a:pt x="776" y="885"/>
                      </a:lnTo>
                      <a:lnTo>
                        <a:pt x="759" y="870"/>
                      </a:lnTo>
                      <a:lnTo>
                        <a:pt x="746" y="852"/>
                      </a:lnTo>
                      <a:lnTo>
                        <a:pt x="744" y="833"/>
                      </a:lnTo>
                      <a:lnTo>
                        <a:pt x="744" y="809"/>
                      </a:lnTo>
                      <a:lnTo>
                        <a:pt x="746" y="791"/>
                      </a:lnTo>
                      <a:lnTo>
                        <a:pt x="744" y="772"/>
                      </a:lnTo>
                      <a:lnTo>
                        <a:pt x="736" y="752"/>
                      </a:lnTo>
                      <a:lnTo>
                        <a:pt x="729" y="740"/>
                      </a:lnTo>
                      <a:lnTo>
                        <a:pt x="719" y="728"/>
                      </a:lnTo>
                      <a:lnTo>
                        <a:pt x="706" y="719"/>
                      </a:lnTo>
                      <a:lnTo>
                        <a:pt x="693" y="712"/>
                      </a:lnTo>
                      <a:lnTo>
                        <a:pt x="666" y="705"/>
                      </a:lnTo>
                      <a:lnTo>
                        <a:pt x="634" y="696"/>
                      </a:lnTo>
                      <a:lnTo>
                        <a:pt x="598" y="690"/>
                      </a:lnTo>
                      <a:lnTo>
                        <a:pt x="556" y="684"/>
                      </a:lnTo>
                      <a:lnTo>
                        <a:pt x="514" y="679"/>
                      </a:lnTo>
                      <a:lnTo>
                        <a:pt x="469" y="676"/>
                      </a:lnTo>
                      <a:lnTo>
                        <a:pt x="438" y="670"/>
                      </a:lnTo>
                      <a:lnTo>
                        <a:pt x="404" y="664"/>
                      </a:lnTo>
                      <a:lnTo>
                        <a:pt x="370" y="656"/>
                      </a:lnTo>
                      <a:lnTo>
                        <a:pt x="347" y="646"/>
                      </a:lnTo>
                      <a:lnTo>
                        <a:pt x="319" y="632"/>
                      </a:lnTo>
                      <a:lnTo>
                        <a:pt x="300" y="620"/>
                      </a:lnTo>
                      <a:lnTo>
                        <a:pt x="283" y="606"/>
                      </a:lnTo>
                      <a:lnTo>
                        <a:pt x="270" y="589"/>
                      </a:lnTo>
                      <a:lnTo>
                        <a:pt x="266" y="571"/>
                      </a:lnTo>
                      <a:lnTo>
                        <a:pt x="266" y="554"/>
                      </a:lnTo>
                      <a:lnTo>
                        <a:pt x="272" y="538"/>
                      </a:lnTo>
                      <a:lnTo>
                        <a:pt x="283" y="515"/>
                      </a:lnTo>
                      <a:lnTo>
                        <a:pt x="294" y="492"/>
                      </a:lnTo>
                      <a:lnTo>
                        <a:pt x="298" y="472"/>
                      </a:lnTo>
                      <a:lnTo>
                        <a:pt x="306" y="451"/>
                      </a:lnTo>
                      <a:lnTo>
                        <a:pt x="311" y="430"/>
                      </a:lnTo>
                      <a:lnTo>
                        <a:pt x="306" y="409"/>
                      </a:lnTo>
                      <a:lnTo>
                        <a:pt x="298" y="389"/>
                      </a:lnTo>
                      <a:lnTo>
                        <a:pt x="285" y="370"/>
                      </a:lnTo>
                      <a:lnTo>
                        <a:pt x="268" y="352"/>
                      </a:lnTo>
                      <a:lnTo>
                        <a:pt x="249" y="337"/>
                      </a:lnTo>
                      <a:lnTo>
                        <a:pt x="239" y="329"/>
                      </a:lnTo>
                      <a:lnTo>
                        <a:pt x="220" y="318"/>
                      </a:lnTo>
                      <a:lnTo>
                        <a:pt x="201" y="308"/>
                      </a:lnTo>
                      <a:lnTo>
                        <a:pt x="182" y="301"/>
                      </a:lnTo>
                      <a:lnTo>
                        <a:pt x="156" y="294"/>
                      </a:lnTo>
                      <a:lnTo>
                        <a:pt x="131" y="289"/>
                      </a:lnTo>
                      <a:lnTo>
                        <a:pt x="99" y="284"/>
                      </a:lnTo>
                      <a:lnTo>
                        <a:pt x="63" y="283"/>
                      </a:lnTo>
                      <a:lnTo>
                        <a:pt x="31" y="283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ff"/>
                    </a:gs>
                  </a:gsLst>
                  <a:lin ang="8100000"/>
                </a:gra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826240" y="3549600"/>
                  <a:ext cx="213336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S6 : Automatiqu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92200" y="4445280"/>
                <a:ext cx="3871800" cy="2152440"/>
                <a:chOff x="592200" y="4445280"/>
                <a:chExt cx="3871800" cy="2152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92200" y="4445280"/>
                  <a:ext cx="3871800" cy="2152440"/>
                </a:xfrm>
                <a:custGeom>
                  <a:avLst/>
                  <a:gdLst/>
                  <a:ahLst/>
                  <a:rect l="l" t="t" r="r" b="b"/>
                  <a:pathLst>
                    <a:path w="2439" h="1356">
                      <a:moveTo>
                        <a:pt x="2439" y="1116"/>
                      </a:moveTo>
                      <a:lnTo>
                        <a:pt x="2439" y="1356"/>
                      </a:lnTo>
                      <a:lnTo>
                        <a:pt x="2" y="1356"/>
                      </a:lnTo>
                      <a:lnTo>
                        <a:pt x="0" y="273"/>
                      </a:lnTo>
                      <a:lnTo>
                        <a:pt x="211" y="273"/>
                      </a:lnTo>
                      <a:lnTo>
                        <a:pt x="220" y="263"/>
                      </a:lnTo>
                      <a:lnTo>
                        <a:pt x="226" y="250"/>
                      </a:lnTo>
                      <a:lnTo>
                        <a:pt x="226" y="239"/>
                      </a:lnTo>
                      <a:lnTo>
                        <a:pt x="224" y="226"/>
                      </a:lnTo>
                      <a:lnTo>
                        <a:pt x="216" y="209"/>
                      </a:lnTo>
                      <a:lnTo>
                        <a:pt x="207" y="187"/>
                      </a:lnTo>
                      <a:lnTo>
                        <a:pt x="199" y="173"/>
                      </a:lnTo>
                      <a:lnTo>
                        <a:pt x="190" y="155"/>
                      </a:lnTo>
                      <a:lnTo>
                        <a:pt x="188" y="138"/>
                      </a:lnTo>
                      <a:lnTo>
                        <a:pt x="188" y="121"/>
                      </a:lnTo>
                      <a:lnTo>
                        <a:pt x="190" y="105"/>
                      </a:lnTo>
                      <a:lnTo>
                        <a:pt x="199" y="88"/>
                      </a:lnTo>
                      <a:lnTo>
                        <a:pt x="209" y="72"/>
                      </a:lnTo>
                      <a:lnTo>
                        <a:pt x="226" y="60"/>
                      </a:lnTo>
                      <a:lnTo>
                        <a:pt x="249" y="46"/>
                      </a:lnTo>
                      <a:lnTo>
                        <a:pt x="271" y="35"/>
                      </a:lnTo>
                      <a:lnTo>
                        <a:pt x="294" y="24"/>
                      </a:lnTo>
                      <a:lnTo>
                        <a:pt x="319" y="16"/>
                      </a:lnTo>
                      <a:lnTo>
                        <a:pt x="349" y="8"/>
                      </a:lnTo>
                      <a:lnTo>
                        <a:pt x="383" y="3"/>
                      </a:lnTo>
                      <a:lnTo>
                        <a:pt x="419" y="1"/>
                      </a:lnTo>
                      <a:lnTo>
                        <a:pt x="448" y="0"/>
                      </a:lnTo>
                      <a:lnTo>
                        <a:pt x="480" y="0"/>
                      </a:lnTo>
                      <a:lnTo>
                        <a:pt x="510" y="1"/>
                      </a:lnTo>
                      <a:lnTo>
                        <a:pt x="533" y="3"/>
                      </a:lnTo>
                      <a:lnTo>
                        <a:pt x="560" y="8"/>
                      </a:lnTo>
                      <a:lnTo>
                        <a:pt x="588" y="13"/>
                      </a:lnTo>
                      <a:lnTo>
                        <a:pt x="609" y="20"/>
                      </a:lnTo>
                      <a:lnTo>
                        <a:pt x="632" y="30"/>
                      </a:lnTo>
                      <a:lnTo>
                        <a:pt x="654" y="42"/>
                      </a:lnTo>
                      <a:lnTo>
                        <a:pt x="675" y="55"/>
                      </a:lnTo>
                      <a:lnTo>
                        <a:pt x="694" y="69"/>
                      </a:lnTo>
                      <a:lnTo>
                        <a:pt x="709" y="83"/>
                      </a:lnTo>
                      <a:lnTo>
                        <a:pt x="719" y="101"/>
                      </a:lnTo>
                      <a:lnTo>
                        <a:pt x="728" y="122"/>
                      </a:lnTo>
                      <a:lnTo>
                        <a:pt x="728" y="141"/>
                      </a:lnTo>
                      <a:lnTo>
                        <a:pt x="719" y="161"/>
                      </a:lnTo>
                      <a:lnTo>
                        <a:pt x="711" y="180"/>
                      </a:lnTo>
                      <a:lnTo>
                        <a:pt x="702" y="199"/>
                      </a:lnTo>
                      <a:lnTo>
                        <a:pt x="692" y="221"/>
                      </a:lnTo>
                      <a:lnTo>
                        <a:pt x="685" y="238"/>
                      </a:lnTo>
                      <a:lnTo>
                        <a:pt x="685" y="248"/>
                      </a:lnTo>
                      <a:lnTo>
                        <a:pt x="689" y="256"/>
                      </a:lnTo>
                      <a:lnTo>
                        <a:pt x="696" y="266"/>
                      </a:lnTo>
                      <a:lnTo>
                        <a:pt x="1100" y="266"/>
                      </a:lnTo>
                      <a:lnTo>
                        <a:pt x="1091" y="310"/>
                      </a:lnTo>
                      <a:lnTo>
                        <a:pt x="1089" y="337"/>
                      </a:lnTo>
                      <a:lnTo>
                        <a:pt x="1091" y="359"/>
                      </a:lnTo>
                      <a:lnTo>
                        <a:pt x="1094" y="379"/>
                      </a:lnTo>
                      <a:lnTo>
                        <a:pt x="1098" y="401"/>
                      </a:lnTo>
                      <a:lnTo>
                        <a:pt x="1104" y="423"/>
                      </a:lnTo>
                      <a:lnTo>
                        <a:pt x="1117" y="437"/>
                      </a:lnTo>
                      <a:lnTo>
                        <a:pt x="1132" y="449"/>
                      </a:lnTo>
                      <a:lnTo>
                        <a:pt x="1151" y="460"/>
                      </a:lnTo>
                      <a:lnTo>
                        <a:pt x="1176" y="469"/>
                      </a:lnTo>
                      <a:lnTo>
                        <a:pt x="1204" y="475"/>
                      </a:lnTo>
                      <a:lnTo>
                        <a:pt x="1231" y="477"/>
                      </a:lnTo>
                      <a:lnTo>
                        <a:pt x="1261" y="478"/>
                      </a:lnTo>
                      <a:lnTo>
                        <a:pt x="1295" y="478"/>
                      </a:lnTo>
                      <a:lnTo>
                        <a:pt x="1330" y="476"/>
                      </a:lnTo>
                      <a:lnTo>
                        <a:pt x="1356" y="475"/>
                      </a:lnTo>
                      <a:lnTo>
                        <a:pt x="1394" y="472"/>
                      </a:lnTo>
                      <a:lnTo>
                        <a:pt x="1432" y="470"/>
                      </a:lnTo>
                      <a:lnTo>
                        <a:pt x="1474" y="470"/>
                      </a:lnTo>
                      <a:lnTo>
                        <a:pt x="1510" y="472"/>
                      </a:lnTo>
                      <a:lnTo>
                        <a:pt x="1546" y="476"/>
                      </a:lnTo>
                      <a:lnTo>
                        <a:pt x="1582" y="483"/>
                      </a:lnTo>
                      <a:lnTo>
                        <a:pt x="1612" y="490"/>
                      </a:lnTo>
                      <a:lnTo>
                        <a:pt x="1641" y="503"/>
                      </a:lnTo>
                      <a:lnTo>
                        <a:pt x="1661" y="516"/>
                      </a:lnTo>
                      <a:lnTo>
                        <a:pt x="1677" y="532"/>
                      </a:lnTo>
                      <a:lnTo>
                        <a:pt x="1688" y="548"/>
                      </a:lnTo>
                      <a:lnTo>
                        <a:pt x="1692" y="565"/>
                      </a:lnTo>
                      <a:lnTo>
                        <a:pt x="1688" y="585"/>
                      </a:lnTo>
                      <a:lnTo>
                        <a:pt x="1686" y="604"/>
                      </a:lnTo>
                      <a:lnTo>
                        <a:pt x="1688" y="623"/>
                      </a:lnTo>
                      <a:lnTo>
                        <a:pt x="1692" y="640"/>
                      </a:lnTo>
                      <a:lnTo>
                        <a:pt x="1703" y="656"/>
                      </a:lnTo>
                      <a:lnTo>
                        <a:pt x="1716" y="672"/>
                      </a:lnTo>
                      <a:lnTo>
                        <a:pt x="1732" y="683"/>
                      </a:lnTo>
                      <a:lnTo>
                        <a:pt x="1758" y="693"/>
                      </a:lnTo>
                      <a:lnTo>
                        <a:pt x="1792" y="701"/>
                      </a:lnTo>
                      <a:lnTo>
                        <a:pt x="1828" y="707"/>
                      </a:lnTo>
                      <a:lnTo>
                        <a:pt x="1857" y="712"/>
                      </a:lnTo>
                      <a:lnTo>
                        <a:pt x="1893" y="716"/>
                      </a:lnTo>
                      <a:lnTo>
                        <a:pt x="1936" y="721"/>
                      </a:lnTo>
                      <a:lnTo>
                        <a:pt x="1971" y="725"/>
                      </a:lnTo>
                      <a:lnTo>
                        <a:pt x="2007" y="731"/>
                      </a:lnTo>
                      <a:lnTo>
                        <a:pt x="2037" y="737"/>
                      </a:lnTo>
                      <a:lnTo>
                        <a:pt x="2067" y="744"/>
                      </a:lnTo>
                      <a:lnTo>
                        <a:pt x="2090" y="754"/>
                      </a:lnTo>
                      <a:lnTo>
                        <a:pt x="2109" y="764"/>
                      </a:lnTo>
                      <a:lnTo>
                        <a:pt x="2134" y="779"/>
                      </a:lnTo>
                      <a:lnTo>
                        <a:pt x="2149" y="794"/>
                      </a:lnTo>
                      <a:lnTo>
                        <a:pt x="2162" y="809"/>
                      </a:lnTo>
                      <a:lnTo>
                        <a:pt x="2168" y="831"/>
                      </a:lnTo>
                      <a:lnTo>
                        <a:pt x="2164" y="852"/>
                      </a:lnTo>
                      <a:lnTo>
                        <a:pt x="2158" y="870"/>
                      </a:lnTo>
                      <a:lnTo>
                        <a:pt x="2149" y="893"/>
                      </a:lnTo>
                      <a:lnTo>
                        <a:pt x="2139" y="918"/>
                      </a:lnTo>
                      <a:lnTo>
                        <a:pt x="2128" y="941"/>
                      </a:lnTo>
                      <a:lnTo>
                        <a:pt x="2124" y="960"/>
                      </a:lnTo>
                      <a:lnTo>
                        <a:pt x="2124" y="976"/>
                      </a:lnTo>
                      <a:lnTo>
                        <a:pt x="2130" y="999"/>
                      </a:lnTo>
                      <a:lnTo>
                        <a:pt x="2139" y="1018"/>
                      </a:lnTo>
                      <a:lnTo>
                        <a:pt x="2151" y="1033"/>
                      </a:lnTo>
                      <a:lnTo>
                        <a:pt x="2166" y="1047"/>
                      </a:lnTo>
                      <a:lnTo>
                        <a:pt x="2187" y="1063"/>
                      </a:lnTo>
                      <a:lnTo>
                        <a:pt x="2211" y="1079"/>
                      </a:lnTo>
                      <a:lnTo>
                        <a:pt x="2238" y="1092"/>
                      </a:lnTo>
                      <a:lnTo>
                        <a:pt x="2270" y="1103"/>
                      </a:lnTo>
                      <a:lnTo>
                        <a:pt x="2299" y="1109"/>
                      </a:lnTo>
                      <a:lnTo>
                        <a:pt x="2331" y="1114"/>
                      </a:lnTo>
                      <a:lnTo>
                        <a:pt x="2363" y="1116"/>
                      </a:lnTo>
                      <a:lnTo>
                        <a:pt x="2401" y="1118"/>
                      </a:lnTo>
                      <a:lnTo>
                        <a:pt x="2439" y="1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00"/>
                    </a:gs>
                    <a:gs pos="100000">
                      <a:srgbClr val="ffffff"/>
                    </a:gs>
                  </a:gsLst>
                  <a:lin ang="8100000"/>
                </a:gra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92200" y="5759640"/>
                  <a:ext cx="3252600" cy="41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S8 : Stratégie de maintenanc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"/>
            <p:cNvSpPr/>
            <p:nvPr/>
          </p:nvSpPr>
          <p:spPr>
            <a:xfrm>
              <a:off x="538200" y="1928880"/>
              <a:ext cx="792144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C’est l’ensemble des enseignements dispensés dans les domaines disciplinaires STI qui apportent au futur technicien les compétences qui lui permettront d’accomplir des tâches professionnel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05000"/>
            <a:ext cx="8736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mise en œuvre des activités pratiques nécessitent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 acquis spécifiques apportés lors des séances d’activités pratiques (cf. programme de formation S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 acquis préalables apportés par les enseignements disciplinaires (cf. programmes de formation S5 à S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a planification des apprentissages dans les savoirs S5, S6, S7 et S8 doit être élaborée en cohérence avec le besoin exprimé par les activités pratiques S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71480" y="395640"/>
            <a:ext cx="7610400" cy="1569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114480" bIns="114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INTERRELATIONS ENTRE LES ENSEIGNEMENTS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7680" y="5950080"/>
            <a:ext cx="8231040" cy="63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d’où la nécessité d’un travail d’équipe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9036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ITEM G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RIQU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groupe de travail national, a souhaité que le repère pour la formation permette d’engager un travail pédagogique dans chaque académie pour atteindre les exigences du référenti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l a pris en compte la nécessité de structurer les apports de connaissances pour faciliter leur acqui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notion de centre d’intérêt va dans ce sens mais le groupe de travail national a préféré un terme plus général pour effectuer des regroupements de connaissances cohérents :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« item générique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981080"/>
          <a:ext cx="8642160" cy="268920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, mettre en œuvre et optimiser la 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er la sécurité, la disponibilité et optimiser les coûts liés à la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9036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ITEM G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RIQU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Dé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Aft>
                <a:spcPts val="901"/>
              </a:spcAft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DomCasual BT"/>
              </a:rPr>
              <a:t>Item</a:t>
            </a:r>
            <a:r>
              <a:rPr b="0" lang="fr-FR" sz="2400" spc="-1" strike="noStrike">
                <a:solidFill>
                  <a:srgbClr val="ffffff"/>
                </a:solidFill>
                <a:latin typeface="DomCasual BT"/>
              </a:rPr>
              <a:t> :  tout élément d’un ensemble considéré en tant que terme particulier (Larousse). </a:t>
            </a: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  <a:p>
            <a:pPr lvl="1" marL="743040" indent="-285840" algn="just">
              <a:spcAft>
                <a:spcPts val="2100"/>
              </a:spcAft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DomCasual BT"/>
              </a:rPr>
              <a:t>Item générique</a:t>
            </a:r>
            <a:r>
              <a:rPr b="0" lang="fr-FR" sz="2400" spc="-1" strike="noStrike">
                <a:solidFill>
                  <a:srgbClr val="ffffff"/>
                </a:solidFill>
                <a:latin typeface="DomCasual BT"/>
              </a:rPr>
              <a:t> :  partie d’un ensemble qui regroupe des éléments présentant des caractères communs.</a:t>
            </a: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  <a:p>
            <a:pPr marL="343080" indent="-343080" algn="just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À partir de cette notion, il est de la responsabilité de chaque académie de définir des stratégies pédagogiques de manière plus précise afin d’optimiser nos enseign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5373720"/>
            <a:ext cx="770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Les présentations qui vont suivre viendront illustrer                la notion d’item géné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981080"/>
          <a:ext cx="8642160" cy="327816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, mettre en œuvre et optimiser la 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er la sécurité, la disponibilité et optimiser les coûts liés à la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er des nouveaux bi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981080"/>
          <a:ext cx="8642160" cy="397836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8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, mettre en œuvre et optimiser la 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er la sécurité, la disponibilité et optimiser les coûts liés à la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er des nouveaux bi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 et optimiser l’organisation de la fonction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981080"/>
          <a:ext cx="8642160" cy="467856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, mettre en œuvre et optimiser la 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er la sécurité, la disponibilité et optimiser les coûts liés à la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er des nouveaux bi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 et optimiser l’organisation de la fonction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imation / Encadr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imer et encadrer une équipe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1800" y="26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1700280"/>
          <a:ext cx="8569080" cy="914400"/>
        </p:xfrm>
        <a:graphic>
          <a:graphicData uri="http://schemas.openxmlformats.org/drawingml/2006/table">
            <a:tbl>
              <a:tblPr/>
              <a:tblGrid>
                <a:gridCol w="863280"/>
                <a:gridCol w="5472360"/>
                <a:gridCol w="2233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aliser les intervention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0T13:06:46Z</dcterms:created>
  <dc:creator>REPMI INRS</dc:creator>
  <dc:description/>
  <dc:language>en-US</dc:language>
  <cp:lastModifiedBy>Giezek François</cp:lastModifiedBy>
  <cp:lastPrinted>1998-01-10T16:37:20Z</cp:lastPrinted>
  <dcterms:modified xsi:type="dcterms:W3CDTF">2005-12-01T20:35:46Z</dcterms:modified>
  <cp:revision>320</cp:revision>
  <dc:subject/>
  <dc:title>Aucun titre de diapositive</dc:title>
</cp:coreProperties>
</file>