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606-941C-44DA-B545-9636855B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E53-665C-4E6B-A16B-516175F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EDD-5803-437C-A262-DE196916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765-6CE7-4EE5-A60C-8CD7338F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E5AF-E509-4100-A876-F4BD9E0C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972-7EFD-4E34-A994-BBA60A7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BE8-5BDA-4E8B-B890-27E41E6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79E-4ABD-4AA3-94C5-C99F6C83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3177-A55B-417D-91DE-C1DCBF8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C983-D595-4E7D-898F-89F2607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7D95-C316-4E7A-BFF1-617C121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329-CC8A-4541-809B-6EFF6FC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770-3CC1-41E3-AC9A-9D0DCEBA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E43-52BA-4512-B324-33AB8B4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7ECD-4EF9-4F90-AA18-9CB909FC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5993-9D5B-496C-96D5-9D5C824B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30C-2E4F-404E-B33B-844DDD63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DDC4-1663-4342-8211-30547165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7270-3B53-4D7F-B1D0-57B588FA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9FEB-9618-4809-8D38-8231AB7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978B-B16D-472F-B18D-6D85FE5D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2917-C401-4CDF-80D9-929A84E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B1E-F4BE-45D2-BE6D-98845AE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4BE2-85F5-4DC7-AA6D-93D201A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26BB-4F08-43B0-8B7F-EDD2908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1299-AABC-49BC-92BE-67F3042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2119-7355-4128-A965-D644BC38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CA24-C1FE-410C-A5AA-1EB0447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D4E8-4AFF-4CC3-B1C4-B270C80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1D4D-C667-41A9-89BC-03E3ABE3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1FC0-6397-4B5E-A554-DB0FB02D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971F-0925-4373-9B37-B6A6E23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A5C8-6FA6-41F2-90C8-24D4011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56B-13CB-4979-8C3D-A21115F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08A6D-F0ED-4F21-B70B-225230FF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3B01-15DC-4D45-ABEF-DCEC4932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E8D8-2E29-497E-8B76-C13A108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AF3D-46E8-42E2-8775-573FD1C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9BFE-91EC-4DF0-80AB-BBB39A9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C2FD7-6D5E-481E-901D-E951107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BC18-2AA8-467D-B5CA-E018327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9406-F498-482B-87E1-B752880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8268-CA4C-4100-A895-0F52E0F2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B0C-D463-4A55-9F61-3B51AFD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720-E42B-4D77-BC44-F2A7823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87B-78E7-4847-B856-70A8DE3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C82-204D-44DB-B945-615A299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0E5-8DC1-49D2-BB51-BF6F755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E5D-FB71-4671-BFF7-532AEBA0D8F1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6AA2-2DA1-4FFB-9518-502A68A66B85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B1D4-7319-4DE2-910B-2373E32E2579}" type="slidenum">
              <a:rPr b="0" lang="fr-F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D08E-4CD8-4C29-9B79-18224ABBE0DC}" type="slidenum">
              <a:rPr b="0" lang="fr-F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774720" y="487440"/>
            <a:ext cx="7796160" cy="1549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9360">
            <a:solidFill>
              <a:srgbClr val="03495c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Baskerville Old Face"/>
              </a:rPr>
              <a:t>Epreuve E5   :  coefficient : 4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Topographie : coef : 2.5     </a:t>
            </a: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askerville Old Face"/>
              </a:rPr>
              <a:t>Laboratoire : coef : 1,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Le suppor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Espace réservé du contenu 3" descr="2008080.jpg"/>
          <p:cNvPicPr/>
          <p:nvPr/>
        </p:nvPicPr>
        <p:blipFill>
          <a:blip r:embed="rId1"/>
          <a:stretch/>
        </p:blipFill>
        <p:spPr>
          <a:xfrm>
            <a:off x="565200" y="642960"/>
            <a:ext cx="7818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Sujets pratiqu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Espace réservé du contenu 3" descr="P3.jpg"/>
          <p:cNvPicPr/>
          <p:nvPr/>
        </p:nvPicPr>
        <p:blipFill>
          <a:blip r:embed="rId1"/>
          <a:stretch/>
        </p:blipFill>
        <p:spPr>
          <a:xfrm>
            <a:off x="1168560" y="8571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Espace réservé du contenu 3" descr="P4.jpg"/>
          <p:cNvPicPr/>
          <p:nvPr/>
        </p:nvPicPr>
        <p:blipFill>
          <a:blip r:embed="rId1"/>
          <a:stretch/>
        </p:blipFill>
        <p:spPr>
          <a:xfrm>
            <a:off x="123840" y="1285920"/>
            <a:ext cx="9018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ujets BTS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http://www.crdp-montpellier.fr/ressources/examens/consultation/index.as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Epreuves de topographie</a:t>
            </a:r>
            <a:br>
              <a:rPr sz="4500"/>
            </a:b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2 part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Théor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Prat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Durée : 1h3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efficient : 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Sujets nationau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ar promotion complèt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Durée : 2h30 + 30 min or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efficient : 1,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Sujets nationau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4 étudiants par ½ journé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les 4 étudiants ont le même 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L’assesseur reçoit les préparations quelques semaines avant les épreu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orr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Théor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4617b"/>
                </a:solidFill>
                <a:latin typeface="Constantia"/>
              </a:rPr>
              <a:t>Prat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Corrections Nationales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début jui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Lieux : Par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Evaluation des candidats par un jury extérieu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Notation immédiatement après l’épreuve pratiq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r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hèmes épreuve théor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857240"/>
            <a:ext cx="403992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s relations dans les triangles quelcon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s relations trigonométriqu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gisements et distanc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coordonné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1640" y="1857240"/>
            <a:ext cx="442908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accordements circulair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Points de tangence, rayon, centre, points sur la cour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indirect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Altitude  stations , poi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askerville Old Face"/>
              </a:rPr>
              <a:t>Vérification d’angles verticau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alcul des pen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hèmes épreuve prat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direct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heminement, rayonnem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Ecart de fermeture, compens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Contrôle des niveaux : collim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eport d’altitud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Lever de terra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olygonale fermée et compensé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Implantation : polaire et par intersec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Nivellement indirec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Points inaccessibles (altitudes, largeurs, coordonnée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Baskerville Old Face"/>
              </a:rPr>
              <a:t>Raccordements circulaires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abscisses et ordonnées sur la tangente ou sur la cor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coordonnées polaires sur la tangen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skerville Old Face"/>
              </a:rPr>
              <a:t>Par tangentes successi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2560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re 4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Giratoire Actipo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Sujet théoriqu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Espace réservé du contenu 3" descr="P1.jpg"/>
          <p:cNvPicPr/>
          <p:nvPr/>
        </p:nvPicPr>
        <p:blipFill>
          <a:blip r:embed="rId1"/>
          <a:stretch/>
        </p:blipFill>
        <p:spPr>
          <a:xfrm>
            <a:off x="285840" y="941400"/>
            <a:ext cx="84294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Espace réservé du contenu 3" descr="P2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8:56Z</dcterms:created>
  <dc:creator>Christophe D</dc:creator>
  <dc:description/>
  <dc:language>en-US</dc:language>
  <cp:lastModifiedBy>Christophe D</cp:lastModifiedBy>
  <dcterms:modified xsi:type="dcterms:W3CDTF">2008-12-08T18:57:08Z</dcterms:modified>
  <cp:revision>15</cp:revision>
  <dc:subject/>
  <dc:title>U51 : Topographie</dc:title>
</cp:coreProperties>
</file>