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111-9692-49E7-9F8E-4D64BF76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7D8-D2F5-482F-8795-7C4442D8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46C-7CC8-41A4-A783-0BF024D5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DC9-61D4-4F2C-AEF5-7E007C6F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FD1-56F4-4921-82B1-54191E25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660-F2F4-4EF8-AED8-69CA32E5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CFC-C393-45CC-8DC5-DB79234D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3E8-C8CA-4575-A69D-37E36D7E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670-6A1D-4850-B28F-7461CBD4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E61-8D0A-4A77-8AA4-760F6157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F2A-F8F7-4381-9140-6251004F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064-1146-4FD1-9579-52831A3C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2B8A-6EEA-40B2-A7CF-E054461CD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écanique des structure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ont mixte à 3 travées (4 D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uj001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68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563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 de gravité de la cor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5A5-3E2B-47BA-BB23-C7B39D32B4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ux de charge 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 au point 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uj002" descr=""/>
          <p:cNvPicPr/>
          <p:nvPr/>
        </p:nvPicPr>
        <p:blipFill>
          <a:blip r:embed="rId2"/>
          <a:stretch/>
        </p:blipFill>
        <p:spPr>
          <a:xfrm>
            <a:off x="762120" y="1449360"/>
            <a:ext cx="761976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B57-2F54-420D-8014-E1CA1DDA8F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mensionnement section BA aux ELS (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éma d’armatures sur DR (+ donnée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inte tangentie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uj002" descr=""/>
          <p:cNvPicPr/>
          <p:nvPr/>
        </p:nvPicPr>
        <p:blipFill>
          <a:blip r:embed="rId2"/>
          <a:stretch/>
        </p:blipFill>
        <p:spPr>
          <a:xfrm>
            <a:off x="762120" y="1954080"/>
            <a:ext cx="7238880" cy="443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3E0-1E01-41F5-A05A-61373CF278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éma d’armatures sur DR (+ donné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rhourdis001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7307280" cy="31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48E-C8A6-46B0-9E5E-0857B4903C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ème hyperstatique (degré 2 ? ; M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M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es V, M,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uj003" descr=""/>
          <p:cNvPicPr/>
          <p:nvPr/>
        </p:nvPicPr>
        <p:blipFill>
          <a:blip r:embed="rId2"/>
          <a:stretch/>
        </p:blipFill>
        <p:spPr>
          <a:xfrm>
            <a:off x="0" y="2550960"/>
            <a:ext cx="9144000" cy="35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653-C18E-40B2-82DD-45501E23E9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ique ; N, V, M ; B.A Vérific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1295280"/>
            <a:ext cx="6858000" cy="3537000"/>
            <a:chOff x="0" y="1295280"/>
            <a:chExt cx="6858000" cy="3537000"/>
          </a:xfrm>
        </p:grpSpPr>
        <p:pic>
          <p:nvPicPr>
            <p:cNvPr id="54" name="suj004" descr=""/>
            <p:cNvPicPr/>
            <p:nvPr/>
          </p:nvPicPr>
          <p:blipFill>
            <a:blip r:embed="rId2"/>
            <a:stretch/>
          </p:blipFill>
          <p:spPr>
            <a:xfrm>
              <a:off x="0" y="1295280"/>
              <a:ext cx="4572000" cy="35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419720" y="22096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Éling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352680" y="3962520"/>
            <a:ext cx="5791320" cy="2895480"/>
            <a:chOff x="3352680" y="3962520"/>
            <a:chExt cx="5791320" cy="2895480"/>
          </a:xfrm>
        </p:grpSpPr>
        <p:pic>
          <p:nvPicPr>
            <p:cNvPr id="57" name="suj007" descr=""/>
            <p:cNvPicPr/>
            <p:nvPr/>
          </p:nvPicPr>
          <p:blipFill>
            <a:blip r:embed="rId3"/>
            <a:stretch/>
          </p:blipFill>
          <p:spPr>
            <a:xfrm>
              <a:off x="3352680" y="4668840"/>
              <a:ext cx="579132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02920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urd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33520" y="5334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nées b.a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87D-0BA8-46C2-BC32-8CB3D902A6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ussée sur écran ;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uj005" descr=""/>
          <p:cNvPicPr/>
          <p:nvPr/>
        </p:nvPicPr>
        <p:blipFill>
          <a:blip r:embed="rId2"/>
          <a:stretch/>
        </p:blipFill>
        <p:spPr>
          <a:xfrm>
            <a:off x="228600" y="1157400"/>
            <a:ext cx="5091120" cy="570060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952880" y="2843280"/>
            <a:ext cx="3886200" cy="3072240"/>
            <a:chOff x="4952880" y="2843280"/>
            <a:chExt cx="3886200" cy="3072240"/>
          </a:xfrm>
        </p:grpSpPr>
        <p:pic>
          <p:nvPicPr>
            <p:cNvPr id="63" name="suj006" descr=""/>
            <p:cNvPicPr/>
            <p:nvPr/>
          </p:nvPicPr>
          <p:blipFill>
            <a:blip r:embed="rId3"/>
            <a:stretch/>
          </p:blipFill>
          <p:spPr>
            <a:xfrm>
              <a:off x="4952880" y="2843280"/>
              <a:ext cx="38862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257800" y="4724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bilité 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 poinçonneme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 gliss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C1B-19D5-4D06-82A9-A11C65E6BE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ilan mécanique des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è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yenne sur 206 candidats : 9,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 Euro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res thèmes : modélisation, flèche, poussée avec nappe, hydraulique, vérification, B.P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324-9D1F-4789-9495-8A4B084BB3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1:21:48Z</dcterms:created>
  <dc:creator>grenouillat</dc:creator>
  <dc:description/>
  <dc:language>en-US</dc:language>
  <cp:lastModifiedBy>grenouillat</cp:lastModifiedBy>
  <dcterms:modified xsi:type="dcterms:W3CDTF">2008-12-07T21:30:04Z</dcterms:modified>
  <cp:revision>5</cp:revision>
  <dc:subject/>
  <dc:title>Présentation PowerPoint</dc:title>
</cp:coreProperties>
</file>