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690-64B4-4BF0-8450-26094667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209-B76A-4D69-9245-00D22300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E76-A636-494A-803D-618574F6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449-9F17-4570-B75E-F94A8B76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BF5-C4B6-4B0C-AC2B-6D5CCA1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B00-A9F0-4FB7-9303-E29C593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CBB-23DB-4515-84DF-994AC76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303-77DA-429E-8547-43E07DA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547-4DAC-4A46-B385-08692F6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B62-D4AA-4A6B-BBB9-9520FD3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BEF-38DB-4266-90E1-BA16C75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284-8249-4FBE-A70E-F579578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E2EB-2615-4BC5-9084-7269F087C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A.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tiel des activités professionnel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e de trava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P.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9D4-BB35-4D2F-B07C-F3C7938D2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et/ou exploite les rapports de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 suivi et actualise le calendrier de ré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a bonne réalisation des travaux jusqu’à leur réception et leur règ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 suivi du chantier dans la cadre du budget prévisionnel in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s relations avec le maître d’ouvrage et le maître d’œuvre, les organismes extérieurs du chantier. Il assure le rôle de conseil auprès de ses interloc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éalise les attachements et documents de fin de chanti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les situations de travaux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A06-5924-48C5-A9DD-9B8E14BEF5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cadre de ses fo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herche à développer les relations et les démarches commerciales avec la clientè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à des actions de formation et d’information 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personnels de l’entreprise dans son secteur d’activité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élèves, apprentis et stagiaires en formation initiale et continu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enseign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42D-5223-450B-849E-AF401CE3F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81080"/>
          <a:ext cx="8664480" cy="6572160"/>
        </p:xfrm>
        <a:graphic>
          <a:graphicData uri="http://schemas.openxmlformats.org/drawingml/2006/table">
            <a:tbl>
              <a:tblPr/>
              <a:tblGrid>
                <a:gridCol w="2187360"/>
                <a:gridCol w="1185840"/>
                <a:gridCol w="5291280"/>
              </a:tblGrid>
              <a:tr h="47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XPLOIT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ALIS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3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âche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Techn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aller et implanter son chan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marrer le chantier et assurer son bon dérou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rer la réception du chan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aca8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Conditions d'exerc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oyens et res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ièces du marché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Dossier de préparatio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ègles de l'art (fascicules, ...), code de la route et des transport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rescriptions techniques du clien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.A.Q (Plan d'Assurance Qualité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.P.S.P.S (Plan Particulier de Sécurité et de la Protection de la Santé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Données sur l’environnement, donné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topographiqu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Moyens en personnel, en matériel, en matériaux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Sous-traitants et co-traitant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Laboratoire, bureau de contrôle, moyen d’autocontr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Compte rendus d'essais (analyse de matériaux, ..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utonomie et responsabi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esponsabilité totale et autonomie complète dans le cadre des objectifs acceptés conjointement entre sa hiérarchie et lui-mêm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esponsabilités engagées suite à des malfaçons, ou non-respect de prescriptions, 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Résultats atten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éalisation du chantier en conformité avec les prescriptions techniques particulières permettant sa réception dans les délais prévus, son règlement rapide, le renforcement de l'image de l’entrepris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éalisation des plans de recollement et des pièces nécessaires à l'utilisation de l’ouvrag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D79-6075-4E59-882C-EC7E433A0B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878-EE90-4A58-9527-847E86F06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texte professionnel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 : CA ; interactivité ; import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 : Aléas ; taille ;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cteurs d’activités des T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EA3-7083-4F40-A7EE-4D0A347C05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és du technicien supérieur en Travaux Publ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us l’autorité de sa hiérarchie le TS 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amené à particip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à tout ou partie d’une 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ieurs des fo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ivan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llaboration avec les spécialistes des services de l’entrepris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’environnement technique, économique, et réglement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8DF-3F57-4001-A6B7-9A7B45D12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Étu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cadre d’objectifs préalablement définis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aux études de prix d’un ouvrage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étrés ; sous détails ; BPU ; DE ; conditions de règ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aux études techniques d’un ouvrage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sins d’exécution ; Ndc ; var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9B3-64C2-4655-9F79-5E5D568CD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Exploi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Dans le cadre de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chantier, selon l’importance de celui-ci, il réalise ou participe à l’étude d’exécution avec le budget prévisionnel de chantier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386-AC63-4DFA-80BE-4E75A0B215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isite le site et effectue les sondages éventu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prend en compte l’état des ouvrages ex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end en compte les variations éventuelles des conditions techniques et économiques du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hoisit les moyens humains, matériels et matéria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ordonnance les tâ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le calendrier de ré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874-8D3B-43A3-BFB1-BDF731D506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chiffre les variantes d’exé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installe le chantier (hygiène, sécurité et environn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labore le plan d’assurance 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xécute les démarches administratives et recherche les renseignements nécessaires à l’ouverture du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élabore l’information complète de tous les intervenants y compris des riverains et des us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des mises au point avec le maître d’ouvrage et le maître d’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4EF-1762-45CE-89AE-B1219D662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Dans le cadre de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chantier, selon l’importance des travaux et les différences des secteurs d’activités, il assure ou participe à la conduite des travaux et il en rend compte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B15-97ED-4F66-9696-188D0EE094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ésente le chantier au personnel d’exécution (consignes, objectif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appliquer les consignes d’hygiène, de sécurité et environnemental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effectue les impla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prévoit et commande le matér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éceptionne et contrôle les matér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réaliser les travaux suivant le cahier des charges précis qui lui est propos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ôle et réceptionne les travaux sous-traités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.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B93-25FC-4BB5-9E5C-95DD64162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03:26Z</dcterms:created>
  <dc:creator>grenouillat</dc:creator>
  <dc:description/>
  <dc:language>en-US</dc:language>
  <cp:lastModifiedBy>grenouillat</cp:lastModifiedBy>
  <dcterms:modified xsi:type="dcterms:W3CDTF">2008-12-08T20:48:51Z</dcterms:modified>
  <cp:revision>9</cp:revision>
  <dc:subject/>
  <dc:title>RAP Référentiel des activités professionnelles </dc:title>
</cp:coreProperties>
</file>