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8EF-811B-4FAC-A852-5F8EB433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FCC-477B-4610-99FD-7434B1F9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4AA-C54B-459D-B260-61B76843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8F2-2626-4A49-8C0A-31EB2C6C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1499-E690-4679-BD4D-CD500719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2DF0-EA96-45F4-BA9A-49238E70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777C-A4A3-45DD-BCDC-95545F64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A75F-D25B-46C5-8E87-C3873425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0384-28CD-46EA-BDB1-AA1B2209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6152-2898-45F7-AE73-9A55E91B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1A1A-54FF-4506-9934-820570F4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8AE-F1EE-4C1B-A22C-E36267D5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DD36-14A6-4614-A748-8974D082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9C72-C1DD-4900-9EBB-A3435E55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5C1E-2426-41B6-B9B5-E067E8F9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E0D5-107F-4658-8E21-3D1E32CD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F967-BD3D-49D4-A84F-5D22419C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7B5-BAA6-459E-AB13-091C9DA7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F03-088F-40DB-A45B-CB4DC355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838-48A0-434B-80E9-E1D86011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237-686F-42FF-9D33-AF621CCC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73A-52BE-4FC3-A473-D02AA837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A5B-71F3-4FB7-8D97-1671614B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D24-DCAE-469E-B957-70A86B41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1135-8A96-4B33-925E-7F70F7E3D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771480"/>
          </a:xfrm>
          <a:prstGeom prst="rect">
            <a:avLst/>
          </a:prstGeom>
          <a:ln w="0">
            <a:noFill/>
          </a:ln>
        </p:spPr>
      </p:pic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7591320" y="6181560"/>
            <a:ext cx="1552680" cy="6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7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8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8335-67FF-4621-9771-9A2D3755B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588000" y="6113520"/>
            <a:ext cx="936720" cy="74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91320" y="6181560"/>
            <a:ext cx="1552680" cy="676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68976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rganisation fonctionnelle du BTS TP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r apprentissage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u Lycée J.PROUVÉ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44784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TS TP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r apprentissage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u Lycée J.PROU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22050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e UFA ouverte à la rentré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124000" y="2637000"/>
            <a:ext cx="2520720" cy="3209760"/>
            <a:chOff x="2124000" y="2637000"/>
            <a:chExt cx="2520720" cy="3209760"/>
          </a:xfrm>
        </p:grpSpPr>
        <p:grpSp>
          <p:nvGrpSpPr>
            <p:cNvPr id="136" name=""/>
            <p:cNvGrpSpPr/>
            <p:nvPr/>
          </p:nvGrpSpPr>
          <p:grpSpPr>
            <a:xfrm>
              <a:off x="2124000" y="3068640"/>
              <a:ext cx="2520720" cy="2778120"/>
              <a:chOff x="2124000" y="3068640"/>
              <a:chExt cx="2520720" cy="277812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74880" y="3789360"/>
                <a:ext cx="1218960" cy="205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124000" y="3068640"/>
                <a:ext cx="252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BTS Géomètre Topograp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132000" y="2637000"/>
              <a:ext cx="50328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35640" y="2637000"/>
            <a:ext cx="2305080" cy="3284280"/>
            <a:chOff x="5435640" y="2637000"/>
            <a:chExt cx="2305080" cy="3284280"/>
          </a:xfrm>
        </p:grpSpPr>
        <p:grpSp>
          <p:nvGrpSpPr>
            <p:cNvPr id="141" name=""/>
            <p:cNvGrpSpPr/>
            <p:nvPr/>
          </p:nvGrpSpPr>
          <p:grpSpPr>
            <a:xfrm>
              <a:off x="5435640" y="3068640"/>
              <a:ext cx="2305080" cy="2852640"/>
              <a:chOff x="5435640" y="3068640"/>
              <a:chExt cx="2305080" cy="2852640"/>
            </a:xfrm>
          </p:grpSpPr>
          <p:pic>
            <p:nvPicPr>
              <p:cNvPr id="1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59720" y="3860640"/>
                <a:ext cx="1457280" cy="20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5435640" y="3068640"/>
                <a:ext cx="230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BTS Travaux Publiqu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337440" y="2637000"/>
              <a:ext cx="50292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00000" y="44784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rofil de la Promo 2008-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1280" y="1700280"/>
            <a:ext cx="3816360" cy="3386160"/>
            <a:chOff x="611280" y="1700280"/>
            <a:chExt cx="3816360" cy="338616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684360" y="2276640"/>
              <a:ext cx="367200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1280" y="170028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Évolution des effecti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643280" y="1700280"/>
            <a:ext cx="4032360" cy="3187800"/>
            <a:chOff x="4643280" y="1700280"/>
            <a:chExt cx="4032360" cy="3187800"/>
          </a:xfrm>
        </p:grpSpPr>
        <p:grpSp>
          <p:nvGrpSpPr>
            <p:cNvPr id="150" name=""/>
            <p:cNvGrpSpPr/>
            <p:nvPr/>
          </p:nvGrpSpPr>
          <p:grpSpPr>
            <a:xfrm>
              <a:off x="4643280" y="2421000"/>
              <a:ext cx="4032360" cy="2467080"/>
              <a:chOff x="4643280" y="2421000"/>
              <a:chExt cx="4032360" cy="2467080"/>
            </a:xfrm>
          </p:grpSpPr>
          <p:pic>
            <p:nvPicPr>
              <p:cNvPr id="1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2421000"/>
                <a:ext cx="4032360" cy="24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7020000" y="3357720"/>
                <a:ext cx="216000" cy="216000"/>
              </a:xfrm>
              <a:prstGeom prst="ellips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32720" y="3573720"/>
                <a:ext cx="72720" cy="71280"/>
              </a:xfrm>
              <a:prstGeom prst="ellips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85080" y="4221360"/>
                <a:ext cx="73080" cy="71280"/>
              </a:xfrm>
              <a:prstGeom prst="ellips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317080" y="4149720"/>
                <a:ext cx="72720" cy="71640"/>
              </a:xfrm>
              <a:prstGeom prst="ellips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48360" y="3068640"/>
                <a:ext cx="43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48360" y="3068640"/>
                <a:ext cx="43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588000" y="3284640"/>
                <a:ext cx="21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740720" y="3861000"/>
                <a:ext cx="21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44000" y="3861000"/>
                <a:ext cx="21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716360" y="1700280"/>
              <a:ext cx="38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épartition des entreprises sur la ré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’alterna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34136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eux ans de formation = 36 semaines + 4 semaines réservées au proj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1989000"/>
            <a:ext cx="9144000" cy="1584360"/>
            <a:chOff x="0" y="1989000"/>
            <a:chExt cx="9144000" cy="1584360"/>
          </a:xfrm>
        </p:grpSpPr>
        <p:sp>
          <p:nvSpPr>
            <p:cNvPr id="165" name=""/>
            <p:cNvSpPr/>
            <p:nvPr/>
          </p:nvSpPr>
          <p:spPr>
            <a:xfrm>
              <a:off x="0" y="1989000"/>
              <a:ext cx="9144000" cy="158436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250920" y="2421000"/>
              <a:ext cx="87850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826920" y="1989000"/>
              <a:ext cx="831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Première année (2008-200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0" y="3645000"/>
            <a:ext cx="9144000" cy="1584360"/>
            <a:chOff x="0" y="3645000"/>
            <a:chExt cx="9144000" cy="1584360"/>
          </a:xfrm>
        </p:grpSpPr>
        <p:sp>
          <p:nvSpPr>
            <p:cNvPr id="169" name=""/>
            <p:cNvSpPr/>
            <p:nvPr/>
          </p:nvSpPr>
          <p:spPr>
            <a:xfrm>
              <a:off x="0" y="3645000"/>
              <a:ext cx="9144000" cy="1584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250920" y="4149720"/>
              <a:ext cx="878508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900000" y="3645000"/>
              <a:ext cx="82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uxième année (2009-20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es volumes horai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187280" y="692280"/>
            <a:ext cx="5703840" cy="3149640"/>
            <a:chOff x="1187280" y="692280"/>
            <a:chExt cx="5703840" cy="314964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1387800" y="692280"/>
              <a:ext cx="5503320" cy="31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187280" y="951480"/>
              <a:ext cx="522144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Pré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987640" y="3645000"/>
            <a:ext cx="5400720" cy="3213000"/>
            <a:chOff x="2987640" y="3645000"/>
            <a:chExt cx="5400720" cy="32130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540072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052800" y="3844440"/>
              <a:ext cx="239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l’emploi du tem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Éléments d’organis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26920" y="1773360"/>
          <a:ext cx="746784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746784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0" y="1052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ette an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3170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Éléments d’organis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7704000" cy="15764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755640" y="1197000"/>
            <a:ext cx="8137440" cy="1908000"/>
            <a:chOff x="755640" y="1197000"/>
            <a:chExt cx="8137440" cy="1908000"/>
          </a:xfrm>
        </p:grpSpPr>
        <p:sp>
          <p:nvSpPr>
            <p:cNvPr id="186" name=""/>
            <p:cNvSpPr/>
            <p:nvPr/>
          </p:nvSpPr>
          <p:spPr>
            <a:xfrm>
              <a:off x="755640" y="1197000"/>
              <a:ext cx="813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emière année (2008-2009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900000" y="1878120"/>
              <a:ext cx="7992720" cy="12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424720" cy="54453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3170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Éléments d’organis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3170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Éléments d’organis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1341360"/>
            <a:ext cx="7056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 lie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: une salle dédiée au BTS TP où tous les enseignements sont dispen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03280" y="2492280"/>
            <a:ext cx="7056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Les moyens techniques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 : mutualisation des moyens avec les autre BTS (Matériel-logiciels-plateaux technique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407664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16 form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1 coordonnateur disciplinaire (Eric Mar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1 coordonnateur pédagogique (Didier Cauli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4360" y="357336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e équip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51:25Z</dcterms:created>
  <dc:creator/>
  <dc:description/>
  <dc:language>en-US</dc:language>
  <cp:lastModifiedBy>José CANDAT</cp:lastModifiedBy>
  <dcterms:modified xsi:type="dcterms:W3CDTF">2008-12-16T13:36:47Z</dcterms:modified>
  <cp:revision>18</cp:revision>
  <dc:subject/>
  <dc:title>La Collecte de la Taxe d’Apprentissage</dc:title>
</cp:coreProperties>
</file>