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E701-9CB2-4D93-95E5-CE6827F6C6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F39-51D0-42E0-B529-048109209A8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3BA1-EAB7-4063-BA5A-DE794FB6D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D3F-470F-4C49-A3F2-6015C336CE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E51-5338-493C-897A-A69D84312D9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5781-4E0A-4056-B057-F6C93819D77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CADA-B320-448D-8BF4-3D4955F82E0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44A-9BD0-4A43-BE81-1363098866E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6176-2ABE-4E49-B4F5-ACB3AECF44D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A273-CBD4-49C5-950B-4EED29B0EE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6AD-8A63-4EAC-9377-49F0727F85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4EC-B984-4C72-9B82-E973EFBB05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E435-54E1-493C-9F23-DF7594C51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CE7-4BA1-44DC-887F-AEE3073B2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E7C-A1EF-4376-A765-F636068B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864-327E-45B0-956F-CC1CD18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261-0268-4A86-92E7-49755D35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9D8-F2FB-45D7-8ADD-18580040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AB7-6C77-4BA8-B37E-1AD632C0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0673-B7ED-4FFA-BE2E-F86DDD23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C153-B8EB-4237-B93C-CF8628F9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5486-5C4A-4B92-9B22-E641CB1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AC92-AF5A-4EFB-8FF4-6CE04E6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CEF3-16D9-4058-8B54-612E8A37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1E99-E957-4A31-AEF0-CEF388F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178-2F76-4006-85C9-09D3D294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E3C-0E00-4D2A-A3C1-D2DD5ED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4B7-5F07-497B-B05D-D0846A0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8A31-EB43-4EA0-8388-43972A78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1B32-7B9F-4B5E-B5F1-48BA1C04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4E8C-EE5C-478F-8E71-E22909A8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9AE69-789B-43BF-9154-65F7E27EB0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8DEFB-486C-4F79-B360-9F2206E073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A7B57-746B-4FE6-B519-A357E5F021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0A854-D7D1-4DBD-829C-6E200F3D9B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B118D-43EB-4F88-9308-DEF72F41E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191-9733-4058-9BC9-2645B41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F12B3-4BF6-4AEB-BE56-DB40AE305E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D7104-6A9B-42CC-8F3A-EE45437AC2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B7D2F-5BEE-42C6-956F-C2EE3F32E2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B8C7D-84FD-4239-80C9-CCA7F77077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09EAB-42E9-4341-BE94-48F0425421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1F9B3-2B0C-4D37-9CEC-AE1F90D9F3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2C8CE-5C52-4439-A940-72ACEC72E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1A4-220E-4E28-8EA3-F8B54339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138-0C4E-483A-9738-69BCD02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B6F-D1C2-4584-81C9-BB62AB7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7DF-122D-49DB-9857-7C978387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805-579C-48DB-9333-982CFCF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AC8-0E0C-4949-B9BC-F220BDD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1B6-6F63-41B6-9E3E-4A143B31AD88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41A2-6936-40E1-A6C4-827402A6A4A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7"/>
          </p:nvPr>
        </p:nvSpPr>
        <p:spPr>
          <a:xfrm>
            <a:off x="8013600" y="6381360"/>
            <a:ext cx="113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945A-E121-47E6-AE2A-81B0BFC17854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4643280" cy="361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2"/>
          <a:stretch/>
        </p:blipFill>
        <p:spPr>
          <a:xfrm>
            <a:off x="4284720" y="3216240"/>
            <a:ext cx="4859280" cy="3641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923840"/>
            <a:ext cx="7772400" cy="19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Formation et Emploi dans le secteur des Travaux Public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60D-1573-4D36-A9A5-5C64E17D0964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Arial"/>
              </a:rPr>
              <a:t>B. PROSPECTIVES: EMPLOIS A POURVOIR ENTRE 2007 ET 2016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429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Verdana"/>
              </a:rPr>
              <a:t>EMPLOIS « DIRECTS »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 : 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52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(créations + remplacements)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Non qualif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4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Ouv. Qual., TP et Gr. Œu. Bat.     18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Ouvr. Qualif., Second Œuvre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12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Techniciens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9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Cadres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9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Verdana"/>
              </a:rPr>
              <a:t>EMPLOIS « DIRECTEMENT INDUITS 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120 à 15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93E4-1689-4EC7-B712-289800FBCDC3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Arial"/>
              </a:rPr>
              <a:t>3.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680" y="192888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Verdana"/>
              <a:buAutoNum type="alphaUcPeriod"/>
              <a:tabLst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LE « STOCK » 200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1 61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   70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70"/>
                </a:solidFill>
                <a:latin typeface="Verdana"/>
              </a:rPr>
              <a:t>B. </a:t>
            </a: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LE FLUX D’EMBAUCHES SUR 10 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47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     16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838760" y="2637000"/>
            <a:ext cx="26906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Verdana"/>
              </a:rPr>
              <a:t>2 31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3619440" y="2484360"/>
            <a:ext cx="144360" cy="1006560"/>
          </a:xfrm>
          <a:custGeom>
            <a:avLst/>
            <a:gdLst>
              <a:gd name="textAreaLeft" fmla="*/ 0 w 144360"/>
              <a:gd name="textAreaRight" fmla="*/ 52200 w 14436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219640" y="4237200"/>
            <a:ext cx="1809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Verdana"/>
              </a:rPr>
              <a:t>63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3619440" y="3998880"/>
            <a:ext cx="144360" cy="1006560"/>
          </a:xfrm>
          <a:custGeom>
            <a:avLst/>
            <a:gdLst>
              <a:gd name="textAreaLeft" fmla="*/ 0 w 144360"/>
              <a:gd name="textAreaRight" fmla="*/ 52200 w 14436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numéro de diapositive 4"/>
          <p:cNvSpPr/>
          <p:nvPr/>
        </p:nvSpPr>
        <p:spPr>
          <a:xfrm>
            <a:off x="8013600" y="6381720"/>
            <a:ext cx="113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DA6-063B-4E4A-82AC-8E44EC406EC4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4400" spc="-1" strike="noStrike">
                <a:solidFill>
                  <a:srgbClr val="ffff99"/>
                </a:solidFill>
                <a:latin typeface="Arial"/>
              </a:rPr>
              <a:t>L’emploi aujourd’hui dans les T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250 000 salariés dans les entreprises de travaux public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165 600 ouvriers (66,3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56 400 ETAM (22,8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28 000 Cadres (10,9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-309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28 894 nouveaux entrants en 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Moins de 27 ans : 10 53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cc66ff"/>
                </a:solidFill>
                <a:latin typeface="Verdana"/>
              </a:rPr>
              <a:t>7 223 ouvriers, 2 573 ETAM, 739 cad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27 ans et plus : 18 35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cc66ff"/>
                </a:solidFill>
                <a:latin typeface="Verdana"/>
              </a:rPr>
              <a:t>12 349 ouvriers, 3 807 ETAM,  2 203 cad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0" y="1214280"/>
          <a:ext cx="9144000" cy="56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91440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7"/>
          <p:cNvSpPr/>
          <p:nvPr/>
        </p:nvSpPr>
        <p:spPr>
          <a:xfrm>
            <a:off x="0" y="42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ructure de l’emploi par tranche d’effecti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8538120" y="658188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A648-3FB5-4848-89AB-72D3A148415C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Espace réservé du numéro de diapositive 4"/>
          <p:cNvSpPr/>
          <p:nvPr/>
        </p:nvSpPr>
        <p:spPr>
          <a:xfrm>
            <a:off x="8013600" y="6381720"/>
            <a:ext cx="113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E8B-A7DB-4BDC-B185-4B7507BED97D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4400" spc="-1" strike="noStrike">
                <a:solidFill>
                  <a:srgbClr val="ffff99"/>
                </a:solidFill>
                <a:latin typeface="Arial"/>
              </a:rPr>
              <a:t>L’emploi aujourd’hui dans les T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9285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94760" indent="-194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crutement prévu au cours des 10 prochaines années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3300" spc="-1" strike="noStrike">
                <a:solidFill>
                  <a:srgbClr val="ff6600"/>
                </a:solidFill>
                <a:latin typeface="Verdana"/>
              </a:rPr>
              <a:t>100 000 jeunes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424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3998"/>
          <p:cNvGraphicFramePr/>
          <p:nvPr/>
        </p:nvGraphicFramePr>
        <p:xfrm>
          <a:off x="0" y="0"/>
          <a:ext cx="91756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Object 39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75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Arial"/>
              </a:rPr>
              <a:t>Travaux publics : canalisations, routes, ouvrages d’art, conduite d’engins</a:t>
            </a:r>
            <a:r>
              <a:rPr b="0" lang="fr-FR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51" name="Group 54"/>
          <p:cNvGrpSpPr/>
          <p:nvPr/>
        </p:nvGrpSpPr>
        <p:grpSpPr>
          <a:xfrm>
            <a:off x="539640" y="4653000"/>
            <a:ext cx="8064720" cy="1562040"/>
            <a:chOff x="539640" y="4653000"/>
            <a:chExt cx="8064720" cy="1562040"/>
          </a:xfrm>
        </p:grpSpPr>
        <p:sp>
          <p:nvSpPr>
            <p:cNvPr id="252" name="Rectangle 27"/>
            <p:cNvSpPr/>
            <p:nvPr/>
          </p:nvSpPr>
          <p:spPr>
            <a:xfrm>
              <a:off x="4572000" y="5008680"/>
              <a:ext cx="4032360" cy="1206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béton armé bâtiment)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de rout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en canalisations des T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en ouvrages d’ar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duite d’engins de travaux publics</a:t>
              </a: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ion et entretien lignes caténair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4565520" y="4653000"/>
              <a:ext cx="4038840" cy="285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P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1835280" y="5013360"/>
              <a:ext cx="2305080" cy="865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ravaux public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Text Box 29"/>
            <p:cNvSpPr/>
            <p:nvPr/>
          </p:nvSpPr>
          <p:spPr>
            <a:xfrm>
              <a:off x="1835280" y="4653000"/>
              <a:ext cx="2305080" cy="2887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EP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25"/>
            <p:cNvSpPr/>
            <p:nvPr/>
          </p:nvSpPr>
          <p:spPr>
            <a:xfrm>
              <a:off x="539640" y="5013360"/>
              <a:ext cx="1175040" cy="8636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nérale et Technologiqu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539640" y="4653000"/>
              <a:ext cx="1175040" cy="2887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cond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" name="Group 51"/>
          <p:cNvGrpSpPr/>
          <p:nvPr/>
        </p:nvGrpSpPr>
        <p:grpSpPr>
          <a:xfrm>
            <a:off x="539640" y="2852640"/>
            <a:ext cx="7632720" cy="1800360"/>
            <a:chOff x="539640" y="2852640"/>
            <a:chExt cx="7632720" cy="1800360"/>
          </a:xfrm>
        </p:grpSpPr>
        <p:grpSp>
          <p:nvGrpSpPr>
            <p:cNvPr id="259" name="Group 44"/>
            <p:cNvGrpSpPr/>
            <p:nvPr/>
          </p:nvGrpSpPr>
          <p:grpSpPr>
            <a:xfrm>
              <a:off x="539640" y="2852640"/>
              <a:ext cx="2737080" cy="1800000"/>
              <a:chOff x="539640" y="2852640"/>
              <a:chExt cx="2737080" cy="1800000"/>
            </a:xfrm>
          </p:grpSpPr>
          <p:sp>
            <p:nvSpPr>
              <p:cNvPr id="260" name="Line 7"/>
              <p:cNvSpPr/>
              <p:nvPr/>
            </p:nvSpPr>
            <p:spPr>
              <a:xfrm flipV="1">
                <a:off x="1042920" y="3789000"/>
                <a:ext cx="0" cy="86364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Line 8"/>
              <p:cNvSpPr/>
              <p:nvPr/>
            </p:nvSpPr>
            <p:spPr>
              <a:xfrm flipV="1">
                <a:off x="2484360" y="3789000"/>
                <a:ext cx="0" cy="8636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Rectangle 16"/>
              <p:cNvSpPr/>
              <p:nvPr/>
            </p:nvSpPr>
            <p:spPr>
              <a:xfrm>
                <a:off x="539640" y="3357720"/>
                <a:ext cx="1025640" cy="42840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Génie Civil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Scientifique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Rectangle 17"/>
              <p:cNvSpPr/>
              <p:nvPr/>
            </p:nvSpPr>
            <p:spPr>
              <a:xfrm>
                <a:off x="1679400" y="3357720"/>
                <a:ext cx="1597320" cy="42840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Première d’adaptation.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Génie Civil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Text Box 19"/>
              <p:cNvSpPr/>
              <p:nvPr/>
            </p:nvSpPr>
            <p:spPr>
              <a:xfrm>
                <a:off x="542880" y="2852640"/>
                <a:ext cx="273384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Baccalauréat général et Technologique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5" name="Group 43"/>
            <p:cNvGrpSpPr/>
            <p:nvPr/>
          </p:nvGrpSpPr>
          <p:grpSpPr>
            <a:xfrm>
              <a:off x="3436920" y="2852640"/>
              <a:ext cx="4735440" cy="1800360"/>
              <a:chOff x="3436920" y="2852640"/>
              <a:chExt cx="4735440" cy="1800360"/>
            </a:xfrm>
          </p:grpSpPr>
          <p:sp>
            <p:nvSpPr>
              <p:cNvPr id="266" name="Line 9"/>
              <p:cNvSpPr/>
              <p:nvPr/>
            </p:nvSpPr>
            <p:spPr>
              <a:xfrm flipV="1">
                <a:off x="3643200" y="3786120"/>
                <a:ext cx="0" cy="86688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Rectangle 15"/>
              <p:cNvSpPr/>
              <p:nvPr/>
            </p:nvSpPr>
            <p:spPr>
              <a:xfrm>
                <a:off x="3446640" y="3357720"/>
                <a:ext cx="2205000" cy="4284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Travaux publics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Text Box 18"/>
              <p:cNvSpPr/>
              <p:nvPr/>
            </p:nvSpPr>
            <p:spPr>
              <a:xfrm>
                <a:off x="3436920" y="2852640"/>
                <a:ext cx="221940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Baccalauréat Professionnel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2 ans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Rectangle 20"/>
              <p:cNvSpPr/>
              <p:nvPr/>
            </p:nvSpPr>
            <p:spPr>
              <a:xfrm>
                <a:off x="5796000" y="3357720"/>
                <a:ext cx="2376360" cy="42840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ducteur engins TP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Text Box 21"/>
              <p:cNvSpPr/>
              <p:nvPr/>
            </p:nvSpPr>
            <p:spPr>
              <a:xfrm>
                <a:off x="5796000" y="2852640"/>
                <a:ext cx="237636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Brevet Professionnel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Line 23"/>
              <p:cNvSpPr/>
              <p:nvPr/>
            </p:nvSpPr>
            <p:spPr>
              <a:xfrm flipV="1">
                <a:off x="7334280" y="3786120"/>
                <a:ext cx="0" cy="866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Line 31"/>
              <p:cNvSpPr/>
              <p:nvPr/>
            </p:nvSpPr>
            <p:spPr>
              <a:xfrm flipV="1">
                <a:off x="5102280" y="3786120"/>
                <a:ext cx="0" cy="866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273" name="Group 56"/>
          <p:cNvGrpSpPr/>
          <p:nvPr/>
        </p:nvGrpSpPr>
        <p:grpSpPr>
          <a:xfrm>
            <a:off x="539640" y="1557360"/>
            <a:ext cx="3456000" cy="1295280"/>
            <a:chOff x="539640" y="1557360"/>
            <a:chExt cx="3456000" cy="1295280"/>
          </a:xfrm>
        </p:grpSpPr>
        <p:sp>
          <p:nvSpPr>
            <p:cNvPr id="274" name="Text Box 5"/>
            <p:cNvSpPr/>
            <p:nvPr/>
          </p:nvSpPr>
          <p:spPr>
            <a:xfrm>
              <a:off x="539640" y="1557360"/>
              <a:ext cx="3456000" cy="2998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revet de Technicien Supérieu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539640" y="1916280"/>
              <a:ext cx="3456000" cy="4410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ravaux public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ologie appliqué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V="1">
              <a:off x="1692360" y="2357280"/>
              <a:ext cx="0" cy="4953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 flipV="1">
              <a:off x="3635280" y="2357280"/>
              <a:ext cx="0" cy="495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Group 57"/>
          <p:cNvGrpSpPr/>
          <p:nvPr/>
        </p:nvGrpSpPr>
        <p:grpSpPr>
          <a:xfrm>
            <a:off x="573120" y="907920"/>
            <a:ext cx="7959600" cy="3745080"/>
            <a:chOff x="573120" y="907920"/>
            <a:chExt cx="7959600" cy="3745080"/>
          </a:xfrm>
        </p:grpSpPr>
        <p:sp>
          <p:nvSpPr>
            <p:cNvPr id="279" name="Text Box 13"/>
            <p:cNvSpPr/>
            <p:nvPr/>
          </p:nvSpPr>
          <p:spPr>
            <a:xfrm>
              <a:off x="573120" y="907920"/>
              <a:ext cx="1766880" cy="3603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oursuite d’études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1403280" y="1267920"/>
              <a:ext cx="1800" cy="287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 flipV="1">
              <a:off x="3132000" y="1267920"/>
              <a:ext cx="0" cy="2876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2" name="Group 48"/>
            <p:cNvGrpSpPr/>
            <p:nvPr/>
          </p:nvGrpSpPr>
          <p:grpSpPr>
            <a:xfrm>
              <a:off x="2514600" y="907920"/>
              <a:ext cx="6018120" cy="3745080"/>
              <a:chOff x="2514600" y="907920"/>
              <a:chExt cx="6018120" cy="3745080"/>
            </a:xfrm>
          </p:grpSpPr>
          <p:sp>
            <p:nvSpPr>
              <p:cNvPr id="283" name="Text Box 6"/>
              <p:cNvSpPr/>
              <p:nvPr/>
            </p:nvSpPr>
            <p:spPr>
              <a:xfrm>
                <a:off x="2514600" y="907920"/>
                <a:ext cx="6018120" cy="3603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Emploi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Line 10"/>
              <p:cNvSpPr/>
              <p:nvPr/>
            </p:nvSpPr>
            <p:spPr>
              <a:xfrm flipV="1">
                <a:off x="8317080" y="1268280"/>
                <a:ext cx="0" cy="33847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Line 22"/>
              <p:cNvSpPr/>
              <p:nvPr/>
            </p:nvSpPr>
            <p:spPr>
              <a:xfrm flipV="1">
                <a:off x="65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Line 32"/>
              <p:cNvSpPr/>
              <p:nvPr/>
            </p:nvSpPr>
            <p:spPr>
              <a:xfrm flipV="1">
                <a:off x="47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287" name="Groupe 41"/>
          <p:cNvGrpSpPr/>
          <p:nvPr/>
        </p:nvGrpSpPr>
        <p:grpSpPr>
          <a:xfrm>
            <a:off x="1071720" y="5857920"/>
            <a:ext cx="3500280" cy="642960"/>
            <a:chOff x="1071720" y="5857920"/>
            <a:chExt cx="3500280" cy="642960"/>
          </a:xfrm>
        </p:grpSpPr>
        <p:sp>
          <p:nvSpPr>
            <p:cNvPr id="288" name="Line 11"/>
            <p:cNvSpPr/>
            <p:nvPr/>
          </p:nvSpPr>
          <p:spPr>
            <a:xfrm flipV="1">
              <a:off x="1071720" y="585792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 flipV="1">
              <a:off x="2786040" y="585792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3929040" y="6098040"/>
              <a:ext cx="64296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Arial"/>
              </a:rPr>
              <a:t>Travaux publics : canalisations, routes, ouvrages d’art, conduite d’engins</a:t>
            </a:r>
            <a:r>
              <a:rPr b="0" lang="fr-FR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539640" y="1557360"/>
            <a:ext cx="3456000" cy="1303200"/>
            <a:chOff x="539640" y="1557360"/>
            <a:chExt cx="3456000" cy="1303200"/>
          </a:xfrm>
        </p:grpSpPr>
        <p:sp>
          <p:nvSpPr>
            <p:cNvPr id="293" name="Text Box 5"/>
            <p:cNvSpPr/>
            <p:nvPr/>
          </p:nvSpPr>
          <p:spPr>
            <a:xfrm>
              <a:off x="539640" y="1557360"/>
              <a:ext cx="3456000" cy="2998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revet de Technicien Supérieu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539640" y="1916280"/>
              <a:ext cx="345600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ravaux public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ologie appliqué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 flipV="1">
              <a:off x="1857240" y="2286000"/>
              <a:ext cx="0" cy="5745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24"/>
            <p:cNvSpPr/>
            <p:nvPr/>
          </p:nvSpPr>
          <p:spPr>
            <a:xfrm flipV="1">
              <a:off x="3635280" y="2286000"/>
              <a:ext cx="0" cy="566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7" name="Group 57"/>
          <p:cNvGrpSpPr/>
          <p:nvPr/>
        </p:nvGrpSpPr>
        <p:grpSpPr>
          <a:xfrm>
            <a:off x="573120" y="907920"/>
            <a:ext cx="7959600" cy="3745080"/>
            <a:chOff x="573120" y="907920"/>
            <a:chExt cx="7959600" cy="3745080"/>
          </a:xfrm>
        </p:grpSpPr>
        <p:sp>
          <p:nvSpPr>
            <p:cNvPr id="298" name="Text Box 13"/>
            <p:cNvSpPr/>
            <p:nvPr/>
          </p:nvSpPr>
          <p:spPr>
            <a:xfrm>
              <a:off x="573120" y="907920"/>
              <a:ext cx="1766880" cy="3603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oursuite d’études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Line 14"/>
            <p:cNvSpPr/>
            <p:nvPr/>
          </p:nvSpPr>
          <p:spPr>
            <a:xfrm flipV="1">
              <a:off x="1403280" y="1267920"/>
              <a:ext cx="1800" cy="287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 flipV="1">
              <a:off x="3132000" y="1267920"/>
              <a:ext cx="0" cy="2876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1" name="Group 48"/>
            <p:cNvGrpSpPr/>
            <p:nvPr/>
          </p:nvGrpSpPr>
          <p:grpSpPr>
            <a:xfrm>
              <a:off x="2514600" y="907920"/>
              <a:ext cx="6018120" cy="3745080"/>
              <a:chOff x="2514600" y="907920"/>
              <a:chExt cx="6018120" cy="3745080"/>
            </a:xfrm>
          </p:grpSpPr>
          <p:sp>
            <p:nvSpPr>
              <p:cNvPr id="302" name="Text Box 6"/>
              <p:cNvSpPr/>
              <p:nvPr/>
            </p:nvSpPr>
            <p:spPr>
              <a:xfrm>
                <a:off x="2514600" y="907920"/>
                <a:ext cx="6018120" cy="3603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Emploi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" name="Line 10"/>
              <p:cNvSpPr/>
              <p:nvPr/>
            </p:nvSpPr>
            <p:spPr>
              <a:xfrm flipV="1">
                <a:off x="8317080" y="1268280"/>
                <a:ext cx="0" cy="33847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" name="Line 22"/>
              <p:cNvSpPr/>
              <p:nvPr/>
            </p:nvSpPr>
            <p:spPr>
              <a:xfrm flipV="1">
                <a:off x="65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5" name="Line 32"/>
              <p:cNvSpPr/>
              <p:nvPr/>
            </p:nvSpPr>
            <p:spPr>
              <a:xfrm flipV="1">
                <a:off x="47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06" name="Groupe 32"/>
          <p:cNvGrpSpPr/>
          <p:nvPr/>
        </p:nvGrpSpPr>
        <p:grpSpPr>
          <a:xfrm>
            <a:off x="571680" y="2852640"/>
            <a:ext cx="7600680" cy="1800000"/>
            <a:chOff x="571680" y="2852640"/>
            <a:chExt cx="7600680" cy="1800000"/>
          </a:xfrm>
        </p:grpSpPr>
        <p:grpSp>
          <p:nvGrpSpPr>
            <p:cNvPr id="307" name="Group 51"/>
            <p:cNvGrpSpPr/>
            <p:nvPr/>
          </p:nvGrpSpPr>
          <p:grpSpPr>
            <a:xfrm>
              <a:off x="571680" y="2852640"/>
              <a:ext cx="7600680" cy="1800000"/>
              <a:chOff x="571680" y="2852640"/>
              <a:chExt cx="7600680" cy="1800000"/>
            </a:xfrm>
          </p:grpSpPr>
          <p:sp>
            <p:nvSpPr>
              <p:cNvPr id="308" name="Text Box 19"/>
              <p:cNvSpPr/>
              <p:nvPr/>
            </p:nvSpPr>
            <p:spPr>
              <a:xfrm>
                <a:off x="571680" y="2852640"/>
                <a:ext cx="271440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Baccalauréat  général et Technologique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09" name="Group 43"/>
              <p:cNvGrpSpPr/>
              <p:nvPr/>
            </p:nvGrpSpPr>
            <p:grpSpPr>
              <a:xfrm>
                <a:off x="3429000" y="2852640"/>
                <a:ext cx="4743360" cy="1800000"/>
                <a:chOff x="3429000" y="2852640"/>
                <a:chExt cx="4743360" cy="1800000"/>
              </a:xfrm>
            </p:grpSpPr>
            <p:sp>
              <p:nvSpPr>
                <p:cNvPr id="310" name="Rectangle 15"/>
                <p:cNvSpPr/>
                <p:nvPr/>
              </p:nvSpPr>
              <p:spPr>
                <a:xfrm>
                  <a:off x="3429000" y="3357720"/>
                  <a:ext cx="2214720" cy="214200"/>
                </a:xfrm>
                <a:prstGeom prst="rect">
                  <a:avLst/>
                </a:prstGeom>
                <a:solidFill>
                  <a:srgbClr val="ccffcc">
                    <a:alpha val="5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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Travaux publ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3436920" y="2852640"/>
                  <a:ext cx="2219400" cy="433440"/>
                </a:xfrm>
                <a:prstGeom prst="rect">
                  <a:avLst/>
                </a:prstGeom>
                <a:noFill/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</a:rPr>
                    <a:t>Baccalauréat Professionnel</a:t>
                  </a: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</a:rPr>
                    <a:t>3 ans </a:t>
                  </a: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20"/>
                <p:cNvSpPr/>
                <p:nvPr/>
              </p:nvSpPr>
              <p:spPr>
                <a:xfrm>
                  <a:off x="5786280" y="3357720"/>
                  <a:ext cx="2376720" cy="214200"/>
                </a:xfrm>
                <a:prstGeom prst="rect">
                  <a:avLst/>
                </a:prstGeom>
                <a:solidFill>
                  <a:srgbClr val="99ccff">
                    <a:alpha val="5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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Conducteur engins</a:t>
                  </a:r>
                  <a:endParaRPr b="0" lang="en-US" sz="1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3" name="Text Box 21"/>
                <p:cNvSpPr/>
                <p:nvPr/>
              </p:nvSpPr>
              <p:spPr>
                <a:xfrm>
                  <a:off x="5796000" y="2852640"/>
                  <a:ext cx="2376360" cy="433440"/>
                </a:xfrm>
                <a:prstGeom prst="rect">
                  <a:avLst/>
                </a:prstGeom>
                <a:noFill/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ffffff"/>
                      </a:solidFill>
                      <a:latin typeface="Arial"/>
                    </a:rPr>
                    <a:t>Brevet Professionnel </a:t>
                  </a: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4" name="Line 23"/>
                <p:cNvSpPr/>
                <p:nvPr/>
              </p:nvSpPr>
              <p:spPr>
                <a:xfrm flipV="1">
                  <a:off x="6572160" y="3571920"/>
                  <a:ext cx="0" cy="107640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5" name="Line 31"/>
                <p:cNvSpPr/>
                <p:nvPr/>
              </p:nvSpPr>
              <p:spPr>
                <a:xfrm flipV="1">
                  <a:off x="4786200" y="3571560"/>
                  <a:ext cx="0" cy="108108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16" name="Line 11"/>
            <p:cNvSpPr/>
            <p:nvPr/>
          </p:nvSpPr>
          <p:spPr>
            <a:xfrm flipV="1">
              <a:off x="1857240" y="328608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7" name="Groupe 31"/>
          <p:cNvGrpSpPr/>
          <p:nvPr/>
        </p:nvGrpSpPr>
        <p:grpSpPr>
          <a:xfrm>
            <a:off x="571680" y="3929040"/>
            <a:ext cx="8032680" cy="2143080"/>
            <a:chOff x="571680" y="3929040"/>
            <a:chExt cx="8032680" cy="2143080"/>
          </a:xfrm>
        </p:grpSpPr>
        <p:grpSp>
          <p:nvGrpSpPr>
            <p:cNvPr id="318" name="Group 54"/>
            <p:cNvGrpSpPr/>
            <p:nvPr/>
          </p:nvGrpSpPr>
          <p:grpSpPr>
            <a:xfrm>
              <a:off x="4565880" y="4653000"/>
              <a:ext cx="4038480" cy="1419120"/>
              <a:chOff x="4565880" y="4653000"/>
              <a:chExt cx="4038480" cy="1419120"/>
            </a:xfrm>
          </p:grpSpPr>
          <p:sp>
            <p:nvSpPr>
              <p:cNvPr id="319" name="Rectangle 27"/>
              <p:cNvSpPr/>
              <p:nvPr/>
            </p:nvSpPr>
            <p:spPr>
              <a:xfrm>
                <a:off x="4572000" y="5008680"/>
                <a:ext cx="4032000" cy="106344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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béton armé bâtimen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de routes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en canalisations des TP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en ouvrages d’ar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duite d’engins de travaux publics</a:t>
                </a:r>
                <a:r>
                  <a:rPr b="0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ion et entretien lignes caténaires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Text Box 28"/>
              <p:cNvSpPr/>
              <p:nvPr/>
            </p:nvSpPr>
            <p:spPr>
              <a:xfrm>
                <a:off x="4565880" y="4653000"/>
                <a:ext cx="4038480" cy="2858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CAP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1" name="Text Box 30"/>
            <p:cNvSpPr/>
            <p:nvPr/>
          </p:nvSpPr>
          <p:spPr>
            <a:xfrm>
              <a:off x="571680" y="3929040"/>
              <a:ext cx="2714400" cy="285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cond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Rectangle 25"/>
            <p:cNvSpPr/>
            <p:nvPr/>
          </p:nvSpPr>
          <p:spPr>
            <a:xfrm>
              <a:off x="571680" y="4286160"/>
              <a:ext cx="2714400" cy="2854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nérale et Technologiqu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3" name="ZoneTexte 33"/>
          <p:cNvSpPr/>
          <p:nvPr/>
        </p:nvSpPr>
        <p:spPr>
          <a:xfrm>
            <a:off x="500040" y="5929200"/>
            <a:ext cx="2714760" cy="368280"/>
          </a:xfrm>
          <a:prstGeom prst="rect">
            <a:avLst/>
          </a:prstGeom>
          <a:solidFill>
            <a:srgbClr val="fb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A partir de 2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4" name="Groupe 37"/>
          <p:cNvGrpSpPr/>
          <p:nvPr/>
        </p:nvGrpSpPr>
        <p:grpSpPr>
          <a:xfrm>
            <a:off x="1857240" y="3571560"/>
            <a:ext cx="2714760" cy="2143440"/>
            <a:chOff x="1857240" y="3571560"/>
            <a:chExt cx="2714760" cy="2143440"/>
          </a:xfrm>
        </p:grpSpPr>
        <p:sp>
          <p:nvSpPr>
            <p:cNvPr id="325" name="Line 11"/>
            <p:cNvSpPr/>
            <p:nvPr/>
          </p:nvSpPr>
          <p:spPr>
            <a:xfrm flipV="1">
              <a:off x="1857240" y="457200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3909240" y="3571560"/>
              <a:ext cx="0" cy="171468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3857760" y="5715000"/>
              <a:ext cx="71424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25A-3BC0-40D7-B21F-65F8CF1D902A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499760"/>
            <a:ext cx="903600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33"/>
                </a:solidFill>
                <a:latin typeface="Arial"/>
              </a:rPr>
              <a:t>PERSPECTIVES </a:t>
            </a:r>
            <a:br>
              <a:rPr sz="4000"/>
            </a:br>
            <a:r>
              <a:rPr b="1" lang="fr-FR" sz="4000" spc="-1" strike="noStrike">
                <a:solidFill>
                  <a:srgbClr val="990033"/>
                </a:solidFill>
                <a:latin typeface="Arial"/>
              </a:rPr>
              <a:t>D’EMPLOI DES JEUNES DANS LES SECTEURS DU BTP</a:t>
            </a:r>
            <a:br>
              <a:rPr sz="4000"/>
            </a:br>
            <a:r>
              <a:rPr b="0" lang="fr-FR" sz="4000" spc="-1" strike="noStrike">
                <a:solidFill>
                  <a:srgbClr val="cc3300"/>
                </a:solidFill>
                <a:latin typeface="Arial"/>
              </a:rPr>
              <a:t> Pour la période 2007-2020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99D-4D21-4DCA-9A09-26872D63B6ED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33"/>
                </a:solidFill>
                <a:latin typeface="Arial"/>
              </a:rPr>
              <a:t>LES EFFECTIFS DES SECTEURS DE LA CONSTRU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Verdana"/>
              </a:rPr>
              <a:t>A – LES EMPLOIS « DIRECTS </a:t>
            </a:r>
            <a:r>
              <a:rPr b="0" lang="fr-FR" sz="3200" spc="-1" strike="noStrike">
                <a:solidFill>
                  <a:srgbClr val="cc33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rchitecture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6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âtiment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1 30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Travaux Publics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25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TOTAL 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1 610 000</a:t>
            </a: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85840" y="4500720"/>
            <a:ext cx="6192720" cy="79200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023E-F3D8-4F9A-BE5F-76863CCB4E02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Arial"/>
              </a:rPr>
              <a:t>B. LES EMPLOIS </a:t>
            </a:r>
            <a:br>
              <a:rPr sz="3200"/>
            </a:br>
            <a:r>
              <a:rPr b="1" lang="fr-FR" sz="3200" spc="-1" strike="noStrike" u="sng">
                <a:solidFill>
                  <a:srgbClr val="cc3300"/>
                </a:solidFill>
                <a:uFillTx/>
                <a:latin typeface="Arial"/>
              </a:rPr>
              <a:t>« DIRECTEMENT INDUITS »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0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Matériaux et composants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200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Matériels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5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Ingénieries « externes »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17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Gestion du Bâti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110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E55-CBA9-4FA2-B202-39BFE78D897D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mmercialisation 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130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3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Rech. et développement 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8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Formation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TOTAL 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env. 70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04920" y="4267080"/>
            <a:ext cx="8280360" cy="7207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Espace réservé du numéro de diapositive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D458-D79C-442A-A402-2347C7A66B37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33"/>
                </a:solidFill>
                <a:latin typeface="Verdana"/>
              </a:rPr>
              <a:t>2. dE/dt … DERIVEES ET PROSP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95280" y="2332080"/>
            <a:ext cx="82152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Verdana"/>
              </a:rPr>
              <a:t>A – CREATIONS ANNUEL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2005           200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irects             39 000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54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ir</a:t>
            </a:r>
            <a:r>
              <a:rPr b="0" lang="fr-FR" sz="32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. Induits        8 000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 9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4000680" y="3992400"/>
            <a:ext cx="435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5:33:01Z</dcterms:created>
  <dc:creator>IG</dc:creator>
  <dc:description/>
  <dc:language>en-US</dc:language>
  <cp:lastModifiedBy>VANACKERE</cp:lastModifiedBy>
  <dcterms:modified xsi:type="dcterms:W3CDTF">2008-12-08T13:46:52Z</dcterms:modified>
  <cp:revision>42</cp:revision>
  <dc:subject/>
  <dc:title>Dialogue                                                                                                                                                                          pour la formation et l’emploi dans le secteur de la construction</dc:title>
</cp:coreProperties>
</file>