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2030-CC06-404E-A8D1-3183DCFAC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52E3-19EA-49A3-904B-A5347650D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B063-07F8-4B3C-ADD4-CF7CE5F31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AC62-B185-439D-93D5-DB06A9442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3B94-D8B6-488A-B3B5-CF7AEE446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F161-5E60-4673-A17A-7475E0256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064B-B032-4F26-9D4C-D89DD70CE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7815-805C-43CB-803B-96407D5CB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FD8D-8C9A-4717-AE58-50B4464E6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C1C6-4F26-441F-A753-4E9263A89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DA93-3290-4B98-A758-7F9774AAA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BAA3-9994-43DF-9AC7-86DD48498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BCD09-598E-4CE4-BAB0-76936B6F939B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009880" y="4192560"/>
            <a:ext cx="5657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 –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urée de l’épreuve : 50 minu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79640" y="3622680"/>
            <a:ext cx="3784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 –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efficient : 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16200000">
            <a:off x="-31320" y="3161520"/>
            <a:ext cx="3025440" cy="534600"/>
          </a:xfrm>
          <a:prstGeom prst="rect">
            <a:avLst/>
          </a:prstGeom>
          <a:solidFill>
            <a:srgbClr val="abd9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Exa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8000" y="1832040"/>
            <a:ext cx="28800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e épreuve ora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62520" y="218520"/>
            <a:ext cx="184644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É</a:t>
            </a:r>
            <a:r>
              <a:rPr b="1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PREUVE U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03160" y="177120"/>
            <a:ext cx="88488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E.P.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2467080"/>
            <a:ext cx="53276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 –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ériode d’étude = 4 semai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67040" y="3038400"/>
            <a:ext cx="4549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 –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recteur de proj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C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mpte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R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endu d’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tivité en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M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lieu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P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rofessionne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66280" y="6020640"/>
            <a:ext cx="474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ate : Conformément au référenti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62520" y="333000"/>
            <a:ext cx="184644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É</a:t>
            </a:r>
            <a:r>
              <a:rPr b="1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PREUVE U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08200" y="291240"/>
            <a:ext cx="16131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C.R.A.M.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747440" y="1431720"/>
            <a:ext cx="411948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 – L’entrepri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47800" y="1969920"/>
            <a:ext cx="47689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 –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maines d’activité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24040" y="3068640"/>
            <a:ext cx="46483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 –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lendrier du st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24040" y="3643200"/>
            <a:ext cx="47530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 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fférents chanti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78040" y="4746600"/>
            <a:ext cx="50259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7 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ttre de remerci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95320" y="5307120"/>
            <a:ext cx="30639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8 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clu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24040" y="2565360"/>
            <a:ext cx="3784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 –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’agence d’accue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2520" y="333000"/>
            <a:ext cx="184644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É</a:t>
            </a:r>
            <a:r>
              <a:rPr b="1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PREUVE U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4187880"/>
            <a:ext cx="7026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 -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vail demandé et le rôle du stagiai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465640" y="291240"/>
            <a:ext cx="14745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Cont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6200000">
            <a:off x="-810720" y="3291480"/>
            <a:ext cx="4228920" cy="534600"/>
          </a:xfrm>
          <a:prstGeom prst="rect">
            <a:avLst/>
          </a:prstGeom>
          <a:solidFill>
            <a:srgbClr val="abd9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Somma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11572" r="0" b="0"/>
          <a:stretch/>
        </p:blipFill>
        <p:spPr>
          <a:xfrm rot="21117000">
            <a:off x="1258560" y="1628280"/>
            <a:ext cx="4629240" cy="1662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619280" y="2781360"/>
            <a:ext cx="5316480" cy="27367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707120" y="904320"/>
            <a:ext cx="482292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otation de l’écrit sur 20 : par le Ju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5580000" y="1700280"/>
            <a:ext cx="3240000" cy="22096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081520" y="6233760"/>
            <a:ext cx="560916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otation de l’oral sur 20 : par le même Ju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82640" y="662040"/>
            <a:ext cx="647640" cy="1655640"/>
          </a:xfrm>
          <a:custGeom>
            <a:avLst/>
            <a:gdLst>
              <a:gd name="textAreaLeft" fmla="*/ 0 w 647640"/>
              <a:gd name="textAreaRight" fmla="*/ 648000 w 647640"/>
              <a:gd name="textAreaTop" fmla="*/ 0 h 1655640"/>
              <a:gd name="textAreaBottom" fmla="*/ 1656000 h 1655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5400000">
            <a:off x="637920" y="5586480"/>
            <a:ext cx="1296720" cy="1008000"/>
          </a:xfrm>
          <a:custGeom>
            <a:avLst/>
            <a:gdLst>
              <a:gd name="textAreaLeft" fmla="*/ 432360 w 1296720"/>
              <a:gd name="textAreaRight" fmla="*/ 1110600 w 1296720"/>
              <a:gd name="textAreaTop" fmla="*/ 580680 h 1008000"/>
              <a:gd name="textAreaBottom" fmla="*/ 86364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2520" y="232920"/>
            <a:ext cx="184644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É</a:t>
            </a:r>
            <a:r>
              <a:rPr b="1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PREUVE U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08200" y="191520"/>
            <a:ext cx="16131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C.R.A.M.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16200000">
            <a:off x="-338760" y="3587760"/>
            <a:ext cx="2376720" cy="534600"/>
          </a:xfrm>
          <a:prstGeom prst="rect">
            <a:avLst/>
          </a:prstGeom>
          <a:solidFill>
            <a:srgbClr val="abd9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009880" y="3492360"/>
            <a:ext cx="5657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 –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urée de l’épreuve : 30 minu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79640" y="2708280"/>
            <a:ext cx="3784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 –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efficient :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62520" y="333000"/>
            <a:ext cx="184644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É</a:t>
            </a:r>
            <a:r>
              <a:rPr b="1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PREUVE U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16200000">
            <a:off x="-31320" y="3161520"/>
            <a:ext cx="3025440" cy="534600"/>
          </a:xfrm>
          <a:prstGeom prst="rect">
            <a:avLst/>
          </a:prstGeom>
          <a:solidFill>
            <a:srgbClr val="abd9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Exa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08200" y="305640"/>
            <a:ext cx="16131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C.R.A.M.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908000" y="1832040"/>
            <a:ext cx="28800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e épreuve ora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5564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E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preuve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P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rofessionnell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de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omic Sans MS"/>
              </a:rPr>
              <a:t>S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ynthès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166280" y="6020640"/>
            <a:ext cx="474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ate : Conformément au référenti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62520" y="333000"/>
            <a:ext cx="184644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É</a:t>
            </a:r>
            <a:r>
              <a:rPr b="1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PREUVE U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603160" y="291240"/>
            <a:ext cx="88488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E.P.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1747440" y="1545840"/>
            <a:ext cx="411948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 – Des pièces écrit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747800" y="2492280"/>
            <a:ext cx="47689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 –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s pièces graphiq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724040" y="5126040"/>
            <a:ext cx="50799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 – Des questions individuel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724040" y="3716280"/>
            <a:ext cx="4648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 –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s questions commu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2520" y="333000"/>
            <a:ext cx="184644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É</a:t>
            </a:r>
            <a:r>
              <a:rPr b="1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PREUVE U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65640" y="291240"/>
            <a:ext cx="147456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Cont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16200000">
            <a:off x="-810720" y="3291480"/>
            <a:ext cx="4228920" cy="534600"/>
          </a:xfrm>
          <a:prstGeom prst="rect">
            <a:avLst/>
          </a:prstGeom>
          <a:solidFill>
            <a:srgbClr val="abd9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Dossier 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"</a:t>
            </a:r>
            <a:r>
              <a:rPr b="1" lang="fr-FR" sz="32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Travaux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rcRect l="0" t="11572" r="0" b="0"/>
          <a:stretch/>
        </p:blipFill>
        <p:spPr>
          <a:xfrm rot="21117000">
            <a:off x="1258560" y="1628280"/>
            <a:ext cx="4629240" cy="1662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619280" y="2781360"/>
            <a:ext cx="5316480" cy="27367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707120" y="904320"/>
            <a:ext cx="482292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otation de l’écrit sur 40 : par le Ju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5580000" y="1700280"/>
            <a:ext cx="3240000" cy="22096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081520" y="6233760"/>
            <a:ext cx="560916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otation de l’oral sur 40 : par le même Ju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82640" y="662040"/>
            <a:ext cx="647640" cy="1655640"/>
          </a:xfrm>
          <a:custGeom>
            <a:avLst/>
            <a:gdLst>
              <a:gd name="textAreaLeft" fmla="*/ 0 w 647640"/>
              <a:gd name="textAreaRight" fmla="*/ 648000 w 647640"/>
              <a:gd name="textAreaTop" fmla="*/ 0 h 1655640"/>
              <a:gd name="textAreaBottom" fmla="*/ 1656000 h 1655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5400000">
            <a:off x="637920" y="5586480"/>
            <a:ext cx="1296720" cy="1008000"/>
          </a:xfrm>
          <a:custGeom>
            <a:avLst/>
            <a:gdLst>
              <a:gd name="textAreaLeft" fmla="*/ 432360 w 1296720"/>
              <a:gd name="textAreaRight" fmla="*/ 1110600 w 1296720"/>
              <a:gd name="textAreaTop" fmla="*/ 580680 h 1008000"/>
              <a:gd name="textAreaBottom" fmla="*/ 86364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16200000">
            <a:off x="-338760" y="3587760"/>
            <a:ext cx="2376720" cy="534600"/>
          </a:xfrm>
          <a:prstGeom prst="rect">
            <a:avLst/>
          </a:prstGeom>
          <a:solidFill>
            <a:srgbClr val="abd9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  <a:ea typeface="Times New Roman"/>
              </a:rPr>
              <a:t>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62520" y="218520"/>
            <a:ext cx="184644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É</a:t>
            </a:r>
            <a:r>
              <a:rPr b="1" lang="fr-FR" sz="2000" spc="-1" strike="noStrike" u="sng">
                <a:solidFill>
                  <a:srgbClr val="000000"/>
                </a:solidFill>
                <a:uFillTx/>
                <a:latin typeface="Comic Sans MS"/>
              </a:rPr>
              <a:t>PREUVE U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603160" y="177120"/>
            <a:ext cx="88488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E.P.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3T06:33:26Z</dcterms:created>
  <dc:creator>OPONTOI</dc:creator>
  <dc:description/>
  <dc:language>en-US</dc:language>
  <cp:lastModifiedBy>Jean-Claude</cp:lastModifiedBy>
  <dcterms:modified xsi:type="dcterms:W3CDTF">2008-12-08T21:17:35Z</dcterms:modified>
  <cp:revision>80</cp:revision>
  <dc:subject/>
  <dc:title>RAPPORD DE STAGE 15/05 à 7/072006</dc:title>
</cp:coreProperties>
</file>