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C59ECE-1DBB-47C2-9108-06C9D30585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8A0FAB-0D6F-4822-A63D-32E60264B4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C49728-C29F-4319-9C8C-EA3E4438E5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7AD13E-3B0D-45A0-AD29-C14EA57BA4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7FCCD8-7699-4991-A227-B960BBA4DD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405EBF-9D46-497E-B6B3-17F09E56C2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1BBC50-4501-407A-A8A6-0038D09B0F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47758C-D18C-4098-ADAB-26F1BAED76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12CBC7-2855-4C90-9CE0-409EAFD6D3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B1C21-5309-429C-8F85-E916E8C7F3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29C4A-AA76-4497-B155-0642D7257C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0B6D51-DA2E-4FBD-A67A-F3B0E1A762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738F1-F5C0-4507-A55F-37CB9116BD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2636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éférentiel des activités professionnelles du BTS Travaux Publics</a:t>
            </a:r>
            <a:br>
              <a:rPr sz="4000"/>
            </a:br>
            <a:r>
              <a:rPr b="0" lang="en-US" sz="4000" spc="-1" strike="noStrike">
                <a:solidFill>
                  <a:srgbClr val="000000"/>
                </a:solidFill>
                <a:latin typeface="Arial"/>
              </a:rPr>
              <a:t>Répartition des connaissances </a:t>
            </a:r>
            <a:br>
              <a:rPr sz="4000"/>
            </a:br>
            <a:r>
              <a:rPr b="0" lang="en-US" sz="4000" spc="-1" strike="noStrike">
                <a:solidFill>
                  <a:srgbClr val="000000"/>
                </a:solidFill>
                <a:latin typeface="Arial"/>
              </a:rPr>
              <a:t>à acquérir </a:t>
            </a:r>
            <a:br>
              <a:rPr sz="4000"/>
            </a:br>
            <a:r>
              <a:rPr b="0" lang="en-US" sz="4000" spc="-1" strike="noStrike">
                <a:solidFill>
                  <a:srgbClr val="000000"/>
                </a:solidFill>
                <a:latin typeface="Arial"/>
              </a:rPr>
              <a:t>dans l’entreprise ou en centre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2" name=""/>
          <p:cNvGraphicFramePr/>
          <p:nvPr/>
        </p:nvGraphicFramePr>
        <p:xfrm>
          <a:off x="179280" y="260280"/>
          <a:ext cx="8748720" cy="6408720"/>
        </p:xfrm>
        <a:graphic>
          <a:graphicData uri="http://schemas.openxmlformats.org/drawingml/2006/table">
            <a:tbl>
              <a:tblPr/>
              <a:tblGrid>
                <a:gridCol w="3390840"/>
                <a:gridCol w="5357880"/>
              </a:tblGrid>
              <a:tr h="291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80"/>
                          </a:solidFill>
                          <a:latin typeface="Verdana"/>
                          <a:ea typeface="Times New Roman"/>
                        </a:rPr>
                        <a:t>Fonction</a:t>
                      </a:r>
                      <a:endParaRPr b="0" lang="en-US" sz="13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Verdana"/>
                          <a:ea typeface="Times New Roman"/>
                        </a:rPr>
                        <a:t>ETUDE</a:t>
                      </a:r>
                      <a:endParaRPr b="0" lang="en-US" sz="13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r>
              <a:tr h="7786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300" spc="-1" strike="noStrike">
                          <a:solidFill>
                            <a:srgbClr val="000080"/>
                          </a:solidFill>
                          <a:latin typeface="Verdana"/>
                          <a:ea typeface="Times New Roman"/>
                        </a:rPr>
                        <a:t>Tâche :</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Verdana"/>
                          <a:ea typeface="Times New Roman"/>
                        </a:rPr>
                        <a:t>Participation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Verdana"/>
                          <a:ea typeface="Times New Roman"/>
                        </a:rPr>
                        <a:t>aux Etudes Techniques d'un ouvrage</a:t>
                      </a:r>
                      <a:endParaRPr b="0" lang="en-US" sz="16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196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80"/>
                          </a:solidFill>
                          <a:latin typeface="Verdana"/>
                          <a:ea typeface="Times New Roman"/>
                        </a:rPr>
                        <a:t>Conditions d'exercice</a:t>
                      </a:r>
                      <a:endParaRPr b="0" lang="en-US" sz="13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88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80"/>
                          </a:solidFill>
                          <a:latin typeface="Verdana"/>
                          <a:ea typeface="Times New Roman"/>
                        </a:rPr>
                        <a:t>Moyens et ressources</a:t>
                      </a:r>
                      <a:endParaRPr b="0" lang="en-US" sz="10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Cahier des charges, documents contractuels définissant toutes les conditions que doit remplir l'ouvrage; les exigences esthétiques et les conditions d'environnement ainsi que tout document ou information définissant les conditions de la réalisation de l’ouvrag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Documentation technique générale et particulière: fascicules du C.C.T.G (cahier des clauses techniques générales), passé de l'entreprise, normes, règlement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Matériel informatique et logiciel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Laboratoire d'essais et de recherche (sols, structures, matériaux, diver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Conditions d'utilisation des matériaux, matériels et produi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Ressources locales :B.R.G.M (bureau de recherche géologique et minière), reconnaissance préliminaire des lieux, renseignements sur le sol et sous-sol,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Réalisations similair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Normalisation, standardisation, lois</a:t>
                      </a:r>
                      <a:r>
                        <a:rPr b="0" lang="en-US" sz="1800" spc="-1" strike="noStrike">
                          <a:solidFill>
                            <a:srgbClr val="000000"/>
                          </a:solidFill>
                          <a:latin typeface="Arial"/>
                        </a:rPr>
                        <a:t> </a:t>
                      </a:r>
                      <a:r>
                        <a:rPr b="0" lang="en-US" sz="1200" spc="-1" strike="noStrike">
                          <a:solidFill>
                            <a:srgbClr val="000000"/>
                          </a:solidFill>
                          <a:latin typeface="Caligula"/>
                          <a:ea typeface="Times New Roman"/>
                        </a:rPr>
                        <a:t>et</a:t>
                      </a:r>
                      <a:r>
                        <a:rPr b="0" lang="en-US" sz="1800" spc="-1" strike="noStrike">
                          <a:solidFill>
                            <a:srgbClr val="000000"/>
                          </a:solidFill>
                          <a:latin typeface="Arial"/>
                        </a:rPr>
                        <a:t> </a:t>
                      </a:r>
                      <a:r>
                        <a:rPr b="0" lang="en-US" sz="1200" spc="-1" strike="noStrike">
                          <a:solidFill>
                            <a:srgbClr val="000000"/>
                          </a:solidFill>
                          <a:latin typeface="Caligula"/>
                          <a:ea typeface="Times New Roman"/>
                        </a:rPr>
                        <a:t>règlements</a:t>
                      </a:r>
                      <a:r>
                        <a:rPr b="0" lang="en-US" sz="1800" spc="-1" strike="noStrike">
                          <a:solidFill>
                            <a:srgbClr val="000000"/>
                          </a:solidFill>
                          <a:latin typeface="Aria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Procès-verbaux d’essais.</a:t>
                      </a:r>
                      <a:endParaRPr b="0" lang="en-US" sz="12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80"/>
                          </a:solidFill>
                          <a:latin typeface="Verdana"/>
                          <a:ea typeface="Times New Roman"/>
                        </a:rPr>
                        <a:t>Autonomie et responsabilité</a:t>
                      </a:r>
                      <a:endParaRPr b="0" lang="en-US" sz="10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Participation selon sollicitation de la hiérarchie.</a:t>
                      </a:r>
                      <a:endParaRPr b="0" lang="en-US" sz="12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r>
              <a:tr h="1189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80"/>
                          </a:solidFill>
                          <a:latin typeface="Verdana"/>
                          <a:ea typeface="Times New Roman"/>
                        </a:rPr>
                        <a:t>Résultats attendus en entreprise</a:t>
                      </a:r>
                      <a:endParaRPr b="0" lang="en-US" sz="10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Le dossier technique du projet qui peut comprend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les informations nécessaires à l'aboutissement concret du projet (reconnaissance des lieux),</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des propositions éventuelles de variant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des projets de P.A.Q et P.H.S (Plan d'Assurance Qualité et Plan d'Hygiène et Sécurité).</a:t>
                      </a:r>
                      <a:endParaRPr b="0" lang="en-US" sz="12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r>
              <a:tr h="64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80"/>
                          </a:solidFill>
                          <a:latin typeface="Verdana"/>
                          <a:ea typeface="Times New Roman"/>
                        </a:rPr>
                        <a:t>Résultats attendus en centre</a:t>
                      </a:r>
                      <a:endParaRPr b="0" lang="en-US" sz="10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le dessin d'ensemble de l’ouvrage, les notes de calcu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les dessins d'exécution des éléments constitutif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le métré des ouvrages (quantitatif),</a:t>
                      </a:r>
                      <a:endParaRPr b="0" lang="en-US" sz="12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3" name=""/>
          <p:cNvGraphicFramePr/>
          <p:nvPr/>
        </p:nvGraphicFramePr>
        <p:xfrm>
          <a:off x="250920" y="404640"/>
          <a:ext cx="8663040" cy="5556600"/>
        </p:xfrm>
        <a:graphic>
          <a:graphicData uri="http://schemas.openxmlformats.org/drawingml/2006/table">
            <a:tbl>
              <a:tblPr/>
              <a:tblGrid>
                <a:gridCol w="3378240"/>
                <a:gridCol w="5284800"/>
              </a:tblGrid>
              <a:tr h="291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80"/>
                          </a:solidFill>
                          <a:latin typeface="Verdana"/>
                          <a:ea typeface="Times New Roman"/>
                        </a:rPr>
                        <a:t>Fonction</a:t>
                      </a:r>
                      <a:endParaRPr b="0" lang="en-US" sz="13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Verdana"/>
                          <a:ea typeface="Times New Roman"/>
                        </a:rPr>
                        <a:t>ETUDE</a:t>
                      </a:r>
                      <a:endParaRPr b="0" lang="en-US" sz="13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r>
              <a:tr h="7786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300" spc="-1" strike="noStrike">
                          <a:solidFill>
                            <a:srgbClr val="000080"/>
                          </a:solidFill>
                          <a:latin typeface="Verdana"/>
                          <a:ea typeface="Times New Roman"/>
                        </a:rPr>
                        <a:t>Tâche :</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Verdana"/>
                          <a:ea typeface="Times New Roman"/>
                        </a:rPr>
                        <a:t>Participation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Verdana"/>
                          <a:ea typeface="Times New Roman"/>
                        </a:rPr>
                        <a:t>aux Etudes de Prix d'un ouvrage</a:t>
                      </a:r>
                      <a:endParaRPr b="0" lang="en-US" sz="16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196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80"/>
                          </a:solidFill>
                          <a:latin typeface="Verdana"/>
                          <a:ea typeface="Times New Roman"/>
                        </a:rPr>
                        <a:t>Conditions d'exercice</a:t>
                      </a:r>
                      <a:endParaRPr b="0" lang="en-US" sz="13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49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80"/>
                          </a:solidFill>
                          <a:latin typeface="Verdana"/>
                          <a:ea typeface="Times New Roman"/>
                        </a:rPr>
                        <a:t>Moyens et ressources</a:t>
                      </a:r>
                      <a:endParaRPr b="0" lang="en-US" sz="10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Pièces du marché (cahier des charg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Le dossier d'étude techniqu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Les quantités (éventuellemen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Les conditions particulières d'exécution (lieux, accès, délais,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Pratiques de l’entrepris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Documentation technique générale et particuliè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Matériel informatique et logiciel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Ressources local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Prix (de main d'oeuvre, des matériaux, des matériels, des sous-traitan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Estimation des rendements et planning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Régime de révision et d'actualisation des prix,</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Frais connexes (frais indivis de chantier, frais généraux, marges de chantier).</a:t>
                      </a:r>
                      <a:endParaRPr b="0" lang="en-US" sz="12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80"/>
                          </a:solidFill>
                          <a:latin typeface="Verdana"/>
                          <a:ea typeface="Times New Roman"/>
                        </a:rPr>
                        <a:t>Autonomie et responsabilité</a:t>
                      </a:r>
                      <a:endParaRPr b="0" lang="en-US" sz="10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Participation selon sollicitation de la hiérarchie.</a:t>
                      </a:r>
                      <a:endParaRPr b="0" lang="en-US" sz="12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r>
              <a:tr h="459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80"/>
                          </a:solidFill>
                          <a:latin typeface="Verdana"/>
                          <a:ea typeface="Times New Roman"/>
                        </a:rPr>
                        <a:t>Résultats attendus en entreprise</a:t>
                      </a:r>
                      <a:endParaRPr b="0" lang="en-US" sz="10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gula"/>
                          <a:ea typeface="Times New Roman"/>
                        </a:rPr>
                        <a:t>-Conditions de règle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gula"/>
                          <a:ea typeface="Times New Roman"/>
                        </a:rPr>
                        <a:t>-Sous-détails de prix,</a:t>
                      </a:r>
                      <a:endParaRPr b="0" lang="en-US" sz="12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r>
              <a:tr h="824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80"/>
                          </a:solidFill>
                          <a:latin typeface="Verdana"/>
                          <a:ea typeface="Times New Roman"/>
                        </a:rPr>
                        <a:t>Résultats attendus en centre</a:t>
                      </a:r>
                      <a:endParaRPr b="0" lang="en-US" sz="10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gula"/>
                          <a:ea typeface="Times New Roman"/>
                        </a:rPr>
                        <a:t>-Bordereaux de prix unitaires (documents contractuel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gula"/>
                          <a:ea typeface="Times New Roman"/>
                        </a:rPr>
                        <a:t>-Sous-détails de prix,</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gula"/>
                          <a:ea typeface="Times New Roman"/>
                        </a:rPr>
                        <a:t>-Détail estimatif (forfaitaire ou sur quantités réell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gula"/>
                          <a:ea typeface="Times New Roman"/>
                        </a:rPr>
                        <a:t>-Calendriers de réalisation.</a:t>
                      </a:r>
                      <a:endParaRPr b="0" lang="en-US" sz="12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 name=""/>
          <p:cNvGraphicFramePr/>
          <p:nvPr/>
        </p:nvGraphicFramePr>
        <p:xfrm>
          <a:off x="250920" y="260280"/>
          <a:ext cx="8713800" cy="6232680"/>
        </p:xfrm>
        <a:graphic>
          <a:graphicData uri="http://schemas.openxmlformats.org/drawingml/2006/table">
            <a:tbl>
              <a:tblPr/>
              <a:tblGrid>
                <a:gridCol w="3408120"/>
                <a:gridCol w="5305680"/>
              </a:tblGrid>
              <a:tr h="474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80"/>
                          </a:solidFill>
                          <a:latin typeface="Verdana"/>
                          <a:ea typeface="Times New Roman"/>
                        </a:rPr>
                        <a:t>Fonction</a:t>
                      </a:r>
                      <a:endParaRPr b="0" lang="en-US" sz="13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Verdana"/>
                          <a:ea typeface="Times New Roman"/>
                        </a:rPr>
                        <a:t>EXPLOITATION</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ea typeface="Times New Roman"/>
                        </a:rPr>
                        <a:t>Préparation de chantier</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10000"/>
                      </a:solidFill>
                    </a:lnB>
                    <a:noFill/>
                  </a:tcPr>
                </a:tc>
              </a:tr>
              <a:tr h="53532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80"/>
                          </a:solidFill>
                          <a:latin typeface="Verdana"/>
                          <a:ea typeface="Times New Roman"/>
                        </a:rPr>
                        <a:t>Tâche :</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ea typeface="Times New Roman"/>
                        </a:rPr>
                        <a:t>Administrative</a:t>
                      </a:r>
                      <a:endParaRPr b="0" lang="en-US" sz="1600" spc="-1" strike="noStrike">
                        <a:solidFill>
                          <a:srgbClr val="000000"/>
                        </a:solidFill>
                        <a:latin typeface="Arial"/>
                      </a:endParaRPr>
                    </a:p>
                  </a:txBody>
                  <a:tcPr anchor="t" marL="90000" marR="90000">
                    <a:lnL w="5760">
                      <a:solidFill>
                        <a:srgbClr val="010000"/>
                      </a:solidFill>
                    </a:lnL>
                    <a:lnR w="5760">
                      <a:solidFill>
                        <a:srgbClr val="aca899"/>
                      </a:solidFill>
                    </a:lnR>
                    <a:lnT w="5760">
                      <a:solidFill>
                        <a:srgbClr val="01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196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80"/>
                          </a:solidFill>
                          <a:latin typeface="Verdana"/>
                          <a:ea typeface="Times New Roman"/>
                        </a:rPr>
                        <a:t>Conditions d'exercice</a:t>
                      </a:r>
                      <a:endParaRPr b="0" lang="en-US" sz="13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49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80"/>
                          </a:solidFill>
                          <a:latin typeface="Verdana"/>
                          <a:ea typeface="Times New Roman"/>
                        </a:rPr>
                        <a:t>Moyens et ressources</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gula"/>
                          <a:ea typeface="Times New Roman"/>
                        </a:rPr>
                        <a:t>- Pièces du marché (cahier des charg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gula"/>
                          <a:ea typeface="Times New Roman"/>
                        </a:rPr>
                        <a:t>-Lieu des travaux,</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gula"/>
                          <a:ea typeface="Times New Roman"/>
                        </a:rPr>
                        <a:t>-Spécificité des travaux,</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gula"/>
                          <a:ea typeface="Times New Roman"/>
                        </a:rPr>
                        <a:t>-Etat des lieux (sol et sous-so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gula"/>
                          <a:ea typeface="Times New Roman"/>
                        </a:rPr>
                        <a:t>-Partenaires associés à l’opér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gula"/>
                          <a:ea typeface="Times New Roman"/>
                        </a:rPr>
                        <a:t>-Formulaires de déclaration d'intention de travaux (D.I.T) et de déclaration d'ouverture de travaux (D.O.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gula"/>
                          <a:ea typeface="Times New Roman"/>
                        </a:rPr>
                        <a:t>-Formulaires de demandes de renseignemen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gula"/>
                          <a:ea typeface="Times New Roman"/>
                        </a:rPr>
                        <a:t>-Demandes d’autorisation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gula"/>
                          <a:ea typeface="Times New Roman"/>
                        </a:rPr>
                        <a:t>-Demandes d'arrêtés modifiant la circulation ou les règlements de poli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gula"/>
                          <a:ea typeface="Times New Roman"/>
                        </a:rPr>
                        <a:t>-Constat des lieux,</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gula"/>
                          <a:ea typeface="Times New Roman"/>
                        </a:rPr>
                        <a:t>-Lois, décrets, règlements et assuranc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gula"/>
                          <a:ea typeface="Times New Roman"/>
                        </a:rPr>
                        <a:t>-Conventions collectives.</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59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80"/>
                          </a:solidFill>
                          <a:latin typeface="Verdana"/>
                          <a:ea typeface="Times New Roman"/>
                        </a:rPr>
                        <a:t>Autonomie et responsabilité</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1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Conduite de son (de ses) chantier(s) en totale autonomie et en complète responsabilité.</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1189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80"/>
                          </a:solidFill>
                          <a:latin typeface="Verdana"/>
                          <a:ea typeface="Times New Roman"/>
                        </a:rPr>
                        <a:t>Résultats attendus en entreprise</a:t>
                      </a:r>
                      <a:endParaRPr b="0" lang="en-US" sz="1000" spc="-1" strike="noStrike">
                        <a:solidFill>
                          <a:srgbClr val="000000"/>
                        </a:solidFill>
                        <a:latin typeface="Arial"/>
                      </a:endParaRPr>
                    </a:p>
                  </a:txBody>
                  <a:tcPr anchor="t" marL="90000" marR="90000">
                    <a:lnL w="5760">
                      <a:solidFill>
                        <a:srgbClr val="010000"/>
                      </a:solidFill>
                    </a:lnL>
                    <a:lnR w="5760">
                      <a:solidFill>
                        <a:srgbClr val="000000"/>
                      </a:solidFill>
                    </a:lnR>
                    <a:lnT w="5760">
                      <a:solidFill>
                        <a:srgbClr val="010000"/>
                      </a:solidFill>
                    </a:lnT>
                    <a:lnB w="720">
                      <a:solidFill>
                        <a:srgbClr val="01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Prise en compte de l'état des ouvrages existants et détermination des mesures à prendre pour leur prot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Obtention des autorisations administratives (suite à une D.I.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Connaissance des impératifs locaux,</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Respect des règlements de police, obtention des dérogations éventuelles,</a:t>
                      </a:r>
                      <a:endParaRPr b="0" lang="en-US" sz="12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720">
                      <a:solidFill>
                        <a:srgbClr val="010000"/>
                      </a:solidFill>
                    </a:lnB>
                    <a:noFill/>
                  </a:tcPr>
                </a:tc>
              </a:tr>
              <a:tr h="1006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80"/>
                          </a:solidFill>
                          <a:latin typeface="Verdana"/>
                          <a:ea typeface="Times New Roman"/>
                        </a:rPr>
                        <a:t>Résultats attendus en centre</a:t>
                      </a:r>
                      <a:endParaRPr b="0" lang="en-US" sz="1000" spc="-1" strike="noStrike">
                        <a:solidFill>
                          <a:srgbClr val="000000"/>
                        </a:solidFill>
                        <a:latin typeface="Arial"/>
                      </a:endParaRPr>
                    </a:p>
                  </a:txBody>
                  <a:tcPr anchor="t" marL="90000" marR="90000">
                    <a:lnL w="5760">
                      <a:solidFill>
                        <a:srgbClr val="010000"/>
                      </a:solidFill>
                    </a:lnL>
                    <a:lnR w="5760">
                      <a:solidFill>
                        <a:srgbClr val="010000"/>
                      </a:solidFill>
                    </a:lnR>
                    <a:lnT w="720">
                      <a:solidFill>
                        <a:srgbClr val="010000"/>
                      </a:solidFill>
                    </a:lnT>
                    <a:lnB w="5760">
                      <a:solidFill>
                        <a:srgbClr val="01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Application des conventions collectives et des prescriptions concernant la médecine du travai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Obtention des autorisations administratives (suite à une D.I.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Respect des règles de sécurité pour le public et pour les travailleurs (plan d'hygiène et sécurité s'il y a lieu).</a:t>
                      </a:r>
                      <a:endParaRPr b="0" lang="en-US" sz="1200" spc="-1" strike="noStrike">
                        <a:solidFill>
                          <a:srgbClr val="000000"/>
                        </a:solidFill>
                        <a:latin typeface="Arial"/>
                      </a:endParaRPr>
                    </a:p>
                  </a:txBody>
                  <a:tcPr anchor="t" marL="90000" marR="90000">
                    <a:lnL w="5760">
                      <a:solidFill>
                        <a:srgbClr val="010000"/>
                      </a:solidFill>
                    </a:lnL>
                    <a:lnR w="5760">
                      <a:solidFill>
                        <a:srgbClr val="010000"/>
                      </a:solidFill>
                    </a:lnR>
                    <a:lnT w="720">
                      <a:solidFill>
                        <a:srgbClr val="010000"/>
                      </a:solidFill>
                    </a:lnT>
                    <a:lnB w="5760">
                      <a:solidFill>
                        <a:srgbClr val="01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5" name=""/>
          <p:cNvGraphicFramePr/>
          <p:nvPr/>
        </p:nvGraphicFramePr>
        <p:xfrm>
          <a:off x="250920" y="404640"/>
          <a:ext cx="8675640" cy="5994360"/>
        </p:xfrm>
        <a:graphic>
          <a:graphicData uri="http://schemas.openxmlformats.org/drawingml/2006/table">
            <a:tbl>
              <a:tblPr/>
              <a:tblGrid>
                <a:gridCol w="3373200"/>
                <a:gridCol w="5302440"/>
              </a:tblGrid>
              <a:tr h="474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80"/>
                          </a:solidFill>
                          <a:latin typeface="Verdana"/>
                          <a:ea typeface="Times New Roman"/>
                        </a:rPr>
                        <a:t>Fonction</a:t>
                      </a:r>
                      <a:endParaRPr b="0" lang="en-US" sz="13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Verdana"/>
                          <a:ea typeface="Times New Roman"/>
                        </a:rPr>
                        <a:t>EXPLOITATION</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ea typeface="Times New Roman"/>
                        </a:rPr>
                        <a:t>Préparation de chantier</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10000"/>
                      </a:solidFill>
                    </a:lnB>
                    <a:noFill/>
                  </a:tcPr>
                </a:tc>
              </a:tr>
              <a:tr h="53532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300" spc="-1" strike="noStrike">
                          <a:solidFill>
                            <a:srgbClr val="000080"/>
                          </a:solidFill>
                          <a:latin typeface="Verdana"/>
                          <a:ea typeface="Times New Roman"/>
                        </a:rPr>
                        <a:t>Tâche :</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Verdana"/>
                          <a:ea typeface="Times New Roman"/>
                        </a:rPr>
                        <a:t>Economique et budgétaire</a:t>
                      </a:r>
                      <a:endParaRPr b="0" lang="en-US" sz="1600" spc="-1" strike="noStrike">
                        <a:solidFill>
                          <a:srgbClr val="000000"/>
                        </a:solidFill>
                        <a:latin typeface="Arial"/>
                      </a:endParaRPr>
                    </a:p>
                  </a:txBody>
                  <a:tcPr anchor="t" marL="90000" marR="90000">
                    <a:lnL w="5760">
                      <a:solidFill>
                        <a:srgbClr val="010000"/>
                      </a:solidFill>
                    </a:lnL>
                    <a:lnR w="5760">
                      <a:solidFill>
                        <a:srgbClr val="aca899"/>
                      </a:solidFill>
                    </a:lnR>
                    <a:lnT w="5760">
                      <a:solidFill>
                        <a:srgbClr val="01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196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80"/>
                          </a:solidFill>
                          <a:latin typeface="Verdana"/>
                          <a:ea typeface="Times New Roman"/>
                        </a:rPr>
                        <a:t>Conditions d'exercice</a:t>
                      </a:r>
                      <a:endParaRPr b="0" lang="en-US" sz="13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49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80"/>
                          </a:solidFill>
                          <a:latin typeface="Verdana"/>
                          <a:ea typeface="Times New Roman"/>
                        </a:rPr>
                        <a:t>Moyens et ressources</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gula"/>
                          <a:ea typeface="Times New Roman"/>
                        </a:rPr>
                        <a:t>-Pièces du marché (cahier des charg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gula"/>
                          <a:ea typeface="Times New Roman"/>
                        </a:rPr>
                        <a:t>-Etude de prix,</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gula"/>
                          <a:ea typeface="Times New Roman"/>
                        </a:rPr>
                        <a:t>-Contrats de sous-traitance éventuel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gula"/>
                          <a:ea typeface="Times New Roman"/>
                        </a:rPr>
                        <a:t>-Estimation initiale des fournitures et des moyen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gula"/>
                          <a:ea typeface="Times New Roman"/>
                        </a:rPr>
                        <a:t>-Devis estimatif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gula"/>
                          <a:ea typeface="Times New Roman"/>
                        </a:rPr>
                        <a:t>-Calendriers de réalis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gula"/>
                          <a:ea typeface="Times New Roman"/>
                        </a:rPr>
                        <a:t>-Rendements et rati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gula"/>
                          <a:ea typeface="Times New Roman"/>
                        </a:rPr>
                        <a:t>-Documentation sur les fournisseur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gula"/>
                          <a:ea typeface="Times New Roman"/>
                        </a:rPr>
                        <a:t>-Moyens informatiques et centres de calcul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gula"/>
                          <a:ea typeface="Times New Roman"/>
                        </a:rPr>
                        <a:t>-Nature des lieux,</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gula"/>
                          <a:ea typeface="Times New Roman"/>
                        </a:rPr>
                        <a:t>-Documentation des fournisseurs et des sous-traitan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gula"/>
                          <a:ea typeface="Times New Roman"/>
                        </a:rPr>
                        <a:t>-Chantiers déjà réalisé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gula"/>
                          <a:ea typeface="Times New Roman"/>
                        </a:rPr>
                        <a:t>-Expérience personnel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gula"/>
                          <a:ea typeface="Times New Roman"/>
                        </a:rPr>
                        <a:t>-Barèmes divers.</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59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80"/>
                          </a:solidFill>
                          <a:latin typeface="Verdana"/>
                          <a:ea typeface="Times New Roman"/>
                        </a:rPr>
                        <a:t>Autonomie et responsabilité</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1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Responsabilité totale et autonomie complète dans le cadre des objectifs acceptés conjointement entre sa hiérarchie et lui-même.</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60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80"/>
                          </a:solidFill>
                          <a:latin typeface="Verdana"/>
                          <a:ea typeface="Times New Roman"/>
                        </a:rPr>
                        <a:t>Résultats attendus en entreprise</a:t>
                      </a:r>
                      <a:endParaRPr b="0" lang="en-US" sz="1000" spc="-1" strike="noStrike">
                        <a:solidFill>
                          <a:srgbClr val="000000"/>
                        </a:solidFill>
                        <a:latin typeface="Arial"/>
                      </a:endParaRPr>
                    </a:p>
                  </a:txBody>
                  <a:tcPr anchor="t" marL="90000" marR="90000">
                    <a:lnL w="5760">
                      <a:solidFill>
                        <a:srgbClr val="010000"/>
                      </a:solidFill>
                    </a:lnL>
                    <a:lnR w="5760">
                      <a:solidFill>
                        <a:srgbClr val="000000"/>
                      </a:solidFill>
                    </a:lnR>
                    <a:lnT w="5760">
                      <a:solidFill>
                        <a:srgbClr val="010000"/>
                      </a:solidFill>
                    </a:lnT>
                    <a:lnB w="720">
                      <a:solidFill>
                        <a:srgbClr val="01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gula"/>
                          <a:ea typeface="Times New Roman"/>
                        </a:rPr>
                        <a:t>-Etude chiffrée des variantes d’exécu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gula"/>
                          <a:ea typeface="Times New Roman"/>
                        </a:rPr>
                        <a:t>-Analyse comparative par rapport au budget prévisionnel (rendement, quantitatif),</a:t>
                      </a:r>
                      <a:endParaRPr b="0" lang="en-US" sz="12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720">
                      <a:solidFill>
                        <a:srgbClr val="010000"/>
                      </a:solidFill>
                    </a:lnB>
                    <a:noFill/>
                  </a:tcPr>
                </a:tc>
              </a:tr>
              <a:tr h="824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80"/>
                          </a:solidFill>
                          <a:latin typeface="Verdana"/>
                          <a:ea typeface="Times New Roman"/>
                        </a:rPr>
                        <a:t>Résultats attendus en centre</a:t>
                      </a:r>
                      <a:endParaRPr b="0" lang="en-US" sz="1000" spc="-1" strike="noStrike">
                        <a:solidFill>
                          <a:srgbClr val="000000"/>
                        </a:solidFill>
                        <a:latin typeface="Arial"/>
                      </a:endParaRPr>
                    </a:p>
                  </a:txBody>
                  <a:tcPr anchor="t" marL="90000" marR="90000">
                    <a:lnL w="5760">
                      <a:solidFill>
                        <a:srgbClr val="010000"/>
                      </a:solidFill>
                    </a:lnL>
                    <a:lnR w="5760">
                      <a:solidFill>
                        <a:srgbClr val="010000"/>
                      </a:solidFill>
                    </a:lnR>
                    <a:lnT w="720">
                      <a:solidFill>
                        <a:srgbClr val="010000"/>
                      </a:solidFill>
                    </a:lnT>
                    <a:lnB w="5760">
                      <a:solidFill>
                        <a:srgbClr val="01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gula"/>
                          <a:ea typeface="Times New Roman"/>
                        </a:rPr>
                        <a:t>-Analyse comparative par rapport au budget prévisionnel (rendement, quantitatif),</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gula"/>
                          <a:ea typeface="Times New Roman"/>
                        </a:rPr>
                        <a:t>-Etude chiffrée des variantes d’exécu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gula"/>
                          <a:ea typeface="Times New Roman"/>
                        </a:rPr>
                        <a:t>-Marges prévisionnelles.</a:t>
                      </a:r>
                      <a:endParaRPr b="0" lang="en-US" sz="1200" spc="-1" strike="noStrike">
                        <a:solidFill>
                          <a:srgbClr val="000000"/>
                        </a:solidFill>
                        <a:latin typeface="Arial"/>
                      </a:endParaRPr>
                    </a:p>
                  </a:txBody>
                  <a:tcPr anchor="t" marL="90000" marR="90000">
                    <a:lnL w="5760">
                      <a:solidFill>
                        <a:srgbClr val="010000"/>
                      </a:solidFill>
                    </a:lnL>
                    <a:lnR w="5760">
                      <a:solidFill>
                        <a:srgbClr val="010000"/>
                      </a:solidFill>
                    </a:lnR>
                    <a:lnT w="720">
                      <a:solidFill>
                        <a:srgbClr val="010000"/>
                      </a:solidFill>
                    </a:lnT>
                    <a:lnB w="5760">
                      <a:solidFill>
                        <a:srgbClr val="01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 name=""/>
          <p:cNvGraphicFramePr/>
          <p:nvPr/>
        </p:nvGraphicFramePr>
        <p:xfrm>
          <a:off x="250920" y="765000"/>
          <a:ext cx="8661240" cy="5040360"/>
        </p:xfrm>
        <a:graphic>
          <a:graphicData uri="http://schemas.openxmlformats.org/drawingml/2006/table">
            <a:tbl>
              <a:tblPr/>
              <a:tblGrid>
                <a:gridCol w="3336840"/>
                <a:gridCol w="5324400"/>
              </a:tblGrid>
              <a:tr h="474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80"/>
                          </a:solidFill>
                          <a:latin typeface="Verdana"/>
                          <a:ea typeface="Times New Roman"/>
                        </a:rPr>
                        <a:t>Fonction</a:t>
                      </a:r>
                      <a:endParaRPr b="0" lang="en-US" sz="13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Verdana"/>
                          <a:ea typeface="Times New Roman"/>
                        </a:rPr>
                        <a:t>EXPLOITATION</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ea typeface="Times New Roman"/>
                        </a:rPr>
                        <a:t>REALISATION DE CHANTIER</a:t>
                      </a:r>
                      <a:endParaRPr b="0" lang="en-US" sz="12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r>
              <a:tr h="53532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300" spc="-1" strike="noStrike">
                          <a:solidFill>
                            <a:srgbClr val="000080"/>
                          </a:solidFill>
                          <a:latin typeface="Verdana"/>
                          <a:ea typeface="Times New Roman"/>
                        </a:rPr>
                        <a:t>Tâche :</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Verdana"/>
                          <a:ea typeface="Times New Roman"/>
                        </a:rPr>
                        <a:t>Economique et budgétaire</a:t>
                      </a:r>
                      <a:endParaRPr b="0" lang="en-US" sz="16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196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80"/>
                          </a:solidFill>
                          <a:latin typeface="Verdana"/>
                          <a:ea typeface="Times New Roman"/>
                        </a:rPr>
                        <a:t>Conditions d'exercice</a:t>
                      </a:r>
                      <a:endParaRPr b="0" lang="en-US" sz="13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706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80"/>
                          </a:solidFill>
                          <a:latin typeface="Verdana"/>
                          <a:ea typeface="Times New Roman"/>
                        </a:rPr>
                        <a:t>Moyens et ressources</a:t>
                      </a:r>
                      <a:endParaRPr b="0" lang="en-US" sz="10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Pièces du marché (cahier des charg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Contrats des sous-traitants et des co-traitan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Dossier de prépar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Tarifs et devis des loueurs et fournisseur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Tarifs internes, barèmes, ..., diver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Documents des suivis périodiques du chanti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Outils informatiques et logiciel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Ratios divers de l’entrepris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 </a:t>
                      </a:r>
                      <a:endParaRPr b="0" lang="en-US" sz="10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r>
              <a:tr h="459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80"/>
                          </a:solidFill>
                          <a:latin typeface="Verdana"/>
                          <a:ea typeface="Times New Roman"/>
                        </a:rPr>
                        <a:t>Autonomie et responsabilité</a:t>
                      </a:r>
                      <a:endParaRPr b="0" lang="en-US" sz="10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Responsabilité totale et autonomie complète dans le cadre des objectifs acceptés conjointement entre sa hiérarchie et lui-même.</a:t>
                      </a:r>
                      <a:endParaRPr b="0" lang="en-US" sz="12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r>
              <a:tr h="995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80"/>
                          </a:solidFill>
                          <a:latin typeface="Verdana"/>
                          <a:ea typeface="Times New Roman"/>
                        </a:rPr>
                        <a:t>Résultats attendus en entreprise</a:t>
                      </a:r>
                      <a:endParaRPr b="0" lang="en-US" sz="10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Optimisation du budget dans le respect de la qualité et de la sécurité par un suivi et un contrôle quotidien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Réaction en cas de dérive du budget et information à la hiérarchie.</a:t>
                      </a:r>
                      <a:endParaRPr b="0" lang="en-US" sz="12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r>
              <a:tr h="577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80"/>
                          </a:solidFill>
                          <a:latin typeface="Verdana"/>
                          <a:ea typeface="Times New Roman"/>
                        </a:rPr>
                        <a:t>Résultats attendus en centre</a:t>
                      </a:r>
                      <a:endParaRPr b="0" lang="en-US" sz="10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Optimisation du budget dans le respect de la qualité et de la sécurité par un suivi et un contrôle quotidiens,</a:t>
                      </a:r>
                      <a:endParaRPr b="0" lang="en-US" sz="12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7" name=""/>
          <p:cNvGraphicFramePr/>
          <p:nvPr/>
        </p:nvGraphicFramePr>
        <p:xfrm>
          <a:off x="324000" y="333360"/>
          <a:ext cx="8589960" cy="6157800"/>
        </p:xfrm>
        <a:graphic>
          <a:graphicData uri="http://schemas.openxmlformats.org/drawingml/2006/table">
            <a:tbl>
              <a:tblPr/>
              <a:tblGrid>
                <a:gridCol w="3384720"/>
                <a:gridCol w="5205240"/>
              </a:tblGrid>
              <a:tr h="474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80"/>
                          </a:solidFill>
                          <a:latin typeface="Verdana"/>
                          <a:ea typeface="Times New Roman"/>
                        </a:rPr>
                        <a:t>Fonction</a:t>
                      </a:r>
                      <a:endParaRPr b="0" lang="en-US" sz="13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Verdana"/>
                          <a:ea typeface="Times New Roman"/>
                        </a:rPr>
                        <a:t>EXPLOITATION</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ea typeface="Times New Roman"/>
                        </a:rPr>
                        <a:t>Préparation de chantier</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10000"/>
                      </a:solidFill>
                    </a:lnB>
                    <a:noFill/>
                  </a:tcPr>
                </a:tc>
              </a:tr>
              <a:tr h="992160">
                <a:tc gridSpan="2">
                  <a:txBody>
                    <a:bodyPr lIns="90000" rIns="90000" tIns="46800" bIns="46800" anchor="t">
                      <a:noAutofit/>
                    </a:bodyPr>
                    <a:p>
                      <a:pPr>
                        <a:lnSpc>
                          <a:spcPct val="100000"/>
                        </a:lnSpc>
                        <a:tabLst>
                          <a:tab algn="l" pos="0"/>
                          <a:tab algn="l" pos="127476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80"/>
                          </a:solidFill>
                          <a:latin typeface="Verdana"/>
                          <a:ea typeface="Times New Roman"/>
                        </a:rPr>
                        <a:t>Tâche :</a:t>
                      </a:r>
                      <a:endParaRPr b="0" lang="en-US" sz="1300" spc="-1" strike="noStrike">
                        <a:solidFill>
                          <a:srgbClr val="000000"/>
                        </a:solidFill>
                        <a:latin typeface="Arial"/>
                      </a:endParaRPr>
                    </a:p>
                    <a:p>
                      <a:pPr>
                        <a:lnSpc>
                          <a:spcPct val="100000"/>
                        </a:lnSpc>
                        <a:tabLst>
                          <a:tab algn="l" pos="0"/>
                          <a:tab algn="l" pos="12747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ea typeface="Times New Roman"/>
                        </a:rPr>
                        <a:t>Relations - communication</a:t>
                      </a:r>
                      <a:endParaRPr b="0" lang="en-US" sz="1600" spc="-1" strike="noStrike">
                        <a:solidFill>
                          <a:srgbClr val="000000"/>
                        </a:solidFill>
                        <a:latin typeface="Arial"/>
                      </a:endParaRPr>
                    </a:p>
                    <a:p>
                      <a:pPr>
                        <a:lnSpc>
                          <a:spcPct val="100000"/>
                        </a:lnSpc>
                        <a:buClr>
                          <a:srgbClr val="000000"/>
                        </a:buClr>
                        <a:buFont typeface="Times New Roman"/>
                        <a:buChar char="-"/>
                        <a:tabLst>
                          <a:tab algn="l" pos="127476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Négocier les conditions de réalisation (hiérarchie, maître d'oeuvre, maître d'ouvrage, fournisseurs, ...) </a:t>
                      </a:r>
                      <a:endParaRPr b="0" lang="en-US" sz="1000" spc="-1" strike="noStrike">
                        <a:solidFill>
                          <a:srgbClr val="000000"/>
                        </a:solidFill>
                        <a:latin typeface="Arial"/>
                      </a:endParaRPr>
                    </a:p>
                    <a:p>
                      <a:pPr>
                        <a:lnSpc>
                          <a:spcPct val="100000"/>
                        </a:lnSpc>
                        <a:buClr>
                          <a:srgbClr val="000000"/>
                        </a:buClr>
                        <a:buFont typeface="Times New Roman"/>
                        <a:buChar char="-"/>
                        <a:tabLst>
                          <a:tab algn="l" pos="127476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ransmettre l'information écrite ou orale et vérifier sa réception </a:t>
                      </a:r>
                      <a:endParaRPr b="0" lang="en-US" sz="1000" spc="-1" strike="noStrike">
                        <a:solidFill>
                          <a:srgbClr val="000000"/>
                        </a:solidFill>
                        <a:latin typeface="Arial"/>
                      </a:endParaRPr>
                    </a:p>
                    <a:p>
                      <a:pPr>
                        <a:lnSpc>
                          <a:spcPct val="100000"/>
                        </a:lnSpc>
                        <a:buClr>
                          <a:srgbClr val="000000"/>
                        </a:buClr>
                        <a:buFont typeface="Times New Roman"/>
                        <a:buChar char="-"/>
                        <a:tabLst>
                          <a:tab algn="l" pos="127476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Animer les entretiens et réunions préparatoires </a:t>
                      </a:r>
                      <a:endParaRPr b="0" lang="en-US" sz="1000" spc="-1" strike="noStrike">
                        <a:solidFill>
                          <a:srgbClr val="000000"/>
                        </a:solidFill>
                        <a:latin typeface="Arial"/>
                      </a:endParaRPr>
                    </a:p>
                  </a:txBody>
                  <a:tcPr anchor="t" marL="90000" marR="90000">
                    <a:lnL w="5760">
                      <a:solidFill>
                        <a:srgbClr val="010000"/>
                      </a:solidFill>
                    </a:lnL>
                    <a:lnR w="5760">
                      <a:solidFill>
                        <a:srgbClr val="aca899"/>
                      </a:solidFill>
                    </a:lnR>
                    <a:lnT w="5760">
                      <a:solidFill>
                        <a:srgbClr val="01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196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80"/>
                          </a:solidFill>
                          <a:latin typeface="Verdana"/>
                          <a:ea typeface="Times New Roman"/>
                        </a:rPr>
                        <a:t>Conditions d'exercice</a:t>
                      </a:r>
                      <a:endParaRPr b="0" lang="en-US" sz="13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84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80"/>
                          </a:solidFill>
                          <a:latin typeface="Verdana"/>
                          <a:ea typeface="Times New Roman"/>
                        </a:rPr>
                        <a:t>Moyens et ressources</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a:t>
                      </a:r>
                      <a:r>
                        <a:rPr b="0" lang="en-US" sz="1200" spc="-1" strike="noStrike" u="sng">
                          <a:solidFill>
                            <a:srgbClr val="000000"/>
                          </a:solidFill>
                          <a:uFillTx/>
                          <a:latin typeface="Caligula"/>
                          <a:ea typeface="Times New Roman"/>
                        </a:rPr>
                        <a:t>Internes à l'entreprise </a:t>
                      </a:r>
                      <a:r>
                        <a:rPr b="0" lang="en-US" sz="1200" spc="-1" strike="noStrike">
                          <a:solidFill>
                            <a:srgbClr val="000000"/>
                          </a:solidFill>
                          <a:latin typeface="Caligula"/>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hiérarchie, homologu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personnel de réalis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services fonctionnel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moyens matériels de communic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a:t>
                      </a:r>
                      <a:r>
                        <a:rPr b="0" lang="en-US" sz="1200" spc="-1" strike="noStrike" u="sng">
                          <a:solidFill>
                            <a:srgbClr val="000000"/>
                          </a:solidFill>
                          <a:uFillTx/>
                          <a:latin typeface="Caligula"/>
                          <a:ea typeface="Times New Roman"/>
                        </a:rPr>
                        <a:t>Externes à l'entreprise </a:t>
                      </a:r>
                      <a:r>
                        <a:rPr b="0" lang="en-US" sz="1200" spc="-1" strike="noStrike">
                          <a:solidFill>
                            <a:srgbClr val="000000"/>
                          </a:solidFill>
                          <a:latin typeface="Caligula"/>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partenaires associés à la réalisation (co-traitants et sous-traitants, maître d'ouvrage et maître d’oeuvre, environnement direct du chanti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 </a:t>
                      </a:r>
                      <a:r>
                        <a:rPr b="0" lang="en-US" sz="1200" spc="-1" strike="noStrike" u="sng">
                          <a:solidFill>
                            <a:srgbClr val="000000"/>
                          </a:solidFill>
                          <a:uFillTx/>
                          <a:latin typeface="Caligula"/>
                          <a:ea typeface="Times New Roman"/>
                        </a:rPr>
                        <a:t>Autres </a:t>
                      </a:r>
                      <a:r>
                        <a:rPr b="0" lang="en-US" sz="1200" spc="-1" strike="noStrike">
                          <a:solidFill>
                            <a:srgbClr val="000000"/>
                          </a:solidFill>
                          <a:latin typeface="Caligula"/>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dossiers résultant de la préparation administrative, technique, économique et budgétaire.</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80"/>
                          </a:solidFill>
                          <a:latin typeface="Verdana"/>
                          <a:ea typeface="Times New Roman"/>
                        </a:rPr>
                        <a:t>Autonomie et responsabilité</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Relations adaptées à l'interlocuteur.</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1838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80"/>
                          </a:solidFill>
                          <a:latin typeface="Verdana"/>
                          <a:ea typeface="Times New Roman"/>
                        </a:rPr>
                        <a:t>Résultats attendus en entreprise</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Accord sur les conditions de réalis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Information complète de tous les intervenants concernés par le chantier (ou les chantiers) y compris riverains et usagers, pour assurer qualité et sécurité en évitant les situations conflictuell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Obtention de l'adhésion des participants.</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8" name=""/>
          <p:cNvGraphicFramePr/>
          <p:nvPr/>
        </p:nvGraphicFramePr>
        <p:xfrm>
          <a:off x="250920" y="181080"/>
          <a:ext cx="8569080" cy="6676920"/>
        </p:xfrm>
        <a:graphic>
          <a:graphicData uri="http://schemas.openxmlformats.org/drawingml/2006/table">
            <a:tbl>
              <a:tblPr/>
              <a:tblGrid>
                <a:gridCol w="3336840"/>
                <a:gridCol w="5232240"/>
              </a:tblGrid>
              <a:tr h="474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80"/>
                          </a:solidFill>
                          <a:latin typeface="Verdana"/>
                          <a:ea typeface="Times New Roman"/>
                        </a:rPr>
                        <a:t>Fonction</a:t>
                      </a:r>
                      <a:endParaRPr b="0" lang="en-US" sz="13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Verdana"/>
                          <a:ea typeface="Times New Roman"/>
                        </a:rPr>
                        <a:t>EXPLOITATION</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ea typeface="Times New Roman"/>
                        </a:rPr>
                        <a:t>REALISATION DE CHANTIER</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10000"/>
                      </a:solidFill>
                    </a:lnB>
                    <a:noFill/>
                  </a:tcPr>
                </a:tc>
              </a:tr>
              <a:tr h="1082880">
                <a:tc gridSpan="2">
                  <a:txBody>
                    <a:bodyPr lIns="90000" rIns="90000" tIns="46800" bIns="46800" anchor="t">
                      <a:noAutofit/>
                    </a:bodyPr>
                    <a:p>
                      <a:pPr>
                        <a:lnSpc>
                          <a:spcPct val="100000"/>
                        </a:lnSpc>
                        <a:tabLst>
                          <a:tab algn="l" pos="0"/>
                          <a:tab algn="l" pos="104616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80"/>
                          </a:solidFill>
                          <a:latin typeface="Verdana"/>
                          <a:ea typeface="Times New Roman"/>
                        </a:rPr>
                        <a:t>Tâche :</a:t>
                      </a:r>
                      <a:endParaRPr b="0" lang="en-US" sz="1300" spc="-1" strike="noStrike">
                        <a:solidFill>
                          <a:srgbClr val="000000"/>
                        </a:solidFill>
                        <a:latin typeface="Arial"/>
                      </a:endParaRPr>
                    </a:p>
                    <a:p>
                      <a:pPr>
                        <a:lnSpc>
                          <a:spcPct val="100000"/>
                        </a:lnSpc>
                        <a:tabLst>
                          <a:tab algn="l" pos="0"/>
                          <a:tab algn="l" pos="1046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ea typeface="Times New Roman"/>
                        </a:rPr>
                        <a:t>Technique</a:t>
                      </a:r>
                      <a:endParaRPr b="0" lang="en-US" sz="1600" spc="-1" strike="noStrike">
                        <a:solidFill>
                          <a:srgbClr val="000000"/>
                        </a:solidFill>
                        <a:latin typeface="Arial"/>
                      </a:endParaRPr>
                    </a:p>
                    <a:p>
                      <a:pPr>
                        <a:lnSpc>
                          <a:spcPct val="100000"/>
                        </a:lnSpc>
                        <a:buClr>
                          <a:srgbClr val="000000"/>
                        </a:buClr>
                        <a:buFont typeface="Times New Roman"/>
                        <a:buChar char="-"/>
                        <a:tabLst>
                          <a:tab algn="l" pos="10461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nstaller et implanter son chantier</a:t>
                      </a:r>
                      <a:endParaRPr b="0" lang="en-US" sz="1200" spc="-1" strike="noStrike">
                        <a:solidFill>
                          <a:srgbClr val="000000"/>
                        </a:solidFill>
                        <a:latin typeface="Arial"/>
                      </a:endParaRPr>
                    </a:p>
                    <a:p>
                      <a:pPr>
                        <a:lnSpc>
                          <a:spcPct val="100000"/>
                        </a:lnSpc>
                        <a:buClr>
                          <a:srgbClr val="000000"/>
                        </a:buClr>
                        <a:buFont typeface="Times New Roman"/>
                        <a:buChar char="-"/>
                        <a:tabLst>
                          <a:tab algn="l" pos="10461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émarrer le chantier et assurer son bon déroulement</a:t>
                      </a:r>
                      <a:endParaRPr b="0" lang="en-US" sz="1200" spc="-1" strike="noStrike">
                        <a:solidFill>
                          <a:srgbClr val="000000"/>
                        </a:solidFill>
                        <a:latin typeface="Arial"/>
                      </a:endParaRPr>
                    </a:p>
                    <a:p>
                      <a:pPr>
                        <a:lnSpc>
                          <a:spcPct val="100000"/>
                        </a:lnSpc>
                        <a:buClr>
                          <a:srgbClr val="000000"/>
                        </a:buClr>
                        <a:buFont typeface="Times New Roman"/>
                        <a:buChar char="-"/>
                        <a:tabLst>
                          <a:tab algn="l" pos="10461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ssurer la réception du chantier</a:t>
                      </a:r>
                      <a:endParaRPr b="0" lang="en-US" sz="1200" spc="-1" strike="noStrike">
                        <a:solidFill>
                          <a:srgbClr val="000000"/>
                        </a:solidFill>
                        <a:latin typeface="Arial"/>
                      </a:endParaRPr>
                    </a:p>
                  </a:txBody>
                  <a:tcPr anchor="t" marL="90000" marR="90000">
                    <a:lnL w="5760">
                      <a:solidFill>
                        <a:srgbClr val="010000"/>
                      </a:solidFill>
                    </a:lnL>
                    <a:lnR w="5760">
                      <a:solidFill>
                        <a:srgbClr val="aca899"/>
                      </a:solidFill>
                    </a:lnR>
                    <a:lnT w="5760">
                      <a:solidFill>
                        <a:srgbClr val="01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196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80"/>
                          </a:solidFill>
                          <a:latin typeface="Verdana"/>
                          <a:ea typeface="Times New Roman"/>
                        </a:rPr>
                        <a:t>Conditions d'exercice</a:t>
                      </a:r>
                      <a:endParaRPr b="0" lang="en-US" sz="13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93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80"/>
                          </a:solidFill>
                          <a:latin typeface="Verdana"/>
                          <a:ea typeface="Times New Roman"/>
                        </a:rPr>
                        <a:t>Moyens et ressources</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Pièces du marché,</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Dossier de prépar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Règles de l'art (fascicules, ...), code de la route et des trans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Prescriptions techniques du cli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P.A.Q (Plan d'Assurance Qualité),</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P.H.S (Plan d'Hygiène et Sécurité),</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Données sur l’environnement, données</a:t>
                      </a:r>
                      <a:r>
                        <a:rPr b="0" lang="en-US" sz="1800" spc="-1" strike="noStrike">
                          <a:solidFill>
                            <a:srgbClr val="000000"/>
                          </a:solidFill>
                          <a:latin typeface="Arial"/>
                        </a:rPr>
                        <a:t> </a:t>
                      </a:r>
                      <a:r>
                        <a:rPr b="0" lang="en-US" sz="1200" spc="-1" strike="noStrike">
                          <a:solidFill>
                            <a:srgbClr val="000000"/>
                          </a:solidFill>
                          <a:latin typeface="Caligula"/>
                          <a:ea typeface="Times New Roman"/>
                        </a:rPr>
                        <a:t>topographiques</a:t>
                      </a:r>
                      <a:r>
                        <a:rPr b="0" lang="en-US" sz="1800" spc="-1" strike="noStrike">
                          <a:solidFill>
                            <a:srgbClr val="000000"/>
                          </a:solidFill>
                          <a:latin typeface="Aria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Moyens en personnel, en matériel, en matériaux,</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Sous-traitants et co-traitan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Laboratoire,bureau de contrôle, moyen d’autocontrô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Compte rendus d'essais (analyse de matériaux, ...) </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24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80"/>
                          </a:solidFill>
                          <a:latin typeface="Verdana"/>
                          <a:ea typeface="Times New Roman"/>
                        </a:rPr>
                        <a:t>Autonomie et responsabilité</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1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Responsabilité totale et autonomie complète dans le cadre des objectifs acceptés conjointement entre sa hiérarchie et lui-mêm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Responsabilités engagées suite à des malfaçons, ou non-respect de prescriptions, ... </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1189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80"/>
                          </a:solidFill>
                          <a:latin typeface="Verdana"/>
                          <a:ea typeface="Times New Roman"/>
                        </a:rPr>
                        <a:t>Résultats attendus en entreprise</a:t>
                      </a:r>
                      <a:endParaRPr b="0" lang="en-US" sz="1000" spc="-1" strike="noStrike">
                        <a:solidFill>
                          <a:srgbClr val="000000"/>
                        </a:solidFill>
                        <a:latin typeface="Arial"/>
                      </a:endParaRPr>
                    </a:p>
                  </a:txBody>
                  <a:tcPr anchor="t" marL="90000" marR="90000">
                    <a:lnL w="5760">
                      <a:solidFill>
                        <a:srgbClr val="010000"/>
                      </a:solidFill>
                    </a:lnL>
                    <a:lnR w="5760">
                      <a:solidFill>
                        <a:srgbClr val="000000"/>
                      </a:solidFill>
                    </a:lnR>
                    <a:lnT w="5760">
                      <a:solidFill>
                        <a:srgbClr val="010000"/>
                      </a:solidFill>
                    </a:lnT>
                    <a:lnB w="720">
                      <a:solidFill>
                        <a:srgbClr val="01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Réalisation du chantier en conformité avec les prescriptions techniques particulières permettant sa réception dans les délais prévus, son règlement rapide, le renforcement de l'image de l’entrepris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Réalisation des plans de recollement et des pièces nécessaires à l'utilisation de l’ouvrage.</a:t>
                      </a:r>
                      <a:endParaRPr b="0" lang="en-US" sz="12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noFill/>
                  </a:tcPr>
                </a:tc>
              </a:tr>
              <a:tr h="1006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80"/>
                          </a:solidFill>
                          <a:latin typeface="Verdana"/>
                          <a:ea typeface="Times New Roman"/>
                        </a:rPr>
                        <a:t>Résultats attendus en centre</a:t>
                      </a:r>
                      <a:endParaRPr b="0" lang="en-US" sz="1000" spc="-1" strike="noStrike">
                        <a:solidFill>
                          <a:srgbClr val="000000"/>
                        </a:solidFill>
                        <a:latin typeface="Arial"/>
                      </a:endParaRPr>
                    </a:p>
                  </a:txBody>
                  <a:tcPr anchor="t" marL="90000" marR="90000">
                    <a:lnL w="5760">
                      <a:solidFill>
                        <a:srgbClr val="010000"/>
                      </a:solidFill>
                    </a:lnL>
                    <a:lnR w="5760">
                      <a:solidFill>
                        <a:srgbClr val="000000"/>
                      </a:solidFill>
                    </a:lnR>
                    <a:lnT w="720">
                      <a:solidFill>
                        <a:srgbClr val="010000"/>
                      </a:solidFill>
                    </a:lnT>
                    <a:lnB w="5760">
                      <a:solidFill>
                        <a:srgbClr val="01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Connaître tous les documents et méthodes pour permettre la réalisation du chantier en conformité avec les prescriptions techniques particulières permettant sa réception dans les délais prévus, son règlement rapide, le renforcement de l'image de l’entreprise,</a:t>
                      </a:r>
                      <a:endParaRPr b="0" lang="en-US" sz="12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9" name=""/>
          <p:cNvGraphicFramePr/>
          <p:nvPr/>
        </p:nvGraphicFramePr>
        <p:xfrm>
          <a:off x="324000" y="404640"/>
          <a:ext cx="8445240" cy="6029280"/>
        </p:xfrm>
        <a:graphic>
          <a:graphicData uri="http://schemas.openxmlformats.org/drawingml/2006/table">
            <a:tbl>
              <a:tblPr/>
              <a:tblGrid>
                <a:gridCol w="3289680"/>
                <a:gridCol w="5155560"/>
              </a:tblGrid>
              <a:tr h="474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80"/>
                          </a:solidFill>
                          <a:latin typeface="Verdana"/>
                          <a:ea typeface="Times New Roman"/>
                        </a:rPr>
                        <a:t>Fonction</a:t>
                      </a:r>
                      <a:endParaRPr b="0" lang="en-US" sz="13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Verdana"/>
                          <a:ea typeface="Times New Roman"/>
                        </a:rPr>
                        <a:t>EXPLOITATION</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ea typeface="Times New Roman"/>
                        </a:rPr>
                        <a:t>REALISATION DE CHANTIER</a:t>
                      </a:r>
                      <a:endParaRPr b="0" lang="en-US" sz="12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r>
              <a:tr h="1447920">
                <a:tc gridSpan="2">
                  <a:txBody>
                    <a:bodyPr lIns="90000" rIns="90000" tIns="46800" bIns="46800" anchor="t">
                      <a:noAutofit/>
                    </a:bodyPr>
                    <a:p>
                      <a:pPr>
                        <a:lnSpc>
                          <a:spcPct val="100000"/>
                        </a:lnSpc>
                        <a:tabLst>
                          <a:tab algn="l" pos="0"/>
                          <a:tab algn="l" pos="1046160"/>
                          <a:tab algn="l" pos="1828800"/>
                          <a:tab algn="l" pos="2743200"/>
                          <a:tab algn="l" pos="3657600"/>
                          <a:tab algn="l" pos="4572000"/>
                          <a:tab algn="l" pos="5486400"/>
                          <a:tab algn="l" pos="6400800"/>
                          <a:tab algn="l" pos="7315200"/>
                          <a:tab algn="l" pos="8229600"/>
                          <a:tab algn="l" pos="9144000"/>
                          <a:tab algn="l" pos="10058400"/>
                        </a:tabLst>
                      </a:pPr>
                      <a:r>
                        <a:rPr b="1" i="1" lang="fr-FR" sz="1300" spc="-1" strike="noStrike">
                          <a:solidFill>
                            <a:srgbClr val="000080"/>
                          </a:solidFill>
                          <a:latin typeface="Verdana"/>
                          <a:ea typeface="Times New Roman"/>
                        </a:rPr>
                        <a:t>Tâche :</a:t>
                      </a:r>
                      <a:endParaRPr b="0" lang="en-US" sz="1300" spc="-1" strike="noStrike">
                        <a:solidFill>
                          <a:srgbClr val="000000"/>
                        </a:solidFill>
                        <a:latin typeface="Arial"/>
                      </a:endParaRPr>
                    </a:p>
                    <a:p>
                      <a:pPr>
                        <a:lnSpc>
                          <a:spcPct val="100000"/>
                        </a:lnSpc>
                        <a:tabLst>
                          <a:tab algn="l" pos="0"/>
                          <a:tab algn="l" pos="104616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Verdana"/>
                          <a:ea typeface="Times New Roman"/>
                        </a:rPr>
                        <a:t>Relations - communication</a:t>
                      </a:r>
                      <a:endParaRPr b="0" lang="en-US" sz="1600" spc="-1" strike="noStrike">
                        <a:solidFill>
                          <a:srgbClr val="000000"/>
                        </a:solidFill>
                        <a:latin typeface="Arial"/>
                      </a:endParaRPr>
                    </a:p>
                    <a:p>
                      <a:pPr>
                        <a:lnSpc>
                          <a:spcPct val="100000"/>
                        </a:lnSpc>
                        <a:buClr>
                          <a:srgbClr val="000000"/>
                        </a:buClr>
                        <a:buFont typeface="Times New Roman"/>
                        <a:buChar char="-"/>
                        <a:tabLst>
                          <a:tab algn="l" pos="104616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Ecouter, traduire et transmettre</a:t>
                      </a:r>
                      <a:endParaRPr b="0" lang="en-US" sz="1200" spc="-1" strike="noStrike">
                        <a:solidFill>
                          <a:srgbClr val="000000"/>
                        </a:solidFill>
                        <a:latin typeface="Arial"/>
                      </a:endParaRPr>
                    </a:p>
                    <a:p>
                      <a:pPr>
                        <a:lnSpc>
                          <a:spcPct val="100000"/>
                        </a:lnSpc>
                        <a:buClr>
                          <a:srgbClr val="000000"/>
                        </a:buClr>
                        <a:buFont typeface="Times New Roman"/>
                        <a:buChar char="-"/>
                        <a:tabLst>
                          <a:tab algn="l" pos="104616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Accueillir, informer et former, animer, évaluer les personnels</a:t>
                      </a:r>
                      <a:endParaRPr b="0" lang="en-US" sz="1200" spc="-1" strike="noStrike">
                        <a:solidFill>
                          <a:srgbClr val="000000"/>
                        </a:solidFill>
                        <a:latin typeface="Arial"/>
                      </a:endParaRPr>
                    </a:p>
                    <a:p>
                      <a:pPr>
                        <a:lnSpc>
                          <a:spcPct val="100000"/>
                        </a:lnSpc>
                        <a:buClr>
                          <a:srgbClr val="000000"/>
                        </a:buClr>
                        <a:buFont typeface="Times New Roman"/>
                        <a:buChar char="-"/>
                        <a:tabLst>
                          <a:tab algn="l" pos="104616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Déléguer et contrôler </a:t>
                      </a:r>
                      <a:endParaRPr b="0" lang="en-US" sz="1200" spc="-1" strike="noStrike">
                        <a:solidFill>
                          <a:srgbClr val="000000"/>
                        </a:solidFill>
                        <a:latin typeface="Arial"/>
                      </a:endParaRPr>
                    </a:p>
                    <a:p>
                      <a:pPr>
                        <a:lnSpc>
                          <a:spcPct val="100000"/>
                        </a:lnSpc>
                        <a:buClr>
                          <a:srgbClr val="000000"/>
                        </a:buClr>
                        <a:buFont typeface="Times New Roman"/>
                        <a:buChar char="-"/>
                        <a:tabLst>
                          <a:tab algn="l" pos="104616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Ecouter les interlocuteurs externes à l'entreprise et argumenter</a:t>
                      </a:r>
                      <a:endParaRPr b="0" lang="en-US" sz="1200" spc="-1" strike="noStrike">
                        <a:solidFill>
                          <a:srgbClr val="000000"/>
                        </a:solidFill>
                        <a:latin typeface="Arial"/>
                      </a:endParaRPr>
                    </a:p>
                    <a:p>
                      <a:pPr>
                        <a:lnSpc>
                          <a:spcPct val="100000"/>
                        </a:lnSpc>
                        <a:buClr>
                          <a:srgbClr val="000000"/>
                        </a:buClr>
                        <a:buFont typeface="Times New Roman"/>
                        <a:buChar char="-"/>
                        <a:tabLst>
                          <a:tab algn="l" pos="104616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Rendre compte à ses supérieurs </a:t>
                      </a:r>
                      <a:endParaRPr b="0" lang="en-US" sz="12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196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80"/>
                          </a:solidFill>
                          <a:latin typeface="Verdana"/>
                          <a:ea typeface="Times New Roman"/>
                        </a:rPr>
                        <a:t>Conditions d'exercice</a:t>
                      </a:r>
                      <a:endParaRPr b="0" lang="en-US" sz="13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554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80"/>
                          </a:solidFill>
                          <a:latin typeface="Verdana"/>
                          <a:ea typeface="Times New Roman"/>
                        </a:rPr>
                        <a:t>Moyens et ressources</a:t>
                      </a:r>
                      <a:endParaRPr b="0" lang="en-US" sz="10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gula"/>
                          <a:ea typeface="Times New Roman"/>
                        </a:rPr>
                        <a:t>-Personnel de produ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gula"/>
                          <a:ea typeface="Times New Roman"/>
                        </a:rPr>
                        <a:t>-Responsables hiérarchiques et services fonctionnel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gula"/>
                          <a:ea typeface="Times New Roman"/>
                        </a:rPr>
                        <a:t>-Maître d'oeuvre, et maître d’ouvrag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gula"/>
                          <a:ea typeface="Times New Roman"/>
                        </a:rPr>
                        <a:t>-Riverain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gula"/>
                          <a:ea typeface="Times New Roman"/>
                        </a:rPr>
                        <a:t>-Co-traitants et sous-traitan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gula"/>
                          <a:ea typeface="Times New Roman"/>
                        </a:rPr>
                        <a:t>-Stagiaires, élèv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gula"/>
                          <a:ea typeface="Times New Roman"/>
                        </a:rPr>
                        <a:t>-Environne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gula"/>
                          <a:ea typeface="Times New Roman"/>
                        </a:rPr>
                        <a:t>-Croquis et schémas,</a:t>
                      </a:r>
                      <a:endParaRPr b="0" lang="en-US" sz="12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80"/>
                          </a:solidFill>
                          <a:latin typeface="Verdana"/>
                          <a:ea typeface="Times New Roman"/>
                        </a:rPr>
                        <a:t>Autonomie et responsabilité</a:t>
                      </a:r>
                      <a:endParaRPr b="0" lang="en-US" sz="10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Entièrement responsable et autonome.</a:t>
                      </a:r>
                      <a:endParaRPr b="0" lang="en-US" sz="12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r>
              <a:tr h="1367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80"/>
                          </a:solidFill>
                          <a:latin typeface="Verdana"/>
                          <a:ea typeface="Times New Roman"/>
                        </a:rPr>
                        <a:t>Résultats attendus en entreprise</a:t>
                      </a:r>
                      <a:endParaRPr b="0" lang="en-US" sz="10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gula"/>
                          <a:ea typeface="Times New Roman"/>
                        </a:rPr>
                        <a:t>-Etablissement de bonnes relations avec les clients, les riverain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gula"/>
                          <a:ea typeface="Times New Roman"/>
                        </a:rPr>
                        <a:t>-Performance et cohésion de l’équip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gula"/>
                          <a:ea typeface="Times New Roman"/>
                        </a:rPr>
                        <a:t>-Participation à l'évolution des carrières des membres de l'équipe (bilan annuel, plans de formation). </a:t>
                      </a:r>
                      <a:endParaRPr b="0" lang="en-US" sz="12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r>
              <a:tr h="617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80"/>
                          </a:solidFill>
                          <a:latin typeface="Verdana"/>
                          <a:ea typeface="Times New Roman"/>
                        </a:rPr>
                        <a:t>Résultats attendus en centre</a:t>
                      </a:r>
                      <a:endParaRPr b="0" lang="en-US" sz="10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gula"/>
                          <a:ea typeface="Times New Roman"/>
                        </a:rPr>
                        <a:t>-Performance et cohésion de l’équipe,</a:t>
                      </a:r>
                      <a:endParaRPr b="0" lang="en-US" sz="12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6T15:16:12Z</dcterms:created>
  <dc:creator>EB09</dc:creator>
  <dc:description/>
  <dc:language>en-US</dc:language>
  <cp:lastModifiedBy>EB09</cp:lastModifiedBy>
  <dcterms:modified xsi:type="dcterms:W3CDTF">2007-12-06T15:57:16Z</dcterms:modified>
  <cp:revision>4</cp:revision>
  <dc:subject/>
  <dc:title>Référentiel des activités professionnelles du BTS Travaux Publics Répartition des connaissances  à acquérir  dans l’entreprise ou en centre </dc:title>
</cp:coreProperties>
</file>