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0CF3-D322-429D-B623-DEDA88F2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0390-831D-4392-94E0-F1431CDC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3E3-10D5-46A1-9636-03EC8156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A72-2444-4ABD-98B2-A5149EFC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674-3E2D-4D05-84DA-42849489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44A1-626A-4F16-AC0D-BCDAB99B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9BB-3053-49A6-94A3-9E85BC42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8293-02DA-4EED-9E22-CB6ABA56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2E0-A23F-4686-97A0-E1127117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AAA-E95A-4390-8BBB-6F31C510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4E0-6805-46E3-9ADA-F6371479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D21-0388-4E0E-9B04-7A0BCA24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E194-1956-4164-8EC8-6EEF8233B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BTS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Travaux Public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4554000"/>
            <a:ext cx="64008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ntr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d’apprentiss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35200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228600"/>
            <a:ext cx="86104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- L ’accompagn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676520"/>
            <a:ext cx="86868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Il concourt à la réussite du contrat et à l ’atteinte des obj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Il constitue un ensemble d ’actions qui a pour but de suivre et d ’aider le bénéficiaire tout au long de son parcours de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Réalisé par l ’entreprise ou l ’organigramme de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Durée : il est au maximum de 5 à 10% du total des actions de professionn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457200"/>
            <a:ext cx="8458200" cy="61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 tu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Dans le cadre du contrat de professionnalisation, le choix d ’un tuteur par l ’employeur 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ligatoi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ur les moins de 26 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Le tuteur sera chargé d ’accueillir, aider, informer et guider le bénéficiaire et veiller au respect de son emploi du te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2 ans d ’expérience minimum dans la qualification prépa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Il ne pourra accompagner pas plus de 3 jeunes (contrat ou période de professionnalisation ou contrat d ’apprenti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796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79640" y="3240"/>
            <a:ext cx="485604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0724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1508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45720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0"/>
            <a:ext cx="81532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- L ’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990720"/>
            <a:ext cx="830592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Les parcours de form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ivent être précédés d ’une évaluation individue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entretien d ’évaluation a pour objectif de défini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enseignements généraux, professionnels et technologiques adaptés au profil du bénéfici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Durée : au maximum 1,5 j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Réalisée par l ’entreprise ou l ’organisme de 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380880"/>
            <a:ext cx="8458200" cy="55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s rémunération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Salariés de moins de 26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ins de 21 ans : 65% du S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 A 25 ANS : 80% du S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ulaires d ’un Bac Pro  ou  titre de niveau IV : +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Demandeurs d ’emploi de 26 ans et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IC sans être inférieure à 85% de l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unération minimale conven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ATION AUPRES DES ENTREPRI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75080" y="1557360"/>
            <a:ext cx="3754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457200"/>
            <a:ext cx="84582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s délais à respec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Jour J : début du con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J + 5 : transmission à l ’AREF - BTP de 3 vo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J + 35 : transmission à la DDTEFP par l ’AREF de 2 vo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La DDTEFP a 30 jours pour notifier son ref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L ’entreprise a 30 jours pour exercer un re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L ’entreprise a 30 jours pour informer l ’AREF, la DDTEFP et l ’URSSAF  d ’une rupture évent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457200"/>
            <a:ext cx="9144000" cy="46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s pièces à joind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3 volets CER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La ou les convention(s) de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Le calend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Le CV du je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Le document « attestation sur l ’honneur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79280" y="746280"/>
            <a:ext cx="8785440" cy="5365440"/>
            <a:chOff x="179280" y="746280"/>
            <a:chExt cx="8785440" cy="53654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79280" y="746280"/>
              <a:ext cx="8785440" cy="53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87640" y="1989000"/>
              <a:ext cx="0" cy="38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24360" y="2060640"/>
              <a:ext cx="0" cy="38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43640" y="2060640"/>
              <a:ext cx="0" cy="38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80360" y="1989000"/>
              <a:ext cx="0" cy="38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172360" y="1989000"/>
              <a:ext cx="0" cy="38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9280" y="5877000"/>
              <a:ext cx="871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0920" y="4941720"/>
              <a:ext cx="871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9280" y="4221000"/>
              <a:ext cx="871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9280" y="3500280"/>
              <a:ext cx="871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8203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43200" y="128520"/>
            <a:ext cx="54576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677880"/>
            <a:ext cx="84963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48836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79930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06436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07:12:40Z</dcterms:created>
  <dc:creator>Chef de Travaux</dc:creator>
  <dc:description/>
  <dc:language>en-US</dc:language>
  <cp:lastModifiedBy>Unicornis</cp:lastModifiedBy>
  <dcterms:modified xsi:type="dcterms:W3CDTF">2007-12-09T07:31:16Z</dcterms:modified>
  <cp:revision>46</cp:revision>
  <dc:subject/>
  <dc:title>Bac pro maintenance</dc:title>
</cp:coreProperties>
</file>