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3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8DDC-0A61-4F14-BC91-B6D43BEE36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BC43-7860-4193-977A-E2E3BD9D44F2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540F-FA99-49FA-95D5-280AF965343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9848-1FFB-40FD-B2C1-BB583A40C51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01D8-E1A5-4303-ACE8-046F114C01C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D06A-8257-40A7-9651-824019FF43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6546-4F14-48EC-955E-687998FC0FD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EA45-54BC-4138-B658-1B25791E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759F-5C15-4E7C-AD16-23178791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FF46-D4C8-4F5B-B5B1-A77B8D13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039C-A76A-4613-89F2-8595433E3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BCB1-1042-4C14-90F4-08278A95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AD30-E4CD-4038-A232-4D801ACB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CA79-E1F7-400E-AA40-6C6B4A41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DD12-98A5-4478-90ED-B49AE557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D155-CB09-4A4B-B474-D9DC354E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0788-3DA7-4E45-A97C-C8A65A60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AEA6-791B-451C-8F61-3FA8A9A5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277F-51CC-4DDF-A6B7-5E7F113F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21E9-85CC-4AD8-B589-E1DE06968B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0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1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611280" y="1628640"/>
            <a:ext cx="813744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RESOLU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D’UN PROBLEME SCIENTIFIQU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A CARACTERE EXPERIM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0080" y="0"/>
            <a:ext cx="8064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352520" y="907920"/>
            <a:ext cx="6819840" cy="518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747040" cy="143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"/>
          <p:cNvPicPr/>
          <p:nvPr/>
        </p:nvPicPr>
        <p:blipFill>
          <a:blip r:embed="rId2"/>
          <a:stretch/>
        </p:blipFill>
        <p:spPr>
          <a:xfrm>
            <a:off x="1881360" y="2708280"/>
            <a:ext cx="57625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1332000" y="1700280"/>
            <a:ext cx="648000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90560" y="2811600"/>
            <a:ext cx="5762880" cy="21034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1619280" y="1993680"/>
            <a:ext cx="596412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Question 2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couter le morceau « nothing.mp3 » puis le jouer à la guitare. Que constatez-vous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r les six cordes de la guitare, deux seulement sont accordées correct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 l’aide du matériel et des documents fournis, proposer un protocole permettant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érifier que la corde de La et de Ré sont accordé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nothing.mp3" descr=""/>
          <p:cNvPicPr/>
          <p:nvPr/>
        </p:nvPicPr>
        <p:blipFill>
          <a:blip r:embed="rId2"/>
          <a:stretch/>
        </p:blipFill>
        <p:spPr>
          <a:xfrm>
            <a:off x="4267080" y="49417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7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435400" y="1417680"/>
            <a:ext cx="6162480" cy="5200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581040" y="981000"/>
            <a:ext cx="3619440" cy="1609920"/>
          </a:xfrm>
          <a:prstGeom prst="rect">
            <a:avLst/>
          </a:prstGeom>
          <a:ln w="0">
            <a:noFill/>
          </a:ln>
        </p:spPr>
      </p:pic>
      <p:sp>
        <p:nvSpPr>
          <p:cNvPr id="92" name="ZoneTexte 5"/>
          <p:cNvSpPr/>
          <p:nvPr/>
        </p:nvSpPr>
        <p:spPr>
          <a:xfrm>
            <a:off x="2897280" y="333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sur la corde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6229440" cy="5248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3851280" y="1484280"/>
            <a:ext cx="3666960" cy="1647720"/>
          </a:xfrm>
          <a:prstGeom prst="rect">
            <a:avLst/>
          </a:prstGeom>
          <a:ln w="0">
            <a:noFill/>
          </a:ln>
        </p:spPr>
      </p:pic>
      <p:sp>
        <p:nvSpPr>
          <p:cNvPr id="95" name="ZoneTexte 3"/>
          <p:cNvSpPr/>
          <p:nvPr/>
        </p:nvSpPr>
        <p:spPr>
          <a:xfrm>
            <a:off x="2897280" y="333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sur la corde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684360" y="3441600"/>
            <a:ext cx="770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 utilisant le document 5 (texte et schéma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emple pour la corde de Mi gr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on joue la corde de Mi grave à la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case, d’après le texte, on doit obtenir un La (donc un signal de fréquence 110Hz d’après le document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joue la corde de Mi avec un doigt en 5ème case, on fait l’acquisition du son avec Winoscillo et on regarde la position du pic fondamental sur le spect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f&lt;110 Hz, on tend la corde en tournant la méca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f&gt;110Hz, on détend la corde en tournant la mécanique dans l’autre s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répète l’opération pour les autres cordes en suivant le schéma fourn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détermine la fréquence fondamentale de la note attendue pour chaque corde à vide avec Winoscillo, en jouant cette note sur une autre corde accord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compare cette fréquence à celle de la corde à accorder avec Winosci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tend (ou on détend) la corde pour avoir la fréquence souhait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e 17"/>
          <p:cNvGrpSpPr/>
          <p:nvPr/>
        </p:nvGrpSpPr>
        <p:grpSpPr>
          <a:xfrm>
            <a:off x="2340000" y="1484280"/>
            <a:ext cx="3981600" cy="2077560"/>
            <a:chOff x="2340000" y="1484280"/>
            <a:chExt cx="3981600" cy="2077560"/>
          </a:xfrm>
        </p:grpSpPr>
        <p:pic>
          <p:nvPicPr>
            <p:cNvPr id="102" name="Image 6" descr="https://www.play-music.com/assets/accordage.png"/>
            <p:cNvPicPr/>
            <p:nvPr/>
          </p:nvPicPr>
          <p:blipFill>
            <a:blip r:embed="rId1"/>
            <a:stretch/>
          </p:blipFill>
          <p:spPr>
            <a:xfrm>
              <a:off x="2340000" y="1484280"/>
              <a:ext cx="3981600" cy="15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Ellipse 7"/>
            <p:cNvSpPr/>
            <p:nvPr/>
          </p:nvSpPr>
          <p:spPr>
            <a:xfrm>
              <a:off x="2771640" y="2492280"/>
              <a:ext cx="28872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Ellipse 9"/>
            <p:cNvSpPr/>
            <p:nvPr/>
          </p:nvSpPr>
          <p:spPr>
            <a:xfrm>
              <a:off x="5004000" y="2708280"/>
              <a:ext cx="28728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" name="Connecteur droit avec flèche 11"/>
            <p:cNvCxnSpPr/>
            <p:nvPr/>
          </p:nvCxnSpPr>
          <p:spPr>
            <a:xfrm flipV="1">
              <a:off x="4571640" y="2925720"/>
              <a:ext cx="432360" cy="358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06" name="Connecteur droit avec flèche 12"/>
            <p:cNvCxnSpPr/>
            <p:nvPr/>
          </p:nvCxnSpPr>
          <p:spPr>
            <a:xfrm flipH="1" flipV="1">
              <a:off x="3060000" y="2781000"/>
              <a:ext cx="935640" cy="504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07" name="ZoneTexte 16"/>
            <p:cNvSpPr/>
            <p:nvPr/>
          </p:nvSpPr>
          <p:spPr>
            <a:xfrm>
              <a:off x="3852000" y="32853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ême n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8428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13" name="Ellipse 9"/>
          <p:cNvSpPr/>
          <p:nvPr/>
        </p:nvSpPr>
        <p:spPr>
          <a:xfrm>
            <a:off x="2771640" y="2131920"/>
            <a:ext cx="289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llipse 10"/>
          <p:cNvSpPr/>
          <p:nvPr/>
        </p:nvSpPr>
        <p:spPr>
          <a:xfrm>
            <a:off x="5000760" y="23209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1506600" y="3086280"/>
            <a:ext cx="611964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accorder la corde de So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a corde de Ré accordé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n joue la corde de Ré en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, on a un Sol, on obtient f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so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196 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corde de Sol à vide doit donc donner f =196 Hz, si ce n’est pas le cas on tend ou détend la cor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8428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21" name="Ellipse 7"/>
          <p:cNvSpPr/>
          <p:nvPr/>
        </p:nvSpPr>
        <p:spPr>
          <a:xfrm>
            <a:off x="2771640" y="1955880"/>
            <a:ext cx="28908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llipse 9"/>
          <p:cNvSpPr/>
          <p:nvPr/>
        </p:nvSpPr>
        <p:spPr>
          <a:xfrm>
            <a:off x="4535640" y="21319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1511280" y="3573360"/>
            <a:ext cx="633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la corde de S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e Si en 4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 de la corde de Sol, f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si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 247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7492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29" name="Ellipse 7"/>
          <p:cNvSpPr/>
          <p:nvPr/>
        </p:nvSpPr>
        <p:spPr>
          <a:xfrm>
            <a:off x="2771640" y="1760400"/>
            <a:ext cx="289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lipse 9"/>
          <p:cNvSpPr/>
          <p:nvPr/>
        </p:nvSpPr>
        <p:spPr>
          <a:xfrm>
            <a:off x="5000760" y="19573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1187280" y="3522600"/>
            <a:ext cx="67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la corde de Mi aig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e Mi aigu en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 de la corde de Si qui est à 330 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68360" y="1484280"/>
            <a:ext cx="83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e fois les six cordes accordées, on vérifie l’accordage avec le smartphone, l’accordeur électronique, ou en faisant le spectre de chaque note du morceau enregistré par l’élève sur Auda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E:\DCIM\100SSCAM\S8300858.JPG"/>
          <p:cNvPicPr/>
          <p:nvPr/>
        </p:nvPicPr>
        <p:blipFill>
          <a:blip r:embed="rId1"/>
          <a:stretch/>
        </p:blipFill>
        <p:spPr>
          <a:xfrm>
            <a:off x="2050920" y="2133720"/>
            <a:ext cx="491976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390600" y="1557360"/>
            <a:ext cx="8362800" cy="1485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Résultat de recherche d'images pour &quot;guitare&quot;"/>
          <p:cNvPicPr/>
          <p:nvPr/>
        </p:nvPicPr>
        <p:blipFill>
          <a:blip r:embed="rId2"/>
          <a:stretch/>
        </p:blipFill>
        <p:spPr>
          <a:xfrm>
            <a:off x="1030320" y="3357720"/>
            <a:ext cx="708336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893880" y="1125360"/>
            <a:ext cx="7238880" cy="571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352440" y="1989000"/>
            <a:ext cx="8439120" cy="2019600"/>
          </a:xfrm>
          <a:prstGeom prst="rect">
            <a:avLst/>
          </a:prstGeom>
          <a:ln w="0">
            <a:noFill/>
          </a:ln>
        </p:spPr>
      </p:pic>
      <p:sp>
        <p:nvSpPr>
          <p:cNvPr id="59" name="ZoneTexte 1"/>
          <p:cNvSpPr/>
          <p:nvPr/>
        </p:nvSpPr>
        <p:spPr>
          <a:xfrm>
            <a:off x="352440" y="4653000"/>
            <a:ext cx="84391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marque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 accordeur électronique ou l’application GuitarTuna pour Android est utilisée par l’enseignant pour vérifier l’accordage à la f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ût estimé: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4 euros par guitare (Conrad), 5 euros maximum par microphone,  15 euros pour un accordeur (pas indispens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guitares sont aussi utilisées en SL et MPS ainsi qu’en CP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638280" y="1500120"/>
            <a:ext cx="78674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600120" y="2162160"/>
            <a:ext cx="79437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957240" y="115920"/>
            <a:ext cx="722628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271520" y="1252440"/>
            <a:ext cx="660096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162080" y="1266840"/>
            <a:ext cx="68198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OGRAMM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onnecteur droit 4"/>
          <p:cNvSpPr/>
          <p:nvPr/>
        </p:nvSpPr>
        <p:spPr>
          <a:xfrm>
            <a:off x="7093080" y="17002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lèche gauche 8"/>
          <p:cNvSpPr/>
          <p:nvPr/>
        </p:nvSpPr>
        <p:spPr>
          <a:xfrm>
            <a:off x="6516720" y="1844640"/>
            <a:ext cx="703080" cy="856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e 9"/>
          <p:cNvGrpSpPr/>
          <p:nvPr/>
        </p:nvGrpSpPr>
        <p:grpSpPr>
          <a:xfrm>
            <a:off x="468360" y="1341360"/>
            <a:ext cx="8448480" cy="2238480"/>
            <a:chOff x="468360" y="1341360"/>
            <a:chExt cx="8448480" cy="2238480"/>
          </a:xfrm>
        </p:grpSpPr>
        <p:pic>
          <p:nvPicPr>
            <p:cNvPr id="74" name="Picture 2" descr=""/>
            <p:cNvPicPr/>
            <p:nvPr/>
          </p:nvPicPr>
          <p:blipFill>
            <a:blip r:embed="rId1"/>
            <a:stretch/>
          </p:blipFill>
          <p:spPr>
            <a:xfrm>
              <a:off x="468360" y="1341360"/>
              <a:ext cx="844848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Flèche gauche 10"/>
            <p:cNvSpPr/>
            <p:nvPr/>
          </p:nvSpPr>
          <p:spPr>
            <a:xfrm>
              <a:off x="6559560" y="1846080"/>
              <a:ext cx="704520" cy="85680"/>
            </a:xfrm>
            <a:prstGeom prst="leftArrow">
              <a:avLst>
                <a:gd name="adj1" fmla="val 50000"/>
                <a:gd name="adj2" fmla="val 50021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503280" y="4292640"/>
            <a:ext cx="8440560" cy="242568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12"/>
          <p:cNvSpPr/>
          <p:nvPr/>
        </p:nvSpPr>
        <p:spPr>
          <a:xfrm>
            <a:off x="476280" y="3781440"/>
            <a:ext cx="661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EN  AVEC  LE  PROGRAMME  SPECIF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lèche gauche 16"/>
          <p:cNvSpPr/>
          <p:nvPr/>
        </p:nvSpPr>
        <p:spPr>
          <a:xfrm>
            <a:off x="7812000" y="6381720"/>
            <a:ext cx="704880" cy="85680"/>
          </a:xfrm>
          <a:prstGeom prst="left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12:53:56Z</dcterms:created>
  <dc:creator>Lycée Guy Mollet</dc:creator>
  <dc:description/>
  <dc:language>en-US</dc:language>
  <cp:lastModifiedBy>tazoumbait.f</cp:lastModifiedBy>
  <dcterms:modified xsi:type="dcterms:W3CDTF">2018-03-30T12:42:07Z</dcterms:modified>
  <cp:revision>86</cp:revision>
  <dc:subject/>
  <dc:title>Diapositive 1</dc:title>
</cp:coreProperties>
</file>