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10FE9-DFF5-45C9-8D16-2DCD4F458BA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  <p:sp>
        <p:nvSpPr>
          <p:cNvPr id="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2B1E8-31DD-41AD-A50C-397E698FF9AD}" type="slidenum"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Espace réservé du pied de page 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stage SPH_01.A  Octobre_Novembre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29D8-3465-462E-BE88-DBF8E471E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95F2-6E01-48E9-8419-3C1DECDDB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853D-AFED-4A0B-8030-7279C1CD8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F17E-309C-44F2-A468-F7F0D07EF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3A71-2C27-44A2-AB95-27EAD4AAE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7432-A6A9-461F-8703-A05F01743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A611-4D68-4CF4-B119-DCAB425A3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23B4-F81E-480B-A929-50C0CAE93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D2EE-5035-400D-AEC5-EDDD8B29C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8D4A-9FBC-4B31-BDFE-7568C65D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6B47-39E3-4F4B-BC35-B743B53C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F462-EA6F-4584-B720-97C6E732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2AE6C-2544-4847-90FC-BCAC5A2B51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7"/>
          <p:cNvSpPr/>
          <p:nvPr/>
        </p:nvSpPr>
        <p:spPr>
          <a:xfrm>
            <a:off x="755640" y="1413000"/>
            <a:ext cx="7632720" cy="2125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ce6f2"/>
              </a:gs>
              <a:gs pos="100000">
                <a:srgbClr val="dce6f2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MER LES ELEVES DE SPECIAL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EN TERMINALE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395280" y="3357720"/>
            <a:ext cx="856944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     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20 février et 10 avril 2018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LYCEE DARCHICOURT - HENIN-BEAUM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ou LYCEE ROBESPIERRE AR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Image 1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439640" cy="1044720"/>
          </a:xfrm>
          <a:prstGeom prst="rect">
            <a:avLst/>
          </a:prstGeom>
          <a:ln w="0">
            <a:noFill/>
          </a:ln>
        </p:spPr>
      </p:pic>
      <p:pic>
        <p:nvPicPr>
          <p:cNvPr id="51" name="Image 2" descr=""/>
          <p:cNvPicPr/>
          <p:nvPr/>
        </p:nvPicPr>
        <p:blipFill>
          <a:blip r:embed="rId2"/>
          <a:stretch/>
        </p:blipFill>
        <p:spPr>
          <a:xfrm>
            <a:off x="5219640" y="214200"/>
            <a:ext cx="3826080" cy="849600"/>
          </a:xfrm>
          <a:prstGeom prst="rect">
            <a:avLst/>
          </a:prstGeom>
          <a:ln w="0">
            <a:noFill/>
          </a:ln>
        </p:spPr>
      </p:pic>
      <p:sp>
        <p:nvSpPr>
          <p:cNvPr id="52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2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900000" y="2413080"/>
            <a:ext cx="712800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Par compéte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70c0"/>
                </a:solidFill>
                <a:latin typeface="Calibri"/>
                <a:ea typeface="Calibri"/>
              </a:rPr>
              <a:t>ANALYSER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684360" y="549360"/>
          <a:ext cx="7296120" cy="4302000"/>
        </p:xfrm>
        <a:graphic>
          <a:graphicData uri="http://schemas.openxmlformats.org/drawingml/2006/table">
            <a:tbl>
              <a:tblPr/>
              <a:tblGrid>
                <a:gridCol w="1728720"/>
                <a:gridCol w="4890960"/>
                <a:gridCol w="169920"/>
                <a:gridCol w="168120"/>
                <a:gridCol w="169920"/>
                <a:gridCol w="168480"/>
              </a:tblGrid>
              <a:tr h="43812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 rowSpan="11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propose un protocole de dilu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11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1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1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1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propose la démarche de mesure de l'absorbance des solutions étal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propose la démarche de mesure de la concentration de la solution inconn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’élève propose la démarche de mesure de la concentration avant et après l'absorb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'élève propose les étapes de résolution de la question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                      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- détermination des quantités initiale et au bout de 10 minutes de BM dans le prélèvement chois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                      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- détermination de la masse absorb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propose les étapes de résolution de la question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assage de la quantité de matière à la masse sur la concentration de l'aqua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assage aux 100 L de l'aqua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détermination à la masse de charbon actif pouvant absorber cette mas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2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900000" y="2413080"/>
            <a:ext cx="712800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Par compéte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70c0"/>
                </a:solidFill>
                <a:latin typeface="Calibri"/>
                <a:ea typeface="Calibri"/>
              </a:rPr>
              <a:t>REALISER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468360" y="836640"/>
          <a:ext cx="7921440" cy="3978360"/>
        </p:xfrm>
        <a:graphic>
          <a:graphicData uri="http://schemas.openxmlformats.org/drawingml/2006/table">
            <a:tbl>
              <a:tblPr/>
              <a:tblGrid>
                <a:gridCol w="1512720"/>
                <a:gridCol w="5673960"/>
                <a:gridCol w="183960"/>
                <a:gridCol w="182520"/>
                <a:gridCol w="184320"/>
                <a:gridCol w="183960"/>
              </a:tblGrid>
              <a:tr h="43164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 rowSpan="10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ali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éalisation expériment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0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0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0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0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utlise correctement la verrerie et du matéri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'élève mesure correctement les absorbances des solutions étalons (utilisation de l'outil informatique avec notic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'élève manipule en toute sécurité et de façon ordonn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Utilisation correcte de la ouate perlée comme système de filtration du charbon actif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éalisation théori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'élève réalise correctement la lecture de la concentration de la solution inconn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es calculs sont menés correctement et les résultats sont exprimés avec l’unité adapté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es  3 calculs sont menés correctement et les résultats sont exprimés avec l’unité adapté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 3 calculs sont menés correctement et les résultats sont exprimés avec l’unité adapté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2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900000" y="2413080"/>
            <a:ext cx="712800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Par compéte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70c0"/>
                </a:solidFill>
                <a:latin typeface="Calibri"/>
                <a:ea typeface="Calibri"/>
              </a:rPr>
              <a:t>VALIDER - COMMUNIQUER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611280" y="1052640"/>
          <a:ext cx="7704000" cy="2525760"/>
        </p:xfrm>
        <a:graphic>
          <a:graphicData uri="http://schemas.openxmlformats.org/drawingml/2006/table">
            <a:tbl>
              <a:tblPr/>
              <a:tblGrid>
                <a:gridCol w="2016000"/>
                <a:gridCol w="4951440"/>
                <a:gridCol w="203040"/>
                <a:gridCol w="177840"/>
                <a:gridCol w="177840"/>
                <a:gridCol w="177840"/>
              </a:tblGrid>
              <a:tr h="61272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 rowSpan="3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ation - Commun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paraison avec la quantité de charbon actif dans le s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ard critique pertin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daction correcte de la démarche avec vocabulaire scientifique rigoureux et présence de liens logiqu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4040"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1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900000" y="2413080"/>
            <a:ext cx="6840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Question préliminaire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oposer une méthode spectrophotométrique pour mesurer la concentration molaire en bleu de méthylène de l’échantillon de l’eau de l’aquari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our cela, proposer un protocole et le faire valider par l’enseignant avant la mise en œuv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395280" y="404640"/>
          <a:ext cx="8209080" cy="5802480"/>
        </p:xfrm>
        <a:graphic>
          <a:graphicData uri="http://schemas.openxmlformats.org/drawingml/2006/table">
            <a:tbl>
              <a:tblPr/>
              <a:tblGrid>
                <a:gridCol w="1871640"/>
                <a:gridCol w="5551560"/>
                <a:gridCol w="217440"/>
                <a:gridCol w="189000"/>
                <a:gridCol w="189000"/>
                <a:gridCol w="190440"/>
              </a:tblGrid>
              <a:tr h="371520">
                <a:tc>
                  <a:txBody>
                    <a:bodyPr lIns="9036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 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Question préliminaire 1 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 rowSpan="5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’appropr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e faire des dilutions de la solution de concentration connu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5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e mesurer les absorbances des solutions étalo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e relever l'absorbance maximale d'une solution de bleu de méthylèn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e mesurer l'absorbance de la solution provenant de l'aquari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restitue la connaissance : proportionnalité entre absorbance et concentra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520">
                <a:tc rowSpan="3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propose un protocole de dilu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propose la démarche de mesure de l'absorbance des solutions étal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propose la démarche de mesure de la concentration de la solution inconn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480">
                <a:tc rowSpan="7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alis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Réalisation expériment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6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6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6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6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utlise correctement la verrerie et du matéri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mesure correctement les absorbances des solutions étalons (utilisation de l'outil informatique avec notic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manipule en toute sécurité et de façon ordonné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Réalisation théoriq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réalise correctement la lecture de la concentration de la solution inconn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1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 calculs sont menés correctement et les résultats sont exprimés avec l’unité adapté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720"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1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900000" y="2413080"/>
            <a:ext cx="684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Question préliminaire 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oposer une démarche permettant de déterminer la masse de bleu de méthylène absorbée par 1 g de charbon actif pour aquarium après 10 minutes de temps de contac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 faire valider par l’enseignant avant la mise en œuv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539640" y="549360"/>
          <a:ext cx="8137800" cy="5311800"/>
        </p:xfrm>
        <a:graphic>
          <a:graphicData uri="http://schemas.openxmlformats.org/drawingml/2006/table">
            <a:tbl>
              <a:tblPr/>
              <a:tblGrid>
                <a:gridCol w="2087640"/>
                <a:gridCol w="5270400"/>
                <a:gridCol w="214560"/>
                <a:gridCol w="188640"/>
                <a:gridCol w="187560"/>
                <a:gridCol w="189000"/>
              </a:tblGrid>
              <a:tr h="60156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 –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Question préliminaire 2 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 rowSpan="3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’appropri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e se positionner sur un volume d'une solutionde concentration connu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'utiliser la masse molaire du bleu de méthylè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restitue la connaissance : n = c x V  et n = m/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4200">
                <a:tc rowSpan="4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propose la démarche de mesure de la concentration avant et après l'absorb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propose les étapes de résolution de la question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détermination des quantités initiale et au bout de 10 minutes de BM dans le prélèvement chois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détermination de la masse absorb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rowSpan="4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ali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Réalisation expérimentale: en plus des indicateurs de réussite de la question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sation correcte de la ouate perlée comme système de filtration du charbon actif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Réalisation théori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  3 calculs sont menés correctement et les résultats sont exprimés avec l’unité adapté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1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900000" y="2413080"/>
            <a:ext cx="712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Résolution du problèm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0c0"/>
                </a:solidFill>
                <a:latin typeface="Calibri"/>
              </a:rPr>
              <a:t>Une quantité de charbon actif de 500 g est-elle suffisante pour éliminer le bleu de méthylène présent dans l’aquarium en moins de 10 minut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0c0"/>
                </a:solidFill>
                <a:latin typeface="Calibri"/>
              </a:rPr>
              <a:t>Apporter un regard critique à votre résult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539640" y="692280"/>
          <a:ext cx="8280360" cy="4680000"/>
        </p:xfrm>
        <a:graphic>
          <a:graphicData uri="http://schemas.openxmlformats.org/drawingml/2006/table">
            <a:tbl>
              <a:tblPr/>
              <a:tblGrid>
                <a:gridCol w="2016360"/>
                <a:gridCol w="5472000"/>
                <a:gridCol w="219240"/>
                <a:gridCol w="190440"/>
                <a:gridCol w="191880"/>
                <a:gridCol w="190440"/>
              </a:tblGrid>
              <a:tr h="55548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 –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ésolution du problè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’appropri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es grandeurs utiles : le volume du bassin, la quantité de charbon actif dans le sac, sa capacité d'absorbance, la concentration de l'eau de l'aquarium, le temps de conta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 rowSpan="4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propose les étapes de résolution de la question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assage de la quantité de matière à la masse sur la concentration de l'aqua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assage aux 100 L de l'aqua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détermination à la masse de charbon actif pouvant absorbé cette mas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rowSpan="2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ali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Réalisation théori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 3 calculs sont menés correctement et les résultats sont exprimés avec l’unité adapté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8440">
                <a:tc rowSpan="3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ation - Commun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paraison avec la quantité de charbon actif dans le s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ard critique pertin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daction correcte de la démarche avec vocabulaire scientifique rigoureux et présence de liens logiqu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400"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2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900000" y="2413080"/>
            <a:ext cx="712800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Par compéte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70c0"/>
                </a:solidFill>
                <a:latin typeface="Calibri"/>
                <a:ea typeface="Calibri"/>
              </a:rPr>
              <a:t>S’APPROPRIER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755640" y="765000"/>
          <a:ext cx="7704000" cy="4559400"/>
        </p:xfrm>
        <a:graphic>
          <a:graphicData uri="http://schemas.openxmlformats.org/drawingml/2006/table">
            <a:tbl>
              <a:tblPr/>
              <a:tblGrid>
                <a:gridCol w="1368360"/>
                <a:gridCol w="5621400"/>
                <a:gridCol w="179280"/>
                <a:gridCol w="177840"/>
                <a:gridCol w="179640"/>
                <a:gridCol w="177480"/>
              </a:tblGrid>
              <a:tr h="48276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 rowSpan="9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’appropri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a repéré la nécessité de faire des dilutions de la solution de concentration connu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9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9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9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9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a repéré la nécessité de mesurer les absorbances des solutions étalon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a repéré la nécessité de relever l'absorbance maximale d'une solution de bleu de méthylèn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a repéré la nécessité de mesurer l'absorbance de la solution provenant de l'aqua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restitue la connaissance : proportionnalité entre absorbance et concentratio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’élève a repéré la nécessité de se positionner sur un volume d'une solutionde concentration connu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’élève a repéré la nécessité d'utiliser la masse molaire du bleu de méthylè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’élève restitue la connaissance : n = c x V  et n = m/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4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es grandeurs utiles : le volume du bassin, la quantité de charbon actif dans le sac, sa capacité d'absorbance, la concentration de l'eau de l'aquarium, le temps de conta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03T17:47:26Z</dcterms:created>
  <dc:creator>GERNER</dc:creator>
  <dc:description/>
  <dc:language>en-US</dc:language>
  <cp:lastModifiedBy>GERNER</cp:lastModifiedBy>
  <dcterms:modified xsi:type="dcterms:W3CDTF">2018-02-06T15:52:39Z</dcterms:modified>
  <cp:revision>6</cp:revision>
  <dc:subject/>
  <dc:title>Diapositive 1</dc:title>
</cp:coreProperties>
</file>