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71209-56A2-4BE6-BE7E-A020AEB7D9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8BDD-2E32-4749-88A6-6996DED0EE71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79A-12FB-4FAB-8849-880852D83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8CDA-6EAE-4065-B49D-E0409248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B5E2-FA2A-4734-8EE3-A1237B7D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478C-40F6-4A3C-8D54-2837AD8E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8603-FDBC-4494-B8FB-9166F7B7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71E-FDA0-4511-BC8A-A1F3DE3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0F6C-050B-4193-BFA5-BC5B6692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FFF-2BE5-4BE6-B274-E9E089CF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DA9-E962-4927-B634-76096569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F8E-F391-4982-AC46-F172CA9E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0ED5-DC81-4EEF-96A4-3DE11E7C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E23-4749-4A25-ACA1-B5C8B7E0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625B-98ED-40EC-B058-EBB6415BB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7"/>
          <p:cNvSpPr/>
          <p:nvPr/>
        </p:nvSpPr>
        <p:spPr>
          <a:xfrm>
            <a:off x="755640" y="1413000"/>
            <a:ext cx="7632720" cy="212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ER LES ELEVES DE SPECIAL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EN TERMINALE 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1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ANALY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84360" y="549360"/>
          <a:ext cx="7296120" cy="4302000"/>
        </p:xfrm>
        <a:graphic>
          <a:graphicData uri="http://schemas.openxmlformats.org/drawingml/2006/table">
            <a:tbl>
              <a:tblPr/>
              <a:tblGrid>
                <a:gridCol w="1728720"/>
                <a:gridCol w="4890960"/>
                <a:gridCol w="169920"/>
                <a:gridCol w="168120"/>
                <a:gridCol w="169920"/>
                <a:gridCol w="168480"/>
              </a:tblGrid>
              <a:tr h="4381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 rowSpan="11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1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er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REALIS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68360" y="836640"/>
          <a:ext cx="7921440" cy="3978360"/>
        </p:xfrm>
        <a:graphic>
          <a:graphicData uri="http://schemas.openxmlformats.org/drawingml/2006/table">
            <a:tbl>
              <a:tblPr/>
              <a:tblGrid>
                <a:gridCol w="1512720"/>
                <a:gridCol w="5673960"/>
                <a:gridCol w="183960"/>
                <a:gridCol w="182520"/>
                <a:gridCol w="184320"/>
                <a:gridCol w="183960"/>
              </a:tblGrid>
              <a:tr h="43164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rowSpan="10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10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VALIDER - COMMUNIQU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611280" y="1052640"/>
          <a:ext cx="7704000" cy="2525760"/>
        </p:xfrm>
        <a:graphic>
          <a:graphicData uri="http://schemas.openxmlformats.org/drawingml/2006/table">
            <a:tbl>
              <a:tblPr/>
              <a:tblGrid>
                <a:gridCol w="2016000"/>
                <a:gridCol w="4951440"/>
                <a:gridCol w="203040"/>
                <a:gridCol w="177840"/>
                <a:gridCol w="177840"/>
                <a:gridCol w="177840"/>
              </a:tblGrid>
              <a:tr h="61272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900000" y="2413080"/>
            <a:ext cx="68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méthode spectrophotométrique pour mesurer la concentration molaire en bleu de méthylène de l’échantillon de l’eau de l’aquariu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ur cela, proposer un protocole et le faire valider par l’enseignant avant la mise en œuv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404640"/>
          <a:ext cx="8209080" cy="5802480"/>
        </p:xfrm>
        <a:graphic>
          <a:graphicData uri="http://schemas.openxmlformats.org/drawingml/2006/table">
            <a:tbl>
              <a:tblPr/>
              <a:tblGrid>
                <a:gridCol w="1871640"/>
                <a:gridCol w="5551560"/>
                <a:gridCol w="217440"/>
                <a:gridCol w="189000"/>
                <a:gridCol w="189000"/>
                <a:gridCol w="190440"/>
              </a:tblGrid>
              <a:tr h="371520">
                <a:tc>
                  <a:txBody>
                    <a:bodyPr lIns="9036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1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rowSpan="5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un protocole de dil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'absorbance des solutions étal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6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4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utlise correctement la verrerie et du matér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esure correctement les absorbances des solutions étalons (utilisation de l'outil informatique avec noti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manipule en toute sécurité et de façon ordonn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réalise correctement la lecture de la concentration de la solution inconn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calculs sont menés correctement et les résultats sont exprimés avec l’unité adapté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900000" y="2413080"/>
            <a:ext cx="684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Question préliminaire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poser une démarche permettant de déterminer la masse de bleu de méthylène absorbée par 1 g de charbon actif pour aquarium après 10 minutes de temps de conta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faire valider par l’enseignant avant la mise en œuv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39640" y="549360"/>
          <a:ext cx="8137800" cy="5311800"/>
        </p:xfrm>
        <a:graphic>
          <a:graphicData uri="http://schemas.openxmlformats.org/drawingml/2006/table">
            <a:tbl>
              <a:tblPr/>
              <a:tblGrid>
                <a:gridCol w="2087640"/>
                <a:gridCol w="5270400"/>
                <a:gridCol w="214560"/>
                <a:gridCol w="188640"/>
                <a:gridCol w="187560"/>
                <a:gridCol w="189000"/>
              </a:tblGrid>
              <a:tr h="6015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Question préliminaire 2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propose la démarche de mesure de la concentration avant et après l'absorb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3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s quantités initiale et au bout de 10 minutes de BM dans le prélèvement chois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de la masse absorbé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expérimentale: en plus des indicateurs de réussite de la question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tilisation correcte de la ouate perlée comme système de filtration du charbon actif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1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900000" y="2413080"/>
            <a:ext cx="71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Résolution du problè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Une quantité de charbon actif de 500 g est-elle suffisante pour éliminer le bleu de méthylène présent dans l’aquarium en moins de 10 minut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Apporter un regard critique à votre résult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539640" y="692280"/>
          <a:ext cx="8280360" cy="4680000"/>
        </p:xfrm>
        <a:graphic>
          <a:graphicData uri="http://schemas.openxmlformats.org/drawingml/2006/table">
            <a:tbl>
              <a:tblPr/>
              <a:tblGrid>
                <a:gridCol w="2016360"/>
                <a:gridCol w="5472000"/>
                <a:gridCol w="219240"/>
                <a:gridCol w="190440"/>
                <a:gridCol w="191880"/>
                <a:gridCol w="190440"/>
              </a:tblGrid>
              <a:tr h="55548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 –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ésolution du problè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8840">
                <a:tc rowSpan="4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y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'élève propose les étapes de résolution de la question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de la quantité de matière à la masse sur la concentration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assage aux 100 L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détermination à la masse de charbon actif pouvant absorbé cette ma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alis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Réalisation théor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 3 calculs sont menés correctement et les résultats sont exprimés avec l’unité adapté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440">
                <a:tc rowSpan="3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- Commun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paraison avec la quantité de charbon actif dans le s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ard critique pertin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daction correcte de la démarche avec vocabulaire scientifique rigoureux et présence de liens logiqu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>
                  <a:txBody>
                    <a:bodyPr lIns="504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35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3"/>
          <p:cNvSpPr/>
          <p:nvPr/>
        </p:nvSpPr>
        <p:spPr>
          <a:xfrm>
            <a:off x="971640" y="54936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Proposition 2 de grille d’évalu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Traitement d’une eau d’aquarium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900000" y="2413080"/>
            <a:ext cx="71280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ar compét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70c0"/>
                </a:solidFill>
                <a:latin typeface="Calibri"/>
                <a:ea typeface="Calibri"/>
              </a:rPr>
              <a:t>S’APPROPRIER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55640" y="765000"/>
          <a:ext cx="7704000" cy="4559400"/>
        </p:xfrm>
        <a:graphic>
          <a:graphicData uri="http://schemas.openxmlformats.org/drawingml/2006/table">
            <a:tbl>
              <a:tblPr/>
              <a:tblGrid>
                <a:gridCol w="1368360"/>
                <a:gridCol w="5621400"/>
                <a:gridCol w="179280"/>
                <a:gridCol w="177840"/>
                <a:gridCol w="179640"/>
                <a:gridCol w="177480"/>
              </a:tblGrid>
              <a:tr h="482760">
                <a:tc>
                  <a:txBody>
                    <a:bodyPr lIns="9036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étences évalu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dicateurs de réus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000" rIns="5040" tIns="504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9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’appropr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faire des dilutions de la solution 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9">
                  <a:txBody>
                    <a:bodyPr lIns="5040" rIns="5040" tIns="504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4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es absorbances des solutions étalon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relever l'absorbance maximale d'une solution de bleu de méthylèn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a repéré la nécessité de mesurer l'absorbance de la solution provenant de l'aquar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L’élève restitue la connaissance : proportionnalité entre absorbance et concentr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e se positionner sur un volume d'une solutionde concentration connu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a repéré la nécessité d'utiliser la masse molaire du bleu de méthylè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L’élève restitue la connaissance : n = c x V  et n = m/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35360" rIns="5040" tIns="504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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élève a repéré les grandeurs utiles : le volume du bassin, la quantité de charbon actif dans le sac, sa capacité d'absorbance, la concentration de l'eau de l'aquarium, le temps de conta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35360" marR="5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03T17:47:26Z</dcterms:created>
  <dc:creator>GERNER</dc:creator>
  <dc:description/>
  <dc:language>en-US</dc:language>
  <cp:lastModifiedBy>GERNER</cp:lastModifiedBy>
  <dcterms:modified xsi:type="dcterms:W3CDTF">2018-02-06T15:52:39Z</dcterms:modified>
  <cp:revision>6</cp:revision>
  <dc:subject/>
  <dc:title>Diapositive 1</dc:title>
</cp:coreProperties>
</file>