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DC23-E713-4DC7-B4A5-C41ED087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9F4C-D198-44CA-A6BA-E1EA07E3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EC04-8668-4B12-9506-E74FDA22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7757-797A-4615-8891-A484EAEE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37F4-E02B-4CD5-ABEA-89D1EF82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0553-A8C1-452C-8C5C-257C2904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B64E-1403-4C0C-9382-B3F71C35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2919-E297-4346-8961-FB23643D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AB57-6AB3-4030-BC65-3A733D96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90CD-D837-47F2-ACE2-67AEE76D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C6A2-25E9-47C6-9F68-3151092E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D778-61B4-46F8-9958-ECFF4306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487A-BCB7-42AF-91A7-07211F9B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405D-0C5D-4375-8F8E-65EA1BA6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033E-FC1E-4671-AB80-D0552DFA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0F87-CD63-4DB3-8C25-CE1D5151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B1DE-320D-42D7-B08A-2997BF6F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8A84-9E0C-45F2-8C74-D733F1EE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D949-3A67-41A4-A541-1C271482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7FEA-580B-432E-86CB-340D7E53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CC27-FAE5-4C1C-99CE-3AE75E42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8E01-5227-4192-B373-3EC216A7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FF1-7F72-4422-8065-7EB5EC1E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7DA5-753B-47A2-855A-7E4636D9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7D12-94FA-4C68-AA96-E9C60EB26801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73E8-1FA2-49E5-A83D-03080FDA175F}" type="slidenum"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609480"/>
            <a:ext cx="770256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Un savoir S’entraîner scolaire :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c’est-à-dire ?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5373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osé : Raymond DHELLEMMES - Association des Enseignants EPS (AEEPS). Villeneuve d’Ascq, le 9 juin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8984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2. Des principes d’efficacité connus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cernant cette action : les principaux</a:t>
            </a:r>
            <a:br>
              <a:rPr sz="2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inuité (gestion de temps d’activit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gressivité (des paramètres de char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aptation (aux individus, aux res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ternance (dépense réparation récupé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pécification (aux visées de perform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3. Des interrogations utiles pour une EPS à venir : Une ou des cultures de l’entraînement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t plus spécifiquement, quand il est tourné la recherche de transformation de propriétés corporell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N’appartient pas en propre au milieu sportif (musique, danse théâtre art du cir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Décliné sous des formes différentes dans d’autres civilisations (t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ï chi, yoga) avec une même intention : l’articulation états de conscience/ états soma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Marqué historiquement dans ses rapports avec les conceptions du corps, les connaissances scientifiques permettant d’identifier les propriétés de l’organisme, les performances phys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1.3.3. Des interrogations utiles…  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histoire de l’EPS est marquée par cette question sous le vocable des METHODES. Les gymnastiques pour adultes plus ou moins récentes éga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réticences récentes à l’introduction d’une culture scolaire de l’entraînement sont-elles dues à la crainte d’un retour aux « méthodes 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hors l’école, un développement massif des pratiques de forme que l’EPS ne peut ignor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L’entraînement comme pratique régulière : une culture, une lente conquête de l’homme. Pour se construire des pouvoirs moteurs nouveaux : un rapport à soi, à l’effort consenti, de nature téléolog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conclure ce premier poi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atiques et savoirs de l’entraînement sportif ne sont pas importables directement dans le monde scol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« savoir S’entraîner » n’existe pas en tant qu’objet directement saisiss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arrière plan des pratiques, de l’action : « S’entraîner » une ACTIVITE singulière complexe, des composantes, des processus culturels à identif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lucidation de cette « activité » l’identification de 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« composantes » : une étape indispensable pour envisager un « savoir S'entraîner »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91856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L’entraînement comme « activité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» :</a:t>
            </a:r>
            <a:br>
              <a:rPr sz="28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umaine complexe : ses composantes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2. - savoir S’entraîner : un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mpétence qui se construit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3. Certains traits de cette activité sont -il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ccessibles à l’écol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umain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plexe : ses compo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1345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1. Composantes anthropologique et symbo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5. Composante cog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2.1.1. Composantes anthropologique, symbol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’entra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, c’est « Se » faire advenir, se concevoir différemment dans le fu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L’intentionnalité de l’acte d’entraînement est de 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Verdana"/>
                <a:ea typeface="Times New Roman"/>
              </a:rPr>
              <a:t>« se faire advenir »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d’être en même temps sujet et objet de l’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Le pratiquant effectue une «Lecture sensori-motrice et cognitiv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e</a:t>
            </a:r>
            <a:r>
              <a:rPr b="1" i="1" lang="fr-FR" sz="2800" spc="-1" strike="noStrike">
                <a:solidFill>
                  <a:srgbClr val="333399"/>
                </a:solidFill>
                <a:latin typeface="Arial"/>
              </a:rPr>
              <a:t>…«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 l’expérience énergétiqu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( il construit un affinement du ressenti et de son expression par une « didactique du sensible », par une « histoire du corps sensible</a:t>
            </a: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 » 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onnées scientifiques actuelles sur le développement des qualités d’endurance, de force/puissance chez les adolescent-e-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sur les 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conditions de la sollicitation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du système énergétique de la contraction musculaire, sur les possibilités de mesure de sa transformation avec tests de ter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motifs spontanés d’un « se dépenser physiquement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à des motifs plus constru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Les jeux d’exercice (Château), fonctionnels (Wallon), de vertige (Caillois) l’épreuve (B. Jeu), les « promenades » : </a:t>
            </a: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c’est à la promenade que j’écrit dans mon cerveau »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(Rousseau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ancestrales liées à l’action sur les corps (le non mouvement, le sauna, les hammams…révèlent les fondements d’un tel proj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maintenant sportives, initialement liées à la recherche d’états physiques (boxe française, culture physique de Desbonn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Une culture du physique liée à pour les jeunes, à des objectifs de développement EVALUABLES (la mesure de soi contribue probablement à la construction de son identit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5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 savoir S’entraîner scolaire : c’est-à-dire 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18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introduction le but du propos, et… ce que je ne traite p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: des « pratiques » (s’entraîner, entraîner), qui s’appuient sur des savoir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comme « activité »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une activité adaptative humaine compl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savoir S’entraîner : une compétence qui se const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certains traits de cette activité sont-ils accessibles à l’écol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avoir S’entraîner, un objet d’enseignement scolair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urquoi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m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l’EPS et ses acteurs comme ressource éducative remarquable… et méconnu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5. Composante c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« Il s’agit d’établir un contrôle sur les états d’un objet en cours de transformation et impliquant des …anticipations… et rétroactions à réaliser sur des états 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De  rendre conscient le contrôle de l’ac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- Terme adopté 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« 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Arial"/>
              </a:rPr>
              <a:t>procéduralisation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 (G. Malgla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outils extraordinaires pour conduire ce travail réflexif : les ressources de l’inform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2. « savoir S’entraîner » : une compétence qui se construit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28600"/>
            <a:ext cx="79898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2. - savoir S’entraîner : une compétence qui se construit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es composantes s’organisent dans l’expérience personnelle dans un « parcours » semé d’embûches (rapport à l’effort, se projeter vers l’avenir, faire évoluer ses motivations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période de développement il est plus ou moins pertinent d’intervenir sur telle ou telle res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« expériences » de dépense physique hors et dans l’école se coordonnent-t-elles pour faire sen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question du « réinvestissement » de ce qu’offre l’apprentissage de l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ment dans d’autres champ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04920"/>
            <a:ext cx="84470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ne sont pas les pratiques qu’il faut transposer m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 l’expérience de l’entraînement », l’activité humaine qui l’accompagne, dans les conditions scol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 les «spécialités » sont bonnes à prendre tant qu’elles permettent cette « expérience 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xpérience ne suffit pas : une « relecture compréhensive » s’impose ! Condition pour transformer cette expérience en compétenc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.3. En conclusion ce second point…  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 scolaires d'entraînement doivent donc être conçues, à partir des contraintes et des ressources que propose le milieu scolaire et les caractéristiques de élè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« Savoir s’entraîner » comme aboutissement d’un parcours de formation… Sur un « bruit de fond » permanent, des périodes favorables pour un enseignement systématique. Exemple : en quatrième au collège. En première au lyc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609120"/>
            <a:ext cx="82234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avoir S’entraîner Physiquement, un objet d’enseignement scolair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l’éducation à la santé.</a:t>
            </a:r>
            <a:br>
              <a:rPr sz="1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2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ndre l’élève acteur, forcément !</a:t>
            </a:r>
            <a:br>
              <a:rPr sz="20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 parcours de formation perti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1. Un savoir S’entraîner scolaire : Pourquoi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1800"/>
            </a:br>
            <a:br>
              <a:rPr sz="32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’éducation à la santé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Quelques définitions…(O.M.S. + divers)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La « santé » comme capacité d’adaptation, comme possibilité d’affrontement des situations de vie, comme sentiment de bien-être (comme rapport à soi, à autrui, au monde social, à l’environnement)</a:t>
            </a:r>
            <a:br>
              <a:rPr sz="2800"/>
            </a:br>
            <a:br>
              <a:rPr sz="32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Pour chaque homme, c’est d’avoir les moyens de tracer le cheminement personnel vers le bien-être physique psychique et moral » </a:t>
            </a:r>
            <a:br>
              <a:rPr sz="1200"/>
            </a:br>
            <a:br>
              <a:rPr sz="1200"/>
            </a:br>
            <a:br>
              <a:rPr sz="1800"/>
            </a:b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L’éducation pour la santé contribue à la construction par les élèves d’indicateurs perceptuels, fonctionnels et adaptatifs d’un « état de santé » (bien être)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 1. On sait qu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jeunesse reste sensible aux conduites addictive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de toute nature : un impératif social de lutte contre cette tendance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2.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ace aux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versités des cultures des élèves concernant leur rapport au corps, leur vécu et leurs habitus touchant à l’effort et à la dépense physique 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e exigence de démocratisation</a:t>
            </a:r>
            <a:br>
              <a:rPr sz="2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cole comme lieu privilégi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possibilité d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se en synergie des connaissanc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our travailler l’image que les élèves ont d’eux mêmes, leur identité de genre 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e possibl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efficacité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n introduction le but du propos, et…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 qui n’est pas traité.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844280"/>
            <a:ext cx="83678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Le but : tenter de démontrer qu’à certaines conditions, il est possible de transmettre aux élèves un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« savoir S’entraîner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es conditions supposent des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ruptures avec des conceptions exclusivement « sportives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de l’entraînement au profit d’une approche  anthropologique de  « l’expérience physique » de l’entraîne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Je ne suis pas spécialisé dans la physiologie de l’entraînement sportif. Je travaille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les contenus de l’EPS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, dans leurs relations avec les cultures corporelles qu’il est possible et souhaitable de communiquer aux élèv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676520"/>
            <a:ext cx="85341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4.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royances et représentation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des élèves à propos de leur fonctionnement corpore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école comme lieu de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ise à distance, de rationalisation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br>
              <a:rPr sz="1600"/>
            </a:b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.5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adolescence et la fabrication de la sédentarité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 Des corps instrumentés sur le pôle de la sexualis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confusions entretenues : sensations émotions sentiments :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école comme lieu d’ouverture culturel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ais l’EPS n’est pas « propriétaire » de la formation corporelle des élèves (plus de 50%  pratiquent des APSA en dehors de l’école). Par contre, elle doit exercer une responsabilité  particulière et en évaluer ses effets !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2. Un savoir S’entraîner scolaire : 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mment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es programm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t des contenus (lycé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modalités d’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évalu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référentiel lycé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océdés d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motiv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motifs personnalis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recommandations « transversales » (collè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émarches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’élève construit ses connaissances par l’action et la prise d’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activité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ous forme de « procédés » (collège), ou de spécialités (lycées) transposées dans le monde sco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ise en perspective d’un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culture scolaire du «savoir S’entra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îner »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es ASD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3. Un savoir S’entraîner scolaire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parcours de formation pertinent et continu des élèves, obligation scolaire dans une visée de globalité d’appro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ises de consciences politiques de la force de frappe que représente la masse des enseignants E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commande claire des pouvoirs publics vers le « corps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recherches sur les conditions de transformation et de suivi de l’état sanitaire de la jeune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ogrammes d’action pluridisciplinaires et inter catégoriels initiés dans les régions. (Cf. LI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la formation continue alimentée par des travaux d’équipe de recherche pluri disciplinaires (Cf. ici dans les années 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clusions de l’expo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 Des enjeux économiques…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 Que vive une EP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s de continuité entre les cycles d’enseign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exclue du socle des fondamentaux au collè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s difficultés pour fournir des repères sous forme de normes correspondant au projet éducatif du « savoir S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champ en développement mais insuffisamment « mature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largement absente des discours politiques et médiatiques, victime des confusions avec le sport, l’activité phys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Des enjeux économiques 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rtes l’EPS coûte cher… Ma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itation extraite du somment mondial de l’EPS (Kidd B. , Berlin 1999)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 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égliger l’éducation Physique se révèlera plus coûteux que de l’enseigner…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1 $ investi, gain de productivité de 2 à 5 $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15801a"/>
                </a:solidFill>
                <a:uFillTx/>
                <a:latin typeface="Arial"/>
              </a:rPr>
              <a:t>3. Que vive une EPS</a:t>
            </a:r>
            <a:r>
              <a:rPr b="1" lang="fr-FR" sz="3600" spc="-1" strike="noStrike" u="sng">
                <a:solidFill>
                  <a:srgbClr val="009999"/>
                </a:solidFill>
                <a:uFillTx/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Ouverte de façon critique sur toutes les cultures relatives aux activités corporel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Soutenue par des enseignants engagés et convaincus de leur mission (rôle essentiel des organisations profess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Accompagnée par les collectivités territoriales pour la transformation des conditions de pratique, par l’encadrement de proxim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Prise en considération par la classe politique, par les médias : des horaires, des attentes à formuler vers les acteurs de l’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9898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Avec tous mes remerciements pour votre attention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pour votre accueil chaleureux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84692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L’entraînement : des « pratiques » (s’entraîner, entraîner), qui s’appuient sur des savoirs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. L’entraînement : des pratiques (s’entraîner, entraîner), qui </a:t>
            </a:r>
            <a:r>
              <a:rPr b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s’appuient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 sur des savoir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30556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1. Quelques termes utilisés spontané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une action complexe à défin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3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1. Quelques termes utilisés spontanément,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’il est nécessaire de différencier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comme connaissances mobilisabl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raîn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re entraîné par…(la mode du « coaching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ntraînement (pas seulement sport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entraîner comme compétence « professionn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’entraî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S’entraîner comme résultat d’une pratiq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, d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activité ( des processus), en arrière plan de c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onstruction des savoirs de l’entraînement sportif : une histoire significative pour l’éduc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épassement de croyances voir de dogmes (pulsations 1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ncorporation de connaissances scientifiques concernant les processus invisibles à 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ialogue praticiens/chercheu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savoirs empiriques construits dans la relation entraîneur athlè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action complexe : quelle ac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 1.3.2. Des principes d’efficacité connu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ernant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1.3.3. Une ou des cultures de l’entraîne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08000" y="1197000"/>
          <a:ext cx="9036000" cy="5173560"/>
        </p:xfrm>
        <a:graphic>
          <a:graphicData uri="http://schemas.openxmlformats.org/drawingml/2006/table">
            <a:tbl>
              <a:tblPr/>
              <a:tblGrid>
                <a:gridCol w="2987640"/>
                <a:gridCol w="6048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’entraîn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…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ction d’intervention d’un pratiquant sur ses propres ressources bio-fonctionn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Qui utilise des  </a:t>
                      </a: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MOYEN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1" lang="fr-FR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éfinis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pour intervenir su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XEMPLE : NATATION,  COURSE A PIED DE  DISTANCE…Comme moy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OBJE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déterminé en vue 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 </a:t>
                      </a:r>
                      <a:r>
                        <a:rPr b="1" lang="fr-FR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FONCTIONNEMENT AÉROBIE du système énergétique de la contraction muscul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le TRANSFOR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et d’obten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développement de la capacité d’endu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RESULTA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attendu estimé au travers d’indices objectifs </a:t>
                      </a: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e la trans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s élèves se fixent des caractéristiques de paramètres de charge à réaliser. Ils prévoient 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ffets attendus  sur </a:t>
                      </a:r>
                      <a:r>
                        <a:rPr b="1" lang="fr-FR" sz="1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  <a:ea typeface="Arial"/>
                        </a:rPr>
                        <a:t>divers indices objectifs (mesure, tests) et subjectifs (pulsations cardiaques, ressentis)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971640" y="18900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333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rAYMOND dlm</cp:lastModifiedBy>
  <dcterms:modified xsi:type="dcterms:W3CDTF">2006-06-07T08:49:08Z</dcterms:modified>
  <cp:revision>28</cp:revision>
  <dc:subject/>
  <dc:title>PowerPoint Presentation</dc:title>
</cp:coreProperties>
</file>