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AFF4-66DF-4347-8214-C119D79B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2398-67F0-44FE-ABE8-2D284AC6B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7157-16BE-48DE-9745-27C78EB3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5A54-19CA-4248-A793-7396CE81B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E59B-CBA8-4520-92EE-DCB725801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1FAB9-E2AD-4BB7-B1B1-D69F7711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BE0D-F071-476C-83B2-DFD6FFB19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3E9A-F8D1-4E9E-B919-185E06BD5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6ECF6-4299-46AC-85E8-0B8910449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73365-D333-45EA-B2F6-5F64B6871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579D1-167A-47B7-BB70-235432B32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B04B4-96C6-4D3B-AFA4-06FD3D49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D2E73-3963-4094-859F-9EBA90D7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0738A-34DE-4D9F-8364-261E3035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02E4-C0A5-4CF8-9522-60A6A6FC0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B45F-D9A0-4934-ABA6-8EB4F8BC5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02378-9DC5-4D3A-A11E-74C13E957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CAB2-3731-4A6C-B015-A7E05858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FFBD-6602-4F59-8041-7E0D134A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F6C4-64D3-4B6C-ADE1-8A9A9834D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88E7-FB9A-45DD-9F36-0109D2D2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EBB0-C3E8-4926-A3E7-41B838325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1DCF-E635-4F53-BFBD-5E1DB191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14F0-507D-43CA-B5CA-7D8FDC8A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4C48A-FE60-4415-B5FD-DDBAA4C21ABF}" type="slidenum">
              <a:rPr b="0" lang="fr-FR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3D370-9483-42CA-AF4C-8BC2CDA393FB}" type="slidenum">
              <a:rPr b="0" lang="de-DE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609480"/>
            <a:ext cx="7702560" cy="40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Un savoir S’entraîner scolaire : </a:t>
            </a:r>
            <a:br>
              <a:rPr sz="6000"/>
            </a:b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c’est-à-dire ?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5640" y="53737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posé : Raymond DHELLEMMES - Association des Enseignants EPS (AEEPS). Villeneuve d’Ascq, le 9 juin 2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7989840" cy="14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3.2. Des principes d’efficacité connus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ncernant cette action : les principaux</a:t>
            </a:r>
            <a:br>
              <a:rPr sz="2400"/>
            </a:b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ntinuité (gestion de temps d’activité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rogressivité (des paramètres de charg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daptation (aux individus, aux ressourc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lternance (dépense réparation récupéra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pécification (aux visées de perform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.3. Des interrogations utiles pour une EPS à venir : Une ou des cultures de l’entraînement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t plus spécifiquement, quand il est tourné la recherche de transformation de propriétés corporell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N’appartient pas en propre au milieu sportif (musique, danse théâtre art du cir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- Décliné sous des formes différentes dans d’autres civilisations (ta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ï chi, yoga) avec une même intention : l’articulation états de conscience/ états somatiqu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- Marqué historiquement dans ses rapports avec les conceptions du corps, les connaissances scientifiques permettant d’identifier les propriétés de l’organisme, les performances physiq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00"/>
                </a:solidFill>
                <a:latin typeface="Arial"/>
              </a:rPr>
              <a:t>1.3.3. Des interrogations utiles…  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’histoire de l’EPS est marquée par cette question sous le vocable des METHODES. Les gymnastiques pour adultes plus ou moins récentes égal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réticences récentes à l’introduction d’une culture scolaire de l’entraînement sont-elles dues à la crainte d’un retour aux « méthodes »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s hors l’école, un développement massif des pratiques de forme que l’EPS ne peut ignor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 u="sng">
                <a:solidFill>
                  <a:srgbClr val="000000"/>
                </a:solidFill>
                <a:uFillTx/>
                <a:latin typeface="Arial"/>
              </a:rPr>
              <a:t>L’entraînement comme pratique régulière : une culture, une lente conquête de l’homme. Pour se construire des pouvoirs moteurs nouveaux : un rapport à soi, à l’effort consenti, de nature téléologiqu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Pour conclure ce premier point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atiques et savoirs de l’entraînement sportif ne sont pas importables directement dans le monde scolai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« savoir S’entraîner » n’existe pas en tant qu’objet directement saisiss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arrière plan des pratiques, de l’action : « S’entraîner » une ACTIVITE singulière complexe, des composantes, des processus culturels à identifi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élucidation de cette « activité » l’identification de 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« composantes » : une étape indispensable pour envisager un « savoir S'entraîner » scol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609120"/>
            <a:ext cx="7918560" cy="53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2. L’entraînement comme « activité</a:t>
            </a:r>
            <a:r>
              <a:rPr b="1" lang="fr-FR" sz="3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» :</a:t>
            </a:r>
            <a:br>
              <a:rPr sz="28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 - une activité adaptativ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humaine complexe : ses composantes.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2. - savoir S’entraîner : une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ompétence qui se construit.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3. Certains traits de cette activité sont -ils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accessibles à l’écol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1. - une activité adaptativ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humaine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omplexe : ses compos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640" y="2204640"/>
            <a:ext cx="8134560" cy="41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1. Composantes anthropologique et symbol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2. Composantes « sensitive et sensori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3. Composantes biologiques (bio fonctionne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.4. Composante affective, motiv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2.15. Composante cogn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500" spc="-1" strike="noStrike">
                <a:solidFill>
                  <a:srgbClr val="000000"/>
                </a:solidFill>
                <a:latin typeface="Arial"/>
              </a:rPr>
              <a:t>2.1.1. Composantes anthropologique, symboliqu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’entra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, c’est « Se » faire advenir, se concevoir différemment dans le fu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L’intentionnalité de l’acte d’entraînement est de </a:t>
            </a:r>
            <a:r>
              <a:rPr b="1" i="1" lang="fr-FR" sz="2400" spc="-1" strike="noStrike" u="sng">
                <a:solidFill>
                  <a:srgbClr val="333399"/>
                </a:solidFill>
                <a:uFillTx/>
                <a:latin typeface="Verdana"/>
                <a:ea typeface="Times New Roman"/>
              </a:rPr>
              <a:t>« se faire advenir »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400" spc="-1" strike="noStrike">
                <a:solidFill>
                  <a:srgbClr val="333399"/>
                </a:solidFill>
                <a:latin typeface="Verdana"/>
                <a:ea typeface="Times New Roman"/>
              </a:rPr>
              <a:t>d’être en même temps sujet et objet de l’a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2. Composantes « sensitive et sensori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838080" y="1828440"/>
            <a:ext cx="74678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Le pratiquant effectue une «Lecture sensori-motrice et cognitiv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de</a:t>
            </a:r>
            <a:r>
              <a:rPr b="1" i="1" lang="fr-FR" sz="2800" spc="-1" strike="noStrike">
                <a:solidFill>
                  <a:srgbClr val="333399"/>
                </a:solidFill>
                <a:latin typeface="Arial"/>
              </a:rPr>
              <a:t>…«</a:t>
            </a:r>
            <a:r>
              <a:rPr b="1" i="1" lang="fr-FR" sz="2800" spc="-1" strike="noStrike" u="sng">
                <a:solidFill>
                  <a:srgbClr val="333399"/>
                </a:solidFill>
                <a:uFillTx/>
                <a:latin typeface="Arial"/>
              </a:rPr>
              <a:t> l’expérience énergétique 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( il construit un affinement du ressenti et de son expression par une « didactique du sensible », par une « histoire du corps sensible</a:t>
            </a:r>
            <a:r>
              <a:rPr b="0" i="1" lang="fr-FR" sz="3200" spc="-1" strike="noStrike">
                <a:solidFill>
                  <a:srgbClr val="333399"/>
                </a:solidFill>
                <a:latin typeface="Arial"/>
              </a:rPr>
              <a:t> » 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3. Composantes biologiques (bio fonctionnel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3160" y="12189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Données scientifiques actuelles sur le développement des qualités d’endurance, de force/puissance chez les adolescent-e-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sur les </a:t>
            </a:r>
            <a:r>
              <a:rPr b="1" i="1" lang="fr-FR" sz="2800" spc="-1" strike="noStrike" u="sng">
                <a:solidFill>
                  <a:srgbClr val="333399"/>
                </a:solidFill>
                <a:uFillTx/>
                <a:latin typeface="Arial"/>
              </a:rPr>
              <a:t>conditions de la sollicitation</a:t>
            </a:r>
            <a:r>
              <a:rPr b="0" i="1" lang="fr-FR" sz="2800" spc="-1" strike="noStrike">
                <a:solidFill>
                  <a:srgbClr val="333399"/>
                </a:solidFill>
                <a:latin typeface="Arial"/>
              </a:rPr>
              <a:t> du système énergétique de la contraction musculaire, sur les possibilités de mesure de sa transformation avec tests de terr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7620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2.1.4. Composante affective, motivationn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51920" y="106632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Des motifs spontanés d’un « se dépenser physiquement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 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fr-FR" sz="2000" spc="-1" strike="noStrike" u="sng">
                <a:solidFill>
                  <a:srgbClr val="333399"/>
                </a:solidFill>
                <a:uFillTx/>
                <a:latin typeface="Arial"/>
              </a:rPr>
              <a:t>à des motifs plus constru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Les jeux d’exercice (Château), fonctionnels (Wallon), de vertige (Caillois) l’épreuve (B. Jeu), les « promenades » : </a:t>
            </a: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« c’est à la promenade que j’écrit dans mon cerveau »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(Rousseau</a:t>
            </a:r>
            <a:r>
              <a:rPr b="0" i="1" lang="fr-FR" sz="1600" spc="-1" strike="noStrike">
                <a:solidFill>
                  <a:srgbClr val="333399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Des pratiques ancestrales liées à l’action sur les corps (le non mouvement, le sauna, les hammams…révèlent les fondements d’un tel proj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Des pratiques maintenant sportives, initialement liées à la recherche d’états physiques (boxe française, culture physique de Desbonne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333399"/>
                </a:solidFill>
                <a:latin typeface="Arial"/>
              </a:rPr>
              <a:t>Une culture du physique liée à pour les jeunes, à des objectifs de développement EVALUABLES (la mesure de soi contribue probablement à la construction de son identit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78454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 savoir S’entraîner scolaire : c’est-à-dire 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1280" y="1341000"/>
            <a:ext cx="815184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 introduction le but du propos, et… ce que je ne traite p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traînement : des « pratiques » (s’entraîner, entraîner), qui s’appuient sur des savoir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traînement comme « activité »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une activité adaptative humaine compl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savoir S’entraîner : une compétence qui se constru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- certains traits de cette activité sont-ils accessibles à l’écol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avoir S’entraîner, un objet d’enseignement scolair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Pourquoi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mment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A quelles conditions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conclusion l’EPS et ses acteurs comme ressource éducative remarquable… et méconnue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1.5. Composante cogn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« Il s’agit d’établir un contrôle sur les états d’un objet en cours de transformation et impliquant des …anticipations… et rétroactions à réaliser sur des états 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De  rendre conscient le contrôle de l’ac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- Terme adopté 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« </a:t>
            </a:r>
            <a:r>
              <a:rPr b="1" i="1" lang="fr-FR" sz="2400" spc="-1" strike="noStrike" u="sng">
                <a:solidFill>
                  <a:srgbClr val="333399"/>
                </a:solidFill>
                <a:uFillTx/>
                <a:latin typeface="Arial"/>
              </a:rPr>
              <a:t>procéduralisation</a:t>
            </a: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 »</a:t>
            </a:r>
            <a:r>
              <a:rPr b="0" i="1" lang="fr-FR" sz="2400" spc="-1" strike="noStrike">
                <a:solidFill>
                  <a:srgbClr val="333399"/>
                </a:solidFill>
                <a:latin typeface="Arial"/>
              </a:rPr>
              <a:t> (G. Malgla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Des outils extraordinaires pour conduire ce travail réflexif : les ressources de l’informati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2.2. « savoir S’entraîner » : une compétence qui se construit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228600"/>
            <a:ext cx="79898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.2. - savoir S’entraîner : une compétence qui se construit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es composantes s’organisent dans l’expérience personnelle dans un « parcours » semé d’embûches (rapport à l’effort, se projeter vers l’avenir, faire évoluer ses motivations…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n période de développement il est plus ou moins pertinent d’intervenir sur telle ou telle ressour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es « expériences » de dépense physique hors et dans l’école se coordonnent-t-elles pour faire sen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a question du « réinvestissement » de ce qu’offre l’apprentissage de l’entra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ment dans d’autres champ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En conclusion ce second point : certains traits de cette activité sont - ils accessibles à l’école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304920"/>
            <a:ext cx="84470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.3.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En conclusion ce second point : certains traits de cette activité sont - ils accessibles à l’école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382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e ne sont pas les pratiques qu’il faut transposer m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« l’expérience de l’entraînement », l’activité humaine qui l’accompagne, dans les conditions scolai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outes les «spécialités » sont bonnes à prendre tant qu’elles permettent cette « expérience 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xpérience ne suffit pas : une « relecture compréhensive » s’impose ! Condition pour transformer cette expérience en compétenc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609120"/>
            <a:ext cx="77738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2.3. En conclusion ce second point…  su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atiques scolaires d'entraînement doivent donc être conçues, à partir des contraintes et des ressources que propose le milieu scolaire et les caractéristiques de élè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« Savoir s’entraîner » comme aboutissement d’un parcours de formation… Sur un « bruit de fond » permanent, des périodes favorables pour un enseignement systématique. Exemple : en quatrième au collège. En première au lycé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280" y="609120"/>
            <a:ext cx="822348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Savoir S’entraîner Physiquement, un objet d’enseignement scolaire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?</a:t>
            </a:r>
            <a:br>
              <a:rPr sz="2800"/>
            </a:b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1. Pourquoi ?</a:t>
            </a: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’enjeu majeur d’un « savoir intervenir » sur les propriétés de son fonctionnement corporel : l’éducation à la santé.</a:t>
            </a:r>
            <a:br>
              <a:rPr sz="18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2. Comment ?</a:t>
            </a:r>
            <a:br>
              <a:rPr sz="28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Rendre l’élève acteur, forcément !</a:t>
            </a:r>
            <a:br>
              <a:rPr sz="2000"/>
            </a:b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3. A quelles conditions ?</a:t>
            </a: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Un parcours de formation perti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1. Un savoir S’entraîner scolaire : Pourquoi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36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83059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1. Pourquoi ?</a:t>
            </a:r>
            <a:br>
              <a:rPr sz="1800"/>
            </a:br>
            <a:br>
              <a:rPr sz="32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njeu majeur d’un « savoir intervenir » sur les propriétés de son fonctionnement corporel 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l’éducation à la santé.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Quelques définitions…(O.M.S. + divers)</a:t>
            </a: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La « santé » comme capacité d’adaptation, comme possibilité d’affrontement des situations de vie, comme sentiment de bien-être (comme rapport à soi, à autrui, au monde social, à l’environnement)</a:t>
            </a:r>
            <a:br>
              <a:rPr sz="2800"/>
            </a:br>
            <a:br>
              <a:rPr sz="3200"/>
            </a:br>
            <a:r>
              <a:rPr b="1" i="1" lang="fr-FR" sz="2000" spc="-1" strike="noStrike">
                <a:solidFill>
                  <a:srgbClr val="333399"/>
                </a:solidFill>
                <a:latin typeface="Arial"/>
              </a:rPr>
              <a:t>« Pour chaque homme, c’est d’avoir les moyens de tracer le cheminement personnel vers le bien-être physique psychique et moral » </a:t>
            </a:r>
            <a:br>
              <a:rPr sz="1200"/>
            </a:br>
            <a:br>
              <a:rPr sz="1200"/>
            </a:br>
            <a:br>
              <a:rPr sz="1800"/>
            </a:br>
            <a:r>
              <a:rPr b="1" i="1" lang="fr-F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fr-FR" sz="2000" spc="-1" strike="noStrike" u="sng">
                <a:solidFill>
                  <a:srgbClr val="333399"/>
                </a:solidFill>
                <a:uFillTx/>
                <a:latin typeface="Arial"/>
              </a:rPr>
              <a:t>L’éducation pour la santé contribue à la construction par les élèves d’indicateurs perceptuels, fonctionnels et adaptatifs d’un « état de santé » (bien être)</a:t>
            </a:r>
            <a:r>
              <a:rPr b="1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uite  Pourquoi un « savoir S’entra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 à l’école ?…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 1. On sait qu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a jeunesse reste sensible aux conduites addictives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de toute nature : un impératif social de lutte contre cette tendance.</a:t>
            </a:r>
            <a:br>
              <a:rPr sz="2000"/>
            </a:br>
            <a:br>
              <a:rPr sz="20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2.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Face aux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iversités des cultures des élèves concernant leur rapport au corps, leur vécu et leurs habitus touchant à l’effort et à la dépense physique :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e exigence de démocratisation</a:t>
            </a:r>
            <a:br>
              <a:rPr sz="2000"/>
            </a:b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1800"/>
            </a:b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1.3.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école comme lieu privilégié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possibilité de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mise en synergie des connaissanc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pour travailler l’image que les élèves ont d’eux mêmes, leur identité de genre : 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une possibl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efficacité</a:t>
            </a:r>
            <a:br>
              <a:rPr sz="1800"/>
            </a:b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424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En introduction le but du propos, et…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e qui n’est pas traité.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880" y="1844280"/>
            <a:ext cx="836784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Le but : tenter de démontrer qu’à certaines conditions, il est possible de transmettre aux élèves un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« savoir S’entraîner »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Ces conditions supposent des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ruptures avec des conceptions exclusivement « sportives »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 de l’entraînement au profit d’une approche  anthropologique de  « l’expérience physique » de l’entraînemen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Je ne suis pas spécialisé dans la physiologie de l’entraînement sportif. Je travaille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</a:rPr>
              <a:t>les contenus de l’EPS</a:t>
            </a:r>
            <a:r>
              <a:rPr b="0" lang="fr-FR" sz="1900" spc="-1" strike="noStrike">
                <a:solidFill>
                  <a:srgbClr val="000000"/>
                </a:solidFill>
                <a:latin typeface="Arial"/>
              </a:rPr>
              <a:t>, dans leurs relations avec les cultures corporelles qu’il est possible et souhaitable de communiquer aux élèv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uite  Pourquoi un « savoir S’entra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 à l’école ?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1676520"/>
            <a:ext cx="853416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.4.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Croyances et représentations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des élèves à propos de leur fonctionnement corporel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’école comme lieu de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ise à distance, de rationalisation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800"/>
            </a:br>
            <a:br>
              <a:rPr sz="1600"/>
            </a:br>
            <a:r>
              <a:rPr b="1" lang="fr-FR" sz="1800" spc="-1" strike="noStrike">
                <a:solidFill>
                  <a:srgbClr val="000000"/>
                </a:solidFill>
                <a:latin typeface="Times New Roman"/>
              </a:rPr>
              <a:t>1.5.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’adolescence et la fabrication de la sédentarité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. Des corps instrumentés sur le pôle de la sexualisation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confusions entretenues : sensations émotions sentiments :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l’école comme lieu d’ouverture culturelle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</a:rPr>
              <a:t>Mais l’EPS n’est pas « propriétaire » de la formation corporelle des élèves (plus de 50%  pratiquent des APSA en dehors de l’école). Par contre, elle doit exercer une responsabilité  particulière et en évaluer ses effets !</a:t>
            </a:r>
            <a:br>
              <a:rPr sz="2000"/>
            </a:b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2. Un savoir S’entraîner scolaire : </a:t>
            </a:r>
            <a:br>
              <a:rPr sz="3200"/>
            </a:br>
            <a:br>
              <a:rPr sz="3200"/>
            </a:b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mment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2. Comment ?</a:t>
            </a: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es programme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et des contenus (lycé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modalités d’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évalu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référentiel lycé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océdés d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motivation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(motifs personnalisé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recommandations « transversales » (collè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démarches :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l’élève construit ses connaissances par l’action et la prise d’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activités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ous forme de « procédés » (collège), ou de spécialités (lycées) transposées dans le monde scola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mise en perspective d’une 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culture scolaire du «savoir S’entra</a:t>
            </a:r>
            <a:r>
              <a:rPr b="0" lang="fr-FR" sz="24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îner »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(les ASDE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3.3. Un savoir S’entraîner scolaire :</a:t>
            </a: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A quelles conditions ?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3.3. A quelles conditions 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parcours de formation pertinent et continu des élèves, obligation scolaire dans une visée de globalité d’appro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rises de consciences politiques de la force de frappe que représente la masse des enseignants E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commande claire des pouvoirs publics vers le « corps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recherches sur les conditions de transformation et de suivi de l’état sanitaire de la jeunes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programmes d’action pluridisciplinaires et inter catégoriels initiés dans les régions. (Cf. LI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la formation continue alimentée par des travaux d’équipe de recherche pluri disciplinaires (Cf. ici dans les années 199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onclusions de l’expos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1. Des questions en sus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2. Des enjeux économiques…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3. Que vive une EP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160" y="30492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1. Des questions en susp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as de continuité entre les cycles d’enseign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PS exclue du socle des fondamentaux au collè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s difficultés pour fournir des repères sous forme de normes correspondant au projet éducatif du « savoir S’entra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îner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champ en développement mais insuffisamment « mature 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L’EPS largement absente des discours politiques et médiatiques, victime des confusions avec le sport, l’activité physiq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2. Des enjeux économiques aus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ertes l’EPS coûte cher… Mai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itation extraite du somment mondial de l’EPS (Kidd B. , Berlin 1999).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  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Négliger l’éducation Physique se révèlera plus coûteux que de l’enseigner…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Pour 1 $ investi, gain de productivité de 2 à 5 $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15801a"/>
                </a:solidFill>
                <a:uFillTx/>
                <a:latin typeface="Arial"/>
              </a:rPr>
              <a:t>3. Que vive une EPS</a:t>
            </a:r>
            <a:r>
              <a:rPr b="1" lang="fr-FR" sz="3600" spc="-1" strike="noStrike" u="sng">
                <a:solidFill>
                  <a:srgbClr val="009999"/>
                </a:solidFill>
                <a:uFillTx/>
                <a:latin typeface="Arial"/>
              </a:rPr>
              <a:t>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Ouverte de façon critique sur toutes les cultures relatives aux activités corporel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Soutenue par des enseignants engagés et convaincus de leur mission (rôle essentiel des organisations professionnel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Accompagnée par les collectivités territoriales pour la transformation des conditions de pratique, par l’encadrement de proximité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1580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5801a"/>
                </a:solidFill>
                <a:latin typeface="Arial"/>
              </a:rPr>
              <a:t>Prise en considération par la classe politique, par les médias : des horaires, des attentes à formuler vers les acteurs de l’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685800" y="476280"/>
            <a:ext cx="798984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Avec tous mes remerciements pour votre attention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e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333399"/>
                </a:solidFill>
                <a:latin typeface="Arial"/>
              </a:rPr>
              <a:t>pour votre accueil chaleureux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0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000" y="907560"/>
            <a:ext cx="784692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1. L’entraînement : des « pratiques » (s’entraîner, entraîner), qui s’appuient sur des savoirs…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560" y="404640"/>
            <a:ext cx="856908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1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. L’entraînement : des pratiques (s’entraîner, entraîner), qui </a:t>
            </a:r>
            <a:r>
              <a:rPr b="1" lang="fr-FR" sz="1400" spc="-1" strike="noStrike" u="sng">
                <a:solidFill>
                  <a:srgbClr val="000000"/>
                </a:solidFill>
                <a:uFillTx/>
                <a:latin typeface="Arial"/>
              </a:rPr>
              <a:t>s’appuient</a:t>
            </a:r>
            <a:r>
              <a:rPr b="1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 sur des savoirs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160" y="1773360"/>
            <a:ext cx="8305560" cy="46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1. Quelques termes utilisés spontané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2. Un processus de  historique de construction et d’articulation des savoirs empiriques et scientifiqu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1.3. Des pratiques, des savoirs : le « S’entraîner » comme une action complexe à défini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137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1. Quelques termes utilisés spontanément, </a:t>
            </a:r>
            <a:br>
              <a:rPr sz="2400"/>
            </a:b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qu’il est nécessaire de différencier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915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comme connaissances mobilisabl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traîn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tre entraîné par…(la mode du « coaching 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entraînement (pas seulement sporti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entraîner comme compétence « professionnelle 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’entraî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Savoir S’entraîner comme résultat d’une pratiqu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s pratiques, d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Une activité ( des processus), en arrière plan de c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2. Un processus de  historique de construction et d’articulation des savoirs empiriques et scientif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construction des savoirs de l’entraînement sportif : une histoire significative pour l’éducat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dépassement de croyances voir de dogmes (pulsations 14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incorporation de connaissances scientifiques concernant les processus invisibles à l’œuv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dialogue praticiens/chercheur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savoirs empiriques construits dans la relation entraîneur athlè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1.3. Des pratiques, des savoirs : le « S’entraîner » comme action complexe : quelle action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1.3.1. Caractéristiques de cet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 1.3.2. Des principes d’efficacité connu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cernant cette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- 1.3.3. Une ou des cultures de l’entraîne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?</a:t>
            </a:r>
            <a:r>
              <a:rPr b="0" lang="fr-FR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108000" y="1197000"/>
          <a:ext cx="9036000" cy="5173560"/>
        </p:xfrm>
        <a:graphic>
          <a:graphicData uri="http://schemas.openxmlformats.org/drawingml/2006/table">
            <a:tbl>
              <a:tblPr/>
              <a:tblGrid>
                <a:gridCol w="2987640"/>
                <a:gridCol w="60483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’entraîn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mme…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Action d’intervention d’un pratiquant sur ses propres ressources bio-fonctionnel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Qui utilise des  </a:t>
                      </a: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MOYEN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S </a:t>
                      </a:r>
                      <a:r>
                        <a:rPr b="1" lang="fr-FR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définis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pour intervenir su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XEMPLE : NATATION,  COURSE A PIED DE  DISTANCE…Comme moye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Un OBJET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déterminé en vue d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fr-FR" sz="14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  </a:t>
                      </a:r>
                      <a:r>
                        <a:rPr b="1" lang="fr-FR" sz="16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FONCTIONNEMENT AÉROBIE du système énergétique de la contraction musculai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5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le TRANSFOR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et d’obteni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 développement de la capacité d’endur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 u="sng">
                          <a:solidFill>
                            <a:srgbClr val="336600"/>
                          </a:solidFill>
                          <a:uFillTx/>
                          <a:latin typeface="Times New Roman"/>
                          <a:ea typeface="Times New Roman"/>
                        </a:rPr>
                        <a:t>un RESULTAT</a:t>
                      </a:r>
                      <a:r>
                        <a:rPr b="1" lang="en-US" sz="18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 attendu estimé au travers d’indices objectifs </a:t>
                      </a:r>
                      <a:r>
                        <a:rPr b="1" lang="en-US" sz="1600" spc="-1" strike="noStrike">
                          <a:solidFill>
                            <a:srgbClr val="336600"/>
                          </a:solidFill>
                          <a:latin typeface="Times New Roman"/>
                          <a:ea typeface="Times New Roman"/>
                        </a:rPr>
                        <a:t>de la transform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Les élèves se fixent des caractéristiques de paramètres de charge à réaliser. Ils prévoient d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333399"/>
                          </a:solidFill>
                          <a:latin typeface="Arial"/>
                          <a:ea typeface="Arial"/>
                        </a:rPr>
                        <a:t>effets attendus  sur </a:t>
                      </a:r>
                      <a:r>
                        <a:rPr b="1" lang="fr-FR" sz="1800" spc="-1" strike="noStrike" u="sng">
                          <a:solidFill>
                            <a:srgbClr val="333399"/>
                          </a:solidFill>
                          <a:uFillTx/>
                          <a:latin typeface="Arial"/>
                          <a:ea typeface="Arial"/>
                        </a:rPr>
                        <a:t>divers indices objectifs (mesure, tests) et subjectifs (pulsations cardiaques, ressentis),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971640" y="189000"/>
            <a:ext cx="662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79640" y="33336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1.3.1. Caractéristiques de cette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rAYMOND dlm</cp:lastModifiedBy>
  <dcterms:modified xsi:type="dcterms:W3CDTF">2006-06-07T08:49:08Z</dcterms:modified>
  <cp:revision>28</cp:revision>
  <dc:subject/>
  <dc:title>PowerPoint Presentation</dc:title>
</cp:coreProperties>
</file>