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A63F-252E-4F12-B1BB-0E4DC24C5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0EB2-15BC-4746-95BB-ADD0CD55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4706-E271-4F99-B360-FB592C36E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F916-1D78-4981-950A-F59A524E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EF18-B149-4C99-92CA-F71DDD17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57A2-444A-4672-866A-05078A7C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88CE-9456-448F-98A7-DF81CED8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B273-38BA-47B2-B02C-752BF463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CB3C-FEB9-4F71-A637-5E72EB95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18F4-8ABF-49B8-BB71-A2CDCE61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3D1F-D734-4905-A6D9-2D1502C6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46D8-FD45-4DA6-8CBE-33D4D9DC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B6B9-C331-4825-8595-3BDC9D078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" Target="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91720" y="3886200"/>
            <a:ext cx="4601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339966"/>
                </a:solidFill>
                <a:latin typeface="Verdana"/>
                <a:ea typeface="Arial"/>
              </a:rPr>
              <a:t>PROTECTION 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339966"/>
                </a:solidFill>
                <a:latin typeface="Verdana"/>
                <a:ea typeface="Arial"/>
              </a:rPr>
              <a:t>DES YEUX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regard1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4648320" cy="1690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920" y="60958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339966"/>
                </a:solidFill>
                <a:latin typeface="Times New Roman"/>
              </a:rPr>
              <a:t>Réalisé par S. Monet – M. Neyrinck – B. Lefebv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525640" y="430200"/>
            <a:ext cx="320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Statisti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143000" y="1979640"/>
            <a:ext cx="684360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280" y="1828800"/>
            <a:ext cx="82440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Au poste de travail, les yeux et le visage des travailleurs sont susceptibles d’être exposés à des risq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189080"/>
            <a:ext cx="822960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Exempl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1. Que faut-il faire pour charger une batteri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Vérifier le niveau d'électrolyte avant de recharger une batterie : si l'électrolyte recouvre le dessus des plaques, ne pas ajouter d'eau et vérifier à nouveau le niveau de liquide une fois la batterie rechargé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Pour réduire les risques d'explosion, suivre les recommandations du fabricant du chargeur sur le branchement et débranchement des câbles et sur le fonctionnement du charge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En règle générale, on recommande de débrancher le chargeur ou de le mettre hors tension avant de brancher ou de débrancher les pinces. En y allant délicatement, brancher la pince positive [+], habituellement rouge, sur la borne positive de la batterie et la pince négative [-], habituellement noire, sur la borne néga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Ne recharger des batteries que dans un endroit bien ventil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Si la batterie devient chaude ou si de l'électrolyte se met à jaillir d'un bouchon, mettre temporairement le chargeur hors tension. Reprendre le chargement avec un courant de plus faible intensité ou à une vitesse de chargement moins élevé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32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2. Quels sont les risques pour les yeux lors de la mise </a:t>
            </a:r>
            <a:br>
              <a:rPr sz="2000"/>
            </a:b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en charge de la batteri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- Risque électr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Contact des deux bornes en même tem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- Risque d’explo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Dégagement d’hydrogène qui à concentration suffisante dans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’air devient explosi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- Risque de proj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Échauffement de l’électroly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En fin de charge, une opératrice fait l’appoint de niveau d’une batterie de traction. Que se passe-t-il 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867280"/>
            <a:ext cx="8229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’opératrice a reçu une projection d’électrolyte dans l’œil gauch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163600" y="2133720"/>
            <a:ext cx="477072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137160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3. Que peut-on mettre en place pour limiter les risques </a:t>
            </a:r>
            <a:br>
              <a:rPr sz="2000"/>
            </a:b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encourus par les yeux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e port d’une protection adapté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505480" y="430200"/>
            <a:ext cx="310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Prote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95280"/>
            <a:ext cx="822960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Il existe de nombreux modèles de protecteurs des yeux et/ou du vi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On peut les classer en trois grands types :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590920"/>
            <a:ext cx="3352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-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es lunettes branch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4160880"/>
            <a:ext cx="3352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-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es lunettes masq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5608800"/>
            <a:ext cx="3352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-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es écrans faciau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962520" y="4132440"/>
            <a:ext cx="2209680" cy="744480"/>
            <a:chOff x="3962520" y="4132440"/>
            <a:chExt cx="2209680" cy="744480"/>
          </a:xfrm>
        </p:grpSpPr>
        <p:pic>
          <p:nvPicPr>
            <p:cNvPr id="71" name="" descr=""/>
            <p:cNvPicPr/>
            <p:nvPr/>
          </p:nvPicPr>
          <p:blipFill>
            <a:blip r:embed="rId3"/>
            <a:srcRect l="2771" t="22239" r="3704" b="19641"/>
            <a:stretch/>
          </p:blipFill>
          <p:spPr>
            <a:xfrm>
              <a:off x="3962520" y="4132440"/>
              <a:ext cx="220968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 txBox="1"/>
            <p:nvPr/>
          </p:nvSpPr>
          <p:spPr>
            <a:xfrm>
              <a:off x="3962520" y="4132440"/>
              <a:ext cx="2209680" cy="744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038480" y="2590920"/>
            <a:ext cx="3272040" cy="1455480"/>
            <a:chOff x="4038480" y="2590920"/>
            <a:chExt cx="3272040" cy="1455480"/>
          </a:xfrm>
        </p:grpSpPr>
        <p:grpSp>
          <p:nvGrpSpPr>
            <p:cNvPr id="74" name=""/>
            <p:cNvGrpSpPr/>
            <p:nvPr/>
          </p:nvGrpSpPr>
          <p:grpSpPr>
            <a:xfrm>
              <a:off x="4038480" y="2590920"/>
              <a:ext cx="1828800" cy="690480"/>
              <a:chOff x="4038480" y="2590920"/>
              <a:chExt cx="1828800" cy="690480"/>
            </a:xfrm>
          </p:grpSpPr>
          <p:pic>
            <p:nvPicPr>
              <p:cNvPr id="75" name="" descr=""/>
              <p:cNvPicPr/>
              <p:nvPr/>
            </p:nvPicPr>
            <p:blipFill>
              <a:blip r:embed="rId4"/>
              <a:srcRect l="2248" t="24225" r="5967" b="11784"/>
              <a:stretch/>
            </p:blipFill>
            <p:spPr>
              <a:xfrm>
                <a:off x="4038480" y="2590920"/>
                <a:ext cx="1828800" cy="69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 txBox="1"/>
              <p:nvPr/>
            </p:nvSpPr>
            <p:spPr>
              <a:xfrm>
                <a:off x="4038480" y="2590920"/>
                <a:ext cx="1828800" cy="69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799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7" name="" descr=""/>
            <p:cNvPicPr/>
            <p:nvPr/>
          </p:nvPicPr>
          <p:blipFill>
            <a:blip r:embed="rId5"/>
            <a:stretch/>
          </p:blipFill>
          <p:spPr>
            <a:xfrm>
              <a:off x="5715000" y="3124080"/>
              <a:ext cx="1595520" cy="92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"/>
          <p:cNvGrpSpPr/>
          <p:nvPr/>
        </p:nvGrpSpPr>
        <p:grpSpPr>
          <a:xfrm>
            <a:off x="3505320" y="5029200"/>
            <a:ext cx="2382840" cy="1596960"/>
            <a:chOff x="3505320" y="5029200"/>
            <a:chExt cx="2382840" cy="1596960"/>
          </a:xfrm>
        </p:grpSpPr>
        <p:pic>
          <p:nvPicPr>
            <p:cNvPr id="79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4800600" y="5029200"/>
              <a:ext cx="1087560" cy="15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8"/>
            <a:stretch/>
          </p:blipFill>
          <p:spPr>
            <a:xfrm>
              <a:off x="3505320" y="5257800"/>
              <a:ext cx="817560" cy="119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96840" y="430200"/>
            <a:ext cx="29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4479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9966"/>
                </a:solidFill>
                <a:latin typeface="Verdana"/>
              </a:rPr>
              <a:t>L’œil est un organe fragile et vulnér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Les effets d’un accident aux yeux sont nombreux et d’une gravité </a:t>
            </a:r>
            <a:br>
              <a:rPr sz="1600"/>
            </a:b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allant d’une simple irritation à la cécité totale, d’où l’importance </a:t>
            </a:r>
            <a:br>
              <a:rPr sz="1600"/>
            </a:b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d’utiliser l’EPI adapt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14:40:51Z</dcterms:created>
  <dc:creator>K100</dc:creator>
  <dc:description/>
  <dc:language>en-US</dc:language>
  <cp:lastModifiedBy>K100</cp:lastModifiedBy>
  <dcterms:modified xsi:type="dcterms:W3CDTF">2008-10-03T13:56:28Z</dcterms:modified>
  <cp:revision>9</cp:revision>
  <dc:subject/>
  <dc:title>Présentation PowerPoint</dc:title>
</cp:coreProperties>
</file>