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4687-F28B-49B0-8241-041C8C41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225-8FBE-4FE9-A992-1ADDCED0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F09C-3FFC-4338-9E10-FB5FE5D9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682-708D-47E2-9889-C2115DDF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F297-19F1-41BE-AB7F-CEF132EF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8E0-2CE5-423B-A0DC-6443085B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558-31DB-4D46-B2FE-3CF2F569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23AD-B3DE-412A-999A-2B4BFC48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1DE4-6F2B-4479-BE0A-8F23DE8D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5AF-0227-4CE5-A672-23D2D708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03F8-109C-4DDF-8657-D3E3538E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C75-2B0C-458A-B783-AF936035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4CC8-B989-4285-BB2C-E0DDF654A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anfrance.fr/default.aspx?detail=1072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EPI </a:t>
            </a:r>
            <a:br>
              <a:rPr sz="4800"/>
            </a:b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ICARO S3">
            <a:hlinkClick r:id="rId2"/>
          </p:cNvPr>
          <p:cNvPicPr/>
          <p:nvPr/>
        </p:nvPicPr>
        <p:blipFill>
          <a:blip r:embed="rId3"/>
          <a:srcRect l="0" t="24247" r="0" b="0"/>
          <a:stretch/>
        </p:blipFill>
        <p:spPr>
          <a:xfrm>
            <a:off x="6705720" y="5079960"/>
            <a:ext cx="1944720" cy="147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380880" y="304920"/>
            <a:ext cx="2210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61722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ff"/>
                </a:solidFill>
                <a:latin typeface="Arial"/>
              </a:rPr>
              <a:t>Réalisé par V. Leblanc – V. Genain – S. Brugg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763560" cy="16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800600" y="2743200"/>
            <a:ext cx="1684440" cy="89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78732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181480" y="4495680"/>
            <a:ext cx="571680" cy="161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ACCESS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RECOMMANDATIONS D’ENTRE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36844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Contrôler visuellement le bon état de la chaussure ava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que utili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Mettre au rebut les chaussures lorsque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relief des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semelles est usé ou lorsqu’une détérioration important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apparaî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enir les chaussures en état de propre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faire sécher de façon naturelle lorsqu’elles sont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humides, ne pas les placer à proximité d’une source d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l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Graisser ou cirer les chaussures afin de limiter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dessèchement ou la formation de craque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7082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 milieu industriel génère des risques importants et variés qui nécessitent notamment une protection efficace des pi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2004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normes et directives européennes définisse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rois catégories de chaussures à usage professio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RI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mécan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ocs, écrasement, perfo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chi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produits dangereux, corrosi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ther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froid, chaleur, intempér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électr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décharge électrique, électricité st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biolog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allergies, irrita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lié aux déplacements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gliss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8360" y="2362320"/>
          <a:ext cx="7665840" cy="3504960"/>
        </p:xfrm>
        <a:graphic>
          <a:graphicData uri="http://schemas.openxmlformats.org/drawingml/2006/table">
            <a:tbl>
              <a:tblPr/>
              <a:tblGrid>
                <a:gridCol w="2004840"/>
                <a:gridCol w="2286000"/>
                <a:gridCol w="3375000"/>
              </a:tblGrid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r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ype de chauss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Protection aux cho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trav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Auc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prot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oyen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1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sécurit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mpor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2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57200" y="6165720"/>
            <a:ext cx="82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3399ff"/>
                </a:solidFill>
                <a:latin typeface="Comic Sans MS"/>
              </a:rPr>
              <a:t>*</a:t>
            </a:r>
            <a:r>
              <a:rPr b="0" lang="en-US" sz="1600" spc="-1" strike="noStrike">
                <a:solidFill>
                  <a:srgbClr val="3399ff"/>
                </a:solidFill>
                <a:latin typeface="Comic Sans MS"/>
              </a:rPr>
              <a:t> Joule : Unité élémentaire de mesure d’énergie, de travail et de quantité de chaleur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NO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25905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1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aussures tout cuir sauf caoutchouc ou polym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2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Bottes tout caoutchouc entièrement vulcanisé ou tout polymère moul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MATÉRIAUX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0" t="0" r="0" b="22576"/>
          <a:stretch/>
        </p:blipFill>
        <p:spPr>
          <a:xfrm>
            <a:off x="1600200" y="2743200"/>
            <a:ext cx="6019920" cy="3657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ES PARTIES D’UNE CHAUSSURE DE SÉCU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FONDA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600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Elles portent sur toute ou partie de la chaussure :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tige, doublure, languette, semel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exigences fondamentales concern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la qualité et la performance de matériaux utilis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résistance à la déchirure, à la flexion et à l ’abras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erméabilité à la vapeur d ’eau et aux hui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’adhésion tige-semel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ropriété antidérapante de la sem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ADDIT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054160" y="2092320"/>
            <a:ext cx="5033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219320" y="2549520"/>
            <a:ext cx="3193920" cy="1758960"/>
            <a:chOff x="1219320" y="2549520"/>
            <a:chExt cx="3193920" cy="175896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1219320" y="2549520"/>
              <a:ext cx="184644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2819520" y="3227400"/>
              <a:ext cx="1593720" cy="10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MODÈ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715000" y="2286000"/>
            <a:ext cx="2477880" cy="1978200"/>
            <a:chOff x="5715000" y="2286000"/>
            <a:chExt cx="2477880" cy="1978200"/>
          </a:xfrm>
        </p:grpSpPr>
        <p:pic>
          <p:nvPicPr>
            <p:cNvPr id="81" name="" descr=""/>
            <p:cNvPicPr/>
            <p:nvPr/>
          </p:nvPicPr>
          <p:blipFill>
            <a:blip r:embed="rId5"/>
            <a:stretch/>
          </p:blipFill>
          <p:spPr>
            <a:xfrm>
              <a:off x="5715000" y="2286000"/>
              <a:ext cx="12589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6933960" y="3005280"/>
              <a:ext cx="125892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4724280" y="4495680"/>
            <a:ext cx="2786040" cy="2097000"/>
            <a:chOff x="4724280" y="4495680"/>
            <a:chExt cx="2786040" cy="2097000"/>
          </a:xfrm>
        </p:grpSpPr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>
              <a:off x="4724280" y="5333760"/>
              <a:ext cx="18637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8"/>
            <a:stretch/>
          </p:blipFill>
          <p:spPr>
            <a:xfrm>
              <a:off x="5638680" y="4495680"/>
              <a:ext cx="187164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1066680" y="4114800"/>
            <a:ext cx="1967040" cy="2230560"/>
            <a:chOff x="1066680" y="4114800"/>
            <a:chExt cx="1967040" cy="2230560"/>
          </a:xfrm>
        </p:grpSpPr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>
              <a:off x="1066680" y="4114800"/>
              <a:ext cx="86688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>
              <a:off x="1828800" y="4724280"/>
              <a:ext cx="1204920" cy="16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2:06:23Z</dcterms:created>
  <dc:creator>lp la peupleraie</dc:creator>
  <dc:description/>
  <dc:language>en-US</dc:language>
  <cp:lastModifiedBy>Jean-Michel PETIT</cp:lastModifiedBy>
  <dcterms:modified xsi:type="dcterms:W3CDTF">2008-10-09T12:20:19Z</dcterms:modified>
  <cp:revision>34</cp:revision>
  <dc:subject/>
  <dc:title>LES EPI</dc:title>
</cp:coreProperties>
</file>