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FEE-501E-427B-BE56-C85AD546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556-6883-4C7A-AFA6-102D109B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640-0956-4D3E-B302-1BE857F5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21C-3405-4964-AF4A-58F7FC30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9D9-0F53-4A59-BD3D-E81CA5B5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037-94DC-4AD0-A61B-4EA9E89A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72D-35AD-4656-9DB0-FAF9CAD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F33-9247-463F-B618-0DE07777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0C1-78FD-4E09-88D8-6F5220D4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5C8-BA81-4863-A547-D7BFAD4F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B6B-E861-42F1-9694-C859DA21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0F5-B807-42E3-B544-DD5BB4E4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B8E4-5C1C-47F3-ACC8-C59D24DCD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anfrance.fr/default.aspx?detail=107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CARO S3">
            <a:hlinkClick r:id="rId2"/>
          </p:cNvPr>
          <p:cNvPicPr/>
          <p:nvPr/>
        </p:nvPicPr>
        <p:blipFill>
          <a:blip r:embed="rId3"/>
          <a:srcRect l="0" t="24247" r="0" b="0"/>
          <a:stretch/>
        </p:blipFill>
        <p:spPr>
          <a:xfrm>
            <a:off x="6705720" y="5079960"/>
            <a:ext cx="1944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380880" y="304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1722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ff"/>
                </a:solidFill>
                <a:latin typeface="Arial"/>
              </a:rPr>
              <a:t>Réalisé par V. Leblanc – V. Genain – S. Brugg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7635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1684440" cy="89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78732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81480" y="4495680"/>
            <a:ext cx="57168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ACCESS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RECOMMANDATIONS D’ENTRE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84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Contrôler visuellement le bon état de la chaussure ava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que uti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Mettre au rebut les chaussures lorsque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elief des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semelles est usé ou lorsqu’une détérioration important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apparaî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enir les chaussures en état de propre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faire sécher de façon naturelle lorsqu’elles sont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humides, ne pas les placer à proximité d’une source d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Graisser ou cirer les chaussures afin de limiter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dessèchement ou la formation de craque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08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 milieu industriel génère des risques importants et variés qui nécessitent notamment une protection efficace des pi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00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normes et directives européennes définisse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rois catégories de chaussures à usage professi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mécan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ocs, écrasement, perf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chi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produits dangereux, corrosi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ther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froid, chaleur, intempé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électr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décharge électrique, électricité st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biolog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allergies, irri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lié aux déplacements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gliss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8360" y="2362320"/>
          <a:ext cx="7665840" cy="3504960"/>
        </p:xfrm>
        <a:graphic>
          <a:graphicData uri="http://schemas.openxmlformats.org/drawingml/2006/table">
            <a:tbl>
              <a:tblPr/>
              <a:tblGrid>
                <a:gridCol w="2004840"/>
                <a:gridCol w="2286000"/>
                <a:gridCol w="33750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r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ype de chaus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otection aux cho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tr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c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prot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1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sécurit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2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1657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99ff"/>
                </a:solidFill>
                <a:latin typeface="Comic Sans MS"/>
              </a:rPr>
              <a:t>*</a:t>
            </a:r>
            <a:r>
              <a:rPr b="0" lang="en-US" sz="1600" spc="-1" strike="noStrike">
                <a:solidFill>
                  <a:srgbClr val="3399ff"/>
                </a:solidFill>
                <a:latin typeface="Comic Sans MS"/>
              </a:rPr>
              <a:t> Joule : Unité élémentaire de mesure d’énergie, de travail et de quantité de chaleu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N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590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1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aussures tout cuir sauf caoutchouc ou polym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2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Bottes tout caoutchouc entièrement vulcanisé ou tout polymère mou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MATÉRIAUX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0" r="0" b="22576"/>
          <a:stretch/>
        </p:blipFill>
        <p:spPr>
          <a:xfrm>
            <a:off x="1600200" y="2743200"/>
            <a:ext cx="6019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ES PARTIES D’UNE CHAUSSURE D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FO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Elles portent sur toute ou partie de la chaussure :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tige, doublure, languette, semel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exigences fondamentales concer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la qualité et la performance de matériaux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résistance à la déchirure, à la flexion et à l ’abra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erméabilité à la vapeur d ’eau et aux hu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’adhésion tige-sem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ropriété antidérapante de la sem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ADDI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4160" y="2092320"/>
            <a:ext cx="503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19320" y="2549520"/>
            <a:ext cx="3193920" cy="1758960"/>
            <a:chOff x="1219320" y="2549520"/>
            <a:chExt cx="3193920" cy="17589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219320" y="2549520"/>
              <a:ext cx="1846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819520" y="3227400"/>
              <a:ext cx="159372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15000" y="2286000"/>
            <a:ext cx="2477880" cy="1978200"/>
            <a:chOff x="5715000" y="2286000"/>
            <a:chExt cx="2477880" cy="197820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5715000" y="2286000"/>
              <a:ext cx="12589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933960" y="3005280"/>
              <a:ext cx="12589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724280" y="4495680"/>
            <a:ext cx="2786040" cy="2097000"/>
            <a:chOff x="4724280" y="4495680"/>
            <a:chExt cx="2786040" cy="2097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724280" y="5333760"/>
              <a:ext cx="1863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5638680" y="4495680"/>
              <a:ext cx="187164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66680" y="4114800"/>
            <a:ext cx="1967040" cy="2230560"/>
            <a:chOff x="1066680" y="4114800"/>
            <a:chExt cx="1967040" cy="223056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1066680" y="4114800"/>
              <a:ext cx="86688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828800" y="4724280"/>
              <a:ext cx="1204920" cy="16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2:06:23Z</dcterms:created>
  <dc:creator>lp la peupleraie</dc:creator>
  <dc:description/>
  <dc:language>en-US</dc:language>
  <cp:lastModifiedBy>Jean-Michel PETIT</cp:lastModifiedBy>
  <dcterms:modified xsi:type="dcterms:W3CDTF">2008-10-09T12:20:19Z</dcterms:modified>
  <cp:revision>34</cp:revision>
  <dc:subject/>
  <dc:title>LES EPI</dc:title>
</cp:coreProperties>
</file>