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A9D4-B7EB-452B-B2E4-E1EE03A6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1BB-8A21-441B-B122-ABA05576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8149-254B-4FE3-B1A0-7A568A2A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70A3-64DF-4786-AC93-952EF936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DB5F-2806-4EF4-BD90-DADE0518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DB52-4288-4898-93C7-4BD265CC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7A29-3519-4B58-84EF-B115979E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A52A-0DEC-4650-B22D-2B92469E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33A-A0C8-4149-9E30-BDDA9EB0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4D9-4456-4A23-991A-4D9A71D8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CE06-007D-4023-A236-73153447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5D10-D468-45F2-B859-AEB70011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AB9F-AB47-4389-8CC9-985C51CD4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514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00"/>
                </a:solidFill>
                <a:latin typeface="Comic Sans MS"/>
              </a:rPr>
              <a:t>EPI </a:t>
            </a:r>
            <a:br>
              <a:rPr sz="4800"/>
            </a:br>
            <a:r>
              <a:rPr b="0" lang="en-US" sz="4800" spc="-1" strike="noStrike">
                <a:solidFill>
                  <a:srgbClr val="808000"/>
                </a:solidFill>
                <a:latin typeface="Comic Sans MS"/>
              </a:rPr>
              <a:t>PROTECTION DU COR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e%20corps%20humain%20et%20le%20temps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617220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808000"/>
                </a:solidFill>
                <a:latin typeface="Comic Sans MS"/>
              </a:rPr>
              <a:t>Réalisé par E. Cassan – J.-M. Pet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525640" y="430200"/>
            <a:ext cx="32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Verdana"/>
                <a:ea typeface="Arial"/>
              </a:rPr>
              <a:t>Statist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38240" y="1442880"/>
            <a:ext cx="7067520" cy="3972240"/>
          </a:xfrm>
          <a:prstGeom prst="rect">
            <a:avLst/>
          </a:prstGeom>
          <a:ln w="0">
            <a:noFill/>
          </a:ln>
        </p:spPr>
      </p:pic>
      <p:pic>
        <p:nvPicPr>
          <p:cNvPr id="46" name="le%20corps%20humain%20et%20le%20temps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0670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e%20corps%20humain%20et%20le%20temps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067040" cy="106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8080" y="17524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Pour protéger le corps, il faut utiliser des vêtements ou des articles d’habillement spécifique pour chaque ris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895480"/>
            <a:ext cx="7772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Les salariés sont exposés aux risque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thermiques (feu, chaleur, froid, intempéries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chimiques (expositions aux produits chimiques,</a:t>
            </a:r>
            <a:br>
              <a:rPr sz="2000"/>
            </a:b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liquides ou gazeux, projections de matières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dangereuses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mécaniques (perforations, coupures, happement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biol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routi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523840" y="430200"/>
            <a:ext cx="308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Verdana"/>
                <a:ea typeface="Arial"/>
              </a:rPr>
              <a:t>Les nor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e%20corps%20humain%20et%20le%20temps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067040" cy="1067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080" y="1752480"/>
            <a:ext cx="7772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Les normes de bas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EN 340 : exigences générales relatives à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l’ergonomie, au vieillissement et à la taille des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vêtem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EN 510 : spécifications contre le risque d’être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happé par des pièces de machines en mouvemen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 EN 1149-1 à 5 : propriétés électrostati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523840" y="430200"/>
            <a:ext cx="308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Verdana"/>
                <a:ea typeface="Arial"/>
              </a:rPr>
              <a:t>Les nor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le%20corps%20humain%20et%20le%20temps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067040" cy="1067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8080" y="1752480"/>
            <a:ext cx="7772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Les normes spécifique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EN 342 : vêtements de protection contre le froid à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des températures inférieures à – 5° C. Elle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distingue 3 niveaux de performanc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A : isolation thermique de bas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B : niveau de perméabilité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C : niveau de respirabil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EN 343 : vêtements de protection contre les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intempéries en cas de températures supérieures à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– 5° C. Elle distingue 2 niveaux de performanc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A : niveau d’imperméabilité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B : niveau de respirabil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523840" y="430200"/>
            <a:ext cx="308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Verdana"/>
                <a:ea typeface="Arial"/>
              </a:rPr>
              <a:t>Les nor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le%20corps%20humain%20et%20le%20temps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06704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8080" y="1752480"/>
            <a:ext cx="7772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Les normes spécifique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EN 465, EN 466 et EN 467 : vêtements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réutilisables de protection contre les risques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chimi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EN 1511, EN 1512, EN 1513, EN 943-1, EN 943-2 :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vêtements à usage limité contre les risques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chimi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- EN 471 : vêtements de signalisation à haute 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visibil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067720" y="380880"/>
            <a:ext cx="351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Verdana"/>
                <a:ea typeface="Arial"/>
              </a:rPr>
              <a:t>Le marqu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e%20corps%20humain%20et%20le%20temps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067040" cy="1067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81160" y="1905120"/>
            <a:ext cx="858168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53200" y="457200"/>
            <a:ext cx="561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Verdana"/>
                <a:ea typeface="Arial"/>
              </a:rPr>
              <a:t>Exemples de modè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le%20corps%20humain%20et%20le%20temps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067040" cy="1067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057400" y="21337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Combina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combinaison-de-travail-000020425-4" descr=""/>
          <p:cNvPicPr/>
          <p:nvPr/>
        </p:nvPicPr>
        <p:blipFill>
          <a:blip r:embed="rId3"/>
          <a:srcRect l="21426" t="0" r="22883" b="2914"/>
          <a:stretch/>
        </p:blipFill>
        <p:spPr>
          <a:xfrm>
            <a:off x="685800" y="1676520"/>
            <a:ext cx="826920" cy="1442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295280" y="3276720"/>
            <a:ext cx="824040" cy="1439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14600" y="388620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Combinaison haute visi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3811" descr=""/>
          <p:cNvPicPr/>
          <p:nvPr/>
        </p:nvPicPr>
        <p:blipFill>
          <a:blip r:embed="rId5"/>
          <a:srcRect l="7756" t="3364" r="2708" b="7773"/>
          <a:stretch/>
        </p:blipFill>
        <p:spPr>
          <a:xfrm>
            <a:off x="1981080" y="4952880"/>
            <a:ext cx="1295640" cy="1438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733920" y="563868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Gilet matelass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653200" y="457200"/>
            <a:ext cx="561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00"/>
                </a:solidFill>
                <a:latin typeface="Verdana"/>
                <a:ea typeface="Arial"/>
              </a:rPr>
              <a:t>Exemples de modè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e%20corps%20humain%20et%20le%20temps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067040" cy="1067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057400" y="21337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Veste et pantalon de trav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388620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Blouse de trav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63868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Verdana"/>
                <a:ea typeface="Arial"/>
              </a:rPr>
              <a:t>Po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resize" descr=""/>
          <p:cNvPicPr/>
          <p:nvPr/>
        </p:nvPicPr>
        <p:blipFill>
          <a:blip r:embed="rId3"/>
          <a:srcRect l="0" t="16673" r="0" b="16673"/>
          <a:stretch/>
        </p:blipFill>
        <p:spPr>
          <a:xfrm>
            <a:off x="457200" y="190512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blouse-de-travail-1484-700-113-bleu-roi-bleu-fonce" descr=""/>
          <p:cNvPicPr/>
          <p:nvPr/>
        </p:nvPicPr>
        <p:blipFill>
          <a:blip r:embed="rId4"/>
          <a:stretch/>
        </p:blipFill>
        <p:spPr>
          <a:xfrm>
            <a:off x="1143000" y="3124080"/>
            <a:ext cx="1241280" cy="1436760"/>
          </a:xfrm>
          <a:prstGeom prst="rect">
            <a:avLst/>
          </a:prstGeom>
          <a:ln w="0">
            <a:noFill/>
          </a:ln>
        </p:spPr>
      </p:pic>
      <p:pic>
        <p:nvPicPr>
          <p:cNvPr id="78" name="artoff255" descr=""/>
          <p:cNvPicPr/>
          <p:nvPr/>
        </p:nvPicPr>
        <p:blipFill>
          <a:blip r:embed="rId5"/>
          <a:stretch/>
        </p:blipFill>
        <p:spPr>
          <a:xfrm>
            <a:off x="2133720" y="4876920"/>
            <a:ext cx="12920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2:36:54Z</dcterms:created>
  <dc:creator>K100</dc:creator>
  <dc:description/>
  <dc:language>en-US</dc:language>
  <cp:lastModifiedBy>K100</cp:lastModifiedBy>
  <dcterms:modified xsi:type="dcterms:W3CDTF">2008-10-03T13:57:40Z</dcterms:modified>
  <cp:revision>7</cp:revision>
  <dc:subject/>
  <dc:title>Présentation PowerPoint</dc:title>
</cp:coreProperties>
</file>