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7EDCF-BCA2-423F-BEF2-2E4131315EB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1B999-B84A-4AF8-98D0-08054C245CA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129B-6A9E-4CE3-92CB-80CE71E28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8B0F-8F85-4CCE-8354-7CB471742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B8AE-EFBC-4A9C-A5D5-D43EEE450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8D84-FED3-45E4-9721-519109EC1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0C516-D989-4E88-A731-1B50F5A46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DACC0-C292-4401-BAD0-43BC8265D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0863C-3B4B-43B8-B52B-60F94F7C8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4B294-C759-4A1F-8590-FDADE6EE6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25CFB-7D17-42AD-9326-F882BBDCC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A34B7-1BD0-4EFA-8140-CC5AA1BC0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890E3-9966-4398-AEB3-F165058A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9DEA-0804-4EAE-9E7C-E8746A6F8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5D180-ED9B-4D4A-A4A0-A839277F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A2D63-6881-4374-B167-8E2459CA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9D6C3-D78A-4E48-9A67-181F6D7BD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DB1CE-96AF-45CE-81FA-7FB2BD25D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15654-51E0-4188-BF8C-ADE426F43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B977B-2E75-40FF-87E2-D45FCFBE6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4FA2E-0D52-4982-AE92-C5BB243D0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FE78F-F414-4E87-9DFF-BC2E80D13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EDDBC-EF3D-4738-8694-8DD4F8385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3CE66-94FC-4E3C-9514-9639521B6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944B-0971-4FC3-9F85-CA4040B96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3741C-E9D8-45A3-B313-12770652A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EADFF-E7A3-4406-9341-AB504BCD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69D0B-9FCB-4E19-96CB-71C42AA6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96B10-7B9D-42E5-AD24-E8392AFC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0423B-6A42-41E3-B2F8-93848639E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A33C8-F1DC-48DF-8BF9-3C7F9B03F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D1A98-9B4E-44E0-9FCD-3E6986668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094A7-340F-468F-BD14-3EA3ABD85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D8F7C-4A53-4DAE-B3E9-93A9F89B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B2F0C-0E57-48BC-B339-2C735A432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88AC-17D5-4A20-8AC1-723DC342D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B0E79-E2B2-4855-A562-C227D8C04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CA000-65B4-4746-A8DF-FE23AC2F8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9F969-5C02-4580-9159-EBDD05CF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E9C0E-F261-41D9-A405-0B13974E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5FFEF-5965-44B6-BC02-300F0291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93083-A0AD-42CC-9A08-6B14116D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649AB-F4FD-4984-B7B1-B3A3E1A7C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8C29E-C0B0-4E3A-9ABC-07F55BB90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BC442-230A-44F0-8390-EA608A1E9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EC23E-BC05-447C-99E9-CA59565C6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84C7-A1CC-4553-BC63-40A886E9F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4E792-BB35-4D2D-B095-B81E319A2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790EA-0F05-4A2C-B12D-33172E824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19FC2-01B0-4CBE-A82E-D13838229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7D360-41A6-4822-B8AA-7D04C2EC5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66F89-898D-4B99-8C5B-A82209900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35BA9-7F4A-426E-8199-F05E2219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5D8B3-D38E-4F54-A7A9-A8F273FD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91B6C-F70C-4C7C-8A82-CF75E093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46FDD-95CC-4751-BADC-CFCD531FA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284C0-0C31-4B2D-BD81-AF60E892A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9399-E397-4ED2-B57B-0C9AC6319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F237E-835F-4AF3-B24E-F4F007AFB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EF12B-CB30-44CD-9E7F-15809C818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62ABE9-D4AC-4647-92F9-E31FF59B7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8675F-9D74-4254-BA62-CC0029E7A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16B9D-7CA7-4131-A636-C2A2680E6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6E2EC-DFFA-4FE0-89E9-077E6BE7A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13ED10-A31C-469D-83AC-BE34B6501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F0A29-20A9-4F08-9ECB-3717E895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E9A5D-CB46-4FF4-ACE9-85DB3CF5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B100A-EACD-43E3-B8C4-88EA6D65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C4F0-5504-4603-AD7C-56B3297E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CD7E5-605A-4698-9C98-5F602B3EA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55566-104A-451F-A1F4-C0AC1BE0A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2019D-C1A1-49AC-8DE5-C8D48CC11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B4F92-7D1D-4457-98BB-272FD0438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8C0587-D430-49B4-A908-569164FB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8F90A-2EB2-4346-A48C-672DE5FA3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6D02A-5B01-4EEA-A267-BB88ECA57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ABDF0-E70A-40FA-B25F-314021F91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E949C4-5422-44A0-8156-F81B0BEA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0F953-8547-4D46-A891-2F4BE0A4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8C59-36C9-4506-8F76-1101CBFC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18D74-EBF9-487E-A4FE-24FBB8AA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720DCB-41C5-459A-9E3D-FF3B1B9C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7AB46-6C34-4E2E-B848-F425F9438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0DD86E-D2F3-48F4-8B5E-7B7F6500A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4288A-FE48-4B2E-AC30-C5B233990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EE18DF-0F68-4B88-AC80-C06E1D7A1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8D329E-6314-4561-BA44-4FDD666CF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145320-E833-4CFF-9024-D1D3742B4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7B7BBE-474C-47AF-B2CE-BF47CE244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D200E9-F6FD-4F5D-B2A1-7446ECDD9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27D7-1FB2-4CAD-8F26-25CFA992F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408EC4-8BE8-45C9-B9C2-C7DB128D4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287C9E-7869-454E-951C-0CCAFE06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9647C8-EAF5-4CF5-9D08-2DED1C48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21C52-A4B9-4825-97B4-E77E48E2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685535-4CBD-441A-8BF1-3E51C5C92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AD5FC4-9E26-4516-A119-697E28FE8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22270A-4CC2-49B1-9D63-1C47D88C7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188FA-1302-4C83-A342-4EB68FA0D1D4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678AD-BA4E-4640-AE76-2F4082B95DC6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1754C-9C44-48EF-8E51-62B9DF05CA1D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28719-561F-455E-BB26-F501D46366D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r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7CA47-6747-47B8-92F0-21BBBB7B178C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0BD52-7E76-43B7-94DE-542D48124CF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2882C-0B6E-479C-9107-76997015E035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D7E0B-C22B-4CA0-AD78-94AA1B7A9AA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7E7FB-0768-4DA0-A8AD-1A95D5D9FF73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62BD2-1A27-4786-A001-8322BE6F9A1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58149-73EC-4C36-B0EA-0AF663621BA7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9FFA6-6CF6-468B-80B4-2A711F459B4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0B70D-C134-4A82-AB2F-E59A353A4237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750C2-0AB4-4D97-8E3C-2D013EF69E5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0A52C-3E06-43D7-A1D5-F037ACD0C407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729B7-1BFF-43D7-8BDA-BBD5A466A76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Amenagement_espace_pro.pptx" TargetMode="External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De la salle informatique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à l’espace professionnel…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3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4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Des effets positifs….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755280" y="1100160"/>
            <a:ext cx="7588440" cy="48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 environnement agréable et fonctionnel. 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Les élèves ont chacun un petit espace de travail et se retrouvent plus ou moins séparés.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e ambiance de travail différente.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Des élèves responsabilisés sur leurs conditions de travail et donc peu de dégradations.</a:t>
            </a:r>
            <a:r>
              <a:rPr b="0" lang="fr-FR" sz="2400" spc="-1" strike="noStrike">
                <a:solidFill>
                  <a:srgbClr val="28374a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7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8B4CE-DEC1-4AA3-AAE5-E2CA056B31B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impact sur les élèv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755280" y="620280"/>
            <a:ext cx="7588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favorise le travail en autonomie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facilite le tutorat entre élèves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impose des règles de vie professionnelle (pas de bruit lorsqu’un collaborateur est au téléphone, tenue et posture)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encourage le travail en équipe 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induit  un changement de statut pour l’élève (passage d'une classe traditionnelle à des locaux d’entreprise)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1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44C6B-BA32-446C-9361-B0BC0299D54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22240" y="18864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 impact pour les enseignant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8AEC7-6A9B-4643-BEE8-9BBBE631B7E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Espace réservé du contenu 2"/>
          <p:cNvSpPr/>
          <p:nvPr/>
        </p:nvSpPr>
        <p:spPr>
          <a:xfrm>
            <a:off x="611280" y="765000"/>
            <a:ext cx="765972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facilite le tutorat professeur-élè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rend la relation professeur-élève plus profession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permet à l’enseignant de reproduire plus facilement des situations professionnelles (salle de réunion, téléphone, accueil clients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permet de décloisonner ses activ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facilite les déplacements dans la sa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7487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Medium"/>
              </a:rPr>
              <a:t>Une opportunité pour conduire un projet avec les élève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95280" y="981000"/>
            <a:ext cx="856944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 projet qui s’inscrit dans les situations professionnelles du référentiel du Bac pro GA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Exemples : 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Pole 1 :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1600" spc="-1" strike="noStrike">
                <a:solidFill>
                  <a:srgbClr val="28374a"/>
                </a:solidFill>
                <a:latin typeface="Franklin Gothic Book"/>
              </a:rPr>
              <a:t>1.1.2. TRAITEMENT DES ORDRES D’ACHAT, DES COMMANDES 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Pole 3 : 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1600" spc="-1" strike="noStrike">
                <a:solidFill>
                  <a:srgbClr val="28374a"/>
                </a:solidFill>
                <a:latin typeface="Franklin Gothic Book"/>
              </a:rPr>
              <a:t>3.3.2 . MAINTIEN OPÉRATIONNEL DES POSTES DE TRAVAIL ET AMÉNAGEMENT DES ESPACES 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 projet qui s’inscrit dans l’EGLS (Maths/sciences; Arts appliqués…)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E0772-F828-4D78-A6D1-07E1DE95DDC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à coins arrondis 1"/>
          <p:cNvSpPr/>
          <p:nvPr/>
        </p:nvSpPr>
        <p:spPr>
          <a:xfrm>
            <a:off x="6588000" y="5157720"/>
            <a:ext cx="201636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cbcd"/>
              </a:gs>
              <a:gs pos="100000">
                <a:srgbClr val="f0f1f2"/>
              </a:gs>
            </a:gsLst>
            <a:lin ang="16200000"/>
          </a:gradFill>
          <a:ln w="9360">
            <a:solidFill>
              <a:srgbClr val="7678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b7378"/>
                </a:solidFill>
                <a:latin typeface="Franklin Gothic Book"/>
              </a:rPr>
              <a:t>Un </a:t>
            </a:r>
            <a:r>
              <a:rPr b="0" lang="fr-FR" sz="1800" spc="-1" strike="noStrike" u="sng">
                <a:solidFill>
                  <a:srgbClr val="5f5f5f"/>
                </a:solidFill>
                <a:uFillTx/>
                <a:latin typeface="Franklin Gothic Book"/>
                <a:hlinkClick r:id="rId1"/>
              </a:rPr>
              <a:t>exe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755280" y="1557360"/>
            <a:ext cx="75214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 référentiel écrit en situations professionnelle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e identification métier à valoriser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La nécessité de privilégier la multivalence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1642F-BC27-4377-BC13-A65557CE5BE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itre 1"/>
          <p:cNvSpPr/>
          <p:nvPr/>
        </p:nvSpPr>
        <p:spPr>
          <a:xfrm>
            <a:off x="822240" y="365040"/>
            <a:ext cx="83217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Pourquoi ce besoi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Quitter le mode frontal, scolaire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81F38-7927-466A-A642-DEC3D6B87D9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Image 1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4608360" cy="3463920"/>
          </a:xfrm>
          <a:prstGeom prst="rect">
            <a:avLst/>
          </a:prstGeom>
          <a:ln w="0">
            <a:noFill/>
          </a:ln>
        </p:spPr>
      </p:pic>
      <p:pic>
        <p:nvPicPr>
          <p:cNvPr id="363" name="Image 5" descr=""/>
          <p:cNvPicPr/>
          <p:nvPr/>
        </p:nvPicPr>
        <p:blipFill>
          <a:blip r:embed="rId2"/>
          <a:stretch/>
        </p:blipFill>
        <p:spPr>
          <a:xfrm>
            <a:off x="4067280" y="2522520"/>
            <a:ext cx="477036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95280" y="365040"/>
            <a:ext cx="87487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…</a:t>
            </a:r>
            <a:r>
              <a:rPr b="1" lang="fr-FR" sz="2800" spc="-1" strike="noStrike">
                <a:solidFill>
                  <a:srgbClr val="c00000"/>
                </a:solidFill>
                <a:latin typeface="Franklin Gothic Medium"/>
              </a:rPr>
              <a:t>pour aller vers un espace professionnel polyvalen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5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DF36D-CFA8-4159-8F14-F32BE8E5488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Image 1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676908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832176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espace professionnel polyvalent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75877-60F9-4623-8AEF-40B95D1A20A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Image 1" descr=""/>
          <p:cNvPicPr/>
          <p:nvPr/>
        </p:nvPicPr>
        <p:blipFill>
          <a:blip r:embed="rId1"/>
          <a:stretch/>
        </p:blipFill>
        <p:spPr>
          <a:xfrm>
            <a:off x="992160" y="1574640"/>
            <a:ext cx="6804000" cy="4500720"/>
          </a:xfrm>
          <a:prstGeom prst="rect">
            <a:avLst/>
          </a:prstGeom>
          <a:ln w="0">
            <a:noFill/>
          </a:ln>
        </p:spPr>
      </p:pic>
      <p:sp>
        <p:nvSpPr>
          <p:cNvPr id="372" name="ZoneTexte 2"/>
          <p:cNvSpPr/>
          <p:nvPr/>
        </p:nvSpPr>
        <p:spPr>
          <a:xfrm>
            <a:off x="914040" y="1084320"/>
            <a:ext cx="339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ifférents espaces de trav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« simulateur » administratifs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D48D5-1BC5-409B-9A28-ADD60B7BDBE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ZoneTexte 6"/>
          <p:cNvSpPr/>
          <p:nvPr/>
        </p:nvSpPr>
        <p:spPr>
          <a:xfrm>
            <a:off x="915120" y="2708280"/>
            <a:ext cx="26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comptoir d’accue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Image 1" descr=""/>
          <p:cNvPicPr/>
          <p:nvPr/>
        </p:nvPicPr>
        <p:blipFill>
          <a:blip r:embed="rId1"/>
          <a:stretch/>
        </p:blipFill>
        <p:spPr>
          <a:xfrm>
            <a:off x="4290840" y="1297080"/>
            <a:ext cx="33055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« simulateur » administratifs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624FA-7C9A-45BA-80D3-5C5FA6FF510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ZoneTexte 6"/>
          <p:cNvSpPr/>
          <p:nvPr/>
        </p:nvSpPr>
        <p:spPr>
          <a:xfrm>
            <a:off x="914040" y="1428840"/>
            <a:ext cx="23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salle de réu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Image 1" descr=""/>
          <p:cNvPicPr/>
          <p:nvPr/>
        </p:nvPicPr>
        <p:blipFill>
          <a:blip r:embed="rId1"/>
          <a:stretch/>
        </p:blipFill>
        <p:spPr>
          <a:xfrm>
            <a:off x="2556000" y="2028960"/>
            <a:ext cx="5368680" cy="37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« simulateur » administratifs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EBF44-7E46-4EA9-8FC8-BFBA90DE0CD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ZoneTexte 6"/>
          <p:cNvSpPr/>
          <p:nvPr/>
        </p:nvSpPr>
        <p:spPr>
          <a:xfrm>
            <a:off x="903960" y="1428840"/>
            <a:ext cx="206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ostes de trav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7" descr="Photo003"/>
          <p:cNvPicPr/>
          <p:nvPr/>
        </p:nvPicPr>
        <p:blipFill>
          <a:blip r:embed="rId1"/>
          <a:stretch/>
        </p:blipFill>
        <p:spPr>
          <a:xfrm>
            <a:off x="3564000" y="1628640"/>
            <a:ext cx="4871880" cy="36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espace d’entrainement téléphonique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C4D53-4D3E-4B3B-9C30-2F4942CD51D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ZoneTexte 6"/>
          <p:cNvSpPr/>
          <p:nvPr/>
        </p:nvSpPr>
        <p:spPr>
          <a:xfrm>
            <a:off x="179280" y="1052640"/>
            <a:ext cx="403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ormation des élèves sur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ransfert d'appe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nversation à plusi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ise en atten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aramétrage de la messagerie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6" descr="HPIM3875"/>
          <p:cNvPicPr/>
          <p:nvPr/>
        </p:nvPicPr>
        <p:blipFill>
          <a:blip r:embed="rId1"/>
          <a:stretch/>
        </p:blipFill>
        <p:spPr>
          <a:xfrm>
            <a:off x="4284720" y="1341360"/>
            <a:ext cx="4583160" cy="34369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7" descr="HPIM3878"/>
          <p:cNvPicPr/>
          <p:nvPr/>
        </p:nvPicPr>
        <p:blipFill>
          <a:blip r:embed="rId2"/>
          <a:stretch/>
        </p:blipFill>
        <p:spPr>
          <a:xfrm>
            <a:off x="250920" y="3328920"/>
            <a:ext cx="3900240" cy="292572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8"/>
          <p:cNvSpPr/>
          <p:nvPr/>
        </p:nvSpPr>
        <p:spPr>
          <a:xfrm>
            <a:off x="4356000" y="5013360"/>
            <a:ext cx="45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echnologie IP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ransformation en pool téléphonique pour des actions de démarchage par télé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2:04:16Z</dcterms:created>
  <dc:creator>Martine Deconinck</dc:creator>
  <dc:description/>
  <dc:language>en-US</dc:language>
  <cp:lastModifiedBy>Edith Simon</cp:lastModifiedBy>
  <dcterms:modified xsi:type="dcterms:W3CDTF">2011-10-25T19:22:30Z</dcterms:modified>
  <cp:revision>31</cp:revision>
  <dc:subject/>
  <dc:title>Baccalauréat professionnel Gestion -- Administration</dc:title>
</cp:coreProperties>
</file>