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02D6-C9E5-468F-8D4D-2FD1675DA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9747-D743-4698-928C-40655EE5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9431-0C00-4A43-91D6-6EEBA5CEE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E88D-C9DC-41EC-A7E9-ADB5C0F45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E9EC-EBD0-4D20-A308-CE1F271B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4F52-FEA8-41CA-BBA4-A19449C6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40BB-809C-4CB6-BDE4-A1FD7B8B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3F32-B9F5-4A4C-9FD8-BFC6B350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41B4-08FC-41A8-A0F8-1E62EAAF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D7B2-FF2A-4324-A5ED-CD8DCC71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E54E-329C-4C39-BB12-2929984F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E33E-3811-4F99-AFEB-E8A3E8A0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3B78-5EEA-45F2-89CA-5603C8E5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F058-CA1C-43B4-A702-4B72A8E8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6269-A750-4C38-B76C-FE4266C2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24C2-720F-4ADC-A7C1-BC7F2B969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3F44-813E-479B-B664-99CF11C9B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92BCA-A13D-4A4F-97A9-EFBEA8D07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626C4-91A7-4E29-9BEA-5F734A61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FAFF8-1ED0-407A-816C-DC3C5E12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C12F2-2CD0-40CD-A4B1-70C15DE4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1CD43-11AD-442A-94D0-1B53A2B8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0CD5-9A07-4DA1-855D-CAD65406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3AC3C-D831-41A8-8C71-538C155A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E2DE1-E2E7-4658-AC52-4DCA7128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991C0-A8CD-4648-9B2D-9F404DD3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3BC2F-879C-4F6E-9EE7-4CDB2294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44039-756D-46C0-AFBD-95AC9F71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E33F5-E121-4AFB-9AF6-11D47B87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E9745-F667-4771-A5A3-E7E8EE011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1DDBA-D77B-468E-9532-6DB78B44C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1717C-BCE5-47B3-90FA-53A28E74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6422E-35EA-4D6C-9C5E-1E010A6C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ECE5-8B83-4540-BE75-DC426D3D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365CE-8846-4F4E-A7F9-80D29284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5F4C0-2469-40F7-B67F-CEEAF68D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34531-08DE-4021-9240-9417778B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1DDD5-4F34-45FD-B4DF-0CCB1F6F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FCA6E-AF89-4661-AEDC-76444C9A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D4F6A-53C6-45BB-A398-FFD42206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C4935-B802-49FC-AAF4-C3FDDDD4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FB547-8B59-4635-85B9-751824AA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FA2DF-815E-43DD-A644-69E614F1B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C7C63-ED20-4996-8717-FFB566E18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97FE-0719-4516-8AB1-4122B8EE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4BB4A-F84D-48AA-A7B8-88822A1E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3CB39-BEDD-4D65-AFC6-C8B16B74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7BE4C-B96D-4E8D-A4FF-54E23081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98336-2417-4ABB-BF34-D9FEC763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7B8EB-CB29-428C-A64D-AFABBCBC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E88C2-D572-4C62-A8A6-37D8304A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8489C-079A-4821-BF07-7B8BF6F4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79350-7E36-4A07-B9C6-05B16448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2B2D8-CF65-4FB5-9768-FD1AAD9C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498C1-F359-4AEF-8470-C002DDAEF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5F65-19C2-4AB0-BB3B-3A659F48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CF905-4885-43E5-91F8-9952A4852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4A0E1-BB72-4908-BA90-7E0F5934E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CABD6-EF5F-4DDA-80E6-FB68358F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0BB2D-40D5-4940-A75D-63AD0E36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B1E42-B986-4A6F-8D17-F8A55A94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B4655-3EEE-40E2-85EB-3D76C4C0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C3E5F-45A6-4223-928C-7098FF72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C19BE-A19A-4FD2-8BAE-596E47EC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B4461-74F9-47D9-888C-6DA7F397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11345-00C8-42EB-BACE-36EFDA86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AF75-EE47-4FD5-BAF8-7850521D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1B05E-1343-4274-A772-25C43A98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09786-D56A-494B-A0E1-CA9F0579A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41E1B-A326-4EA6-A0E6-8F7EC3BA0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7950F-73BC-4A4F-B923-ABCDC535B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452F9-51DF-4163-BF50-A0D2ADD8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363E5-84A7-45A7-A3F3-2F0EA8E1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99D36-AF51-4483-8E3D-479693A1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CAC88-0E9F-455E-8554-9F9CD92E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D8A73-A03B-4200-A134-99CAA284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70256-A609-41CE-91FF-14712800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6F55-8B5C-447D-9198-6BE97062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4F20A-3B64-488F-833A-6BAE0385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220F1-8FB7-42BC-8184-CA5F8547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ECC84-C7E2-4482-8D64-2C212560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B0864-12D0-4DC8-A293-E06068613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1AF4A-C67C-4B53-8B5F-7F1C18F58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DE202-C937-47B8-A4FC-16F1C5C34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6BEF1-FF76-46D0-A6BF-B1583727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39CD0-5167-4E11-92CC-6244F53C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66C09-FC22-46E8-A7D9-E7759014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726B4-5386-427E-8F5D-AE4745A7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A5DD-83A8-4218-88F3-AC7300D6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AE517-736B-40A8-A038-3CF641B7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AACFE-F6E9-4B13-AA40-7933D31B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4926A-D505-4330-9759-AE5FD92A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67034-555C-409B-B815-EEB559FF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D93B9-5A83-452D-BFF3-3AB904C0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CAA77-F420-4AAB-AD7F-5D866C186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62A5A-90D8-4D53-AF12-179AAD564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04D3-A042-4E32-AEAA-1F14E006FFB5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00A6-413C-4BFD-B33C-D05BB74E8DBE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B1DE-EB32-4136-B2A2-4F6C67689CD0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5D08-B7AD-4F78-AE84-4B204C79802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02A9-0E9F-4303-8ADC-A7059E7C9871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FC94-C7C5-4BB2-B4F3-1F007A6EA0B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EDEF-40B7-4C16-8F3D-40CCE44B38CC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D09D-D446-42D9-8C0D-B88ADDD0BBB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D4AC-D7FE-43C3-BC43-3B5E3FCF72A3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16C2-01CF-4D88-9F7B-5288D56F686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D399-28EC-4B84-9CCF-C3990B4528E3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1D55-3F50-4F28-8C84-3B86BC2EB00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46A1-7459-4FC7-AFB5-9B2384B34384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A8FB-CFB6-4791-B24F-00C676ECD38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E128-A18C-48A1-B3C7-AD5628778598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65ED-BABE-48A3-B664-623F078BCC7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46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47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Épreuve E2 – Gestion administrative des relations avec le pers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0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1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Objectifs de l’épreuv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26920" y="1125360"/>
            <a:ext cx="752184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Quatre classes de situations sont concernées par l’épreuve E2 :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.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1 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courante du personnel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2 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essources humaine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 2.3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émunérations et de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budgets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4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elations sociale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9CDD-BD4B-4368-99ED-47D5C6A2924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ZoneTexte 5"/>
          <p:cNvSpPr/>
          <p:nvPr/>
        </p:nvSpPr>
        <p:spPr>
          <a:xfrm>
            <a:off x="576360" y="4149720"/>
            <a:ext cx="78134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Les compétences du pôle 2 et les critères d’évaluation du pôl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ZoneTexte 11"/>
          <p:cNvSpPr/>
          <p:nvPr/>
        </p:nvSpPr>
        <p:spPr>
          <a:xfrm>
            <a:off x="576360" y="5516640"/>
            <a:ext cx="7812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Maîtrise orthographique et syntax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oneTexte 10"/>
          <p:cNvSpPr/>
          <p:nvPr/>
        </p:nvSpPr>
        <p:spPr>
          <a:xfrm>
            <a:off x="3203640" y="450864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Objectifs de l’épreuv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26920" y="1125360"/>
            <a:ext cx="75218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 candidat doi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traiter des situations professionnelle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relevant de la gestion administrative des relations avec le personnel, dan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les limites de complexité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e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’aléa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apportées par la description des situations professionnelles dans le référentiel de certification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objectif est donc d’évaluer si le candidat est capable de :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e situer et situer sa réflexion et son action dans un processus RH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ppliquer des consignes, des procédures, des textes règlementaires concernant les relations avec le personnel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oduire, renseigner, chiffrer, mettre à jour et contrôler des documents et des formulaire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vérifier la qualité orthographique et syntaxique des documents traité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483C-4F6A-47A6-A8C1-7A74F44B218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E2 - Gestion administrative des relations avec le personnel – Coefficient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08000" y="1413000"/>
          <a:ext cx="8929800" cy="4581360"/>
        </p:xfrm>
        <a:graphic>
          <a:graphicData uri="http://schemas.openxmlformats.org/drawingml/2006/table">
            <a:tbl>
              <a:tblPr/>
              <a:tblGrid>
                <a:gridCol w="1728720"/>
                <a:gridCol w="2158920"/>
                <a:gridCol w="1513080"/>
                <a:gridCol w="1871640"/>
                <a:gridCol w="1657440"/>
              </a:tblGrid>
              <a:tr h="459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Candida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4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ublic ou privé sous contrat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section d'apprentissage habilité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ublic ou privé sous contrat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section d'apprentissage habilité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rivé hors contrat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une section d'apprentissage non habilité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rivé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andidat justifiant de 3 années d’activité professionnell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nseignement à d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 habil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280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28008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Ponctuel écr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 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Ponc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 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CC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</a:tbl>
          </a:graphicData>
        </a:graphic>
      </p:graphicFrame>
      <p:sp>
        <p:nvSpPr>
          <p:cNvPr id="36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5841-A5F1-4D88-838A-2EE0BA3ED26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Épreuve Ponctuelle : Étude de cas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900000" y="1483920"/>
            <a:ext cx="75218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lusieurs dossier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indépendant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et contextualisés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dossier traite d’une ou plusieurs «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situations-problème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» empruntées à la réalité professionnelle et inscrite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54400" indent="-144000" algn="just"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ans le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cadre juridique et règlementaire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 propre à la gestion administrative des relations avec le personnel.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54400" indent="-144000" algn="just"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ans le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respect des processus internes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, des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procédures et des consignes 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latives aux activités de gestion administrative des relations avec le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s situations font apparaître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es niveaux de complexité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e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’aléa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els qu’ils sont décrits dans le référentiel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épreuve prend appui sur de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ocuments et ressources documentaires décrivant les situations de travail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à traiter et nécessaires à la résolution du cas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F077-7CB1-4F3B-99FC-3B91AC3690F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Épreuve Ponctuelle : Étude de cas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826920" y="13413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épreuve ne nécessite pas, pendant son déroulement, de mettre un poste de travail informatique à la disposition du candidat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a correction est assurée par un professeur ayant en charge des enseignements professionnels dans le baccalauréat professionnel Gestion-Administration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FD94-A8EB-4E63-959E-18CAC3C840E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Forme CCF: 4 situations écrit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55280" y="1196640"/>
            <a:ext cx="75214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1ère situation d’évaluation E2A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1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2ème situation d’évaluation E2B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2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3ème situation d’évaluation E2C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3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4ème situation d’évaluation E2D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4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situation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1 heure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oefficient 1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situation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étude de ca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oposition de note au jury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E04F-6A23-4AFB-9954-9B3A9BF4647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Connecteur droit avec flèche 10"/>
          <p:cNvCxnSpPr/>
          <p:nvPr/>
        </p:nvCxnSpPr>
        <p:spPr>
          <a:xfrm>
            <a:off x="5111280" y="1412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0" name="Connecteur droit avec flèche 12"/>
          <p:cNvCxnSpPr/>
          <p:nvPr/>
        </p:nvCxnSpPr>
        <p:spPr>
          <a:xfrm>
            <a:off x="5111280" y="184428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1" name="Connecteur droit avec flèche 13"/>
          <p:cNvCxnSpPr/>
          <p:nvPr/>
        </p:nvCxnSpPr>
        <p:spPr>
          <a:xfrm>
            <a:off x="5111280" y="2204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2" name="Connecteur droit avec flèche 14"/>
          <p:cNvCxnSpPr/>
          <p:nvPr/>
        </p:nvCxnSpPr>
        <p:spPr>
          <a:xfrm>
            <a:off x="5111280" y="2636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sp>
        <p:nvSpPr>
          <p:cNvPr id="383" name="Flèche vers le bas 15"/>
          <p:cNvSpPr/>
          <p:nvPr/>
        </p:nvSpPr>
        <p:spPr>
          <a:xfrm>
            <a:off x="4211640" y="4508640"/>
            <a:ext cx="289080" cy="649080"/>
          </a:xfrm>
          <a:prstGeom prst="downArrow">
            <a:avLst>
              <a:gd name="adj1" fmla="val 50000"/>
              <a:gd name="adj2" fmla="val 49959"/>
            </a:avLst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 N. SEV</cp:lastModifiedBy>
  <dcterms:modified xsi:type="dcterms:W3CDTF">2011-10-11T16:18:04Z</dcterms:modified>
  <cp:revision>60</cp:revision>
  <dc:subject/>
  <dc:title>Baccalauréat professionnel Gestion -- Administration</dc:title>
</cp:coreProperties>
</file>