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2D78-4D57-4FBC-B434-4C6C69410CE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A102-473D-4C4B-9C09-EA706F80F55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360E-3AAC-4CDC-B043-0213ACBE7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9420-D64E-4CC2-BBAD-F9AC9E16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68E7E4-3677-40FA-9C26-A67AA770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071CE-72A2-4B3F-A132-504D3BA7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EEEE0-AD1E-4994-8534-2E60A149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E14F82-11DE-43CE-ACFD-912B6489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5DC31-A6F3-4B41-896E-792D4E80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754A7-3064-49FF-97A7-50E49B92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0C937F-8B5A-4D1F-913B-CE79CAEE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F3E72C-63BE-4D85-9ACA-BE3169065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BEDBF-8AC1-4E6D-91E9-A04DBDE54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032F-FC3E-420C-847A-673C4D657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65F7-DDE2-41FA-9FD4-05F1A8068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A05C-4195-41C5-B363-411BFE6B9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DA6F-61AC-4B63-86F7-9D4B73FF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B064-F020-4CE6-9D21-7F88DDA3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4871-75E4-4A0D-826D-2831989A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755D-93BE-4EAE-A8E8-35AB328C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71E1-BEB1-48E8-ABDC-5EC052CF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BC4F-7B4F-4D64-9CA7-F508549E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25F4-CD1B-4BF3-AE02-11BA6716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7B86-5365-41B5-A1EC-662899F4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D727-4CA3-468A-B843-F240E243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EE1C-230E-49A0-8C86-E6B7C007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E494-7559-473F-8F70-1FD74AEC5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00BE-B9E4-42F2-8412-48B315ED9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FACCD-4525-47F9-ACF4-2A8A1EBF1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EE2A5-A8C8-4026-A6BF-A96F0806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27650-3174-4FCD-9DF6-AD07F444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6326A-9310-41D8-9366-565A6836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53904-B339-481C-A8E8-BD6D1579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981C-7C3D-4834-AF60-C0691AE4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B67C0-D73C-4BC8-B094-215ADE39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B595B-5DDF-4CAE-9B2B-D6DFBE1D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1AB62-1FF5-47CF-9FE3-126DC935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BCC06-420A-44A8-8DD7-C6966E53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BA291-4355-4395-B227-132766DD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47AAF-F1EE-427A-870C-B0C20903A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503F9-1CBA-4A23-820A-D6A6526A6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32DE1-289D-4F9C-BDDE-8ABBDD3E2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8BB38-0858-4CD5-AD45-D149B015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BBEFA-C4FF-4252-A89D-0156D234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1C4C-C420-41A5-A5EC-4835CF09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5F0F3-AEEC-4F1C-856C-779B58C6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0561E-4C02-40A9-B636-5A418106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8151E-3EE2-483C-B572-4AF2D4B4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70E47-A74B-4ED2-B7DF-F09FA33F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72864-7A95-4464-B345-99562DD0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F6263-E2F0-4BEE-87E6-985287B7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AD8FA-E87F-4927-9E06-AD171EBB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09407-9E34-463C-A8BF-44E5D6EFA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9A2DB-CDC0-46F8-A4A8-FCDD521FB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0F67D-8322-4F4C-BB39-9BC6393C1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1E58-7029-4289-A1AA-D7220A1D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DD7E1-74C3-4E94-B94B-7406D863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F560C-DEA7-4C82-B7A6-364DDA28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55071-4890-42F7-8A87-AF774415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7E292-7C5F-4903-A5DA-2B8F9DBA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AF0A9-2AA7-423E-B52F-9B529962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2EC94-A418-430C-827C-3529B772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8CACE-416B-4DA7-AB37-0D1E0D05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AA6AF-84AD-4827-8212-0CD97ABD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AFF49-449A-4EC5-A0A1-24A323FC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957AD-0541-483C-A5E0-7554E4046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C7C0-8A6F-406B-99D9-EB20FA1D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E6C52-2FB1-4508-A459-751DF46C9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CED44-C700-43F3-883C-FC2957CC3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164A2-7FC4-4CC2-9C44-5562441B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4136A-71A0-47CC-A553-57412564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230DA-A963-4092-9BC9-DA21E652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A5A87-9927-4B89-8289-4523D1CF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E60B9-A91B-48B6-9D45-B9A99446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7C7DA-06FE-4D1B-B0EE-22CE7A0F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D3D90-F291-42F9-9C80-82882611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D1658-C0B1-418D-B26B-2F09C369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56CE-C6C6-43EB-8131-20119D47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D0CFF-0742-4BC9-81DB-7FD672AF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474EE-992B-4018-B762-33C5F14D2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B42D0-8135-4A96-BF40-6180F05FA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683AB-43AA-4B04-8FF5-80D5DC11E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36121-628D-4BC5-8E16-E9BA1671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E77AD-7EAB-4FD1-8AB7-BA0F3A4F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66949-60C0-4285-B232-DFB527DF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C42F7-CF56-4A37-9B59-77EE0855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385EC-4C47-457D-8A8F-C7C7594E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FEE9A-A258-4149-8D1E-7B99654F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967D-A729-4DEF-9585-19C8B745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A2FB6-F5C0-42A4-AA8F-2193A782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6544F-63A1-49A9-8931-76B9C6F5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EA7F0-5B83-49BB-BE24-1C142DB9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089B3-3508-492D-B24D-6DCE3515A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7A53D-DF49-4EFB-B50A-B3FE32721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6F42C-6968-4717-AB69-BE7B72B06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DA011-202D-4220-8626-24335EE6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5D48F-4A20-4389-A110-6F5427AE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68702-AC95-4256-A312-86084248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7FC9D-89AC-4D5B-BE41-4A6B2C56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8160-EEDA-44D5-961F-3B5B8448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F918A-1A47-4E97-9FFF-FAE2ADC5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2A676-70C5-4AA2-A9D3-3B24E304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2EDB5-4BC6-43FC-BAAB-7CE5B291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C7E71-3976-445C-B26F-22845B8A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11C1D-2F0A-4820-8437-88F40596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0DE30-2130-4BD4-9B4A-A5D03C1D0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BFBB6-A9DE-414E-8D26-B321C448D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F87F7-3422-4A33-8AE7-7046E0D71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8E673-F1B2-46AD-94B6-83E3CE73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D2E0D5-2359-401F-894D-2DAB34D2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425D-E98B-4F87-B9A8-9AC50A04A4B2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ES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P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ÉRIODES DE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F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ORMATION EN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M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ILIEU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P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ROFESSIONNEL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   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1FE5-2680-4F49-9DAC-B2178C9A655F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F765-A260-40D3-B713-8604CBEEFC17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762F-4B6D-4DEC-9D77-B2DDCDAA5BA9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BF40-23F2-4026-A286-19ECB45D53E0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EBF8-FE16-4A6D-9148-89E0BD39B27F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0BD2-827B-43D1-B54B-BE4EDF23754B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431B-FD29-415F-81C7-DEC369C07E83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3F40-BB1F-4274-B301-E64D17D76424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4B5F-C57D-4AC6-A510-E997EDF8F74B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0307-5999-4090-AF35-409C3A93166A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F976-43B7-463C-8D21-7697B99CFFA5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333D-2F4A-409C-829B-C583E5A97178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C8F5-6B27-4D4D-865E-AB90968AEA40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12000" y="5903640"/>
            <a:ext cx="1368360" cy="2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C215-FDAE-4FDE-A2B2-F060BF51BB24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BB8F-114D-4B88-B5BE-FEBD39F5986F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2D2C-6ACE-4E3C-86D5-2C4A95803EF7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D8ED-CE5C-4669-88B4-8756C4D08CCA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Les Périodes de Formation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 en Milieu Professi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96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97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Objectifs et princip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26560" y="134136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es périodes de formation en milieu professionnel doivent permettre  :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L’acquisition et/ou l’approfondissement des compétences professionnel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L’amélioration de la connaissance du milieu professionnel et de l'emploi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es périodes de formation en milieu professionnel  :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tituent un gage d’insertion professionnell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articipent à la formation des candidats au bac pro Gestion-Administr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0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1B47-86D1-499E-8BC2-C75819D9F70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5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5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5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5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50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Modalité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822240" y="4508640"/>
            <a:ext cx="77104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Référent professionnel (tuteur)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tribue à la form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eille à la complémentarité des savoirs et savoir-fair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rocède à une évaluation générale et une évaluation spécifique (voir modèle national) fondée sur la capacité du candidat à affronter la complexité et les aléas des situations professionnelles, à aborder d'autres situations comparables 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B92F-8301-4548-AEA6-6C4FF08DE70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5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6" name="Espace réservé du contenu 2"/>
          <p:cNvSpPr/>
          <p:nvPr/>
        </p:nvSpPr>
        <p:spPr>
          <a:xfrm>
            <a:off x="830160" y="1268280"/>
            <a:ext cx="771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Duré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22 semaines sur 3 ans (BO spécial 19 février 2009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16 semaines dans le cas d'un cycle en 2 an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Espace réservé du contenu 2"/>
          <p:cNvSpPr/>
          <p:nvPr/>
        </p:nvSpPr>
        <p:spPr>
          <a:xfrm>
            <a:off x="826920" y="3218040"/>
            <a:ext cx="771048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Programmation des période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lève de l'autonomie des établissements en concertation avec les milieux professionnels, les CET…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specte la contrainte liée au BEP MSA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8" name="Espace réservé du contenu 2"/>
          <p:cNvSpPr/>
          <p:nvPr/>
        </p:nvSpPr>
        <p:spPr>
          <a:xfrm>
            <a:off x="846000" y="2205000"/>
            <a:ext cx="77090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ieu(x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Dans tout type d'organisation proposant des activités de gestion administrative (TPE, PME/PMI, ETI, GE, collectivités territoriales, administrations, associations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55280" y="553680"/>
            <a:ext cx="793116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ilotage pédagogiqu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161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’équipe pédagogique participe à l’organisation et au suivi des PFMP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8374a"/>
                </a:solidFill>
                <a:latin typeface="Franklin Gothic Book"/>
              </a:rPr>
              <a:t>Circulaire 2000-095 du 26 juin 2000 – BO n° 25 du 29 juin 2000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Prépar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cherche et choix du lieu d'accueil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ccompagnement des élèves dans leur recherch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ultation du portail des stag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Suivi et  accompagnement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isite de suivi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isite d'évalu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Exploit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éinvestissement des situations professionnelle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1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37E1-E285-46BC-90D6-012A0320CE82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55280" y="553680"/>
            <a:ext cx="793116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Trace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7521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Enrichissement du passeport professionnel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Situations réelle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Situations observé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Compte rendu d'évaluation  </a:t>
            </a:r>
            <a:r>
              <a:rPr b="0" lang="fr-FR" sz="1400" spc="-1" strike="noStrike">
                <a:solidFill>
                  <a:srgbClr val="28374a"/>
                </a:solidFill>
                <a:latin typeface="Franklin Gothic Book"/>
              </a:rPr>
              <a:t>(document national)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ertificat de stag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Objectifs négociés pour chaque PFMP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Indicateurs d'évaluation des compétences transversa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Description de la complexité et de la criticité des activités proposé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5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B815-D6EE-4933-8F06-FAB367556204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6560" y="553680"/>
            <a:ext cx="78598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FMP &amp; Certificatio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99640" y="1412640"/>
            <a:ext cx="75200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Apport de la PFMP pour le candidat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limenter son passeport professionnel par des situation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ffronter la complexité et les aléas des situations professionnel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truire sa compétence en abordant des situation comparab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Épreuve E3 en CCF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1 – coef 3 : Gestion des relations administratives extern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2 – coef 4 : Gestion administrative intern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3 – coef 2 : Gestion administrative des projet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Supports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asseport professionnel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mptes rendus d'évalu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9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4AB1-7AE2-4CE5-8614-97FF16EE9F98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11:23:50Z</dcterms:created>
  <dc:creator>Simon, Mazoyer</dc:creator>
  <dc:description/>
  <dc:language>en-US</dc:language>
  <cp:lastModifiedBy>Edith Simon</cp:lastModifiedBy>
  <dcterms:modified xsi:type="dcterms:W3CDTF">2011-10-25T19:09:46Z</dcterms:modified>
  <cp:revision>38</cp:revision>
  <dc:subject/>
  <dc:title>Présentation PowerPoint</dc:title>
</cp:coreProperties>
</file>