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597C-15FA-4003-BCD1-489D9E9910EA}" type="datetime">
              <a:rPr b="0" lang="fr-FR" sz="1200" spc="-1" strike="noStrike">
                <a:solidFill>
                  <a:srgbClr val="000000"/>
                </a:solidFill>
                <a:latin typeface="Calibri"/>
              </a:rPr>
              <a:t>30/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6714-6577-4710-B7BB-83B8759EA047}"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14F7-93D4-49D7-982F-0132327CD3D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0439-F42B-45DA-8476-D2408F89A64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CEEB-DEE3-4C9E-B9E0-0A25890C655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537C-81C4-438A-BD72-0151959CDEF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4340-7C82-4938-BD08-D4817F11C87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0B96-73CD-4F65-9C64-78A44AD4A02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D190-BD26-490A-964A-50DB8DACE72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4B76-031E-4B7D-8B25-19C41F0ACA1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13F9-1F6C-4F37-8A46-07B3F595F9A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249C4-96C7-48FF-B2AE-1CB17050B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EB754-8932-4EF6-8F08-88E4897C4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3723C-6D9E-4D5B-9CD9-564D81A7E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24706-8554-4AE6-9083-3B7D6F70A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3B079-12F3-4BFE-AE31-56ACC7D58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C4DEE-9C0F-49F4-86E5-F4BE5B8AD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F2E5A-EAC7-4828-A79F-4F7CDF93C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33282-3CAB-42CB-BF43-25956A551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175CC-AA8C-41E3-9F25-90737B6B1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C155F-8379-4E56-A859-3E6B93143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8E59B-60B9-4575-9DCA-45D8A0B55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9A8EF-D7FC-4FBC-BC39-813985529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9DD9B-11C6-4ECB-9932-2D78B18D0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C7B49-4489-4C77-9017-829370A17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771A8-A173-4C69-BC95-6A6FAA16A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12AE6-D2CD-4DC7-B653-DCC0BE221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39624-0942-483F-9D0E-70BD79061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E7A137-912C-4C0F-B6F2-E9F1A14BB8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FE22BB-4004-41E2-854D-7191444B57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657A56-EDE1-4554-B5EE-72BBA98B3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2A7FA-033B-4FC5-B220-6E4448C6E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0F566-38E7-416D-B217-A18C22140E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69D5A-54F9-4FCB-A13C-C0E6AFABD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E02396-4A70-4615-BEAD-ECE9A8422B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99D46-B23D-413F-BE61-B9D8D8D75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A3AC71-7B00-460B-91FF-722891181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78953A-5AFC-4CFA-8F5D-F7FD30809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A9686F-C278-41EA-BB48-8BAA73520A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75044A-0972-4FBC-BE63-130D53F778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10C7F9-CF51-464E-AE88-1884E22691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A334A7-CF03-420A-B5FD-3130119A2C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E83659-AC56-49F9-A53D-8CE90C6DE0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C023DC-740E-4AC3-91C4-2BC530AE20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81177-1EF6-4E29-BC21-05203A5EE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FEA4BC-7103-4306-A268-A6D60DE1F2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BA360-F72B-4D87-87D6-B2F1CDDBE8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61B2B7-469D-427F-83C4-5805070559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FAA65-38D4-40D2-8AA4-625666371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6349C-4A65-49F0-93E1-96E9CD9F6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52547-EDB5-40B8-983D-21F312BA9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CD936D-A33E-4699-9761-9CCC81EEE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AEB7E6-29EB-4363-83EA-18D8CBDA01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987603-F8E9-418B-BA94-25BBA94FB4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154F02-5450-4EBC-8891-D4FC0A7FB0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C9E42-DE01-4A67-9F28-B5C507841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AF5486-5C6F-46A1-9576-E5D048B37A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E1187D-5DA2-4258-8E11-7ECE67F6EE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1C33A9-DEE0-4DEE-8C63-BFFB3FD2CF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7A0632-6DE0-44BE-A2C1-17FC192011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E4596A-C4B7-4058-9B5D-EE59643178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8FAC4-46D0-4D30-A556-CBBEDAD7A6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8A1D7-3396-4557-82A5-3A1FF6C639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2B6968-50B3-4431-8A1C-56D9DC9BF8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A0D5AF-625E-42EB-A9A3-483E890071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9028EE-BDE0-421E-88A7-18468EB56A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B1918-9B5B-4A93-9E1C-B703C3125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1A778D-712F-4E88-A65A-F514285779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15B79C-5655-47D9-991A-E6D61EBCFD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71042-6749-4C40-9B39-A472DD59EC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DD1B47-FD82-4D1C-8C97-1B859606AF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36271D-7AA5-43A8-9DD1-40F29858E1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AB4514-57D1-40FA-9D33-83FBC975E0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EECAD7-ED71-46F0-8DA0-58EC096689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1469DC-8A76-4B04-BCD7-7448C70ABF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E1CB77-277A-422C-8712-B71740C555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BFAC6-84ED-4B14-9172-4ADF3BA13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5A174-86F9-4A1C-9DCC-FA786B7B1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68D48C-B859-4742-B439-6086B83D66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F18E88-5DCB-4905-8CD9-7BD42F8D84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F74896-FA06-4073-B1A0-2E96645FA4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000EF5-8961-47E2-AF7C-EA4DB3D1C3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46D835-E0FF-4D9F-AC98-412F9C41B9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C8A92B-9555-4DC1-AFDF-C83BF81D0A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CC916E-6372-4E34-8529-D718AE4653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31FDB9-C47C-445B-AA1C-6B2B1687E4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EAE16B-ADFC-4B3B-B059-1D9EB44E64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FA5F3-A67E-4507-AF26-7A07EC2E9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7FEC-F300-4093-8F7C-F12A462C6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7CF9B7-D804-4EBD-91B9-043CEA699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C1D4A2-16BA-467E-BCED-31A70F323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7E54EB-678A-4755-99B5-BE48029F83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269196-42C5-4395-B9BD-C5C2CDD3C1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A2F303-6FDA-4D8F-83C0-62CF0A0527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232826-643A-4EC0-8AEB-7A5FE1DDC0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640E01-9DC2-4039-8C49-5D0362FCED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5FDBCA-74B7-4E73-86D8-FE9C1D5AEC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8B3E18-5D31-4E67-AB61-6EB5880C69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5AA066-A5AB-4E92-8CED-75A87BBB0F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99F79-433C-403F-BD3C-3EF9F8591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3C30D7-02F4-4F48-A5D2-4CC728976A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532BB9-F93D-4A5D-8581-6F0A07B279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5887E-FBFD-415A-B473-28375A14C5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F556DC-0718-4AB3-89E8-1BEEF78E11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55FD8C-1319-4FF7-A73A-F49C44335B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C4BCFD-22E1-403C-96C2-A205847B0F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734E98-930E-400E-844B-FDB45465CBE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507C-0F26-4862-8BCA-10B23AF051A9}"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3572-7865-4388-8150-8CE6C35452D7}"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E9EB-E850-44DB-A2FE-CCC08E9E12A4}"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378F-C550-4C8E-B463-FB1257ECE396}"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644F-27CF-434C-A8C4-84CEE7488D20}"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168D-D7ED-4A23-BA42-CB04622E6DDF}"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5203-9BA9-4C0B-B4C0-DA14EF1B155D}"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1B19E-82BE-4E85-AD84-FD26258376CC}"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2E0F-CA45-4626-B6A1-BC8FF4433252}"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F1AC-0AEC-43A3-B3DB-FC0A96007193}"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825C-82E1-4DA9-B692-F386BC9C0659}"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8AD9-B465-4FED-B24E-9A245FF241BE}"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79E7-E32F-4B70-B064-6C2FCF204EC4}"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1F28-B912-4072-9355-2A1CB4AFF38C}"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D809-097F-454E-85F9-4BC63BEFB094}"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9C98-810F-4CC0-92E4-FE17E86BED92}"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A56F-8DFA-4CE6-911E-876A34230949}"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0440-7BF8-4C76-986C-193698195D7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8EA8-AEA6-4A5F-8CE4-A03F7037607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5C4A-A283-439D-B66D-0444E452ED86}"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0BAA-BF3B-4CCA-8593-75A84DF6B5C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535B-0E3C-4F19-BF30-78579FFB5BD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4FAD-0377-4F8F-AAEB-8AF7508D0CF8}"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A8AD-E1DC-4338-BC81-C7A279059ED8}"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16D2-D9BE-44B2-B41B-50030560827C}"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084F-0DC8-4015-9C43-489F8002D152}"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