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ADA6-6FF4-4E68-87E4-E46FC69B7A3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955F-0863-4CF7-AFDE-201F4970A5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374B-EA3C-4828-89CF-9D973536480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E74B-0B37-4D20-9280-23BC0FEE24A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7B74-F980-41EC-A3C6-59F200C0F6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B8F0-4CE2-44F0-95CB-27BEDA34FEF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55ED-5095-4A1A-A866-4DA56F0751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36D8-4A36-456C-BDE9-A78B67DED81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CD71-C48A-4F65-8643-AEB49AA5820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096D-4F4E-47F2-9D38-469236F5472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525B-5805-491E-9569-84E9F1C86D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53E5-7B4D-4192-AE6A-0F7757227C8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1643-83BF-4D5A-916A-9E2AEF5C36D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DC4C-8B32-417C-8B14-D11D14E5D7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E028-E780-4410-B93A-F01548595FB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FADC-2FAC-4697-8A94-16122D1ECA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62B4-A105-4FD6-967B-B94C875942A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667A-C673-49A1-B280-46D0A10814E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2767-E65A-4370-A425-4FEE74C26BE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3D2D-97C9-4DD5-9832-2044166D6E1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0194-AC6A-4DCF-8D88-CEB8CB4F84C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21FB-188E-4F8E-AAF0-8A99B3B9393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37D1-4256-48FB-9A51-9AE97A4284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A60A-7675-410D-BD8F-928F52D587C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402F-D969-4690-BC06-8F2A1A6028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008B-47D8-4D2F-B051-D7B0D8E0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5617-9C3F-476C-B587-47D1B086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0008-F0B5-4DB3-AAB2-96E77082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4CE6-5E3C-40C9-88C1-A00F2DAF8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277E-A0BD-45C7-8471-43DCA903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33E9-242C-4B16-B183-2B74F6BC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3220-4919-45C6-A932-50F95C10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9A42-4215-416F-AD35-E5CAAA94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792F-DBB4-48A9-8EE1-5E3B29D5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FCA2-35C6-421A-8976-FD248C1B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9E1A-5C13-4F5A-9956-030125FC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78A0-95B0-43B1-8649-7F37179C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5CAF-80DA-4D54-90E1-E263AAB0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DD09-EC8E-4B48-9276-A6724B86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5F34-31EF-43E5-BAD9-D8A1F6E5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888E-C758-40B2-B6AC-ABAF4609F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3619-CB56-4E9E-9F97-DC70E598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8D9DE-59C4-4A72-9DA6-CBFDBFEF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40BD2-E885-45C7-8A47-BB988DA7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F8A58-A692-405C-AD2B-C3A0249A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8B912-6A99-4C51-931B-7C07F881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B1EA5-F478-42D5-9D02-76C21C4F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EEA4-7D47-4103-8880-00EDF752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CEFBC-EA00-47A1-BD9F-78CAF0B3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E0A97-B255-4B80-A0E0-32649B59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9AA60-45C1-4BA3-8676-6773EF8F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F5E09-0665-48A1-8004-1CA73E60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D4DAC-35FB-42EA-AD63-6D41194D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272E5-0DD9-4E53-A670-69A86DAC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8FF58-F751-4CEE-9107-227EE4B7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C2A54-0683-4C15-9DD4-1600BD27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4AB5B-1576-475E-B7E2-A6CE67F6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B64C3-0F10-45F8-865F-D705E71E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CD41-993E-4F43-B9D9-7CF19B1A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776C4-5212-4B2F-8C07-D3E38432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9F57A-7F3E-4A93-B8A7-6E410B9B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6699A-DD06-45A9-A72A-F9B01F59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BF985-6661-42BA-8A67-489015FB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BE822-42DA-4ACE-8367-1D1FAF9F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F9D19-0F75-49D0-8638-FBF72F69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3BE9B-0B19-4E71-B0EA-BC9AB5A7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5B73E-A04D-49B5-B8FC-586CD51A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7BF3C-E04A-428F-B1FC-B0713FC6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DD521-B9F6-4F05-9F7A-070600A5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ABBE-AF2B-4960-8945-A08C7C46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1933F-96C1-47E8-92D7-3DD9F821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71FE5-6CCB-4976-A865-DA3C36A1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D890F-2CCE-4B51-9B94-3CB89B9F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F0807-72A3-4F98-A792-D43A18DB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2E972-1977-472B-88B5-11E49C2F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7426B-B5FC-4C8C-ADFC-C43E26BA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B7A7C-9E7B-4081-A6D0-E2731B02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582F0-70DD-42F5-A4B2-3EF2DC7D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2C1F5-DD19-48E0-9F78-B0187E07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1D7E5-40BB-410B-BF99-EEBF6F20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1DB3-1C72-41CA-B718-409BFDA1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337B3-86F4-4E41-B86D-371052C6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A6C27-9056-4F68-8B9F-FB1A283D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31946-A49D-41F5-9340-21839914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6DF01-C63D-4602-AA35-7FC40037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A6B51-4F6D-4A12-958C-753693ED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C518A-F3FF-4012-9BD6-702EF3C8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DC16F-B2BD-48B9-9B76-B7070D33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E3856-C2FA-400B-A431-6C6E5801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82B6E-65C2-4A41-858C-95C7231A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6BB36-DF26-4D77-AD88-BE29DDDD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EE3B-1AEB-490A-97E7-A1E788D1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1CD39-46EB-4892-8BF2-B77A42FE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60E4E-1996-4631-8F0E-848968A1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C7650-029D-49E8-AC4C-F02C40FB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3621F-D09E-43E3-AEA5-E09234EEF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10B52-80F1-443C-951B-40C40E93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DB0EE-FB4F-4748-985B-09434866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460F6-B5E9-482C-A658-A248315F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B6050-161B-4E2C-B2AA-01ECD617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8EB58-48E3-416C-B407-1FA94938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5AAA9-DF51-476B-8E9A-B548BD82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8DFE-F5D3-4108-BEEC-7292BFE1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94ACD-3CFA-45B2-BBE2-8A13965C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14831-59F8-495A-85CA-08B38E5B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31BE5-E073-46BD-B69C-B346C5F2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87725-B1F3-445F-BEC1-B323075E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2299A-7905-4078-BC0C-C46A9F98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33F31-EA7D-45CA-A029-8C2210C4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B24A4-8BAD-4A03-BC0B-D9EE2498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78684-835E-45D4-ACF0-C84E5316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22450-71C5-489F-AC2A-1E5196A5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9A956-C5F9-4105-A0BF-1C9C90AD3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FE19-F1CE-4550-B953-599B0FD5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CFAA1-BE03-4C89-904E-13957124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CB792-B28E-4DAB-83BA-8DE79DAF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53921-EBD2-49B1-914D-3F1C5190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D0F61-D2DC-4EFE-95F9-7A2BAD74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9DCD6-6823-42FB-9C7C-DF490784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20D76-5076-4BD2-A1F2-1E3BDF3E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EB41E-BE56-4795-8EFA-53559F8F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41EC-285C-4BF6-97DD-295ABD7076B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4C3B-2E86-45D2-9B2D-74DFB18A4FC8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09FC-70D9-406D-AA7E-78E943D7C28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8708-7EB6-4FC6-9FC1-BF5E783358F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8F69-C3E9-4E05-8FB8-D50A041CE0D6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BAA0-6F44-4AD3-8522-0BF2EB5BD4A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AD10-11D3-48F3-AFAC-40C517456FD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EF03-CABB-4CE0-8B8C-39B043922EA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1CAE-F638-4B16-977C-CCDBC9978AC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1EEA-D99D-4030-ACAC-A016E09BBAD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EAEC-5412-4FE3-974A-126BE710D7C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63C6-10C1-495D-9E8C-2ACBE7B491A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69ED-1ABC-42E6-9E84-B347076364E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9EA0-4C17-47CC-ADFA-0603EA941BE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B289-CBA6-46B9-87FA-31CED6478E7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3973-CBA1-4CDC-8A74-75DF87BDD12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1557000"/>
            <a:ext cx="752184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2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objectifs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et quelles démarches ?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3CBF-10B0-422E-B91C-D43A637F22C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ux « cadres » de référenc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0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1C6C-9E55-4060-B2BA-85F45F5A6F5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826920" y="1197000"/>
            <a:ext cx="6697800" cy="64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Projet Pluridisciplinaire à Caractère Professionnel </a:t>
            </a:r>
            <a:br>
              <a:rPr sz="2000"/>
            </a:b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Réalisation, en équipe, d'un objectif prenant en compte  les enseignements généraux mobilisés dans toute activité professionnelle ».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socle commun et la compétence 1: Maîtrise de la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Savoir lire, écrire et parler le français conditionne l'accès à tous les domaines du savoir et l'acquisition de toutes les compétences . »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Faire accéder tous les élèves à la maîtrise de la langue française, à une expression précise et claire à l'oral comme à l'écrit, relève de l'enseignement du français mais aussi de toutes les disciplines. »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s objectifs des ateliers rédactionnels </a:t>
            </a:r>
            <a:r>
              <a:rPr b="0" lang="fr-FR" sz="2400" spc="-1" strike="noStrike">
                <a:solidFill>
                  <a:srgbClr val="c00000"/>
                </a:solidFill>
                <a:latin typeface="Franklin Gothic Medium"/>
                <a:ea typeface="Times New Roman"/>
              </a:rPr>
              <a:t>(RC. Annexe III c)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900B-A1CC-4403-994F-CA781F1ECAB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"/>
          <p:cNvSpPr/>
          <p:nvPr/>
        </p:nvSpPr>
        <p:spPr>
          <a:xfrm>
            <a:off x="250920" y="140652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« 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évelopper des comportements professionnels adapté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aux contextes et situations rencontrés (écoute, rigueur, réactivité, créativité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S’approprier les contextes de production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ceptualiser les différents document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Produire des documents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et supports de communication dans le respect de consignes, de procédures ou d’un cahier des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trôler la qualité rédactionnelle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traités.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ans la logique des situations professionnell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8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5C45-3D33-47C9-8E51-A35AE45C57D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ZoneTexte 4"/>
          <p:cNvSpPr/>
          <p:nvPr/>
        </p:nvSpPr>
        <p:spPr>
          <a:xfrm>
            <a:off x="1042920" y="1844640"/>
            <a:ext cx="75614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Préambule du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-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Les savoirs rédactionnels sont centrés sur la production écrite en situation professionnel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- Ces savoirs sont présents dans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17 situations professionnelles sur les 55 que comporte le référentiel.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2240" y="1268280"/>
            <a:ext cx="752184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3 .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quels apprentissages 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7652-E703-488A-AECD-A7705722543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genres d’écrits à travaill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Dans le cadre des 17 situations professionnelles du RC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d’un partenaire ou à un partenaire (réclamation à un fournisseur, relance client, sollicitation auprès d’une administration etc.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consignes de sécur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documents d’accueil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à un salarié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iscour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’annonc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mpte rendu de réunion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a fiche de synthèse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escriptif d’un projet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rapport d’étape d’un projet etc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B6D4-0C04-48D6-80CB-144B316A44B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01225-8DE5-464D-A7E8-996715977F4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395280" y="879480"/>
          <a:ext cx="8496360" cy="515160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1825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716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des d’accès aux sites de déclarations des formalité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juridiques relatives aux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sur le ou les partenaires concernés par la form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nécessaires à l’élaboration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à respecter pour maintenir la relation avec les différentes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ervices et interlocuteurs de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accomplissement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urriers types de demande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les formalités administratives, y compris au sein de l’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administrations, leurs finalités et leurs champs d’interven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ubven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rganismes europé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courrier de sollicitation auprès d’une 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positionnement et la situation de l’émett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 description et la justification de la requê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codes et règles du courrier aux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lexique du souhait, de la demande, de l’autor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modes et temps des verbes :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nécessitant un processus long : échanges, validations, rendez-v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intégrant des données jurid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nombreuses exigeant l’établissement d’un calendri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au sein de l’UE ou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incomplètes ou non confor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hors dél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déclarée irrecevable par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formalités administratives courantes sont réalisé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dre en charge des formalité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obligation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22240" y="1100160"/>
            <a:ext cx="752184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3. Gestion administrative des relations avec les autres partenaires</a:t>
            </a:r>
            <a:r>
              <a:rPr b="1" lang="fr-FR" sz="17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b81bd"/>
                </a:solidFill>
                <a:latin typeface="Arial"/>
                <a:ea typeface="Times New Roman"/>
              </a:rPr>
              <a:t>1.3.3. Traitement des formalités administratives</a:t>
            </a: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28374a"/>
                </a:solidFill>
                <a:latin typeface="Franklin Gothic Book"/>
              </a:rPr>
              <a:t>Savoirs associé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avoirs rédactionnel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Lecture et écriture d’un genre 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courrier de sollicitation auprès d’une administ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Procédés d’écritur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positionnement et la situation de l’émetteur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a description et la justification de la requêt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codes et règles du courrier aux administration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lexique du souhait, de la demande, de l’autoris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modes et temps des verbes : condit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26A6-8964-409C-96BA-970859EEE65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courri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22240" y="907920"/>
            <a:ext cx="7521840" cy="532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SARL   ESCOUZEL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roduits régionaux et biologiqu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                                                                                Labastide, le 1</a:t>
            </a:r>
            <a:r>
              <a:rPr b="1" lang="fr-FR" sz="1000" spc="-1" strike="noStrike" baseline="30000">
                <a:solidFill>
                  <a:srgbClr val="000000"/>
                </a:solidFill>
                <a:latin typeface="Franklin Gothic Book"/>
              </a:rPr>
              <a:t>er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octobre 2011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                                                                                            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Hôtel de Vill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    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Objet : modification couleur menuiseries extérieur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,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mme suite à notre courrier du 24 août dernier au service départemental de l’architecture et du patrimoine des Landes, et à la rencontre du 22 septembre avec Monsieur Gileti, architecte des Bâtiments de France et à son courrier du 29, nous avons pris bonne note des références qu’il nous a conseill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avons donc l’honneur de vous informer que, conformément à l’avis de Monsieur Gileti, nous allons utiliser, pour la peinture des menuiseries extérieures de notre commerce de Labastide d’Armagnac , les références des couleurs suivantes :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fr-FR" sz="1000" spc="-1" strike="noStrike">
                <a:solidFill>
                  <a:srgbClr val="000000"/>
                </a:solidFill>
                <a:latin typeface="Franklin Gothic Book"/>
              </a:rPr>
              <a:t>Nuancier Sikkens Color, collection 2021, page 88, G8.1060 ou G8.1070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vous prions d’agréer, Monsieur le Maire, l’expression de nos salutations les plus distingu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Le Gérant, Pierre Escouzel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pie : M. Gileti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 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B111-F101-4B8A-A5F1-78212203D33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Image 11" descr="label-ab-europeen.jpg"/>
          <p:cNvPicPr/>
          <p:nvPr/>
        </p:nvPicPr>
        <p:blipFill>
          <a:blip r:embed="rId1"/>
          <a:stretch/>
        </p:blipFill>
        <p:spPr>
          <a:xfrm>
            <a:off x="900000" y="981000"/>
            <a:ext cx="576360" cy="385920"/>
          </a:xfrm>
          <a:prstGeom prst="rect">
            <a:avLst/>
          </a:prstGeom>
          <a:ln w="0">
            <a:noFill/>
          </a:ln>
        </p:spPr>
      </p:pic>
      <p:sp>
        <p:nvSpPr>
          <p:cNvPr id="421" name="Bouton d'action : Personnalisé 5">
            <a:hlinkClick r:id="rId2" action="ppaction://hlinksldjump"/>
          </p:cNvPr>
          <p:cNvSpPr/>
          <p:nvPr/>
        </p:nvSpPr>
        <p:spPr>
          <a:xfrm>
            <a:off x="179280" y="580536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Franklin Gothic Book"/>
              </a:rPr>
              <a:t>+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Bouton d'action : Personnalisé 6">
            <a:hlinkClick r:id="rId3" action="ppaction://hlinksldjump"/>
          </p:cNvPr>
          <p:cNvSpPr/>
          <p:nvPr/>
        </p:nvSpPr>
        <p:spPr>
          <a:xfrm>
            <a:off x="171360" y="5326200"/>
            <a:ext cx="432000" cy="263520"/>
          </a:xfrm>
          <a:custGeom>
            <a:avLst/>
            <a:gdLst>
              <a:gd name="textAreaLeft" fmla="*/ 16920 w 432000"/>
              <a:gd name="textAreaRight" fmla="*/ 415080 w 432000"/>
              <a:gd name="textAreaTop" fmla="*/ 16920 h 263520"/>
              <a:gd name="textAreaBottom" fmla="*/ 246600 h 263520"/>
            </a:gdLst>
            <a:ahLst/>
            <a:rect l="textAreaLeft" t="textAreaTop" r="textAreaRight" b="textAreaBottom"/>
            <a:pathLst>
              <a:path w="35391" h="21600">
                <a:moveTo>
                  <a:pt x="0" y="0"/>
                </a:moveTo>
                <a:lnTo>
                  <a:pt x="35391" y="0"/>
                </a:lnTo>
                <a:lnTo>
                  <a:pt x="35391" y="21600"/>
                </a:lnTo>
                <a:lnTo>
                  <a:pt x="0" y="21600"/>
                </a:lnTo>
                <a:close/>
              </a:path>
              <a:path fill="lightenLess" w="35391" h="21600">
                <a:moveTo>
                  <a:pt x="0" y="0"/>
                </a:moveTo>
                <a:lnTo>
                  <a:pt x="35391" y="0"/>
                </a:lnTo>
                <a:lnTo>
                  <a:pt x="33991" y="1400"/>
                </a:lnTo>
                <a:lnTo>
                  <a:pt x="1400" y="1400"/>
                </a:lnTo>
                <a:close/>
              </a:path>
              <a:path fill="darken" w="35391" h="21600">
                <a:moveTo>
                  <a:pt x="35391" y="0"/>
                </a:moveTo>
                <a:lnTo>
                  <a:pt x="35391" y="21600"/>
                </a:lnTo>
                <a:lnTo>
                  <a:pt x="33991" y="20200"/>
                </a:lnTo>
                <a:lnTo>
                  <a:pt x="33991" y="1400"/>
                </a:lnTo>
                <a:close/>
              </a:path>
              <a:path fill="darkenLess" w="35391" h="21600">
                <a:moveTo>
                  <a:pt x="35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91" y="20200"/>
                </a:lnTo>
                <a:close/>
              </a:path>
              <a:path fill="lighten" w="35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Franklin Gothic Book"/>
              </a:rPr>
              <a:t>+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</a:t>
            </a:r>
            <a:r>
              <a:rPr b="0" lang="fr-FR" sz="1800" spc="-1" strike="noStrike">
                <a:solidFill>
                  <a:srgbClr val="c00000"/>
                </a:solidFill>
                <a:latin typeface="Franklin Gothic Medium"/>
              </a:rPr>
              <a:t>(RC Annexe III c)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22240" y="1267920"/>
            <a:ext cx="75218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1. Communication et énonci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Contexte, situation de communication et ses marques dans l’énonciation du text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identités des interlocuteurs, pronoms personnels, indicateurs temporels, temps verbaux  (antériorité, simultanéité, postériorité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2. Visées et enjeux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Visée informative avec un enjeu « civique » implicit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ode indicatif, phrases déclaratives, mise en paragraphes, valorisation de la décision, lexique  « neutre »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3.Genres des documents professionnel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 courrier d’information d’un  commerçant  à une administr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ise en page du courrier, formules d’usage…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CFC4-1DC2-4DB9-92CF-9F993F9B949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Bouton d'action : Personnalisé 7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compétences…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aux ateliers rédactionnel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(suite)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822240" y="1099800"/>
            <a:ext cx="752184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4. Lexique professionn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thémat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usuel codifié selon l’usage et les relations (hiérarchiques ou entre « pairs »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5. Mobilisation de connaissances et de codes orthographique, grammatical et syntax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caractères typographiqu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« marques de personne », les modes et temps verbaux, (valeurs et conjugaisons), les accords, la syntaxe, la ponctu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a cohésion du texte (connecteurs, faits de reprise) et cohérence logique (mise en paragraphes, progression de l’information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niveaux de langue et l’orthographe lexical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Une révision en situation, au fil de l’écriture et de la réécritur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3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21B8-9167-4969-A99A-D6D03A0AFAB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Bouton d'action : Personnalisé 6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75218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4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types d’ateliers et comment les mettre en place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99DA-294D-4A33-9E15-A5672BB2753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ifférents types d’ateli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BDB1-EA9F-400A-B7CF-641E4119A9D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oneTexte 4"/>
          <p:cNvSpPr/>
          <p:nvPr/>
        </p:nvSpPr>
        <p:spPr>
          <a:xfrm>
            <a:off x="826920" y="1197000"/>
            <a:ext cx="734544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observation et d’analyse du ré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ocuments et supports de communication exist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simula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e situations professionn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emandes ré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artage d’expérience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près des PFM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- Ateliers de transposition rédactionnelle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(changement d’énonciateur, de cibles, de contraintes, de supports… dans des contextes plus ou moins critiqu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auto-formation,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notamment aux logiciels dédié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Avec une organisation propre à chaque établissemen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21880" y="1557360"/>
            <a:ext cx="7637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Franklin Gothic Book"/>
              </a:rPr>
              <a:t>Des séances en co-animation dans le cadre (et/ou)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Enseignement Général en Lien avec la Spécialité (EGLS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accompagnement personnalisé (AP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PFMP : avant, pendant et après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 projets à caractère pluridisciplinaire et professionnel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→ 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Pas d’horaires spécifiques. Projet d’établissement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F5DF-F7AC-4B56-B2BB-0CB697B8E5D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n guise de conclusion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822240" y="1100160"/>
            <a:ext cx="752184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« Écrire est toujours un art plein de rencontr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La lettre la plus simple suppose un choix entr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des milliers de mots, dont la plupart sont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étrangers à ce que vous voulez dire. »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Franklin Gothic Book"/>
              </a:rPr>
              <a:t>Alain - 193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98F2-B3AB-4ACD-8275-60E2E16ECD6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2240" y="1100160"/>
            <a:ext cx="752184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quoi des ateliers rédactionnels ? 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objectifs  et quelles démarch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 quels apprentissag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types d’ateliers et comment les mettre en place ?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2510-0CF5-4568-B77E-457AB315977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1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ourquoi des ateliers rédactionnels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F9EB-3C34-4171-BFE4-42FB7507304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989000"/>
            <a:ext cx="75218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Note d’opportunité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28374a"/>
                </a:solidFill>
                <a:latin typeface="Franklin Gothic Book"/>
              </a:rPr>
              <a:t>« La compétence à communiquer intègre une maîtrise langagière spécifique du métier et une utilisation du lexique de l’organisation dans tout type de contexte et de situation professionnels. »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5636-F199-4C91-A193-265048E26E3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25360"/>
            <a:ext cx="752184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Le Référentiel d’Activités Professionnelles  (RAP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28374a"/>
                </a:solidFill>
                <a:latin typeface="Franklin Gothic Book"/>
              </a:rPr>
              <a:t>«</a:t>
            </a:r>
            <a:r>
              <a:rPr b="0" i="1" lang="fr-FR" sz="2800" spc="-1" strike="noStrike">
                <a:solidFill>
                  <a:srgbClr val="28374a"/>
                </a:solidFill>
                <a:latin typeface="Franklin Gothic Book"/>
              </a:rPr>
              <a:t>  </a:t>
            </a:r>
            <a:r>
              <a:rPr b="1" i="1" lang="fr-FR" sz="2400" spc="-1" strike="noStrike">
                <a:solidFill>
                  <a:srgbClr val="28374a"/>
                </a:solidFill>
                <a:latin typeface="Franklin Gothic Book"/>
              </a:rPr>
              <a:t>Dans son rôle d’interface et de producteur de documents et de supports de communication, le titulaire du baccalauréat professionnel Gestion-Administration doit maîtriser la qualité de son expression écrite et orale. Vecteur de l’image de l’organisation, sa maîtrise de l’orthographe et de la syntaxe est impérative. »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77E8-3C92-4485-B95B-D5D20C78E8A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complex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26920" y="1341360"/>
            <a:ext cx="752184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situations de communication et des productions écrites très diverses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Mobilisant des connaissances et capacités langagières spécifiques variant selon les productions attendues 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 la part d’élèves ou d’apprentis qui, au sortir de la troisième générale ou de la troisième préparant à la voie professionnelle, n’auront peut-être pas encore validé la compétence 1 du socle commun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485C-ABF8-41BE-B92A-842E91D0169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nécessaire collabor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280" y="1267920"/>
            <a:ext cx="7588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Un enseignement en co-disciplinarité: professeur de français (PLP Lettres-histoire ou PLP langue-Lettres) et professeur d’économie-gestion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Chaque professeur apportant, selon les productions travaillées, ses compétences disciplinaires spécifi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Dans un esprit de découverte, de mutualisation et d’enrichissement récipro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31DD-B663-47F6-B51F-A2FBE5822C1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des finalités divers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22240" y="1099800"/>
            <a:ext cx="75218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ire  évoluer les représentations des jeunes dans l’apprentissage d’un métier :  liaison EG /EP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ciliter les poursuites d’étud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parfaire les compétences  rédactionnelles des jeunes qu’elles soient professionnelles ou plus personnell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6029-6A29-4386-83F4-F4BA20ACD8C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6:57:33Z</dcterms:created>
  <dc:creator>Simon</dc:creator>
  <dc:description/>
  <cp:keywords/>
  <dc:language>en-US</dc:language>
  <cp:lastModifiedBy>Edith Simon</cp:lastModifiedBy>
  <dcterms:modified xsi:type="dcterms:W3CDTF">2011-10-25T19:03:02Z</dcterms:modified>
  <cp:revision>167</cp:revision>
  <dc:subject/>
  <dc:title>Présentation PowerPoint</dc:title>
</cp:coreProperties>
</file>