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68AD-63FB-40B4-84E0-FE68DEA8DE2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8A6E-6E37-42AA-95AA-3CCDA42E3ED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D15A-70EF-494F-8A13-7AE65684051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6855-F33C-401B-AB8F-ECB25A9FBDE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671E-B674-4FE4-B899-79831705B47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2E51-2FF4-41E5-ABE4-86920A9C3FF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57E2-709F-4162-9C7E-5F9C5D910AB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436E-2D34-4C87-BFF9-B9BC9650C97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505E-BEDC-490C-8A16-DBDE529F57E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45C8-4928-4CC6-80B6-D2B2C5719AB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D67D-2C61-4888-A392-3FC280CE8A5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7603-18BF-4EBF-BFFB-2A7ACBC1B59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D2A3-7143-466A-B607-34EE40DDE5D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7877-08D5-4ADB-918E-6AC917F94AA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FA2B-9B42-487C-9E20-D60B9681CA0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B5E1-94BB-4203-921F-C8D85523F54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2DC9-453F-4C36-B244-0D24C1527BF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9E38-B43E-4BCF-9EFC-CD8DC0746E4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CA61-4A5F-4E49-98DD-A59DBE787DE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751A-3308-4D23-8B58-9ABDBC6ECEB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8771-67F7-4FE2-BBCB-2BC868813DA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C8FB-978F-4498-8C90-CD28E52A317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5C0B-359A-4F4A-989D-7F21A625159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F4C2-5A18-41F4-BACD-1E0D51AE319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7BB0-63B4-4E84-9C2F-0EEF9EE5D55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C847-1A71-42AA-9AAE-C41E8FF3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4EF5-0140-4108-A0DB-0A2180D2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86A5-E6FC-416C-B179-B33C3AA5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3037-D9B8-49A1-BE4A-11BE54575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7568-ADE4-4F31-BC80-78624813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826A-3980-42D5-B738-DE2BE635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426B-7C95-42BF-A6F0-72F07674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D1FC-8556-4660-95E1-6F1FCE45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5FFE-C799-461E-8881-32C5D7EB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151D-7E19-4811-86CA-86158D8A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08D5-224A-4CEF-BB81-577437C1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61AF-ED6E-448A-9705-797F97D1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105C-EB22-4812-BA3C-2E828B03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E9F3-7E9E-4111-B58D-EA4E7295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EAE1-EB97-4243-A501-E3CB94F1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BEB0-5315-40C0-B83D-1C12A5DE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C7D1-3231-4AFC-A49A-35A2A439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9CF9D-EEFB-4C88-8D3D-D96A2A3C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B480D-ECEA-4083-9F22-3CF36A27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6B386-D1A1-4108-A742-A4D1D409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FED69-C1B0-4594-912C-46CDAB92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A863E-8979-47F3-B547-39B3C178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069D-0D6B-402B-A7ED-58425B0E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E3741-34FB-4DC0-A7F1-DDC9CE74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E7E33-A020-41BA-9DE7-DC6BAFD6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91E07-F030-4DCF-AEE9-200B1FC7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DBB81-E1B3-4340-BBE8-E9CC1AA0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E332A-FB21-443C-991B-11726A10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D359F-79CD-49F6-91D1-A3457B3D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71653-F8D7-4D18-8618-8056EF474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26C1B-D41C-4DBB-9554-7BEB81574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33D4A-8250-4AFB-A131-2A8CA5D9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0FF8F-85CC-4433-A60A-AA64AA83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1038-ED41-4613-AF21-9DA9FE6C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9BF72-7626-422D-891E-AA0A68BB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65E63-2B23-4040-897A-35CAE550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900A5-A407-4310-B2DA-BDDD15E2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9F321-6B00-4CF6-BC1B-4EAE2FF1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3DCB8-A93B-44B2-8E64-2B0A7BCC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27A37-1B24-4331-9389-AAE2E504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B37D2-A23A-4CD3-BAFD-477098BF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28BEB-B28C-4193-90B6-066E048B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0D71C-5FEC-4814-B1C3-43C2AEC75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AEBE3-D9F7-4AFD-B79F-95CE6EF2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A2A0-2BA8-4C1A-A34D-E0F3C6EB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EC619-CE26-4E14-94F0-E6043234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81FFD-39FB-45BC-B96E-A866676B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1E24E-1687-481B-893B-B894B567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B1BE5-2461-487E-ADC4-E0365D6D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0F6BA-3DC2-4B2D-84D3-BD1511FF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895A5-78B1-409E-830B-1A9ED46E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99FEA-CECF-4BAA-9E8C-9C3A7458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235F1-12F8-4174-A452-A9BB3A71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F2402-239C-40A5-8BA5-B0364BDE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6D992-8CE1-47F2-BB30-A396B872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287D-03C5-43F1-8010-0A8EADD0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54450-0706-4C31-AA66-CA8A0B313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42E6B-BF0D-48C1-851D-693AD25A3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F8EE4-96BC-4705-9142-52597898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89220-FEC6-4B32-A366-BF6EF3F9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C8EAD-B175-4500-9D42-919FA656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37324-6CAA-41FC-8765-740D91E0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8652F-3237-4BBB-886F-DB9FA0C7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5C899-9A76-411A-A28E-6AFC136B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40FB1-ABEE-43CF-8230-708DB725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8C7E1-79E6-4C76-AD77-B18B2043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16AF-4A0E-4B67-88C4-525BAFF0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740DE-D104-4A03-A769-250BDAA3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B7DC2-6A4D-458D-BAF8-3DB99DEA4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4E225-2AFD-45B0-BEE1-A8B578091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26951-287A-4C59-A395-2E97AE5D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1A6E1-77EC-41E7-A1A8-962C2A27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EB560-F79B-441F-8706-6C0F2EB9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335A5-62C1-4CE6-9D28-FF1FD947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1E4B1-26D7-45D7-A888-834C6031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BC14D-625B-4C54-B748-A69F185B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1F8E5-6613-4864-B188-B8837A12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FEB3-9BF0-4DDF-ACA3-36455BF1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F5579-0039-44F4-8AC9-92E5A9F7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D2B89-C1E8-4791-8CB1-98AF5893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BE95C-FBCD-470C-BCE7-907B132C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269EC-D1EB-46B7-B1D1-D12CFFC4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CD650-40F2-4DDC-A701-822B9361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2BC0F-3A59-47B8-8144-9A7340F4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62A55-42BB-4138-BB6B-A25CF915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36272-FA92-44F6-9AA1-0CA230BD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4D361-D098-4DF1-896F-BF2DBCB0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710A1-0922-40B4-A06E-BF63F5C8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59F2-5D8E-4403-A87B-545CCE0A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0FBE7-BC36-4BD7-B770-67A8785C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0E0D7-E720-4E11-A1BD-91D49EBB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BDCC9-9B82-4CE8-B402-B3F15350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19B33-C9D6-46FA-8B4E-B118E08C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6B1AF-0453-4B7A-9928-9E00226F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CFED8-AE24-4382-B896-3CD89FB42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0B511-C599-4ADB-BB3F-E7B3B8100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E571-9061-49E7-94C5-AC5AACDC5A9B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BC82-031A-46D2-A0B6-74BAE21E1461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4BF5-243F-46D9-ABE3-F25A3D6CC291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9E4C-569A-474A-85DE-BA4AAB0D783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BA57-BE01-44D3-BFA5-47EB34B31FE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E7E5-0200-4095-8A7B-DF0F7431EDB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3EBC-23DC-4DF6-804C-26CB67BAB402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80F4-8865-4033-9F1B-1B4614904B7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926F-89F8-4C93-9A3D-505D4441A93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6788-8CA1-405E-908F-27EF70FB5CD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FF82-EF6D-4707-92D2-80A476A61D1B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D9F3-231B-4293-918F-2D7F3C10998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AAB6-34CA-41B7-B6C2-F9494183F451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CAB8-A4AE-4891-8FFC-068EF2E0FB8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0A8E-C8F4-49D8-9045-7E1DB8DCF43C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5EB4-FD25-4867-9E35-0B307B4BE31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1557000"/>
            <a:ext cx="752184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2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Quels objectifs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et quelles démarches ?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7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EEB7-C2CE-443D-ADD1-1BC75AC7394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ux « cadres » de référenc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0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9E1A-D371-4C96-A6C6-EDB4EA6FD69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826920" y="1197000"/>
            <a:ext cx="6697800" cy="64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Le Projet Pluridisciplinaire à Caractère Professionnel </a:t>
            </a:r>
            <a:br>
              <a:rPr sz="2000"/>
            </a:b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Réalisation, en équipe, d'un objectif prenant en compte  les enseignements généraux mobilisés dans toute activité professionnelle ». (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Le socle commun et la compétence 1: Maîtrise de la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Savoir lire, écrire et parler le français conditionne l'accès à tous les domaines du savoir et l'acquisition de toutes les compétences . »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Faire accéder tous les élèves à la maîtrise de la langue française, à une expression précise et claire à l'oral comme à l'écrit, relève de l'enseignement du français mais aussi de toutes les disciplines. »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21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s objectifs des ateliers rédactionnels </a:t>
            </a:r>
            <a:r>
              <a:rPr b="0" lang="fr-FR" sz="2400" spc="-1" strike="noStrike">
                <a:solidFill>
                  <a:srgbClr val="c00000"/>
                </a:solidFill>
                <a:latin typeface="Franklin Gothic Medium"/>
                <a:ea typeface="Times New Roman"/>
              </a:rPr>
              <a:t>(RC. Annexe III c)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4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7622-41ED-45DE-B291-5ABA54A0C04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"/>
          <p:cNvSpPr/>
          <p:nvPr/>
        </p:nvSpPr>
        <p:spPr>
          <a:xfrm>
            <a:off x="250920" y="140652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« 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évelopper des comportements professionnels adaptés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aux contextes et situations rencontrés (écoute, rigueur, réactivité, créativité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S’approprier les contextes de production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es documents et supports de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Conceptualiser les différents documents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et supports de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Produire des documents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et supports de communication dans le respect de consignes, de procédures ou d’un cahier des char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Contrôler la qualité rédactionnelle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es documents et supports traités.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21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ans la logique des situations professionnell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8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37C3-7B8A-4854-9301-4A7AD82EA28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ZoneTexte 4"/>
          <p:cNvSpPr/>
          <p:nvPr/>
        </p:nvSpPr>
        <p:spPr>
          <a:xfrm>
            <a:off x="1042920" y="1844640"/>
            <a:ext cx="75614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Préambule du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-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Les savoirs rédactionnels sont centrés sur la production écrite en situation professionnel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- Ces savoirs sont présents dans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17 situations professionnelles sur les 55 que comporte le référentiel.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2240" y="1268280"/>
            <a:ext cx="752184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3 . </a:t>
            </a:r>
            <a:br>
              <a:rPr sz="3200"/>
            </a:b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our quels apprentissages ?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C741-12F8-4790-B55D-372FF402362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genres d’écrits à travailler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22240" y="110016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Dans le cadre des 17 situations professionnelles du RC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urrier d’un partenaire ou à un partenaire (réclamation à un fournisseur, relance client, sollicitation auprès d’une administration etc.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s consignes de sécurité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s documents d’accueil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urrier à un salarié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discour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’annonce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mpte rendu de réunion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a fiche de synthèse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descriptif d’un projet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rapport d’étape d’un projet etc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1418-2FBE-4A8E-93ED-EF71657E34F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ur présentation dans le référenti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A3CF-D17A-428C-8712-186A8DA4792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395280" y="879480"/>
          <a:ext cx="8496360" cy="515160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1825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7160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nnées comptables et commerciales de l’organis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des d’accès aux sites de déclarations des formalités administr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juridiques relatives aux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sur le ou les partenaires concernés par la form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nécessaires à l’élaboration des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à respecter pour maintenir la relation avec les différentes administ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 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services et interlocuteurs de l’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njeux de l’accomplissement des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urriers types de demandes administr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incipales formalités administratives, y compris au sein de l’UE et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administrations, leurs finalités et leurs champs d’interven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subven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rganismes europé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courrier de sollicitation auprès d’une 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positionnement et la situation de l’émett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a description et la justification de la requê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s codes et règles du courrier aux administ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lexique du souhait, de la demande, de l’autor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s modes et temps des verbes : conditi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techn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nécessitant un processus long : échanges, validations, rendez-vo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intégrant des données jurid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nombreuses exigeant l’établissement d’un calendri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au sein de l’UE ou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incomplètes ou non confor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hors déla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déclarée irrecevable par l’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formalités administratives courantes sont réalisé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ndre en charge des formalités administratives liées à l’activ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ect des obligations administratives liées à l’activ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ur présentation dans le référenti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822240" y="1100160"/>
            <a:ext cx="752184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1.3. Gestion administrative des relations avec les autres partenaires</a:t>
            </a:r>
            <a:r>
              <a:rPr b="1" lang="fr-FR" sz="1700" spc="-1" strike="noStrike">
                <a:solidFill>
                  <a:srgbClr val="4f81bd"/>
                </a:solidFill>
                <a:latin typeface="Arial"/>
                <a:ea typeface="Times New Roman"/>
              </a:rPr>
              <a:t>  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b81bd"/>
                </a:solidFill>
                <a:latin typeface="Arial"/>
                <a:ea typeface="Times New Roman"/>
              </a:rPr>
              <a:t>1.3.3. Traitement des formalités administratives</a:t>
            </a: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28374a"/>
                </a:solidFill>
                <a:latin typeface="Franklin Gothic Book"/>
              </a:rPr>
              <a:t>Savoirs associé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avoirs rédactionnels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- Lecture et écriture d’un genre 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courrier de sollicitation auprès d’une administr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- Procédés d’écritur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positionnement et la situation de l’émetteur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a description et la justification de la requêt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s codes et règles du courrier aux administrations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lexique du souhait, de la demande, de l’autoris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s modes et temps des verbes : conditionnel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C4B5-5BCB-49D3-9EB0-2F56A15442D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courrier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822240" y="907920"/>
            <a:ext cx="7521840" cy="532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SARL   ESCOUZEL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roduits régionaux et biologiques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lace Royale                                                                                Labastide, le 1</a:t>
            </a:r>
            <a:r>
              <a:rPr b="1" lang="fr-FR" sz="1000" spc="-1" strike="noStrike" baseline="30000">
                <a:solidFill>
                  <a:srgbClr val="000000"/>
                </a:solidFill>
                <a:latin typeface="Franklin Gothic Book"/>
              </a:rPr>
              <a:t>er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octobre 2011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40240 Labastide d’Armagnac                                                                                                  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     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Monsieur le Maire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Hôtel de Ville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lace Royale    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40240 Labastide d’Armagnac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Objet : modification couleur menuiseries extérieures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Monsieur le Maire,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Comme suite à notre courrier du 24 août dernier au service départemental de l’architecture et du patrimoine des Landes, et à la rencontre du 22 septembre avec Monsieur Gileti, architecte des Bâtiments de France et à son courrier du 29, nous avons pris bonne note des références qu’il nous a conseillées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Nous avons donc l’honneur de vous informer que, conformément à l’avis de Monsieur Gileti, nous allons utiliser, pour la peinture des menuiseries extérieures de notre commerce de Labastide d’Armagnac , les références des couleurs suivantes :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fr-FR" sz="1000" spc="-1" strike="noStrike">
                <a:solidFill>
                  <a:srgbClr val="000000"/>
                </a:solidFill>
                <a:latin typeface="Franklin Gothic Book"/>
              </a:rPr>
              <a:t>Nuancier Sikkens Color, collection 2021, page 88, G8.1060 ou G8.1070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Nous vous prions d’agréer, Monsieur le Maire, l’expression de nos salutations les plus distinguées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 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Le Gérant, Pierre Escouzel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copie : M. Gileti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 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7F41-E6F0-4CFB-982A-1798B979661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Image 11" descr="label-ab-europeen.jpg"/>
          <p:cNvPicPr/>
          <p:nvPr/>
        </p:nvPicPr>
        <p:blipFill>
          <a:blip r:embed="rId1"/>
          <a:stretch/>
        </p:blipFill>
        <p:spPr>
          <a:xfrm>
            <a:off x="900000" y="981000"/>
            <a:ext cx="576360" cy="385920"/>
          </a:xfrm>
          <a:prstGeom prst="rect">
            <a:avLst/>
          </a:prstGeom>
          <a:ln w="0">
            <a:noFill/>
          </a:ln>
        </p:spPr>
      </p:pic>
      <p:sp>
        <p:nvSpPr>
          <p:cNvPr id="421" name="Bouton d'action : Personnalisé 5">
            <a:hlinkClick r:id="rId2" action="ppaction://hlinksldjump"/>
          </p:cNvPr>
          <p:cNvSpPr/>
          <p:nvPr/>
        </p:nvSpPr>
        <p:spPr>
          <a:xfrm>
            <a:off x="179280" y="580536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Franklin Gothic Book"/>
              </a:rPr>
              <a:t>+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Bouton d'action : Personnalisé 6">
            <a:hlinkClick r:id="rId3" action="ppaction://hlinksldjump"/>
          </p:cNvPr>
          <p:cNvSpPr/>
          <p:nvPr/>
        </p:nvSpPr>
        <p:spPr>
          <a:xfrm>
            <a:off x="171360" y="5326200"/>
            <a:ext cx="432000" cy="263520"/>
          </a:xfrm>
          <a:custGeom>
            <a:avLst/>
            <a:gdLst>
              <a:gd name="textAreaLeft" fmla="*/ 16920 w 432000"/>
              <a:gd name="textAreaRight" fmla="*/ 415080 w 432000"/>
              <a:gd name="textAreaTop" fmla="*/ 16920 h 263520"/>
              <a:gd name="textAreaBottom" fmla="*/ 246600 h 263520"/>
            </a:gdLst>
            <a:ahLst/>
            <a:rect l="textAreaLeft" t="textAreaTop" r="textAreaRight" b="textAreaBottom"/>
            <a:pathLst>
              <a:path w="35391" h="21600">
                <a:moveTo>
                  <a:pt x="0" y="0"/>
                </a:moveTo>
                <a:lnTo>
                  <a:pt x="35391" y="0"/>
                </a:lnTo>
                <a:lnTo>
                  <a:pt x="35391" y="21600"/>
                </a:lnTo>
                <a:lnTo>
                  <a:pt x="0" y="21600"/>
                </a:lnTo>
                <a:close/>
              </a:path>
              <a:path fill="lightenLess" w="35391" h="21600">
                <a:moveTo>
                  <a:pt x="0" y="0"/>
                </a:moveTo>
                <a:lnTo>
                  <a:pt x="35391" y="0"/>
                </a:lnTo>
                <a:lnTo>
                  <a:pt x="33991" y="1400"/>
                </a:lnTo>
                <a:lnTo>
                  <a:pt x="1400" y="1400"/>
                </a:lnTo>
                <a:close/>
              </a:path>
              <a:path fill="darken" w="35391" h="21600">
                <a:moveTo>
                  <a:pt x="35391" y="0"/>
                </a:moveTo>
                <a:lnTo>
                  <a:pt x="35391" y="21600"/>
                </a:lnTo>
                <a:lnTo>
                  <a:pt x="33991" y="20200"/>
                </a:lnTo>
                <a:lnTo>
                  <a:pt x="33991" y="1400"/>
                </a:lnTo>
                <a:close/>
              </a:path>
              <a:path fill="darkenLess" w="35391" h="21600">
                <a:moveTo>
                  <a:pt x="35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91" y="20200"/>
                </a:lnTo>
                <a:close/>
              </a:path>
              <a:path fill="lighten" w="35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Franklin Gothic Book"/>
              </a:rPr>
              <a:t>+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xploitation des cinq niveaux </a:t>
            </a:r>
            <a:r>
              <a:rPr b="0" lang="fr-FR" sz="1800" spc="-1" strike="noStrike">
                <a:solidFill>
                  <a:srgbClr val="c00000"/>
                </a:solidFill>
                <a:latin typeface="Franklin Gothic Medium"/>
              </a:rPr>
              <a:t>(RC Annexe III c)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22240" y="1267920"/>
            <a:ext cx="75218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1. Communication et énonci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Contexte, situation de communication et ses marques dans l’énonciation du text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identités des interlocuteurs, pronoms personnels, indicateurs temporels, temps verbaux  (antériorité, simultanéité, postériorité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2. Visées et enjeux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Visée informative avec un enjeu « civique » implicit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Mode indicatif, phrases déclaratives, mise en paragraphes, valorisation de la décision, lexique  « neutre »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3.Genres des documents professionnel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 courrier d’information d’un  commerçant  à une administr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Mise en page du courrier, formules d’usage…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0EC8-1170-44A8-BAD9-D992E2B9E01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Bouton d'action : Personnalisé 7">
            <a:hlinkClick r:id="rId1" action="ppaction://hlinksldjump"/>
          </p:cNvPr>
          <p:cNvSpPr/>
          <p:nvPr/>
        </p:nvSpPr>
        <p:spPr>
          <a:xfrm>
            <a:off x="250920" y="5981760"/>
            <a:ext cx="612720" cy="287280"/>
          </a:xfrm>
          <a:custGeom>
            <a:avLst/>
            <a:gdLst>
              <a:gd name="textAreaLeft" fmla="*/ 18360 w 612720"/>
              <a:gd name="textAreaRight" fmla="*/ 594360 w 612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6039" h="21600">
                <a:moveTo>
                  <a:pt x="0" y="0"/>
                </a:moveTo>
                <a:lnTo>
                  <a:pt x="46039" y="0"/>
                </a:lnTo>
                <a:lnTo>
                  <a:pt x="46039" y="21600"/>
                </a:lnTo>
                <a:lnTo>
                  <a:pt x="0" y="21600"/>
                </a:lnTo>
                <a:close/>
              </a:path>
              <a:path fill="lightenLess" w="46039" h="21600">
                <a:moveTo>
                  <a:pt x="0" y="0"/>
                </a:moveTo>
                <a:lnTo>
                  <a:pt x="46039" y="0"/>
                </a:lnTo>
                <a:lnTo>
                  <a:pt x="44639" y="1400"/>
                </a:lnTo>
                <a:lnTo>
                  <a:pt x="1400" y="1400"/>
                </a:lnTo>
                <a:close/>
              </a:path>
              <a:path fill="darken" w="46039" h="21600">
                <a:moveTo>
                  <a:pt x="46039" y="0"/>
                </a:moveTo>
                <a:lnTo>
                  <a:pt x="46039" y="21600"/>
                </a:lnTo>
                <a:lnTo>
                  <a:pt x="44639" y="20200"/>
                </a:lnTo>
                <a:lnTo>
                  <a:pt x="44639" y="1400"/>
                </a:lnTo>
                <a:close/>
              </a:path>
              <a:path fill="darkenLess" w="46039" h="21600">
                <a:moveTo>
                  <a:pt x="46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39" y="20200"/>
                </a:lnTo>
                <a:close/>
              </a:path>
              <a:path fill="lighten" w="46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Franklin Gothic Book"/>
              </a:rPr>
              <a:t>Courr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s compétences…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aux ateliers rédactionnel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xploitation des cinq niveaux (suite)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822240" y="1099800"/>
            <a:ext cx="752184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4. Lexique professionnel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xique thématiqu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xique usuel codifié selon l’usage et les relations (hiérarchiques ou entre « pairs »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5. Mobilisation de connaissances et de codes orthographique, grammatical et syntaxiqu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caractères typographique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« marques de personne », les modes et temps verbaux, (valeurs et conjugaisons), les accords, la syntaxe, la ponctu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a cohésion du texte (connecteurs, faits de reprise) et cohérence logique (mise en paragraphes, progression de l’information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niveaux de langue et l’orthographe lexical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Une révision en situation, au fil de l’écriture et de la réécritur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3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E6BE-137C-458F-8A73-09534641BE7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Bouton d'action : Personnalisé 6">
            <a:hlinkClick r:id="rId1" action="ppaction://hlinksldjump"/>
          </p:cNvPr>
          <p:cNvSpPr/>
          <p:nvPr/>
        </p:nvSpPr>
        <p:spPr>
          <a:xfrm>
            <a:off x="250920" y="5981760"/>
            <a:ext cx="612720" cy="287280"/>
          </a:xfrm>
          <a:custGeom>
            <a:avLst/>
            <a:gdLst>
              <a:gd name="textAreaLeft" fmla="*/ 18360 w 612720"/>
              <a:gd name="textAreaRight" fmla="*/ 594360 w 612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6039" h="21600">
                <a:moveTo>
                  <a:pt x="0" y="0"/>
                </a:moveTo>
                <a:lnTo>
                  <a:pt x="46039" y="0"/>
                </a:lnTo>
                <a:lnTo>
                  <a:pt x="46039" y="21600"/>
                </a:lnTo>
                <a:lnTo>
                  <a:pt x="0" y="21600"/>
                </a:lnTo>
                <a:close/>
              </a:path>
              <a:path fill="lightenLess" w="46039" h="21600">
                <a:moveTo>
                  <a:pt x="0" y="0"/>
                </a:moveTo>
                <a:lnTo>
                  <a:pt x="46039" y="0"/>
                </a:lnTo>
                <a:lnTo>
                  <a:pt x="44639" y="1400"/>
                </a:lnTo>
                <a:lnTo>
                  <a:pt x="1400" y="1400"/>
                </a:lnTo>
                <a:close/>
              </a:path>
              <a:path fill="darken" w="46039" h="21600">
                <a:moveTo>
                  <a:pt x="46039" y="0"/>
                </a:moveTo>
                <a:lnTo>
                  <a:pt x="46039" y="21600"/>
                </a:lnTo>
                <a:lnTo>
                  <a:pt x="44639" y="20200"/>
                </a:lnTo>
                <a:lnTo>
                  <a:pt x="44639" y="1400"/>
                </a:lnTo>
                <a:close/>
              </a:path>
              <a:path fill="darkenLess" w="46039" h="21600">
                <a:moveTo>
                  <a:pt x="46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39" y="20200"/>
                </a:lnTo>
                <a:close/>
              </a:path>
              <a:path fill="lighten" w="46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Franklin Gothic Book"/>
              </a:rPr>
              <a:t>Courr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75218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4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Quels types d’ateliers et comment les mettre en place ?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4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3473-3734-4C87-967E-70BF6406998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ifférents types d’atelie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7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3FC1-2264-4339-8905-18C5CBF62EC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oneTexte 4"/>
          <p:cNvSpPr/>
          <p:nvPr/>
        </p:nvSpPr>
        <p:spPr>
          <a:xfrm>
            <a:off x="826920" y="1197000"/>
            <a:ext cx="734544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’observation et d’analyse du réel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à partir de documents et supports de communication exista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simula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de situations professionnel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produc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à partir de demandes réel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partage d’expériences de produc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après des PFM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- Ateliers de transposition rédactionnelle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(changement d’énonciateur, de cibles, de contraintes, de supports… dans des contextes plus ou moins critiqu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’auto-formation,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notamment aux logiciels dédié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12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Avec une organisation propre à chaque établissemen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821880" y="1557360"/>
            <a:ext cx="7637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Franklin Gothic Book"/>
              </a:rPr>
              <a:t>Des séances en co-animation dans le cadre (et/ou) 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 horaires dédiés à l’Enseignement Général en Lien avec la Spécialité (EGLS)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 horaires dédiés à l’accompagnement personnalisé (AP)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PFMP : avant, pendant et après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 projets à caractère pluridisciplinaire et professionnel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→  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Pas d’horaires spécifiques. Projet d’établissement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8374a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8374a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4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9CEC-B276-41D9-B3EF-2EFECC67823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n guise de conclusion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822240" y="1100160"/>
            <a:ext cx="752184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« Écrire est toujours un art plein de rencontr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La lettre la plus simple suppose un choix entr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des milliers de mots, dont la plupart sont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étrangers à ce que vous voulez dire. »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Franklin Gothic Book"/>
              </a:rPr>
              <a:t>Alain - 1934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4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2DAC-31C6-4525-8E57-7B07576708E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lan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2240" y="1100160"/>
            <a:ext cx="752184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Pourquoi des ateliers rédactionnels ?  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Quels objectifs  et quelles démarches?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Pour quels apprentissages?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Quels types d’ateliers et comment les mettre en place ? 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5046-A430-4E19-83AA-60D93D920D8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1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ourquoi des ateliers rédactionnels ?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7204-7E81-462E-9304-AF9328B59B1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indispensables au professi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22240" y="1989000"/>
            <a:ext cx="75218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Note d’opportunité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28374a"/>
                </a:solidFill>
                <a:latin typeface="Franklin Gothic Book"/>
              </a:rPr>
              <a:t>« La compétence à communiquer intègre une maîtrise langagière spécifique du métier et une utilisation du lexique de l’organisation dans tout type de contexte et de situation professionnels. »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B650-23BB-4567-AAC7-608786BCA83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indispensables au professi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6920" y="1125360"/>
            <a:ext cx="752184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Le Référentiel d’Activités Professionnelles  (RAP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28374a"/>
                </a:solidFill>
                <a:latin typeface="Franklin Gothic Book"/>
              </a:rPr>
              <a:t>«</a:t>
            </a:r>
            <a:r>
              <a:rPr b="0" i="1" lang="fr-FR" sz="2800" spc="-1" strike="noStrike">
                <a:solidFill>
                  <a:srgbClr val="28374a"/>
                </a:solidFill>
                <a:latin typeface="Franklin Gothic Book"/>
              </a:rPr>
              <a:t>  </a:t>
            </a:r>
            <a:r>
              <a:rPr b="1" i="1" lang="fr-FR" sz="2400" spc="-1" strike="noStrike">
                <a:solidFill>
                  <a:srgbClr val="28374a"/>
                </a:solidFill>
                <a:latin typeface="Franklin Gothic Book"/>
              </a:rPr>
              <a:t>Dans son rôle d’interface et de producteur de documents et de supports de communication, le titulaire du baccalauréat professionnel Gestion-Administration doit maîtriser la qualité de son expression écrite et orale. Vecteur de l’image de l’organisation, sa maîtrise de l’orthographe et de la syntaxe est impérative. »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C42A-5326-4C58-B523-53940A43E65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complex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826920" y="1341360"/>
            <a:ext cx="752184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s situations de communication et des productions écrites très diverses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Mobilisant des connaissances et capacités langagières spécifiques variant selon les productions attendues 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 la part d’élèves ou d’apprentis qui, au sortir de la troisième générale ou de la troisième préparant à la voie professionnelle, n’auront peut-être pas encore validé la compétence 1 du socle commun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5B8F-0026-40E3-AB15-ED3F8C9D949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e nécessaire collabora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55280" y="1267920"/>
            <a:ext cx="7588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Un enseignement en co-disciplinarité: professeur de français (PLP Lettres-histoire ou PLP langue-Lettres) et professeur d’économie-gestion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Chaque professeur apportant, selon les productions travaillées, ses compétences disciplinaires spécifiques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Dans un esprit de découverte, de mutualisation et d’enrichissement réciproques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99DF-50AD-4BF4-A5F6-7EA1D03FAB0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our des finalités divers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822240" y="1099800"/>
            <a:ext cx="75218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faire  évoluer les représentations des jeunes dans l’apprentissage d’un métier :  liaison EG /EP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faciliter les poursuites d’étud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parfaire les compétences  rédactionnelles des jeunes qu’elles soient professionnelles ou plus personnell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FB19-DA88-4BB1-8216-5D8FC1468C4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6:57:33Z</dcterms:created>
  <dc:creator>Simon</dc:creator>
  <dc:description/>
  <cp:keywords/>
  <dc:language>en-US</dc:language>
  <cp:lastModifiedBy>Edith Simon</cp:lastModifiedBy>
  <dcterms:modified xsi:type="dcterms:W3CDTF">2011-10-25T19:03:02Z</dcterms:modified>
  <cp:revision>167</cp:revision>
  <dc:subject/>
  <dc:title>Présentation PowerPoint</dc:title>
</cp:coreProperties>
</file>