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034B-F2BB-425F-B689-AEAAB3C5055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EA28-E8E1-400B-A902-62F799F6386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27C7-35FD-4F9B-B296-D58B858D4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7029-1FAA-4C1B-81E9-1351D72B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50E3-66FE-4369-A88C-141D29FEA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886E-D326-4B52-9D8A-8E8FC303F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55C5-25A5-43D1-B68A-52E24091F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A0AF-488C-4E61-8BCF-5E2215B7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4B55-6909-4A43-B2DC-53C6EFD9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A454-D23E-41F1-9EB0-8F61F6D2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79CB-52F0-4402-9675-D62A9B6F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BA0C-D357-4780-B635-B2086D9D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EC41-8B85-44A2-949F-C61065DC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EAE9-D4CF-4089-8CFF-94513773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548D-9372-4DD9-9C8C-CA04328A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E9FB-7BAE-4C4D-B724-51E27F43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F8B7A-6F10-4B6A-BD76-A010B1EF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55AF-2A41-4EE6-8994-D18DCEFB8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A026-746A-454B-A5AA-C7E5C538E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12EAA-EB98-4729-AD92-375F1292F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826A7-ADD3-4AC4-8845-C97120E9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4FAEE-AF26-42D2-A087-14A0C53C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885F0-F224-490A-B901-9F21D388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7A45E-3720-4958-8408-AD34733A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FC07-7725-43B4-846D-F538557C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77C73-A12F-4025-B151-AD82DE31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5C4FB-3C8A-490F-B28E-4D910206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6F835-BDD9-4B2C-AE2B-3AE7E536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BC654-908A-4B0E-B99F-0036574F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710DD-6D53-4F48-9D10-EC38EBE2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311D5-9F2E-40D4-9552-EBBD47B38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AD540-E5C8-4E1B-AB1F-B0BEA6881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D321C-E006-42A1-AE1B-57579E88B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1D3BE-E9CB-426E-AB8F-D9940B48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A8019-BB00-415B-B121-D0897690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15E2-9A73-470E-8123-303FDAEE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A3DB5-1F09-47D0-94E0-7169E06E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51379-A3BC-4614-BB68-9A4D29BA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389F5-5136-42A7-BECE-AFAA113E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5A4C3-A8AE-471C-A279-878A0962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828C0-8036-4D07-A59A-5CF4B12F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9B646-ABE2-45D9-A046-DC609706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F7761-A89E-409D-AAFF-4A806FCF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80251-0D60-4711-88D5-59AC95810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4EE29-616C-4188-89CC-A421793E8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7AAFF-F58C-4BD4-890C-50951B1AF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57DE-2BC1-4D71-98C7-194A3F67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5BD81-889D-434F-AD29-05B8EECC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DB795-2925-45F1-9FF4-E21D9E9D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9FC5A-C9C1-4727-B7F9-316C9E8F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9E284-015E-49D6-AC30-ADCF7CD5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7A410-C1F6-4955-8BB7-A27EA09C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B4730-8383-4D83-BFB5-C5D48D62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F921D-274B-4493-BED2-0E18BF69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0A75C-D684-4BD7-B903-01D5708F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E4EFD-F3D6-4ECE-A245-5F6C2A64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D2D68-7B82-4192-9581-6F78A0464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3215-2406-4795-8B37-5DADAFA3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E0538-3B52-40C9-B923-574197E2D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05259-11DC-4453-A776-EB9E6BED8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F6247-5114-4247-978E-5255F47B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D0ACC-EEC6-4ABA-995A-2DBD83EA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1A615-3992-45DC-9220-05554A93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C1B0E-3A44-42E1-A086-392044D2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5F0A0-DC60-4746-AD7E-4C06692B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C2F90-477D-4492-91A0-C71E4820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B5D35-99A5-478D-A5D7-AF9494B8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C1259-1882-4B78-9B46-7A1D5F46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85AE-EE36-4473-966E-C16DECFC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F1693-35A6-4107-91CF-D2A6EA0E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CBBAB-E09B-45DF-B4D2-DCAF8B55F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72C3D-EBD3-450D-B2DF-94D3721E6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E76E-3261-4A6C-BA60-4E2FF175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42DD-E9C4-4777-A679-736204F7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BFD0-DE3C-4DD0-80FA-08BEE3978735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6A4C-1953-43DA-88FB-10E0B259294A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" name="Picture 2" descr="E:\Mes docs\DD_Paris\AL\2010_2011\BTS_SIO\MENJVA_LOGO_Q.gif"/>
          <p:cNvPicPr/>
          <p:nvPr/>
        </p:nvPicPr>
        <p:blipFill>
          <a:blip r:embed="rId2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9E4F-0E61-44C0-9272-4185DB7B0AE2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25A0-8F23-4E5F-A7CC-F0F6FF9FA255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57C5-D3C7-4B7D-A0BE-21AB0737A98A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DB77-0307-4D08-9022-1181A0087C07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FC61-E2BE-47F8-96C9-58B2FC8B77C6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42EC-12C8-4F44-9103-0968428C936D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08D3-BE8A-436E-9A65-37BA280A02B6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B21C-EFD2-4F05-AC91-5E534D596482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4120-69FD-43EA-854F-4D4AE7F7AF50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43B0-5F24-49C8-9982-1FE128D35749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3 - Gestion administrative intern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 rot="19126800">
            <a:off x="1416960" y="2542680"/>
            <a:ext cx="756108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28374a"/>
                </a:solidFill>
                <a:latin typeface="Franklin Gothic Book"/>
                <a:ea typeface="Tunga"/>
              </a:rPr>
              <a:t>BACCALAURÉAT PROFESSIONNEL GESTION -ADMINISTRATION</a:t>
            </a:r>
            <a:endParaRPr b="1" lang="en-US" sz="14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270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271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8A60-B020-43AD-BE5B-FA89F748B27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285840" y="479520"/>
          <a:ext cx="8572320" cy="5675040"/>
        </p:xfrm>
        <a:graphic>
          <a:graphicData uri="http://schemas.openxmlformats.org/drawingml/2006/table">
            <a:tbl>
              <a:tblPr/>
              <a:tblGrid>
                <a:gridCol w="2647800"/>
                <a:gridCol w="3332160"/>
                <a:gridCol w="2592360"/>
              </a:tblGrid>
              <a:tr h="52524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DONNÉES DE LA SITU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SAVOIR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ASSOCIÉ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PERFORMANCE</a:t>
                      </a:r>
                      <a:r>
                        <a:rPr b="1" lang="fr-FR" sz="1200" spc="-1" strike="noStrike">
                          <a:solidFill>
                            <a:srgbClr val="ca4b05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ATTEND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387440">
                <a:tc rowSpan="2">
                  <a:txBody>
                    <a:bodyPr lIns="46080" rIns="4608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caractéristiques de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liste et le statut des particip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ordre du jou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carnet d’adres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es annu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signalét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plan du si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procédure d’organ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équipements et supports d’affichag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 de commun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consignes de sécurité et d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mission des comptes rend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techn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 environnement numérique de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vail 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organisation logistique des réun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utils de gestion du tem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accueil des group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hénomènes de grou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yens de transmission de l’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règles et les enjeux de l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unication professionnell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écrits professionnels liés à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utils collaborati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nctionnalités bureautique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des de présentation des 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 rôle des acteurs et des partenaires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ns l’organ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 compte-rendu de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prise de notes, les abréviations, les sché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onfrontation de plusieurs prises de no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synthèse de 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paroles rapportées, les dialogues, la ci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modes et temps des verbes : le présent de l’indic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traintes de dates et de lie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Nombre important de participan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ensité des échan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daction du compte-rendu de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ccueil de participants étran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unions à dis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7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ification ou annulation de la date de la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ieu indisponi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vocations erron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faillance de particip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faillances matérielles et logist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COMPÉTEN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CRITÈRE</a:t>
                      </a:r>
                      <a:r>
                        <a:rPr b="1" lang="fr-FR" sz="1200" spc="-1" strike="noStrike">
                          <a:solidFill>
                            <a:srgbClr val="ca4b05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D’ÉVALU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RÉSULTATS</a:t>
                      </a:r>
                      <a:r>
                        <a:rPr b="1" lang="fr-FR" sz="1200" spc="-1" strike="noStrike">
                          <a:solidFill>
                            <a:srgbClr val="ca4b05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ATTENDUS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réunion se déroule dans les conditions attendues, avec les supports demandés, et les comptes rendus sont adressé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ser la logistique administrative d’une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ficacité dans l’organisation et le suivi de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3"/>
          <p:cNvSpPr/>
          <p:nvPr/>
        </p:nvSpPr>
        <p:spPr>
          <a:xfrm>
            <a:off x="468360" y="133560"/>
            <a:ext cx="828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3.2. Gestion des modes de travail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  </a:t>
            </a:r>
            <a:r>
              <a:rPr b="1" lang="fr-FR" sz="1200" spc="-1" strike="noStrike">
                <a:solidFill>
                  <a:srgbClr val="3b81bd"/>
                </a:solidFill>
                <a:latin typeface="Franklin Gothic Book"/>
                <a:ea typeface="Times New Roman"/>
              </a:rPr>
              <a:t>3.2.1. </a:t>
            </a:r>
            <a:r>
              <a:rPr b="1" lang="fr-FR" sz="1600" spc="-1" strike="noStrike">
                <a:solidFill>
                  <a:srgbClr val="3b81bd"/>
                </a:solidFill>
                <a:latin typeface="Franklin Gothic Book"/>
                <a:ea typeface="Times New Roman"/>
              </a:rPr>
              <a:t>ORGANISATION ET SUIVI DE RÉUNION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4" name="Bulle ronde 9"/>
          <p:cNvSpPr/>
          <p:nvPr/>
        </p:nvSpPr>
        <p:spPr>
          <a:xfrm>
            <a:off x="1714680" y="428760"/>
            <a:ext cx="2000160" cy="714240"/>
          </a:xfrm>
          <a:prstGeom prst="wedgeEllipseCallout">
            <a:avLst>
              <a:gd name="adj1" fmla="val 69828"/>
              <a:gd name="adj2" fmla="val -11574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Savoirs nécessaires à l’action, savoirs pragmatiques 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5" name="Bulle ronde 10"/>
          <p:cNvSpPr/>
          <p:nvPr/>
        </p:nvSpPr>
        <p:spPr>
          <a:xfrm>
            <a:off x="5000760" y="1357200"/>
            <a:ext cx="1357200" cy="571680"/>
          </a:xfrm>
          <a:prstGeom prst="wedgeEllipseCallout">
            <a:avLst>
              <a:gd name="adj1" fmla="val -74810"/>
              <a:gd name="adj2" fmla="val 31999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Approche managérial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Bulle ronde 11"/>
          <p:cNvSpPr/>
          <p:nvPr/>
        </p:nvSpPr>
        <p:spPr>
          <a:xfrm>
            <a:off x="5000760" y="3643200"/>
            <a:ext cx="2643120" cy="785880"/>
          </a:xfrm>
          <a:prstGeom prst="wedgeEllipseCallout">
            <a:avLst>
              <a:gd name="adj1" fmla="val -37615"/>
              <a:gd name="adj2" fmla="val -81111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fondements de l’activité professionnell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7" name="Bulle ronde 12"/>
          <p:cNvSpPr/>
          <p:nvPr/>
        </p:nvSpPr>
        <p:spPr>
          <a:xfrm>
            <a:off x="571680" y="3929040"/>
            <a:ext cx="2357280" cy="1143000"/>
          </a:xfrm>
          <a:prstGeom prst="wedgeEllipseCallout">
            <a:avLst>
              <a:gd name="adj1" fmla="val 50759"/>
              <a:gd name="adj2" fmla="val -43578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Maîtrise de la langue française, qualité de l’expression, 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gage de réussite  sociale et professionnell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3 – Gestion administrative intern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19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20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Espace réservé du contenu 2"/>
          <p:cNvSpPr/>
          <p:nvPr/>
        </p:nvSpPr>
        <p:spPr>
          <a:xfrm>
            <a:off x="4786200" y="2604960"/>
            <a:ext cx="4000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6a6a6"/>
                </a:solidFill>
                <a:latin typeface="Franklin Gothic Book"/>
                <a:ea typeface="Tunga"/>
              </a:rPr>
              <a:t>EN RÉSUMÉ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679a3"/>
                </a:solidFill>
                <a:latin typeface="Franklin Gothic Book"/>
                <a:ea typeface="Tunga"/>
              </a:rPr>
              <a:t>DES SITUATIONS DE TRAVAIL ANCRÉES      DANS UNE RÉALITÉ PROFESSIONNELLE   PARFOIS COMPLEXE, JAMAIS STATIQU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679a3"/>
                </a:solidFill>
                <a:latin typeface="Franklin Gothic Book"/>
                <a:ea typeface="Tunga"/>
              </a:rPr>
              <a:t>DES SITUATIONS PROFESSIONNELLES  ENGLOBANT PROCESSUS D’APPRENTISSAGE   ET DÉVELOPPEMENT PROFESSIONNEL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6760" y="365040"/>
            <a:ext cx="8572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’activité courante du gestionnaire administratif 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3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4" name="Espace réservé du numéro de diapositive 3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22A0-B7BD-40E4-B434-5D110409F07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5" name="Rectangle 4" descr=""/>
          <p:cNvPicPr/>
          <p:nvPr/>
        </p:nvPicPr>
        <p:blipFill>
          <a:blip r:embed="rId1"/>
          <a:stretch/>
        </p:blipFill>
        <p:spPr>
          <a:xfrm>
            <a:off x="706320" y="1328760"/>
            <a:ext cx="773136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 rot="19140000">
            <a:off x="784080" y="1576080"/>
            <a:ext cx="5213520" cy="10890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PÔLE 3 – GESTION ADMINISTRATIVE INTERN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749840" y="2619360"/>
            <a:ext cx="4037040" cy="33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6a6a6"/>
                </a:solidFill>
                <a:latin typeface="Franklin Gothic Book"/>
              </a:rPr>
              <a:t>Aptitude générale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679a3"/>
                </a:solidFill>
                <a:latin typeface="Franklin Gothic Book"/>
              </a:rPr>
              <a:t>Améliorer la productivité administrative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98520" y="2180880"/>
            <a:ext cx="579456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Espace réservé du pied de page 4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Espace réservé du numéro de diapositive 5"/>
          <p:cNvSpPr/>
          <p:nvPr/>
        </p:nvSpPr>
        <p:spPr>
          <a:xfrm>
            <a:off x="8400960" y="6202440"/>
            <a:ext cx="503280" cy="5032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C310-AD3A-4E68-A74B-442FA3F4C8C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e activité professionnelle évolutive 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2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Espace réservé du numéro de diapositive 3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00D8-F3BB-444A-8DE6-994F3E81E15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4" name="ZoneTexte 4"/>
          <p:cNvSpPr/>
          <p:nvPr/>
        </p:nvSpPr>
        <p:spPr>
          <a:xfrm>
            <a:off x="785880" y="1522440"/>
            <a:ext cx="757224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Les métiers administratifs sont par nature transversaux, tous les secteurs sont concernés. Le </a:t>
            </a:r>
            <a:r>
              <a:rPr b="0" lang="fr-FR" sz="2000" spc="-1" strike="noStrike">
                <a:solidFill>
                  <a:srgbClr val="ca4b05"/>
                </a:solidFill>
                <a:latin typeface="Franklin Gothic Book"/>
              </a:rPr>
              <a:t>caractère « situé » du référentiel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dans lequel chaque activité citée renvoie à des situations de travail réelles,  permet d’éviter une vision « diluée » du métier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Que l’organisation requiert une forte polyvalence, ou bien une spécialisation, </a:t>
            </a:r>
            <a:r>
              <a:rPr b="0" lang="fr-FR" sz="2000" spc="-1" strike="noStrike">
                <a:solidFill>
                  <a:srgbClr val="ca4b05"/>
                </a:solidFill>
                <a:latin typeface="Franklin Gothic Book"/>
              </a:rPr>
              <a:t>le gestionnaire administratif devra s’adapter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aux divers interlocuteurs, aux contextes et aux modes d’organisation du travail mis en place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Placé </a:t>
            </a:r>
            <a:r>
              <a:rPr b="0" lang="fr-FR" sz="2000" spc="-1" strike="noStrike">
                <a:solidFill>
                  <a:srgbClr val="ca4b05"/>
                </a:solidFill>
                <a:latin typeface="Franklin Gothic Book"/>
              </a:rPr>
              <a:t>au cœur d’un réseau relationnel très large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, il devra aussi intégrer dans son activité, les rôles, places et statuts de chacun</a:t>
            </a: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 rot="19140000">
            <a:off x="610920" y="1439280"/>
            <a:ext cx="5873760" cy="10890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14 SITUATIONS PROFESSIONNELLES</a:t>
            </a:r>
            <a:br>
              <a:rPr sz="2800"/>
            </a:b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 DE RÉFÉRENC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86" name="Espace réservé du contenu 2" descr=""/>
          <p:cNvPicPr/>
          <p:nvPr/>
        </p:nvPicPr>
        <p:blipFill>
          <a:blip r:embed="rId1"/>
          <a:stretch/>
        </p:blipFill>
        <p:spPr>
          <a:xfrm>
            <a:off x="4475160" y="2828880"/>
            <a:ext cx="4681440" cy="34624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2"/>
          <p:cNvSpPr>
            <a:spLocks noGrp="1"/>
          </p:cNvSpPr>
          <p:nvPr>
            <p:ph/>
          </p:nvPr>
        </p:nvSpPr>
        <p:spPr>
          <a:xfrm rot="19140000">
            <a:off x="1298160" y="2180880"/>
            <a:ext cx="579456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ffffff"/>
                </a:solidFill>
                <a:latin typeface="Franklin Gothic Book"/>
              </a:rPr>
              <a:t>POLE 3 GESTION ADMINISTRATIVE INTERNE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Espace réservé du pied de page 4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9" name="Espace réservé du numéro de diapositive 5"/>
          <p:cNvSpPr/>
          <p:nvPr/>
        </p:nvSpPr>
        <p:spPr>
          <a:xfrm>
            <a:off x="8400960" y="6202440"/>
            <a:ext cx="503280" cy="5032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E702-F99C-4E11-9C9B-6E727C55B31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85520" y="499680"/>
            <a:ext cx="7521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es information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56800" y="1642680"/>
            <a:ext cx="7643880" cy="21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buClr>
                <a:srgbClr val="ca4b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1.1 Collecte et recherche d’information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buClr>
                <a:srgbClr val="ca4b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1.2 Production d’informations structuré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buClr>
                <a:srgbClr val="ca4b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1.3 Organisation et mise à disposition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9570-13AD-4809-B7E0-6EF442057EB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Espace réservé du texte 4"/>
          <p:cNvSpPr/>
          <p:nvPr/>
        </p:nvSpPr>
        <p:spPr>
          <a:xfrm>
            <a:off x="785880" y="3573360"/>
            <a:ext cx="5929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22240" y="507600"/>
            <a:ext cx="75218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es modes de travai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63280" y="1356840"/>
            <a:ext cx="7566120" cy="30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1 Organisation et suivi de réunion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2 Gestion des flux de courrier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3 Gestion des flux téléphoniqu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4 Gestion d’espaces collaboratif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558D-3296-445C-81A2-860BBBB3452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Espace réservé du texte 4"/>
          <p:cNvSpPr/>
          <p:nvPr/>
        </p:nvSpPr>
        <p:spPr>
          <a:xfrm>
            <a:off x="785880" y="5000760"/>
            <a:ext cx="78580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42960" y="364680"/>
            <a:ext cx="850104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es espaces de travail et </a:t>
            </a:r>
            <a:br>
              <a:rPr sz="3200"/>
            </a:b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ressourc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14240" y="1714320"/>
            <a:ext cx="8143920" cy="45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1 Orientation et information des visiteur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2 Maintien opérationnel des postes de travail et aménagement des espac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3 Gestion des contrats de Maintenance, abonnements, licences informatiqu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4 Participation au suivi du budget de fonctionnement du service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5 Gestion des fournitures, consommables et petits équipements de bureau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2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7DDB-8E5B-43D5-81FD-045260A3805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Espace réservé du texte 4"/>
          <p:cNvSpPr/>
          <p:nvPr/>
        </p:nvSpPr>
        <p:spPr>
          <a:xfrm>
            <a:off x="785880" y="3214800"/>
            <a:ext cx="78580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Espace réservé du texte 4"/>
          <p:cNvSpPr/>
          <p:nvPr/>
        </p:nvSpPr>
        <p:spPr>
          <a:xfrm>
            <a:off x="785880" y="4143240"/>
            <a:ext cx="7858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85520" y="499680"/>
            <a:ext cx="7521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u temp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7705800" cy="15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4.1 Gestion des agenda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4.2 Planification et suivi des activité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8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8B27-2331-45BC-8C4D-693616D60AA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07:45:51Z</dcterms:created>
  <dc:creator>Isa</dc:creator>
  <dc:description/>
  <dc:language>en-US</dc:language>
  <cp:lastModifiedBy>Edith Simon</cp:lastModifiedBy>
  <dcterms:modified xsi:type="dcterms:W3CDTF">2011-10-25T19:10:11Z</dcterms:modified>
  <cp:revision>130</cp:revision>
  <dc:subject/>
  <dc:title>pôle 3 gestion administrative</dc:title>
</cp:coreProperties>
</file>