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4206-95BC-40BC-910D-AD3446A07A7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B46B-5269-4BEC-9802-585673A903E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830B-897F-4C68-B40E-6CB420163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7C1E-16DF-4175-8AFD-FD0281EE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AFEF-9AEF-4AA9-A001-C8728CA83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5FF7-FABC-4548-8B9F-8047EF4EC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689D-6DE4-4C3E-A3BF-03397B746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233B-ECE6-4745-8C47-DCE9DD03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6293-6CED-4274-94D5-33D42C9F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2C3F-1528-49AC-AA3E-41EDF222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0BDB-C541-4423-AEC4-E56AE845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2947-AFBF-4115-A26C-149FC0A1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ABE0-E33C-4B56-80C4-A38CF4A4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BAC8-E07A-47D6-890A-0ECBBDE3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DB6E-44C3-4D56-A514-825A1B0E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0FF5-1658-4E49-9E88-4045EF47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BA3E-C0AC-4B77-9B01-BD6D257B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CC98D-DD7F-49EB-A678-095A22581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109A-294E-485D-A069-536D18A3B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84ECE-3BF8-41D6-A0A2-4E9A13CCC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9AA90-ECC1-4584-BA7C-67240954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4E78B-31A9-416B-B45F-439C4A90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B876E-C585-4DEF-8111-38F1530C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B73C4-B486-42AC-A47D-C5D22D5E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2D8A-1992-49AB-A2F7-3B399C48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99DD5-ADF6-4C0F-8A7C-CEAFD5373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7BD08-C606-43A6-BC1C-373FA26B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B68D3-102A-4033-8DB1-92049516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74F83-FD4E-427E-A443-75AFD2E7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622A7-C616-4466-A223-F5E0F5FC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7D50E-2D77-4666-A1A7-BFA5E88DC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FCABB-1827-4F9B-9AE3-5388714EF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5C5B2-6357-4503-87FF-C7ED27304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CBC7A-D3A8-422A-9B1F-B081B8E7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232A3-A3B2-45C0-BB5A-7D5691FB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9F5B-0205-4DCC-BD66-5BB10AC9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40185-CC83-49B3-A450-0D18395E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2FEE8-B106-457A-B686-343BC580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A3E66-64DD-4FDE-BC56-6829A542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CDB13-BFD3-4F10-990F-E3336321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31A6A-DB69-4B2D-AFF3-F3503B52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41F75-78E2-4ED7-B2F4-CA2EC633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92F90-98F6-4297-B595-F1D70D4A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4DD9F-98DC-4EF1-8AD7-32E41E3E1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CC49E-D68D-4619-9F0A-1B321A8D6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DB948-952A-4F31-883B-D66EBB2EE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32C4-4EFA-4DFB-A2B6-111C1C59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564D9-C235-404C-97F3-085A9A86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6B484-D7CD-4F34-B838-182C8B43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D0891-7964-4D1F-AAF0-6D14C03E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CA4CE-79E2-4EB4-9E61-6597143D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58C90-D5C3-4763-A78E-0AA73D5E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9D240-E823-4B8F-8823-A1B8002E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5D31E-4A96-4393-9FE3-395D7021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6F5F2-0C87-4D45-8EE4-3729309A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CF6BD-7F1D-4433-BE6F-0C1C9F0F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8FCA6-CEDB-4AED-B02F-B861295CC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9E70-EA82-446F-AFF5-6CD55C45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D85E7-038D-4E7F-BE67-9B363E8F7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6E4E1-E110-491F-99E7-09D86C3F0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478FD-DABC-4BC3-BFBB-292525DE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852C7-56DC-4FBB-B57A-1BF8C52B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3A5FE-7D09-40F8-A311-0F52CC3F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9E809-A8FE-4D4B-A447-F49D1A66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4E73D-4024-4ED8-A8E1-591E6937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8C5B0-8163-4A1B-90CA-D7F27F0B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CC12A-A0CD-4CD0-82A7-793BBF41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E6D35-91B7-450F-A95E-FE57945B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90D1-AC8A-4906-B2F8-48BB620D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9BECB-68AD-4E41-A7E2-399CA428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F0054-1BE4-4D09-B40E-13334F2D1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32AD0-968D-46A2-8A04-053A32B2C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C449-52B1-4CCD-9207-CD7B7A18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6A9D-4BFD-4EC0-B033-6BFC0E3E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C3FB-15F6-46F5-AEE3-68360596F4E2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E0E7-2C75-4D2E-B003-965EDCC09BD7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" name="Picture 2" descr="E:\Mes docs\DD_Paris\AL\2010_2011\BTS_SIO\MENJVA_LOGO_Q.gif"/>
          <p:cNvPicPr/>
          <p:nvPr/>
        </p:nvPicPr>
        <p:blipFill>
          <a:blip r:embed="rId2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DAB5-DD89-4BAF-B5FB-C66815AF0043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3E6D-EAD4-4BB9-9228-CBA7F78F4F0A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052B-23EF-408D-AADD-3D30EF285886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7F5F-0663-4C80-A829-D27E4453C2DB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6D39-3FC6-40AD-9504-5AAB21766E65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D484-8FA6-45B9-B521-B7CE93D710F8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F3CA-1AB7-479A-8EA3-1C82D3AD10AB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E22B-9665-461B-81A1-0190D6FA3095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C424-5F8B-4D16-8BB8-BB787836CC27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CD0D-201E-469F-8F03-01D99A4578CE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3 - Gestion administrative intern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 rot="19126800">
            <a:off x="1416960" y="2542680"/>
            <a:ext cx="756108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28374a"/>
                </a:solidFill>
                <a:latin typeface="Franklin Gothic Book"/>
                <a:ea typeface="Tunga"/>
              </a:rPr>
              <a:t>BACCALAURÉAT PROFESSIONNEL GESTION -ADMINISTRATION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270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271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F645-65A6-4D24-BBB5-9B28742BEF5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285840" y="479520"/>
          <a:ext cx="8572320" cy="5675040"/>
        </p:xfrm>
        <a:graphic>
          <a:graphicData uri="http://schemas.openxmlformats.org/drawingml/2006/table">
            <a:tbl>
              <a:tblPr/>
              <a:tblGrid>
                <a:gridCol w="2647800"/>
                <a:gridCol w="3332160"/>
                <a:gridCol w="2592360"/>
              </a:tblGrid>
              <a:tr h="52524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DONNÉES DE LA SITU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SAVOIR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SSOCIÉ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PERFORMANCE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TTEND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387440">
                <a:tc rowSpan="2">
                  <a:txBody>
                    <a:bodyPr lIns="46080" rIns="4608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caractéristiques de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liste et le statut des particip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ordre du jou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carnet d’adres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s annu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signalét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plan du si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procédure d’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équipements et supports d’affichag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 de commun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consignes de sécurité et d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mission des comptes rend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techn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 environnement numérique de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vail 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organisation logistique des réun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utils de gestion du tem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accueil des group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hénomènes de grou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yens de transmission de l’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règles et les enjeux de l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unication professionnell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écrits professionnels liés à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utils collaborati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nctionnalités bureautique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es de présentation des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 rôle des acteurs et des partenaires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ns l’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 compte-rendu d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prise de notes, les abréviations, les sché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onfrontation de plusieurs prises de no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synthèse de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paroles rapportées, les dialogues, la ci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modes et temps des verbes : le présent de l’indic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traintes de dates et de lie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Nombre important de participan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nsité des échan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daction du compte-rendu d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cueil de participants étran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unions à dis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7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ification ou annulation de la date de la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ieu indisponi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vocations erro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faillance de particip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faillances matérielles et logist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COMPÉTEN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CRITÈRE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D’ÉVALU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RÉSULTATS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TTENDUS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réunion se déroule dans les conditions attendues, avec les supports demandés, et les comptes rendus sont adressé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ser la logistique administrative d’un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ficacité dans l’organisation et le suivi de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3"/>
          <p:cNvSpPr/>
          <p:nvPr/>
        </p:nvSpPr>
        <p:spPr>
          <a:xfrm>
            <a:off x="468360" y="133560"/>
            <a:ext cx="82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3.2. Gestion des modes de travail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  </a:t>
            </a:r>
            <a:r>
              <a:rPr b="1" lang="fr-FR" sz="1200" spc="-1" strike="noStrike">
                <a:solidFill>
                  <a:srgbClr val="3b81bd"/>
                </a:solidFill>
                <a:latin typeface="Franklin Gothic Book"/>
                <a:ea typeface="Times New Roman"/>
              </a:rPr>
              <a:t>3.2.1. </a:t>
            </a:r>
            <a:r>
              <a:rPr b="1" lang="fr-FR" sz="1600" spc="-1" strike="noStrike">
                <a:solidFill>
                  <a:srgbClr val="3b81bd"/>
                </a:solidFill>
                <a:latin typeface="Franklin Gothic Book"/>
                <a:ea typeface="Times New Roman"/>
              </a:rPr>
              <a:t>ORGANISATION ET SUIVI DE RÉUNION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4" name="Bulle ronde 9"/>
          <p:cNvSpPr/>
          <p:nvPr/>
        </p:nvSpPr>
        <p:spPr>
          <a:xfrm>
            <a:off x="1714680" y="428760"/>
            <a:ext cx="2000160" cy="714240"/>
          </a:xfrm>
          <a:prstGeom prst="wedgeEllipseCallout">
            <a:avLst>
              <a:gd name="adj1" fmla="val 69828"/>
              <a:gd name="adj2" fmla="val -11574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Savoirs nécessaires à l’action, savoirs pragmatiques 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Bulle ronde 10"/>
          <p:cNvSpPr/>
          <p:nvPr/>
        </p:nvSpPr>
        <p:spPr>
          <a:xfrm>
            <a:off x="5000760" y="1357200"/>
            <a:ext cx="1357200" cy="571680"/>
          </a:xfrm>
          <a:prstGeom prst="wedgeEllipseCallout">
            <a:avLst>
              <a:gd name="adj1" fmla="val -74810"/>
              <a:gd name="adj2" fmla="val 31999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Approche managéria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Bulle ronde 11"/>
          <p:cNvSpPr/>
          <p:nvPr/>
        </p:nvSpPr>
        <p:spPr>
          <a:xfrm>
            <a:off x="5000760" y="3643200"/>
            <a:ext cx="2643120" cy="785880"/>
          </a:xfrm>
          <a:prstGeom prst="wedgeEllipseCallout">
            <a:avLst>
              <a:gd name="adj1" fmla="val -37615"/>
              <a:gd name="adj2" fmla="val -81111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fondements de l’activité professionnel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7" name="Bulle ronde 12"/>
          <p:cNvSpPr/>
          <p:nvPr/>
        </p:nvSpPr>
        <p:spPr>
          <a:xfrm>
            <a:off x="571680" y="3929040"/>
            <a:ext cx="2357280" cy="1143000"/>
          </a:xfrm>
          <a:prstGeom prst="wedgeEllipseCallout">
            <a:avLst>
              <a:gd name="adj1" fmla="val 50759"/>
              <a:gd name="adj2" fmla="val -43578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Maîtrise de la langue française, qualité de l’expression, 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gage de réussite  sociale et professionnel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3 – Gestion administrative intern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19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20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Espace réservé du contenu 2"/>
          <p:cNvSpPr/>
          <p:nvPr/>
        </p:nvSpPr>
        <p:spPr>
          <a:xfrm>
            <a:off x="4786200" y="2604960"/>
            <a:ext cx="4000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6a6a6"/>
                </a:solidFill>
                <a:latin typeface="Franklin Gothic Book"/>
                <a:ea typeface="Tunga"/>
              </a:rPr>
              <a:t>EN RÉSUMÉ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679a3"/>
                </a:solidFill>
                <a:latin typeface="Franklin Gothic Book"/>
                <a:ea typeface="Tunga"/>
              </a:rPr>
              <a:t>DES SITUATIONS DE TRAVAIL ANCRÉES      DANS UNE RÉALITÉ PROFESSIONNELLE   PARFOIS COMPLEXE, JAMAIS STATIQU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679a3"/>
                </a:solidFill>
                <a:latin typeface="Franklin Gothic Book"/>
                <a:ea typeface="Tunga"/>
              </a:rPr>
              <a:t>DES SITUATIONS PROFESSIONNELLES  ENGLOBANT PROCESSUS D’APPRENTISSAGE   ET DÉVELOPPEMENT PROFESSIONNEL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6760" y="365040"/>
            <a:ext cx="8572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’activité courante du gestionnaire administratif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3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Espace réservé du numéro de diapositive 3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C6BC-158F-4BC7-B603-735E6108997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5" name="Rectangle 4" descr=""/>
          <p:cNvPicPr/>
          <p:nvPr/>
        </p:nvPicPr>
        <p:blipFill>
          <a:blip r:embed="rId1"/>
          <a:stretch/>
        </p:blipFill>
        <p:spPr>
          <a:xfrm>
            <a:off x="706320" y="1328760"/>
            <a:ext cx="773136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 rot="19140000">
            <a:off x="784080" y="1576080"/>
            <a:ext cx="5213520" cy="10890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PÔLE 3 – GESTION ADMINISTRATIVE INTERN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749840" y="2619360"/>
            <a:ext cx="4037040" cy="33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6a6a6"/>
                </a:solidFill>
                <a:latin typeface="Franklin Gothic Book"/>
              </a:rPr>
              <a:t>Aptitude général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679a3"/>
                </a:solidFill>
                <a:latin typeface="Franklin Gothic Book"/>
              </a:rPr>
              <a:t>Améliorer la productivité administrativ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98520" y="2180880"/>
            <a:ext cx="579456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Espace réservé du pied de page 4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Espace réservé du numéro de diapositive 5"/>
          <p:cNvSpPr/>
          <p:nvPr/>
        </p:nvSpPr>
        <p:spPr>
          <a:xfrm>
            <a:off x="8400960" y="6202440"/>
            <a:ext cx="503280" cy="5032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5300-CBC4-41BC-B289-7A6F1CF30BE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e activité professionnelle évolutive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2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Espace réservé du numéro de diapositive 3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C8A4-B758-425F-8E10-602F5AF687D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ZoneTexte 4"/>
          <p:cNvSpPr/>
          <p:nvPr/>
        </p:nvSpPr>
        <p:spPr>
          <a:xfrm>
            <a:off x="785880" y="1522440"/>
            <a:ext cx="757224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Les métiers administratifs sont par nature transversaux, tous les secteurs sont concernés. Le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caractère « situé » du référentiel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dans lequel chaque activité citée renvoie à des situations de travail réelles,  permet d’éviter une vision « diluée » du métier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Que l’organisation requiert une forte polyvalence, ou bien une spécialisation,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le gestionnaire administratif devra s’adapter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aux divers interlocuteurs, aux contextes et aux modes d’organisation du travail mis en place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Placé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au cœur d’un réseau relationnel très large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, il devra aussi intégrer dans son activité, les rôles, places et statuts de chacun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 rot="19140000">
            <a:off x="610920" y="1439280"/>
            <a:ext cx="5873760" cy="10890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14 SITUATIONS PROFESSIONNELLES</a:t>
            </a:r>
            <a:br>
              <a:rPr sz="2800"/>
            </a:b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 DE RÉFÉRENC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86" name="Espace réservé du contenu 2" descr=""/>
          <p:cNvPicPr/>
          <p:nvPr/>
        </p:nvPicPr>
        <p:blipFill>
          <a:blip r:embed="rId1"/>
          <a:stretch/>
        </p:blipFill>
        <p:spPr>
          <a:xfrm>
            <a:off x="4475160" y="2828880"/>
            <a:ext cx="4681440" cy="34624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/>
          </p:nvPr>
        </p:nvSpPr>
        <p:spPr>
          <a:xfrm rot="19140000">
            <a:off x="1298160" y="2180880"/>
            <a:ext cx="579456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ffff"/>
                </a:solidFill>
                <a:latin typeface="Franklin Gothic Book"/>
              </a:rPr>
              <a:t>POLE 3 GESTION ADMINISTRATIVE INTERNE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Espace réservé du pied de page 4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9" name="Espace réservé du numéro de diapositive 5"/>
          <p:cNvSpPr/>
          <p:nvPr/>
        </p:nvSpPr>
        <p:spPr>
          <a:xfrm>
            <a:off x="8400960" y="6202440"/>
            <a:ext cx="503280" cy="5032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15A7F-A110-4E1D-99DA-1B7DCC9A3E3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85520" y="499680"/>
            <a:ext cx="7521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information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56800" y="1642680"/>
            <a:ext cx="7643880" cy="21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1 Collecte et recherche d’information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2 Production d’informations structuré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3 Organisation et mise à disposition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D808-1BC9-44A1-8CAD-7C4AA4BF834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Espace réservé du texte 4"/>
          <p:cNvSpPr/>
          <p:nvPr/>
        </p:nvSpPr>
        <p:spPr>
          <a:xfrm>
            <a:off x="785880" y="3573360"/>
            <a:ext cx="5929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2240" y="507600"/>
            <a:ext cx="75218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modes de travai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63280" y="1356840"/>
            <a:ext cx="7566120" cy="30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1 Organisation et suivi de réunion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2 Gestion des flux de courrier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3 Gestion des flux téléphoniqu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4 Gestion d’espaces collaboratif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31A1-F5B0-42C0-AB6C-39D718AACD7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Espace réservé du texte 4"/>
          <p:cNvSpPr/>
          <p:nvPr/>
        </p:nvSpPr>
        <p:spPr>
          <a:xfrm>
            <a:off x="785880" y="5000760"/>
            <a:ext cx="7858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42960" y="364680"/>
            <a:ext cx="850104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espaces de travail et </a:t>
            </a:r>
            <a:br>
              <a:rPr sz="3200"/>
            </a:b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ressourc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14240" y="1714320"/>
            <a:ext cx="8143920" cy="45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1 Orientation et information des visiteur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2 Maintien opérationnel des postes de travail et aménagement des espac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3 Gestion des contrats de Maintenance, abonnements, licences informatiqu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4 Participation au suivi du budget de fonctionnement du service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5 Gestion des fournitures, consommables et petits équipements de bureau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2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AF9D-3FFE-48F5-8933-09FF784DC90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Espace réservé du texte 4"/>
          <p:cNvSpPr/>
          <p:nvPr/>
        </p:nvSpPr>
        <p:spPr>
          <a:xfrm>
            <a:off x="785880" y="3214800"/>
            <a:ext cx="7858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Espace réservé du texte 4"/>
          <p:cNvSpPr/>
          <p:nvPr/>
        </p:nvSpPr>
        <p:spPr>
          <a:xfrm>
            <a:off x="785880" y="4143240"/>
            <a:ext cx="7858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85520" y="499680"/>
            <a:ext cx="7521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u temp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7705800" cy="15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4.1 Gestion des agenda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4.2 Planification et suivi des activité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8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B561-5625-43AB-98D1-73D763B1EEF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07:45:51Z</dcterms:created>
  <dc:creator>Isa</dc:creator>
  <dc:description/>
  <dc:language>en-US</dc:language>
  <cp:lastModifiedBy>Edith Simon</cp:lastModifiedBy>
  <dcterms:modified xsi:type="dcterms:W3CDTF">2011-10-25T19:10:11Z</dcterms:modified>
  <cp:revision>130</cp:revision>
  <dc:subject/>
  <dc:title>pôle 3 gestion administrative</dc:title>
</cp:coreProperties>
</file>