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2577F-A2FE-478D-A976-B3C948515CE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05976-CD40-45E4-BB7D-3F9B8B9BA82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DB96-292A-4C12-92D3-75B92F3CF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5682-8C47-4A62-B68C-0A460AF4A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F17D2C-1073-4C28-BD9A-E43DCC3A9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6E41AF-5AC2-4C99-8418-6011C04F5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822240" y="-42984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algn="ctr">
              <a:spcBef>
                <a:spcPts val="799"/>
              </a:spcBef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842B39-36A1-4381-90B1-427BDF1FD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2645FF-4BB0-42F9-AFFF-B0FDF7830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159CD0-A0C0-4802-853E-1B85EC718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4D3F83-B757-4906-8242-E5D900CA7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AFA528-07F7-4EED-915C-DAF663012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8E2E75-0EA3-4AD6-9AE6-7EA03EB14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421998-6BBC-4DD8-AE2E-C3F3E43F1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7552-5707-4205-840E-A77B93CE0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DDE5-93B2-449E-BF60-AD2D3C1AE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83BA5-A5D2-40F6-AD24-9027B1AAF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82152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5FAA5-0FDC-4E6F-BCC1-33A692FA0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9C20F-C708-4C65-8519-1DB5FAE8A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68BA0-5652-46CC-AFDE-D6D23B83B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FCD9A-8465-45DF-97C2-9A65E5A96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-42984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algn="ctr">
              <a:spcBef>
                <a:spcPts val="799"/>
              </a:spcBef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FA2BA-195E-4EAD-BD5E-3BCF3F26E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A75A1-5993-4EBD-BA62-63B494C7E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82152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6853-757B-4BD1-999D-813DEEC73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95043-F19E-44A1-9AAB-FABDB865B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33ED7-D14B-4F60-A9D2-C353C0335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CCA1C-6B9C-46B4-9AEE-A9EB65A4C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84592-6C1A-4F82-9711-89FE62775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0C81E-B192-4632-A063-BDCAD245D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BC4D40-0E08-4781-BF4B-AE64564E1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82152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12C6B3-FEED-4503-AB6C-16F03D4E7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51B720-C473-4082-B1C4-36C04FAE4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4E9B09-DFA4-4390-A3FF-36F0882A1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B2A3DA-93C1-4B4E-81EE-91C1A71F8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E01A-5C38-4ED6-80DD-5F76005F4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-42984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algn="ctr">
              <a:spcBef>
                <a:spcPts val="799"/>
              </a:spcBef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24634E-8375-49A2-AFB4-9B00C4390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D7DA6D-7CA4-46E7-B79A-D8E3CB896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1FABBB-EBF6-4FBA-B5DA-0B0D626BB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FC9765-2056-4D61-B6D8-51BF24607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8EFBC1-F7B9-474C-A0F7-497098E22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055101-B055-4792-839D-9E41D3098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DCCDF8-FFDC-4F7E-8137-233777B48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387885-3E47-4ABA-9847-6623548B2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82152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B644F4-FB8B-4D5B-9D64-CFBA345BB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4508EA-D2F5-4095-AAD5-BA53D700F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A0FC-0E63-4D4A-9372-CB38AF8D4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1023D2-D720-4EF1-9DFC-ABABEF5D3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B79E37-FF52-4C24-9EEA-50D601A06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-42984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algn="ctr">
              <a:spcBef>
                <a:spcPts val="799"/>
              </a:spcBef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A24A59-3BFE-4AB9-AC56-706C9495E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83F266-4911-4D2E-8E4F-4978289EA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EE794C-B187-42BF-8547-4A8754714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E4BC2D-1BBF-4109-A429-ED1D9F8AF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9D684A-487E-4CFB-B1BF-E80435904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42B6EC-6AC3-4CB4-8AF2-38FA22AB3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D3C2BA-956E-4245-AAE9-E180E11DE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BA017F-89C1-46EF-8C93-5DA8D2851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CCA1-77CC-4B50-97ED-FA27812AD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82152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F92B45-DF7A-4520-8DD7-E224AAC92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2580BC-0518-45CD-9844-FE3B84315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D34003-F818-4BEE-A42E-650C6401B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71FB6B-42FD-438F-8F82-F712FECA0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-42984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algn="ctr">
              <a:spcBef>
                <a:spcPts val="799"/>
              </a:spcBef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407C87-94A0-4320-A75A-B0D7E19AD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2BCF91-EBE7-49DA-BC38-A5E3E9342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86340E-5463-4F9B-B0B5-BF4A86315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2CFE8E-283D-4970-8327-A3089E3D3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BCB750-9662-4D78-A4C6-A25EAF685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078FDC-31C4-495E-AC90-1FC9CF1EF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-42984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algn="ctr">
              <a:spcBef>
                <a:spcPts val="799"/>
              </a:spcBef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8571-9A88-4737-942E-2337D5AA0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B4345F-756B-4786-B541-848D3656D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8A0111-DDF9-4FA2-9271-C49F82284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822240" y="82152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9A78EE-10D6-4EB5-8376-25793084B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D06A0E-CAED-42F5-9F30-95223D4C6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6484E6-6D00-4568-B49F-64BA46E0F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6ED624-942B-4EF6-81B8-90CA8BD93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822240" y="-42984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algn="ctr">
              <a:spcBef>
                <a:spcPts val="799"/>
              </a:spcBef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65FE98-EA4A-4CCE-87B0-7C2E659F5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BDF756-4257-46FE-91A2-6F6A67B6D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E7D6BC-CCD8-4ED2-90CD-71B80E7BD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4A61B9-F906-45DC-A34B-4AED55201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A10D-FCB9-42EC-9E2F-F783435B7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DAB189-FF44-4134-B1B9-3FC99D70C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215514-A181-4061-BFD0-377D88571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C1F7B1-D5FC-48DF-9050-5A60F00E5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DE5C1C-1AC2-4501-B909-12F7373C7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822240" y="82152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4F16C3-767F-4D06-8435-A4D39521B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5C9FF9-5E36-45CF-8B57-751276126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7E0E4F-CC82-4169-90EE-EC9B8926B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BF2C01-FB05-4545-A604-650CE0FA7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822240" y="-42984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algn="ctr">
              <a:spcBef>
                <a:spcPts val="799"/>
              </a:spcBef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573EF0-54D0-493E-B936-80B3964F5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ED37B8-CC33-467F-917B-4D545BD6B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FF4F-D77B-4050-B72C-B7BA85CDF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8EC620-83D2-47D1-8EFD-331EC0C2C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3A9A33-7E45-45D8-9322-995F15C43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883044-2DB5-4404-BE16-5572C4030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E62F8F-28B3-41F7-827A-9ADFE3DD4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E537CE-BF6F-48AB-9F80-D302D246A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45630C-7FA2-4250-B051-0015F502E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822240" y="82152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05AB62-F40F-417F-B1C2-8A48E520E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77F254-E0E2-4573-BA7D-47225CE81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341688-20A8-4D3E-9739-6A2DB5FAF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4E7652-39EF-43D1-B13C-97BBBA931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0FDB-E766-443C-A2B3-97BB359C9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822240" y="-42984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algn="ctr">
              <a:spcBef>
                <a:spcPts val="799"/>
              </a:spcBef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71EF0A-FFB9-48F0-BB10-EFB87252A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4EB89A-C785-48A9-9D2E-61A342F9A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EEA016-0F01-4C68-8014-76546F42C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5B1EE5-F5ED-41FA-A3D5-C657CDB40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D76A2C-BF1C-4927-884A-CAE8CCCF5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CDB38A-AFA5-46C4-B0FD-088A6B756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6E2CA0-AF1C-4A4C-9340-0EC549FB0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8D48DF-1DC9-4C98-8FE4-CD11D12B5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822240" y="82152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12CE5C-77B3-4C4E-9E7F-4455BD00D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488F95-3A5A-4A8E-A8AA-F9F4A0269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F14B3-74E3-4A26-A267-1FB7D96234F8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133360" y="6400440"/>
            <a:ext cx="60958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0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fr-FR" sz="800" spc="-1" strike="noStrike">
                <a:solidFill>
                  <a:srgbClr val="ff0000"/>
                </a:solidFill>
                <a:latin typeface="Times New Roman"/>
              </a:rPr>
              <a:t>ES</a:t>
            </a:r>
            <a:r>
              <a:rPr b="1" lang="fr-FR" sz="1000" spc="-1" strike="noStrike">
                <a:solidFill>
                  <a:srgbClr val="ff0000"/>
                </a:solidFill>
                <a:latin typeface="Times New Roman"/>
              </a:rPr>
              <a:t> P</a:t>
            </a:r>
            <a:r>
              <a:rPr b="1" lang="fr-FR" sz="800" spc="-1" strike="noStrike">
                <a:solidFill>
                  <a:srgbClr val="ff0000"/>
                </a:solidFill>
                <a:latin typeface="Times New Roman"/>
              </a:rPr>
              <a:t>ÉRIODES DE</a:t>
            </a:r>
            <a:r>
              <a:rPr b="1" lang="fr-FR" sz="1000" spc="-1" strike="noStrike">
                <a:solidFill>
                  <a:srgbClr val="ff0000"/>
                </a:solidFill>
                <a:latin typeface="Times New Roman"/>
              </a:rPr>
              <a:t> F</a:t>
            </a:r>
            <a:r>
              <a:rPr b="1" lang="fr-FR" sz="800" spc="-1" strike="noStrike">
                <a:solidFill>
                  <a:srgbClr val="ff0000"/>
                </a:solidFill>
                <a:latin typeface="Times New Roman"/>
              </a:rPr>
              <a:t>ORMATION EN</a:t>
            </a:r>
            <a:r>
              <a:rPr b="1" lang="fr-FR" sz="1000" spc="-1" strike="noStrike">
                <a:solidFill>
                  <a:srgbClr val="ff0000"/>
                </a:solidFill>
                <a:latin typeface="Times New Roman"/>
              </a:rPr>
              <a:t> M</a:t>
            </a:r>
            <a:r>
              <a:rPr b="1" lang="fr-FR" sz="800" spc="-1" strike="noStrike">
                <a:solidFill>
                  <a:srgbClr val="ff0000"/>
                </a:solidFill>
                <a:latin typeface="Times New Roman"/>
              </a:rPr>
              <a:t>ILIEU</a:t>
            </a:r>
            <a:r>
              <a:rPr b="1" lang="fr-FR" sz="1000" spc="-1" strike="noStrike">
                <a:solidFill>
                  <a:srgbClr val="ff0000"/>
                </a:solidFill>
                <a:latin typeface="Times New Roman"/>
              </a:rPr>
              <a:t> P</a:t>
            </a:r>
            <a:r>
              <a:rPr b="1" lang="fr-FR" sz="800" spc="-1" strike="noStrike">
                <a:solidFill>
                  <a:srgbClr val="ff0000"/>
                </a:solidFill>
                <a:latin typeface="Times New Roman"/>
              </a:rPr>
              <a:t>ROFESSIONNEL</a:t>
            </a: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     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C97C0-A69C-455A-AD4A-8187D8C05029}" type="slidenum">
              <a:rPr b="0" lang="fr-F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b6c5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dae2eb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048200">
            <a:off x="509040" y="5835240"/>
            <a:ext cx="161604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4ADFC-9B8F-4B3D-8999-9C3B405F93C6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133360" y="6400440"/>
            <a:ext cx="60958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600" spc="-1" strike="noStrike">
                <a:solidFill>
                  <a:srgbClr val="28374a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Times New Roman"/>
                <a:ea typeface="Calibri"/>
              </a:rPr>
              <a:t>PNP - Poitiers - 13 &amp; 14 octobre 2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3B9E4-1B8C-44BD-8777-7BA12C853993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7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7D167-B1AF-43EF-A017-10FE0C31B401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133360" y="6400440"/>
            <a:ext cx="60958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0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Times New Roman"/>
              </a:rPr>
              <a:t>PÔLE 4 – GESTION ADMINISTRATIVE DES PROJETS</a:t>
            </a:r>
            <a:r>
              <a:rPr b="0" lang="fr-FR" sz="1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-  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64680" y="6483600"/>
            <a:ext cx="309960" cy="24696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70F6D-EB2F-4F94-BCB3-9A64F652E5B0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0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E5C83-FC5A-4EEC-9E82-7C29433F75F7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2133360" y="6400440"/>
            <a:ext cx="60958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0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Times New Roman"/>
              </a:rPr>
              <a:t>PÔLE 4 – GESTION ADMINISTRATIVE DES PROJETS</a:t>
            </a:r>
            <a:r>
              <a:rPr b="0" lang="fr-FR" sz="1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-  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64680" y="6456600"/>
            <a:ext cx="309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238B3-7361-45CD-A527-DD9CC8A8C689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3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CE743-106C-4A76-8DCB-2B879438E502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133360" y="6400440"/>
            <a:ext cx="60958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0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Times New Roman"/>
              </a:rPr>
              <a:t>PÔLE 4 – GESTION ADMINISTRATIVE DES PROJETS</a:t>
            </a:r>
            <a:r>
              <a:rPr b="0" lang="fr-FR" sz="1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-  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64680" y="6456600"/>
            <a:ext cx="309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26EEE-F060-477C-9A77-A1D214D804BD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6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55D21-1249-4700-97C9-F0C6C5804235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2133360" y="6400440"/>
            <a:ext cx="60958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0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Times New Roman"/>
              </a:rPr>
              <a:t>PÔLE 4 – GESTION ADMINISTRATIVE DES PROJETS</a:t>
            </a:r>
            <a:r>
              <a:rPr b="0" lang="fr-FR" sz="1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-  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8541000" y="6483600"/>
            <a:ext cx="309960" cy="24696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91211-AE5D-4DEA-9DF8-35824C37305B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9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0BB81-5373-4902-B5F7-C9B1748EB711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2133360" y="6400440"/>
            <a:ext cx="60958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0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Times New Roman"/>
              </a:rPr>
              <a:t>PÔLE 4 – GESTION ADMINISTRATIVE DES PROJETS</a:t>
            </a:r>
            <a:r>
              <a:rPr b="0" lang="fr-FR" sz="1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-  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529840" y="6456600"/>
            <a:ext cx="255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970AA-3211-419F-8CB9-712ED7EFE29C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ight Triangle 1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2" name="Right Triangle 17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 rot="19183200">
            <a:off x="612000" y="5903640"/>
            <a:ext cx="1368360" cy="2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AC12B-71DC-4693-8624-93066CF67936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2133360" y="6400440"/>
            <a:ext cx="60958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0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Times New Roman"/>
              </a:rPr>
              <a:t>PÔLE 4 – GESTION ADMINISTRATIVE DES PROJETS</a:t>
            </a:r>
            <a:r>
              <a:rPr b="0" lang="fr-FR" sz="1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fr-FR" sz="1000" spc="-1" strike="noStrike">
                <a:solidFill>
                  <a:srgbClr val="434342"/>
                </a:solidFill>
                <a:latin typeface="Times New Roman"/>
              </a:rPr>
              <a:t>-  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8474400" y="6275880"/>
            <a:ext cx="356400" cy="35640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D67B7-03EC-42DE-8C76-14CDFF74B150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5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5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AEA8F-CE0F-45B9-A212-8F55988B9A25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6"/>
          </p:nvPr>
        </p:nvSpPr>
        <p:spPr>
          <a:xfrm>
            <a:off x="2133360" y="6400440"/>
            <a:ext cx="60958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27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2BF31-6793-4BFD-AEB1-8C7648CFD9BA}" type="slidenum">
              <a:rPr b="0" lang="fr-F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 rot="19107000">
            <a:off x="801360" y="1817280"/>
            <a:ext cx="6294240" cy="12034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Les Périodes de Formation</a:t>
            </a:r>
            <a:br>
              <a:rPr sz="3600"/>
            </a:b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 en Milieu Professionnel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 rot="19126800">
            <a:off x="1645560" y="3153960"/>
            <a:ext cx="5708520" cy="39852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  <a:ea typeface="Tunga"/>
              </a:rPr>
              <a:t>PROGRAMME NATIONAL DE PILOTAGE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pic>
        <p:nvPicPr>
          <p:cNvPr id="396" name="Picture 2" descr="E:\Mes docs\DD_Paris\AL\2010_2011\BTS_SIO\MENJVA_LOGO_Q.gif"/>
          <p:cNvPicPr/>
          <p:nvPr/>
        </p:nvPicPr>
        <p:blipFill>
          <a:blip r:embed="rId1"/>
          <a:stretch/>
        </p:blipFill>
        <p:spPr>
          <a:xfrm>
            <a:off x="108000" y="333360"/>
            <a:ext cx="2143080" cy="1981080"/>
          </a:xfrm>
          <a:prstGeom prst="rect">
            <a:avLst/>
          </a:prstGeom>
          <a:ln w="0">
            <a:noFill/>
          </a:ln>
        </p:spPr>
      </p:pic>
      <p:sp>
        <p:nvSpPr>
          <p:cNvPr id="397" name="Sous-titre 2"/>
          <p:cNvSpPr/>
          <p:nvPr/>
        </p:nvSpPr>
        <p:spPr>
          <a:xfrm>
            <a:off x="4140360" y="6265800"/>
            <a:ext cx="4368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Calibri"/>
                <a:ea typeface="Calibri"/>
              </a:rPr>
              <a:t>Poitiers – 13 &amp; 14 octobre 2011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Objectifs et principe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826560" y="1341360"/>
            <a:ext cx="79930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8374a"/>
                </a:solidFill>
                <a:latin typeface="Franklin Gothic Book"/>
              </a:rPr>
              <a:t>Les périodes de formation en milieu professionnel doivent permettre  :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986720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L’acquisition et/ou l’approfondissement des compétences professionnelles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986720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L’amélioration de la connaissance du milieu professionnel et de l'emploi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8374a"/>
                </a:solidFill>
                <a:latin typeface="Franklin Gothic Book"/>
              </a:rPr>
              <a:t>Les périodes de formation en milieu professionnel  :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986720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Constituent un gage d’insertion professionnelle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986720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Participent à la formation des candidats au bac pro Gestion-Administration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00" name="Espace réservé du pied de page 3"/>
          <p:cNvSpPr/>
          <p:nvPr/>
        </p:nvSpPr>
        <p:spPr>
          <a:xfrm>
            <a:off x="2133720" y="6400800"/>
            <a:ext cx="6095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Franklin Gothic Book"/>
              </a:rPr>
              <a:t>PFMP -</a:t>
            </a: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  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1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7B11A-EEDD-42D4-AD29-787E26D45484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500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500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500" fill="hold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500" fill="hold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500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500" fill="hold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500" fill="hold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500"/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500" fill="hold"/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500" fill="hold"/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500"/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500" fill="hold"/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500" fill="hold"/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500"/>
                                        <p:tgtEl>
                                          <p:spTgt spid="3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500" fill="hold"/>
                                        <p:tgtEl>
                                          <p:spTgt spid="3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500" fill="hold"/>
                                        <p:tgtEl>
                                          <p:spTgt spid="3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Modalité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822240" y="4508640"/>
            <a:ext cx="771048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8374a"/>
                </a:solidFill>
                <a:latin typeface="Franklin Gothic Book"/>
              </a:rPr>
              <a:t>Référent professionnel (tuteur)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855084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Contribue à la formation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855084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Veille à la complémentarité des savoirs et savoir-faire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855084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Procède à une évaluation générale et une évaluation spécifique (voir modèle national) fondée sur la capacité du candidat à affronter la complexité et les aléas des situations professionnelles, à aborder d'autres situations comparables 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04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E5998-EC97-480E-BFF6-6F27F26DC8ED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5" name="Espace réservé du pied de page 3"/>
          <p:cNvSpPr/>
          <p:nvPr/>
        </p:nvSpPr>
        <p:spPr>
          <a:xfrm>
            <a:off x="2133720" y="6400800"/>
            <a:ext cx="6095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Franklin Gothic Book"/>
              </a:rPr>
              <a:t>PFMP -</a:t>
            </a: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  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6" name="Espace réservé du contenu 2"/>
          <p:cNvSpPr/>
          <p:nvPr/>
        </p:nvSpPr>
        <p:spPr>
          <a:xfrm>
            <a:off x="830160" y="1268280"/>
            <a:ext cx="7710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8374a"/>
                </a:solidFill>
                <a:latin typeface="Franklin Gothic Book"/>
              </a:rPr>
              <a:t>Durée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1360" indent="-17136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22 semaines sur 3 ans (BO spécial 19 février 2009)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1360" indent="-17136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16 semaines dans le cas d'un cycle en 2 ans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1360" indent="-17136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7" name="Espace réservé du contenu 2"/>
          <p:cNvSpPr/>
          <p:nvPr/>
        </p:nvSpPr>
        <p:spPr>
          <a:xfrm>
            <a:off x="826920" y="3218040"/>
            <a:ext cx="7710480" cy="13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8374a"/>
                </a:solidFill>
                <a:latin typeface="Franklin Gothic Book"/>
              </a:rPr>
              <a:t>Programmation des périodes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Relève de l'autonomie des établissements en concertation avec les milieux professionnels, les CET…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Respecte la contrainte liée au BEP MSA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8" name="Espace réservé du contenu 2"/>
          <p:cNvSpPr/>
          <p:nvPr/>
        </p:nvSpPr>
        <p:spPr>
          <a:xfrm>
            <a:off x="846000" y="2205000"/>
            <a:ext cx="77090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8374a"/>
                </a:solidFill>
                <a:latin typeface="Franklin Gothic Book"/>
              </a:rPr>
              <a:t>Lieu(x)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Dans tout type d'organisation proposant des activités de gestion administrative (TPE, PME/PMI, ETI, GE, collectivités territoriales, administrations, associations)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755280" y="553680"/>
            <a:ext cx="793116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Pilotage pédagogique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71614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8374a"/>
                </a:solidFill>
                <a:latin typeface="Franklin Gothic Book"/>
              </a:rPr>
              <a:t>L’équipe pédagogique participe à l’organisation et au suivi des PFMP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28374a"/>
                </a:solidFill>
                <a:latin typeface="Franklin Gothic Book"/>
              </a:rPr>
              <a:t>Circulaire 2000-095 du 26 juin 2000 – BO n° 25 du 29 juin 2000</a:t>
            </a:r>
            <a:endParaRPr b="1" lang="en-US" sz="1400" spc="-1" strike="noStrike">
              <a:solidFill>
                <a:srgbClr val="28374a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8374a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8374a"/>
                </a:solidFill>
                <a:latin typeface="Franklin Gothic Book"/>
              </a:rPr>
              <a:t>Préparation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75122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Recherche et choix du lieu d'accueil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75122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Accompagnement des élèves dans leur recherche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75122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Consultation du portail des stages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8374a"/>
                </a:solidFill>
                <a:latin typeface="Franklin Gothic Book"/>
              </a:rPr>
              <a:t>Suivi et  accompagnement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75122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Visite de suivi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75122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Visite d'évaluation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8374a"/>
                </a:solidFill>
                <a:latin typeface="Franklin Gothic Book"/>
              </a:rPr>
              <a:t>Exploitation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75122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Réinvestissement des situations professionnelles vécues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11" name="Espace réservé du numéro de diapositive 4"/>
          <p:cNvSpPr/>
          <p:nvPr/>
        </p:nvSpPr>
        <p:spPr>
          <a:xfrm>
            <a:off x="8458200" y="6202440"/>
            <a:ext cx="457200" cy="5032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86BCD-4DFE-4170-928F-AB641AC38AD1}" type="slidenum">
              <a:rPr b="0" lang="fr-FR" sz="16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2" name="Espace réservé du pied de page 3"/>
          <p:cNvSpPr/>
          <p:nvPr/>
        </p:nvSpPr>
        <p:spPr>
          <a:xfrm>
            <a:off x="2133720" y="6400800"/>
            <a:ext cx="6095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Franklin Gothic Book"/>
              </a:rPr>
              <a:t>PFMP -</a:t>
            </a: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  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755280" y="553680"/>
            <a:ext cx="793116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Trace écrite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755280" y="1341360"/>
            <a:ext cx="752148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8374a"/>
                </a:solidFill>
                <a:latin typeface="Franklin Gothic Book"/>
              </a:rPr>
              <a:t>Enrichissement du passeport professionnel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7270560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Situations réelles vécues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7270560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Situations observées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8374a"/>
              </a:solidFill>
              <a:latin typeface="Franklin Gothic Book"/>
            </a:endParaRPr>
          </a:p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8374a"/>
                </a:solidFill>
                <a:latin typeface="Franklin Gothic Book"/>
              </a:rPr>
              <a:t>Compte rendu d'évaluation  </a:t>
            </a:r>
            <a:r>
              <a:rPr b="0" lang="fr-FR" sz="1400" spc="-1" strike="noStrike">
                <a:solidFill>
                  <a:srgbClr val="28374a"/>
                </a:solidFill>
                <a:latin typeface="Franklin Gothic Book"/>
              </a:rPr>
              <a:t>(document national)</a:t>
            </a:r>
            <a:endParaRPr b="1" lang="en-US" sz="14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7270560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Certificat de stage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7270560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Objectifs négociés pour chaque PFMP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7270560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Indicateurs d'évaluation des compétences transversales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7270560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Description de la complexité et de la criticité des activités proposées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15" name="Espace réservé du numéro de diapositive 4"/>
          <p:cNvSpPr/>
          <p:nvPr/>
        </p:nvSpPr>
        <p:spPr>
          <a:xfrm>
            <a:off x="8458200" y="6202440"/>
            <a:ext cx="457200" cy="5032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3F108-D02E-430B-B96F-5E70243E8BAA}" type="slidenum">
              <a:rPr b="0" lang="fr-FR" sz="16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6" name="Espace réservé du pied de page 3"/>
          <p:cNvSpPr/>
          <p:nvPr/>
        </p:nvSpPr>
        <p:spPr>
          <a:xfrm>
            <a:off x="2133720" y="6400800"/>
            <a:ext cx="6095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Franklin Gothic Book"/>
              </a:rPr>
              <a:t>PFMP -</a:t>
            </a: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  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26560" y="553680"/>
            <a:ext cx="785988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PFMP &amp; Certification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99640" y="1412640"/>
            <a:ext cx="75200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700" spc="-1" strike="noStrike">
                <a:solidFill>
                  <a:srgbClr val="28374a"/>
                </a:solidFill>
                <a:latin typeface="Franklin Gothic Book"/>
              </a:rPr>
              <a:t>Apport de la PFMP pour le candidat</a:t>
            </a:r>
            <a:endParaRPr b="1" lang="en-US" sz="17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23192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Alimenter son passeport professionnel par des situations vécues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23192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Affronter la complexité et les aléas des situations professionnelles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23192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Construire sa compétence en abordant des situation comparables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28374a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700" spc="-1" strike="noStrike">
                <a:solidFill>
                  <a:srgbClr val="28374a"/>
                </a:solidFill>
                <a:latin typeface="Franklin Gothic Book"/>
              </a:rPr>
              <a:t>Épreuve E3 en CCF</a:t>
            </a:r>
            <a:endParaRPr b="1" lang="en-US" sz="17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23192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E31 – coef 3 : Gestion des relations administratives externes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23192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E32 – coef 4 : Gestion administrative interne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23192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E33 – coef 2 : Gestion administrative des projets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8374a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700" spc="-1" strike="noStrike">
                <a:solidFill>
                  <a:srgbClr val="28374a"/>
                </a:solidFill>
                <a:latin typeface="Franklin Gothic Book"/>
              </a:rPr>
              <a:t>Supports</a:t>
            </a:r>
            <a:endParaRPr b="1" lang="en-US" sz="17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23192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Passeport professionnel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23192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Comptes rendus d'évaluation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19" name="Espace réservé du numéro de diapositive 4"/>
          <p:cNvSpPr/>
          <p:nvPr/>
        </p:nvSpPr>
        <p:spPr>
          <a:xfrm>
            <a:off x="8458200" y="6202440"/>
            <a:ext cx="457200" cy="5032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EAC49-4EFB-4098-A7D5-73623F66AC58}" type="slidenum">
              <a:rPr b="0" lang="fr-FR" sz="16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0" name="Espace réservé du pied de page 3"/>
          <p:cNvSpPr/>
          <p:nvPr/>
        </p:nvSpPr>
        <p:spPr>
          <a:xfrm>
            <a:off x="2133720" y="6400800"/>
            <a:ext cx="6095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Franklin Gothic Book"/>
              </a:rPr>
              <a:t>PFMP -</a:t>
            </a: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  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9T11:23:50Z</dcterms:created>
  <dc:creator>Simon, Mazoyer</dc:creator>
  <dc:description/>
  <dc:language>en-US</dc:language>
  <cp:lastModifiedBy>Edith Simon</cp:lastModifiedBy>
  <dcterms:modified xsi:type="dcterms:W3CDTF">2011-10-25T19:09:46Z</dcterms:modified>
  <cp:revision>38</cp:revision>
  <dc:subject/>
  <dc:title>Présentation PowerPoint</dc:title>
</cp:coreProperties>
</file>