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A4D3-4639-4C33-BFDD-4F72E298B7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C956-4CCD-4AA2-98F0-48C4454407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3C7-4ED4-45DA-8CE2-1D151185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C60B-00B2-46FA-80F5-9559C36D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B329-F0A0-4D85-8E6B-1DD32EA6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D7C-1A2B-4344-A8CE-6D5571B5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9B9D-8E20-4F12-B632-AA3816FF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27FB-EB02-4AFA-A8BF-C0EF355D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647B-94DE-4BC2-8F79-1B76EFF4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870E-8E1A-4EAF-8265-9E22FE6A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18B1-C62C-4DE3-8F42-5DC2BD76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4560-97FD-4ADE-9FF4-FA061DA4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EE1B-6FCB-4D2B-9B50-DA1F1216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F79-2CB5-401F-99E3-456E371F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DE06-6E90-4971-A159-EE7F8F3C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D4DB-F8BE-4EAC-BE20-8D25C616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BC1D-1FF1-445F-8925-33D33C6F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F450-F192-4108-B7B5-B1FDBA13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8C78-31E3-4ACB-897C-B7ED3632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6C140-2321-478A-A7F1-07084E54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6EB00-77A0-443F-A81E-4C445C2D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E2C30-5D17-45E5-ACED-B2CAF43E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5D6DA-B3F4-49F2-AB80-E7DE474D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7D5C7-8098-4092-9DFC-16407DF9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8AC-22D1-4C1F-BC73-42FC16F9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A6A4C-0F4A-45EF-A369-D188546E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3DFC1-94B7-477A-8D2C-008302E0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D7B3F-E910-4DD3-94E6-86BD8A90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72EC4-4D4C-47AA-A99B-093A0408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393D6-D6DC-45E5-AEAE-2E227AF7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3EE57-2AB6-420D-A273-D2F1ABC1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D617B-D5FB-4C6C-9369-B541FFF8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1D5C3-C418-47AA-A42D-6B2F02A5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659AF-E03E-48FA-BC00-84C16EFD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05FB2-2CC8-4B12-8304-E2439FC5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722-57C3-42F1-B4DC-D982CB59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DC38C-02A1-4C46-B018-990F50F9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FF2CB-60F4-4D51-BA2E-6806F173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5BA22-D9F3-418C-9ADD-6BFEB055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75347-7218-4012-96D7-3A904366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25CA5-A32C-44E8-9C14-8C1AAF92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876A1-5F3D-4717-A249-94E8A72F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821B5-47A4-4BE6-A2B2-F7F37CB0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93849-96C5-40B4-BA88-73746321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1F351-089F-4AEB-AD31-73664DDB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FC05D-9EC6-49E5-9987-3B11B6D6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421-7F29-4514-858D-C9A1C8C7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4DEF2-8222-4DE2-A4BE-6D6BFE7A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477B2-B79E-42F4-8F9A-72591EB2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DC757-A500-48F4-B759-6619358F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F44D2-1BE2-4A57-A8A1-4037A21A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7A205-2EA3-41B2-BAA6-8DFEABF6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55AF3-AF6A-4A53-87E3-48539359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4FB88-007B-4243-89A9-D9FEA317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7BB35-9D50-466D-8D69-C7448FEC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5E2D9-B2A6-4385-8E5C-63C8B6E0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92D99-E535-4F07-B572-22F430F0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E58-650D-43CD-BFDC-D3343F55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4DE0F-042B-4FB6-85ED-323E7A16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90751-C176-40CC-8197-574CFFAC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33F50-0E8E-4BA1-A416-D780AB22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93A96-E53B-4669-94F9-6A3991F1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D5040-BBA1-4C72-A681-7A5E17B2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C0B42-8C9A-4CC2-8FA9-B175AEE7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94E84-D09C-4B8C-9B51-2D77D187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26277-DA46-4037-8DEB-81869C0C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50989-930B-4F57-88AD-AE9CAD12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8B68C-FA79-4B14-867C-F20E21A7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1AC-705A-4E75-A913-D14BC1A7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471C3-3DCE-492E-BB7A-16D888C8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86610-437D-4AEC-907C-0A09A9B2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DCF55-96A4-4163-A13A-1DFFC746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76C63-07A1-46AC-8F0C-964BE9A2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9F757-6DF5-4DC6-AB23-E62F17B0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80CB9-70D4-49C8-A0B5-E834012D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4F2A9-3BC7-4FF7-AD84-91A7E08E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06955-FF78-4254-949C-7D7CABEE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D4894-04ED-4202-A760-236F4F7B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D2145-85BA-4442-BC48-FBCE34C1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8A5-FB73-43CE-8408-6E52924C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1051B-FB38-460D-BC81-08B2A851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DECE9-55AC-433A-BA20-67D2DDF6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E979C-13A1-4327-A61A-56A824C6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A145F-A601-4818-942F-117C6E5E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3E8D5-5BFF-445A-A849-072FD5CF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8FDC8-49F9-4E5B-A5ED-AB145AB6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B9A00-0BD0-4ED5-8091-8375AE40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90E92-F276-4BED-BB44-3359B8A2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740A6-A013-428B-AA23-FA41B3A2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E1630-27D1-47D2-8BBC-0521724A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1A9-BD55-4B1E-9365-5A09A5AB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DD688-2A46-4908-B3F7-77B674DD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44165-A6F3-48C9-9D66-9C797548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11404-90E7-42A3-BFD1-1F9FDC8F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500C1-5144-4B2C-B4B3-350E65EB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EBB08-ECA2-4E0A-9F92-37964F61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48B27-D3C4-41B3-8B90-FBD878F8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D238E-51DC-4525-99EB-0B9840B6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DB1F-D5C0-4D3C-A8E1-4C1EFE1A522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6559-BEBB-4768-AD97-5E92117D528C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D4F4-8CDF-4807-8A00-44FD89B73EC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0207-EAA0-48A7-9B0F-C05BB3E749DD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D49A-D369-4750-A629-7E274592EC8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2847-9276-4919-A12B-48FD1F819328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EB82-EC35-4D31-BFD9-F5402B8BD27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56F1-1FFB-42E3-829C-735A10B9813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BDA0-D219-4DB6-A4C3-F6A0A54329C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70E3-4C0F-4B95-BFE0-B4B707DAFE3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BDBA-D032-4240-953F-FF920DA8C3A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EBD5-5DA9-43F3-9CE1-87B8D359BBD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1103-F52F-4854-9C7D-C2273A2803C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6679-8B31-42F5-A156-6FCE209D7C9F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B71C-AB60-4AA6-8C70-5996BE94B96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FB02-BAB1-4F4C-994E-D0B8D11AB09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Le gestionnaire administratif facilite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relations externes de l’organisation.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assure de manière fiable la gestion administrative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fournisseu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(prestataires compris) et les sous-traitants dans le cadre du processus achats.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veille au bon déroulement des relations administratives avec les prospects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client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donneurs d’ordre dans le cadre des processus de vente de biens et de services marchands, mais aussi de mise à disposition de biens et de services non marchands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 la prise en charge des activités de gestion administrative, il participe à la consolidation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banque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administration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et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partenaires-métie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375A-D96C-45CD-B865-D09021DD7CE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1. Gestion administrative des relations avec les fournisseu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nue des dossiers fournisseurs et sous-traitant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ordres d’achat, des command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livraisons, des factures et suivi des anomali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valuation et suivi des stock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des règlements et traitement des litig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CEF5-D362-4E6F-A203-3E2F9322683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2. Gestion administrative des relations avec les clients et les usag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ticipation à la gestion administrative de la prospec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enue des dossiers clients, donneurs d’ordre et usager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devis, des command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livraisons et de la factura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règlements et suivi des litig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D26E-33CC-4D7A-8A16-DD5C06EF21A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3. Gestion administrative des relations avec les autres partenai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 la trésorerie et des relations avec les banqu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éparation des déclarations fisc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formalités administrativ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s relations avec les partenaires-métier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8C00-761A-4A57-A909-6B2F5C4935F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1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B5F4-33F5-4C1C-AD32-45AFE739679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4360" y="1125360"/>
          <a:ext cx="7559640" cy="5029200"/>
        </p:xfrm>
        <a:graphic>
          <a:graphicData uri="http://schemas.openxmlformats.org/drawingml/2006/table">
            <a:tbl>
              <a:tblPr/>
              <a:tblGrid>
                <a:gridCol w="2519280"/>
                <a:gridCol w="2520720"/>
                <a:gridCol w="2519640"/>
              </a:tblGrid>
              <a:tr h="1526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es fournisseurs et des donneurs d’ord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héan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émanant des établissements financi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journaux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traitement des liti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igences, comportementales et relationnelles, fixées par l’entité vis-à-vis de ses fournisse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et modes de règ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ôles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onversion des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rocessus automatisé des règlements aux fournisseurs avec un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lectronique des Documents (G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bligations et la responsabilité contr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courrier de réclamation à 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interpellation du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présentation de l’ob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enchaînement des fai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argu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réf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constat, de la demande, du désaccord, de la preu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le passé composé, le futur de l'indicatif, le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tournure impersonnelle et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tection et rectification d’anomalies simples dans la tenue des comptes fournisseurs : saisie, imputation, codific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binaison de différents modes de règlement : escompte au comptant, échel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s de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s en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chéances non respec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 non fondée d’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 erro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ésorerie exigeant une demande de rééchelonnement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rer des règlements à des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é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1"/>
          <p:cNvSpPr/>
          <p:nvPr/>
        </p:nvSpPr>
        <p:spPr>
          <a:xfrm>
            <a:off x="376560" y="764280"/>
            <a:ext cx="839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1. Gestion administrative des relations avec les fournisseur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1.1.5 Gestion des règlements et traitement des litiges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6560" y="907920"/>
            <a:ext cx="8137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Très étroitement lié au contexte des organisations et aux relations qu’elles entretiennent avec leurs partenaires …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et donc aux PFMP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avec, très logiquement, une évaluation en CCF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BB5C-7990-4AE4-BD8B-43203F46282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01:29Z</dcterms:modified>
  <cp:revision>16</cp:revision>
  <dc:subject/>
  <dc:title>Baccalauréat professionnel Gestion -- Administration</dc:title>
</cp:coreProperties>
</file>