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DA27-5B6C-4962-AA8F-8733765D41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3C47-37A2-4F69-A997-EE3C3658A1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11E8-6811-479F-9160-DBCF3514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E07-9F72-4A4D-B70A-111EBC20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EE1-E10D-435C-9DCC-D839EE8A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F6C1-B91B-408D-93AA-04CDECFF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781D-0F70-44BC-9A20-0BE1D107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9A91-2049-4B44-9E1E-6CBA3FC5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0406-0ABF-490C-A4CA-B41D8918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937A-205B-4FC4-87FA-F89DB863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9AF7-9B77-4C75-BBE9-DF8D73F6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FFE5-A4EC-4361-8167-7F63D876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B5DD-EFC3-4813-A024-6C374B96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DB7D-714A-438A-AE2B-E4E428B8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9A08-8F14-41F2-8EBF-657ABC84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FC91-6C80-44F8-8107-F3616FAC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26C9-8751-4CED-A25E-D533DB4A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52D9-086C-40B2-8AFD-AB001B8E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A805-EA46-4015-9307-D8EF3223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141B5-E745-4460-8AD0-867257DC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E7282-B32A-4A7F-8944-7FB1DB19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FECB4-0E17-4F0E-A8AE-FF690885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F0BBB-3E61-42A2-98C2-90C4846F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85D1A-4C50-4CE1-A04D-AFF087AA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E69-2A2C-47CE-BF0B-ABC1A3F5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0CB3A-8DAA-4F01-A18E-CAE3D48D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29042-AB8C-4F73-80C7-AE96C736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62D2D-2E6B-4D27-9AC9-4EC80A4A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83087-0E49-4AAC-8E9B-582937FE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A1A25-C89C-4275-8080-D3DB2643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C278E-7936-4B4A-AD79-276C6FEB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B6CFC-9625-4CCC-9D90-2392356C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17559-E38A-4E26-A6B9-606279EB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1B1EC-E486-46DB-A870-470576F3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572AB-1E60-4041-899E-8E78F410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A037-FFB5-4E65-B91C-B73A68EF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78E36-1262-4F1B-B1A1-30D7F4B6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01AD2-539A-44F0-9AFE-A39A78D5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CDEDB-422D-4498-8E4D-A46B817C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6B7B9-1E97-41A6-BE11-5A5D8AAF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2B83C-8C7A-4468-8D13-B8EAEE54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3B276-BB1A-47EA-9F07-5B416D35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9014D-B3E0-4438-884E-44BAA7F9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34F98-5EB4-44FE-A236-DEEE81BB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40865-9A81-4B77-8C8A-4E7FC3C7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A89FE-80A7-47B0-AB91-61C1C9B3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0110-C5C9-4D7F-97ED-AACC44B9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A429A-3956-4D09-88D9-235E59A7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2537D-D855-4133-A451-750F135A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43DC6-B64F-4C90-87FE-2BF400F4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56A95-EE32-471F-BCE5-389BD1EE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50D5F-7DD9-49BA-9523-ADA11729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26E2D-B609-44A7-8FE6-C5F1C514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BCF66-B717-4436-BF35-B9C36074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93C14-08F8-4462-8CE6-65EA4921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01FA4-44C5-409C-80E9-31DEB69E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131D9-257A-42EF-899F-4C15BCB3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807-2D88-4E9F-8391-38F6BB6B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F5A49-C515-42D7-BBEE-4464BC13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D3E07-12C2-4882-B46F-928A681B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96CD9-026F-49D6-A755-E2923973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9C852-02D8-4EA3-8CC1-CA5A2330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813AD-C60B-46E6-BF81-D3E1B457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290D3-E282-4C15-8E34-3A2EF0E1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1212F-C083-4EF4-B739-0CFDCCE4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1BE44-0CF9-4355-9381-53246C95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6E2D6-3226-4F0F-8D98-A35B62AD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3FFAE-9A33-4B97-BA81-61E7B1C5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A04-58BB-4758-8FB6-A5FB5E42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79DA7-C29B-4150-B19F-76D60274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57A02-5944-4915-BFF0-E6937C65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2DC30-C0B2-4582-A20C-F8F0F505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41A70-BF91-4651-80C9-FCE49664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BDD98-A3D5-4E8D-AB57-CE1496F2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0B471-8A47-45AD-8160-4EDECC0C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3FC11-A0CC-4060-9A95-B4299B4A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C7CF5-9472-4FC6-B606-C4778B67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4AB21-1CFE-4A9C-9871-BC540FDA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380DC-8F2D-4BF7-91B0-4194D1E6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9A14-87E0-46C5-8931-313AACA7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FC2CC-F6CB-436A-9D35-2E18C994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4B364-540C-4758-A1A7-641968FB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A2CF6-75E8-400A-8AC5-031F4DE6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3FB6A-3F5C-46A0-8F31-1E96F3EA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99C1B-5F6A-486C-BBB6-806FADDE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CBD9D-49B2-4855-B347-13842C4A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B823F-48FA-46C4-9772-015402BB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83DDC-F81C-4B59-9653-C6E2D6D4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41669-EBF2-439E-A464-792C47D0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822F2-B01A-49AD-8579-AE236409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E9B-9378-4C99-A16E-0D54F88B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C2123-E34A-4354-BC16-08EC551E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C08D5-9F6D-4FD1-A3B8-D07864B5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373F4-37B5-4F38-AA03-72CFBDF7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B5F51-2C17-4DB7-BF21-B4F66E9E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FF0D3-8DC4-4F04-A5D4-1C407237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4FB84-113F-434A-B023-563DB44A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E5416-3A6F-49A8-BFE0-0CF391B6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0CB5-C615-49E9-A818-6F05F573DE8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E8FC-80DA-42EF-B392-C8F610CB7A41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741D-6A9A-4B8A-8D6F-C26CD44B175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FF91-1EF0-49D6-8315-1A7CB79ED2B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0516-FDF7-4FCF-A71A-8E1AFAD8108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60D4-3BB0-473D-B613-317806B0F4A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514D-4D61-4387-BD41-CFDA95706FD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654E-DB26-4692-A8F9-36D38468D2D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694C-697C-4761-B34E-D1B21FF62F9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0E46-5160-48E1-B194-354CDBEAAF4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AB70-2A1F-4FD1-8337-EE69467CB2A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B7A6-9A4D-4830-8A0D-4E1C3AE45AC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C492-6B91-4757-9815-96F41225756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CF87-D1F8-49F5-B759-F39D5AFD910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E71B-3EAE-4CD9-A30F-98DBBFED398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5B04-BBF3-48B6-A603-5EA53F0175A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menagement_espace_pro.pptx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 la salle informatiqu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à l’espace professionnel…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 effets positifs….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55280" y="1100160"/>
            <a:ext cx="758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environnement agréable et fonctionnel.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es élèves ont chacun un petit espace de travail et se retrouvent plus ou moins séparés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ambiance de travail différente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élèves responsabilisés sur leurs conditions de travail et donc peu de dégradations.</a:t>
            </a:r>
            <a:r>
              <a:rPr b="0" lang="fr-FR" sz="24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BE70-69C9-44AF-B4E6-881370E9B68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impact sur les élèv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55280" y="620280"/>
            <a:ext cx="7588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vorise le travail en autonomie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entre élèves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mpose des règles de vie professionnelle (pas de bruit lorsqu’un collaborateur est au téléphone, tenue et postur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encourage le travail en équipe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nduit  un changement de statut pour l’élève (passage d'une classe traditionnelle à des locaux d’entrepris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963A-1B68-4D6F-A135-C3B1BFD88A9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impact pour les enseignant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1D9F-EF2C-4EEB-9F3A-F8226589D47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611280" y="765000"/>
            <a:ext cx="765972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professeur-élè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rend la relation professeur-élève plus profess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à l’enseignant de reproduire plus facilement des situations professionnelles (salle de réunion, téléphone, accueil client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de décloisonner ses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s déplacements dans la s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Une opportunité pour conduire un projet avec les élèv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5280" y="981000"/>
            <a:ext cx="85694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es situations professionnelles du référentiel du Bac pro GA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Exemples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1 :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1.1.2. TRAITEMENT DES ORDRES D’ACHAT, DES COMMAND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3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3.3.2 . MAINTIEN OPÉRATIONNEL DES POSTES DE TRAVAIL ET AMÉNAGEMENT DES ESPAC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’EGLS (Maths/sciences; Arts appliqués…)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D3C9-0BBC-49A6-8C53-3A7D676049A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à coins arrondis 1"/>
          <p:cNvSpPr/>
          <p:nvPr/>
        </p:nvSpPr>
        <p:spPr>
          <a:xfrm>
            <a:off x="6588000" y="5157720"/>
            <a:ext cx="2016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b7378"/>
                </a:solidFill>
                <a:latin typeface="Franklin Gothic Book"/>
              </a:rPr>
              <a:t>Un </a:t>
            </a:r>
            <a:r>
              <a:rPr b="0" lang="fr-FR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55280" y="1557360"/>
            <a:ext cx="7521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référentiel écrit en situations professionnell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identification métier à valoriser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a nécessité de privilégier la multivalen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34AC-911A-4C40-A065-5D4E9BBCBA7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itre 1"/>
          <p:cNvSpPr/>
          <p:nvPr/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ourquoi ce beso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Quitter le mode frontal, scolair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B322-655D-44F2-9F29-6AA01468E2C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age 1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4608360" cy="3463920"/>
          </a:xfrm>
          <a:prstGeom prst="rect">
            <a:avLst/>
          </a:prstGeom>
          <a:ln w="0">
            <a:noFill/>
          </a:ln>
        </p:spPr>
      </p:pic>
      <p:pic>
        <p:nvPicPr>
          <p:cNvPr id="363" name="Image 5" descr=""/>
          <p:cNvPicPr/>
          <p:nvPr/>
        </p:nvPicPr>
        <p:blipFill>
          <a:blip r:embed="rId2"/>
          <a:stretch/>
        </p:blipFill>
        <p:spPr>
          <a:xfrm>
            <a:off x="4067280" y="2522520"/>
            <a:ext cx="47703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36504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…</a:t>
            </a:r>
            <a:r>
              <a:rPr b="1" lang="fr-FR" sz="2800" spc="-1" strike="noStrike">
                <a:solidFill>
                  <a:srgbClr val="c00000"/>
                </a:solidFill>
                <a:latin typeface="Franklin Gothic Medium"/>
              </a:rPr>
              <a:t>pour aller vers un espace professionnel polyval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8154-C4A9-4F17-B15B-70AA8C51E2B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age 1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9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professionnel polyvalent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35FE-B65A-4871-81D1-94F0070F108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Image 1" descr=""/>
          <p:cNvPicPr/>
          <p:nvPr/>
        </p:nvPicPr>
        <p:blipFill>
          <a:blip r:embed="rId1"/>
          <a:stretch/>
        </p:blipFill>
        <p:spPr>
          <a:xfrm>
            <a:off x="992160" y="1574640"/>
            <a:ext cx="6804000" cy="4500720"/>
          </a:xfrm>
          <a:prstGeom prst="rect">
            <a:avLst/>
          </a:prstGeom>
          <a:ln w="0">
            <a:noFill/>
          </a:ln>
        </p:spPr>
      </p:pic>
      <p:sp>
        <p:nvSpPr>
          <p:cNvPr id="372" name="ZoneTexte 2"/>
          <p:cNvSpPr/>
          <p:nvPr/>
        </p:nvSpPr>
        <p:spPr>
          <a:xfrm>
            <a:off x="914040" y="108432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érents espac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A839-8E6D-4EEA-839A-70702FBE2F7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ZoneTexte 6"/>
          <p:cNvSpPr/>
          <p:nvPr/>
        </p:nvSpPr>
        <p:spPr>
          <a:xfrm>
            <a:off x="915120" y="270828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comptoir d’accu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Image 1" descr=""/>
          <p:cNvPicPr/>
          <p:nvPr/>
        </p:nvPicPr>
        <p:blipFill>
          <a:blip r:embed="rId1"/>
          <a:stretch/>
        </p:blipFill>
        <p:spPr>
          <a:xfrm>
            <a:off x="4290840" y="1297080"/>
            <a:ext cx="3305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2317-4438-493D-91C1-B044B582AA9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6"/>
          <p:cNvSpPr/>
          <p:nvPr/>
        </p:nvSpPr>
        <p:spPr>
          <a:xfrm>
            <a:off x="914040" y="142884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alle de ré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age 1" descr=""/>
          <p:cNvPicPr/>
          <p:nvPr/>
        </p:nvPicPr>
        <p:blipFill>
          <a:blip r:embed="rId1"/>
          <a:stretch/>
        </p:blipFill>
        <p:spPr>
          <a:xfrm>
            <a:off x="2556000" y="2028960"/>
            <a:ext cx="536868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7FB9-586A-43A5-9EDE-BEB8A59CB7A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oneTexte 6"/>
          <p:cNvSpPr/>
          <p:nvPr/>
        </p:nvSpPr>
        <p:spPr>
          <a:xfrm>
            <a:off x="903960" y="14288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t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Photo003"/>
          <p:cNvPicPr/>
          <p:nvPr/>
        </p:nvPicPr>
        <p:blipFill>
          <a:blip r:embed="rId1"/>
          <a:stretch/>
        </p:blipFill>
        <p:spPr>
          <a:xfrm>
            <a:off x="3564000" y="1628640"/>
            <a:ext cx="48718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d’entrainement téléphoniqu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DD5C-C122-435E-8CC6-8F52191F1A0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ZoneTexte 6"/>
          <p:cNvSpPr/>
          <p:nvPr/>
        </p:nvSpPr>
        <p:spPr>
          <a:xfrm>
            <a:off x="179280" y="1052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rmation des élèves su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'app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ersation à plus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att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amétrage de la messageri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HPIM3875"/>
          <p:cNvPicPr/>
          <p:nvPr/>
        </p:nvPicPr>
        <p:blipFill>
          <a:blip r:embed="rId1"/>
          <a:stretch/>
        </p:blipFill>
        <p:spPr>
          <a:xfrm>
            <a:off x="4284720" y="1341360"/>
            <a:ext cx="4583160" cy="3436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HPIM3878"/>
          <p:cNvPicPr/>
          <p:nvPr/>
        </p:nvPicPr>
        <p:blipFill>
          <a:blip r:embed="rId2"/>
          <a:stretch/>
        </p:blipFill>
        <p:spPr>
          <a:xfrm>
            <a:off x="250920" y="3328920"/>
            <a:ext cx="3900240" cy="2925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4356000" y="501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chnologie I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ormation en pool téléphonique pour des actions de démarchage par télé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22:30Z</dcterms:modified>
  <cp:revision>31</cp:revision>
  <dc:subject/>
  <dc:title>Baccalauréat professionnel Gestion -- Administration</dc:title>
</cp:coreProperties>
</file>