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A407-F31C-48E0-AACD-B4792ECF0DF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1309-8848-4CCC-B8EF-8B07F5BD0B6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03B1-5BFE-4038-836D-E2F88FAF693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6F34-38F5-47CE-A528-5710AFFC0C4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8BC7-F470-4A78-A5D2-8928E214C76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4B77-7876-4506-8284-03BCB57F61E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1561-FAEB-4F0E-87DD-903DDCDC9E8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82BD-CE2F-40C5-931B-01E576041FA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69AD-CDDD-4809-98B0-5630012FD01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F515-44F2-402A-B749-B9B9C29D84B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BB8C-8C57-4C73-B717-37B57E434A5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35F6-F4C2-44C1-988A-99D4909F159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FA1D-0F70-41EF-852D-58FD6FF29D0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3625-C08D-4F98-9512-E3F785EA9AA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478B-AB45-47E1-B4E5-648FEEB33CF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E70E-D0B3-4DD2-980E-BF29965D4C2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4670-157E-45AD-8CA4-B656B025EE8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B78B-9EC0-4B50-9F76-11A30A7BF51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3448-4E1C-4240-A7EE-56FE8635130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36CF-0E17-4161-A680-490D35301AD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7764-AC68-447D-9E0A-3D09949D053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5927-8E66-4FC8-9D2A-E5EFD026B76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4324-F9CF-4D00-860A-DFD7F7CC20D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7C3B-AF54-441C-99CA-67D733AF669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C5D1-871F-4972-B26B-BFB6834EC1A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7903-5A6D-42DF-88E0-38C7E8D75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329E-EB4F-45AE-9077-5E08C1D3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EE6D-9C1F-4A2F-83E4-A07064BB8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A4E9-4B8D-4417-923E-333E702C4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C816-49F3-4AAE-8FA6-8BD7DEEE0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579C-E5F5-4D51-8E60-CEE7236E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3D98-3D82-45D6-A881-63DCE530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429F-D116-4308-B3F7-CD30A574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CBAE-22D8-42A2-BC6F-85F1EEFD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CCCF-6D52-4843-B603-BECF2B68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B009-9D5A-46DB-AE8D-46FD5AC4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EB15-A720-4D84-8F16-D26A9DD6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15B8-84E5-4C24-AC17-54E58D87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AFCB-02FA-4B28-BC0A-CDFA9204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5939-684F-4478-87E8-A67C1DD6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C381-0F1C-4CBB-8296-249DF2753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6C8B-38ED-4F67-8C62-8B31C6D55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2A531-C0F5-4E97-92BE-62E37510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0ADB6-5A45-4840-866C-816A2A9A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4F520-D72E-4843-9688-415FBBE3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60201-01F1-407B-856E-DDF93F48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3E8C4-C262-404E-93D7-7697A451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2FE7-EF3A-4F91-B6A7-23AF94D5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ED678-9359-4255-8D4A-0CC44E57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61C94-9893-4882-8412-B6E585AB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56EC2-03D8-4A2F-8954-03D6943A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12169-666C-42B3-9258-9CCDD371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1A9D4-82A1-4D21-8349-52A6C71F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66A5A-4CEE-4559-B89F-2C5C4392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03DE1-808D-48D3-94D8-8E156C9B3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D4A7E-5B83-4B1F-81C4-C9718FC0C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D2DB8-0461-4E84-910D-E5D34C2D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1EF1A-B254-4251-814D-FB54E42B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0B94-80EF-4CD8-BD0F-0DC91DCF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585AC-1688-4834-AFE4-56EC3D9B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0AF75-368C-4367-BF60-3BF3CCB9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172C6-6C51-40C3-A857-596688BF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ED7B4-6ED7-4751-868C-E0CD7451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2EB90-C453-430B-8B04-363BE5D2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8C6CF-8C27-46DF-920B-AD7B117C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CDB59-0BEF-41A8-B93A-21B47D36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12A34-CB99-4E56-B604-562445763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57802-0B35-4812-9FCB-7FADE5EF8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DC446-2CAA-4BDF-800F-FF7A5A778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EDCF-5D25-4EDF-BF5C-52B6CB38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78B2D-8625-4E71-8D2B-A8717969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4455A-EFF8-44A0-B95F-C9B7FB1F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A435B-845F-4ABA-8008-01BBF0E2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AE735-4609-4FB0-876D-6994CDF3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1D959-B990-419A-ACC6-8A97412A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5CC87-ADD8-4759-8C88-218FE7D8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2CC29-0D5A-460A-9F25-E4BA32C0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C91D7-131E-409E-A196-A107D928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F6A51-0EFB-4FBB-A466-ED2A0275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AC743-0C35-4DAC-976F-D168305F5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3E29-071A-4104-A443-9C1F413D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ECB3B-98FC-4F34-BE59-02CD45234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5B4C1-F2D8-46FE-8B91-99AE52140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190C5-9169-45B2-B0DA-6743F4B3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104F1-E8F0-4893-9CC5-09CB2763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87715-1069-4E9B-B42C-4B0917C7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D78B8-211B-41BD-B65D-EBEEBBCB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5A8B1-FEAF-46B9-8838-3D5D608C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C2126-5D96-4B7B-B177-4405913A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67410-08C5-4BF8-B3A8-1B208572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AB778-4953-4391-BF62-01F747A6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F5E1-E92D-4940-8A97-3E7C8630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6F7ED-FB8A-4BCB-8C40-704AC55B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E4337-DDF2-4518-8CB3-4D2E67E3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F1F01-136F-420A-9322-BB37E0D52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1D964-7508-4174-966A-B66C3D65D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987C0-2C7A-4A78-84E1-6A454E09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E9E07-228B-4CC9-9BA3-6BDB86E9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AE675-BB85-4FEC-87AF-52EA3829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98320-2233-45EE-A45F-D1095B72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DB872-DC3D-475A-91FF-972CD93C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4DEC3-1BD2-49D7-A844-8968D2F9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9130-5BB2-4073-A3F6-1F807D56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5E363-B9EA-46D1-A49F-38B212AE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032CC-5E5B-4BB2-BD54-7E6BAACB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DD936-040D-4722-9BE8-BE81B72A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DA5E1-D92E-41E3-B475-2E0EB113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F5F36-F09F-4AB7-BD98-77E923295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4451C-CA7B-4CEF-B046-3FD85ABDF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50104-1CA9-4FCA-9099-150D418A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4E0CF-168D-4413-9EEF-C4E78009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16FC0-290B-4385-A6B2-5EF7B404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C7B61-AC7F-4349-9008-EE27F4F9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7583-399F-4794-AC69-EBF8BE28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FF911-174E-4929-864C-50BCB23D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A37B3-4251-429E-BD06-DAC86A00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C14F3-A931-46C1-A050-B0ACDF76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606D3-446F-44DF-AB3C-4E56D898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4C847-A617-4E05-8755-29B0F2D8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6B2A9-724F-4E5A-B9C4-33FAE8E4E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689CA-A148-4302-A138-AB65A1EE2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120D-FFBD-42DF-86ED-FC5BD43ED276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0D78-A3F3-40FA-932A-4463B3233A4A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B7EB-D233-4FED-B089-AF3E5B55E653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9B60-8FF4-4BBC-9C5C-C48C27DD9B6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BBED-01E8-4F50-91C7-3C321E088413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FFEA-1866-4C22-8FB8-17594F62FB2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62A1-654C-4931-8182-88013164A4CF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4329-8604-4A47-BC9A-8F05935AD63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1179-C775-428D-80E0-029B9078846E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6441-07CB-4726-B759-8C726EAFA50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DA92-A2F5-4817-B6BC-88351CC57F2E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CDD2-9DAF-4A9F-A908-74ACB1D6B44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453B-4E24-427F-B7A3-BBEEDE5F1114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085F-9F47-4E7B-A25D-F44A40F6C2F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3D9D-C187-4BBB-9F5E-BC811A18C7CE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282D-3041-4D9B-B5BC-1AA93C3572A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1557000"/>
            <a:ext cx="752184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2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Quels objectifs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et quelles démarches ?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7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6A57-190E-4D9A-82AD-17805AAAAF1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ux « cadres » de référenc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0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234D-76EB-450D-BA04-2E890A1867D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826920" y="1197000"/>
            <a:ext cx="6697800" cy="64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Le Projet Pluridisciplinaire à Caractère Professionnel </a:t>
            </a:r>
            <a:br>
              <a:rPr sz="2000"/>
            </a:b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Réalisation, en équipe, d'un objectif prenant en compte  les enseignements généraux mobilisés dans toute activité professionnelle ». (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Le socle commun et la compétence 1: Maîtrise de la 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Savoir lire, écrire et parler le français conditionne l'accès à tous les domaines du savoir et l'acquisition de toutes les compétences . »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Faire accéder tous les élèves à la maîtrise de la langue française, à une expression précise et claire à l'oral comme à l'écrit, relève de l'enseignement du français mais aussi de toutes les disciplines. » (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5218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s objectifs des ateliers rédactionnels </a:t>
            </a:r>
            <a:r>
              <a:rPr b="0" lang="fr-FR" sz="2400" spc="-1" strike="noStrike">
                <a:solidFill>
                  <a:srgbClr val="c00000"/>
                </a:solidFill>
                <a:latin typeface="Franklin Gothic Medium"/>
                <a:ea typeface="Times New Roman"/>
              </a:rPr>
              <a:t>(RC. Annexe III c)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4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0BB9-C40E-4095-B889-C101EF65DA4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"/>
          <p:cNvSpPr/>
          <p:nvPr/>
        </p:nvSpPr>
        <p:spPr>
          <a:xfrm>
            <a:off x="250920" y="140652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« 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évelopper des comportements professionnels adaptés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aux contextes et situations rencontrés (écoute, rigueur, réactivité, créativité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S’approprier les contextes de production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es documents et supports de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Conceptualiser les différents documents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et supports de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Produire des documents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et supports de communication dans le respect de consignes, de procédures ou d’un cahier des char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Contrôler la qualité rédactionnelle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es documents et supports traités.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521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ans la logique des situations professionnell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8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F667-7151-4B63-A657-3B4BFE3A42A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ZoneTexte 4"/>
          <p:cNvSpPr/>
          <p:nvPr/>
        </p:nvSpPr>
        <p:spPr>
          <a:xfrm>
            <a:off x="1042920" y="1844640"/>
            <a:ext cx="75614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Préambule du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-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Les savoirs rédactionnels sont centrés sur la production écrite en situation professionnel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- Ces savoirs sont présents dans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17 situations professionnelles sur les 55 que comporte le référentiel.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2240" y="1268280"/>
            <a:ext cx="752184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3 . </a:t>
            </a:r>
            <a:br>
              <a:rPr sz="3200"/>
            </a:b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our quels apprentissages ?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9DAA-F4DD-4CC7-B626-3FBDA2963F1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genres d’écrits à travailler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822240" y="110016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Dans le cadre des 17 situations professionnelles du RC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urrier d’un partenaire ou à un partenaire (réclamation à un fournisseur, relance client, sollicitation auprès d’une administration etc.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s consignes de sécurité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s documents d’accueil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urrier à un salarié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discour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’annonce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mpte rendu de réunion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a fiche de synthèse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descriptif d’un projet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rapport d’étape d’un projet etc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3A6C-FB0E-465C-BD51-6957E9FCBCE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ur présentation dans le référenti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1A4E-36AF-4330-8BCB-93AA913E888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395280" y="879480"/>
          <a:ext cx="8496360" cy="515160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1825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37160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nnées comptables et commerciales de l’organis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des d’accès aux sites de déclarations des formalités administr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juridiques relatives aux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sur le ou les partenaires concernés par la form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nécessaires à l’élaboration des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à respecter pour maintenir la relation avec les différentes administ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 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services et interlocuteurs de l’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njeux de l’accomplissement des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urriers types de demandes administr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incipales formalités administratives, y compris au sein de l’UE et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administrations, leurs finalités et leurs champs d’interven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subven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rganismes europée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courrier de sollicitation auprès d’une 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positionnement et la situation de l’émett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a description et la justification de la requê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s codes et règles du courrier aux administ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lexique du souhait, de la demande, de l’autor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s modes et temps des verbes : conditi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techn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nécessitant un processus long : échanges, validations, rendez-vo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intégrant des données jurid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nombreuses exigeant l’établissement d’un calendri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au sein de l’UE ou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incomplètes ou non confor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hors déla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déclarée irrecevable par l’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formalités administratives courantes sont réalisé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ndre en charge des formalités administratives liées à l’activ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ect des obligations administratives liées à l’activ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ur présentation dans le référenti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822240" y="1100160"/>
            <a:ext cx="752184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1.3. Gestion administrative des relations avec les autres partenaires</a:t>
            </a:r>
            <a:r>
              <a:rPr b="1" lang="fr-FR" sz="1700" spc="-1" strike="noStrike">
                <a:solidFill>
                  <a:srgbClr val="4f81bd"/>
                </a:solidFill>
                <a:latin typeface="Arial"/>
                <a:ea typeface="Times New Roman"/>
              </a:rPr>
              <a:t>  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3b81bd"/>
                </a:solidFill>
                <a:latin typeface="Arial"/>
                <a:ea typeface="Times New Roman"/>
              </a:rPr>
              <a:t>1.3.3. Traitement des formalités administratives</a:t>
            </a: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28374a"/>
                </a:solidFill>
                <a:latin typeface="Franklin Gothic Book"/>
              </a:rPr>
              <a:t>Savoirs associé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Savoirs rédactionnels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- Lecture et écriture d’un genre 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courrier de sollicitation auprès d’une administr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- Procédés d’écriture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positionnement et la situation de l’émetteur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a description et la justification de la requête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s codes et règles du courrier aux administrations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lexique du souhait, de la demande, de l’autoris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s modes et temps des verbes : conditionnel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A6A0-6747-4A73-8351-43B45FA1D62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courrier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822240" y="907920"/>
            <a:ext cx="7521840" cy="532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SARL   ESCOUZEL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roduits régionaux et biologiques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lace Royale                                                                                Labastide, le 1</a:t>
            </a:r>
            <a:r>
              <a:rPr b="1" lang="fr-FR" sz="1000" spc="-1" strike="noStrike" baseline="30000">
                <a:solidFill>
                  <a:srgbClr val="000000"/>
                </a:solidFill>
                <a:latin typeface="Franklin Gothic Book"/>
              </a:rPr>
              <a:t>er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octobre 2011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40240 Labastide d’Armagnac                                                                                                  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     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Monsieur le Maire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Hôtel de Ville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lace Royale    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40240 Labastide d’Armagnac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Objet : modification couleur menuiseries extérieures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Monsieur le Maire,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Comme suite à notre courrier du 24 août dernier au service départemental de l’architecture et du patrimoine des Landes, et à la rencontre du 22 septembre avec Monsieur Gileti, architecte des Bâtiments de France et à son courrier du 29, nous avons pris bonne note des références qu’il nous a conseillées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Nous avons donc l’honneur de vous informer que, conformément à l’avis de Monsieur Gileti, nous allons utiliser, pour la peinture des menuiseries extérieures de notre commerce de Labastide d’Armagnac , les références des couleurs suivantes :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i="1" lang="fr-FR" sz="1000" spc="-1" strike="noStrike">
                <a:solidFill>
                  <a:srgbClr val="000000"/>
                </a:solidFill>
                <a:latin typeface="Franklin Gothic Book"/>
              </a:rPr>
              <a:t>Nuancier Sikkens Color, collection 2021, page 88, G8.1060 ou G8.1070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Nous vous prions d’agréer, Monsieur le Maire, l’expression de nos salutations les plus distinguées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 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Le Gérant, Pierre Escouzel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copie : M. Gileti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 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F657-F79D-4DA6-870C-8E9FF0A1A75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Image 11" descr="label-ab-europeen.jpg"/>
          <p:cNvPicPr/>
          <p:nvPr/>
        </p:nvPicPr>
        <p:blipFill>
          <a:blip r:embed="rId1"/>
          <a:stretch/>
        </p:blipFill>
        <p:spPr>
          <a:xfrm>
            <a:off x="900000" y="981000"/>
            <a:ext cx="576360" cy="385920"/>
          </a:xfrm>
          <a:prstGeom prst="rect">
            <a:avLst/>
          </a:prstGeom>
          <a:ln w="0">
            <a:noFill/>
          </a:ln>
        </p:spPr>
      </p:pic>
      <p:sp>
        <p:nvSpPr>
          <p:cNvPr id="421" name="Bouton d'action : Personnalisé 5">
            <a:hlinkClick r:id="rId2" action="ppaction://hlinksldjump"/>
          </p:cNvPr>
          <p:cNvSpPr/>
          <p:nvPr/>
        </p:nvSpPr>
        <p:spPr>
          <a:xfrm>
            <a:off x="179280" y="580536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Franklin Gothic Book"/>
              </a:rPr>
              <a:t>+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Bouton d'action : Personnalisé 6">
            <a:hlinkClick r:id="rId3" action="ppaction://hlinksldjump"/>
          </p:cNvPr>
          <p:cNvSpPr/>
          <p:nvPr/>
        </p:nvSpPr>
        <p:spPr>
          <a:xfrm>
            <a:off x="171360" y="5326200"/>
            <a:ext cx="432000" cy="263520"/>
          </a:xfrm>
          <a:custGeom>
            <a:avLst/>
            <a:gdLst>
              <a:gd name="textAreaLeft" fmla="*/ 16920 w 432000"/>
              <a:gd name="textAreaRight" fmla="*/ 415080 w 432000"/>
              <a:gd name="textAreaTop" fmla="*/ 16920 h 263520"/>
              <a:gd name="textAreaBottom" fmla="*/ 246600 h 263520"/>
            </a:gdLst>
            <a:ahLst/>
            <a:rect l="textAreaLeft" t="textAreaTop" r="textAreaRight" b="textAreaBottom"/>
            <a:pathLst>
              <a:path w="35391" h="21600">
                <a:moveTo>
                  <a:pt x="0" y="0"/>
                </a:moveTo>
                <a:lnTo>
                  <a:pt x="35391" y="0"/>
                </a:lnTo>
                <a:lnTo>
                  <a:pt x="35391" y="21600"/>
                </a:lnTo>
                <a:lnTo>
                  <a:pt x="0" y="21600"/>
                </a:lnTo>
                <a:close/>
              </a:path>
              <a:path fill="lightenLess" w="35391" h="21600">
                <a:moveTo>
                  <a:pt x="0" y="0"/>
                </a:moveTo>
                <a:lnTo>
                  <a:pt x="35391" y="0"/>
                </a:lnTo>
                <a:lnTo>
                  <a:pt x="33991" y="1400"/>
                </a:lnTo>
                <a:lnTo>
                  <a:pt x="1400" y="1400"/>
                </a:lnTo>
                <a:close/>
              </a:path>
              <a:path fill="darken" w="35391" h="21600">
                <a:moveTo>
                  <a:pt x="35391" y="0"/>
                </a:moveTo>
                <a:lnTo>
                  <a:pt x="35391" y="21600"/>
                </a:lnTo>
                <a:lnTo>
                  <a:pt x="33991" y="20200"/>
                </a:lnTo>
                <a:lnTo>
                  <a:pt x="33991" y="1400"/>
                </a:lnTo>
                <a:close/>
              </a:path>
              <a:path fill="darkenLess" w="35391" h="21600">
                <a:moveTo>
                  <a:pt x="35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91" y="20200"/>
                </a:lnTo>
                <a:close/>
              </a:path>
              <a:path fill="lighten" w="35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Franklin Gothic Book"/>
              </a:rPr>
              <a:t>+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xploitation des cinq niveaux </a:t>
            </a:r>
            <a:r>
              <a:rPr b="0" lang="fr-FR" sz="1800" spc="-1" strike="noStrike">
                <a:solidFill>
                  <a:srgbClr val="c00000"/>
                </a:solidFill>
                <a:latin typeface="Franklin Gothic Medium"/>
              </a:rPr>
              <a:t>(RC Annexe III c)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822240" y="1267920"/>
            <a:ext cx="75218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1. Communication et énonci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Contexte, situation de communication et ses marques dans l’énonciation du text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identités des interlocuteurs, pronoms personnels, indicateurs temporels, temps verbaux  (antériorité, simultanéité, postériorité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2. Visées et enjeux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Visée informative avec un enjeu « civique » implicit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Mode indicatif, phrases déclaratives, mise en paragraphes, valorisation de la décision, lexique  « neutre »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3.Genres des documents professionnel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 courrier d’information d’un  commerçant  à une administr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Mise en page du courrier, formules d’usage…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2EED-FD55-4900-B6EB-BBFD15D354C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Bouton d'action : Personnalisé 7">
            <a:hlinkClick r:id="rId1" action="ppaction://hlinksldjump"/>
          </p:cNvPr>
          <p:cNvSpPr/>
          <p:nvPr/>
        </p:nvSpPr>
        <p:spPr>
          <a:xfrm>
            <a:off x="250920" y="5981760"/>
            <a:ext cx="612720" cy="287280"/>
          </a:xfrm>
          <a:custGeom>
            <a:avLst/>
            <a:gdLst>
              <a:gd name="textAreaLeft" fmla="*/ 18360 w 612720"/>
              <a:gd name="textAreaRight" fmla="*/ 594360 w 612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6039" h="21600">
                <a:moveTo>
                  <a:pt x="0" y="0"/>
                </a:moveTo>
                <a:lnTo>
                  <a:pt x="46039" y="0"/>
                </a:lnTo>
                <a:lnTo>
                  <a:pt x="46039" y="21600"/>
                </a:lnTo>
                <a:lnTo>
                  <a:pt x="0" y="21600"/>
                </a:lnTo>
                <a:close/>
              </a:path>
              <a:path fill="lightenLess" w="46039" h="21600">
                <a:moveTo>
                  <a:pt x="0" y="0"/>
                </a:moveTo>
                <a:lnTo>
                  <a:pt x="46039" y="0"/>
                </a:lnTo>
                <a:lnTo>
                  <a:pt x="44639" y="1400"/>
                </a:lnTo>
                <a:lnTo>
                  <a:pt x="1400" y="1400"/>
                </a:lnTo>
                <a:close/>
              </a:path>
              <a:path fill="darken" w="46039" h="21600">
                <a:moveTo>
                  <a:pt x="46039" y="0"/>
                </a:moveTo>
                <a:lnTo>
                  <a:pt x="46039" y="21600"/>
                </a:lnTo>
                <a:lnTo>
                  <a:pt x="44639" y="20200"/>
                </a:lnTo>
                <a:lnTo>
                  <a:pt x="44639" y="1400"/>
                </a:lnTo>
                <a:close/>
              </a:path>
              <a:path fill="darkenLess" w="46039" h="21600">
                <a:moveTo>
                  <a:pt x="46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39" y="20200"/>
                </a:lnTo>
                <a:close/>
              </a:path>
              <a:path fill="lighten" w="46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Franklin Gothic Book"/>
              </a:rPr>
              <a:t>Courr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s compétences…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aux ateliers rédactionnel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xploitation des cinq niveaux (suite)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822240" y="1099800"/>
            <a:ext cx="752184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4. Lexique professionnel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xique thématiqu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xique usuel codifié selon l’usage et les relations (hiérarchiques ou entre « pairs »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5. Mobilisation de connaissances et de codes orthographique, grammatical et syntaxiqu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caractères typographique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« marques de personne », les modes et temps verbaux, (valeurs et conjugaisons), les accords, la syntaxe, la ponctu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a cohésion du texte (connecteurs, faits de reprise) et cohérence logique (mise en paragraphes, progression de l’information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niveaux de langue et l’orthographe lexical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Une révision en situation, au fil de l’écriture et de la réécritur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3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D3C9-49C8-4ECA-AFA9-69500895DB6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Bouton d'action : Personnalisé 6">
            <a:hlinkClick r:id="rId1" action="ppaction://hlinksldjump"/>
          </p:cNvPr>
          <p:cNvSpPr/>
          <p:nvPr/>
        </p:nvSpPr>
        <p:spPr>
          <a:xfrm>
            <a:off x="250920" y="5981760"/>
            <a:ext cx="612720" cy="287280"/>
          </a:xfrm>
          <a:custGeom>
            <a:avLst/>
            <a:gdLst>
              <a:gd name="textAreaLeft" fmla="*/ 18360 w 612720"/>
              <a:gd name="textAreaRight" fmla="*/ 594360 w 612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6039" h="21600">
                <a:moveTo>
                  <a:pt x="0" y="0"/>
                </a:moveTo>
                <a:lnTo>
                  <a:pt x="46039" y="0"/>
                </a:lnTo>
                <a:lnTo>
                  <a:pt x="46039" y="21600"/>
                </a:lnTo>
                <a:lnTo>
                  <a:pt x="0" y="21600"/>
                </a:lnTo>
                <a:close/>
              </a:path>
              <a:path fill="lightenLess" w="46039" h="21600">
                <a:moveTo>
                  <a:pt x="0" y="0"/>
                </a:moveTo>
                <a:lnTo>
                  <a:pt x="46039" y="0"/>
                </a:lnTo>
                <a:lnTo>
                  <a:pt x="44639" y="1400"/>
                </a:lnTo>
                <a:lnTo>
                  <a:pt x="1400" y="1400"/>
                </a:lnTo>
                <a:close/>
              </a:path>
              <a:path fill="darken" w="46039" h="21600">
                <a:moveTo>
                  <a:pt x="46039" y="0"/>
                </a:moveTo>
                <a:lnTo>
                  <a:pt x="46039" y="21600"/>
                </a:lnTo>
                <a:lnTo>
                  <a:pt x="44639" y="20200"/>
                </a:lnTo>
                <a:lnTo>
                  <a:pt x="44639" y="1400"/>
                </a:lnTo>
                <a:close/>
              </a:path>
              <a:path fill="darkenLess" w="46039" h="21600">
                <a:moveTo>
                  <a:pt x="46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39" y="20200"/>
                </a:lnTo>
                <a:close/>
              </a:path>
              <a:path fill="lighten" w="46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Franklin Gothic Book"/>
              </a:rPr>
              <a:t>Courr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26920" y="1484280"/>
            <a:ext cx="75218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4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Quels types d’ateliers et comment les mettre en place ?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4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A3A0-CF7D-4DAA-AD8A-5B9C4114A0A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ifférents types d’atelie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7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FE80-633B-467A-A152-636A55AEB90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oneTexte 4"/>
          <p:cNvSpPr/>
          <p:nvPr/>
        </p:nvSpPr>
        <p:spPr>
          <a:xfrm>
            <a:off x="826920" y="1197000"/>
            <a:ext cx="734544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’observation et d’analyse du réel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à partir de documents et supports de communication existan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simula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de situations professionnel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produc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à partir de demandes réel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partage d’expériences de produc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après des PFMP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- Ateliers de transposition rédactionnelle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(changement d’énonciateur, de cibles, de contraintes, de supports… dans des contextes plus ou moins critiqu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’auto-formation,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notamment aux logiciels dédiés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12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Avec une organisation propre à chaque établissemen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821880" y="1557360"/>
            <a:ext cx="7637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Franklin Gothic Book"/>
              </a:rPr>
              <a:t>Des séances en co-animation dans le cadre (et/ou) 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 horaires dédiés à l’Enseignement Général en Lien avec la Spécialité (EGLS)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 horaires dédiés à l’accompagnement personnalisé (AP)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PFMP : avant, pendant et après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 projets à caractère pluridisciplinaire et professionnel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→  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Pas d’horaires spécifiques. Projet d’établissement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8374a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8374a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4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249A-58D3-493A-84FC-A5928308583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n guise de conclusion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822240" y="1100160"/>
            <a:ext cx="752184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« Écrire est toujours un art plein de rencontr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La lettre la plus simple suppose un choix entr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des milliers de mots, dont la plupart sont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étrangers à ce que vous voulez dire. »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Franklin Gothic Book"/>
              </a:rPr>
              <a:t>Alain - 1934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4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32D2-AF9D-4E36-B387-80F6B2E5DAD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lan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22240" y="1100160"/>
            <a:ext cx="752184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Pourquoi des ateliers rédactionnels ?  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Quels objectifs  et quelles démarches?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Pour quels apprentissages?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Quels types d’ateliers et comment les mettre en place ? 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35BB-7FEA-45DA-982C-860B7BC0E3B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1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ourquoi des ateliers rédactionnels ?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06C9-B037-4AB1-B227-0819B4D6A48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indispensables au professi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22240" y="1989000"/>
            <a:ext cx="75218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Note d’opportunité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28374a"/>
                </a:solidFill>
                <a:latin typeface="Franklin Gothic Book"/>
              </a:rPr>
              <a:t>« La compétence à communiquer intègre une maîtrise langagière spécifique du métier et une utilisation du lexique de l’organisation dans tout type de contexte et de situation professionnels. »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05AA-7DEF-4233-9B2C-2796E3D2226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indispensables au professi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6920" y="1125360"/>
            <a:ext cx="752184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Le Référentiel d’Activités Professionnelles  (RAP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28374a"/>
                </a:solidFill>
                <a:latin typeface="Franklin Gothic Book"/>
              </a:rPr>
              <a:t>«</a:t>
            </a:r>
            <a:r>
              <a:rPr b="0" i="1" lang="fr-FR" sz="2800" spc="-1" strike="noStrike">
                <a:solidFill>
                  <a:srgbClr val="28374a"/>
                </a:solidFill>
                <a:latin typeface="Franklin Gothic Book"/>
              </a:rPr>
              <a:t>  </a:t>
            </a:r>
            <a:r>
              <a:rPr b="1" i="1" lang="fr-FR" sz="2400" spc="-1" strike="noStrike">
                <a:solidFill>
                  <a:srgbClr val="28374a"/>
                </a:solidFill>
                <a:latin typeface="Franklin Gothic Book"/>
              </a:rPr>
              <a:t>Dans son rôle d’interface et de producteur de documents et de supports de communication, le titulaire du baccalauréat professionnel Gestion-Administration doit maîtriser la qualité de son expression écrite et orale. Vecteur de l’image de l’organisation, sa maîtrise de l’orthographe et de la syntaxe est impérative. »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4E61-93D3-4E5D-BAA9-6BBA9A9DEEF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complex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826920" y="1341360"/>
            <a:ext cx="752184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s situations de communication et des productions écrites très diverses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Mobilisant des connaissances et capacités langagières spécifiques variant selon les productions attendues 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 la part d’élèves ou d’apprentis qui, au sortir de la troisième générale ou de la troisième préparant à la voie professionnelle, n’auront peut-être pas encore validé la compétence 1 du socle commun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8232-7A91-4BE4-A23B-C0604B7B479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e nécessaire collaboratio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55280" y="1267920"/>
            <a:ext cx="7588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Un enseignement en co-disciplinarité: professeur de français (PLP Lettres-histoire ou PLP langue-Lettres) et professeur d’économie-gestion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Chaque professeur apportant, selon les productions travaillées, ses compétences disciplinaires spécifiques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Dans un esprit de découverte, de mutualisation et d’enrichissement réciproques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A17A-092A-4A5B-A657-A2C532C8779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our des finalités divers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822240" y="1099800"/>
            <a:ext cx="752184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faire  évoluer les représentations des jeunes dans l’apprentissage d’un métier :  liaison EG /EP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faciliter les poursuites d’étud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parfaire les compétences  rédactionnelles des jeunes qu’elles soient professionnelles ou plus personnell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1C8B-DC9E-4A50-9955-C315AC03639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06:57:33Z</dcterms:created>
  <dc:creator>Simon</dc:creator>
  <dc:description/>
  <cp:keywords/>
  <dc:language>en-US</dc:language>
  <cp:lastModifiedBy>Edith Simon</cp:lastModifiedBy>
  <dcterms:modified xsi:type="dcterms:W3CDTF">2011-10-25T19:03:02Z</dcterms:modified>
  <cp:revision>167</cp:revision>
  <dc:subject/>
  <dc:title>Présentation PowerPoint</dc:title>
</cp:coreProperties>
</file>