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2153-D512-4D51-9FB8-1DCEF0AFAF8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A421-4BD4-4799-A0FB-3984CC6DA32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5B90-1825-4FE6-A304-63DF309D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43BE-E832-480A-AFDE-5677D9AB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DA70-043A-4068-B04F-FC8F7B6FE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489C-22A3-47CB-958D-351747EA5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90BC-F327-46F7-9044-09D8A283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4023-6BFC-46A5-A3DB-4C53AAE9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8111-0F46-48BB-A40B-6CDDED27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D2B8-01C4-4B82-A43E-B4A6C282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7194-E2E7-48A7-BD82-40B36D48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CF85-FFF1-4468-8035-082B01BD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E588-319D-4E81-9A43-0C345AE1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58D1-D08D-4965-AB3C-49C61413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AFE0-0F21-43FE-8000-7E83783427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Le BEP Métiers des services administratif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Diagramme 4" descr=""/>
          <p:cNvPicPr/>
          <p:nvPr/>
        </p:nvPicPr>
        <p:blipFill>
          <a:blip r:embed="rId1"/>
          <a:stretch/>
        </p:blipFill>
        <p:spPr>
          <a:xfrm>
            <a:off x="1517760" y="1378080"/>
            <a:ext cx="610848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80840" y="9540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b2181c"/>
                </a:solidFill>
                <a:latin typeface="Franklin Gothic Book"/>
                <a:ea typeface="Franklin Gothic Book"/>
              </a:rPr>
              <a:t>Tâches et attendus RAP BEP M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Object 7" descr=""/>
          <p:cNvPicPr/>
          <p:nvPr/>
        </p:nvPicPr>
        <p:blipFill>
          <a:blip r:embed="rId1"/>
          <a:stretch/>
        </p:blipFill>
        <p:spPr>
          <a:xfrm>
            <a:off x="123840" y="1000080"/>
            <a:ext cx="88948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re 1"/>
          <p:cNvSpPr/>
          <p:nvPr/>
        </p:nvSpPr>
        <p:spPr>
          <a:xfrm>
            <a:off x="428760" y="3175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Rapprochement avec les épreuves du BEP M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Object 5" descr=""/>
          <p:cNvPicPr/>
          <p:nvPr/>
        </p:nvPicPr>
        <p:blipFill>
          <a:blip r:embed="rId1"/>
          <a:stretch/>
        </p:blipFill>
        <p:spPr>
          <a:xfrm>
            <a:off x="225360" y="1000080"/>
            <a:ext cx="880128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Attache du BEP MSA à une classe de situ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Object 17" descr=""/>
          <p:cNvPicPr/>
          <p:nvPr/>
        </p:nvPicPr>
        <p:blipFill>
          <a:blip r:embed="rId1"/>
          <a:stretch/>
        </p:blipFill>
        <p:spPr>
          <a:xfrm>
            <a:off x="284040" y="1292400"/>
            <a:ext cx="873468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b2181c"/>
                </a:solidFill>
                <a:latin typeface="Franklin Gothic Book"/>
                <a:ea typeface="Franklin Gothic Book"/>
              </a:rPr>
              <a:t>Zoom sur une sit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ZoneTexte 2"/>
          <p:cNvSpPr/>
          <p:nvPr/>
        </p:nvSpPr>
        <p:spPr>
          <a:xfrm>
            <a:off x="457200" y="12952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.1. Gestion administrative des relations avec les fournisse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ituation : </a:t>
            </a:r>
            <a:r>
              <a:rPr b="1" lang="fr-FR" sz="1800" spc="-1" strike="noStrike">
                <a:solidFill>
                  <a:srgbClr val="b2181c"/>
                </a:solidFill>
                <a:latin typeface="Calibri"/>
              </a:rPr>
              <a:t>1.1.5- Gestion des règlements et traitement des liti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286000"/>
          <a:ext cx="8610840" cy="3463920"/>
        </p:xfrm>
        <a:graphic>
          <a:graphicData uri="http://schemas.openxmlformats.org/drawingml/2006/table">
            <a:tbl>
              <a:tblPr/>
              <a:tblGrid>
                <a:gridCol w="1922760"/>
                <a:gridCol w="2085840"/>
                <a:gridCol w="4602240"/>
              </a:tblGrid>
              <a:tr h="25416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dus du bac 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che BEPM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dus BEP M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 rowSpan="4"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règlements aux fournisseurs sont suivis et les litiges sont traités dans la limite des responsabilités impar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T2 -</a:t>
                      </a: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 Saisie et mise en forme de courriers, de notes, des comptes-rend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Les documents sont réalisés dans le respect des normes de présentation avec une bonne lisibilit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5 -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, contrôle et codification des docu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informations manipulées sont mises à jour, les données saisies exactes et les résultats fia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3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Mise à jour et rangement des dossi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dossiers sont ordonnés et leur contenu actualis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R3 </a:t>
                      </a: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- Restitution vers le supérieur hiérarchique du travail réalisé, des problèmes rencontr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Le supérieur hiérarchique est informé du résultat de la tâche confiée et des difficultés rencontré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4:25:37Z</dcterms:created>
  <dc:creator>Isa</dc:creator>
  <dc:description/>
  <cp:keywords/>
  <dc:language>en-US</dc:language>
  <cp:lastModifiedBy>Edith Simon</cp:lastModifiedBy>
  <dcterms:modified xsi:type="dcterms:W3CDTF">2011-10-25T19:13:03Z</dcterms:modified>
  <cp:revision>40</cp:revision>
  <dc:subject/>
  <dc:title>Rattachement BEP MSA</dc:title>
</cp:coreProperties>
</file>