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D1CF-0AB3-4CAC-AAA8-615591A50C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B15D-4D7E-4C55-8F8F-25539820E0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79EF-5E3F-4EB0-A197-97C0DDE3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9D3-45E7-4C66-B918-7B3E6ED6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6AD6-2A06-40A5-A55C-4634C5E9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03F-D6E4-43F2-BC8D-F3225242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3349-F8C7-4DB7-BE2B-BF757424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A231-44E3-4572-8AA7-79B5DDBF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5C32-A3E3-4214-B4AD-CB85130D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352C-A5EA-4D42-B2D0-FFB8198B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F18C-AFEC-4754-B4A8-A0977945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4859-4390-4ECC-BAAA-564E1248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EFD6-B9D9-4D76-956C-5853DFE1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9984-D9D5-4494-BEB9-D0E7CBAA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BF2C-A4EF-4916-83CA-5CA75B81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DD0B-C4E5-40F6-9555-CA8BDA93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EBFF-FDFD-4300-84E5-71702FDE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0343-C447-4C35-A63D-FFDF4BFE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BD36-C9DF-436C-977B-0CBC2307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DD437-1BEF-42DF-B45A-DFFEB783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E89AB-C910-4770-89B5-A683F020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3D739-5160-43C9-A654-838DEBCA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E223D-024C-4B2E-8520-8CB50A6E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88994-A2D4-478B-9D03-4774111D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B8E-3047-499E-BA8E-A9C37D59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61F6B-9088-48C7-B68C-D7ED553D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21E0E-1A15-45DC-B897-FB12591A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F2C79-9D05-4919-A855-0F862342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83BB0-FB6F-4F1C-BE17-7ED2DA5B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3A135-D384-41DC-8726-157EA0CF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1CE18-D2D1-4DEE-98CF-7D98DB09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F4410-F30D-45C4-A8D8-EA7A5252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7A384-E7E5-40BD-9489-33F0CE0D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E9BB8-E614-49DA-A5D7-7D88838E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0581F-4A25-4538-A274-AFCA1955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125B-F819-4B63-B853-85A14665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4A590-81E8-4EED-8B78-289B6807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B9795-5802-41DD-807E-C5409B06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D7C2D-BEA6-4EC0-9B26-C0DAE497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C9817-D90C-4E3F-B96C-64BC6575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5B334-08F6-4B23-B083-877741AB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DDD34-73BC-4AB4-A8C2-836B47EE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73006-7580-454B-9DC2-E5B22A4D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CE220-B2C7-46FC-9B56-649234821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79AEC-DDFE-428F-B65F-9FA23A14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D3A32-744E-44A5-B613-ED58D23B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3594-A41B-4B06-8727-F89F3086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96A36-A6E3-4C6E-9475-5796C750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1F0F0-ED04-4155-9ABD-38678D98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AED91-93D2-49F7-BA4F-3B4EC2B7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C4E68-4AA0-40A2-B3D8-E8A21E5C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BEC63-72CE-4320-B322-6F57480E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EA9A2-C5C8-4444-86DF-EB582D1C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43C00-2928-4A78-847F-28558497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C409C-D73E-4B40-B3C9-A3DF6BCB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79394-D7C2-4A70-B47C-67EB91A4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C40A2-71DA-4A84-85A3-A42B2645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8801-85B3-4708-BE91-8563FB32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F20D5-EE19-4B88-9604-9DE49245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81A57-54A1-49CE-9A93-6382456E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2C5E0-1BF8-4BF6-BA34-F00EE9D1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15876-F681-4207-BEDB-5F341FE0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2EE64-EBA2-42F4-B97B-0432E2E1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7A4E0-4302-4E65-8DF7-F3F9F3F8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7BF1E-C193-4F40-B351-9EFDEC88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3ABFF-CB1A-4B1E-A2E2-B1B5A568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3CD74-DE67-43A0-B987-CA3923BE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CC568-14F4-4634-AC5A-C33DFC3F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5DFA-1F0A-4006-B2CA-5465663A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D6718-BD30-4788-9242-B0BD66DF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A218D-DC09-4120-ACB8-D88F4CC2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42B0B-CDF0-46A2-9A4E-D6291C2F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0FE5-C34C-440F-BC76-B8E63246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683F-5F95-4DB8-8A2D-788863AA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E78C-8795-4DA3-B78F-C38AFF87C1F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E5D4-CC83-497A-81CA-D17F4A4913DF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" name="Picture 2" descr="E:\Mes docs\DD_Paris\AL\2010_2011\BTS_SIO\MENJVA_LOGO_Q.gif"/>
          <p:cNvPicPr/>
          <p:nvPr/>
        </p:nvPicPr>
        <p:blipFill>
          <a:blip r:embed="rId2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6093-CFC7-47BF-BF7D-58B064E4604C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BE10-3152-4CD0-9F3B-B9DC25F95AD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9C3B-C149-4942-BBA1-D5830D5A1A5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6127-56C9-4C2D-9202-4B045744889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AE08-D655-4C80-AC9E-FF370723EA9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D397-7F4C-4802-8D90-41241C28C51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425B-318F-4489-A7BF-176D734AEB4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7E9D-E4B1-4237-8765-BA06CA1F284F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ACCB-3000-4517-A009-05533E58528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D152-A3A5-4E03-818E-37F2BAC4FD2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-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 rot="19126800">
            <a:off x="1416960" y="2542680"/>
            <a:ext cx="756108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8374a"/>
                </a:solidFill>
                <a:latin typeface="Franklin Gothic Book"/>
                <a:ea typeface="Tunga"/>
              </a:rPr>
              <a:t>BACCALAURÉAT PROFESSIONNEL GESTION -ADMINISTRATION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27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27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6D30-7368-44D0-B1EF-E631027819A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85840" y="479520"/>
          <a:ext cx="8572320" cy="5675040"/>
        </p:xfrm>
        <a:graphic>
          <a:graphicData uri="http://schemas.openxmlformats.org/drawingml/2006/table">
            <a:tbl>
              <a:tblPr/>
              <a:tblGrid>
                <a:gridCol w="2647800"/>
                <a:gridCol w="3332160"/>
                <a:gridCol w="2592360"/>
              </a:tblGrid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ONNÉES DE LA SIT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SAVOIR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SSOCI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PERFORMANC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87440">
                <a:tc rowSpan="2">
                  <a:txBody>
                    <a:bodyPr lIns="46080" rIns="4608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aractéristiques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liste et le statut des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dre du jou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carnet d’adr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 annu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signalét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lan du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équipements et supports d’affich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 de commun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onsignes de sécurité et 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mission des comptes rend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environnement numérique d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ganisation logistique des réun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de gestion du tem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accueil des grou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hénomènes de grou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de transmission de l’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s et les enjeux de 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professionnel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rits professionnels liés à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collaborati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nctionnalités bureautique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présentation des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rôle des acteurs et des partenair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ns l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prise de notes, les abréviations, les sché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frontation de plusieurs prises de 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synthès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aroles rapportées, les dialogues, la ci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modes et temps des verbes : le présent de l’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intes de dates et de lie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mbre important de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nsité des é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daction du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ueil de participants étran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unions à 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cation ou annulation de la date de l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ieu indispon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vocations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 de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s matérielles et logis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OMPÉT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RITÈR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’ÉVAL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RÉSULTATS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S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éunion se déroule dans les conditions attendues, avec les supports demandés, et les comptes rendus sont adressé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ser la logistique administrative d’un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icacité dans l’organisation et le suivi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3"/>
          <p:cNvSpPr/>
          <p:nvPr/>
        </p:nvSpPr>
        <p:spPr>
          <a:xfrm>
            <a:off x="468360" y="1335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3.2. Gestion des modes de travai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r>
              <a:rPr b="1" lang="fr-FR" sz="12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3.2.1. </a:t>
            </a:r>
            <a:r>
              <a:rPr b="1" lang="fr-FR" sz="16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ORGANISATION ET SUIVI DE RÉUNIO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Bulle ronde 9"/>
          <p:cNvSpPr/>
          <p:nvPr/>
        </p:nvSpPr>
        <p:spPr>
          <a:xfrm>
            <a:off x="1714680" y="428760"/>
            <a:ext cx="2000160" cy="714240"/>
          </a:xfrm>
          <a:prstGeom prst="wedgeEllipseCallout">
            <a:avLst>
              <a:gd name="adj1" fmla="val 69828"/>
              <a:gd name="adj2" fmla="val -11574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Savoirs nécessaires à l’action, savoirs pragmatiques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Bulle ronde 10"/>
          <p:cNvSpPr/>
          <p:nvPr/>
        </p:nvSpPr>
        <p:spPr>
          <a:xfrm>
            <a:off x="5000760" y="1357200"/>
            <a:ext cx="1357200" cy="571680"/>
          </a:xfrm>
          <a:prstGeom prst="wedgeEllipseCallout">
            <a:avLst>
              <a:gd name="adj1" fmla="val -74810"/>
              <a:gd name="adj2" fmla="val 31999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Approche managéria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Bulle ronde 11"/>
          <p:cNvSpPr/>
          <p:nvPr/>
        </p:nvSpPr>
        <p:spPr>
          <a:xfrm>
            <a:off x="5000760" y="3643200"/>
            <a:ext cx="2643120" cy="785880"/>
          </a:xfrm>
          <a:prstGeom prst="wedgeEllipseCallout">
            <a:avLst>
              <a:gd name="adj1" fmla="val -37615"/>
              <a:gd name="adj2" fmla="val -81111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fondements de l’activité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Bulle ronde 12"/>
          <p:cNvSpPr/>
          <p:nvPr/>
        </p:nvSpPr>
        <p:spPr>
          <a:xfrm>
            <a:off x="571680" y="3929040"/>
            <a:ext cx="2357280" cy="1143000"/>
          </a:xfrm>
          <a:prstGeom prst="wedgeEllipseCallout">
            <a:avLst>
              <a:gd name="adj1" fmla="val 50759"/>
              <a:gd name="adj2" fmla="val -43578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Maîtrise de la langue française, qualité de l’expression,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gage de réussite  sociale et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9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20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Espace réservé du contenu 2"/>
          <p:cNvSpPr/>
          <p:nvPr/>
        </p:nvSpPr>
        <p:spPr>
          <a:xfrm>
            <a:off x="4786200" y="2604960"/>
            <a:ext cx="4000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6a6a6"/>
                </a:solidFill>
                <a:latin typeface="Franklin Gothic Book"/>
                <a:ea typeface="Tunga"/>
              </a:rPr>
              <a:t>EN RÉSUMÉ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DE TRAVAIL ANCRÉES      DANS UNE RÉALITÉ PROFESSIONNELLE   PARFOIS COMPLEXE, JAMAIS STATIQ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PROFESSIONNELLES  ENGLOBANT PROCESSUS D’APPRENTISSAGE   ET DÉVELOPPEMENT PROFESSIONN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6760" y="365040"/>
            <a:ext cx="8572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’activité courante du gestionnaire administratif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73AC-0099-4AB7-A2E3-49069AC925D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Rectangle 4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731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 rot="19140000">
            <a:off x="784080" y="1576080"/>
            <a:ext cx="521352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49840" y="2619360"/>
            <a:ext cx="403704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Franklin Gothic Book"/>
              </a:rPr>
              <a:t>Aptitude général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79a3"/>
                </a:solidFill>
                <a:latin typeface="Franklin Gothic Book"/>
              </a:rPr>
              <a:t>Améliorer la productivité administrativ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852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B06C-0A8B-42F6-A6CB-A6DB577099B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activité professionnelle évolutive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6C1B-280D-4BA2-BDFD-FEC79F5859D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ZoneTexte 4"/>
          <p:cNvSpPr/>
          <p:nvPr/>
        </p:nvSpPr>
        <p:spPr>
          <a:xfrm>
            <a:off x="785880" y="1522440"/>
            <a:ext cx="7572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Les métiers administratifs sont par nature transversaux, tous les secteurs sont concernés. Le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caractère « situé » du référenti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ans lequel chaque activité citée renvoie à des situations de travail réelles,  permet d’éviter une vision « diluée » du métier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Que l’organisation requiert une forte polyvalence, ou bien une spécialisation,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le gestionnaire administratif devra s’adapter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ux divers interlocuteurs, aux contextes et aux modes d’organisation du travail mis en plac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Placé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au cœur d’un réseau relationnel très large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, il devra aussi intégrer dans son activité, les rôles, places et statuts de chacun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 rot="19140000">
            <a:off x="610920" y="1439280"/>
            <a:ext cx="587376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14 SITUATIONS PROFESSIONNELLES</a:t>
            </a:r>
            <a:br>
              <a:rPr sz="2800"/>
            </a:b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DE RÉFÉRENC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6" name="Espace réservé du contenu 2" descr=""/>
          <p:cNvPicPr/>
          <p:nvPr/>
        </p:nvPicPr>
        <p:blipFill>
          <a:blip r:embed="rId1"/>
          <a:stretch/>
        </p:blipFill>
        <p:spPr>
          <a:xfrm>
            <a:off x="4475160" y="2828880"/>
            <a:ext cx="4681440" cy="3462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 rot="19140000">
            <a:off x="129816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Franklin Gothic Book"/>
              </a:rPr>
              <a:t>POLE 3 GESTION ADMINISTRATIVE INTERNE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F756-6342-4D3A-BA87-8055CBD1F2D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information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56800" y="1642680"/>
            <a:ext cx="764388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1 Collecte et recherche d’informat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2 Production d’informations structuré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3 Organisation et mise à disposition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C0BE-AD19-46FA-BBFE-B00ECA523EC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Espace réservé du texte 4"/>
          <p:cNvSpPr/>
          <p:nvPr/>
        </p:nvSpPr>
        <p:spPr>
          <a:xfrm>
            <a:off x="785880" y="3573360"/>
            <a:ext cx="592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2240" y="507600"/>
            <a:ext cx="7521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modes de travai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63280" y="1356840"/>
            <a:ext cx="75661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1 Organisation et suivi de réun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2 Gestion des flux de courrie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3 Gestion des flux téléphon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4 Gestion d’espaces collaboratif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6044-B278-49F8-9911-43AE2B18CCF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Espace réservé du texte 4"/>
          <p:cNvSpPr/>
          <p:nvPr/>
        </p:nvSpPr>
        <p:spPr>
          <a:xfrm>
            <a:off x="785880" y="500076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364680"/>
            <a:ext cx="85010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espaces de travail et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ressourc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1 Orientation et information des visiteu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2 Maintien opérationnel des postes de travail et aménagement des espac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3 Gestion des contrats de Maintenance, abonnements, licences informat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4 Participation au suivi du budget de fonctionnement du servi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5 Gestion des fournitures, consommables et petits équipements de bureau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2728-3375-4194-BCE3-AE82532D85D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Espace réservé du texte 4"/>
          <p:cNvSpPr/>
          <p:nvPr/>
        </p:nvSpPr>
        <p:spPr>
          <a:xfrm>
            <a:off x="785880" y="321480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Espace réservé du texte 4"/>
          <p:cNvSpPr/>
          <p:nvPr/>
        </p:nvSpPr>
        <p:spPr>
          <a:xfrm>
            <a:off x="785880" y="4143240"/>
            <a:ext cx="785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u temp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70580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1 Gestion des agenda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2 Planification et suivi des activité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8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4114-992B-496A-BD7A-E8D99618BA3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45:51Z</dcterms:created>
  <dc:creator>Isa</dc:creator>
  <dc:description/>
  <dc:language>en-US</dc:language>
  <cp:lastModifiedBy>Edith Simon</cp:lastModifiedBy>
  <dcterms:modified xsi:type="dcterms:W3CDTF">2011-10-25T19:10:11Z</dcterms:modified>
  <cp:revision>130</cp:revision>
  <dc:subject/>
  <dc:title>pôle 3 gestion administrative</dc:title>
</cp:coreProperties>
</file>