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8117-47ED-4CD4-B470-083B94B2868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D8FF-D176-46CE-ABBB-6A3B95A04C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BD0F-99AD-4AC3-9FF6-BB71C244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0BF0-B1BF-49BC-A818-DFE7D252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EE41-59BC-442D-83C0-20B3ECF0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6AAD-5E2B-422F-8544-6D82B048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F597-B819-45BD-9113-06FE75C8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723C-CFE1-465D-ACA3-1EE1FC85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0C3C-F547-4B5F-91C5-858BF29F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F7CF-840C-4635-A110-7C92E499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8E98-57FB-408D-B35C-D7DB40C6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A194-D4CD-4BF3-BEB6-7C67DAF5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F610-437B-41A3-97CE-3B0B51A7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D4DF-972D-405F-ABC9-C340F688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B51C-9149-406F-897F-39B72A95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C660-CE75-4444-9A65-49F53843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1B97-2480-4489-9662-4B555CB4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3D7F-BD6E-4145-B593-45CBF742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D0CD-3B83-47D5-9C79-7AF19D3C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EA1F6-4C37-4AE9-A377-F132616E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1ECDA-F434-4E4C-A501-7868A87B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22F52-253C-49B5-AEBE-E0472B7B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2CB54-5BF4-4578-9E8F-5FF0ADD1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CA5A2-5583-4744-B270-ADFF4A20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5350-A95F-4173-A722-A733F27D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2FDC9-9B9A-424A-A3B9-0321F34A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8946E-A811-401C-9C08-7E2B4B20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E186F-E755-400E-A21C-0078DE92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3AB7B-2482-43E3-9B6F-75358973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DA982-D2B2-436B-9FE2-BDBDC18A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7AF18-93AC-4C7F-8FA3-3300A35A3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62B6E-1309-42E4-8273-1F011BA4D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091B2-5115-45AB-9CFA-A2CDCFC1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70C9B-2067-4C07-A1D2-6A75DF5F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48578-B572-4C7A-8124-12E55FBA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32EB-66A7-43E8-96EA-93AEF780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FA422-E6A1-498D-9039-794E4704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0D292-0BE7-4B94-A736-FF7742A2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79683-CB54-4564-8CC1-CC6A447C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54D70-2E71-4532-8ABB-79FD6802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8FDA4-4E1B-479B-BDC2-325AB4D0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91F72-1298-4A66-A144-EAF59701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216DA-FB01-43C1-A64D-8E1DC86D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A3BC1-45F7-48E0-9401-75D76046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EBD01-D6CD-4EDF-A23A-F7765310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D156B-7536-4762-9165-D1578DA0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42BA-184A-4B80-90C3-05A3532E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10CBC-CC04-4BB3-B743-99DC38FE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E1ECB-97F3-4F5D-B670-F3618DB5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9A78C-0750-4C78-814B-76BF9E9C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26098-AA4D-4EBF-AE17-B9432B33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AB61E-F613-446D-BF36-889252DA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5AC1F-CF01-49F0-AC09-CBC08F53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55077-149F-4434-B89C-C3457A7B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8E40E-79B1-4054-9459-FF14AD48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CEBF7-FAAB-4B9A-99D7-2D785DF9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0E9A0-CE53-4BB5-87D0-540DDB54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05D1-DECD-4416-9348-D8D5ED99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6C4C0-81E3-4D4C-A311-5A59877C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0BDB3-9635-48FA-A8E8-5B727DFC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4289A-3E3F-42DB-8A0A-D5FEDE93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77030-4736-44D7-8BC0-1547F3B8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188EC-58CC-4D06-A324-8BB66ACA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3F0CA-F1A1-4DEB-9C85-FF13C613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ACB17-53A5-45D8-A1C3-F25D5DDF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0A2B1-301E-4E53-811D-7566D981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08738-38AD-49E7-85AE-9137978D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C5DA5-02FB-429B-8BAC-031B7DBA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E1A3-06FB-4290-B9D3-4E830460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622A6-8FD2-4934-8629-CCCCD899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58A42-A2BD-46FF-A1F7-19EAA28B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11513-3AC6-49D2-BA99-3E4872F7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BB8E5-D839-4E43-B59D-34014843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C1226-247A-49B7-B450-252ED204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E3CE6-0291-41A5-A869-C435EDA5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B7299-8683-4593-BBBE-046BD5BD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60F65-5C7F-42A4-9EEC-E1308F73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2CFDE-817F-48EF-ACD5-B6DE218E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3E458-CF8B-4D9E-BC6B-9EB0BAD3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D62C-0347-4AAF-ADCC-BD07C242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98D21-A2AB-4DF8-B76E-6004D39E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523CB-7A7D-4AEE-B43A-6B1E6FAE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479F8-07FA-4D97-AD65-554F294A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31278-A372-4BB9-9479-B797CB76F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95FF8-4473-4592-A62F-9468A127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86FBA-85F7-400C-A279-A0A84E28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3AE77-CB0C-44DB-A125-17C2BF2F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FF60F-2196-4118-86DC-E6B9EFE5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AFB42-EF44-4CC7-BCA4-6DB19D9A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04B5B-9F56-461D-96DA-CA1AE2E8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5298-32CB-4ECA-9384-0950EBF9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B20AE-F98F-40E7-85AA-FF2EF9FC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000B1-CEEF-40A2-8438-A42E17F8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53C11-389A-4F85-998C-80F70516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E423D-4157-4C9C-9D86-B96EC8C4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8B5AC-01CC-4A2A-AABC-C8E939CE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254EB-BBD7-4358-A131-544FA0A0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9CEB5-FB3B-4F16-9206-3EB0D5C3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C2A1-617A-47F9-B33A-EE5124E38D51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67E5-900F-41F0-A93A-762E1A58894D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D89C-9C52-4477-ACD8-AD6B8D5D92C6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90B1-FB1C-453B-9E18-810F19B5176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2CA9-794D-4322-8FB7-FB6CF166056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4070-5B33-41F3-B3D8-9FBB6F5BE0C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CEDB-74AC-4DD9-8CF7-DEFE2C9E7F3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235A-8AB3-480F-AA8F-5D09AFD5D7B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6B76-D666-4AD7-BB0F-7104B0EB9AE6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E71D-F68F-4BBE-B8A3-3972FF9D5AC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6906-99D1-45EA-A4DC-9231B1E4EE3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4B11-0638-45D5-A151-840D66BBF0D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A0F7-388F-45FB-8F15-ABDF8CB8274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DD45-F675-4CAA-BA4A-87E7709084B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521A-A310-4CF9-98D5-94E3393FD60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9B84-92D9-4547-8207-8941909E25B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Amenagement_espace_pro.pptx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 la salle informatiqu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à l’espace professionnel…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 effets positifs….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55280" y="1100160"/>
            <a:ext cx="75884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environnement agréable et fonctionnel.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es élèves ont chacun un petit espace de travail et se retrouvent plus ou moins séparés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ambiance de travail différente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élèves responsabilisés sur leurs conditions de travail et donc peu de dégradations.</a:t>
            </a:r>
            <a:r>
              <a:rPr b="0" lang="fr-FR" sz="24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711B-1AA1-4B98-A937-85C54E06A91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impact sur les élèv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55280" y="620280"/>
            <a:ext cx="7588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vorise le travail en autonomie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entre élèves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mpose des règles de vie professionnelle (pas de bruit lorsqu’un collaborateur est au téléphone, tenue et postur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encourage le travail en équipe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nduit  un changement de statut pour l’élève (passage d'une classe traditionnelle à des locaux d’entrepris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A454-71AB-4395-B875-E63D399387C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impact pour les enseignant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B069-458A-4DFD-A4FA-1E74B2D1370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611280" y="765000"/>
            <a:ext cx="765972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professeur-élè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rend la relation professeur-élève plus profess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à l’enseignant de reproduire plus facilement des situations professionnelles (salle de réunion, téléphone, accueil client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de décloisonner ses activ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s déplacements dans la s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Une opportunité pour conduire un projet avec les élèv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95280" y="981000"/>
            <a:ext cx="85694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es situations professionnelles du référentiel du Bac pro GA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Exemples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1 :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1.1.2. TRAITEMENT DES ORDRES D’ACHAT, DES COMMAND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3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3.3.2 . MAINTIEN OPÉRATIONNEL DES POSTES DE TRAVAIL ET AMÉNAGEMENT DES ESPAC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’EGLS (Maths/sciences; Arts appliqués…)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A5D7-F5EC-4AB6-9730-DEFC6E73FB9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à coins arrondis 1"/>
          <p:cNvSpPr/>
          <p:nvPr/>
        </p:nvSpPr>
        <p:spPr>
          <a:xfrm>
            <a:off x="6588000" y="5157720"/>
            <a:ext cx="2016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b7378"/>
                </a:solidFill>
                <a:latin typeface="Franklin Gothic Book"/>
              </a:rPr>
              <a:t>Un </a:t>
            </a:r>
            <a:r>
              <a:rPr b="0" lang="fr-FR" sz="18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755280" y="1557360"/>
            <a:ext cx="7521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référentiel écrit en situations professionnell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identification métier à valoriser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a nécessité de privilégier la multivalen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BBA0-7AA3-4932-8401-F569CC7B3E9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itre 1"/>
          <p:cNvSpPr/>
          <p:nvPr/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ourquoi ce besoi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Quitter le mode frontal, scolair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01AC-6602-429A-9B57-FAF4814087E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Image 1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4608360" cy="3463920"/>
          </a:xfrm>
          <a:prstGeom prst="rect">
            <a:avLst/>
          </a:prstGeom>
          <a:ln w="0">
            <a:noFill/>
          </a:ln>
        </p:spPr>
      </p:pic>
      <p:pic>
        <p:nvPicPr>
          <p:cNvPr id="363" name="Image 5" descr=""/>
          <p:cNvPicPr/>
          <p:nvPr/>
        </p:nvPicPr>
        <p:blipFill>
          <a:blip r:embed="rId2"/>
          <a:stretch/>
        </p:blipFill>
        <p:spPr>
          <a:xfrm>
            <a:off x="4067280" y="2522520"/>
            <a:ext cx="477036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36504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…</a:t>
            </a:r>
            <a:r>
              <a:rPr b="1" lang="fr-FR" sz="2800" spc="-1" strike="noStrike">
                <a:solidFill>
                  <a:srgbClr val="c00000"/>
                </a:solidFill>
                <a:latin typeface="Franklin Gothic Medium"/>
              </a:rPr>
              <a:t>pour aller vers un espace professionnel polyvalen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286A-EF0F-4205-8B32-9C0F0F493C7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Image 1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9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professionnel polyvalent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8F2F-3937-4848-B17B-8BE761ABF4A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Image 1" descr=""/>
          <p:cNvPicPr/>
          <p:nvPr/>
        </p:nvPicPr>
        <p:blipFill>
          <a:blip r:embed="rId1"/>
          <a:stretch/>
        </p:blipFill>
        <p:spPr>
          <a:xfrm>
            <a:off x="992160" y="1574640"/>
            <a:ext cx="6804000" cy="4500720"/>
          </a:xfrm>
          <a:prstGeom prst="rect">
            <a:avLst/>
          </a:prstGeom>
          <a:ln w="0">
            <a:noFill/>
          </a:ln>
        </p:spPr>
      </p:pic>
      <p:sp>
        <p:nvSpPr>
          <p:cNvPr id="372" name="ZoneTexte 2"/>
          <p:cNvSpPr/>
          <p:nvPr/>
        </p:nvSpPr>
        <p:spPr>
          <a:xfrm>
            <a:off x="914040" y="108432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fférents espac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7C2C-CAD7-40DD-9086-B701AD5F5D4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ZoneTexte 6"/>
          <p:cNvSpPr/>
          <p:nvPr/>
        </p:nvSpPr>
        <p:spPr>
          <a:xfrm>
            <a:off x="915120" y="270828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comptoir d’accue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Image 1" descr=""/>
          <p:cNvPicPr/>
          <p:nvPr/>
        </p:nvPicPr>
        <p:blipFill>
          <a:blip r:embed="rId1"/>
          <a:stretch/>
        </p:blipFill>
        <p:spPr>
          <a:xfrm>
            <a:off x="4290840" y="1297080"/>
            <a:ext cx="3305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1F1D-7D2F-4968-A9BC-9E4A175FBBA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ZoneTexte 6"/>
          <p:cNvSpPr/>
          <p:nvPr/>
        </p:nvSpPr>
        <p:spPr>
          <a:xfrm>
            <a:off x="914040" y="142884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salle de ré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Image 1" descr=""/>
          <p:cNvPicPr/>
          <p:nvPr/>
        </p:nvPicPr>
        <p:blipFill>
          <a:blip r:embed="rId1"/>
          <a:stretch/>
        </p:blipFill>
        <p:spPr>
          <a:xfrm>
            <a:off x="2556000" y="2028960"/>
            <a:ext cx="536868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DE5D-B421-403B-A53D-E919D1DA5FD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ZoneTexte 6"/>
          <p:cNvSpPr/>
          <p:nvPr/>
        </p:nvSpPr>
        <p:spPr>
          <a:xfrm>
            <a:off x="903960" y="142884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st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Photo003"/>
          <p:cNvPicPr/>
          <p:nvPr/>
        </p:nvPicPr>
        <p:blipFill>
          <a:blip r:embed="rId1"/>
          <a:stretch/>
        </p:blipFill>
        <p:spPr>
          <a:xfrm>
            <a:off x="3564000" y="1628640"/>
            <a:ext cx="487188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d’entrainement téléphoniqu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6DD2-754A-49AF-BC70-E9F86C15AE5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ZoneTexte 6"/>
          <p:cNvSpPr/>
          <p:nvPr/>
        </p:nvSpPr>
        <p:spPr>
          <a:xfrm>
            <a:off x="179280" y="105264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rmation des élèves sur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ert d'app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versation à plusi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se en att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amétrage de la messageri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HPIM3875"/>
          <p:cNvPicPr/>
          <p:nvPr/>
        </p:nvPicPr>
        <p:blipFill>
          <a:blip r:embed="rId1"/>
          <a:stretch/>
        </p:blipFill>
        <p:spPr>
          <a:xfrm>
            <a:off x="4284720" y="1341360"/>
            <a:ext cx="4583160" cy="3436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HPIM3878"/>
          <p:cNvPicPr/>
          <p:nvPr/>
        </p:nvPicPr>
        <p:blipFill>
          <a:blip r:embed="rId2"/>
          <a:stretch/>
        </p:blipFill>
        <p:spPr>
          <a:xfrm>
            <a:off x="250920" y="3328920"/>
            <a:ext cx="3900240" cy="29257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8"/>
          <p:cNvSpPr/>
          <p:nvPr/>
        </p:nvSpPr>
        <p:spPr>
          <a:xfrm>
            <a:off x="4356000" y="50133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chnologie I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ormation en pool téléphonique pour des actions de démarchage par télé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22:30Z</dcterms:modified>
  <cp:revision>31</cp:revision>
  <dc:subject/>
  <dc:title>Baccalauréat professionnel Gestion -- Administration</dc:title>
</cp:coreProperties>
</file>