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EC690-DC16-43F1-9A59-FE7A3727D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6F939-17D2-4F1D-A15A-2D024DCAA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22FC1A-6007-4BCE-A1AC-A3CAB5CC0B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BA6E11-25C5-48D8-B69C-1EC95E30E6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697A5B-CDCE-4B64-9D65-0B6A40CA95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C8D0E6-3656-433F-8E45-AE460138D2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7"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5C5D51-7FA1-41F6-A293-DD607FBC3F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1"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89B1A2-2630-4B72-8F82-296C5F44BA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3"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4"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E9F559-2869-402A-917E-76F0EC0979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9"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E9C9F0-B996-4DDD-8C4E-989B3164D2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81"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2"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3"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4"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5"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6"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2C3AA1-0323-453C-9E00-F75C3E791A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273EC55-ED9C-478A-8EAA-8A5CB391F24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76C23-12CC-4A6C-A27C-0F3F0A1BB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5"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46D152-C9AE-40B5-AC04-E48342CA10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7"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1C2D602-4F10-421B-AC7F-E684D70BC4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E2B2AD-DB89-4F41-84C6-1652AE2861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7A6822-CE1C-4207-BAF3-7BF780D143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023922B-A3EE-4354-AEAB-17DF21091B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9D7905-5896-4E18-9CF3-83D717481C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0"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6ACD2D-0A33-407C-AB72-F3F72A6112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4"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9AAD97-A67A-4C6F-BF56-2BC6871614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6"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7"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5645D7-56AE-4FDD-80C5-965D9B6CFF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2"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1D02B59-81AB-492B-AE6E-DB14B2BFB2A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8DC69-AC1E-431C-BEE4-FFBB27867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24"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5"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6"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7"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8"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9"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E4BEA50-4CA5-4CEE-AB16-2DFC63F1155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C6E65C6-B676-4713-8787-DED99786493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3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278B3D-A224-433A-9BA1-B144845C68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FC00FD-E09E-4B27-A627-53DC879D48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51187B-307B-479A-89FA-B2B02ED7A5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68D933-0E46-48BD-9853-6B061577F2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54CA20-22B7-42C0-9AA0-617BE5613D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0997C3-9B78-4A4F-BDAD-62A9BD73EA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A189C4-614F-4322-AC6E-0C29C57B8E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13D50C-724D-4F03-8EF7-258405FF1F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AC8F9C-F496-4E88-9EA0-2A415C24D4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1B71CA-0CAF-4146-8B4F-0E408509B8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B927A53-C5B4-4301-BFCC-E2847E9CD91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5D13F60-3CE7-43FF-A609-9DB7FB5652F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11F1D-9DF0-4B4F-AC4F-61F1F93AA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8940A-999B-4815-870F-DB346E61B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B2F66-2984-413D-8D9B-92B944A48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8257C-9C48-4A72-B1E8-5C58E352E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05956-4BAE-4658-8779-55C42AD64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DC1F4-7EC9-4120-91A8-87B07EA54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B3641-6851-49EB-9C4C-4D3EC5FFD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5E8A6-7DBB-494C-B420-AF2F35871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35838-AEA0-4D0A-8A79-CD08152E9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8C87C-6445-4B42-B4D9-A4DE82960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649D15-35FD-4560-9959-611D592471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D8BA22-4F64-45E1-B7CC-E1A55D5F2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411813-2384-47F7-B7D4-281692DAED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3C565B-8584-40CE-9B5F-98D3C7290C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F68493-0290-42AD-B899-DFD7B0C8EE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04926E-2642-4161-8598-040DAA1229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AEF02D-6525-46B8-A941-92F1635815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B9BB8-306F-49F5-A26E-8857FD06D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EB0BDD-D5C5-4A22-959C-D6DC63D353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CA4DCA-7BA2-420C-8557-D0259903F4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8B0E46-7B82-4C57-88F6-8A6C8E62CE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C92735-2B96-437C-9808-4EBF270546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E4C32C-069B-415E-99CF-9D75E212AF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83F404-CFB1-467E-876F-5F6388D107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8ADB43-BF90-479F-8CDE-2D58296A4B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726F41-586A-4106-87A0-1634B72F9D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6C2B37-C18B-4EDA-BF40-16ED8FF5CB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D39E16-E8A2-45E5-8F4A-C033FED7C6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F62F2-8F28-427E-AC8C-71CACBF1E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6F2F75-38EF-4F7F-8C92-437958D346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BFE108-6E41-44B9-BB7C-962C3901A4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037F98-8FF3-4495-8743-A6E2FBDF2F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EBBA0B-8963-4A28-B984-848E632EE5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E480B0-8744-4FD0-8E1E-0D9ECB9EA7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72ADBA-365D-4550-82BE-F3606BEB8D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10D98B-97EB-4F2F-A23D-AABB5E7B3E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647C3C-0BE9-4875-9229-F473634079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9C994C-D74E-41BE-9180-0DC58EF92A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05A06C-3562-4EB0-A17D-D3168C2B97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F2D1D-5220-4393-ABDC-66DF80C04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4A0C14-235B-407A-9379-E6C7286974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6C16B3-B84F-4C6B-9F33-5FD9C89CE9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FCC619-6DE3-4DD5-934D-704F19F8C8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D239E9-2863-449C-A346-137D6ADAE7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836313-0FFA-4FFE-B080-E7D14C403A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0FF392-DD28-4A23-BDF8-1F21880A63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60D690-959C-4449-980C-9E68356DD2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23EECE-3087-4EEB-89E0-52C43A6E90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99ED64-44F1-4F08-B626-4A1B0FF9F9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BBDB2E-F0E8-4582-A2C4-3C93842113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572E9-2877-43D1-83DC-DD3A32894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944FDB-2FA5-4D92-A395-96C5522B99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D235A8-8650-47D4-91C5-8551FD1C1A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DB7A0A-038F-4C77-92C7-83F61DB19F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9AF030-A8F4-474B-B776-BDFC1221CC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5ADD9B-C4B5-4D6D-994D-D7B7CFB286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2383E6-4F71-479B-BDE6-A20E2DA6A4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E3026E-2028-48F9-9A55-5BC1BF3622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FA7E33-2450-49CF-A57D-58740F5591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84164D-EACE-485C-9FB0-BDA78CAE67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96854F-9BDC-4CC5-B9DE-1EEEA33D9E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1203A-BA90-4784-93EA-05A654E01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0CADC9-DA25-41AA-8A31-B39CB477B2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518264-7665-43F7-96C5-570209AF55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FC723E-273D-4433-B16E-54901D1A70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27A370-5444-4B27-A224-EB470E6E7F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FDAB4A-56CF-4D86-A894-AF5F4588E0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92FD99-B244-4BC0-A8E9-D6E349DB2E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728D1A-E080-4FB5-98F6-C915B5549F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7FD8A2-8F8C-49B5-B0AD-F5D289305C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D51C4E-3F28-4403-8111-C6FE5F05A4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D18610-CA3A-4ABF-B4EF-A77F4FD3C9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F5703-D6D4-4908-9560-6E25C4732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72CE01-4A4E-48C7-8132-8AAF66DEAC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333BCC-1387-4FB1-B4CF-9E18D81243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4127B2-54F4-465E-94EA-9011B2BAA9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FACB54-2204-4B0B-942C-DB0A27CFD1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E2205D-E79B-41DA-ADE5-81222DE6CF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D30F60-D11D-4E84-8DE5-B47DB1256B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1A59ED-9290-42BA-8F8A-9902A04244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870EEA-A0A4-4748-A8BD-826C18A84D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1A9162-B6AC-473E-B8DB-5AB3F7C3F6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F8ABCD-82C7-41A9-B521-7502976DC1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1C6E6-E1C6-4514-B108-C5B3221A8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6EF978-DBB2-47F2-805E-21FBCA0DC9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6A0D4E-7E81-4AA1-A746-48C5782AF0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A4FDCD-B3AB-4A44-B7AC-30D86FA799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0225BF-3FD9-412F-B619-22EC168D64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A6E6A5-E30E-4F9B-BC6C-C228057DCD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1621C7-254A-495F-B40B-5808CF5ACD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0B4D2C-72E1-4414-95B4-32E2E004FB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8EAE03-2855-4BE5-A440-B3FEA39B7D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2"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AE9A15-DDC6-474B-A9CD-61A6DC22B0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4"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BCC7AF-73F1-4218-B576-2C368B6E667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CCD96-E1B6-477A-BFE1-A2A48DF8C194}"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C46E0-8EC1-4C81-A35D-F7F687A3E909}" type="slidenum">
              <a:rPr b="0" lang="fr-FR"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8"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90"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91" name="PlaceHolder 3"/>
          <p:cNvSpPr>
            <a:spLocks noGrp="1"/>
          </p:cNvSpPr>
          <p:nvPr>
            <p:ph type="dt" idx="28"/>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A9D74-00D5-43BA-BA20-E8B1540A22F4}"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93" name="PlaceHolder 5"/>
          <p:cNvSpPr>
            <a:spLocks noGrp="1"/>
          </p:cNvSpPr>
          <p:nvPr>
            <p:ph type="sldNum" idx="30"/>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76D28-2188-4A2C-9E4F-BFF12A7D5F02}"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3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34" name="PlaceHolder 3"/>
          <p:cNvSpPr>
            <a:spLocks noGrp="1"/>
          </p:cNvSpPr>
          <p:nvPr>
            <p:ph type="dt" idx="3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0F84F-B37F-43EF-8F7D-391A873051C3}"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436" name="PlaceHolder 5"/>
          <p:cNvSpPr>
            <a:spLocks noGrp="1"/>
          </p:cNvSpPr>
          <p:nvPr>
            <p:ph type="sldNum" idx="33"/>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94A8-9A5C-42C0-96F6-DED0E2F939A3}"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dae2eb">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051D2-937A-4EBB-B7B3-E7F1C5315907}"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Times New Roman"/>
                <a:ea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Times New Roman"/>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00FC-BE68-474A-964F-59F7DADB0016}"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577B3-6AAC-41F4-A0A5-3174FE25058A}"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02ED7-45F7-4DA6-A531-429FD799ADB5}"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0"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944DE-E568-4AB0-9C52-710E8D37FDF7}"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D70D1-DDF6-442E-977F-83EE361075F4}"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3"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1E8F-47F6-44EB-95F4-D6CA6539BF46}"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30AFD-4EC3-45D7-A3E1-B30632322D92}"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6"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07073-A464-4931-8154-1B12861E6145}"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9FB93-CFF1-4F6C-8F99-E8B0DEBD3486}"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59"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1D6C-5C62-4BB9-9B43-B7D3FD735CA2}"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8EE52-E3DF-4AAF-BEA9-BA2164130E39}"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22B71-FB99-4D1D-81B7-62E680ECA830}"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434342"/>
                </a:solidFill>
                <a:latin typeface="Times New Roman"/>
              </a:rPr>
              <a:t>-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5C24-DA07-4D10-9F6A-D0EE54E0707C}"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5"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47"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48" name="PlaceHolder 3"/>
          <p:cNvSpPr>
            <a:spLocks noGrp="1"/>
          </p:cNvSpPr>
          <p:nvPr>
            <p:ph type="dt" idx="25"/>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3EC2C-6DBF-4D69-82E3-9F953E1F543A}"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50" name="PlaceHolder 5"/>
          <p:cNvSpPr>
            <a:spLocks noGrp="1"/>
          </p:cNvSpPr>
          <p:nvPr>
            <p:ph type="sldNum" idx="27"/>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B27F0-9A3D-4D86-B34D-7DD3D3EE66D5}"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rot="19107000">
            <a:off x="801360" y="1817280"/>
            <a:ext cx="6294240" cy="120348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L’épreuve E3 : </a:t>
            </a:r>
            <a:br>
              <a:rPr sz="3600"/>
            </a:br>
            <a:r>
              <a:rPr b="0" lang="fr-FR" sz="3600" spc="-1" strike="noStrike">
                <a:solidFill>
                  <a:srgbClr val="c00000"/>
                </a:solidFill>
                <a:latin typeface="Franklin Gothic Medium"/>
              </a:rPr>
              <a:t>Pratiques professionnelles </a:t>
            </a:r>
            <a:br>
              <a:rPr sz="3600"/>
            </a:br>
            <a:r>
              <a:rPr b="0" lang="fr-FR" sz="3600" spc="-1" strike="noStrike">
                <a:solidFill>
                  <a:srgbClr val="c00000"/>
                </a:solidFill>
                <a:latin typeface="Franklin Gothic Medium"/>
              </a:rPr>
              <a:t>de gestion administrative</a:t>
            </a:r>
            <a:endParaRPr b="0" lang="en-US" sz="3600" spc="-1" strike="noStrike">
              <a:solidFill>
                <a:srgbClr val="000000"/>
              </a:solidFill>
              <a:latin typeface="Franklin Gothic Medium"/>
            </a:endParaRPr>
          </a:p>
        </p:txBody>
      </p:sp>
      <p:sp>
        <p:nvSpPr>
          <p:cNvPr id="474"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475"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476"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0" y="441360"/>
            <a:ext cx="91440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E3 - Pratiques professionnelles de gestion administrative</a:t>
            </a:r>
            <a:endParaRPr b="0" lang="en-US" sz="2800" spc="-1" strike="noStrike">
              <a:solidFill>
                <a:srgbClr val="000000"/>
              </a:solidFill>
              <a:latin typeface="Franklin Gothic Medium"/>
            </a:endParaRPr>
          </a:p>
        </p:txBody>
      </p:sp>
      <p:sp>
        <p:nvSpPr>
          <p:cNvPr id="478" name=""/>
          <p:cNvSpPr txBox="1"/>
          <p:nvPr/>
        </p:nvSpPr>
        <p:spPr>
          <a:xfrm>
            <a:off x="609120" y="1447560"/>
            <a:ext cx="8001000" cy="4724280"/>
          </a:xfrm>
          <a:prstGeom prst="rect">
            <a:avLst/>
          </a:prstGeom>
          <a:noFill/>
          <a:ln w="0">
            <a:noFill/>
          </a:ln>
        </p:spPr>
        <p:txBody>
          <a:bodyPr anchor="t">
            <a:normAutofit fontScale="89000"/>
          </a:bodyPr>
          <a:p>
            <a:pPr>
              <a:spcBef>
                <a:spcPts val="799"/>
              </a:spcBef>
              <a:tabLst>
                <a:tab algn="l" pos="0"/>
                <a:tab algn="l" pos="6095880"/>
                <a:tab algn="l" pos="7351560"/>
                <a:tab algn="l" pos="8229600"/>
                <a:tab algn="l" pos="9144000"/>
                <a:tab algn="l" pos="10058400"/>
              </a:tabLst>
            </a:pPr>
            <a:r>
              <a:rPr b="0" lang="fr-FR" sz="2000" spc="-1" strike="noStrike">
                <a:solidFill>
                  <a:srgbClr val="28374a"/>
                </a:solidFill>
                <a:latin typeface="Franklin Gothic Book"/>
              </a:rPr>
              <a:t>Les </a:t>
            </a:r>
            <a:r>
              <a:rPr b="0" lang="fr-FR" sz="2000" spc="-1" strike="noStrike" u="sng">
                <a:solidFill>
                  <a:srgbClr val="28374a"/>
                </a:solidFill>
                <a:uFillTx/>
                <a:latin typeface="Franklin Gothic Book"/>
              </a:rPr>
              <a:t>compétences évaluées </a:t>
            </a:r>
            <a:r>
              <a:rPr b="0" lang="fr-FR" sz="2000" spc="-1" strike="noStrike">
                <a:solidFill>
                  <a:srgbClr val="28374a"/>
                </a:solidFill>
                <a:latin typeface="Franklin Gothic Book"/>
              </a:rPr>
              <a:t>et les </a:t>
            </a:r>
            <a:r>
              <a:rPr b="0" lang="fr-FR" sz="2000" spc="-1" strike="noStrike" u="sng">
                <a:solidFill>
                  <a:srgbClr val="28374a"/>
                </a:solidFill>
                <a:uFillTx/>
                <a:latin typeface="Franklin Gothic Book"/>
              </a:rPr>
              <a:t>critères d’évaluation</a:t>
            </a:r>
            <a:r>
              <a:rPr b="0" lang="fr-FR" sz="2000" spc="-1" strike="noStrike">
                <a:solidFill>
                  <a:srgbClr val="28374a"/>
                </a:solidFill>
                <a:latin typeface="Franklin Gothic Book"/>
              </a:rPr>
              <a:t> pour chaque sous épreuve sont tels qu’ils figurent dans le référentiel de certification.</a:t>
            </a: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1 – Gestion administratives des relations externes</a:t>
            </a:r>
            <a:r>
              <a:rPr b="1" lang="fr-FR" sz="2000" spc="-1" strike="noStrike">
                <a:solidFill>
                  <a:srgbClr val="28374a"/>
                </a:solidFill>
                <a:latin typeface="Franklin Gothic Book"/>
              </a:rPr>
              <a:t>	</a:t>
            </a:r>
            <a:r>
              <a:rPr b="1" i="1" lang="fr-FR" sz="1600" spc="-1" strike="noStrike">
                <a:solidFill>
                  <a:srgbClr val="b31805"/>
                </a:solidFill>
                <a:latin typeface="Franklin Gothic Book"/>
              </a:rPr>
              <a:t>Pôle 1</a:t>
            </a:r>
            <a:r>
              <a:rPr b="1" i="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2 – Gestion administrative interne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3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3 – Gestion administrative des projets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4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91a7c4"/>
                </a:solidFill>
                <a:latin typeface="Franklin Gothic Book"/>
              </a:rPr>
              <a:t>E34 – Prévention santé environnement </a:t>
            </a:r>
            <a:r>
              <a:rPr b="1" lang="fr-FR" sz="1600" spc="-1" strike="noStrike">
                <a:solidFill>
                  <a:srgbClr val="28374a"/>
                </a:solidFill>
                <a:latin typeface="Franklin Gothic Book"/>
              </a:rPr>
              <a:t>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p:txBody>
      </p:sp>
      <p:sp>
        <p:nvSpPr>
          <p:cNvPr id="479"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
        <p:nvSpPr>
          <p:cNvPr id="48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D4E7F-BC38-4884-A76E-4F2E224FBC3A}"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80520" y="380880"/>
            <a:ext cx="853452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s objectifs pour E31 E32 E33 ?</a:t>
            </a:r>
            <a:endParaRPr b="0" lang="en-US" sz="2800" spc="-1" strike="noStrike">
              <a:solidFill>
                <a:srgbClr val="000000"/>
              </a:solidFill>
              <a:latin typeface="Franklin Gothic Medium"/>
            </a:endParaRPr>
          </a:p>
        </p:txBody>
      </p:sp>
      <p:sp>
        <p:nvSpPr>
          <p:cNvPr id="482" name=""/>
          <p:cNvSpPr txBox="1"/>
          <p:nvPr/>
        </p:nvSpPr>
        <p:spPr>
          <a:xfrm>
            <a:off x="609120" y="914400"/>
            <a:ext cx="7750440" cy="5486400"/>
          </a:xfrm>
          <a:prstGeom prst="rect">
            <a:avLst/>
          </a:prstGeom>
          <a:noFill/>
          <a:ln w="0">
            <a:noFill/>
          </a:ln>
        </p:spPr>
        <p:txBody>
          <a:bodyPr anchor="t">
            <a:normAutofit fontScale="8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 </a:t>
            </a:r>
            <a:endParaRPr b="1" lang="en-US" sz="18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obiliser les compétences, les savoirs et les techniques de gestion administrative, propres aux situations professionnelles concern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S’approprier le contexte des situations présent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Expliciter et généraliser les situations professionnelles vécues, simulées ou observ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Traiter les niveaux de complexité et les aléas des situations professionnell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a production de documents professionnel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Contrôler la qualité rédactionnelle (code orthographique, syntaxe, vocabulaire) des documents traité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environnement et les outils technologiques.</a:t>
            </a:r>
            <a:endParaRPr b="1" lang="en-US" sz="2000" spc="-1" strike="noStrike">
              <a:solidFill>
                <a:srgbClr val="28374a"/>
              </a:solidFill>
              <a:latin typeface="Franklin Gothic Book"/>
            </a:endParaRPr>
          </a:p>
        </p:txBody>
      </p:sp>
      <p:sp>
        <p:nvSpPr>
          <p:cNvPr id="4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D2178-C500-4EE5-8087-2A150B66B869}"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4"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1294920"/>
            <a:ext cx="7923240" cy="4496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CF et le contrôle ponctuel comportent </a:t>
            </a:r>
            <a:r>
              <a:rPr b="0" i="1" lang="fr-FR" sz="2000" spc="-1" strike="noStrike" u="sng">
                <a:solidFill>
                  <a:srgbClr val="28374a"/>
                </a:solidFill>
                <a:uFillTx/>
                <a:latin typeface="Franklin Gothic Book"/>
              </a:rPr>
              <a:t>une situation d’évaluation</a:t>
            </a:r>
            <a:r>
              <a:rPr b="0" lang="fr-FR" sz="2000" spc="-1" strike="noStrike">
                <a:solidFill>
                  <a:srgbClr val="28374a"/>
                </a:solidFill>
                <a:latin typeface="Franklin Gothic Book"/>
              </a:rPr>
              <a:t> conduite à partir du dossier professionnel du candidat. Cette situation d’évaluation couvre les classes de situations du pôle concerné. </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a:t>
            </a:r>
            <a:r>
              <a:rPr b="0" lang="fr-FR" sz="1800" spc="-1" strike="noStrike">
                <a:solidFill>
                  <a:srgbClr val="28374a"/>
                </a:solidFill>
                <a:latin typeface="Franklin Gothic Book"/>
              </a:rPr>
              <a:t>.</a:t>
            </a:r>
            <a:endParaRPr b="1" lang="en-US" sz="1800" spc="-1" strike="noStrike">
              <a:solidFill>
                <a:srgbClr val="28374a"/>
              </a:solidFill>
              <a:latin typeface="Franklin Gothic Book"/>
            </a:endParaRPr>
          </a:p>
        </p:txBody>
      </p:sp>
      <p:sp>
        <p:nvSpPr>
          <p:cNvPr id="486"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F476-A199-4651-965F-5802A2118CE4}"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7" name="Titre 1"/>
          <p:cNvSpPr/>
          <p:nvPr/>
        </p:nvSpPr>
        <p:spPr>
          <a:xfrm>
            <a:off x="685800" y="228600"/>
            <a:ext cx="7521480" cy="1006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les sont les modalités ?</a:t>
            </a:r>
            <a:endParaRPr b="0" lang="en-US" sz="2800" spc="-1" strike="noStrike">
              <a:solidFill>
                <a:srgbClr val="000000"/>
              </a:solidFill>
              <a:latin typeface="Franklin Gothic Book"/>
            </a:endParaRPr>
          </a:p>
        </p:txBody>
      </p:sp>
      <p:sp>
        <p:nvSpPr>
          <p:cNvPr id="488"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761760" y="1295280"/>
            <a:ext cx="7770600" cy="4654800"/>
          </a:xfrm>
          <a:prstGeom prst="rect">
            <a:avLst/>
          </a:prstGeom>
          <a:noFill/>
          <a:ln w="0">
            <a:noFill/>
          </a:ln>
        </p:spPr>
        <p:txBody>
          <a:bodyPr anchor="t">
            <a:normAutofit fontScale="8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 qui comprend obligatoirement :</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xtrait du passeport professionnel correspondant aux classes de situations appartenant au pôle évalué.</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s comptes rendus d’évaluation des périodes de formation en milieu professionnel, dument complétés par les tuteurs ou maîtres d’apprentissage, dont le modèle est fourni par la circulaire nationale d’organisation.</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as échéant, sans que cela soit obligatoire, le dossier peut être complété par tout autre document établi pendant la formation et servant l’évaluation des classes de situations concernées (par exemple, les comptes rendus de suivi des périodes de formation en milieu professionnel).</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p:txBody>
      </p:sp>
      <p:sp>
        <p:nvSpPr>
          <p:cNvPr id="4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07A07-1C86-49F1-ACB0-7AD0FF81186A}"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1" name="PlaceHolder 1"/>
          <p:cNvSpPr>
            <a:spLocks noGrp="1"/>
          </p:cNvSpPr>
          <p:nvPr>
            <p:ph type="title"/>
          </p:nvPr>
        </p:nvSpPr>
        <p:spPr>
          <a:xfrm>
            <a:off x="685440" y="380880"/>
            <a:ext cx="752148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 dossier professionnel pour E31 E32 E33  ?</a:t>
            </a:r>
            <a:endParaRPr b="0" lang="en-US" sz="2800" spc="-1" strike="noStrike">
              <a:solidFill>
                <a:srgbClr val="000000"/>
              </a:solidFill>
              <a:latin typeface="Franklin Gothic Medium"/>
            </a:endParaRPr>
          </a:p>
        </p:txBody>
      </p:sp>
      <p:sp>
        <p:nvSpPr>
          <p:cNvPr id="492"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0492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ea typeface="Calibri"/>
              </a:rPr>
              <a:t>Qui évalue le candidat ?</a:t>
            </a:r>
            <a:endParaRPr b="0" lang="en-US" sz="2800" spc="-1" strike="noStrike">
              <a:solidFill>
                <a:srgbClr val="000000"/>
              </a:solidFill>
              <a:latin typeface="Franklin Gothic Medium"/>
            </a:endParaRPr>
          </a:p>
        </p:txBody>
      </p:sp>
      <p:sp>
        <p:nvSpPr>
          <p:cNvPr id="494"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5"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9472-1BA4-435B-9AC2-3663023AC095}"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6" name="ZoneTexte 4"/>
          <p:cNvSpPr/>
          <p:nvPr/>
        </p:nvSpPr>
        <p:spPr>
          <a:xfrm>
            <a:off x="785880" y="1522440"/>
            <a:ext cx="788976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Une commission d’évaluation composée par </a:t>
            </a:r>
            <a:r>
              <a:rPr b="1" lang="fr-FR" sz="2000" spc="-1" strike="noStrike">
                <a:solidFill>
                  <a:srgbClr val="3c536f"/>
                </a:solidFill>
                <a:latin typeface="Franklin Gothic Book"/>
              </a:rPr>
              <a:t>les professeurs ou formateurs</a:t>
            </a:r>
            <a:r>
              <a:rPr b="0" lang="fr-FR" sz="2000" spc="-1" strike="noStrike">
                <a:solidFill>
                  <a:srgbClr val="3c536f"/>
                </a:solidFill>
                <a:latin typeface="Franklin Gothic Book"/>
              </a:rPr>
              <a:t> ayant en charge la classe concernée par la situation d’évaluation :</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en charge des enseignements professionnels ;</a:t>
            </a: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de lettres en charge des ateliers rédactionnels.</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22240" y="36504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en cours de formation</a:t>
            </a:r>
            <a:endParaRPr b="0" lang="en-US" sz="2800" spc="-1" strike="noStrike">
              <a:solidFill>
                <a:srgbClr val="000000"/>
              </a:solidFill>
              <a:latin typeface="Franklin Gothic Medium"/>
            </a:endParaRPr>
          </a:p>
        </p:txBody>
      </p:sp>
      <p:sp>
        <p:nvSpPr>
          <p:cNvPr id="498"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9"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2FF4D-A0F6-47C7-955D-22FFFC221DBD}"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0" name="ZoneTexte 4"/>
          <p:cNvSpPr/>
          <p:nvPr/>
        </p:nvSpPr>
        <p:spPr>
          <a:xfrm>
            <a:off x="857160" y="1357200"/>
            <a:ext cx="7572600" cy="378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a commission évalue, dans le cadre normal de la formation, les compétences répertoriées dans le passeport professionnel, à partir d’un ou plusieurs entretiens et/ou de mises en situation du candidat qui permettent de vérifier, pour chaque situation professionnelle, le degré de maîtrise de la compétence.</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Après examen du dossier professionnel du candidat et de tout autre élément guidant son évaluation, la commission renseigne les critères d’évaluation et complète la grille prévue afin de proposer une note sur 20 (coefficient 4).</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822240" y="364680"/>
            <a:ext cx="7521840" cy="113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ponctuel</a:t>
            </a:r>
            <a:endParaRPr b="0" lang="en-US" sz="2800" spc="-1" strike="noStrike">
              <a:solidFill>
                <a:srgbClr val="000000"/>
              </a:solidFill>
              <a:latin typeface="Franklin Gothic Medium"/>
            </a:endParaRPr>
          </a:p>
        </p:txBody>
      </p:sp>
      <p:sp>
        <p:nvSpPr>
          <p:cNvPr id="502"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503"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ECA35-45A0-4281-877C-95BECDE59FE0}"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4" name="ZoneTexte 4"/>
          <p:cNvSpPr/>
          <p:nvPr/>
        </p:nvSpPr>
        <p:spPr>
          <a:xfrm>
            <a:off x="714240" y="1333440"/>
            <a:ext cx="7929720" cy="5204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valuation prend appui sur un dossier comprenant, entre autres, </a:t>
            </a:r>
            <a:r>
              <a:rPr b="0" i="1" lang="fr-FR" sz="1600" spc="-1" strike="noStrike" u="sng">
                <a:solidFill>
                  <a:srgbClr val="3c536f"/>
                </a:solidFill>
                <a:uFillTx/>
                <a:latin typeface="Franklin Gothic Book"/>
              </a:rPr>
              <a:t>l’extrait imprimé du passeport professionnel du candidat</a:t>
            </a:r>
            <a:r>
              <a:rPr b="0" lang="fr-FR" sz="1600" spc="-1" strike="noStrike">
                <a:solidFill>
                  <a:srgbClr val="3c536f"/>
                </a:solidFill>
                <a:latin typeface="Franklin Gothic Book"/>
              </a:rPr>
              <a:t>.</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d’interrogation se compose de 2 professeurs (économie et gestion, Lettres) et  peut être complétée par un professionnel du domaine.</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sélectionne dans le passeport </a:t>
            </a:r>
            <a:br>
              <a:rPr sz="1600"/>
            </a:br>
            <a:r>
              <a:rPr b="0" lang="fr-FR" sz="1600" spc="-1" strike="noStrike">
                <a:solidFill>
                  <a:srgbClr val="3c536f"/>
                </a:solidFill>
                <a:latin typeface="Franklin Gothic Book"/>
              </a:rPr>
              <a:t>professionnel des situations professionnelles appartenant </a:t>
            </a:r>
            <a:br>
              <a:rPr sz="1600"/>
            </a:br>
            <a:r>
              <a:rPr b="0" lang="fr-FR" sz="1600" spc="-1" strike="noStrike">
                <a:solidFill>
                  <a:srgbClr val="3c536f"/>
                </a:solidFill>
                <a:latin typeface="Franklin Gothic Book"/>
              </a:rPr>
              <a:t>à chaque classe de situation des pôles concernés .</a:t>
            </a: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Elle propose au candidat un scénario au cours duquel celui-ci doit réaliser, sur poste, une ou plusieurs tâches, appartenant à chaque situation professionnelle sélectionnée dans son passeport dont elle  aura légèrement modifié l’une des composantes.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preuve pratique se passe sur poste informatique équipé d’une connexion internet.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e candidat développe le scénario proposé et réalise les tâches demandées (40‘). Puis, le candidat procède sous forme d’entretien avec l’interrogateur à un retour réflexif sur les tâches réalisées (5’).</a:t>
            </a:r>
            <a:endParaRPr b="0" lang="en-US" sz="1600" spc="-1" strike="noStrike">
              <a:solidFill>
                <a:srgbClr val="000000"/>
              </a:solidFill>
              <a:latin typeface="Franklin Gothic Book"/>
            </a:endParaRPr>
          </a:p>
        </p:txBody>
      </p:sp>
      <p:pic>
        <p:nvPicPr>
          <p:cNvPr id="505" name="Object 2" descr=""/>
          <p:cNvPicPr/>
          <p:nvPr/>
        </p:nvPicPr>
        <p:blipFill>
          <a:blip r:embed="rId1"/>
          <a:stretch/>
        </p:blipFill>
        <p:spPr>
          <a:xfrm>
            <a:off x="6400800" y="2666880"/>
            <a:ext cx="2222640" cy="10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5T08:34:16Z</dcterms:created>
  <dc:creator>Simon</dc:creator>
  <dc:description/>
  <cp:keywords/>
  <dc:language>en-US</dc:language>
  <cp:lastModifiedBy>Edith Simon</cp:lastModifiedBy>
  <dcterms:modified xsi:type="dcterms:W3CDTF">2011-10-25T19:00:42Z</dcterms:modified>
  <cp:revision>43</cp:revision>
  <dc:subject/>
  <dc:title>Présentation PowerPoint</dc:title>
</cp:coreProperties>
</file>