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move the slide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92F64-EF2D-4920-AE34-70E8D2D2CA3D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B399E-1EB7-40EF-A148-7BE1ED959316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EE77F-92F9-477A-9C55-FCA38DEA25B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53A84-627D-4D87-BCA3-3D3E1CBE5CDC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0BF98-0234-4890-9051-517BF7E848F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AE7A8-C1E9-405E-A62B-4649AFE46628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F02AC-E639-4AC5-AE02-E5111E8C4BF7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17E31-128F-48CA-8D6E-079FF7E12571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DDD64-0BAF-4F08-883B-1A36163D855C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9F56E-BFB1-406F-98BD-E9C3A6CB7266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A6205-7F83-4221-90D0-FB7A76A885C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3F25B-B33B-4580-A286-2A41E006CEF2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F3813-D829-49CB-8FB5-E8760DF1AC6D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2FC73-7BB8-4BC3-AA42-FD2096B2CD94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D23C0-72D4-4F2F-840F-039A6EA954F7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02CC7-041A-4B65-A492-4BC4DA6EE567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91E99-9571-4B88-8B0B-0445DE1F8123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FD6FB-3607-4F7A-9CAB-F0B8B86D8046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1D2F4-4F83-4F62-8CA4-641B4F0AA6D8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D9B68-A75D-4EC8-8700-5685E9427D1E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59EAF-90B7-4B00-8886-F3CCAFF35107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20C39-A63B-4E29-B50F-6CC552B09F04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56059-60B6-4C2B-BE6B-DF13AA732A17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78539-128B-418F-95F2-4076F4844B01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3F1F9-C294-4974-AA5E-B7ED838C1815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A2CEB-5687-4713-951D-DDA4FEDBC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D18C9-A074-4206-8283-FD1C2C63A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590B8-36FF-4C1C-9ECA-E770EE5C0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F1686-70E1-43CA-8009-49C0EAA6D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7DE87-AE37-4D9E-BED7-B84A42EE1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5B329-379B-43B0-81E0-B14247DC2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7B0CC-C822-44A3-A5A0-40E89A094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E2EBC-1D25-49F9-92AB-0643B28C5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2535E-1543-40A9-803C-96356F0A9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E9328-FFA4-461F-A461-1CAC3505B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DBA18-31FE-4B9B-A2B2-0FC9C9F03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D3B33-8D1D-4477-BB89-253934DB4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0A265-31D2-47B5-B831-44B6D2DC6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5885C-3E15-4638-BD2D-1CB48044A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2E95A-8517-471C-9738-4943DE0AE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473FE-F8F1-4F43-BFB4-EE8239359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2B5F1-BE05-4F1F-918A-2DE16EB59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0EE208-AAE3-4EF0-909F-E3CC515EC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B80A12-15A5-4B19-AA00-ECC0CF192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A9E66C-9D8F-4658-A934-9846B8487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8D1ECE-7ADA-4E21-8914-A34FEA000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17C0FB-BC4F-4BDF-B5C8-D7AD14B30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61916-CF10-4530-8EAF-E0F970D42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1470DE-C34C-413C-895D-5F6589EBA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129999-A3EA-4C23-AB57-F768A241F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91C777-595F-4391-912E-2B6D4666A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C61668-D2A7-4E82-906E-088BC99CD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2C3D85-406C-475F-9AE1-C12EFC68F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039B0C-78C3-4B0F-83D3-AE756F38D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36266A-86CB-4753-A7FF-581BE2C88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1ECCB5-1954-4A1A-AFA1-5540072B9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DFD515-4E1D-46A3-BA3A-C0F6CFC38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F79D63-420C-4AEC-845C-7EAEFD92A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F2C1B-5136-4C82-9F4A-4DFD04A78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8B1700-9B11-4553-9EC6-D702A6E2F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B1FCD9-AF26-48CE-A9C6-A30E2E6EF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54A420-1B98-4166-AFEF-5462397E8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2B2D56-E069-4CDC-ADB6-63C2A4383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AD25E1-1166-41F3-88A1-0E9BCFF0B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B845D1-AC8E-4755-9132-F0B360BDE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C51427-6ADB-4F07-BFCF-C767DAE02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B5BA4F-F0A2-46C2-A2E5-4953DE2B4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6B52D3-1A09-4E90-8399-564F168C6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B43FDC-7F8C-4961-BCB3-B4E69E81C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01E83-0BA7-4535-A6AD-262AF8444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B43BFA-6FE4-45A1-9F53-A62843EA1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34E5A3-C337-4E45-A86F-BB2EBE313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398C67-DFF5-4F39-91E6-558BBD8B9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8D117A-BA7A-42FF-9620-7C30A5596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6B5BA8-0439-4312-94C2-85E1FFEA4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939415-603C-4018-9738-A0BA311CD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00C706-36AA-4874-AEC0-006605657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A512BC-48D9-4BAA-AE82-2A4AAF075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E83475-557D-46D0-87F5-352B10A50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3A4A87-2970-49FC-9F95-9D16C2ED0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1BA42-0B88-4813-9F2A-93BE83297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54190B-A8FC-4FC3-A3DD-37975D7C9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BD6A6C-2141-45CE-AA7C-44895F0E7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84C6F3-98B5-42E6-9545-0B70FB8A6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AD8D08-1839-4F4B-BE5A-5568D02DC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85CDFB-A0E7-48A9-B499-4DA64E887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9C5BAC-AC96-46E6-A522-37E129F6F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3ABE43-14D0-4234-85E7-55F47BC33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AD20F2-1BE9-457D-9672-FD98BD3B8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4CB325-930D-4942-9554-4D8AFAEA1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68F407-01BE-458D-8ABB-7005AA138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872FF-8259-49CD-B3AD-891326904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D9A3F9-8AB4-4F02-A6AB-B1B4EC806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100EC3-B12D-4E54-BB23-03A5EBF33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2101AD-77B7-4787-8358-4E9DBFE68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D7A2B0-FF98-401D-8E27-D56CA7F78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8A4438-DA8B-472D-B388-73AC5C114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626E77-7387-42E9-96D6-A1C560D6B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3E86E4-8B0C-4717-B25A-EA406D65B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9186C4-8232-4CCA-B315-9436C3C63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E9C5D6-FCE0-4AEC-8CC1-2A7A5399F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089125-F79C-4806-83CC-25404CAF0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E8C24-165E-4866-B844-145C61C9C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2C4AEF-9870-4CFA-9CAA-A37E0020C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98E362-CC47-4683-A9DF-10F465A53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D8D410-852D-4E1E-AB5D-D38130B74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4A3EAE-B0AD-4F94-BE8B-6718D0C7F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668941-C438-4AF7-B967-C788D74BF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7CF93F-966E-498C-91E4-E5FAB758D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581962-E088-457C-BF5B-C0291C7D9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A8955B-E48B-4D81-953C-51628E137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BA24A2-0F77-4E70-9C23-41111CBE9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8F12F9-C8E5-4EA0-9E40-0A08EF9B3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27CAE-8757-4F68-9742-65B1CE430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895891-032B-4CB8-841B-208963689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8F9347-0DD1-47B6-8A80-63867FB51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9ECBBA-41E6-459A-A6A1-46F1F58BD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04435A-2437-4F60-B5CC-5547C3EB2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5DBC2E-B024-4569-95A2-717C2C72A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C95E91-D8E5-4AF9-903A-752A32B3C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81DC61-5232-41E7-A819-29C37CBD3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09687-658A-4F94-914E-75775AB009BD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525160" y="6275880"/>
            <a:ext cx="323280" cy="3564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55F31-BFF5-4729-8271-389E319B6A24}" type="slidenum">
              <a:rPr b="0" lang="fr-FR" sz="16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ight Triangle 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b6c5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Freeform 7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dae2eb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 rot="19048200">
            <a:off x="509040" y="5835240"/>
            <a:ext cx="1616040" cy="2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4031F-5EAC-4FCE-A650-3528C513596A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600" spc="-1" strike="noStrike">
                <a:solidFill>
                  <a:srgbClr val="28374a"/>
                </a:solidFill>
                <a:latin typeface="Franklin Gothic Book"/>
                <a:ea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8374a"/>
                </a:solidFill>
                <a:latin typeface="Franklin Gothic Book"/>
                <a:ea typeface="Calibri"/>
              </a:rPr>
              <a:t>PNP - Poitiers - 13 &amp; 14 octobre 20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525160" y="6275880"/>
            <a:ext cx="323280" cy="35640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57052-9F37-4792-90D3-0C8024C58369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r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1AD4A-AA90-4389-991B-84D39985C443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464680" y="6483600"/>
            <a:ext cx="309960" cy="24696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12A60-1ABB-4CCB-8D93-AB3D360AB027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9FEF0-FDD9-4FA6-B6C5-62877CFAF5E9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8464680" y="6456600"/>
            <a:ext cx="309960" cy="26928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DF371-509C-4230-A993-3209BEA39BE5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0C331-0A72-4DD9-98D7-578D7257361E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464680" y="6456600"/>
            <a:ext cx="309960" cy="26928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E1CB7-EFAE-41F4-84AF-3F44A4CA5F33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CA230-D502-489A-BC7B-6944861FD97F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8541000" y="6483600"/>
            <a:ext cx="309960" cy="24696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656E8-164B-4EFA-81D6-464ED0A47028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A82BB-D7C2-4596-A6FC-DF9BF4545895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529840" y="6456600"/>
            <a:ext cx="255960" cy="26928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E92A6-DF6B-414B-A10C-EBFAFA965C2B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ight Triangle 1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ight Triangle 17"/>
          <p:cNvSpPr/>
          <p:nvPr/>
        </p:nvSpPr>
        <p:spPr>
          <a:xfrm rot="5400000">
            <a:off x="433440" y="-433440"/>
            <a:ext cx="6858000" cy="7724880"/>
          </a:xfrm>
          <a:prstGeom prst="rtTriangle">
            <a:avLst/>
          </a:pr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22"/>
          </p:nvPr>
        </p:nvSpPr>
        <p:spPr>
          <a:xfrm rot="19183200">
            <a:off x="609480" y="5890680"/>
            <a:ext cx="1379520" cy="2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CE364-82A4-406F-A4B8-89E0D2A7CFB4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23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434342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434342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24"/>
          </p:nvPr>
        </p:nvSpPr>
        <p:spPr>
          <a:xfrm>
            <a:off x="8474400" y="6275880"/>
            <a:ext cx="356400" cy="35640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20CF7-F1C8-42B5-8883-46CD83674F8A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19.xml"/><Relationship Id="rId3" Type="http://schemas.openxmlformats.org/officeDocument/2006/relationships/slide" Target="slide20.xml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 rot="19107000">
            <a:off x="801360" y="1817280"/>
            <a:ext cx="6294240" cy="120348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Franklin Gothic Medium"/>
              </a:rPr>
              <a:t>Baccalauréat professionnel</a:t>
            </a:r>
            <a:br>
              <a:rPr sz="3600"/>
            </a:br>
            <a:r>
              <a:rPr b="0" lang="fr-FR" sz="4000" spc="-1" strike="noStrike">
                <a:solidFill>
                  <a:srgbClr val="c00000"/>
                </a:solidFill>
                <a:latin typeface="Franklin Gothic Medium"/>
              </a:rPr>
              <a:t>Gestion -- Administration</a:t>
            </a: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 rot="19126800">
            <a:off x="1645560" y="3153960"/>
            <a:ext cx="5708520" cy="398520"/>
          </a:xfrm>
          <a:prstGeom prst="rect">
            <a:avLst/>
          </a:prstGeom>
          <a:noFill/>
          <a:ln w="0">
            <a:noFill/>
          </a:ln>
        </p:spPr>
        <p:txBody>
          <a:bodyPr tIns="90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8374a"/>
                </a:solidFill>
                <a:latin typeface="Franklin Gothic Book"/>
                <a:ea typeface="Tunga"/>
              </a:rPr>
              <a:t>PROGRAMME NATIONAL DE PILOTAGE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pic>
        <p:nvPicPr>
          <p:cNvPr id="353" name="Picture 2" descr="E:\Mes docs\DD_Paris\AL\2010_2011\BTS_SIO\MENJVA_LOGO_Q.gif"/>
          <p:cNvPicPr/>
          <p:nvPr/>
        </p:nvPicPr>
        <p:blipFill>
          <a:blip r:embed="rId1"/>
          <a:stretch/>
        </p:blipFill>
        <p:spPr>
          <a:xfrm>
            <a:off x="108000" y="333360"/>
            <a:ext cx="2143080" cy="1981080"/>
          </a:xfrm>
          <a:prstGeom prst="rect">
            <a:avLst/>
          </a:prstGeom>
          <a:ln w="0">
            <a:noFill/>
          </a:ln>
        </p:spPr>
      </p:pic>
      <p:sp>
        <p:nvSpPr>
          <p:cNvPr id="354" name="Sous-titre 2"/>
          <p:cNvSpPr/>
          <p:nvPr/>
        </p:nvSpPr>
        <p:spPr>
          <a:xfrm>
            <a:off x="4140360" y="6265800"/>
            <a:ext cx="436860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Calibri"/>
                <a:ea typeface="Calibri"/>
              </a:rPr>
              <a:t>Poitiers – 13 &amp; 14 octobre 20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826920" y="1557000"/>
            <a:ext cx="7521840" cy="33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Franklin Gothic Medium"/>
              </a:rPr>
              <a:t>2. </a:t>
            </a:r>
            <a:br>
              <a:rPr sz="3600"/>
            </a:br>
            <a:r>
              <a:rPr b="0" lang="fr-FR" sz="3600" spc="-1" strike="noStrike">
                <a:solidFill>
                  <a:srgbClr val="c00000"/>
                </a:solidFill>
                <a:latin typeface="Franklin Gothic Medium"/>
              </a:rPr>
              <a:t>Quels objectifs </a:t>
            </a:r>
            <a:br>
              <a:rPr sz="3600"/>
            </a:br>
            <a:r>
              <a:rPr b="0" lang="fr-FR" sz="3600" spc="-1" strike="noStrike">
                <a:solidFill>
                  <a:srgbClr val="c00000"/>
                </a:solidFill>
                <a:latin typeface="Franklin Gothic Medium"/>
              </a:rPr>
              <a:t>et quelles démarches ?</a:t>
            </a:r>
            <a:br>
              <a:rPr sz="3200"/>
            </a:b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87" name="Espace réservé du pied de page 2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Espace réservé du numéro de diapositive 3"/>
          <p:cNvSpPr/>
          <p:nvPr/>
        </p:nvSpPr>
        <p:spPr>
          <a:xfrm>
            <a:off x="847728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99EDA-EA51-46E0-A5CB-4733AC29363F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826920" y="4046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Deux « cadres » de référence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90" name="Espace réservé du pied de page 2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Espace réservé du numéro de diapositive 3"/>
          <p:cNvSpPr/>
          <p:nvPr/>
        </p:nvSpPr>
        <p:spPr>
          <a:xfrm>
            <a:off x="847728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AA137-B688-40FE-A885-1A0CDE921289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Rectangle 5"/>
          <p:cNvSpPr/>
          <p:nvPr/>
        </p:nvSpPr>
        <p:spPr>
          <a:xfrm>
            <a:off x="826920" y="1197000"/>
            <a:ext cx="6697800" cy="64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Franklin Gothic Book"/>
              </a:rPr>
              <a:t>Le Projet Pluridisciplinaire à Caractère Professionnel </a:t>
            </a:r>
            <a:br>
              <a:rPr sz="2000"/>
            </a:br>
            <a:r>
              <a:rPr b="0" lang="fr-FR" sz="2000" spc="-1" strike="noStrike">
                <a:solidFill>
                  <a:srgbClr val="002060"/>
                </a:solidFill>
                <a:latin typeface="Franklin Gothic Book"/>
              </a:rPr>
              <a:t>« Réalisation, en équipe, d'un objectif prenant en compte  les enseignements généraux mobilisés dans toute activité professionnelle ». (200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Franklin Gothic Book"/>
              </a:rPr>
              <a:t>Le socle commun et la compétence 1: Maîtrise de la lan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Franklin Gothic Book"/>
              </a:rPr>
              <a:t>« Savoir lire, écrire et parler le français conditionne l'accès à tous les domaines du savoir et l'acquisition de toutes les compétences . »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Franklin Gothic Book"/>
              </a:rPr>
              <a:t>« Faire accéder tous les élèves à la maîtrise de la langue française, à une expression précise et claire à l'oral comme à l'écrit, relève de l'enseignement du français mais aussi de toutes les disciplines. » (200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826920" y="404280"/>
            <a:ext cx="752184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Les objectifs des ateliers rédactionnels </a:t>
            </a:r>
            <a:r>
              <a:rPr b="0" lang="fr-FR" sz="2400" spc="-1" strike="noStrike">
                <a:solidFill>
                  <a:srgbClr val="c00000"/>
                </a:solidFill>
                <a:latin typeface="Franklin Gothic Medium"/>
                <a:ea typeface="Times New Roman"/>
              </a:rPr>
              <a:t>(RC. Annexe III c)</a:t>
            </a:r>
            <a:endParaRPr b="0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94" name="Espace réservé du pied de page 2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Espace réservé du numéro de diapositive 3"/>
          <p:cNvSpPr/>
          <p:nvPr/>
        </p:nvSpPr>
        <p:spPr>
          <a:xfrm>
            <a:off x="847728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B3306-55C9-4651-8915-B0743524949C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1"/>
          <p:cNvSpPr/>
          <p:nvPr/>
        </p:nvSpPr>
        <p:spPr>
          <a:xfrm>
            <a:off x="250920" y="1406520"/>
            <a:ext cx="8424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002060"/>
              </a:buClr>
              <a:buFont typeface="Franklin Gothic Book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2060"/>
                </a:solidFill>
                <a:latin typeface="Franklin Gothic Book"/>
                <a:ea typeface="Times New Roman"/>
              </a:rPr>
              <a:t>« </a:t>
            </a:r>
            <a:r>
              <a:rPr b="1" lang="fr-FR" sz="2400" spc="-1" strike="noStrike">
                <a:solidFill>
                  <a:srgbClr val="002060"/>
                </a:solidFill>
                <a:latin typeface="Franklin Gothic Book"/>
                <a:ea typeface="Times New Roman"/>
              </a:rPr>
              <a:t>Développer des comportements professionnels adaptés </a:t>
            </a:r>
            <a:r>
              <a:rPr b="0" lang="fr-FR" sz="2400" spc="-1" strike="noStrike">
                <a:solidFill>
                  <a:srgbClr val="002060"/>
                </a:solidFill>
                <a:latin typeface="Franklin Gothic Book"/>
                <a:ea typeface="Times New Roman"/>
              </a:rPr>
              <a:t>aux contextes et situations rencontrés (écoute, rigueur, réactivité, créativité…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Franklin Gothic Book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Franklin Gothic Book"/>
                <a:ea typeface="Times New Roman"/>
              </a:rPr>
              <a:t> </a:t>
            </a:r>
            <a:r>
              <a:rPr b="1" lang="fr-FR" sz="2400" spc="-1" strike="noStrike">
                <a:solidFill>
                  <a:srgbClr val="002060"/>
                </a:solidFill>
                <a:latin typeface="Franklin Gothic Book"/>
                <a:ea typeface="Times New Roman"/>
              </a:rPr>
              <a:t>S’approprier les contextes de production </a:t>
            </a:r>
            <a:r>
              <a:rPr b="0" lang="fr-FR" sz="2400" spc="-1" strike="noStrike">
                <a:solidFill>
                  <a:srgbClr val="002060"/>
                </a:solidFill>
                <a:latin typeface="Franklin Gothic Book"/>
                <a:ea typeface="Times New Roman"/>
              </a:rPr>
              <a:t>des documents et supports de commun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Franklin Gothic Book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Franklin Gothic Book"/>
                <a:ea typeface="Times New Roman"/>
              </a:rPr>
              <a:t> </a:t>
            </a:r>
            <a:r>
              <a:rPr b="1" lang="fr-FR" sz="2400" spc="-1" strike="noStrike">
                <a:solidFill>
                  <a:srgbClr val="002060"/>
                </a:solidFill>
                <a:latin typeface="Franklin Gothic Book"/>
                <a:ea typeface="Times New Roman"/>
              </a:rPr>
              <a:t>Conceptualiser les différents documents </a:t>
            </a:r>
            <a:r>
              <a:rPr b="0" lang="fr-FR" sz="2400" spc="-1" strike="noStrike">
                <a:solidFill>
                  <a:srgbClr val="002060"/>
                </a:solidFill>
                <a:latin typeface="Franklin Gothic Book"/>
                <a:ea typeface="Times New Roman"/>
              </a:rPr>
              <a:t>et supports de commun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Franklin Gothic Book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Franklin Gothic Book"/>
                <a:ea typeface="Times New Roman"/>
              </a:rPr>
              <a:t> </a:t>
            </a:r>
            <a:r>
              <a:rPr b="1" lang="fr-FR" sz="2400" spc="-1" strike="noStrike">
                <a:solidFill>
                  <a:srgbClr val="002060"/>
                </a:solidFill>
                <a:latin typeface="Franklin Gothic Book"/>
                <a:ea typeface="Times New Roman"/>
              </a:rPr>
              <a:t>Produire des documents</a:t>
            </a:r>
            <a:r>
              <a:rPr b="0" lang="fr-FR" sz="2400" spc="-1" strike="noStrike">
                <a:solidFill>
                  <a:srgbClr val="002060"/>
                </a:solidFill>
                <a:latin typeface="Franklin Gothic Book"/>
                <a:ea typeface="Times New Roman"/>
              </a:rPr>
              <a:t> et supports de communication dans le respect de consignes, de procédures ou d’un cahier des char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Franklin Gothic Book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Franklin Gothic Book"/>
                <a:ea typeface="Times New Roman"/>
              </a:rPr>
              <a:t> </a:t>
            </a:r>
            <a:r>
              <a:rPr b="1" lang="fr-FR" sz="2400" spc="-1" strike="noStrike">
                <a:solidFill>
                  <a:srgbClr val="002060"/>
                </a:solidFill>
                <a:latin typeface="Franklin Gothic Book"/>
                <a:ea typeface="Times New Roman"/>
              </a:rPr>
              <a:t>Contrôler la qualité rédactionnelle </a:t>
            </a:r>
            <a:r>
              <a:rPr b="0" lang="fr-FR" sz="2400" spc="-1" strike="noStrike">
                <a:solidFill>
                  <a:srgbClr val="002060"/>
                </a:solidFill>
                <a:latin typeface="Franklin Gothic Book"/>
                <a:ea typeface="Times New Roman"/>
              </a:rPr>
              <a:t>des documents et supports traités.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826920" y="404280"/>
            <a:ext cx="752184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Dans la logique des situations professionnelles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98" name="Espace réservé du pied de page 2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Espace réservé du numéro de diapositive 3"/>
          <p:cNvSpPr/>
          <p:nvPr/>
        </p:nvSpPr>
        <p:spPr>
          <a:xfrm>
            <a:off x="847728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77FC1-75C4-4CF4-903D-0B895F4BA659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ZoneTexte 4"/>
          <p:cNvSpPr/>
          <p:nvPr/>
        </p:nvSpPr>
        <p:spPr>
          <a:xfrm>
            <a:off x="1042920" y="1844640"/>
            <a:ext cx="756144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Franklin Gothic Book"/>
              </a:rPr>
              <a:t>Préambule du R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Franklin Gothic Book"/>
              </a:rPr>
              <a:t>- </a:t>
            </a:r>
            <a:r>
              <a:rPr b="0" lang="fr-FR" sz="2400" spc="-1" strike="noStrike">
                <a:solidFill>
                  <a:srgbClr val="002060"/>
                </a:solidFill>
                <a:latin typeface="Franklin Gothic Book"/>
              </a:rPr>
              <a:t>Les savoirs rédactionnels sont centrés sur la production écrite en situation professionnel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2060"/>
                </a:solidFill>
                <a:latin typeface="Franklin Gothic Book"/>
              </a:rPr>
              <a:t>- Ces savoirs sont présents dans </a:t>
            </a:r>
            <a:r>
              <a:rPr b="1" lang="fr-FR" sz="2400" spc="-1" strike="noStrike">
                <a:solidFill>
                  <a:srgbClr val="002060"/>
                </a:solidFill>
                <a:latin typeface="Franklin Gothic Book"/>
              </a:rPr>
              <a:t>17 situations professionnelles sur les 55 que comporte le référentiel.</a:t>
            </a:r>
            <a:r>
              <a:rPr b="0" lang="fr-FR" sz="2400" spc="-1" strike="noStrike">
                <a:solidFill>
                  <a:srgbClr val="002060"/>
                </a:solidFill>
                <a:latin typeface="Franklin Gothic Book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822240" y="1268280"/>
            <a:ext cx="7521840" cy="417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3 . </a:t>
            </a:r>
            <a:br>
              <a:rPr sz="3200"/>
            </a:b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Pour quels apprentissages ?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02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D7354-9389-4223-A208-865E46CF48DE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Quelques genres d’écrits à travailler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822240" y="1100160"/>
            <a:ext cx="7521840" cy="513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28374a"/>
                </a:solidFill>
                <a:latin typeface="Franklin Gothic Book"/>
              </a:rPr>
              <a:t>Dans le cadre des 17 situations professionnelles du RC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- Le courrier d’un partenaire ou à un partenaire (réclamation à un fournisseur, relance client, sollicitation auprès d’une administration etc.)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- Les consignes de sécurité 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- Les documents d’accueil 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- Le courrier à un salarié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- Le discours 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- L’annonce 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- Le compte rendu de réunion 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- La fiche de synthèse 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- Le descriptif d’un projet 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- Le rapport d’étape d’un projet etc.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06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C6223-FF5B-4082-8D77-807DCDAAC4E5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Leur présentation dans le référentiel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09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B962D-092F-49DB-BAA3-97996DFBA977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395280" y="879480"/>
          <a:ext cx="8496360" cy="5151600"/>
        </p:xfrm>
        <a:graphic>
          <a:graphicData uri="http://schemas.openxmlformats.org/drawingml/2006/table">
            <a:tbl>
              <a:tblPr/>
              <a:tblGrid>
                <a:gridCol w="2832120"/>
                <a:gridCol w="2832120"/>
                <a:gridCol w="2832120"/>
              </a:tblGrid>
              <a:tr h="182520"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onnées de la situ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voirs associé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erformance attend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1371600">
                <a:tc rowSpan="2">
                  <a:txBody>
                    <a:bodyPr lIns="41760" rIns="41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données comptables et commerciales de l’organisation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codes d’accès aux sites de déclarations des formalités administrativ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informations juridiques relatives aux formalité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informations sur le ou les partenaires concernés par la formalit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procédures nécessaires à l’élaboration des formalité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règles à respecter pour maintenir la relation avec les différentes administratio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Un environnement numérique de travail de type PG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 rowSpan="2">
                  <a:txBody>
                    <a:bodyPr lIns="41760" rIns="41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voirs de gestion et savoirs technologiqu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services et interlocuteurs de l’administr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enjeux de l’accomplissement des formalité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courriers types de demandes administrativ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principales formalités administratives, y compris au sein de l’UE et hors 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voirs juridiques et économiqu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administrations, leurs finalités et leurs champs d’interven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subventio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organismes europée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Savoirs rédactionne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- Lecture et écriture d’un genre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Le courrier de sollicitation auprès d’une administr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- Procédés d’écritu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1" lang="fr-FR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Le positionnement et la situation de l’émetteu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1" lang="fr-FR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La description et la justification de la requê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1" lang="fr-FR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Les codes et règles du courrier aux administratio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1" lang="fr-FR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Le lexique du souhait, de la demande, de l’autoris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1" lang="fr-FR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Les modes et temps des verbes : conditionne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mplexit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Formalité techniq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Formalité nécessitant un processus long : échanges, validations, rendez-vou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Formalité intégrant des données juridiqu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Formalités nombreuses exigeant l’établissement d’un calendrier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Formalités au sein de l’UE ou hors 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048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é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Formalités incomplètes ou non conform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Formalités hors déla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Formalité déclarée irrecevable par l’administr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mpét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ritère d’évalu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 rowSpan="2">
                  <a:txBody>
                    <a:bodyPr lIns="41760" rIns="41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ésultats attendus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es formalités administratives courantes sont réalisée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41760" rIns="41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endre en charge des formalités administratives liées à l’activit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spect des obligations administratives liées à l’activit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Leur présentation dans le référentiel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822240" y="1100160"/>
            <a:ext cx="7521840" cy="463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lnSpc>
                <a:spcPct val="80000"/>
              </a:lnSpc>
              <a:tabLst>
                <a:tab algn="l" pos="0"/>
                <a:tab algn="r" pos="2166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Classe 1.3. Gestion administrative des relations avec les autres partenaires</a:t>
            </a:r>
            <a:r>
              <a:rPr b="1" lang="fr-FR" sz="1700" spc="-1" strike="noStrike">
                <a:solidFill>
                  <a:srgbClr val="4f81bd"/>
                </a:solidFill>
                <a:latin typeface="Arial"/>
                <a:ea typeface="Times New Roman"/>
              </a:rPr>
              <a:t>  </a:t>
            </a:r>
            <a:endParaRPr b="1" lang="en-US" sz="1700" spc="-1" strike="noStrike">
              <a:solidFill>
                <a:srgbClr val="28374a"/>
              </a:solidFill>
              <a:latin typeface="Franklin Gothic Book"/>
            </a:endParaRPr>
          </a:p>
          <a:p>
            <a:pPr>
              <a:lnSpc>
                <a:spcPct val="80000"/>
              </a:lnSpc>
              <a:tabLst>
                <a:tab algn="l" pos="0"/>
                <a:tab algn="r" pos="2166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28374a"/>
              </a:solidFill>
              <a:latin typeface="Franklin Gothic Book"/>
            </a:endParaRPr>
          </a:p>
          <a:p>
            <a:pPr>
              <a:lnSpc>
                <a:spcPct val="80000"/>
              </a:lnSpc>
              <a:tabLst>
                <a:tab algn="l" pos="0"/>
                <a:tab algn="r" pos="2166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3b81bd"/>
                </a:solidFill>
                <a:latin typeface="Arial"/>
                <a:ea typeface="Times New Roman"/>
              </a:rPr>
              <a:t>1.3.3. Traitement des formalités administratives</a:t>
            </a:r>
            <a:endParaRPr b="1" lang="en-US" sz="2200" spc="-1" strike="noStrike">
              <a:solidFill>
                <a:srgbClr val="28374a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r" pos="2166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r" pos="2166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28374a"/>
                </a:solidFill>
                <a:latin typeface="Franklin Gothic Book"/>
              </a:rPr>
              <a:t>Savoirs associés 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r" pos="2166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Savoirs rédactionnels</a:t>
            </a:r>
            <a:endParaRPr b="1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r" pos="2166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- Lecture et écriture d’un genre </a:t>
            </a:r>
            <a:endParaRPr b="1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r" pos="2166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Le courrier de sollicitation auprès d’une administration</a:t>
            </a:r>
            <a:endParaRPr b="1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r" pos="2166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- Procédés d’écriture</a:t>
            </a:r>
            <a:endParaRPr b="1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r" pos="2166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• </a:t>
            </a:r>
            <a:r>
              <a:rPr b="1" lang="fr-FR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Le positionnement et la situation de l’émetteur</a:t>
            </a:r>
            <a:endParaRPr b="1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r" pos="2166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• </a:t>
            </a:r>
            <a:r>
              <a:rPr b="1" lang="fr-FR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La description et la justification de la requête</a:t>
            </a:r>
            <a:endParaRPr b="1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r" pos="2166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• </a:t>
            </a:r>
            <a:r>
              <a:rPr b="1" lang="fr-FR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Les codes et règles du courrier aux administrations</a:t>
            </a:r>
            <a:endParaRPr b="1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r" pos="2166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• </a:t>
            </a:r>
            <a:r>
              <a:rPr b="1" lang="fr-FR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Le lexique du souhait, de la demande, de l’autorisation</a:t>
            </a:r>
            <a:endParaRPr b="1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r" pos="2166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• </a:t>
            </a:r>
            <a:r>
              <a:rPr b="1" lang="fr-FR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Les modes et temps des verbes : conditionnel</a:t>
            </a:r>
            <a:endParaRPr b="1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r" pos="2166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28374a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r" pos="2166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28374a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r" pos="2166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endParaRPr b="1" lang="en-US" sz="400" spc="-1" strike="noStrike">
              <a:solidFill>
                <a:srgbClr val="28374a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r" pos="2166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14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97191-F421-407D-A869-7CFB0355FE7D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Un exemple de courrier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822240" y="907920"/>
            <a:ext cx="7521840" cy="5329440"/>
          </a:xfrm>
          <a:prstGeom prst="rect">
            <a:avLst/>
          </a:prstGeom>
          <a:solidFill>
            <a:srgbClr val="ffffff"/>
          </a:solidFill>
          <a:ln w="25560">
            <a:solidFill>
              <a:srgbClr val="f96a1b"/>
            </a:solidFill>
            <a:miter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SARL   ESCOUZEL</a:t>
            </a: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Produits régionaux et biologiques</a:t>
            </a: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Place Royale                                                                                Labastide, le 1</a:t>
            </a:r>
            <a:r>
              <a:rPr b="1" lang="fr-FR" sz="1000" spc="-1" strike="noStrike" baseline="30000">
                <a:solidFill>
                  <a:srgbClr val="000000"/>
                </a:solidFill>
                <a:latin typeface="Franklin Gothic Book"/>
              </a:rPr>
              <a:t>er</a:t>
            </a: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 octobre 2011</a:t>
            </a: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40240 Labastide d’Armagnac                                                                                                           </a:t>
            </a: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               </a:t>
            </a: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Monsieur le Maire</a:t>
            </a: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Hôtel de Ville</a:t>
            </a: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Place Royale             </a:t>
            </a: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40240 Labastide d’Armagnac</a:t>
            </a: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 </a:t>
            </a: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Objet : modification couleur menuiseries extérieures</a:t>
            </a: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 </a:t>
            </a: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Monsieur le Maire,</a:t>
            </a: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 </a:t>
            </a: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Comme suite à notre courrier du 24 août dernier au service départemental de l’architecture et du patrimoine des Landes, et à la rencontre du 22 septembre avec Monsieur Gileti, architecte des Bâtiments de France et à son courrier du 29, nous avons pris bonne note des références qu’il nous a conseillées.</a:t>
            </a: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 </a:t>
            </a: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Nous avons donc l’honneur de vous informer que, conformément à l’avis de Monsieur Gileti, nous allons utiliser, pour la peinture des menuiseries extérieures de notre commerce de Labastide d’Armagnac , les références des couleurs suivantes : </a:t>
            </a: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i="1" lang="fr-FR" sz="1000" spc="-1" strike="noStrike">
                <a:solidFill>
                  <a:srgbClr val="000000"/>
                </a:solidFill>
                <a:latin typeface="Franklin Gothic Book"/>
              </a:rPr>
              <a:t>Nuancier Sikkens Color, collection 2021, page 88, G8.1060 ou G8.1070</a:t>
            </a: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.</a:t>
            </a: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 </a:t>
            </a: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Nous vous prions d’agréer, Monsieur le Maire, l’expression de nos salutations les plus distinguées.</a:t>
            </a: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 </a:t>
            </a: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                                                                                                                              </a:t>
            </a: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Le Gérant, Pierre Escouzel </a:t>
            </a: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 </a:t>
            </a: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copie : M. Gileti      </a:t>
            </a: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  <a:ea typeface="Arial"/>
              </a:rPr>
              <a:t>  </a:t>
            </a: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  <a:ea typeface="Arial"/>
              </a:rPr>
              <a:t>                                                                                                                             </a:t>
            </a: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18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48E28-4D11-4531-9D44-093700C5A4B1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0" name="Image 11" descr="label-ab-europeen.jpg"/>
          <p:cNvPicPr/>
          <p:nvPr/>
        </p:nvPicPr>
        <p:blipFill>
          <a:blip r:embed="rId1"/>
          <a:stretch/>
        </p:blipFill>
        <p:spPr>
          <a:xfrm>
            <a:off x="900000" y="981000"/>
            <a:ext cx="576360" cy="385920"/>
          </a:xfrm>
          <a:prstGeom prst="rect">
            <a:avLst/>
          </a:prstGeom>
          <a:ln w="0">
            <a:noFill/>
          </a:ln>
        </p:spPr>
      </p:pic>
      <p:sp>
        <p:nvSpPr>
          <p:cNvPr id="421" name="Bouton d'action : Personnalisé 5">
            <a:hlinkClick r:id="rId2" action="ppaction://hlinksldjump"/>
          </p:cNvPr>
          <p:cNvSpPr/>
          <p:nvPr/>
        </p:nvSpPr>
        <p:spPr>
          <a:xfrm>
            <a:off x="179280" y="5805360"/>
            <a:ext cx="432000" cy="216000"/>
          </a:xfrm>
          <a:custGeom>
            <a:avLst/>
            <a:gdLst>
              <a:gd name="textAreaLeft" fmla="*/ 13680 w 432000"/>
              <a:gd name="textAreaRight" fmla="*/ 418320 w 43200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43164" h="21600">
                <a:moveTo>
                  <a:pt x="0" y="0"/>
                </a:moveTo>
                <a:lnTo>
                  <a:pt x="43164" y="0"/>
                </a:lnTo>
                <a:lnTo>
                  <a:pt x="43164" y="21600"/>
                </a:lnTo>
                <a:lnTo>
                  <a:pt x="0" y="21600"/>
                </a:lnTo>
                <a:close/>
              </a:path>
              <a:path fill="lightenLess" w="43164" h="21600">
                <a:moveTo>
                  <a:pt x="0" y="0"/>
                </a:moveTo>
                <a:lnTo>
                  <a:pt x="43164" y="0"/>
                </a:lnTo>
                <a:lnTo>
                  <a:pt x="41764" y="1400"/>
                </a:lnTo>
                <a:lnTo>
                  <a:pt x="1400" y="1400"/>
                </a:lnTo>
                <a:close/>
              </a:path>
              <a:path fill="darken" w="43164" h="21600">
                <a:moveTo>
                  <a:pt x="43164" y="0"/>
                </a:moveTo>
                <a:lnTo>
                  <a:pt x="43164" y="21600"/>
                </a:lnTo>
                <a:lnTo>
                  <a:pt x="41764" y="20200"/>
                </a:lnTo>
                <a:lnTo>
                  <a:pt x="41764" y="1400"/>
                </a:lnTo>
                <a:close/>
              </a:path>
              <a:path fill="darkenLess" w="43164" h="21600">
                <a:moveTo>
                  <a:pt x="431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64" y="20200"/>
                </a:lnTo>
                <a:close/>
              </a:path>
              <a:path fill="lighten" w="431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c9cbcd"/>
              </a:gs>
              <a:gs pos="100000">
                <a:srgbClr val="f0f1f2"/>
              </a:gs>
            </a:gsLst>
            <a:lin ang="16200000"/>
          </a:gradFill>
          <a:ln w="9360">
            <a:solidFill>
              <a:srgbClr val="76787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Franklin Gothic Book"/>
              </a:rPr>
              <a:t>+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Bouton d'action : Personnalisé 6">
            <a:hlinkClick r:id="rId3" action="ppaction://hlinksldjump"/>
          </p:cNvPr>
          <p:cNvSpPr/>
          <p:nvPr/>
        </p:nvSpPr>
        <p:spPr>
          <a:xfrm>
            <a:off x="171360" y="5326200"/>
            <a:ext cx="432000" cy="263520"/>
          </a:xfrm>
          <a:custGeom>
            <a:avLst/>
            <a:gdLst>
              <a:gd name="textAreaLeft" fmla="*/ 16920 w 432000"/>
              <a:gd name="textAreaRight" fmla="*/ 415080 w 432000"/>
              <a:gd name="textAreaTop" fmla="*/ 16920 h 263520"/>
              <a:gd name="textAreaBottom" fmla="*/ 246600 h 263520"/>
            </a:gdLst>
            <a:ahLst/>
            <a:rect l="textAreaLeft" t="textAreaTop" r="textAreaRight" b="textAreaBottom"/>
            <a:pathLst>
              <a:path w="35391" h="21600">
                <a:moveTo>
                  <a:pt x="0" y="0"/>
                </a:moveTo>
                <a:lnTo>
                  <a:pt x="35391" y="0"/>
                </a:lnTo>
                <a:lnTo>
                  <a:pt x="35391" y="21600"/>
                </a:lnTo>
                <a:lnTo>
                  <a:pt x="0" y="21600"/>
                </a:lnTo>
                <a:close/>
              </a:path>
              <a:path fill="lightenLess" w="35391" h="21600">
                <a:moveTo>
                  <a:pt x="0" y="0"/>
                </a:moveTo>
                <a:lnTo>
                  <a:pt x="35391" y="0"/>
                </a:lnTo>
                <a:lnTo>
                  <a:pt x="33991" y="1400"/>
                </a:lnTo>
                <a:lnTo>
                  <a:pt x="1400" y="1400"/>
                </a:lnTo>
                <a:close/>
              </a:path>
              <a:path fill="darken" w="35391" h="21600">
                <a:moveTo>
                  <a:pt x="35391" y="0"/>
                </a:moveTo>
                <a:lnTo>
                  <a:pt x="35391" y="21600"/>
                </a:lnTo>
                <a:lnTo>
                  <a:pt x="33991" y="20200"/>
                </a:lnTo>
                <a:lnTo>
                  <a:pt x="33991" y="1400"/>
                </a:lnTo>
                <a:close/>
              </a:path>
              <a:path fill="darkenLess" w="35391" h="21600">
                <a:moveTo>
                  <a:pt x="353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991" y="20200"/>
                </a:lnTo>
                <a:close/>
              </a:path>
              <a:path fill="lighten" w="353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c9cbcd"/>
              </a:gs>
              <a:gs pos="100000">
                <a:srgbClr val="f0f1f2"/>
              </a:gs>
            </a:gsLst>
            <a:lin ang="16200000"/>
          </a:gradFill>
          <a:ln w="9360">
            <a:solidFill>
              <a:srgbClr val="76787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Franklin Gothic Book"/>
              </a:rPr>
              <a:t>+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822240" y="364680"/>
            <a:ext cx="7521840" cy="83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Exploitation des cinq niveaux </a:t>
            </a:r>
            <a:r>
              <a:rPr b="0" lang="fr-FR" sz="1800" spc="-1" strike="noStrike">
                <a:solidFill>
                  <a:srgbClr val="c00000"/>
                </a:solidFill>
                <a:latin typeface="Franklin Gothic Medium"/>
              </a:rPr>
              <a:t>(RC Annexe III c)</a:t>
            </a: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822240" y="1267920"/>
            <a:ext cx="75218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Franklin Gothic Book"/>
              </a:rPr>
              <a:t>1. Communication et énonciation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Franklin Gothic Book"/>
              </a:rPr>
              <a:t>Contexte, situation de communication et ses marques dans l’énonciation du texte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Franklin Gothic Book"/>
              </a:rPr>
              <a:t>→ </a:t>
            </a:r>
            <a:r>
              <a:rPr b="0" lang="fr-FR" sz="2000" spc="-1" strike="noStrike">
                <a:solidFill>
                  <a:srgbClr val="002060"/>
                </a:solidFill>
                <a:latin typeface="Franklin Gothic Book"/>
              </a:rPr>
              <a:t>identités des interlocuteurs, pronoms personnels, indicateurs temporels, temps verbaux  (antériorité, simultanéité, postériorité)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Franklin Gothic Book"/>
              </a:rPr>
              <a:t>2. Visées et enjeux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Franklin Gothic Book"/>
              </a:rPr>
              <a:t>Visée informative avec un enjeu « civique » implicite.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Franklin Gothic Book"/>
              </a:rPr>
              <a:t>→ </a:t>
            </a:r>
            <a:r>
              <a:rPr b="0" lang="fr-FR" sz="2000" spc="-1" strike="noStrike">
                <a:solidFill>
                  <a:srgbClr val="002060"/>
                </a:solidFill>
                <a:latin typeface="Franklin Gothic Book"/>
              </a:rPr>
              <a:t>Mode indicatif, phrases déclaratives, mise en paragraphes, valorisation de la décision, lexique  « neutre »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Franklin Gothic Book"/>
              </a:rPr>
              <a:t>3.Genres des documents professionnels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Franklin Gothic Book"/>
              </a:rPr>
              <a:t>Le courrier d’information d’un  commerçant  à une administration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Franklin Gothic Book"/>
              </a:rPr>
              <a:t>→ </a:t>
            </a:r>
            <a:r>
              <a:rPr b="0" lang="fr-FR" sz="2000" spc="-1" strike="noStrike">
                <a:solidFill>
                  <a:srgbClr val="002060"/>
                </a:solidFill>
                <a:latin typeface="Franklin Gothic Book"/>
              </a:rPr>
              <a:t>Mise en page du courrier, formules d’usage…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25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106EF-76D4-4082-8C93-037188346BD7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Bouton d'action : Personnalisé 7">
            <a:hlinkClick r:id="rId1" action="ppaction://hlinksldjump"/>
          </p:cNvPr>
          <p:cNvSpPr/>
          <p:nvPr/>
        </p:nvSpPr>
        <p:spPr>
          <a:xfrm>
            <a:off x="250920" y="5981760"/>
            <a:ext cx="612720" cy="287280"/>
          </a:xfrm>
          <a:custGeom>
            <a:avLst/>
            <a:gdLst>
              <a:gd name="textAreaLeft" fmla="*/ 18360 w 612720"/>
              <a:gd name="textAreaRight" fmla="*/ 594360 w 61272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46039" h="21600">
                <a:moveTo>
                  <a:pt x="0" y="0"/>
                </a:moveTo>
                <a:lnTo>
                  <a:pt x="46039" y="0"/>
                </a:lnTo>
                <a:lnTo>
                  <a:pt x="46039" y="21600"/>
                </a:lnTo>
                <a:lnTo>
                  <a:pt x="0" y="21600"/>
                </a:lnTo>
                <a:close/>
              </a:path>
              <a:path fill="lightenLess" w="46039" h="21600">
                <a:moveTo>
                  <a:pt x="0" y="0"/>
                </a:moveTo>
                <a:lnTo>
                  <a:pt x="46039" y="0"/>
                </a:lnTo>
                <a:lnTo>
                  <a:pt x="44639" y="1400"/>
                </a:lnTo>
                <a:lnTo>
                  <a:pt x="1400" y="1400"/>
                </a:lnTo>
                <a:close/>
              </a:path>
              <a:path fill="darken" w="46039" h="21600">
                <a:moveTo>
                  <a:pt x="46039" y="0"/>
                </a:moveTo>
                <a:lnTo>
                  <a:pt x="46039" y="21600"/>
                </a:lnTo>
                <a:lnTo>
                  <a:pt x="44639" y="20200"/>
                </a:lnTo>
                <a:lnTo>
                  <a:pt x="44639" y="1400"/>
                </a:lnTo>
                <a:close/>
              </a:path>
              <a:path fill="darkenLess" w="46039" h="21600">
                <a:moveTo>
                  <a:pt x="460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639" y="20200"/>
                </a:lnTo>
                <a:close/>
              </a:path>
              <a:path fill="lighten" w="460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c9cbcd"/>
              </a:gs>
              <a:gs pos="100000">
                <a:srgbClr val="f0f1f2"/>
              </a:gs>
            </a:gsLst>
            <a:lin ang="16200000"/>
          </a:gradFill>
          <a:ln w="9360">
            <a:solidFill>
              <a:srgbClr val="76787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Franklin Gothic Book"/>
              </a:rPr>
              <a:t>Courri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 rot="19107000">
            <a:off x="801360" y="1817280"/>
            <a:ext cx="6294240" cy="120348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Franklin Gothic Medium"/>
              </a:rPr>
              <a:t>Des compétences…</a:t>
            </a:r>
            <a:br>
              <a:rPr sz="3600"/>
            </a:br>
            <a:r>
              <a:rPr b="0" lang="fr-FR" sz="3600" spc="-1" strike="noStrike">
                <a:solidFill>
                  <a:srgbClr val="c00000"/>
                </a:solidFill>
                <a:latin typeface="Franklin Gothic Medium"/>
              </a:rPr>
              <a:t>aux ateliers rédactionnels</a:t>
            </a: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subTitle"/>
          </p:nvPr>
        </p:nvSpPr>
        <p:spPr>
          <a:xfrm rot="19126800">
            <a:off x="1645560" y="3153960"/>
            <a:ext cx="5708520" cy="398520"/>
          </a:xfrm>
          <a:prstGeom prst="rect">
            <a:avLst/>
          </a:prstGeom>
          <a:noFill/>
          <a:ln w="0">
            <a:noFill/>
          </a:ln>
        </p:spPr>
        <p:txBody>
          <a:bodyPr tIns="90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8374a"/>
                </a:solidFill>
                <a:latin typeface="Franklin Gothic Book"/>
                <a:ea typeface="Tunga"/>
              </a:rPr>
              <a:t>PROGRAMME NATIONAL DE PILOTAGE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pic>
        <p:nvPicPr>
          <p:cNvPr id="357" name="Picture 2" descr="E:\Mes docs\DD_Paris\AL\2010_2011\BTS_SIO\MENJVA_LOGO_Q.gif"/>
          <p:cNvPicPr/>
          <p:nvPr/>
        </p:nvPicPr>
        <p:blipFill>
          <a:blip r:embed="rId1"/>
          <a:stretch/>
        </p:blipFill>
        <p:spPr>
          <a:xfrm>
            <a:off x="108000" y="333360"/>
            <a:ext cx="2143080" cy="1981080"/>
          </a:xfrm>
          <a:prstGeom prst="rect">
            <a:avLst/>
          </a:prstGeom>
          <a:ln w="0">
            <a:noFill/>
          </a:ln>
        </p:spPr>
      </p:pic>
      <p:sp>
        <p:nvSpPr>
          <p:cNvPr id="358" name="Sous-titre 2"/>
          <p:cNvSpPr/>
          <p:nvPr/>
        </p:nvSpPr>
        <p:spPr>
          <a:xfrm>
            <a:off x="4140360" y="6265800"/>
            <a:ext cx="436860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Calibri"/>
                <a:ea typeface="Calibri"/>
              </a:rPr>
              <a:t>Poitiers – 13 &amp; 14 octobre 20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Exploitation des cinq niveaux (suite)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822240" y="1099800"/>
            <a:ext cx="7521840" cy="499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Franklin Gothic Book"/>
              </a:rPr>
              <a:t>4. Lexique professionnel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Franklin Gothic Book"/>
              </a:rPr>
              <a:t>→ </a:t>
            </a:r>
            <a:r>
              <a:rPr b="0" lang="fr-FR" sz="2000" spc="-1" strike="noStrike">
                <a:solidFill>
                  <a:srgbClr val="002060"/>
                </a:solidFill>
                <a:latin typeface="Franklin Gothic Book"/>
              </a:rPr>
              <a:t>Lexique thématique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Franklin Gothic Book"/>
              </a:rPr>
              <a:t>→ </a:t>
            </a:r>
            <a:r>
              <a:rPr b="0" lang="fr-FR" sz="2000" spc="-1" strike="noStrike">
                <a:solidFill>
                  <a:srgbClr val="002060"/>
                </a:solidFill>
                <a:latin typeface="Franklin Gothic Book"/>
              </a:rPr>
              <a:t>Lexique usuel codifié selon l’usage et les relations (hiérarchiques ou entre « pairs »)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Franklin Gothic Book"/>
              </a:rPr>
              <a:t>5. Mobilisation de connaissances et de codes orthographique, grammatical et syntaxique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Franklin Gothic Book"/>
              </a:rPr>
              <a:t>→  </a:t>
            </a:r>
            <a:r>
              <a:rPr b="0" lang="fr-FR" sz="2000" spc="-1" strike="noStrike">
                <a:solidFill>
                  <a:srgbClr val="002060"/>
                </a:solidFill>
                <a:latin typeface="Franklin Gothic Book"/>
              </a:rPr>
              <a:t>Les caractères typographiques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Franklin Gothic Book"/>
              </a:rPr>
              <a:t>→  </a:t>
            </a:r>
            <a:r>
              <a:rPr b="0" lang="fr-FR" sz="2000" spc="-1" strike="noStrike">
                <a:solidFill>
                  <a:srgbClr val="002060"/>
                </a:solidFill>
                <a:latin typeface="Franklin Gothic Book"/>
              </a:rPr>
              <a:t>Les « marques de personne », les modes et temps verbaux, (valeurs et conjugaisons), les accords, la syntaxe, la ponctuation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Franklin Gothic Book"/>
              </a:rPr>
              <a:t>→ </a:t>
            </a:r>
            <a:r>
              <a:rPr b="0" lang="fr-FR" sz="2000" spc="-1" strike="noStrike">
                <a:solidFill>
                  <a:srgbClr val="002060"/>
                </a:solidFill>
                <a:latin typeface="Franklin Gothic Book"/>
              </a:rPr>
              <a:t>La cohésion du texte (connecteurs, faits de reprise) et cohérence logique (mise en paragraphes, progression de l’information)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Franklin Gothic Book"/>
              </a:rPr>
              <a:t>→ </a:t>
            </a:r>
            <a:r>
              <a:rPr b="0" lang="fr-FR" sz="2000" spc="-1" strike="noStrike">
                <a:solidFill>
                  <a:srgbClr val="002060"/>
                </a:solidFill>
                <a:latin typeface="Franklin Gothic Book"/>
              </a:rPr>
              <a:t>Les niveaux de langue et l’orthographe lexicale.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Franklin Gothic Book"/>
              </a:rPr>
              <a:t>Une révision en situation, au fil de l’écriture et de la réécriture.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30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F6601-D543-420A-92EE-EF085B174108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Bouton d'action : Personnalisé 6">
            <a:hlinkClick r:id="rId1" action="ppaction://hlinksldjump"/>
          </p:cNvPr>
          <p:cNvSpPr/>
          <p:nvPr/>
        </p:nvSpPr>
        <p:spPr>
          <a:xfrm>
            <a:off x="250920" y="5981760"/>
            <a:ext cx="612720" cy="287280"/>
          </a:xfrm>
          <a:custGeom>
            <a:avLst/>
            <a:gdLst>
              <a:gd name="textAreaLeft" fmla="*/ 18360 w 612720"/>
              <a:gd name="textAreaRight" fmla="*/ 594360 w 61272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46039" h="21600">
                <a:moveTo>
                  <a:pt x="0" y="0"/>
                </a:moveTo>
                <a:lnTo>
                  <a:pt x="46039" y="0"/>
                </a:lnTo>
                <a:lnTo>
                  <a:pt x="46039" y="21600"/>
                </a:lnTo>
                <a:lnTo>
                  <a:pt x="0" y="21600"/>
                </a:lnTo>
                <a:close/>
              </a:path>
              <a:path fill="lightenLess" w="46039" h="21600">
                <a:moveTo>
                  <a:pt x="0" y="0"/>
                </a:moveTo>
                <a:lnTo>
                  <a:pt x="46039" y="0"/>
                </a:lnTo>
                <a:lnTo>
                  <a:pt x="44639" y="1400"/>
                </a:lnTo>
                <a:lnTo>
                  <a:pt x="1400" y="1400"/>
                </a:lnTo>
                <a:close/>
              </a:path>
              <a:path fill="darken" w="46039" h="21600">
                <a:moveTo>
                  <a:pt x="46039" y="0"/>
                </a:moveTo>
                <a:lnTo>
                  <a:pt x="46039" y="21600"/>
                </a:lnTo>
                <a:lnTo>
                  <a:pt x="44639" y="20200"/>
                </a:lnTo>
                <a:lnTo>
                  <a:pt x="44639" y="1400"/>
                </a:lnTo>
                <a:close/>
              </a:path>
              <a:path fill="darkenLess" w="46039" h="21600">
                <a:moveTo>
                  <a:pt x="460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639" y="20200"/>
                </a:lnTo>
                <a:close/>
              </a:path>
              <a:path fill="lighten" w="460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c9cbcd"/>
              </a:gs>
              <a:gs pos="100000">
                <a:srgbClr val="f0f1f2"/>
              </a:gs>
            </a:gsLst>
            <a:lin ang="16200000"/>
          </a:gradFill>
          <a:ln w="9360">
            <a:solidFill>
              <a:srgbClr val="76787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Franklin Gothic Book"/>
              </a:rPr>
              <a:t>Courri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826920" y="1484280"/>
            <a:ext cx="7521840" cy="22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Franklin Gothic Medium"/>
              </a:rPr>
              <a:t>4. </a:t>
            </a:r>
            <a:br>
              <a:rPr sz="3600"/>
            </a:br>
            <a:r>
              <a:rPr b="0" lang="fr-FR" sz="3600" spc="-1" strike="noStrike">
                <a:solidFill>
                  <a:srgbClr val="c00000"/>
                </a:solidFill>
                <a:latin typeface="Franklin Gothic Medium"/>
              </a:rPr>
              <a:t>Quels types d’ateliers et comment les mettre en place ?</a:t>
            </a: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34" name="Espace réservé du pied de page 2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Espace réservé du numéro de diapositive 3"/>
          <p:cNvSpPr/>
          <p:nvPr/>
        </p:nvSpPr>
        <p:spPr>
          <a:xfrm>
            <a:off x="847728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477AA-98A0-4F84-8A5B-39B2ACCBB03E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26920" y="4046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Différents types d’ateliers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37" name="Espace réservé du pied de page 2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Espace réservé du numéro de diapositive 3"/>
          <p:cNvSpPr/>
          <p:nvPr/>
        </p:nvSpPr>
        <p:spPr>
          <a:xfrm>
            <a:off x="847728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E9D14-EA97-4621-A808-13F383C3E2D0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ZoneTexte 4"/>
          <p:cNvSpPr/>
          <p:nvPr/>
        </p:nvSpPr>
        <p:spPr>
          <a:xfrm>
            <a:off x="826920" y="1197000"/>
            <a:ext cx="7345440" cy="52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Franklin Gothic Book"/>
              </a:rPr>
              <a:t>Ateliers d’observation et d’analyse du réel </a:t>
            </a:r>
            <a:r>
              <a:rPr b="0" lang="fr-FR" sz="2000" spc="-1" strike="noStrike">
                <a:solidFill>
                  <a:srgbClr val="000000"/>
                </a:solidFill>
                <a:latin typeface="Franklin Gothic Book"/>
              </a:rPr>
              <a:t>à partir de documents et supports de communication existant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Franklin Gothic Book"/>
              </a:rPr>
              <a:t>Ateliers de simulation </a:t>
            </a:r>
            <a:r>
              <a:rPr b="0" lang="fr-FR" sz="2000" spc="-1" strike="noStrike">
                <a:solidFill>
                  <a:srgbClr val="000000"/>
                </a:solidFill>
                <a:latin typeface="Franklin Gothic Book"/>
              </a:rPr>
              <a:t>de situations professionnelle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Franklin Gothic Book"/>
              </a:rPr>
              <a:t>Ateliers de production </a:t>
            </a:r>
            <a:r>
              <a:rPr b="0" lang="fr-FR" sz="2000" spc="-1" strike="noStrike">
                <a:solidFill>
                  <a:srgbClr val="000000"/>
                </a:solidFill>
                <a:latin typeface="Franklin Gothic Book"/>
              </a:rPr>
              <a:t>à partir de demandes réelle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Franklin Gothic Book"/>
              </a:rPr>
              <a:t>Ateliers de partage d’expériences de production </a:t>
            </a:r>
            <a:r>
              <a:rPr b="0" lang="fr-FR" sz="2000" spc="-1" strike="noStrike">
                <a:solidFill>
                  <a:srgbClr val="000000"/>
                </a:solidFill>
                <a:latin typeface="Franklin Gothic Book"/>
              </a:rPr>
              <a:t>après des PFMP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Franklin Gothic Book"/>
              </a:rPr>
              <a:t>- Ateliers de transposition rédactionnelle </a:t>
            </a:r>
            <a:r>
              <a:rPr b="0" lang="fr-FR" sz="2000" spc="-1" strike="noStrike">
                <a:solidFill>
                  <a:srgbClr val="000000"/>
                </a:solidFill>
                <a:latin typeface="Franklin Gothic Book"/>
              </a:rPr>
              <a:t>(changement d’énonciateur, de cibles, de contraintes, de supports… dans des contextes plus ou moins critique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Franklin Gothic Book"/>
              </a:rPr>
              <a:t>- </a:t>
            </a:r>
            <a:r>
              <a:rPr b="1" lang="fr-FR" sz="2000" spc="-1" strike="noStrike">
                <a:solidFill>
                  <a:srgbClr val="000000"/>
                </a:solidFill>
                <a:latin typeface="Franklin Gothic Book"/>
              </a:rPr>
              <a:t>Ateliers d’auto-formation, </a:t>
            </a:r>
            <a:r>
              <a:rPr b="0" lang="fr-FR" sz="2000" spc="-1" strike="noStrike">
                <a:solidFill>
                  <a:srgbClr val="000000"/>
                </a:solidFill>
                <a:latin typeface="Franklin Gothic Book"/>
              </a:rPr>
              <a:t>notamment aux logiciels dédiés.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126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Avec une organisation propre à chaque établissement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821880" y="1557360"/>
            <a:ext cx="76374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Franklin Gothic Book"/>
              </a:rPr>
              <a:t>Des séances en co-animation dans le cadre (et/ou) </a:t>
            </a:r>
            <a:r>
              <a:rPr b="0" lang="fr-FR" sz="2400" spc="-1" strike="noStrike">
                <a:solidFill>
                  <a:srgbClr val="000000"/>
                </a:solidFill>
                <a:latin typeface="Franklin Gothic Book"/>
              </a:rPr>
              <a:t>: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Franklin Gothic Book"/>
              </a:rPr>
              <a:t>des  horaires dédiés à l’Enseignement Général en Lien avec la Spécialité (EGLS),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Franklin Gothic Book"/>
              </a:rPr>
              <a:t>des  horaires dédiés à l’accompagnement personnalisé (AP),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Franklin Gothic Book"/>
              </a:rPr>
              <a:t>des PFMP : avant, pendant et après,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Franklin Gothic Book"/>
              </a:rPr>
              <a:t>de projets à caractère pluridisciplinaire et professionnel,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Franklin Gothic Book"/>
              </a:rPr>
              <a:t>→  </a:t>
            </a:r>
            <a:r>
              <a:rPr b="0" lang="fr-FR" sz="2400" spc="-1" strike="noStrike">
                <a:solidFill>
                  <a:srgbClr val="000000"/>
                </a:solidFill>
                <a:latin typeface="Franklin Gothic Book"/>
              </a:rPr>
              <a:t>Pas d’horaires spécifiques. Projet d’établissement.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332640" indent="-332640">
              <a:spcBef>
                <a:spcPts val="799"/>
              </a:spcBef>
              <a:buClr>
                <a:srgbClr val="28374a"/>
              </a:buClr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marL="332640" indent="-332640">
              <a:spcBef>
                <a:spcPts val="799"/>
              </a:spcBef>
              <a:buClr>
                <a:srgbClr val="28374a"/>
              </a:buClr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42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5C2FC-2F9A-45D0-B010-1015E77F88C1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En guise de conclusion…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822240" y="1100160"/>
            <a:ext cx="7521840" cy="441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05280" indent="-3052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05280" indent="-3052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Franklin Gothic Book"/>
              </a:rPr>
              <a:t>« Écrire est toujours un art plein de rencontres.</a:t>
            </a: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05280" indent="-3052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Franklin Gothic Book"/>
              </a:rPr>
              <a:t>La lettre la plus simple suppose un choix entre</a:t>
            </a: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05280" indent="-3052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Franklin Gothic Book"/>
              </a:rPr>
              <a:t>des milliers de mots, dont la plupart sont</a:t>
            </a: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05280" indent="-3052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Franklin Gothic Book"/>
              </a:rPr>
              <a:t>étrangers à ce que vous voulez dire. »</a:t>
            </a: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05280" indent="-3052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05280" indent="-3052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Franklin Gothic Book"/>
              </a:rPr>
              <a:t>Alain - 1934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46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B6548-C79E-4740-9EE0-52760D3CA4E8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68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Franklin Gothic Medium"/>
              </a:rPr>
              <a:t>Plan</a:t>
            </a: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822240" y="1100160"/>
            <a:ext cx="752184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28374a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28374a"/>
                </a:solidFill>
                <a:latin typeface="Franklin Gothic Book"/>
              </a:rPr>
              <a:t>Pourquoi des ateliers rédactionnels ?  </a:t>
            </a:r>
            <a:endParaRPr b="1" lang="en-US" sz="32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28374a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28374a"/>
                </a:solidFill>
                <a:latin typeface="Franklin Gothic Book"/>
              </a:rPr>
              <a:t>Quels objectifs  et quelles démarches?</a:t>
            </a:r>
            <a:endParaRPr b="1" lang="en-US" sz="32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28374a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28374a"/>
                </a:solidFill>
                <a:latin typeface="Franklin Gothic Book"/>
              </a:rPr>
              <a:t>Pour quels apprentissages?</a:t>
            </a:r>
            <a:endParaRPr b="1" lang="en-US" sz="32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28374a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28374a"/>
                </a:solidFill>
                <a:latin typeface="Franklin Gothic Book"/>
              </a:rPr>
              <a:t>Quels types d’ateliers et comment les mettre en place ? </a:t>
            </a:r>
            <a:endParaRPr b="1" lang="en-US" sz="32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61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B4541-D164-4A0D-8885-406D5BAE1414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464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Franklin Gothic Medium"/>
              </a:rPr>
              <a:t>1. </a:t>
            </a:r>
            <a:br>
              <a:rPr sz="3600"/>
            </a:br>
            <a:r>
              <a:rPr b="0" lang="fr-FR" sz="3600" spc="-1" strike="noStrike">
                <a:solidFill>
                  <a:srgbClr val="c00000"/>
                </a:solidFill>
                <a:latin typeface="Franklin Gothic Medium"/>
              </a:rPr>
              <a:t>Pourquoi des ateliers rédactionnels ?</a:t>
            </a: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4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13643-77D5-4002-95D6-3288E951960E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97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Des compétences rédactionnelles indispensables au professionnel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822240" y="1989000"/>
            <a:ext cx="752184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28374a"/>
                </a:solidFill>
                <a:latin typeface="Franklin Gothic Book"/>
              </a:rPr>
              <a:t>Note d’opportunité 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28374a"/>
                </a:solidFill>
                <a:latin typeface="Franklin Gothic Book"/>
              </a:rPr>
              <a:t>« La compétence à communiquer intègre une maîtrise langagière spécifique du métier et une utilisation du lexique de l’organisation dans tout type de contexte et de situation professionnels. »</a:t>
            </a:r>
            <a:endParaRPr b="1" lang="en-US" sz="3200" spc="-1" strike="noStrike">
              <a:solidFill>
                <a:srgbClr val="28374a"/>
              </a:solidFill>
              <a:latin typeface="Franklin Gothic Book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68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C68BB-0DA9-4C30-9E07-E866E7150A3F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Des compétences rédactionnelles indispensables au professionnel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826920" y="1125360"/>
            <a:ext cx="7521840" cy="484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28374a"/>
                </a:solidFill>
                <a:latin typeface="Franklin Gothic Book"/>
              </a:rPr>
              <a:t>Le Référentiel d’Activités Professionnelles  (RAP)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28374a"/>
                </a:solidFill>
                <a:latin typeface="Franklin Gothic Book"/>
              </a:rPr>
              <a:t>«</a:t>
            </a:r>
            <a:r>
              <a:rPr b="0" i="1" lang="fr-FR" sz="2800" spc="-1" strike="noStrike">
                <a:solidFill>
                  <a:srgbClr val="28374a"/>
                </a:solidFill>
                <a:latin typeface="Franklin Gothic Book"/>
              </a:rPr>
              <a:t>  </a:t>
            </a:r>
            <a:r>
              <a:rPr b="1" i="1" lang="fr-FR" sz="2400" spc="-1" strike="noStrike">
                <a:solidFill>
                  <a:srgbClr val="28374a"/>
                </a:solidFill>
                <a:latin typeface="Franklin Gothic Book"/>
              </a:rPr>
              <a:t>Dans son rôle d’interface et de producteur de documents et de supports de communication, le titulaire du baccalauréat professionnel Gestion-Administration doit maîtriser la qualité de son expression écrite et orale. Vecteur de l’image de l’organisation, sa maîtrise de l’orthographe et de la syntaxe est impérative. »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72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A8029-298A-444C-80BE-D2B4D3EB7596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22240" y="364680"/>
            <a:ext cx="752184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Des compétences rédactionnelles complexes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826920" y="1341360"/>
            <a:ext cx="7521840" cy="43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339480" indent="-339480">
              <a:spcBef>
                <a:spcPts val="799"/>
              </a:spcBef>
              <a:buClr>
                <a:srgbClr val="2837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8374a"/>
                </a:solidFill>
                <a:latin typeface="Franklin Gothic Book"/>
              </a:rPr>
              <a:t>Des situations de communication et des productions écrites très diverses.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339480" indent="-339480">
              <a:spcBef>
                <a:spcPts val="799"/>
              </a:spcBef>
              <a:buClr>
                <a:srgbClr val="2837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8374a"/>
                </a:solidFill>
                <a:latin typeface="Franklin Gothic Book"/>
              </a:rPr>
              <a:t>Mobilisant des connaissances et capacités langagières spécifiques variant selon les productions attendues .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339480" indent="-339480">
              <a:spcBef>
                <a:spcPts val="799"/>
              </a:spcBef>
              <a:buClr>
                <a:srgbClr val="2837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8374a"/>
                </a:solidFill>
                <a:latin typeface="Franklin Gothic Book"/>
              </a:rPr>
              <a:t>De la part d’élèves ou d’apprentis qui, au sortir de la troisième générale ou de la troisième préparant à la voie professionnelle, n’auront peut-être pas encore validé la compétence 1 du socle commun.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76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D8D29-FF93-4853-ACAC-E497FF195FAF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22240" y="364680"/>
            <a:ext cx="752184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Une nécessaire collaboration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755280" y="1267920"/>
            <a:ext cx="75884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2837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28374a"/>
                </a:solidFill>
                <a:latin typeface="Franklin Gothic Book"/>
              </a:rPr>
              <a:t>Un enseignement en co-disciplinarité: professeur de français (PLP Lettres-histoire ou PLP langue-Lettres) et professeur d’économie-gestion.</a:t>
            </a: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2837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28374a"/>
                </a:solidFill>
                <a:latin typeface="Franklin Gothic Book"/>
              </a:rPr>
              <a:t>Chaque professeur apportant, selon les productions travaillées, ses compétences disciplinaires spécifiques</a:t>
            </a: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2837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28374a"/>
                </a:solidFill>
                <a:latin typeface="Franklin Gothic Book"/>
              </a:rPr>
              <a:t>Dans un esprit de découverte, de mutualisation et d’enrichissement réciproques</a:t>
            </a: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80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31719-04DE-4CD4-AFCE-E114C07A33E2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Pour des finalités diverses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822240" y="1099800"/>
            <a:ext cx="7521840" cy="427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2837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28374a"/>
                </a:solidFill>
                <a:latin typeface="Franklin Gothic Book"/>
              </a:rPr>
              <a:t>Pour faire  évoluer les représentations des jeunes dans l’apprentissage d’un métier :  liaison EG /EP.</a:t>
            </a: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2837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28374a"/>
                </a:solidFill>
                <a:latin typeface="Franklin Gothic Book"/>
              </a:rPr>
              <a:t>Pour faciliter les poursuites d’études.</a:t>
            </a: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2837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28374a"/>
                </a:solidFill>
                <a:latin typeface="Franklin Gothic Book"/>
              </a:rPr>
              <a:t>Pour parfaire les compétences  rédactionnelles des jeunes qu’elles soient professionnelles ou plus personnelles.</a:t>
            </a: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84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98D61-8F21-492C-BA9B-9A8E2450B758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3T06:57:33Z</dcterms:created>
  <dc:creator>Simon</dc:creator>
  <dc:description/>
  <cp:keywords/>
  <dc:language>en-US</dc:language>
  <cp:lastModifiedBy>Edith Simon</cp:lastModifiedBy>
  <dcterms:modified xsi:type="dcterms:W3CDTF">2011-10-25T19:03:02Z</dcterms:modified>
  <cp:revision>167</cp:revision>
  <dc:subject/>
  <dc:title>Présentation PowerPoint</dc:title>
</cp:coreProperties>
</file>