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88F4-7000-44F7-8C25-4FD756AC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609-53E6-4B6B-A51B-649C8811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87F-1784-4EEF-9591-F027CAC0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1DD-1920-4437-8F3C-723A0B12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6946-9B4F-4E54-9F4C-31EB6684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F12D-C729-401E-9971-4C9D3A0D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F687-766A-4122-9AC8-6D258581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B910-BDFA-4FCA-B8AA-4F149FE7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9FB9-4CE4-40F0-8213-DA5E7B91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71B7-7F11-461A-8769-F1149E9F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0174-CCF9-4418-B5A6-586827D3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700-7264-48DC-AF6F-6B2DF47F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771F-AD21-43FC-913D-3C7F614E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8B9F-F497-4881-A2E5-24CB86C2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0E75-03A3-4BD4-8CCB-92BCE82E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85EE-748A-400E-A581-FDDE2923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2311-3488-4EC0-B0EC-289EEA35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C9774-2DEB-4841-B8FC-32AB7D79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315FC-E6DC-4806-8BF4-A5F10158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D1039-AF5D-49AC-B7BD-97F7EA43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A9AB7-018F-4ECF-B78F-00A58DBB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C24F6-8800-4548-8B64-DB1E7F20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D32-2382-4D17-8301-A3593335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64755-E01C-4228-BB7B-BB626345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D03B4-A6FC-4686-A8F0-6312C002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E0B83-880D-4D58-812C-C4548A6E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70777-B082-4370-88AA-A49D2F5E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8DDF-76F6-42DA-977A-DB8A8674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8FE19-A2FB-4947-8136-79DE963A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4331A-CD91-429D-B219-9C558AD5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76821-DE0A-407C-9CC7-127A0E73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61880-B1D4-4A19-A0E6-98922EAB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9BC50-6A40-4D9C-9737-4AF24700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F80-CF31-423B-A705-4B419470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347A2-2EC8-461E-A944-56617987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345CF-4D9C-4338-BD49-7B3CC6E9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C01DD-00B5-411F-8C4B-C3F1516C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3CCED-7057-4C6F-9F56-2D4B3FFD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36091-CAF7-4B65-BD1B-5BFC94EC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995C6-321E-4076-9804-B079D315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CF663-8CE8-493C-A5B4-6F4F0571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388A9-223B-4E5C-91CC-B01FB5C5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D264D-FA4D-4213-B96B-984DB4F3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24C2A-DB9E-4AD3-B03D-E4A61997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3A45-DFDB-485E-961F-6CA7AB79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0621A-1B35-46EB-B128-7F745EE5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35AD5-96CB-4D18-8CE1-8B43EDB6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401EF-F4E0-4E50-A06A-8B21B4F3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03C58-98A3-43D3-9E91-6D217C68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BBF58-907A-4C6E-830A-1979C005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6B8EF-DF0E-4E9E-A11E-AF76E83A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68243-C515-4E6A-A9F3-2B4E392F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2A32F-44FA-4FE4-A771-7464315D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80268-A1ED-4776-ADDD-A0378B76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7DC9D-4C10-49F1-B1EA-468FFB22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69F-BE5F-456B-B5DA-341A60EB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3E7D5-EB5B-4DEE-B44B-4E69D2A3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6BCEA-3C80-4DA2-9BF2-9B12250D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B9870-F60F-4F0B-BBB9-78617EC1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EC190-7476-4B30-A67B-655516B6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C5212-5FCE-46B5-B4FC-90EBBFFF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488BC-B329-4874-8FA9-5FF2824D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08A63-87EA-478A-B31E-F2FC7A09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42829-4C4A-463A-A0AE-D966A86B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DD7F7-658C-41CF-9140-C61DB1DE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EE244-168F-41F4-9322-677DD131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F0F-E182-4A3C-B2D5-C2AE8088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6CFCF-9123-444F-9CBD-7254E98A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F4183-9DE2-446A-BAC5-9A6B829A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7B316-FCE9-4C85-AB9B-6382BF47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5CFB6-807F-425E-BC0F-E576A573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A6528-310B-4FB9-BABA-D1A94C47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E1914-FE33-4BF0-85C3-28108F33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7E560-B8DD-474C-9D43-958C3DC5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5B79D-2BEA-461E-8F6E-924FED4C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5121F-536C-43DC-BA21-8EDFC625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F8E14-63C9-44AA-AC4C-62E8659B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A3D-E178-4691-A33A-CD4F327B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19747-C9C6-4E95-8AAF-A8E64774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6E3EB-72A1-4DD8-B246-D387FD6E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A5F6B-6983-43BE-B5F9-A1753DB1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058D8-5329-4614-B39A-89041FAA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4D446-586C-406B-BF9C-2A8B2268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F0AB6-0CDB-468D-9CF8-7CA86DC7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6A14C-D981-4E20-A2A7-32A38928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C6DB9-A923-4FC5-A704-D5A10362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C3530-709F-4FAA-B662-3049778B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26F54-5BEA-46F7-A481-AE48054B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B48-56EF-4607-9289-44F8B24C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4978E-561B-46AA-A420-C6511E39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84B70-C1D7-40D8-9C78-4E8B149E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270F1-3E41-4EBD-BBA2-1D2B3633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37062-4608-4321-B01E-BF484D7F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F7A8B-021C-44E2-AFEC-D48C6ED7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AC414-2276-456A-BDBE-785CF54E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C6314-3C28-4544-90E4-D7EF7CA0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2544-88BD-4DD2-AE58-9AC75489982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DEB9-8314-442D-A425-DF54F3C0C478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DFC8-3135-4987-844F-2A7E705585B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23C5-A63C-4DE9-B292-EFFD9D7F19E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AB0E-5F89-4130-A39A-356E26364DD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9EE7-25C1-4BCE-BAF9-F8CDC68E259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FAA5-BC3D-423D-A3AF-8C45F65F51B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7151-DA1D-4395-9BB5-894C95B2F16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753C-67E8-4E33-A329-1BC57C430B8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5A8D-02DF-4B6E-AD40-B661307A529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B8BA-953A-4AB9-BE1D-8568DB66775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8F2B-2C4C-4991-8D4E-E19A0ADEE97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E6E1-5EBE-494A-BC4A-08EE8220650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5D30-2319-48DA-A453-C3B3B7940FD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B93E-415D-4F44-B841-5A0910F3B16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7FE6-4FCF-4A75-B1E6-C9F14C609A0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4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4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Épreuve E2 – Gestion administrative 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6920" y="1125360"/>
            <a:ext cx="752184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Quatre classes de situations sont concernées par l’épreuve E2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1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courante du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2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ssources humain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 2.3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émunérations et d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budgets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4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lations social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65CE-39DE-4610-9579-351016E2A10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5"/>
          <p:cNvSpPr/>
          <p:nvPr/>
        </p:nvSpPr>
        <p:spPr>
          <a:xfrm>
            <a:off x="576360" y="4149720"/>
            <a:ext cx="7813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Les compétences du pôle 2 et les critères d’évaluation du pô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11"/>
          <p:cNvSpPr/>
          <p:nvPr/>
        </p:nvSpPr>
        <p:spPr>
          <a:xfrm>
            <a:off x="576360" y="5516640"/>
            <a:ext cx="7812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Maîtrise orthographique et syntax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3203640" y="4508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920" y="1125360"/>
            <a:ext cx="7521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candidat doi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traiter des situations professionnell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relevant de la gestion administrative des relations avec le personnel, dan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les limites de complexité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apportées par la description des situations professionnelles dans le référentiel de certification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objectif est donc d’évaluer si le candidat est capable de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e situer et situer sa réflexion et son action dans un processus RH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ppliquer des consignes, des procédures, des textes règlementaires concernant les relations avec le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duire, renseigner, chiffrer, mettre à jour et contrôler des documents et des formulair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vérifier la qualité orthographique et syntaxique des documents traité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B8BB-E4B6-4EE3-B3DB-B475CA806BF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2 - Gestion administrative des relations avec le personnel – Coefficient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8000" y="1413000"/>
          <a:ext cx="8929800" cy="4581360"/>
        </p:xfrm>
        <a:graphic>
          <a:graphicData uri="http://schemas.openxmlformats.org/drawingml/2006/table">
            <a:tbl>
              <a:tblPr/>
              <a:tblGrid>
                <a:gridCol w="1728720"/>
                <a:gridCol w="2158920"/>
                <a:gridCol w="1513080"/>
                <a:gridCol w="1871640"/>
                <a:gridCol w="1657440"/>
              </a:tblGrid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dida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rivé hors contra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une section d'apprentissage non habilit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riv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ndidat justifiant de 3 années d’activité professionnell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seignement à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 hab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280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8008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 écr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2655-515E-48DC-AE15-0E7FE1C75EF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00000" y="1483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lusieurs dossier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indépendant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contextualisé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dossier traite d’une ou plusieurs «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ituations-problèm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» empruntées à la réalité professionnelle et inscrite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cadre juridique et règlementaire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 propre à la gestion administrative des relations avec le personnel.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respect des processus internes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, des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procédures et des consignes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latives aux activités de gestion administrative des relations avec le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s situations font apparaîtr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es niveaux de complex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ls qu’ils sont décrits dans le référenti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prend appui sur de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ocuments et ressources documentaires décrivant les situations de travail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à traiter et nécessaires à la résolution du ca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054E-4C82-4730-B34F-329B9EA8CDE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3413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ne nécessite pas, pendant son déroulement, de mettre un poste de travail informatique à la disposition du candidat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a correction est assurée par un professeur ayant en charge des enseignements professionnels dans le baccalauréat professionnel Gestion-Administration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200B-0122-4BFB-96E0-5CC1E05C382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Forme CCF: 4 situations écrit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55280" y="1196640"/>
            <a:ext cx="7521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ère situation d’évaluation E2A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1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2ème situation d’évaluation E2B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2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3ème situation d’évaluation E2C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3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4ème situation d’évaluation E2D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 heur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oefficient 1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tude de ca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position de note au jury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0D2D-4EAC-4699-8184-2A0288E98CE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10"/>
          <p:cNvCxnSpPr/>
          <p:nvPr/>
        </p:nvCxnSpPr>
        <p:spPr>
          <a:xfrm>
            <a:off x="5111280" y="1412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0" name="Connecteur droit avec flèche 12"/>
          <p:cNvCxnSpPr/>
          <p:nvPr/>
        </p:nvCxnSpPr>
        <p:spPr>
          <a:xfrm>
            <a:off x="5111280" y="184428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1" name="Connecteur droit avec flèche 13"/>
          <p:cNvCxnSpPr/>
          <p:nvPr/>
        </p:nvCxnSpPr>
        <p:spPr>
          <a:xfrm>
            <a:off x="5111280" y="2204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2" name="Connecteur droit avec flèche 14"/>
          <p:cNvCxnSpPr/>
          <p:nvPr/>
        </p:nvCxnSpPr>
        <p:spPr>
          <a:xfrm>
            <a:off x="5111280" y="2636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sp>
        <p:nvSpPr>
          <p:cNvPr id="383" name="Flèche vers le bas 15"/>
          <p:cNvSpPr/>
          <p:nvPr/>
        </p:nvSpPr>
        <p:spPr>
          <a:xfrm>
            <a:off x="4211640" y="4508640"/>
            <a:ext cx="289080" cy="64908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 N. SEV</cp:lastModifiedBy>
  <dcterms:modified xsi:type="dcterms:W3CDTF">2011-10-11T16:18:04Z</dcterms:modified>
  <cp:revision>60</cp:revision>
  <dc:subject/>
  <dc:title>Baccalauréat professionnel Gestion -- Administration</dc:title>
</cp:coreProperties>
</file>