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994C-EE9D-435B-A48B-927EFC07A2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764E-894C-470C-A962-C014DAAA70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19A-E08B-42D9-B40F-4AD35813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C3A-5822-4F93-8821-8ADE466F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45A-E049-4E47-9255-D030CE12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A4CF-FCE7-454A-A3C9-476D2257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743D-EA21-41E5-801F-99E592B5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F5BB-E90D-4BFD-A1D7-9E5C2E49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928D-444B-41A9-8E83-E28100E9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0943-8897-4BA8-A98A-B786E51E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8959-094F-40E8-A5B4-14F2ADAE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C16D-83F4-41B2-B973-7152D09C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AC5E-4772-4709-A562-A887318E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C50A-24C0-4116-B7D6-E27E255A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E75F-7AF3-4CCA-9BEE-A2772811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13CC-87C1-4974-8AB6-647FE209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8291-8CC8-4931-B71E-0D55D869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088E-9148-48BC-9B4A-B891D31B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05F0-F57B-42F7-8B4C-1087F6E6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46C69-3F86-4A93-A149-C71F7F9A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FC076-EDC9-4C40-A021-DD064F43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52DFC-A187-41B7-9332-7034A495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38C73-332E-4684-ADDA-5FBB7857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FA772-510A-4708-A43B-BAD1E041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A3C8-880D-46F8-848C-B69FA36D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0EA0F-0652-428F-9CDA-E858C112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4CDC1-0BCD-4C1B-AC5F-34BE1EE2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46C7C-7E02-4117-9F4E-648D6CAA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FF34E-E105-4085-9E2A-2CE72A2A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76365-1A3A-4ABA-B551-1B518E54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1EB5A-CE30-4C6B-B173-2E97085C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B312A-867F-4E2A-BB64-8AC91D1C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CABBF-50DD-4A63-BF46-D6D0094E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C4FA4-1CD0-4522-A170-50414A35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9805B-E2E4-4BE9-9308-1D50498F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0351-2E96-44BD-B470-70C8100B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9EBB9-275E-4DAD-B9C8-75CD205E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A4033-7D23-421E-A548-B55E3454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23D1E-66EB-4107-90EA-2EA79A1D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2D29B-2F0C-4C65-8BDC-CF3E0759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02A18-B91C-49D6-B372-8140FA46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7E74A-04F6-462A-BF80-DDE8E479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C0FC2-FFEB-4F64-B1B7-56790DA9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81CAD-538B-4D56-B986-7F5FD77B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40502-6E71-4FCE-BC25-97A81D1B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63D0C-CA97-488D-B246-5430BB1E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205-FD4F-486C-8675-1DDC7572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BC159-3CA0-4B1D-9F26-C38D7232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521B0-4A30-49C6-8913-F64DC357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4EB44-B15F-4687-BA01-DEA403CB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D0D66-BD8D-43B3-8756-55824216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72940-EE0B-4E9E-A708-251A7554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750BD-5E6B-41B0-B6F5-5026E98E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2E44E-56C9-4A54-A5BC-B0F09F3B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80071-3906-4469-8915-8EA26A44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F70CD-E463-4D04-8006-78A7EC24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1A384-D026-426A-B220-3F335E40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D01-E40E-4250-ACD3-68E59DE4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2355F-6858-4571-ADCE-1CA696ED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74B71-E497-414E-AB45-7FB68B44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A3934-E39A-4F35-8843-55FAE0B6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A2A9E-1808-4CAB-B1A1-09F16A04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53138-6A76-4250-A0AB-12FEC551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7D092-43B2-4ACB-B1AB-551936F0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B50EB-19C6-4265-8948-A63156D5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6C529-A9B0-4893-B6F3-7F4B828A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E9A50-C5F0-4724-BD51-4401559E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66AA3-2EBB-4034-820E-DF028CAB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DF3-E8DE-43F7-97B3-1EA68608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29E11-A96F-42B8-821D-7A6E1D56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13731-2A5C-4C87-A87B-138D1803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5E1BB-5CBE-405D-A744-08EBE28E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4183-100C-45EF-AD88-326839FA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6DCD-3071-4F74-8C71-BA140851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A677-A93C-4867-B3D7-E3573E715BCF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EDAC-A600-49A4-A6B8-C6754EB25BFE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" name="Picture 2" descr="E:\Mes docs\DD_Paris\AL\2010_2011\BTS_SIO\MENJVA_LOGO_Q.gif"/>
          <p:cNvPicPr/>
          <p:nvPr/>
        </p:nvPicPr>
        <p:blipFill>
          <a:blip r:embed="rId2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0E68-95EC-41F7-814C-7E649EB655E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E077-B413-431C-AAAD-C65495B37F01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B873-EC26-4FE9-A11D-9E17FE73F19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3116-DC26-4471-A52C-6F92E9DBF01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6956-4A1C-484B-AFD7-D477B0D5D9E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9560-48BE-45BE-A5AD-71823696D6D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252F-7CDD-47EA-9D84-45A5953A998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CA17-D686-4BC9-941C-3BB78FF0AA81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1D05-B826-4C62-8A5D-420CA1B90B1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CAD3-B817-41B2-A5A4-1C47068AF0F0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-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 rot="19126800">
            <a:off x="1416960" y="2542680"/>
            <a:ext cx="756108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8374a"/>
                </a:solidFill>
                <a:latin typeface="Franklin Gothic Book"/>
                <a:ea typeface="Tunga"/>
              </a:rPr>
              <a:t>BACCALAURÉAT PROFESSIONNEL GESTION -ADMINISTRATION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27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27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953A-23B0-4D03-99A0-6493ABA24B9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85840" y="479520"/>
          <a:ext cx="8572320" cy="5675040"/>
        </p:xfrm>
        <a:graphic>
          <a:graphicData uri="http://schemas.openxmlformats.org/drawingml/2006/table">
            <a:tbl>
              <a:tblPr/>
              <a:tblGrid>
                <a:gridCol w="2647800"/>
                <a:gridCol w="3332160"/>
                <a:gridCol w="2592360"/>
              </a:tblGrid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ONNÉES DE LA SIT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SAVOIR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SSOCI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PERFORMANC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87440">
                <a:tc rowSpan="2">
                  <a:txBody>
                    <a:bodyPr lIns="46080" rIns="4608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aractéristiques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liste et le statut des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dre du jou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carnet d’adr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 annu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signalét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lan du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équipements et supports d’affich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 de commun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onsignes de sécurité et 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mission des comptes rend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environnement numérique d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ganisation logistique des réun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de gestion du tem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accueil des grou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hénomènes de grou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de transmission de l’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s et les enjeux de 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professionnel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rits professionnels liés à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collaborati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nctionnalités bureautique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présentation des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rôle des acteurs et des partenair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ns l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prise de notes, les abréviations, les sché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nfrontation de plusieurs prises de 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synthès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aroles rapportées, les dialogues, la ci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modes et temps des verbes : le présent de l’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raintes de dates et de lie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ombre important de participa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nsité des é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daction du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ueil de participants étran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unions à 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cation ou annulation de la date de l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ieu indispon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vocations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 de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s matérielles et logis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OMPÉT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RITÈR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’ÉVAL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RÉSULTATS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S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éunion se déroule dans les conditions attendues, avec les supports demandés, et les comptes rendus sont adressé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ser la logistique administrative d’un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icacité dans l’organisation et le suivi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3"/>
          <p:cNvSpPr/>
          <p:nvPr/>
        </p:nvSpPr>
        <p:spPr>
          <a:xfrm>
            <a:off x="468360" y="13356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3.2. Gestion des modes de travai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r>
              <a:rPr b="1" lang="fr-FR" sz="12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3.2.1. </a:t>
            </a:r>
            <a:r>
              <a:rPr b="1" lang="fr-FR" sz="16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ORGANISATION ET SUIVI DE RÉUNIO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Bulle ronde 9"/>
          <p:cNvSpPr/>
          <p:nvPr/>
        </p:nvSpPr>
        <p:spPr>
          <a:xfrm>
            <a:off x="1714680" y="428760"/>
            <a:ext cx="2000160" cy="714240"/>
          </a:xfrm>
          <a:prstGeom prst="wedgeEllipseCallout">
            <a:avLst>
              <a:gd name="adj1" fmla="val 69828"/>
              <a:gd name="adj2" fmla="val -11574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Savoirs nécessaires à l’action, savoirs pragmatiques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Bulle ronde 10"/>
          <p:cNvSpPr/>
          <p:nvPr/>
        </p:nvSpPr>
        <p:spPr>
          <a:xfrm>
            <a:off x="5000760" y="1357200"/>
            <a:ext cx="1357200" cy="571680"/>
          </a:xfrm>
          <a:prstGeom prst="wedgeEllipseCallout">
            <a:avLst>
              <a:gd name="adj1" fmla="val -74810"/>
              <a:gd name="adj2" fmla="val 31999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Approche managéria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Bulle ronde 11"/>
          <p:cNvSpPr/>
          <p:nvPr/>
        </p:nvSpPr>
        <p:spPr>
          <a:xfrm>
            <a:off x="5000760" y="3643200"/>
            <a:ext cx="2643120" cy="785880"/>
          </a:xfrm>
          <a:prstGeom prst="wedgeEllipseCallout">
            <a:avLst>
              <a:gd name="adj1" fmla="val -37615"/>
              <a:gd name="adj2" fmla="val -81111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fondements de l’activité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Bulle ronde 12"/>
          <p:cNvSpPr/>
          <p:nvPr/>
        </p:nvSpPr>
        <p:spPr>
          <a:xfrm>
            <a:off x="571680" y="3929040"/>
            <a:ext cx="2357280" cy="1143000"/>
          </a:xfrm>
          <a:prstGeom prst="wedgeEllipseCallout">
            <a:avLst>
              <a:gd name="adj1" fmla="val 50759"/>
              <a:gd name="adj2" fmla="val -43578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Maîtrise de la langue française, qualité de l’expression,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gage de réussite  sociale et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9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20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Espace réservé du contenu 2"/>
          <p:cNvSpPr/>
          <p:nvPr/>
        </p:nvSpPr>
        <p:spPr>
          <a:xfrm>
            <a:off x="4786200" y="2604960"/>
            <a:ext cx="4000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6a6a6"/>
                </a:solidFill>
                <a:latin typeface="Franklin Gothic Book"/>
                <a:ea typeface="Tunga"/>
              </a:rPr>
              <a:t>EN RÉSUMÉ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DE TRAVAIL ANCRÉES      DANS UNE RÉALITÉ PROFESSIONNELLE   PARFOIS COMPLEXE, JAMAIS STATIQU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PROFESSIONNELLES  ENGLOBANT PROCESSUS D’APPRENTISSAGE   ET DÉVELOPPEMENT PROFESSIONN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6760" y="365040"/>
            <a:ext cx="8572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’activité courante du gestionnaire administratif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AD19-0A7F-40DE-84DF-64141192ACA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Rectangle 4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731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 rot="19140000">
            <a:off x="784080" y="1576080"/>
            <a:ext cx="521352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49840" y="2619360"/>
            <a:ext cx="403704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Franklin Gothic Book"/>
              </a:rPr>
              <a:t>Aptitude général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79a3"/>
                </a:solidFill>
                <a:latin typeface="Franklin Gothic Book"/>
              </a:rPr>
              <a:t>Améliorer la productivité administrativ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852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A334-5B66-43BA-B344-817F4D540A4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activité professionnelle évolutive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08F6-3DE0-40C5-9BFB-E6F722D9B23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ZoneTexte 4"/>
          <p:cNvSpPr/>
          <p:nvPr/>
        </p:nvSpPr>
        <p:spPr>
          <a:xfrm>
            <a:off x="785880" y="1522440"/>
            <a:ext cx="7572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Les métiers administratifs sont par nature transversaux, tous les secteurs sont concernés. Le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caractère « situé » du référenti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ans lequel chaque activité citée renvoie à des situations de travail réelles,  permet d’éviter une vision « diluée » du métier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Que l’organisation requiert une forte polyvalence, ou bien une spécialisation,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le gestionnaire administratif devra s’adapter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ux divers interlocuteurs, aux contextes et aux modes d’organisation du travail mis en plac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Placé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au cœur d’un réseau relationnel très large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, il devra aussi intégrer dans son activité, les rôles, places et statuts de chacun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 rot="19140000">
            <a:off x="610920" y="1439280"/>
            <a:ext cx="587376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14 SITUATIONS PROFESSIONNELLES</a:t>
            </a:r>
            <a:br>
              <a:rPr sz="2800"/>
            </a:b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DE RÉFÉRENC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6" name="Espace réservé du contenu 2" descr=""/>
          <p:cNvPicPr/>
          <p:nvPr/>
        </p:nvPicPr>
        <p:blipFill>
          <a:blip r:embed="rId1"/>
          <a:stretch/>
        </p:blipFill>
        <p:spPr>
          <a:xfrm>
            <a:off x="4475160" y="2828880"/>
            <a:ext cx="4681440" cy="3462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 rot="19140000">
            <a:off x="129816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Franklin Gothic Book"/>
              </a:rPr>
              <a:t>POLE 3 GESTION ADMINISTRATIVE INTERNE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80B3-DA1A-41E4-9683-1A093080EC7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information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56800" y="1642680"/>
            <a:ext cx="764388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1 Collecte et recherche d’informat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2 Production d’informations structuré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3 Organisation et mise à disposition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AAE4-E96F-4B5D-8451-C64C5D14A70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Espace réservé du texte 4"/>
          <p:cNvSpPr/>
          <p:nvPr/>
        </p:nvSpPr>
        <p:spPr>
          <a:xfrm>
            <a:off x="785880" y="3573360"/>
            <a:ext cx="592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2240" y="507600"/>
            <a:ext cx="7521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modes de travai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63280" y="1356840"/>
            <a:ext cx="75661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1 Organisation et suivi de réun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2 Gestion des flux de courrie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3 Gestion des flux téléphon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4 Gestion d’espaces collaboratif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097D-0192-49CD-9F62-ACC1CBA7E39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Espace réservé du texte 4"/>
          <p:cNvSpPr/>
          <p:nvPr/>
        </p:nvSpPr>
        <p:spPr>
          <a:xfrm>
            <a:off x="785880" y="500076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364680"/>
            <a:ext cx="85010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espaces de travail et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ressourc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1 Orientation et information des visiteu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2 Maintien opérationnel des postes de travail et aménagement des espac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3 Gestion des contrats de Maintenance, abonnements, licences informat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4 Participation au suivi du budget de fonctionnement du servi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5 Gestion des fournitures, consommables et petits équipements de bureau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7C00-8848-4A11-8547-B1E0654CEF5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Espace réservé du texte 4"/>
          <p:cNvSpPr/>
          <p:nvPr/>
        </p:nvSpPr>
        <p:spPr>
          <a:xfrm>
            <a:off x="785880" y="321480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Espace réservé du texte 4"/>
          <p:cNvSpPr/>
          <p:nvPr/>
        </p:nvSpPr>
        <p:spPr>
          <a:xfrm>
            <a:off x="785880" y="4143240"/>
            <a:ext cx="785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u temp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70580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1 Gestion des agenda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2 Planification et suivi des activité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8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CE5D-1CE3-4297-89A4-8176F6D77E6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45:51Z</dcterms:created>
  <dc:creator>Isa</dc:creator>
  <dc:description/>
  <dc:language>en-US</dc:language>
  <cp:lastModifiedBy>Edith Simon</cp:lastModifiedBy>
  <dcterms:modified xsi:type="dcterms:W3CDTF">2011-10-25T19:10:11Z</dcterms:modified>
  <cp:revision>130</cp:revision>
  <dc:subject/>
  <dc:title>pôle 3 gestion administrative</dc:title>
</cp:coreProperties>
</file>