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E239-8C05-45BF-ADC5-84924429DA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43ED3-DDAF-49E8-B370-B738BDE84D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7274-04CC-4712-BDC8-C9E84A19F6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EFB2-C159-4B07-8432-CE57174086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C8E-0597-402B-B5AC-6F8897E9D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29A-FB3E-43D4-B3B5-EA857260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2203-DBCE-4E27-A6BE-A5BEEDD27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B2C-B4D7-48AE-94B3-61340B52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B5D8-50AE-4D8E-B2C0-9648DB92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C833-F77B-42A7-A030-05AF507D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9824-223C-43FD-96DF-FE889B16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74EB-EEBC-46C7-8322-B1AFA4CB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418A-F1A5-455E-9C70-72D5FD2A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7FD1-D851-42F6-AADB-53D6B09D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F7AB-DC44-48B7-BAF9-B0E60CA9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D88-A5E2-49DA-B18E-DCC10C52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DE10-D5C8-4058-BFC2-77459AD1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2975-404C-4CB4-9444-349DA5E5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B530-1B8A-451A-AD8D-9330D394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4EB8-40F7-41A1-9918-CB9F0DA6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5C59-8663-478A-A29B-B647EC28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D1D09-C163-4953-BB4C-B9BC68FC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052A4-9FA4-4F24-96D2-14425994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C9927-0F7D-45EA-8E72-8C0852BB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B28B7-33C7-4149-8561-F98B96E0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B5A79-5C2F-43A5-84EB-B4E35221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A839-B063-4C47-9CC9-B3350DC2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B205F-30C0-4D96-9018-72F38046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BDD83-8E30-4E27-9CAE-5FDCD3B8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22546-A1D1-4994-BB33-E568E1AE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50710-98C9-47CF-846B-5208F6C5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13430-B88B-481A-956C-EEE2EE07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8A2C9-541F-4CD6-B964-61D7058B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EDEF8-F62D-403C-B138-7CEF734F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56587-71E8-47C1-980C-D5FE977B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9B7E6-F4D9-43DF-8C4B-E5B1D7CB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8C33E-EB72-40FA-977C-837CABED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62BC-7016-455A-8758-48B5F60D5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96263-529A-4479-A2DA-78A2732E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0E34C-BA57-4CD3-BA7D-176BD312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16860-C96F-45CA-A6AC-8820DD4B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47BD3-D85A-4CE3-8503-D69AD044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8EEB6-69F7-4A4E-9F4E-6DB3EA5F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49B37-D84A-47F8-8A42-7680C121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832B2-EAF2-4B79-B037-8E2CA51E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F01A6-37AE-4C30-8651-2ADD32CFF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1B5B9-9A7E-43C4-8693-9975F8A9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A819B-C80A-4F10-A532-6E3B8145C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04A5-7FCA-4AA7-9B6B-288AAD03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4190F-DC07-4BF6-AEF3-36B3104A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189FE-3B18-4003-890D-AC6EE25A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E1917-022D-410D-BB44-B31CC2D8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8C126-FCE0-4733-8A43-46B45BF9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E041E-18D8-48BC-AB7F-233A64E5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82BBA-BBC1-4448-86E8-67A9C0A8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4464D-484E-4769-9B11-9BC03E46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8FD5F-7284-40FD-B6AE-9412DD05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C755B-41CB-4AA7-BBE0-D3036D37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E1502-7A32-439F-8A4A-DC8775D0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304-7BA2-43B1-A47D-7FAC3B30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B0556-5EF7-4B54-9AA5-EAC96AF4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02858-D63B-4757-9A62-31E3C989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C3917-1F66-4DBA-A815-2E1AB680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C3B80-D1A4-4CFA-9E86-866E2DB24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4F25E-2F82-4ED3-A735-C9BC1EB1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6A993-87B8-4CF1-8BE4-89792A57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8DE9A-67FE-471A-A4A9-3879D1CE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3956A-2B4F-4D1D-8666-711DE468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4BE96-0CB5-49E8-B69E-A1C7258C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F0773-3914-4776-A055-F9FB3EE2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6083-D25D-4C17-B82D-5C2B8A6A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9B0C8-9FA3-43E6-8F99-4EECECAC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9FE7E-9168-4944-972C-C7F1D5DF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9F049-68FF-4DD4-9CFC-EDAA8EC18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05B88-62F2-49F4-B039-85E91AF6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F03AA-6ADE-4C57-8ABD-479315EE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19FAB-0B5F-4A17-A36B-D4797B72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BB395-BD09-4C94-863D-00F0D7BD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E999E-9D1D-413D-937A-80076704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88173-D640-43A3-B988-9A2A6B49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08ED9-2DC1-4BF1-A2DC-4B723D48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758E-299C-4493-921F-9F7E56D1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27779-E33B-4A6E-8005-E61E8896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C7B66-BFA6-4C66-AF0C-C355B73D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3C0B5-0ECC-45A3-911A-D8181E26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6ACD7-5C13-4B8C-A15D-D6E3EFD2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2E0E2-73DB-4795-9EDD-1134290D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BB637-E199-4914-9D44-40AF4F68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7BE0E-A78F-48E7-A3AF-9A2EE99C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35EF3-73D4-4C08-AEA0-02D0A38F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298B3-D801-4C69-9012-BF4E481F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949DE-9EEB-457C-9B68-64527B1D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279D-74E9-4C27-BBF5-82FA35AB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36FB1-B915-446B-91E0-B76132EC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CDF16-CA3F-4516-9AF4-D358DCFA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AEDD8-20E9-48F6-9B17-21526A8D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08731-5C2C-42A3-A55D-14E41BBD4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AFA3F-EECB-489A-A897-6093CEC8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69B303-372C-4B3E-86BE-FFF27AF2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04B68-4F7D-43A6-BEC5-72E641B9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6FE6-FDD5-4E21-9FE2-B988CA95363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23E2-8189-45A7-A37D-F9D45C9017F1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AB86-201F-48C4-9173-5BE631330B8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3CEF-3B96-4538-99F2-A2EA2CC3FA9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2C8E-6C3F-436C-9BC6-8963FF2892E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02AE-5F05-4A43-8224-4C38C8F1323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4D83-8489-44FB-9213-4CE57BE6C79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A623-9191-4BB1-958C-23F5BF0336E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9A3A-A64D-46FE-98A9-57A7CBAE85E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476F-B7C2-4851-8F1D-A16A186449A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06CF-CC50-4C4E-9149-EB9697E49CA1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6953-6B99-4845-9D2A-82AB317A796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62A9A-9024-4CF2-B006-DF9A8C76D0E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3B5E-D6A3-4FBA-BB5F-C3EB93AA144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174D-00CD-4E19-85BA-ABB6FC170F2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DAFF-5E79-4543-9494-8A43A343D33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e procédures relevant de la santé et la sécurité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oduire des supports associés aux procédures santé - sécurité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place d’activités sociales et culturel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en œuvre des actions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3AC8-A2AF-46F1-9A14-E6A1D9CAAF7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5580000" y="4941720"/>
            <a:ext cx="356400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NIVEAU DE PRISE EN COMPTE DE LA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6767640" y="234936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Bouton d'action : Personnalisé 7"/>
          <p:cNvSpPr/>
          <p:nvPr/>
        </p:nvSpPr>
        <p:spPr>
          <a:xfrm>
            <a:off x="8317080" y="378936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Bouton d'action : Personnalisé 8"/>
          <p:cNvSpPr/>
          <p:nvPr/>
        </p:nvSpPr>
        <p:spPr>
          <a:xfrm>
            <a:off x="8388360" y="1773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671F-7CF6-4CBA-B525-F2F815DE61E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533880" y="884160"/>
            <a:ext cx="752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1. Gestion administrative courante du personne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Tenue et suivi des dossiers salar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68360" y="1268280"/>
          <a:ext cx="8207280" cy="44643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75040"/>
              </a:tblGrid>
              <a:tr h="203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320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documentation juridique et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réglement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traits de conventions et accords collectif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èles de décla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ul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ertificats, des attest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signes de tenue des dossiers dans l’ent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u personn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registre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n matière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gestion opérationnelle du suivi de dossier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Gestion Électronique des Don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classement et d’archiv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législation du travail adaptée au secteur,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nche, statut, mé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ux types de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es de rupture du contrat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alités légales et administratives liées à l’embauche, au suivi et au départ du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bligations relatives à la médecine du travail et aux organismes soci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t procédures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venants aux contr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issions tempor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availleurs étrangers 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élé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gés spécif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mplois protég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ident du trava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cès d’un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 contrôle administr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1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 inexac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ossier déclass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ert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ossiers des personnels sont mis à jour et les formalités administratives sont réalisées dans le respect de la législation du travai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iser des dossiers de personnel dans le respect de la législation du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abilité et exhaustivité des dossiers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7" name="Bouton d'action : Document 7"/>
          <p:cNvSpPr/>
          <p:nvPr/>
        </p:nvSpPr>
        <p:spPr>
          <a:xfrm>
            <a:off x="781200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07" h="21600">
                <a:moveTo>
                  <a:pt x="7977" y="3985"/>
                </a:moveTo>
                <a:lnTo>
                  <a:pt x="14974" y="3985"/>
                </a:lnTo>
                <a:lnTo>
                  <a:pt x="19030" y="7484"/>
                </a:lnTo>
                <a:lnTo>
                  <a:pt x="19030" y="17615"/>
                </a:lnTo>
                <a:lnTo>
                  <a:pt x="7977" y="17615"/>
                </a:lnTo>
                <a:close/>
              </a:path>
              <a:path fill="darken" w="27007" h="21600">
                <a:moveTo>
                  <a:pt x="14974" y="3985"/>
                </a:moveTo>
                <a:lnTo>
                  <a:pt x="19030" y="7484"/>
                </a:lnTo>
                <a:lnTo>
                  <a:pt x="14974" y="7484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</a:t>
            </a:r>
            <a:r>
              <a:rPr b="0" lang="fr-FR" sz="3200" spc="-1" strike="noStrike">
                <a:solidFill>
                  <a:srgbClr val="00b0f0"/>
                </a:solidFill>
                <a:latin typeface="Franklin Gothic Medium"/>
              </a:rPr>
              <a:t> 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36DC-9C3C-42B4-891D-F1055DC2939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60120" y="764280"/>
            <a:ext cx="919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2. Gestion administrative des ressources humaines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Participation à la mise en œuvre d’un programme d’accue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0920" y="1197000"/>
          <a:ext cx="8712000" cy="5083200"/>
        </p:xfrm>
        <a:graphic>
          <a:graphicData uri="http://schemas.openxmlformats.org/drawingml/2006/table">
            <a:tbl>
              <a:tblPr/>
              <a:tblGrid>
                <a:gridCol w="2307960"/>
                <a:gridCol w="3426120"/>
                <a:gridCol w="2977920"/>
              </a:tblGrid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526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documentation juridique et sociale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état des entr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harte graph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intégration du personnel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rocédures d’accueil des salariés ou stagi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ispositifs d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utils de suivi des procédure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cuments composi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image de l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hésion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ulture d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structuration du document : titres, inter ti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mise en page du document : textes, images, schémas, cartes, plans, énumé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infinitif, présent de l'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formulation de consignes et conse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métier de l'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tualisation d’un document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versité des profils salariés accueil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e visite de loc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uivi et bilan d’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s manquantes ou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estions non traitées dans 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ituation non prévue dans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mise en œuvre du programme d’accueil respecte les consignes données en matière d’intégration du personne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quer 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consignes d’intégration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3" name="Bouton d'action : Document 6"/>
          <p:cNvSpPr/>
          <p:nvPr/>
        </p:nvSpPr>
        <p:spPr>
          <a:xfrm>
            <a:off x="8136000" y="508464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3"/>
                </a:moveTo>
                <a:lnTo>
                  <a:pt x="12271" y="3993"/>
                </a:lnTo>
                <a:lnTo>
                  <a:pt x="16327" y="7492"/>
                </a:lnTo>
                <a:lnTo>
                  <a:pt x="16327" y="17623"/>
                </a:lnTo>
                <a:lnTo>
                  <a:pt x="5273" y="17623"/>
                </a:lnTo>
                <a:close/>
              </a:path>
              <a:path fill="darken" w="21600" h="21615">
                <a:moveTo>
                  <a:pt x="12271" y="3993"/>
                </a:moveTo>
                <a:lnTo>
                  <a:pt x="16327" y="7492"/>
                </a:lnTo>
                <a:lnTo>
                  <a:pt x="12271" y="7492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06560" y="1267920"/>
            <a:ext cx="81374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liées à la taille et la structure de l'organisation, parfois rencontrées lors de PFMP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à fort potentiel de développement installées dans un cadre juridique robuste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onc, une évaluation en étude de cas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A6ED-1ACC-4F47-AD01-873B73DBD16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2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Gestion administrativ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gestionnaire administratif assure les activités nécessaires au bon déroulement de la gestion administrative des relations avec les salarié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courantes de gestion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du personnel pour tout type de contrat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ponctuell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relatives aux mouvements de personnel, à leur carrière et à leur formation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uivi administratif financier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(préparation de la paie, budgets, indicateurs)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gestion administrative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relations sociales 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B08B-D2BF-4B8A-BD3B-7A98988EAE1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042920" y="4419000"/>
            <a:ext cx="7274160" cy="1313640"/>
          </a:xfrm>
          <a:prstGeom prst="rect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  des délais et des consig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de la législation en vigueur et des règles et procé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427640" y="2637000"/>
            <a:ext cx="3529080" cy="72072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26920" y="1197000"/>
            <a:ext cx="7521840" cy="38750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>
                <a:alpha val="50000"/>
              </a:srgbClr>
            </a:solidFill>
            <a:miter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Tenue et suivi des dossiers des salariés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ctualiser des dossiers de personnel dans le respect de la législation du travail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Gestion administrative des temps de trava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écompter et planifier le temps de travai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4CD43-0863-4270-8AD6-4B40C65E3BF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6767640" y="2637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FIABILITE &amp; EXHAUSTI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9700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s déplacement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éparer et contrôler des déplacemen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Transmission d’informations à destination du personnel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récier la nature et le degré de confidentialité de l’information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1FD2-A08D-4376-836A-A23A9555CAD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767640" y="4797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DE LA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6767640" y="2060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FFICACITE DU 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Bouton d'action : Personnalisé 7"/>
          <p:cNvSpPr/>
          <p:nvPr/>
        </p:nvSpPr>
        <p:spPr>
          <a:xfrm>
            <a:off x="8388360" y="3500280"/>
            <a:ext cx="792000" cy="43344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54" h="21600">
                <a:moveTo>
                  <a:pt x="0" y="0"/>
                </a:moveTo>
                <a:lnTo>
                  <a:pt x="39454" y="0"/>
                </a:lnTo>
                <a:lnTo>
                  <a:pt x="39454" y="21600"/>
                </a:lnTo>
                <a:lnTo>
                  <a:pt x="0" y="21600"/>
                </a:lnTo>
                <a:close/>
              </a:path>
              <a:path fill="lightenLess" w="39454" h="21600">
                <a:moveTo>
                  <a:pt x="0" y="0"/>
                </a:moveTo>
                <a:lnTo>
                  <a:pt x="39454" y="0"/>
                </a:lnTo>
                <a:lnTo>
                  <a:pt x="38054" y="1400"/>
                </a:lnTo>
                <a:lnTo>
                  <a:pt x="1400" y="1400"/>
                </a:lnTo>
                <a:close/>
              </a:path>
              <a:path fill="darken" w="39454" h="21600">
                <a:moveTo>
                  <a:pt x="39454" y="0"/>
                </a:moveTo>
                <a:lnTo>
                  <a:pt x="39454" y="21600"/>
                </a:lnTo>
                <a:lnTo>
                  <a:pt x="38054" y="20200"/>
                </a:lnTo>
                <a:lnTo>
                  <a:pt x="38054" y="1400"/>
                </a:lnTo>
                <a:close/>
              </a:path>
              <a:path fill="darkenLess" w="39454" h="21600">
                <a:moveTo>
                  <a:pt x="3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4" y="20200"/>
                </a:lnTo>
                <a:close/>
              </a:path>
              <a:path fill="lighten" w="3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6520" y="47628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au recrutement du personnel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aux étapes d’un recrutement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'un programme d'accue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ppliquer un programme d’accueil 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E550-0547-40C9-ADAE-7864F26CD5B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DE CONSI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ET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outon d'action : Personnalisé 7"/>
          <p:cNvSpPr/>
          <p:nvPr/>
        </p:nvSpPr>
        <p:spPr>
          <a:xfrm>
            <a:off x="8388360" y="1916280"/>
            <a:ext cx="792000" cy="43308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486" h="21600">
                <a:moveTo>
                  <a:pt x="0" y="0"/>
                </a:moveTo>
                <a:lnTo>
                  <a:pt x="39486" y="0"/>
                </a:lnTo>
                <a:lnTo>
                  <a:pt x="39486" y="21600"/>
                </a:lnTo>
                <a:lnTo>
                  <a:pt x="0" y="21600"/>
                </a:lnTo>
                <a:close/>
              </a:path>
              <a:path fill="lightenLess" w="39486" h="21600">
                <a:moveTo>
                  <a:pt x="0" y="0"/>
                </a:moveTo>
                <a:lnTo>
                  <a:pt x="39486" y="0"/>
                </a:lnTo>
                <a:lnTo>
                  <a:pt x="38086" y="1400"/>
                </a:lnTo>
                <a:lnTo>
                  <a:pt x="1400" y="1400"/>
                </a:lnTo>
                <a:close/>
              </a:path>
              <a:path fill="darken" w="39486" h="21600">
                <a:moveTo>
                  <a:pt x="39486" y="0"/>
                </a:moveTo>
                <a:lnTo>
                  <a:pt x="39486" y="21600"/>
                </a:lnTo>
                <a:lnTo>
                  <a:pt x="38086" y="20200"/>
                </a:lnTo>
                <a:lnTo>
                  <a:pt x="38086" y="1400"/>
                </a:lnTo>
                <a:close/>
              </a:path>
              <a:path fill="darkenLess" w="39486" h="21600">
                <a:moveTo>
                  <a:pt x="39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86" y="20200"/>
                </a:lnTo>
                <a:close/>
              </a:path>
              <a:path fill="lighten" w="39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outon d'action : Personnalisé 8"/>
          <p:cNvSpPr/>
          <p:nvPr/>
        </p:nvSpPr>
        <p:spPr>
          <a:xfrm>
            <a:off x="8388360" y="3645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2240" y="1699920"/>
            <a:ext cx="7521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carrièr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liquer à chaque cas traité les règles spécifiques de suivi de carriè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 la formation du personnel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à la form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6B59-71C3-4F7F-9E38-18763CE44D5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767640" y="5157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&amp;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6767640" y="3068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&amp; PERTIN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3. Gestion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administrativ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rémunération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budget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4360" y="1700280"/>
            <a:ext cx="7519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bulletins de salaire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et contrôler la vraisemblance des états préparatoires aux bulletins de salai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déclarations soci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des états préparatoires aux déclarations social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préparation et au suivi budgétaire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un état budgétaire et signaler les écar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EB82-2F71-4820-8BE4-7B055A12DE3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6767640" y="5589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767640" y="4653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2240" y="1700280"/>
            <a:ext cx="7521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obligations liées aux instances représentative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Organiser des élections et des consultations d’instances représentativ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tableaux de bord, des indicateurs sociaux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des indicateurs sociaux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03CF-DD46-4E7B-95C0-9C1085E97A2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767640" y="508464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767640" y="3573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1T21:15:07Z</dcterms:modified>
  <cp:revision>80</cp:revision>
  <dc:subject/>
  <dc:title>Baccalauréat professionnel Gestion -- Administration</dc:title>
</cp:coreProperties>
</file>