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A3FD-E438-483E-8B1E-8A0FD6B66D4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DCEC-45BC-4A0F-BF0F-E89CFBA5CDD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48D8-4820-411D-8E78-DA95DB1B6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92DC-3142-41B6-B56F-8C7B11CD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3AE4-B251-4BA6-8475-DCFA3F670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E4A4-C92B-4259-BFA5-AE41A7DBF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F74A-18FE-4A15-A926-0C2DCA221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782A0-D3A6-4216-AE22-418E93E3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570B-BEE0-4D8B-BCAF-77889E59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D64B-85DB-45BB-A887-66166A58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2A70A-06DC-4241-B041-26AA4510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D3D0-B858-44BD-A80F-B05AA4B6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89B7-89DA-47B1-B3DA-4E7DD96C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968B-3DEE-4AF1-9D84-CEAEB5D4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3097-D118-42D1-8778-7625F1AE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A482-7FB1-46D4-9208-097FC90A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D621-7BE2-4AA0-A4C1-B0484A9A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7258-9C6E-44F6-ABFC-984D7C66B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28A7-D81B-4B07-9618-A003B0EE4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AC9A2-A9D9-4323-A821-CCB171AD7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2E4CA-1ECC-46BE-9513-061D1525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303E9-F768-4C5F-AE29-BED068AD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9D6D6-A537-44E3-8142-7B86E651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897B8-40B2-4CD4-8C98-75176639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A10B-B6B3-4D15-B7F6-7D2FF0C3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140E5-7CC9-4D0D-9F58-4CD53D2F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31196-6971-4667-BAF9-A135A608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534BE-122E-4A09-8ED7-CB247284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69C9A-3A15-4FFA-ADBB-F22E1D61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861D6-B13A-4FFE-8246-41CC64B1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E0FF0-BA5E-45D3-BD08-CD374DB81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BC11D-DAED-4DF8-807B-1F9172F56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A0B56-3F64-4C1C-88EC-E6076F0A5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13DB7-F60C-4BE0-A287-ADD81E07E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B60A9-ECD1-4524-B4B5-42F03655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C125-8892-4266-9B0B-D341F37E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D21CF-7D6D-4A37-9980-DB1753B6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0E09A-A00D-4F5A-8A95-28D5CECA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ED6B2-EA90-4B92-BEDA-EACC5E82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C5789-991F-46B6-B1DD-AD18AEDD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A012C-5110-4A79-9646-38386FEE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0DF88-A1E0-4582-9FDB-B660B379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3DB13-B569-4776-A2AA-25177217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BCE0D-FB58-486D-A4AA-B0D5BE1EF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9C132-1DAA-4FD0-BF01-6B92D6603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274EF-9F19-4D5A-9286-566E56D8E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D3E9-7D50-4BCA-9BE2-0D5B04C0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F6559-C6AE-431A-B3EA-6ECF0332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796B1-3DA3-4F9D-A9BF-97511F99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1CA44-2F27-48CE-8852-90CFD4B47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1F5E7-CA56-4A5F-9765-EC52366F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28D06-FE40-41FB-8C42-09A81F71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2513A-2089-45F2-B158-310BF729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0723F-486C-4DFA-9901-2375F72D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7CAE8-A074-47BF-9A05-639A13FD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81FBA-8D46-4383-8A7F-C22EB143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6F640-1E3A-4CBF-B71A-231D44BEA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7F2B-AC82-4ABF-B755-45C9BEFC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CDBB0-C393-4EDA-BB86-208C41212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CEC3C-790A-490B-97EC-648C65270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41C01-ACA3-4F4F-B4F9-A5A8BD78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56412-AE22-4A8C-9864-FEBFF217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FE8E3-6582-4472-A321-ECD11163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A554D-9DF1-471A-9DE4-71303DD9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154A2-C047-4522-9266-E25F7B21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2F3F0-1D9E-426C-A92F-2A57B9EC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DC931-330F-40F4-AED4-57CF72E0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1ADD5-82A1-49E1-88EF-1BAA68A1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6DD6-F94A-4848-82F4-200B79AF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ED244-EAB0-4BCA-8710-6E2763B0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6F902-E71F-484F-BC0E-03B0CAD9F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6B90F-515F-4278-9ABE-099056F9C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6DC65-CCB1-422E-BAB2-02367156F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9D28E-531A-4BF5-8804-7CAF768A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D8175-F697-49E2-9DFB-32CD1820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B8CDF-F36A-4676-8ED6-69D61670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E4DD6-831C-428E-8E35-1EC40CB9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374EB-2299-4485-A5E0-988363A2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748F4-8688-4E31-9773-89048024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210C-00AB-4B1B-913F-2D10A98B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B331E-1FF7-4ECC-91F1-5BC7F1D9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3F665-551D-46CE-B202-8A036C36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9E872-2A15-4663-998B-F9E270FE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D98A5-BFA1-499C-911F-21B8FDBE0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94E54-9EB6-4FEE-AAA8-1063E0A74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F3F5B-AF04-4C0B-997D-3BFF44D0C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88839-5348-434D-8B1A-3BCC6C86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DE70D-3A15-41B9-B0C8-386EBD161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109DE-82BA-4540-B683-F3439CDB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B6A81-9616-4C54-A053-16D2FEBE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142E-96C8-41EB-99DF-B1142C07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1BFFD-7D0B-41B1-BB07-B5A43C19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020E8-D60F-4D49-B5E0-EB828102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67E088-89D6-45E6-8430-B46E0F96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91781-1165-45FC-960B-FF45D2F5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87522-AD43-4714-93B4-1A7E62CF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A7EB3-CCE4-4E27-AC99-136847B6B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AE894-67FC-4C9C-8844-99ECFDC03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3C58-9FC5-44C1-B3B7-D7869FC07B0A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2F6D-C053-48E9-9F0A-3D6EE6483C00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49A9-0EDB-4D8D-8EF9-B7764960A23A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DE0C-C8E5-4F5E-A3B1-5CDBEBEC48D3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2F84-0D54-47DB-A3F4-9B5F61B353D6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D3CB-C6CA-4835-B2AA-1CB4F774B1BB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FBC1-3599-4584-9D92-8083ECB5C49B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2FCD-5331-4250-B789-985545D72646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EDD0-3A1F-4FB8-BEB3-F7703C075403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7507-999C-411F-B093-18AA5528E2F6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C0E5-0A51-4647-9C2F-06F2239EF8D1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CA96-3E14-4622-BF6D-3622DEF9E4FF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2FA1-73AC-4C8B-B92E-7EFBADB3B5B7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BC5F-B379-424B-8590-B5978568E142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96BF-B8E8-4B64-9D4B-33FB728EB19B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5A60-8C1D-49A7-A220-AC2D87BFB3C2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1 – Gestion administrative des relations externes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7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8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755280" y="549360"/>
            <a:ext cx="7521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Le gestionnaire administratif facilite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relations externes de l’organisation.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Il assure de manière fiable la gestion administrative des relations avec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fournisseur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(prestataires compris) et les sous-traitants dans le cadre du processus achats. 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Il veille au bon déroulement des relations administratives avec les prospects,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client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, les donneurs d’ordre dans le cadre des processus de vente de biens et de services marchands, mais aussi de mise à disposition de biens et de services non marchands.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Par la prise en charge des activités de gestion administrative, il participe à la consolidation des relations avec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banque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,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administration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et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partenaires-métier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.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549B-96A4-40CC-BDD8-B44D50BE35B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1.1. Gestion administrative des relations avec les fournisseur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822240" y="1100160"/>
            <a:ext cx="75218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236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enue des dossiers fournisseurs et sous-traitant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raitement des ordres d’achat, des commandes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raitement des livraisons, des factures et suivi des anomali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Évaluation et suivi des stock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des règlements et traitement des litig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E20E-8AB2-4166-8345-C257DE9F5BE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1.2. Gestion administrative des relations avec les clients et les usager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822240" y="1699920"/>
            <a:ext cx="7521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Participation à la gestion administrative de la prospection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enue des dossiers clients, donneurs d’ordre et usagers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raitement des devis, des commandes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raitement des livraisons et de la facturation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raitement des règlements et suivi des litiges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8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5DDC-6FAF-4643-AEA0-D57425C95C9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1.3. Gestion administrative des relations avec les autres partenair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Suivi de la trésorerie et des relations avec les banqu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réparation des déclarations fiscal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raitement des formalités administrativ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Suivi des relations avec les partenaires-métier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4EFC-7664-444F-ABD0-C1A6A992DE3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situation du pôle 1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0110-551B-490C-8E5E-8889B124CC6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4360" y="1125360"/>
          <a:ext cx="7559640" cy="5029200"/>
        </p:xfrm>
        <a:graphic>
          <a:graphicData uri="http://schemas.openxmlformats.org/drawingml/2006/table">
            <a:tbl>
              <a:tblPr/>
              <a:tblGrid>
                <a:gridCol w="2519280"/>
                <a:gridCol w="2520720"/>
                <a:gridCol w="2519640"/>
              </a:tblGrid>
              <a:tr h="15264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67616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nnées comptables et commerciales de l’organisat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ssiers des fournisseurs et des donneurs d’ord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échéanci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informations émanant des établissements financie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journaux de trésorer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de règ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de traitement des liti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xigences, comportementales et relationnelles, fixées par l’entité vis-à-vis de ses fournisseu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- Un environnement numérique de travail 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yens et modes de règl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ntrôles de trésorer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conversion des devi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 processus automatisé des règlements aux fournisseurs avec un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Électronique des Documents (G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obligations et la responsabilité contractuel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 courrier de réclamation à un fourniss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’interpellation du fourniss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présentation de l’obj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’enchaînement des fai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’argumen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réfu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 lexique du constat, de la demande, du désaccord, de la preu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s temps et modes des verbes : le passé composé, le futur de l'indicatif, le conditi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tournure impersonnelle et pass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tection et rectification d’anomalies simples dans la tenue des comptes fournisseurs : saisie, imputation, codifica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mbinaison de différents modes de règlement : escompte au comptant, échelonn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clamations de fournisse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èglements en devi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43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Échéances non respect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clamation non fondée d’un fourniss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èglement erron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résorerie exigeant une demande de rééchelonnement des règ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règlements aux fournisseurs sont suivis et les litiges sont traités dans la limite des responsabilités impar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urer des règlements à des fournisse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formité des règ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8" name="Rectangle 1"/>
          <p:cNvSpPr/>
          <p:nvPr/>
        </p:nvSpPr>
        <p:spPr>
          <a:xfrm>
            <a:off x="376560" y="764280"/>
            <a:ext cx="8390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1.1. Gestion administrative des relations avec les fournisseurs</a:t>
            </a:r>
            <a:r>
              <a:rPr b="1" lang="fr-FR" sz="1000" spc="-1" strike="noStrike">
                <a:solidFill>
                  <a:srgbClr val="4f81bd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3b81bd"/>
                </a:solidFill>
                <a:latin typeface="Arial"/>
                <a:ea typeface="Times New Roman"/>
              </a:rPr>
              <a:t>1.1.5 Gestion des règlements et traitement des litiges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Quelques caractéristiques de ce pôl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826560" y="907920"/>
            <a:ext cx="813780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Très étroitement lié au contexte des organisations et aux relations qu’elles entretiennent avec leurs partenaires …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… </a:t>
            </a: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et donc aux PFMP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… </a:t>
            </a: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avec, très logiquement, une évaluation en CCF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FDFA-180E-4B39-9AFC-1C1311A7E8B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Edith Simon</cp:lastModifiedBy>
  <dcterms:modified xsi:type="dcterms:W3CDTF">2011-10-25T19:01:29Z</dcterms:modified>
  <cp:revision>16</cp:revision>
  <dc:subject/>
  <dc:title>Baccalauréat professionnel Gestion -- Administration</dc:title>
</cp:coreProperties>
</file>