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3A14F-823B-498C-ADA8-E286D81461A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D0C9E-C7EA-419C-A277-958C0BC11F7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5DFF-06F5-47D0-BA76-1C9BBC109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FDBB-05CF-4D97-860E-ADE2F8F5A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AED2-B6FD-4996-8068-06942A0E6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144B-E6CD-43C6-8CDE-63AA4CF57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687A-EB31-421E-A0B0-AC1EA1354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183E-94F4-4814-BDEB-2FF00318D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FB66-D766-4A1B-B76B-249DB12BF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C2E4-EB40-4ED2-B74B-2B2421767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A8B9-1C25-4735-98D4-80892A93C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0945-CFBF-4CC1-9C2A-6A059DED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9679-33D8-461B-9BB9-0C9F0F34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A764-ACE1-438C-9539-E18EDC51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C4257-AB75-4B72-B4A3-2FF26B4935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Book"/>
              </a:rPr>
              <a:t>Le BEP Métiers des services administratif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Diagramme 4" descr=""/>
          <p:cNvPicPr/>
          <p:nvPr/>
        </p:nvPicPr>
        <p:blipFill>
          <a:blip r:embed="rId1"/>
          <a:stretch/>
        </p:blipFill>
        <p:spPr>
          <a:xfrm>
            <a:off x="1517760" y="1378080"/>
            <a:ext cx="6108480" cy="41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80840" y="95400"/>
            <a:ext cx="6248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b2181c"/>
                </a:solidFill>
                <a:latin typeface="Franklin Gothic Book"/>
                <a:ea typeface="Franklin Gothic Book"/>
              </a:rPr>
              <a:t>Tâches et attendus RAP BEP M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Object 7" descr=""/>
          <p:cNvPicPr/>
          <p:nvPr/>
        </p:nvPicPr>
        <p:blipFill>
          <a:blip r:embed="rId1"/>
          <a:stretch/>
        </p:blipFill>
        <p:spPr>
          <a:xfrm>
            <a:off x="123840" y="1000080"/>
            <a:ext cx="88948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tre 1"/>
          <p:cNvSpPr/>
          <p:nvPr/>
        </p:nvSpPr>
        <p:spPr>
          <a:xfrm>
            <a:off x="428760" y="3175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Book"/>
              </a:rPr>
              <a:t>Rapprochement avec les épreuves du BEP M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Object 5" descr=""/>
          <p:cNvPicPr/>
          <p:nvPr/>
        </p:nvPicPr>
        <p:blipFill>
          <a:blip r:embed="rId1"/>
          <a:stretch/>
        </p:blipFill>
        <p:spPr>
          <a:xfrm>
            <a:off x="225360" y="1000080"/>
            <a:ext cx="8801280" cy="57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Book"/>
              </a:rPr>
              <a:t>Attache du BEP MSA à une classe de situ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Object 17" descr=""/>
          <p:cNvPicPr/>
          <p:nvPr/>
        </p:nvPicPr>
        <p:blipFill>
          <a:blip r:embed="rId1"/>
          <a:stretch/>
        </p:blipFill>
        <p:spPr>
          <a:xfrm>
            <a:off x="284040" y="1292400"/>
            <a:ext cx="8734680" cy="48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b2181c"/>
                </a:solidFill>
                <a:latin typeface="Franklin Gothic Book"/>
                <a:ea typeface="Franklin Gothic Book"/>
              </a:rPr>
              <a:t>Zoom sur une situ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ZoneTexte 2"/>
          <p:cNvSpPr/>
          <p:nvPr/>
        </p:nvSpPr>
        <p:spPr>
          <a:xfrm>
            <a:off x="457200" y="129528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1.1. Gestion administrative des relations avec les fournisseu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Situation : </a:t>
            </a:r>
            <a:r>
              <a:rPr b="1" lang="fr-FR" sz="1800" spc="-1" strike="noStrike">
                <a:solidFill>
                  <a:srgbClr val="b2181c"/>
                </a:solidFill>
                <a:latin typeface="Calibri"/>
              </a:rPr>
              <a:t>1.1.5- Gestion des règlements et traitement des litig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80880" y="2286000"/>
          <a:ext cx="8610840" cy="3463920"/>
        </p:xfrm>
        <a:graphic>
          <a:graphicData uri="http://schemas.openxmlformats.org/drawingml/2006/table">
            <a:tbl>
              <a:tblPr/>
              <a:tblGrid>
                <a:gridCol w="1922760"/>
                <a:gridCol w="2085840"/>
                <a:gridCol w="4602240"/>
              </a:tblGrid>
              <a:tr h="254160"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endus du bac 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ache BEPM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endus BEP M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5680">
                <a:tc rowSpan="4"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 règlements aux fournisseurs sont suivis et les litiges sont traités dans la limite des responsabilités impar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T2 -</a:t>
                      </a:r>
                      <a:r>
                        <a:rPr b="0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 Saisie et mise en forme de courriers, de notes, des comptes-rend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Les documents sont réalisés dans le respect des normes de présentation avec une bonne lisibilit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5 - </a:t>
                      </a: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tion, contrôle et codification des docu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 informations manipulées sont mises à jour, les données saisies exactes et les résultats fiab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3 </a:t>
                      </a: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Mise à jour et rangement des dossi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 dossiers sont ordonnés et leur contenu actualis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R3 </a:t>
                      </a:r>
                      <a:r>
                        <a:rPr b="0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- Restitution vers le supérieur hiérarchique du travail réalisé, des problèmes rencontr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Le supérieur hiérarchique est informé du résultat de la tâche confiée et des difficultés rencontré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14:25:37Z</dcterms:created>
  <dc:creator>Isa</dc:creator>
  <dc:description/>
  <cp:keywords/>
  <dc:language>en-US</dc:language>
  <cp:lastModifiedBy>Edith Simon</cp:lastModifiedBy>
  <dcterms:modified xsi:type="dcterms:W3CDTF">2011-10-25T19:13:03Z</dcterms:modified>
  <cp:revision>40</cp:revision>
  <dc:subject/>
  <dc:title>Rattachement BEP MSA</dc:title>
</cp:coreProperties>
</file>