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0A8C-78C2-4329-9609-E955C1688B68}" type="datetime">
              <a:rPr b="0" lang="fr-FR"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5998-A9A5-486B-96E0-A4A0C884FBB5}"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E28B-C45E-429D-A8D2-00872C0A78B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1056-546B-47FC-B7A2-CD377E2B1F8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250B-FCDA-46CB-9A4A-E5FD2E0E503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9D98-A059-4988-A7AF-5A31DC10081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8871-EA2A-4445-B089-9D6F1B80179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3F2C-164D-4F27-B778-7C6294C8E8D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F3AE-5583-4E1F-AB26-256A3BB28A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CA11-37C5-45FB-880A-81A9A702A4A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03E0-A9D9-484E-9334-82E1097FCD4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1E66B-D6E8-4C2A-92E0-3965EEFBD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BAD84-D4F3-4F11-9495-41E1D07A0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AF881-23ED-4FD0-A2B1-FEE34E0D3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AEF3E-1BC4-4E9B-BCB0-D39E6211B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79A31-1E8C-4C1A-B498-FAA535E08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24E78-13CE-4AB0-BBDD-56CE48C01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C1112-C588-4687-A007-43A6B261D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0771F-EF6F-4814-B262-39853DB84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F4E48-108A-4671-A9B0-1FFF158BD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55A9C-91ED-4407-B0EE-C5B8F2F6C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737FE-F33B-493C-B808-736F76FC2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16E28-0866-4989-9C37-8C23CD80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84806-C232-480C-94FB-2BF74B83C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D897D-739F-481C-8351-D735CF980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2D7A4-A300-4F81-8E23-DA11F4B66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D5104-D0F3-4336-9DD1-0D320F8EC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F1773-3CFE-435A-A10E-3D007AC2F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8D03DD-7824-4C2E-A53A-27F7E8B92C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7F9ED0-311D-4D1C-B941-3AB538357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CFA8DE-3515-4FD6-A87D-9D9B18FC1C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A66C2-8EC6-40F9-A0B8-BB99B5BF4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BB091-CA61-4E4F-AFC1-AD178D6C0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5D37-02B2-4585-A2D0-C4DA9AFFE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0BAC4D-423D-46F6-AC3D-E9C3F23A1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361BC-7FFF-4784-9CD2-E24B35742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BBDEB-7234-449A-97FB-D1538AB19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315E1-7762-4C29-B6C0-37A93F1EC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C8E3F-5B0E-43F3-A3B6-A3EA8AD31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C93A71-E109-4043-B871-FCCD1DB4C2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FE3BC-13AE-40BA-B751-98A202E042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12C20F-937D-4E4C-998F-4D05E6B210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C2F81-F8C4-4E59-BCF1-345EC0F8B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CF9F4F-259C-43BE-A5ED-E372332E7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FC663-6D8E-4312-8516-E39BE77FF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AD627-14D3-4C40-B332-7D790CE4B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BD604-1734-4DA1-A9AE-79137E0E17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10093-C758-4D75-8FA4-B3B45218E9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92369-1EFD-4E63-A91C-9FD673CFE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C6B0F-C22B-40C8-9CAE-938F5F4A6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E80D36-1745-4577-8447-B7AD3264D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50449-8F37-4093-A80A-17BB0C033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84D7A2-2C35-439C-B2B4-B88C7C7106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47F10A-6C42-4965-A216-9E168E296A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AE5C83-7E68-45B1-AE9C-8009260D23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72239-3500-4EA0-93F4-4A2A01458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7745D-A514-4B67-A71B-8D7E4A9DC1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44323-BB19-4861-8DDF-602FFACF05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A7701A-355C-4B9B-AA6B-AEB7FCC3A6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6BA66-EF95-4BCA-BDDA-E42B449DEC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09B66A-3138-4F1A-B841-ACAC237EB9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4D3C60-77BD-418F-90DB-639335ED9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5DAEF-8927-4243-AF4C-46792E95E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6F444-6314-4C24-A9BD-EEFA9BE27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9742B5-BB6D-4175-9B6A-989416A59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E23D65-DE1A-46B8-B7AC-3A9D0B6C0F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7628C-BAFB-4DD4-868E-EB9304F68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B4C094-0ABE-4A70-8499-21E883CA74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E2A3FC-07F4-48AE-A64A-928279001D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941A4-FAB6-4FB7-B329-D8DA145E6A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70A367-A29B-471D-ABAC-D25C13CA9C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5C27B-F07A-4A95-A118-B03C708EE1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859C2B-18D6-4E56-869C-458152B8A0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A75DE9-AEE4-4E83-B864-9D2859B442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93460-76CA-42F2-BA95-618BEF9A7A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F53CB-1884-4893-A428-3B46A83DB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6A2AF-0056-4F20-B6C0-C6A35CA87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2196-EA83-4191-9B82-A9D375609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06F883-EA56-4C05-9AC3-F3DAD252F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2F9E92-FD34-410B-8D6D-2E7D234377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1AA179-05B2-42B4-94A1-B12326D6B0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25BB78-A392-4E98-8091-B103B48B52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508D1-A0BA-4EAB-B3DA-85E9CC9FBF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484F3B-A9B2-4825-A583-E2B413B87F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617569-003B-426D-9B24-2F4DEB9F01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3E7AEE-A832-4B7E-90CA-FB2248A0B6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64BD0A-BE18-4064-8F66-8D2E20491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DDF42-ACC1-4CA3-BCBC-46E26DB7D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474D5-8DBA-4054-8D78-7D3078AA7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A979A7-202A-414C-94B5-2E7D89F6A1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0449B-50F2-4050-935D-D1DC969B5B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E8D90-369B-4596-AE13-E595B78285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43F37F-51E5-4228-8002-256C639AC9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FF07BC-FBD5-4AF9-B3A3-DE72CBD22E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923B66-E5E1-4027-BD78-48DD895B11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681398-D086-408C-A739-4936D0E5F7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B5BBA5-C26B-4F1B-A878-FE4BE8BE1F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CB387B-7FE4-4749-9CAB-4E16DA6C3B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E36C55-CC87-4ADA-ABF6-AACDBE9000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D3F61-8E51-475C-BACF-8B270C96A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914C0B-9EE5-470D-AC75-1DC408050F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C698B-CBDC-44CB-A844-6971035B29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B20AD2-FB08-43E5-A0DC-4504C33B45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86C64-5710-45CA-981D-03AE18E5D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A01EC-F8BB-41EB-9AAC-A0935E2D3C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142559-A9BA-4AAF-9F74-465AE0AEBC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2E7C98-4940-4A38-A519-4F68619E2C6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F041-C023-4117-96CF-BD97D95E245F}"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DCB0-A502-4030-82DA-4657C69CD79C}"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EFFB-C530-4211-8920-A7F7D9B05254}"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76AC-7540-4E0A-B15D-951504EAF510}"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4102-606A-47DA-8AA9-8245B635E619}"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2130-A749-402B-8916-DC39573A77DD}"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9759-466C-4B7C-81B2-D40EE0406032}"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5756-2487-4024-8B74-A75D29BA917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F6B4-FE93-4B7A-8EC1-BBC092B91D59}"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D020-0C22-4BAC-9E5B-F8131159270D}"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0C85-8AF8-4590-8F38-8486743A1970}"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4185-122C-4C7E-A221-9F45CD944E30}"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1257-90EB-4B9A-8E3E-64AE513135EF}"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BA8A-9550-42D8-A2FF-4A04D1688A1D}"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AC15-FD16-46BF-8A39-7597D6C4BFC0}" type="datetime">
              <a:rPr b="0" lang="fr-FR" sz="1200" spc="-1" strike="noStrike">
                <a:solidFill>
                  <a:srgbClr val="ffffff"/>
                </a:solidFill>
                <a:latin typeface="Franklin Gothic Book"/>
              </a:rPr>
              <a:t>30/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D7EB-643D-490B-BECC-7F8B38CE3AF0}"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7D56-3BCB-4854-9F78-DCB2D6A7472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F03E-C1D8-4CE6-9D9D-26458C7E71F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1CD8-1F0C-4295-82D3-4884412A3344}"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F37E-388F-4760-9B21-2CFDBC35A5C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7CE1-AA64-46B3-85EB-52B1E64AD96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690D-696A-436C-9254-DE60BBA392B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0645-8BA9-4B7C-8435-D7A1C3A38E2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65A8-590E-4509-85CC-4AA2740ADA6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A019-8C8C-4698-9E79-B23B9CE4FE4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F86A-FB6D-4A47-BE47-84C5F52943A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