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EB7C-1E25-44E9-BB11-4F83FACA0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DC42-8084-4EF6-A9CE-1A8B813B6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BCD8-AFD6-4AFD-A7A5-C6E9C659A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FB3D-0154-4714-9948-2B81361A9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09390-917B-4B3D-813D-FA0837EE4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2C91D-0E71-4A4F-8C2F-0A8EB7C3A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F9180-77E0-4A1C-9C5C-AB6D3BB3C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6E805-3B1C-4993-AB8D-98BD66576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3126C-DB8D-4F92-8E04-BE4B9D119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31AF0-3691-4917-BE71-B0778AB66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273C7-7419-411E-8A0F-BF648E6F0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30A0-E5B8-49CB-BF5D-72C845F74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FCE55-AC63-439D-AB58-8E95FB90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E17FD-BAAA-4CAD-9F39-BF3A86AA6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B90AC-4FBA-4DED-BEF1-CC63ADEEF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65972-5066-4620-A927-8580643D5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8BE55-5CB0-4788-B83C-A63D5F33F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2F5E7-489A-44D3-8A5B-BF83BAF28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05CB4-245A-47A5-9261-D7D0126FC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0A9A4-1A7B-47B0-9D8F-A35E356C3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54B4F-FC9A-4E3D-94F9-FBAC959C4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C65EE-823C-4027-9CB8-A070C15C2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66C0-2060-4591-853F-70933FE96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C2510-DD5F-4E5B-A968-0BA9C3888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AFC00-699B-451B-B8CD-EBE0F69A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72C16-7AB0-4FB9-B7FE-985A9F37D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CFC82-A1A3-488B-8E72-69BFDC50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6B3A6-60E9-4D64-81E5-BC0239662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EA54A-F387-47EA-822F-4DE9CD8D9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1570E-592D-4C1F-99B0-21BF52671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B334C-A0F4-48D1-A83B-A67DA8DC6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AEF94-DF1B-4A3F-8FF7-29FF5D8B6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C5535-9B4E-4CAF-9BB6-4693AEBE7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5CFA-8F70-42AE-B706-1B8DA3516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6C78A-FEEC-42A3-92B8-1B62C1727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18FCA-0C9C-4B61-80DA-FED93DBFA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0AE69-0D51-4646-A4E4-FBDD306B3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EC913-522F-42AD-8CDB-1863EAE04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6742F-AB67-4345-9CD8-669FD0EAA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9476B-8699-4146-9868-724FC46F7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DBEC0-B83C-42F7-A0C5-A256804B2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1FB2A-766B-4097-9C87-738CD2F39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B1F88-6D48-4A0B-8BD2-C11F31AE3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9EF583-27A6-4300-AA0C-E4DD3385C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54A2-D25F-43BC-BCC7-782CD8385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7EC05F-8570-4B46-ACB8-B5632BBFA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C759F-F17F-43D9-97E0-2386072E1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E40EC-DEA8-43E3-BF2A-391A9C274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38BCEC-ACB2-49BE-B7B1-DB63FE50F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FDB41-FEB1-4C0B-8567-E78BCEB97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CE4CA-CF1D-4B05-B35C-4F9FA0A7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122F1-01DF-4A26-8D66-5F6E298D7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BEAD0-ED0D-4B8E-AC8E-99352093B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A2183D-D8F6-4349-8A2B-B89D529AB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E95A61-EAAF-410B-9A93-A29E4652B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9A39-AF34-4796-A234-9C2C8E74D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2D1F7-218C-4D08-9D16-701B2B56A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BDCC-1AC8-4145-A8BF-A59F5BDDE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9FEE-6E35-4AE1-A376-C2D0AF74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B78F-9ED2-4AD2-9855-ADC1AFB7B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9D5CC-17B8-46D0-838E-B5063855DF9F}" type="slidenum">
              <a:rPr b="0" lang="fr-FR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7"/>
          <p:cNvSpPr/>
          <p:nvPr/>
        </p:nvSpPr>
        <p:spPr>
          <a:xfrm>
            <a:off x="777960" y="0"/>
            <a:ext cx="7543800" cy="30481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8D0A0-B9CD-4576-BD80-C509F6540228}" type="slidenum">
              <a:rPr b="0" lang="fr-FR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777960" y="0"/>
            <a:ext cx="7543800" cy="30481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E8838-8638-4C83-8F7F-CC32C801BD4D}" type="slidenum">
              <a:rPr b="0" lang="fr-FR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Straight Connector 10"/>
          <p:cNvSpPr/>
          <p:nvPr/>
        </p:nvSpPr>
        <p:spPr>
          <a:xfrm>
            <a:off x="758880" y="1249200"/>
            <a:ext cx="3657600" cy="1800"/>
          </a:xfrm>
          <a:prstGeom prst="line">
            <a:avLst/>
          </a:prstGeom>
          <a:ln w="158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Straight Connector 12"/>
          <p:cNvSpPr/>
          <p:nvPr/>
        </p:nvSpPr>
        <p:spPr>
          <a:xfrm>
            <a:off x="4645080" y="1249200"/>
            <a:ext cx="3657600" cy="1800"/>
          </a:xfrm>
          <a:prstGeom prst="line">
            <a:avLst/>
          </a:prstGeom>
          <a:ln w="158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52B05-241B-4988-816E-6C6D40BC3C6F}" type="slidenum">
              <a:rPr b="0" lang="fr-FR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Straight Connector 9"/>
          <p:cNvSpPr/>
          <p:nvPr/>
        </p:nvSpPr>
        <p:spPr>
          <a:xfrm flipH="1">
            <a:off x="3580920" y="611280"/>
            <a:ext cx="1800" cy="3809880"/>
          </a:xfrm>
          <a:prstGeom prst="line">
            <a:avLst/>
          </a:prstGeom>
          <a:ln w="15840">
            <a:solidFill>
              <a:srgbClr val="9898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F5C9F-6C76-4B31-8A4C-B37223E4045A}" type="slidenum">
              <a:rPr b="0" lang="fr-FR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image" Target="../media/image30.png"/><Relationship Id="rId15" Type="http://schemas.openxmlformats.org/officeDocument/2006/relationships/image" Target="../media/image31.png"/><Relationship Id="rId16" Type="http://schemas.openxmlformats.org/officeDocument/2006/relationships/image" Target="../media/image32.png"/><Relationship Id="rId17" Type="http://schemas.openxmlformats.org/officeDocument/2006/relationships/image" Target="../media/image33.pn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26600" y="4652640"/>
            <a:ext cx="7777080" cy="15080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ctr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Centre de ressources pour l'enseignement professionnel </a:t>
            </a:r>
            <a:br>
              <a:rPr sz="2400"/>
            </a:b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en économie-gestion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www.cerpeg.ac-versailles.fr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pic>
        <p:nvPicPr>
          <p:cNvPr id="219" name="Rectangle 5" descr=""/>
          <p:cNvPicPr/>
          <p:nvPr/>
        </p:nvPicPr>
        <p:blipFill>
          <a:blip r:embed="rId2"/>
          <a:stretch/>
        </p:blipFill>
        <p:spPr>
          <a:xfrm>
            <a:off x="3687840" y="1116000"/>
            <a:ext cx="517500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sp>
        <p:nvSpPr>
          <p:cNvPr id="221" name="Espace réservé du contenu 2"/>
          <p:cNvSpPr/>
          <p:nvPr/>
        </p:nvSpPr>
        <p:spPr>
          <a:xfrm>
            <a:off x="755640" y="1844640"/>
            <a:ext cx="7416720" cy="41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2880" indent="-272880" algn="just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Un des cinq centres de ressources du dispositif national en économie-gestion pour la formation continue des enseigna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Réseau pédagogique mis en place par la direction générale de l'enseignement scolaire (DGESCO) selon des orientations proposées par l'inspection généra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Sous la responsabilité d’un IG : Didier Mich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Espace réservé du pied de page 4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Espace réservé de la date 5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3"/>
          <p:cNvSpPr/>
          <p:nvPr/>
        </p:nvSpPr>
        <p:spPr>
          <a:xfrm>
            <a:off x="611280" y="1989000"/>
            <a:ext cx="7921440" cy="31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2880" indent="-272880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Destiné principalement aux professeurs d'économie gestion de lycée professio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Pour les formations des niveaux IV et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Dans les domaines de la gestion et de l’économie dro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Espace réservé du pied de page 1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Espace réservé de la date 5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sp>
        <p:nvSpPr>
          <p:cNvPr id="229" name="ZoneTexte 3"/>
          <p:cNvSpPr/>
          <p:nvPr/>
        </p:nvSpPr>
        <p:spPr>
          <a:xfrm>
            <a:off x="468360" y="2060640"/>
            <a:ext cx="7529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Il s'appuie sur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6840" indent="-228600">
              <a:lnSpc>
                <a:spcPct val="100000"/>
              </a:lnSpc>
              <a:buClr>
                <a:srgbClr val="c80064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Un </a:t>
            </a:r>
            <a:r>
              <a:rPr b="1" lang="fr-FR" sz="2400" spc="-1" strike="noStrike">
                <a:solidFill>
                  <a:srgbClr val="c80064"/>
                </a:solidFill>
                <a:latin typeface="Calibri"/>
              </a:rPr>
              <a:t>réseau de profess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c800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79560" indent="-342720">
              <a:lnSpc>
                <a:spcPct val="100000"/>
              </a:lnSpc>
              <a:buClr>
                <a:srgbClr val="c80064"/>
              </a:buClr>
              <a:buFont typeface="Wingdings" charset="2"/>
              <a:buChar char="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Motivés par l’innovation pédagog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79560" indent="-342720">
              <a:lnSpc>
                <a:spcPct val="100000"/>
              </a:lnSpc>
              <a:buClr>
                <a:srgbClr val="c80064"/>
              </a:buClr>
              <a:buFont typeface="Wingdings" charset="2"/>
              <a:buChar char="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Menant des expériences dans leurs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79560" indent="-342720">
              <a:lnSpc>
                <a:spcPct val="100000"/>
              </a:lnSpc>
              <a:buClr>
                <a:srgbClr val="c80064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6840" indent="-228600">
              <a:lnSpc>
                <a:spcPct val="100000"/>
              </a:lnSpc>
              <a:buClr>
                <a:srgbClr val="c80064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Un </a:t>
            </a:r>
            <a:r>
              <a:rPr b="1" lang="fr-FR" sz="2400" spc="-1" strike="noStrike">
                <a:solidFill>
                  <a:srgbClr val="c80064"/>
                </a:solidFill>
                <a:latin typeface="Calibri"/>
              </a:rPr>
              <a:t>comité de pilo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Espace réservé du pied de page 1"/>
          <p:cNvSpPr/>
          <p:nvPr/>
        </p:nvSpPr>
        <p:spPr>
          <a:xfrm>
            <a:off x="684360" y="6208560"/>
            <a:ext cx="4951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Calibri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Espace réservé de la date 4"/>
          <p:cNvSpPr/>
          <p:nvPr/>
        </p:nvSpPr>
        <p:spPr>
          <a:xfrm>
            <a:off x="6248520" y="6208560"/>
            <a:ext cx="2139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Calibri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grpSp>
        <p:nvGrpSpPr>
          <p:cNvPr id="233" name="Groupe 5"/>
          <p:cNvGrpSpPr/>
          <p:nvPr/>
        </p:nvGrpSpPr>
        <p:grpSpPr>
          <a:xfrm>
            <a:off x="1130400" y="1235160"/>
            <a:ext cx="4103640" cy="2843280"/>
            <a:chOff x="1130400" y="1235160"/>
            <a:chExt cx="4103640" cy="2843280"/>
          </a:xfrm>
        </p:grpSpPr>
        <p:grpSp>
          <p:nvGrpSpPr>
            <p:cNvPr id="234" name="Ellipse 26"/>
            <p:cNvGrpSpPr/>
            <p:nvPr/>
          </p:nvGrpSpPr>
          <p:grpSpPr>
            <a:xfrm>
              <a:off x="1130400" y="1235160"/>
              <a:ext cx="4103640" cy="2843280"/>
              <a:chOff x="1130400" y="1235160"/>
              <a:chExt cx="4103640" cy="2843280"/>
            </a:xfrm>
          </p:grpSpPr>
          <p:pic>
            <p:nvPicPr>
              <p:cNvPr id="235" name="Ellipse 26" descr=""/>
              <p:cNvPicPr/>
              <p:nvPr/>
            </p:nvPicPr>
            <p:blipFill>
              <a:blip r:embed="rId3"/>
              <a:stretch/>
            </p:blipFill>
            <p:spPr>
              <a:xfrm>
                <a:off x="1130400" y="1235160"/>
                <a:ext cx="4103640" cy="284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6" name=""/>
              <p:cNvSpPr/>
              <p:nvPr/>
            </p:nvSpPr>
            <p:spPr>
              <a:xfrm>
                <a:off x="1750680" y="1667880"/>
                <a:ext cx="2869200" cy="198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Groupe 2"/>
            <p:cNvGrpSpPr/>
            <p:nvPr/>
          </p:nvGrpSpPr>
          <p:grpSpPr>
            <a:xfrm>
              <a:off x="1695240" y="2068560"/>
              <a:ext cx="1292400" cy="418680"/>
              <a:chOff x="1695240" y="2068560"/>
              <a:chExt cx="1292400" cy="418680"/>
            </a:xfrm>
          </p:grpSpPr>
          <p:pic>
            <p:nvPicPr>
              <p:cNvPr id="238" name="Rectangle 28" descr=""/>
              <p:cNvPicPr/>
              <p:nvPr/>
            </p:nvPicPr>
            <p:blipFill>
              <a:blip r:embed="rId4"/>
              <a:stretch/>
            </p:blipFill>
            <p:spPr>
              <a:xfrm>
                <a:off x="1866960" y="2186640"/>
                <a:ext cx="927360" cy="27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9" name="Rectangle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1695240" y="2068560"/>
                <a:ext cx="1292400" cy="418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40" name="Groupe 10"/>
          <p:cNvGrpSpPr/>
          <p:nvPr/>
        </p:nvGrpSpPr>
        <p:grpSpPr>
          <a:xfrm>
            <a:off x="3817800" y="1338120"/>
            <a:ext cx="4104000" cy="2907000"/>
            <a:chOff x="3817800" y="1338120"/>
            <a:chExt cx="4104000" cy="2907000"/>
          </a:xfrm>
        </p:grpSpPr>
        <p:grpSp>
          <p:nvGrpSpPr>
            <p:cNvPr id="241" name="Ellipse 22"/>
            <p:cNvGrpSpPr/>
            <p:nvPr/>
          </p:nvGrpSpPr>
          <p:grpSpPr>
            <a:xfrm>
              <a:off x="3817800" y="1338120"/>
              <a:ext cx="4104000" cy="2907000"/>
              <a:chOff x="3817800" y="1338120"/>
              <a:chExt cx="4104000" cy="2907000"/>
            </a:xfrm>
          </p:grpSpPr>
          <p:pic>
            <p:nvPicPr>
              <p:cNvPr id="242" name="Ellipse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3817800" y="1338120"/>
                <a:ext cx="4104000" cy="29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3" name=""/>
              <p:cNvSpPr/>
              <p:nvPr/>
            </p:nvSpPr>
            <p:spPr>
              <a:xfrm>
                <a:off x="4437360" y="1779840"/>
                <a:ext cx="2869560" cy="202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Groupe 7"/>
            <p:cNvGrpSpPr/>
            <p:nvPr/>
          </p:nvGrpSpPr>
          <p:grpSpPr>
            <a:xfrm>
              <a:off x="6464880" y="2172240"/>
              <a:ext cx="931680" cy="418320"/>
              <a:chOff x="6464880" y="2172240"/>
              <a:chExt cx="931680" cy="418320"/>
            </a:xfrm>
          </p:grpSpPr>
          <p:pic>
            <p:nvPicPr>
              <p:cNvPr id="245" name="Rectangle 24" descr=""/>
              <p:cNvPicPr/>
              <p:nvPr/>
            </p:nvPicPr>
            <p:blipFill>
              <a:blip r:embed="rId7"/>
              <a:stretch/>
            </p:blipFill>
            <p:spPr>
              <a:xfrm>
                <a:off x="6571080" y="2289960"/>
                <a:ext cx="696600" cy="2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6" name="Rectangle 25" descr=""/>
              <p:cNvPicPr/>
              <p:nvPr/>
            </p:nvPicPr>
            <p:blipFill>
              <a:blip r:embed="rId8"/>
              <a:stretch/>
            </p:blipFill>
            <p:spPr>
              <a:xfrm>
                <a:off x="6464880" y="2172240"/>
                <a:ext cx="931680" cy="418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47" name="Groupe 15"/>
          <p:cNvGrpSpPr/>
          <p:nvPr/>
        </p:nvGrpSpPr>
        <p:grpSpPr>
          <a:xfrm>
            <a:off x="1092240" y="3032280"/>
            <a:ext cx="3836880" cy="2989080"/>
            <a:chOff x="1092240" y="3032280"/>
            <a:chExt cx="3836880" cy="2989080"/>
          </a:xfrm>
        </p:grpSpPr>
        <p:grpSp>
          <p:nvGrpSpPr>
            <p:cNvPr id="248" name="Ellipse 18"/>
            <p:cNvGrpSpPr/>
            <p:nvPr/>
          </p:nvGrpSpPr>
          <p:grpSpPr>
            <a:xfrm>
              <a:off x="1176480" y="3032280"/>
              <a:ext cx="3752640" cy="2803320"/>
              <a:chOff x="1176480" y="3032280"/>
              <a:chExt cx="3752640" cy="2803320"/>
            </a:xfrm>
          </p:grpSpPr>
          <p:pic>
            <p:nvPicPr>
              <p:cNvPr id="249" name="Ellipse 18" descr=""/>
              <p:cNvPicPr/>
              <p:nvPr/>
            </p:nvPicPr>
            <p:blipFill>
              <a:blip r:embed="rId9"/>
              <a:stretch/>
            </p:blipFill>
            <p:spPr>
              <a:xfrm>
                <a:off x="1176480" y="3032280"/>
                <a:ext cx="3752640" cy="2803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>
                <a:off x="1744920" y="3462840"/>
                <a:ext cx="2620800" cy="194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Groupe 12"/>
            <p:cNvGrpSpPr/>
            <p:nvPr/>
          </p:nvGrpSpPr>
          <p:grpSpPr>
            <a:xfrm>
              <a:off x="1092240" y="4744800"/>
              <a:ext cx="3422880" cy="1276560"/>
              <a:chOff x="1092240" y="4744800"/>
              <a:chExt cx="3422880" cy="1276560"/>
            </a:xfrm>
          </p:grpSpPr>
          <p:pic>
            <p:nvPicPr>
              <p:cNvPr id="252" name="Rectangle 20" descr=""/>
              <p:cNvPicPr/>
              <p:nvPr/>
            </p:nvPicPr>
            <p:blipFill>
              <a:blip r:embed="rId10"/>
              <a:stretch/>
            </p:blipFill>
            <p:spPr>
              <a:xfrm>
                <a:off x="1695960" y="4744800"/>
                <a:ext cx="1412640" cy="662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3" name="Rectangle 21" descr=""/>
              <p:cNvPicPr/>
              <p:nvPr/>
            </p:nvPicPr>
            <p:blipFill>
              <a:blip r:embed="rId11"/>
              <a:stretch/>
            </p:blipFill>
            <p:spPr>
              <a:xfrm>
                <a:off x="1092240" y="4893840"/>
                <a:ext cx="3422880" cy="1127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54" name="Groupe 20"/>
          <p:cNvGrpSpPr/>
          <p:nvPr/>
        </p:nvGrpSpPr>
        <p:grpSpPr>
          <a:xfrm>
            <a:off x="4035600" y="3014640"/>
            <a:ext cx="3978000" cy="2816280"/>
            <a:chOff x="4035600" y="3014640"/>
            <a:chExt cx="3978000" cy="2816280"/>
          </a:xfrm>
        </p:grpSpPr>
        <p:grpSp>
          <p:nvGrpSpPr>
            <p:cNvPr id="255" name="Ellipse 14"/>
            <p:cNvGrpSpPr/>
            <p:nvPr/>
          </p:nvGrpSpPr>
          <p:grpSpPr>
            <a:xfrm>
              <a:off x="4035600" y="3014640"/>
              <a:ext cx="3978000" cy="2816280"/>
              <a:chOff x="4035600" y="3014640"/>
              <a:chExt cx="3978000" cy="2816280"/>
            </a:xfrm>
          </p:grpSpPr>
          <p:pic>
            <p:nvPicPr>
              <p:cNvPr id="256" name="Ellips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4035600" y="3014640"/>
                <a:ext cx="3978000" cy="281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7" name=""/>
              <p:cNvSpPr/>
              <p:nvPr/>
            </p:nvSpPr>
            <p:spPr>
              <a:xfrm>
                <a:off x="4635360" y="3446640"/>
                <a:ext cx="2781720" cy="19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Groupe 17"/>
            <p:cNvGrpSpPr/>
            <p:nvPr/>
          </p:nvGrpSpPr>
          <p:grpSpPr>
            <a:xfrm>
              <a:off x="6214320" y="4347000"/>
              <a:ext cx="1419120" cy="881640"/>
              <a:chOff x="6214320" y="4347000"/>
              <a:chExt cx="1419120" cy="881640"/>
            </a:xfrm>
          </p:grpSpPr>
          <p:pic>
            <p:nvPicPr>
              <p:cNvPr id="259" name="Rectangle 16" descr=""/>
              <p:cNvPicPr/>
              <p:nvPr/>
            </p:nvPicPr>
            <p:blipFill>
              <a:blip r:embed="rId13"/>
              <a:stretch/>
            </p:blipFill>
            <p:spPr>
              <a:xfrm>
                <a:off x="6214320" y="4779000"/>
                <a:ext cx="1163880" cy="44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0" name="Rectangle 17" descr=""/>
              <p:cNvPicPr/>
              <p:nvPr/>
            </p:nvPicPr>
            <p:blipFill>
              <a:blip r:embed="rId14"/>
              <a:stretch/>
            </p:blipFill>
            <p:spPr>
              <a:xfrm>
                <a:off x="6279480" y="4347000"/>
                <a:ext cx="1353960" cy="804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61" name="Groupe 30"/>
          <p:cNvGrpSpPr/>
          <p:nvPr/>
        </p:nvGrpSpPr>
        <p:grpSpPr>
          <a:xfrm>
            <a:off x="2583000" y="2263680"/>
            <a:ext cx="3978000" cy="2818080"/>
            <a:chOff x="2583000" y="2263680"/>
            <a:chExt cx="3978000" cy="2818080"/>
          </a:xfrm>
        </p:grpSpPr>
        <p:grpSp>
          <p:nvGrpSpPr>
            <p:cNvPr id="262" name="Ellipse 8"/>
            <p:cNvGrpSpPr/>
            <p:nvPr/>
          </p:nvGrpSpPr>
          <p:grpSpPr>
            <a:xfrm>
              <a:off x="2583000" y="2263680"/>
              <a:ext cx="3978000" cy="2818080"/>
              <a:chOff x="2583000" y="2263680"/>
              <a:chExt cx="3978000" cy="2818080"/>
            </a:xfrm>
          </p:grpSpPr>
          <p:pic>
            <p:nvPicPr>
              <p:cNvPr id="263" name="Ellipse 8" descr=""/>
              <p:cNvPicPr/>
              <p:nvPr/>
            </p:nvPicPr>
            <p:blipFill>
              <a:blip r:embed="rId15"/>
              <a:stretch/>
            </p:blipFill>
            <p:spPr>
              <a:xfrm>
                <a:off x="2583000" y="2263680"/>
                <a:ext cx="3978000" cy="281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4" name=""/>
              <p:cNvSpPr/>
              <p:nvPr/>
            </p:nvSpPr>
            <p:spPr>
              <a:xfrm>
                <a:off x="3181680" y="2696040"/>
                <a:ext cx="2785680" cy="19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Groupe 9"/>
            <p:cNvGrpSpPr/>
            <p:nvPr/>
          </p:nvGrpSpPr>
          <p:grpSpPr>
            <a:xfrm>
              <a:off x="2934720" y="3274200"/>
              <a:ext cx="3208680" cy="728280"/>
              <a:chOff x="2934720" y="3274200"/>
              <a:chExt cx="3208680" cy="728280"/>
            </a:xfrm>
          </p:grpSpPr>
          <p:pic>
            <p:nvPicPr>
              <p:cNvPr id="266" name="Rectangle 12" descr=""/>
              <p:cNvPicPr/>
              <p:nvPr/>
            </p:nvPicPr>
            <p:blipFill>
              <a:blip r:embed="rId16"/>
              <a:stretch/>
            </p:blipFill>
            <p:spPr>
              <a:xfrm>
                <a:off x="3713040" y="3302640"/>
                <a:ext cx="1439280" cy="69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7" name="Rectangle 13" descr=""/>
              <p:cNvPicPr/>
              <p:nvPr/>
            </p:nvPicPr>
            <p:blipFill>
              <a:blip r:embed="rId17"/>
              <a:stretch/>
            </p:blipFill>
            <p:spPr>
              <a:xfrm>
                <a:off x="2934720" y="3274200"/>
                <a:ext cx="3208680" cy="728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68" name="Espace réservé du pied de page 31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Espace réservé de la date 32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sp>
        <p:nvSpPr>
          <p:cNvPr id="271" name="Espace réservé du contenu 2"/>
          <p:cNvSpPr/>
          <p:nvPr/>
        </p:nvSpPr>
        <p:spPr>
          <a:xfrm>
            <a:off x="755640" y="1916280"/>
            <a:ext cx="8064360" cy="45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80064"/>
                </a:solidFill>
                <a:latin typeface="Calibri"/>
              </a:rPr>
              <a:t>sa mission</a:t>
            </a:r>
            <a:r>
              <a:rPr b="0" lang="fr-FR" sz="2400" spc="-1" strike="noStrike">
                <a:solidFill>
                  <a:srgbClr val="c80064"/>
                </a:solidFill>
                <a:latin typeface="Calibri"/>
              </a:rPr>
              <a:t> :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assurer un soutien pédagogique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auprès des professeurs d'économie-gestion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de lycée professionn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1199"/>
              </a:spcBef>
              <a:buClr>
                <a:srgbClr val="c80064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Outils et ressources pédagog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1199"/>
              </a:spcBef>
              <a:buClr>
                <a:srgbClr val="c80064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Expérimentations pédagog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1199"/>
              </a:spcBef>
              <a:buClr>
                <a:srgbClr val="c80064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Veille informationn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1199"/>
              </a:spcBef>
              <a:buClr>
                <a:srgbClr val="c80064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Formation des enseign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1199"/>
              </a:spcBef>
              <a:buClr>
                <a:srgbClr val="c80064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ccompagnement des rénov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Espace réservé du pied de page 1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Espace réservé de la date 6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1"/>
          <p:cNvSpPr/>
          <p:nvPr/>
        </p:nvSpPr>
        <p:spPr>
          <a:xfrm>
            <a:off x="755640" y="148428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80064"/>
                </a:solidFill>
                <a:latin typeface="Arial"/>
              </a:rPr>
              <a:t>www.cerpeg.ac-versailles.f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755640" y="2736720"/>
            <a:ext cx="741672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2401"/>
              </a:spcAft>
              <a:buClr>
                <a:srgbClr val="c800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Mise en ligne régulière de ressources sur le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2401"/>
              </a:spcAft>
              <a:buClr>
                <a:srgbClr val="c800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nnonce des publications sur la liste L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2401"/>
              </a:spcAft>
              <a:buClr>
                <a:srgbClr val="c800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Refonte du site Internet dans les prochaines sema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Espace réservé du pied de page 4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Espace réservé de la date 5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grpSp>
        <p:nvGrpSpPr>
          <p:cNvPr id="280" name="Groupe 1"/>
          <p:cNvGrpSpPr/>
          <p:nvPr/>
        </p:nvGrpSpPr>
        <p:grpSpPr>
          <a:xfrm>
            <a:off x="1784520" y="1628640"/>
            <a:ext cx="5667120" cy="3888000"/>
            <a:chOff x="1784520" y="1628640"/>
            <a:chExt cx="5667120" cy="3888000"/>
          </a:xfrm>
        </p:grpSpPr>
        <p:grpSp>
          <p:nvGrpSpPr>
            <p:cNvPr id="281" name="Groupe 5"/>
            <p:cNvGrpSpPr/>
            <p:nvPr/>
          </p:nvGrpSpPr>
          <p:grpSpPr>
            <a:xfrm>
              <a:off x="1815840" y="1628640"/>
              <a:ext cx="3360240" cy="2309400"/>
              <a:chOff x="1815840" y="1628640"/>
              <a:chExt cx="3360240" cy="2309400"/>
            </a:xfrm>
          </p:grpSpPr>
          <p:grpSp>
            <p:nvGrpSpPr>
              <p:cNvPr id="282" name="Ellipse 26"/>
              <p:cNvGrpSpPr/>
              <p:nvPr/>
            </p:nvGrpSpPr>
            <p:grpSpPr>
              <a:xfrm>
                <a:off x="1815840" y="1628640"/>
                <a:ext cx="3360240" cy="2309400"/>
                <a:chOff x="1815840" y="1628640"/>
                <a:chExt cx="3360240" cy="2309400"/>
              </a:xfrm>
            </p:grpSpPr>
            <p:pic>
              <p:nvPicPr>
                <p:cNvPr id="283" name="Ellipse 26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815840" y="1628640"/>
                  <a:ext cx="3360240" cy="2309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4" name=""/>
                <p:cNvSpPr/>
                <p:nvPr/>
              </p:nvSpPr>
              <p:spPr>
                <a:xfrm>
                  <a:off x="2324880" y="1984680"/>
                  <a:ext cx="2347920" cy="160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Groupe 2"/>
              <p:cNvGrpSpPr/>
              <p:nvPr/>
            </p:nvGrpSpPr>
            <p:grpSpPr>
              <a:xfrm>
                <a:off x="2279520" y="2309040"/>
                <a:ext cx="1057680" cy="338760"/>
                <a:chOff x="2279520" y="2309040"/>
                <a:chExt cx="1057680" cy="338760"/>
              </a:xfrm>
            </p:grpSpPr>
            <p:pic>
              <p:nvPicPr>
                <p:cNvPr id="286" name="Rectangle 28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382480" y="2391480"/>
                  <a:ext cx="833040" cy="239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7" name="Rectangle 29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279520" y="2309040"/>
                  <a:ext cx="1057680" cy="3387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288" name="Groupe 10"/>
            <p:cNvGrpSpPr/>
            <p:nvPr/>
          </p:nvGrpSpPr>
          <p:grpSpPr>
            <a:xfrm>
              <a:off x="4016160" y="1712160"/>
              <a:ext cx="3360240" cy="2361600"/>
              <a:chOff x="4016160" y="1712160"/>
              <a:chExt cx="3360240" cy="2361600"/>
            </a:xfrm>
          </p:grpSpPr>
          <p:grpSp>
            <p:nvGrpSpPr>
              <p:cNvPr id="289" name="Ellipse 22"/>
              <p:cNvGrpSpPr/>
              <p:nvPr/>
            </p:nvGrpSpPr>
            <p:grpSpPr>
              <a:xfrm>
                <a:off x="4016160" y="1712160"/>
                <a:ext cx="3360240" cy="2361600"/>
                <a:chOff x="4016160" y="1712160"/>
                <a:chExt cx="3360240" cy="2361600"/>
              </a:xfrm>
            </p:grpSpPr>
            <p:pic>
              <p:nvPicPr>
                <p:cNvPr id="290" name="Ellips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016160" y="1712160"/>
                  <a:ext cx="3360240" cy="2361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1" name=""/>
                <p:cNvSpPr/>
                <p:nvPr/>
              </p:nvSpPr>
              <p:spPr>
                <a:xfrm>
                  <a:off x="4525200" y="2074680"/>
                  <a:ext cx="2347920" cy="164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" name="Groupe 7"/>
              <p:cNvGrpSpPr/>
              <p:nvPr/>
            </p:nvGrpSpPr>
            <p:grpSpPr>
              <a:xfrm>
                <a:off x="6184080" y="2392200"/>
                <a:ext cx="762480" cy="338400"/>
                <a:chOff x="6184080" y="2392200"/>
                <a:chExt cx="762480" cy="338400"/>
              </a:xfrm>
            </p:grpSpPr>
            <p:pic>
              <p:nvPicPr>
                <p:cNvPr id="293" name="Rectangle 2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246720" y="2470680"/>
                  <a:ext cx="622800" cy="243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4" name="Rectangle 2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184080" y="2392200"/>
                  <a:ext cx="762480" cy="338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295" name="Groupe 15"/>
            <p:cNvGrpSpPr/>
            <p:nvPr/>
          </p:nvGrpSpPr>
          <p:grpSpPr>
            <a:xfrm>
              <a:off x="1784520" y="3088440"/>
              <a:ext cx="3142080" cy="2428200"/>
              <a:chOff x="1784520" y="3088440"/>
              <a:chExt cx="3142080" cy="2428200"/>
            </a:xfrm>
          </p:grpSpPr>
          <p:grpSp>
            <p:nvGrpSpPr>
              <p:cNvPr id="296" name="Ellipse 18"/>
              <p:cNvGrpSpPr/>
              <p:nvPr/>
            </p:nvGrpSpPr>
            <p:grpSpPr>
              <a:xfrm>
                <a:off x="1852920" y="3088440"/>
                <a:ext cx="3073680" cy="2277720"/>
                <a:chOff x="1852920" y="3088440"/>
                <a:chExt cx="3073680" cy="2277720"/>
              </a:xfrm>
            </p:grpSpPr>
            <p:pic>
              <p:nvPicPr>
                <p:cNvPr id="297" name="Ellipse 18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852920" y="3088440"/>
                  <a:ext cx="3073680" cy="2277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8" name=""/>
                <p:cNvSpPr/>
                <p:nvPr/>
              </p:nvSpPr>
              <p:spPr>
                <a:xfrm>
                  <a:off x="2318760" y="3437640"/>
                  <a:ext cx="2145960" cy="158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Groupe 12"/>
              <p:cNvGrpSpPr/>
              <p:nvPr/>
            </p:nvGrpSpPr>
            <p:grpSpPr>
              <a:xfrm>
                <a:off x="1784520" y="4479480"/>
                <a:ext cx="2802600" cy="1037160"/>
                <a:chOff x="1784520" y="4479480"/>
                <a:chExt cx="2802600" cy="1037160"/>
              </a:xfrm>
            </p:grpSpPr>
            <p:pic>
              <p:nvPicPr>
                <p:cNvPr id="300" name="Rectangle 20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2273760" y="4479480"/>
                  <a:ext cx="1159560" cy="536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1" name="Rectangle 21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784520" y="4598640"/>
                  <a:ext cx="2802600" cy="918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302" name="Groupe 20"/>
            <p:cNvGrpSpPr/>
            <p:nvPr/>
          </p:nvGrpSpPr>
          <p:grpSpPr>
            <a:xfrm>
              <a:off x="4194360" y="3073680"/>
              <a:ext cx="3257280" cy="2289240"/>
              <a:chOff x="4194360" y="3073680"/>
              <a:chExt cx="3257280" cy="2289240"/>
            </a:xfrm>
          </p:grpSpPr>
          <p:grpSp>
            <p:nvGrpSpPr>
              <p:cNvPr id="303" name="Ellipse 14"/>
              <p:cNvGrpSpPr/>
              <p:nvPr/>
            </p:nvGrpSpPr>
            <p:grpSpPr>
              <a:xfrm>
                <a:off x="4194360" y="3073680"/>
                <a:ext cx="3257280" cy="2289240"/>
                <a:chOff x="4194360" y="3073680"/>
                <a:chExt cx="3257280" cy="2289240"/>
              </a:xfrm>
            </p:grpSpPr>
            <p:pic>
              <p:nvPicPr>
                <p:cNvPr id="304" name="Ellipse 14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4194360" y="3073680"/>
                  <a:ext cx="3257280" cy="2289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5" name=""/>
                <p:cNvSpPr/>
                <p:nvPr/>
              </p:nvSpPr>
              <p:spPr>
                <a:xfrm>
                  <a:off x="4689000" y="3426840"/>
                  <a:ext cx="2271240" cy="158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Groupe 17"/>
              <p:cNvGrpSpPr/>
              <p:nvPr/>
            </p:nvGrpSpPr>
            <p:grpSpPr>
              <a:xfrm>
                <a:off x="5978160" y="4156560"/>
                <a:ext cx="1158840" cy="714240"/>
                <a:chOff x="5978160" y="4156560"/>
                <a:chExt cx="1158840" cy="714240"/>
              </a:xfrm>
            </p:grpSpPr>
            <p:pic>
              <p:nvPicPr>
                <p:cNvPr id="307" name="Rectangle 16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5978160" y="4510800"/>
                  <a:ext cx="909000" cy="360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8" name="Rectangle 17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023520" y="4156560"/>
                  <a:ext cx="1113480" cy="651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309" name="Groupe 30"/>
            <p:cNvGrpSpPr/>
            <p:nvPr/>
          </p:nvGrpSpPr>
          <p:grpSpPr>
            <a:xfrm>
              <a:off x="3004920" y="2464200"/>
              <a:ext cx="3256560" cy="2288520"/>
              <a:chOff x="3004920" y="2464200"/>
              <a:chExt cx="3256560" cy="2288520"/>
            </a:xfrm>
          </p:grpSpPr>
          <p:grpSp>
            <p:nvGrpSpPr>
              <p:cNvPr id="310" name="Ellipse 8"/>
              <p:cNvGrpSpPr/>
              <p:nvPr/>
            </p:nvGrpSpPr>
            <p:grpSpPr>
              <a:xfrm>
                <a:off x="3004920" y="2464200"/>
                <a:ext cx="3256560" cy="2288520"/>
                <a:chOff x="3004920" y="2464200"/>
                <a:chExt cx="3256560" cy="2288520"/>
              </a:xfrm>
            </p:grpSpPr>
            <p:pic>
              <p:nvPicPr>
                <p:cNvPr id="311" name="Ellipse 8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3004920" y="2464200"/>
                  <a:ext cx="3256560" cy="2288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2" name=""/>
                <p:cNvSpPr/>
                <p:nvPr/>
              </p:nvSpPr>
              <p:spPr>
                <a:xfrm>
                  <a:off x="3499560" y="2817720"/>
                  <a:ext cx="2274480" cy="158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3" name="Groupe 9"/>
              <p:cNvGrpSpPr/>
              <p:nvPr/>
            </p:nvGrpSpPr>
            <p:grpSpPr>
              <a:xfrm>
                <a:off x="3297960" y="3285720"/>
                <a:ext cx="2620080" cy="589680"/>
                <a:chOff x="3297960" y="3285720"/>
                <a:chExt cx="2620080" cy="589680"/>
              </a:xfrm>
            </p:grpSpPr>
            <p:pic>
              <p:nvPicPr>
                <p:cNvPr id="314" name="Rectangle 12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3891600" y="3285720"/>
                  <a:ext cx="1265040" cy="589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5" name="Rectangle 1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3297960" y="3285720"/>
                  <a:ext cx="2620080" cy="589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316" name="Espace réservé du pied de page 3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Espace réservé de la date 10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ZoneTexte 11"/>
          <p:cNvSpPr/>
          <p:nvPr/>
        </p:nvSpPr>
        <p:spPr>
          <a:xfrm>
            <a:off x="7377120" y="5229360"/>
            <a:ext cx="115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c80064"/>
                </a:solidFill>
                <a:latin typeface="Calibri"/>
              </a:rPr>
              <a:t>F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1T18:14:53Z</dcterms:created>
  <dc:creator>Pat</dc:creator>
  <dc:description/>
  <dc:language>en-US</dc:language>
  <cp:lastModifiedBy>Géraldine FONDEVILLE</cp:lastModifiedBy>
  <dcterms:modified xsi:type="dcterms:W3CDTF">2011-10-12T08:25:11Z</dcterms:modified>
  <cp:revision>8</cp:revision>
  <dc:subject/>
  <dc:title>Présentation PowerPoint</dc:title>
</cp:coreProperties>
</file>