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FBA51-39A6-4BB5-B805-C49C2A830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9D430-5382-4F8F-80B6-1FDC898DA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ADEE8F-054A-4583-89DB-547750A5C8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00DD5E-7E12-4ED4-86EE-86895869CE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DD83E9-4FA2-4B67-9814-B69FB144B1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10C2C8-C271-448B-88A4-E3AD11ABD9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EFE9B4-68AC-46A2-A8CD-C9A2A8BC73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428ACA-F644-405A-B015-18640AECD9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AE97AF-DC38-4F59-9256-D6A5A7A6C8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D9E432-1E05-4B14-9A82-88781DED3F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5E5ADE-6F4E-45DE-9CCF-938A550C4F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299442E-02BC-4672-9EE3-0BBD78064AF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7EB40-536B-4107-A243-F0532B7EF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54BD05-3D97-4F9B-9F23-38A44243E6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05F31B-2B7E-425D-A3E9-04BD6B6817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CF9B8D-1947-4C72-A235-2D6E13BE72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A6FCBF-269D-407A-998C-45DF8F90A5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12FEA2-D47E-43A5-9DB7-7BFCA30D17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27E959-F461-4835-8C17-0B331962F2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2C0911-12DE-404D-A212-CB71C9E5E8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B9C9F8-5361-499E-B6DA-5C54F58F1F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CA2491-252A-4A79-9131-DA305A76CE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EFF67B-30B7-45C5-AEBB-7358928163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BDF69-F15F-489E-9607-C5865CD27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C0CA34-0C9A-4088-BB2E-08A3E8CFFB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6982E48-5365-4678-84E1-0E6C42E1C7C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C6DCB9-A22D-421C-BF1E-4FCA19DDF4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55AA02-9996-4BF7-90E0-1AD005033D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9C3691-26B8-47DD-A161-FC7F433E4C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214AB6-6F37-40ED-BBC0-397DA5B182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15E341-6EB2-4D3C-831A-D79BB55F9A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A29894-9CA1-4A1B-A997-72D5F3A1F2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8A4890-8E7F-4254-B343-2C44B1BB2D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FF5A14-89C0-4939-AA8B-B858C6AAD1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E48E3-1B29-47E3-A406-6D55DDCE9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38E48B-91C2-4602-B303-39E765CD4D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B4DE9B-A252-47C4-8892-7B79B0703F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31D217-70A9-46FC-B22F-83D67D10C28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FC303-C2CC-4755-8402-DBB4B3B2C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A5EE9-264D-4E01-8C10-E4454A98E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D0B69-3CB0-419C-A7AF-4DA6B5684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FF7D9-7DC3-4B12-9908-94A25FEFF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3AF7C-1790-46CA-B216-17053F3BD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D0D98-2FA4-4E11-BEC8-ED73F9AFC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BB06F-A908-41AE-9A1B-15680D1EE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94BCF-7B4F-4192-B5F3-B6D3F42A3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CFE4B-494F-4457-AFA4-14154F96B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5516F-69ED-44B4-812C-938AAA97A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1A248-F4F9-4E28-A94F-ADB361F2F0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4E6202-F05E-4DE7-8AE6-DC4F11416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2F9475-BE2B-45BE-AA23-092816D7F1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60A72A-A449-42D8-A426-635AE8BD95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3C1725-3108-4B67-BCF8-888426BF1E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472954-3231-44C2-9F8F-BC9E43DCA0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68647-3639-40FD-980C-C1673BB174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59262-1857-4646-9466-96F6A965B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FDF818-E7A1-412C-963A-36529A608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9949C-F590-49D2-A66A-21D92CD704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4CC60-DF77-41A4-83C6-52831E8E9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7CE587-C1B9-4A91-ACB8-56E189AEE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32B3B1-32AD-4605-B672-69DC583E1E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90C906-05DA-41E6-8D8B-685D0B0E75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417F78-4C6D-4B51-9E75-580F090403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7397AF-2A5D-442D-ABA2-E4C6C36EA7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7BF54D-3F2C-4B14-9117-16F1EC6E14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B56B46-B366-4DE5-A631-B317EF1F2B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B847E-3B97-466B-8455-7E49B8DA4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FCCEDE-F89D-4D5B-BA09-F7B268CCB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08A0A5-077A-4EF7-8E5C-8C5D153CD8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D7D8F5-AABE-4F55-9A3E-FDE9137F2C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170A05-1E44-402F-BCB1-44D85DB9B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2A2406-861D-4480-A0B8-117C6B098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1AFD8-EC79-47A2-AAC6-9BDCAA1A9B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4FA88-B0A4-4F85-879B-8413DDE6E0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DB8FEF-542D-41D0-A62E-C016E4899C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958296-F6DD-47CE-8215-ADDF3A04AB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D75CF1-97D7-44DE-945A-DA61789C45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75791-AD6B-4BB6-B4E3-B4EDC2B48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842D9D-E2F9-41C1-98D9-0A3544260F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F3E194-598A-4850-A671-C69A631492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41E25E-011E-4AE3-8CFB-D3C733F6B7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629DF7-787C-452E-8CC1-BBD5F5516A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D0F935-6F35-4CDA-92B3-AB8E038616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CE5694-33A7-4F14-A58C-218DFD7DEA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6784E6-FA96-4A50-A5AD-60964AFA60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9D8647-09D5-4E42-9F87-8C57A99607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AC1EB8-CE71-45E5-B99C-4D0A789CCB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865266-AE3F-45C3-8D49-1E725860D3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BB805-AB71-4D27-BE0F-17E8E0F71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14FD73-A7C6-45A5-85C4-FEFA97D17D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D426C9-BA6D-41B5-BD61-50A8A85ACA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0A2FBF-62ED-4E35-92DA-226333FC48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85D44E-3793-422B-98C1-9338905E42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CECAF5-C8F1-4895-A2F5-7A54AB6F38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7983CE-9F9D-47C0-AD97-F3D1B60936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44AA20-83EE-4BC5-B037-A3EF2E7F12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55968-B5EB-4373-B101-71CC80F9A8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5630D9-AFB7-4413-978C-4C198A5F29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4046D1-145B-4F8A-9F0A-A5B1357641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C7604-6960-4105-8B27-052DBB892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6C12D2-566E-4055-9CFE-7C14F7A826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0D9A30-745F-48FB-B393-0D2D295CDD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B6DD30-E324-4920-AB43-0AA432EC4F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521E25-252E-4265-8530-FE4D20459A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85DBBA-E8BE-44E1-AA05-0DD1891AB9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C42DA2-CE1B-41A8-9C8D-89614B9287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CC20CE-E319-46E6-8B59-A1E78B5F05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EEEBF8-CAB7-436A-A150-E9870E24F2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B69279-CEC1-4375-99CE-6CF1A4525F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A6AFE8-1A3A-447F-818A-E010087ECB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E8BEB-64F9-4AEB-B84F-AD2DA4097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C659BF-BE05-468A-B92C-6A4ADE45A6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96CAA9-509D-4CB1-B68C-BD7649F3EB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6FA976-7D4B-4458-9962-99607810A3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3A7991-727E-4B74-A42B-E912C43CCE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C30EF3-A790-40DD-893A-79E056695B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F62C3D-0CA5-45C7-A558-1C55559671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004F1E-05A6-4A8B-A0C2-367689FB22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BD73D0-3ED7-422E-B079-749C2817AE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2A18B6-EC63-4A63-BB2B-82D940DB4D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D8BB5B-32E7-4EF4-AA0C-2D4416BF75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83609-139E-4D8E-935D-7864EB7A4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5E3075-F8B4-458D-BA38-95A39299F1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2C86B1-DFEC-43F6-AE55-5C11B6397D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1475A8-675F-40FA-BF64-56510FBA5D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6F9802-0F01-4B8A-BD14-BBB84701A5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1AA8AF-FA06-4403-AA3F-5FD7B79914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71BD88-1D53-4B10-83CA-02182BF66C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CDB6C7-FD1F-4FC9-98E9-8C35B6B859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7C33CE-F5F0-4A45-9BC8-5CFB3AFE6C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F5A855-FEB0-4BDF-9970-24DB423D6F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E6380C-4F21-4386-8A13-A6717CF471E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5B0D-14D2-4387-924F-2F8C127B6E45}"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AF63-534C-419B-BCFD-98B6A2FA9275}"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C0AD-2287-4BD9-873D-7C8351A66078}"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05E3-5A01-4352-8E0F-2E199864771E}"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E7E8-FFC1-4D27-B874-BD81DF3BE44A}"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A856-423C-4AA2-A1B4-19DDA1798D64}"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368B-E130-4255-B81E-BF0EF36D08A0}"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FCEE-63F8-42BC-B72C-4E6B1D59E924}"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B4AF-19A6-44F8-A0F4-2101ADCB90D4}"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1D8C-854A-498F-9F47-C4BBEABE9D99}"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5C5A-1D2C-452A-818D-92AED87E0C1A}"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B1A5-C09C-433D-82DA-9986D96B48AA}"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F557-BC6F-48A4-9D2B-39CE97176174}"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E810-B2D0-4C72-B6BB-7F644CE3A1A6}"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BC21-5AF0-4F5A-B95B-B2B45C1908B0}"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6202-3B2A-4052-A66B-E8341FABDAC2}"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6CA3-4DA9-424C-8F62-36B1AA6A54E7}"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9F18-10DF-4F9D-8981-9AC7874883E4}"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3BBE-E71A-4F7E-B52F-4E2F2B94BBA4}"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8778-D232-4738-B30C-29406BC852B7}"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6E3B-9AD7-467D-8F9B-60CC70D36D4E}" type="datetime">
              <a:rPr b="0" lang="fr-FR"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CF1B-864E-4DE0-8B0D-0073EAD47BDE}"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4485-A3E7-46B6-A1EB-ED988BA8C9EA}"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CA67-292B-4DC6-92A5-4334F8C540BB}"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6AE8-91F1-4650-AE99-09E5F8C09189}"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A938-30B0-4B0F-975C-0AE677BBF29E}"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6CAE-430C-40AB-8904-E809BB0A0C7D}"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5F26-5FF1-44EC-BCB3-AEA1DBDCFE47}"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6B31-A743-407C-9F3E-A195E4F1E67E}"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