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B823-75DA-4684-9E4E-22C5B91F30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679A-8CF2-4055-B7CB-6ED9326BBE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A29-18AE-4F07-99C4-8A800F56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F58-330D-4F9E-A9C9-D9C79DD0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DA3E-50C8-4A78-BD1C-72B40302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44D-7C5F-4E96-B468-DFDCDE13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1079-141B-4254-9EF9-0E418326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80EC-54A7-4A17-BCCD-DEB8CD9A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7BA1-EE23-49EA-9F39-36861AE9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D305-632A-44BC-81EA-4B92932E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668F-3957-4C96-B3F6-7F77BD31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A6FB-25D7-4247-9DE9-9294FBA0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6483-FC74-4061-9658-6BCAF59B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E753-813A-4C9A-B159-CCFC9A1E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AEBF-21F0-4EA9-A9CD-3AE35768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1845-E2EC-4198-B2CA-17EEC88D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288C-CE43-4516-8E66-D8A3E35E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A468-2876-4593-989D-998E5928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2A8D-9D44-4580-93C6-E9F8A94F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4DA01-06E6-4FDD-A714-2C1DCC05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3D8E0-0508-4EB9-A385-A2F8452A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47FF7-C44A-4FC8-8704-5B55C00F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2BFF2-0A85-4C0F-AC40-1219A998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02032-B3AB-4AF0-AD6A-D8E65D02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2CC-7A9D-409F-9BBC-2C3FF19A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75E1B-E566-4672-9292-3F294FAA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BB481-B7EC-41CE-A362-C11374A6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17ACC-7D8E-4BD2-AA01-20145598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52D03-64C7-4518-94DF-E580FA77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5029E-92AB-4EC2-B212-56B50BEA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8F0BD-606A-4F48-9066-C65ADF97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BFF23-40E9-4661-B776-FDA41766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F3AEB-1A7A-40F5-90CE-B00E0270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BA921-231B-435D-95F5-0ECF6DD8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42B5E-0D4B-4842-ACA5-83D95D04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2E1-71E9-42C6-BC80-8F2F6140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760B8-B470-4361-845C-F1B1F004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90CFE-CA30-4CC8-AFED-67E9765D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14818-E3B3-493E-9E76-ED4CF620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40CF2-464E-4461-B2E3-E3A1AFDA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504F6-A329-4836-9E63-5FF3F1A0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613F6-A225-4C17-BB2E-AF700BEC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C404F-D300-4F53-810D-9BFAFC83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8BD1F-4ECB-4E28-A361-AB1A189A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23452-E82F-4FA5-ACF6-98BFD85C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85EBA-F158-4572-B072-0CA4E73C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BCB-2083-436A-A788-ECA3737F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FD995-595D-4898-BB4B-32845233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6C002-119E-419B-9BDF-6101AAD5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A1A2E-F939-48FF-9499-FD870295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247F7-D65C-4010-8B34-5D17CEFA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A4C6F-0172-473D-AC64-F4068F01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7AA07-0312-4657-A844-EC01B8A7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79AD4-6FCE-47E4-AF19-20837EE1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4A7A4-B99C-4AC6-B9DE-5B108A95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973CF-9232-4552-9F69-91BE1769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A8A0F-1286-4BCB-848C-123B1F39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062-ACFF-4F84-AF5F-B79C1435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F9008-E091-4F0F-891D-EA8D3191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9CF92-85CF-4CD4-930E-4CEE8987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EB54D-5568-4627-AA1F-F0B7DDAF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DA2AD-A2E1-4B88-A527-37815979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72B31-A412-4006-900B-12F4B704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03712-7FE3-4490-AE7E-FCDB7F3F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67243-6BBA-4B14-BD48-00C46AB2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A97B7-AC91-4F47-BF41-D3930DA6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11CA5-0EEA-483E-8964-C9621C12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3B4B4-DA07-45B8-92A6-1A4D997B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BA9-6A71-4965-96D8-5BD1C162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FD426-681E-4F16-8AAF-EA53F21D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C7491-B57D-4EFE-86F0-6488BC3C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C8EB2-76F4-46C4-B77F-F5E9D7E1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D45DA-CA20-495C-A1C0-FA9B306F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999CD-169B-40D8-A279-AB948951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9051C-0C50-43EB-BFAA-11DF2E98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BEE4E-9BE4-44F6-8BF4-2B4CB6C1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64C96-D382-4D16-A86B-29B80D1B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D2DE6-A466-4985-8C0F-2B174E04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D9792-650C-4DE8-83A6-FDE9B481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608-0096-4F8C-8626-CC65E6B3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AF3A2-58F1-4754-B548-D70A2DEF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FC246-3D59-4189-85CA-11492704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061AF-DEF0-4730-88AE-21D6A9B0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0AB54-A740-42D3-A1A8-9C59DCCF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32A22-D377-4D9B-B943-28382082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56A23-6AF6-4642-8A6F-D9F699C5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98750-B8E9-492E-9C96-29B36D5B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F8841-D17F-4425-A98E-AACD119E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BA5BF-4EA8-429B-877B-06E13E70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87342-BE67-40C4-810B-1421CA4F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F156-6CC8-4B6D-8D36-4F592502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B6BDF-22F0-4029-9042-911F4BBA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4C96C-9FFC-478E-8D64-2E586752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CFDAD-ED05-4BA7-8154-AF6DE319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7EBBB-6B6E-460C-96B4-CB95AB5A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BBD0E-15EB-4FFF-8BE6-90759DF8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EA82D-3734-4070-BACE-16D06747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6A5FC-75A2-41E5-8FE2-CA791DF8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B2C5-593A-438B-A1C4-6B856655DDB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E4EB-2A74-4117-9860-1A074069159A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58B5-30BA-4E05-864F-C59F5225ABC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3E2E-F432-4E77-89A1-EABB987622F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9119-F105-4AD8-9084-CBAD2FFD226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28B3-AA31-4D6D-9223-A064D731F61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4CF5-9870-44A5-8136-4099324CC04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3BB7-1E80-4924-A762-2A1CC847282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F4FE-FC55-464A-9727-09347146534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035E-F715-46CD-97EA-458DAA474E8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447F-7976-465C-BC02-AC72D617E39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0CC0-002B-468D-B1FD-5072922BABC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5140-BE1D-4C7F-A000-A8F4D80AE41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E982-8E55-4608-A02D-0E4F0566C36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801B-4DED-415D-B1D0-4DBA2F9FAA0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03DD-38AB-4897-8BF8-C14289C43F9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menagement_espace_pro.pptx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 la salle informatiqu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à l’espace professionnel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 effets positifs…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55280" y="1100160"/>
            <a:ext cx="758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environnement agréable et fonctionnel.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es élèves ont chacun un petit espace de travail et se retrouvent plus ou moins séparés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ambiance de travail différente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élèves responsabilisés sur leurs conditions de travail et donc peu de dégradations.</a:t>
            </a:r>
            <a:r>
              <a:rPr b="0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DE2A-A472-4C34-B6CC-1CE22370C8D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impact sur les élè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280" y="62028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vorise le travail en autonomie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entre élèves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mpose des règles de vie professionnelle (pas de bruit lorsqu’un collaborateur est au téléphone, tenue et postur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encourage le travail en équipe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nduit  un changement de statut pour l’élève (passage d'une classe traditionnelle à des locaux d’entrepris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AF91-1BF2-42CF-9172-9A29D159AE3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impact pour les enseignant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0B51-A05E-46AE-A078-032EA87E07A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611280" y="765000"/>
            <a:ext cx="765972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professeur-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rend la relation professeur-élève plus profes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à l’enseignant de reproduire plus facilement des situations professionnelles (salle de réunion, téléphone, accueil client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de décloisonner s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s déplacements dans la s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Une opportunité pour conduire un projet avec les élèv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981000"/>
            <a:ext cx="85694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es situations professionnelles du référentiel du Bac pro GA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Exemples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1 :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1.1.2. TRAITEMENT DES ORDRES D’ACHAT, DES COMMAND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3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3.3.2 . MAINTIEN OPÉRATIONNEL DES POSTES DE TRAVAIL ET AMÉNAGEMENT DES ESPAC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’EGLS (Maths/sciences; Arts appliqués…)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57DB-1746-44A0-8FF0-F06AC4347B3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à coins arrondis 1"/>
          <p:cNvSpPr/>
          <p:nvPr/>
        </p:nvSpPr>
        <p:spPr>
          <a:xfrm>
            <a:off x="6588000" y="5157720"/>
            <a:ext cx="201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b7378"/>
                </a:solidFill>
                <a:latin typeface="Franklin Gothic Book"/>
              </a:rPr>
              <a:t>Un </a:t>
            </a:r>
            <a:r>
              <a:rPr b="0" lang="fr-FR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1557360"/>
            <a:ext cx="7521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référentiel écrit en situations professionnell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identification métier à valoriser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a nécessité de privilégier la multivalen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0300-F7C7-4896-BF03-FD6932FEED0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itre 1"/>
          <p:cNvSpPr/>
          <p:nvPr/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ourquoi ce beso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Quitter le mode frontal, scolair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0382-D4B9-497B-A5C5-822409177E4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 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5" descr=""/>
          <p:cNvPicPr/>
          <p:nvPr/>
        </p:nvPicPr>
        <p:blipFill>
          <a:blip r:embed="rId2"/>
          <a:stretch/>
        </p:blipFill>
        <p:spPr>
          <a:xfrm>
            <a:off x="4067280" y="2522520"/>
            <a:ext cx="477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…</a:t>
            </a:r>
            <a:r>
              <a:rPr b="1" lang="fr-FR" sz="2800" spc="-1" strike="noStrike">
                <a:solidFill>
                  <a:srgbClr val="c00000"/>
                </a:solidFill>
                <a:latin typeface="Franklin Gothic Medium"/>
              </a:rPr>
              <a:t>pour aller vers un espace professionnel polyval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81B6-7769-42B7-A9DB-273AC8EB529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 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professionnel polyvalent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0020-4501-44E4-8B7C-4AB75363D84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 1" descr=""/>
          <p:cNvPicPr/>
          <p:nvPr/>
        </p:nvPicPr>
        <p:blipFill>
          <a:blip r:embed="rId1"/>
          <a:stretch/>
        </p:blipFill>
        <p:spPr>
          <a:xfrm>
            <a:off x="992160" y="1574640"/>
            <a:ext cx="680400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ZoneTexte 2"/>
          <p:cNvSpPr/>
          <p:nvPr/>
        </p:nvSpPr>
        <p:spPr>
          <a:xfrm>
            <a:off x="914040" y="108432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érents espac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10B6-FD55-43B8-83D2-6DACB703111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6"/>
          <p:cNvSpPr/>
          <p:nvPr/>
        </p:nvSpPr>
        <p:spPr>
          <a:xfrm>
            <a:off x="915120" y="270828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comptoir d’accu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age 1" descr=""/>
          <p:cNvPicPr/>
          <p:nvPr/>
        </p:nvPicPr>
        <p:blipFill>
          <a:blip r:embed="rId1"/>
          <a:stretch/>
        </p:blipFill>
        <p:spPr>
          <a:xfrm>
            <a:off x="4290840" y="1297080"/>
            <a:ext cx="33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B91F-2E8E-4B35-8A1B-CF9F19A4A89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914040" y="142884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alle de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 1" descr=""/>
          <p:cNvPicPr/>
          <p:nvPr/>
        </p:nvPicPr>
        <p:blipFill>
          <a:blip r:embed="rId1"/>
          <a:stretch/>
        </p:blipFill>
        <p:spPr>
          <a:xfrm>
            <a:off x="2556000" y="2028960"/>
            <a:ext cx="5368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1C68-809B-4BC7-BB37-D1AE27649C3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6"/>
          <p:cNvSpPr/>
          <p:nvPr/>
        </p:nvSpPr>
        <p:spPr>
          <a:xfrm>
            <a:off x="903960" y="14288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Photo003"/>
          <p:cNvPicPr/>
          <p:nvPr/>
        </p:nvPicPr>
        <p:blipFill>
          <a:blip r:embed="rId1"/>
          <a:stretch/>
        </p:blipFill>
        <p:spPr>
          <a:xfrm>
            <a:off x="3564000" y="1628640"/>
            <a:ext cx="48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d’entrainement téléphoniqu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332E-5C64-4741-B07C-5DE7DC86432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"/>
          <p:cNvSpPr/>
          <p:nvPr/>
        </p:nvSpPr>
        <p:spPr>
          <a:xfrm>
            <a:off x="179280" y="1052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ation des élèves su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'app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rsation à plus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att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amétrage de la messageri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HPIM3875"/>
          <p:cNvPicPr/>
          <p:nvPr/>
        </p:nvPicPr>
        <p:blipFill>
          <a:blip r:embed="rId1"/>
          <a:stretch/>
        </p:blipFill>
        <p:spPr>
          <a:xfrm>
            <a:off x="4284720" y="134136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PIM3878"/>
          <p:cNvPicPr/>
          <p:nvPr/>
        </p:nvPicPr>
        <p:blipFill>
          <a:blip r:embed="rId2"/>
          <a:stretch/>
        </p:blipFill>
        <p:spPr>
          <a:xfrm>
            <a:off x="250920" y="3328920"/>
            <a:ext cx="3900240" cy="2925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435600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chnologie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en pool téléphonique pour des actions de démarchage par télé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22:30Z</dcterms:modified>
  <cp:revision>31</cp:revision>
  <dc:subject/>
  <dc:title>Baccalauréat professionnel Gestion -- Administration</dc:title>
</cp:coreProperties>
</file>