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2B18-9F9F-4816-A82F-B2046824EE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48F8-3402-42EC-9ECB-6CB9541564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80D1-DC69-46E2-BBE2-C644BB4BA3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5C3D-AE85-4E3A-B1A4-89D2BCD064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5944-8A3B-476F-87DD-60AC547B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6B5-AB86-43B5-926D-3EF83D58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CAD-0227-47EF-90D7-FF79CFA0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E95-41CF-4E0A-AF34-36D2DB30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776E-84B7-44C2-BE10-2B932DF2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8E90-B6F6-4AD5-98F0-8596D1B0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A902-73B7-4BB3-B541-1D0EB1B0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49C4-946E-41CC-B0CB-95A43453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17B7-BD85-4C69-A701-0919ADC7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4558-87B6-4424-9B62-EA6200F1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C968-D322-4B02-B70E-85ABF1AF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5027-361C-4FFB-ABC5-2DA6AEB0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654E-9207-4377-969A-2DD66D4B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A6C6-17FF-41E1-A232-E077070E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66C5-1938-4D0A-A7F7-E027B811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CB76-31C2-4843-A0BE-1BE78B68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FC21-AF28-4F06-A46A-07F219E5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14837-5820-4344-B8EC-9E013C1C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20D23-C203-42E7-80CF-075B49AE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25C25-C850-4100-81C7-D26B0867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F2440-7519-4692-B785-80D5AD52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D366-0265-4548-BB41-4181AB3E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6A7C-1C6A-43E2-A342-0DC9DB6A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452F3-BD55-421B-8BAC-79EE0BE1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D59F4-E07C-44E8-9FBD-85CDC9F3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C604D-948E-4A37-B4D5-EA17F08A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32238-2BDF-47EE-B0F7-9562550A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90273-58CC-45DE-93E4-593A6E29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F3C45-AF05-4D63-B3F1-6B2517E5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4203C-2360-43E7-A3FA-8F27C9CB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60D47-65E1-4393-B123-031E8545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87F32-9F22-4DEA-B77F-EF1E9517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842A6-5369-4954-BA06-E89C2A8C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029A-6A05-4C0E-A23F-D6434235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7B22C-36C3-4E6F-A46F-5EBDA19F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58C43-9D35-489D-882F-49FFD987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1853D-E35E-46F0-8891-B981A32B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DB4D4-33E5-499E-80D2-16AA7618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94CE8-9721-4F1C-BBD3-95ED7B9D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BD403-8A32-43A1-A469-F6BF8A1F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FE91A-1C0C-42DE-B067-D9A13B19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C3E33-4152-4A5E-8955-A8E44349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625BF-C9FA-447F-9F56-8051E507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01A08-64A5-491D-BC89-7CE418D3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7DA8-9B90-41B5-86CE-03B77F96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A59D0-2502-417E-96B7-11A6D6D8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335C7-597C-486C-8620-20BFD0A3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0C1F3-BFC4-4C24-88AC-4C0A79E8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19F4D-BBC7-4364-AEAD-FF1B7FD0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8FE3B-1FB7-4712-8C60-2D86FC56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839BE-56CE-46BA-B081-1BE437CC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2C790-89BE-42F1-A639-6C1400CE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EA5FC-56C5-4C66-91DB-B8BEED54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B6408-159D-4340-AF5C-50A35598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8E885-1445-435F-AD5A-6ABA7789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49C-0EB6-496C-BF5F-FE4CFB69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9A0E0-43F0-48F1-BA2F-17A374A9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EEAF6-B448-48A7-8DA1-BD62F333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DE6BF-686E-489A-B767-A40FB56D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B0D38-6DF9-4960-B711-891B77A6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8E597-AEEE-42F8-A971-1BD7ED43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5708A-81D9-4B78-A638-B5DF5C07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081D3-0C6B-4917-88A0-2E48299F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6A587-D58F-449B-9E39-F2571F3E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AF5F6-C703-4D6F-AC1B-C720F28C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C8B81-3A63-4978-994C-FFCEB88A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0F57-C193-425E-BBE2-515AC3A0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16FE5-5CDF-45BE-9381-2AD5C81D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F3D73-5D0D-4886-85AB-D75004F2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58995-413D-42F4-99E1-0C850839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B1B2B-3369-4D34-9922-4FAD40FE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41A32-8578-4261-B439-3D22AB0C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69538-DE23-4644-9556-7550E6A5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1FDBC-F631-4BD6-B063-CEF1897F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1EA50-4DBC-4DEF-BFCE-C708B4B4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68743-28C5-47DF-BAE1-75CDB805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4A6E7-77C8-4A38-A33C-27FF438A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FEDE-65A7-42F4-A253-13701696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82CA6-BF22-449A-BFDE-71D282AC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CC5EF-4907-460A-B6F9-8D2DC67B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4EE6C-9A14-4308-AA56-97230413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02C49-38DF-41E1-A79A-F911F6CD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A67F2-A7DA-4667-91E6-72A23EDC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AFA79-068B-48A5-9496-A199E1DE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F0701-7004-4BC0-8970-CF54D15D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6C98E-0695-45A1-87B3-E8E1F472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F0E7B-C2B2-4095-862E-91EDEB5E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A89F5-340B-4986-8749-7E08868C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DE41-7634-476A-AB5F-95753A90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798EB-42A7-468F-AA75-CD576990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EB652-2C9A-4095-AE18-F604AC4A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CD77B-C9A2-4445-A1E1-04FD2A2A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ABB98-9A48-43C0-9445-DC6F346A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1B2F2-7914-49ED-B12A-92577CFE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D9294-CD0D-4332-BA8F-850698EC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78837-5ADE-4B39-B33D-C95C0A4D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3466-D666-4D3D-AB66-0BCA5B200F9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1C34-D6F6-44E6-A816-0805BAC1F4CF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A243-26F2-4D92-9DB6-BE6CE4179DC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21B7-E170-4B5A-A52D-0016D4AB236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1D1F-A11D-4023-AE81-2D8F988F534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7F28-8EC3-4ABA-93DB-0304854875D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9AA4-B77D-4D87-9014-14812F1C6FD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780B-439A-42CF-AF24-D8173D3426B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EA44-2A19-42FB-9688-0332A6E5C9C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3B8F-E292-4486-8B16-79FC253E6CA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1AD4-1EC3-44F7-8E56-0ACB647F166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8A2E-1C7B-40CB-96B2-7E9A26754EC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7ACA-A650-46CE-AB09-3C6682F5189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52F7-9AC9-4D25-8AA0-B3A670A1F63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0278-BE8E-4F17-9CF0-946C862973C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3D52-7EAC-40CE-A87A-8BE93BFA605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e procédures relevant de la santé et la sécurité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oduire des supports associés aux procédures santé - sécurité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place d’activités sociales et culturel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en œuvre des actions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673C-125C-4354-A178-B26DBBD051F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5580000" y="4941720"/>
            <a:ext cx="356400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NIVEAU DE PRISE EN COMPTE DE LA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6767640" y="234936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Bouton d'action : Personnalisé 7"/>
          <p:cNvSpPr/>
          <p:nvPr/>
        </p:nvSpPr>
        <p:spPr>
          <a:xfrm>
            <a:off x="8317080" y="3789360"/>
            <a:ext cx="826920" cy="431640"/>
          </a:xfrm>
          <a:custGeom>
            <a:avLst/>
            <a:gdLst>
              <a:gd name="textAreaLeft" fmla="*/ 27720 w 826920"/>
              <a:gd name="textAreaRight" fmla="*/ 799200 w 82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1364" h="21600">
                <a:moveTo>
                  <a:pt x="0" y="0"/>
                </a:moveTo>
                <a:lnTo>
                  <a:pt x="41364" y="0"/>
                </a:lnTo>
                <a:lnTo>
                  <a:pt x="41364" y="21600"/>
                </a:lnTo>
                <a:lnTo>
                  <a:pt x="0" y="21600"/>
                </a:lnTo>
                <a:close/>
              </a:path>
              <a:path fill="lightenLess" w="41364" h="21600">
                <a:moveTo>
                  <a:pt x="0" y="0"/>
                </a:moveTo>
                <a:lnTo>
                  <a:pt x="41364" y="0"/>
                </a:lnTo>
                <a:lnTo>
                  <a:pt x="39964" y="1400"/>
                </a:lnTo>
                <a:lnTo>
                  <a:pt x="1400" y="1400"/>
                </a:lnTo>
                <a:close/>
              </a:path>
              <a:path fill="darken" w="41364" h="21600">
                <a:moveTo>
                  <a:pt x="41364" y="0"/>
                </a:moveTo>
                <a:lnTo>
                  <a:pt x="41364" y="21600"/>
                </a:lnTo>
                <a:lnTo>
                  <a:pt x="39964" y="20200"/>
                </a:lnTo>
                <a:lnTo>
                  <a:pt x="39964" y="1400"/>
                </a:lnTo>
                <a:close/>
              </a:path>
              <a:path fill="darkenLess" w="41364" h="21600">
                <a:moveTo>
                  <a:pt x="41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4" y="20200"/>
                </a:lnTo>
                <a:close/>
              </a:path>
              <a:path fill="lighten" w="41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Bouton d'action : Personnalisé 8"/>
          <p:cNvSpPr/>
          <p:nvPr/>
        </p:nvSpPr>
        <p:spPr>
          <a:xfrm>
            <a:off x="8388360" y="1773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60BC-7539-4177-953D-D32447007A5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533880" y="884160"/>
            <a:ext cx="752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1. Gestion administrative courante du personne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Tenue et suivi des dossiers salar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68360" y="1268280"/>
          <a:ext cx="8207280" cy="44643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75040"/>
              </a:tblGrid>
              <a:tr h="203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320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documentation juridique et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réglement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traits de conventions et accords collectif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èles de décla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ul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ertificats, des attest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signes de tenue des dossiers dans l’ent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u personn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registre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n matière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gestion opérationnelle du suivi de dossier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Gestion Électronique des Don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classement et d’archiv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législation du travail adaptée au secteur,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nche, statut, mé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ux types de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es de rupture du contrat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alités légales et administratives liées à l’embauche, au suivi et au départ du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bligations relatives à la médecine du travail et aux organismes soci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t procédures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venants aux contr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issions tempor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availleurs étrangers 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élé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gés spécif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mplois protég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ident du trava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cès d’un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 contrôle administr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1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 inexac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ossier déclass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ert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ossiers des personnels sont mis à jour et les formalités administratives sont réalisées dans le respect de la législation du travai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iser des dossiers de personnel dans le respect de la législation du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abilité et exhaustivité des dossiers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7" name="Bouton d'action : Document 7"/>
          <p:cNvSpPr/>
          <p:nvPr/>
        </p:nvSpPr>
        <p:spPr>
          <a:xfrm>
            <a:off x="7812000" y="566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07" h="21600">
                <a:moveTo>
                  <a:pt x="7977" y="3985"/>
                </a:moveTo>
                <a:lnTo>
                  <a:pt x="14974" y="3985"/>
                </a:lnTo>
                <a:lnTo>
                  <a:pt x="19030" y="7484"/>
                </a:lnTo>
                <a:lnTo>
                  <a:pt x="19030" y="17615"/>
                </a:lnTo>
                <a:lnTo>
                  <a:pt x="7977" y="17615"/>
                </a:lnTo>
                <a:close/>
              </a:path>
              <a:path fill="darken" w="27007" h="21600">
                <a:moveTo>
                  <a:pt x="14974" y="3985"/>
                </a:moveTo>
                <a:lnTo>
                  <a:pt x="19030" y="7484"/>
                </a:lnTo>
                <a:lnTo>
                  <a:pt x="14974" y="7484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</a:t>
            </a:r>
            <a:r>
              <a:rPr b="0" lang="fr-FR" sz="3200" spc="-1" strike="noStrike">
                <a:solidFill>
                  <a:srgbClr val="00b0f0"/>
                </a:solidFill>
                <a:latin typeface="Franklin Gothic Medium"/>
              </a:rPr>
              <a:t> 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17F3-C4CE-4738-935B-14D01071F36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60120" y="764280"/>
            <a:ext cx="919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2. Gestion administrative des ressources humaines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Participation à la mise en œuvre d’un programme d’accue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0920" y="1197000"/>
          <a:ext cx="8712000" cy="5083200"/>
        </p:xfrm>
        <a:graphic>
          <a:graphicData uri="http://schemas.openxmlformats.org/drawingml/2006/table">
            <a:tbl>
              <a:tblPr/>
              <a:tblGrid>
                <a:gridCol w="2307960"/>
                <a:gridCol w="3426120"/>
                <a:gridCol w="2977920"/>
              </a:tblGrid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5264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documentation juridique et sociale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état des entr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harte graph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intégration du personnel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rocédures d’accueil des salariés ou stagi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ispositifs d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utils de suivi des procédure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cuments composi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image de l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hésion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ulture d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structuration du document : titres, inter ti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mise en page du document : textes, images, schémas, cartes, plans, énumé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infinitif, présent de l'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formulation de consignes et conse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métier de l'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tualisation d’un document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versité des profils salariés accueil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e visite de loc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uivi et bilan d’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s manquantes ou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estions non traitées dans 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ituation non prévue dans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mise en œuvre du programme d’accueil respecte les consignes données en matière d’intégration du personne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quer 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consignes d’intégration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3" name="Bouton d'action : Document 6"/>
          <p:cNvSpPr/>
          <p:nvPr/>
        </p:nvSpPr>
        <p:spPr>
          <a:xfrm>
            <a:off x="8136000" y="508464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3"/>
                </a:moveTo>
                <a:lnTo>
                  <a:pt x="12271" y="3993"/>
                </a:lnTo>
                <a:lnTo>
                  <a:pt x="16327" y="7492"/>
                </a:lnTo>
                <a:lnTo>
                  <a:pt x="16327" y="17623"/>
                </a:lnTo>
                <a:lnTo>
                  <a:pt x="5273" y="17623"/>
                </a:lnTo>
                <a:close/>
              </a:path>
              <a:path fill="darken" w="21600" h="21615">
                <a:moveTo>
                  <a:pt x="12271" y="3993"/>
                </a:moveTo>
                <a:lnTo>
                  <a:pt x="16327" y="7492"/>
                </a:lnTo>
                <a:lnTo>
                  <a:pt x="12271" y="7492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06560" y="1267920"/>
            <a:ext cx="81374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liées à la taille et la structure de l'organisation, parfois rencontrées lors de PFMP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à fort potentiel de développement installées dans un cadre juridique robuste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onc, une évaluation en étude de cas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F0AB-BA76-422E-9806-D98EE8E6316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2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Gestion administrativ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gestionnaire administratif assure les activités nécessaires au bon déroulement de la gestion administrative des relations avec les salarié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courantes de gestion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du personnel pour tout type de contrat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ponctuell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relatives aux mouvements de personnel, à leur carrière et à leur formation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uivi administratif financier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(préparation de la paie, budgets, indicateurs)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gestion administrative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relations sociales 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176A-4715-414D-BE55-0B0970A86F0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042920" y="4419000"/>
            <a:ext cx="7274160" cy="1313640"/>
          </a:xfrm>
          <a:prstGeom prst="rect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  des délais et des consig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de la législation en vigueur et des règles et procé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4427640" y="2637000"/>
            <a:ext cx="3529080" cy="72072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26920" y="1197000"/>
            <a:ext cx="7521840" cy="38750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>
                <a:alpha val="50000"/>
              </a:srgbClr>
            </a:solidFill>
            <a:miter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Tenue et suivi des dossiers des salariés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ctualiser des dossiers de personnel dans le respect de la législation du travail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Gestion administrative des temps de trava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écompter et planifier le temps de travai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F14A-6A22-4F45-9C6A-CC3174B76D2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6767640" y="2637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FIABILITE &amp; EXHAUSTI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9700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s déplacement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éparer et contrôler des déplacemen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Transmission d’informations à destination du personnel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récier la nature et le degré de confidentialité de l’information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598C-40CF-4B2E-800A-3CA235DF39F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767640" y="4797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DE LA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6767640" y="2060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FFICACITE DU 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Bouton d'action : Personnalisé 7"/>
          <p:cNvSpPr/>
          <p:nvPr/>
        </p:nvSpPr>
        <p:spPr>
          <a:xfrm>
            <a:off x="8388360" y="3500280"/>
            <a:ext cx="792000" cy="43344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54" h="21600">
                <a:moveTo>
                  <a:pt x="0" y="0"/>
                </a:moveTo>
                <a:lnTo>
                  <a:pt x="39454" y="0"/>
                </a:lnTo>
                <a:lnTo>
                  <a:pt x="39454" y="21600"/>
                </a:lnTo>
                <a:lnTo>
                  <a:pt x="0" y="21600"/>
                </a:lnTo>
                <a:close/>
              </a:path>
              <a:path fill="lightenLess" w="39454" h="21600">
                <a:moveTo>
                  <a:pt x="0" y="0"/>
                </a:moveTo>
                <a:lnTo>
                  <a:pt x="39454" y="0"/>
                </a:lnTo>
                <a:lnTo>
                  <a:pt x="38054" y="1400"/>
                </a:lnTo>
                <a:lnTo>
                  <a:pt x="1400" y="1400"/>
                </a:lnTo>
                <a:close/>
              </a:path>
              <a:path fill="darken" w="39454" h="21600">
                <a:moveTo>
                  <a:pt x="39454" y="0"/>
                </a:moveTo>
                <a:lnTo>
                  <a:pt x="39454" y="21600"/>
                </a:lnTo>
                <a:lnTo>
                  <a:pt x="38054" y="20200"/>
                </a:lnTo>
                <a:lnTo>
                  <a:pt x="38054" y="1400"/>
                </a:lnTo>
                <a:close/>
              </a:path>
              <a:path fill="darkenLess" w="39454" h="21600">
                <a:moveTo>
                  <a:pt x="3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4" y="20200"/>
                </a:lnTo>
                <a:close/>
              </a:path>
              <a:path fill="lighten" w="3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6520" y="47628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au recrutement du personnel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aux étapes d’un recrutement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'un programme d'accue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ppliquer un programme d’accueil 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4830-716A-4B25-9134-23CA01E3C64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DE CONSI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ET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outon d'action : Personnalisé 7"/>
          <p:cNvSpPr/>
          <p:nvPr/>
        </p:nvSpPr>
        <p:spPr>
          <a:xfrm>
            <a:off x="8388360" y="1916280"/>
            <a:ext cx="792000" cy="43308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486" h="21600">
                <a:moveTo>
                  <a:pt x="0" y="0"/>
                </a:moveTo>
                <a:lnTo>
                  <a:pt x="39486" y="0"/>
                </a:lnTo>
                <a:lnTo>
                  <a:pt x="39486" y="21600"/>
                </a:lnTo>
                <a:lnTo>
                  <a:pt x="0" y="21600"/>
                </a:lnTo>
                <a:close/>
              </a:path>
              <a:path fill="lightenLess" w="39486" h="21600">
                <a:moveTo>
                  <a:pt x="0" y="0"/>
                </a:moveTo>
                <a:lnTo>
                  <a:pt x="39486" y="0"/>
                </a:lnTo>
                <a:lnTo>
                  <a:pt x="38086" y="1400"/>
                </a:lnTo>
                <a:lnTo>
                  <a:pt x="1400" y="1400"/>
                </a:lnTo>
                <a:close/>
              </a:path>
              <a:path fill="darken" w="39486" h="21600">
                <a:moveTo>
                  <a:pt x="39486" y="0"/>
                </a:moveTo>
                <a:lnTo>
                  <a:pt x="39486" y="21600"/>
                </a:lnTo>
                <a:lnTo>
                  <a:pt x="38086" y="20200"/>
                </a:lnTo>
                <a:lnTo>
                  <a:pt x="38086" y="1400"/>
                </a:lnTo>
                <a:close/>
              </a:path>
              <a:path fill="darkenLess" w="39486" h="21600">
                <a:moveTo>
                  <a:pt x="39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86" y="20200"/>
                </a:lnTo>
                <a:close/>
              </a:path>
              <a:path fill="lighten" w="39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outon d'action : Personnalisé 8"/>
          <p:cNvSpPr/>
          <p:nvPr/>
        </p:nvSpPr>
        <p:spPr>
          <a:xfrm>
            <a:off x="8388360" y="3645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22240" y="1699920"/>
            <a:ext cx="7521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carrièr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liquer à chaque cas traité les règles spécifiques de suivi de carriè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 la formation du personnel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à la form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59A2-D60B-4476-9F08-FB7B1C2207F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767640" y="5157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&amp;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6767640" y="3068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&amp; PERTIN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3. Gestion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administrativ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rémunération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budget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4360" y="1700280"/>
            <a:ext cx="7519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bulletins de salaire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et contrôler la vraisemblance des états préparatoires aux bulletins de salai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déclarations soci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des états préparatoires aux déclarations social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préparation et au suivi budgétaire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un état budgétaire et signaler les écar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8F9B-227B-43AA-B3E1-295509B004E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6767640" y="5589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767640" y="4653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2240" y="1700280"/>
            <a:ext cx="7521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obligations liées aux instances représentative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Organiser des élections et des consultations d’instances représentativ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tableaux de bord, des indicateurs sociaux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des indicateurs sociaux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F5E6-4E17-48D0-9952-91547868FEB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767640" y="508464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767640" y="3573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1T21:15:07Z</dcterms:modified>
  <cp:revision>80</cp:revision>
  <dc:subject/>
  <dc:title>Baccalauréat professionnel Gestion -- Administration</dc:title>
</cp:coreProperties>
</file>