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6EF9-E7C8-4E44-B330-5E27BDDD38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29AA-F7B4-48C1-9A28-2EF6C3F0DBA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A769-77EA-4B6D-9290-A811AF30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754-E7E7-460D-90D4-D5FE99A1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780F-B777-4D54-9F6A-AA201F40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026F-E03A-4DFE-AB38-D769AD26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4FEF-B188-4D50-B7C1-0B602DA9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9B27-C6A8-43A9-8CA9-A3DD4D29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8E3B-F7BF-48AF-93E3-DC735497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66B7-7FFC-4A5F-97A1-8DA3597F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8B62-521F-4DB9-B12C-7534F5EE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0B63-8574-4D58-AC0F-FE43AF93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0F4E-E7B2-4487-B05D-8053612B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E76-907F-4ECD-BE91-E45647A3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4EF9-2FB8-4CCB-83F8-0ADE087E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54A4-40C8-4635-AFF8-AD4DB708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2696-26EB-4494-B541-2A214BD5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C457-9A9F-49A3-AAE8-95F14F84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06E1-5AE9-4620-9FE6-3A2D586E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D945C-FC7C-40B0-907C-555BF6F5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0FE60-B785-4758-A830-3BABA205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2E84A-98FF-4151-AA2E-43C74FC2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3E497-CB82-49D5-BB8C-C7A8ED80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6C048-5DCA-41CE-AFE4-EDC1149C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25FC-2D88-445D-89B7-A2FE9A1F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E79EB-D6C6-49B3-BC99-416B1370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49190-6E36-4E47-A950-2A9370DB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144E4-C0B2-4778-ABC1-60625E47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F4BDA-8B33-4B4C-B41A-30657C1A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8D5D7-46EF-4920-A9D4-FF97DE2E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7666C-7286-4BF8-B708-2B1BB1DB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153B5-6EC5-49F2-BD9F-EE08BF8E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6AA21-BB39-40E1-B1A1-B7D30791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26BBB-DEE0-4CE9-9198-E5B806B9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CFA9D-5426-4A0A-958C-15018396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7F7-FACE-4FD7-A673-90F6166A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EE6BD-3332-41D0-8023-EA8D9F01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DBE53-D3B4-4CF5-B0E2-365D4A0B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AAD66-0D71-43AA-A008-A6A2DD4E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CEE12-8224-4AEE-A001-ECE37584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F1C3D-34CD-4F1D-9BD8-168B4AE3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22F1F-D30E-4AA7-9CE5-6D076969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F2F15-09A8-4552-A452-19E84AB5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3C2DE-AFB0-489D-98F5-1733ACA3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0BC1D-4A89-4BC0-AE9A-3AFC641A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EEA76-40BB-4174-A65D-F5D93B21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636-8E72-42AE-A11A-596CDB32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68C5B-72C0-4D11-BE8F-703639FE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29225-C184-45EF-9307-4135DDD1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27D28-62B2-4997-B26E-E2C03DCB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9251B-E56B-428C-B948-A9D8BE8A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99443-B0C4-4654-9D2E-2E8855E2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950DF-EF6E-48FC-9492-B6FC9395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A3E5E-70FE-4827-9EEE-DDD2C99D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23293-F52D-4B4B-9C7B-46F3CC2F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313C1-BAA3-45D8-BF54-D942E44A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E5192-D1C0-48FB-8E5F-BB680066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F55-AB1B-45E6-998E-6E4D8359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EFE8C-468A-463A-94DF-B1EC469E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F7FE1-9C8C-49FA-BD50-F6BEDC3E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21FF7-1EC4-42AC-8E1C-E7F61FD5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768DE-555C-46EF-B553-F6B751AE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9E32D-DE8F-484B-8361-3A60A110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64004-C42C-4B42-AC65-8EA004AC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30D58-8FC3-4679-AD34-79FF6FC8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13337-6805-4736-A7F8-B63CBCD2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A123A-FB2B-457C-8E3A-AE998B13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4B780-4CC1-4F0E-B86D-52D32161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8895-EB91-4AC2-B4EF-5C6A5882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4B8DC-8367-498A-8EF3-D457E637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224C8-DA5A-45BF-995E-1B8B1EE2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6BE0C-3DD0-4F75-BEA7-38EA6A96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7BB3D-6FF1-441A-BFB7-FD3F3FA9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3B62C-A8CC-4D41-8C6C-B4699A42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02378-B125-4EF0-8467-F0C1EC7D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F8028-FCB7-474B-94EC-A628B885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67A7D-583A-48CC-9672-EAEBBEC4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BC2A0-30E8-48C8-88E1-9ABA1F3D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10FF8-9A93-46BC-88D4-9AC01BD6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7C90-8A16-4B0C-B378-97107F49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AE712-86D7-4EE3-89D9-E9F30433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6407A-E516-460A-BBD2-EB5E3873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ABB7E-B71D-44B3-97F8-7E4B2ECA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CA378-3F15-4C3C-B7F2-EB415142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42A9E-D9A3-4CBE-A3F7-6612739D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4F314-F617-445C-891C-6A78EF66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960F5-C67C-4D26-AB75-89400346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A9D43-C132-4F9D-AF00-7888C6AF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B1EED-8D2A-4BBE-AE8C-DBFC710C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1AFAC-0E6C-4068-A450-E031A83B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6E5-2357-4FB8-849C-DB48FD30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C1B43-6A4D-472B-BF0A-64147038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462B3-E5E9-4A8D-AE2E-A8E01475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2F036-D76A-40ED-9865-5C3E45BD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5D288-4F04-4D7F-96F7-D111C71B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BCAA1-1636-46D0-AD9C-8F443F01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8BB73-6951-4867-98D6-E4228E9A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A190C-80B9-46E3-BB99-FB2DC392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AC78-B0C6-46A4-BB69-9E89E32BF4D8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763F-5A2B-4796-BD49-91258679D077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DD61-4F2F-4C0D-A07D-61220A6C6A1F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6295-F0A3-4455-8AA4-AB08A017C8A0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BE52-519D-4A4A-A441-9A9EDCB3AC6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6666-9B65-4578-9A69-2BD28F08C07E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6F27-D883-4111-91FD-C3F760C61E0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DB52-2C4C-406B-8F0D-D16B2CE41E1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FA07-A7D2-4DA3-AE9E-8C8EBBEEA68F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85C5-B6D7-4D28-BBA9-6D79FC97638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6B5E-736E-4DE6-A7F6-A6A667AF476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289C-1FA8-41C6-950F-FBA76751E45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C2B1-91EA-4674-940B-53059A13CE8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4F5F-4C7E-4CEB-8D4F-A8C6E455C3A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CB9F-6249-4B7E-8A8D-4E013FAEA589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72C7-DE1D-47D4-853C-B66CDE41941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1 – Gestion administrative des relations externe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Le gestionnaire administratif facilite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relations externes de l’organisation.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assure de manière fiable la gestion administrative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fournisseu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(prestataires compris) et les sous-traitants dans le cadre du processus achats.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veille au bon déroulement des relations administratives avec les prospects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client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donneurs d’ordre dans le cadre des processus de vente de biens et de services marchands, mais aussi de mise à disposition de biens et de services non marchands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 la prise en charge des activités de gestion administrative, il participe à la consolidation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banque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administration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et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partenaires-métie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097E-3B1B-4A4A-B1A3-A6EF4262580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1. Gestion administrative des relations avec les fournisseu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36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nue des dossiers fournisseurs et sous-traitant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ordres d’achat, des command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livraisons, des factures et suivi des anomali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valuation et suivi des stock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des règlements et traitement des litig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7EAB-00EC-42C5-B97F-A1B8620D086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2. Gestion administrative des relations avec les clients et les usag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ticipation à la gestion administrative de la prospec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enue des dossiers clients, donneurs d’ordre et usager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devis, des command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livraisons et de la factura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règlements et suivi des litig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C017-8498-4B4E-89FB-B075149113A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3. Gestion administrative des relations avec les autres partenai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 la trésorerie et des relations avec les banqu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éparation des déclarations fisc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formalités administrativ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s relations avec les partenaires-métier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0779-449E-4F9A-9505-3F64394DF1B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1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18AD-E5B4-4C9D-BDBF-2A97FB5726D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4360" y="1125360"/>
          <a:ext cx="7559640" cy="5029200"/>
        </p:xfrm>
        <a:graphic>
          <a:graphicData uri="http://schemas.openxmlformats.org/drawingml/2006/table">
            <a:tbl>
              <a:tblPr/>
              <a:tblGrid>
                <a:gridCol w="2519280"/>
                <a:gridCol w="2520720"/>
                <a:gridCol w="2519640"/>
              </a:tblGrid>
              <a:tr h="1526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7616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es fournisseurs et des donneurs d’ord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héanci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émanant des établissements financi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journaux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traitement des liti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igences, comportementales et relationnelles, fixées par l’entité vis-à-vis de ses fournisseu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et modes de règ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ôles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onversion des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rocessus automatisé des règlements aux fournisseurs avec un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lectronique des Documents (G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bligations et la responsabilité contractu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courrier de réclamation à 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interpellation du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présentation de l’ob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enchaînement des fai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argu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réf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constat, de la demande, du désaccord, de la preu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le passé composé, le futur de l'indicatif, le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tournure impersonnelle et pas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tection et rectification d’anomalies simples dans la tenue des comptes fournisseurs : saisie, imputation, codific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binaison de différents modes de règlement : escompte au comptant, échelonn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s de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s en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3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chéances non respect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 non fondée d’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 erron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ésorerie exigeant une demande de rééchelonnement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rer des règlements à des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ormité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Rectangle 1"/>
          <p:cNvSpPr/>
          <p:nvPr/>
        </p:nvSpPr>
        <p:spPr>
          <a:xfrm>
            <a:off x="376560" y="764280"/>
            <a:ext cx="839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1. Gestion administrative des relations avec les fournisseurs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1.1.5 Gestion des règlements et traitement des litiges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26560" y="907920"/>
            <a:ext cx="813780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Très étroitement lié au contexte des organisations et aux relations qu’elles entretiennent avec leurs partenaires …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et donc aux PFMP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avec, très logiquement, une évaluation en CCF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BD8D-AB3E-4373-85F6-214837F0279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01:29Z</dcterms:modified>
  <cp:revision>16</cp:revision>
  <dc:subject/>
  <dc:title>Baccalauréat professionnel Gestion -- Administration</dc:title>
</cp:coreProperties>
</file>