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DC7F-91AC-45D5-9258-40CE5F94AE0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315E-3E4B-4233-A537-41020E01888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6BF5-1457-475C-8112-59602723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1AB2-525A-4D70-8FC0-C6E211F8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834F-F931-4686-9F56-1336326E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84EB-45D6-4239-BB3C-58D9F8B5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0F84-F66B-4180-AADD-A78891FC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15E2-5237-4EC4-A7BC-011EC332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1040-9FDF-4303-AD91-F9AFAA9A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9E36-DB3A-47E8-B5F5-327424CB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D9B4-3AC2-4426-894F-7C21B777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D492-0C31-443E-9BC1-CBFE4595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64FF-1670-41A1-BC62-87A8DF26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CD50-6B19-4D0C-B64C-56DDC0FE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B58F-0C36-4838-BB21-42D8A6E4A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Le BEP Métiers des services administrati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Diagramme 4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80840" y="9540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Tâches et attendus RAP BEP M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ject 7" descr=""/>
          <p:cNvPicPr/>
          <p:nvPr/>
        </p:nvPicPr>
        <p:blipFill>
          <a:blip r:embed="rId1"/>
          <a:stretch/>
        </p:blipFill>
        <p:spPr>
          <a:xfrm>
            <a:off x="123840" y="1000080"/>
            <a:ext cx="8894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re 1"/>
          <p:cNvSpPr/>
          <p:nvPr/>
        </p:nvSpPr>
        <p:spPr>
          <a:xfrm>
            <a:off x="428760" y="317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Rapprochement avec les épreuves du BEP M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ject 5" descr=""/>
          <p:cNvPicPr/>
          <p:nvPr/>
        </p:nvPicPr>
        <p:blipFill>
          <a:blip r:embed="rId1"/>
          <a:stretch/>
        </p:blipFill>
        <p:spPr>
          <a:xfrm>
            <a:off x="225360" y="1000080"/>
            <a:ext cx="880128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Attache du BEP MSA à une classe de situ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Object 17" descr=""/>
          <p:cNvPicPr/>
          <p:nvPr/>
        </p:nvPicPr>
        <p:blipFill>
          <a:blip r:embed="rId1"/>
          <a:stretch/>
        </p:blipFill>
        <p:spPr>
          <a:xfrm>
            <a:off x="284040" y="1292400"/>
            <a:ext cx="873468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Zoom sur une sit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oneTexte 2"/>
          <p:cNvSpPr/>
          <p:nvPr/>
        </p:nvSpPr>
        <p:spPr>
          <a:xfrm>
            <a:off x="457200" y="12952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.1. Gestion administrative des relations avec les fournisse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tuation : </a:t>
            </a:r>
            <a:r>
              <a:rPr b="1" lang="fr-FR" sz="1800" spc="-1" strike="noStrike">
                <a:solidFill>
                  <a:srgbClr val="b2181c"/>
                </a:solidFill>
                <a:latin typeface="Calibri"/>
              </a:rPr>
              <a:t>1.1.5- Gestion des règlements et traitement des liti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286000"/>
          <a:ext cx="8610840" cy="3463920"/>
        </p:xfrm>
        <a:graphic>
          <a:graphicData uri="http://schemas.openxmlformats.org/drawingml/2006/table">
            <a:tbl>
              <a:tblPr/>
              <a:tblGrid>
                <a:gridCol w="1922760"/>
                <a:gridCol w="2085840"/>
                <a:gridCol w="4602240"/>
              </a:tblGrid>
              <a:tr h="25416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du bac 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che BEP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BEP 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rowSpan="4"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T2 -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 Saisie et mise en forme de courriers, de notes, des comptes-rend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s documents sont réalisés dans le respect des normes de présentation avec une bonne lisibilit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5 -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, contrôle et codification des doc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informations manipulées sont mises à jour, les données saisies exactes et les résultats f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3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ise à jour et rangement des dossi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dossiers sont ordonnés et leur contenu actualis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R3 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- Restitution vers le supérieur hiérarchique du travail réalisé, des problèmes rencontr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 supérieur hiérarchique est informé du résultat de la tâche confiée et des difficultés rencontré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4:25:37Z</dcterms:created>
  <dc:creator>Isa</dc:creator>
  <dc:description/>
  <cp:keywords/>
  <dc:language>en-US</dc:language>
  <cp:lastModifiedBy>Edith Simon</cp:lastModifiedBy>
  <dcterms:modified xsi:type="dcterms:W3CDTF">2011-10-25T19:13:03Z</dcterms:modified>
  <cp:revision>40</cp:revision>
  <dc:subject/>
  <dc:title>Rattachement BEP MSA</dc:title>
</cp:coreProperties>
</file>