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4C293-4C1E-45E8-BCED-9116B69CF2C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2E6DF-6F25-499F-9C3C-8C46B6C6224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35A7-CCA8-4E8B-8F3C-FC467B786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8717-0F4C-4725-83F1-644495035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8495-1FDD-4F90-BF09-6F7BCC90A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6FE6-C56C-4741-A778-097702645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9CC41-AC0D-4525-8922-A229A5274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B87A2-6042-475D-855F-8190FA533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6DBA5-A926-430A-8D25-09155DBBC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9F1AA-4FF6-4BD4-8C72-433F8BB50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03DCC-0FCF-43D4-8BE7-9A33136A9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E308F-CF5D-454E-A14B-55FF73DEC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E2617-F46B-4028-B826-7D0F040D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4258-3961-49EC-82B9-2E97D7069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4FACF-2D9A-42E6-A038-B4DB4A45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93E7F-A66E-41DC-BA02-0B79D0EE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4713D-B61C-4A7D-844B-06D05BE5B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DCFD4-1290-48D5-8A2B-D731D236A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3E1A1-E404-457B-9718-B45C18164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1F910-61FF-404C-8B85-F896290CC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74D5C-AC96-4A39-895A-3D13C4A70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5D30A-E36C-442B-823D-E6C228083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D0852-F817-49C3-A49F-7D248696A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4750F-D08D-46D6-95E6-7C40616EF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C78F-D88F-4B46-87B5-B5696DBDE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5F9AA-4338-43F0-A353-51CA49A1B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F00A4-8F16-4C1D-A377-292A2F8A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26BCF-1A66-4C06-AA99-4F609166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0A16A-86B3-4960-91C0-67E661AF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F631C-7464-47E3-9586-E8AA21342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7F634-B55A-4167-B1BE-927006FCC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55636-7183-4032-8587-502F4C70B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A3758-6111-46C0-87B7-02AF66DD0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4D557-E629-4C62-93EC-1451810D1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18DB8-B289-4C9F-97C9-004D076EE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72AC-FDF1-4466-BBA8-DA90F45A7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AE1A3-4166-473B-921B-97BDC7AF4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83919-2E8B-4305-98D1-4CBF8849C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B5E2B-5EC1-41EC-9BE0-A60202D30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EB7BA-F29A-479F-8A9C-718693F7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5B224-CCFF-43F0-A62F-25CC3BA0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42810-8EFF-471D-BDB7-931F4453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F9D17-ECED-492A-8564-5E8DEE5C3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B0197-D8B0-4EFE-8DCD-4E1B894C2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5D697-35BD-4655-BD32-81719AC08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B66CE-CC34-43C3-9FF9-4FD1D9140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546E-3046-4523-BE81-30125723A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02FEE-B0E4-4BE9-B9B1-C7146404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C6F0E-7AC4-4674-9DBA-A06E090D0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75226-E978-451E-9027-68B5EE970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78AC8-1EF6-4699-9AD3-46D6B3894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BE7BC-E6AC-4D52-9B12-5A3A1E4F7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0CA2D-2C59-42AC-BEF6-7FF26644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BF2C1-D71A-4DF5-9A54-9E6F2517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4512A-FC60-4FF2-88F6-338174FF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AC4E3-D150-4357-9C4E-9A3712CB8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60691-C945-4755-B2A1-B2261D582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2A35-97B4-42A5-B0B5-D3CE45A59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C752B-F2DE-4ACB-8BB9-90217676F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0AA1C-0554-45D2-A917-30201351C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BA663-F7B7-43C4-B02C-6E020637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15706B-2353-4368-AB2F-3BC571A88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55F83-0601-4785-9B25-314449984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68637-18B1-4E9F-B3DE-CF45ACA1E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DFB1A-1BB6-4A67-9D3B-304082948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415C8-39FD-4DD3-BE6A-37BB9A10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C9CC16-0358-4F8C-A698-35C83906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3D14A-C4DE-4FE1-9F72-456A2E27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6BA3-3510-4D56-954E-28976565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A41AA-FD42-47AE-88FD-1627091D9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5BF16-3B3C-4975-A778-2ABD836C6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4D54C-BED2-45D6-80C6-E8CE964FF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7FFC0-EBA5-495F-9ADF-8CBAA6E16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E7799-855A-4538-84BF-38D774BF7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3E796-24EE-4C55-8772-A2A93165F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800DC-721E-46C5-A8BC-B73B48D02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A472D7-62D0-487D-9075-2FB9CDA4A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7BB9D-89FB-40ED-810A-C94B0E573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39B5E-5F5B-45A6-9452-DFC15383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C99A-52A9-40B1-AE36-DFF63DC6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478E53-174A-4A18-8D6C-6C2E1A9F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EF6B2A-A8C1-4416-A1E8-E294F813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1B2CE-CEA9-4122-9841-378802E8F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12A65-6CA0-4833-B22E-81606195B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B2CF6A-34E7-4B2E-A4D3-4D5034137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B0533-67B0-4524-9D03-FFCD86A5A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898715-04EC-4493-9C44-7E4BCEBAA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71E799-A8D4-4FCB-8A8D-9E071DF9D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C8896D-5C87-415C-AC72-90127246B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D088B6-2A43-44EA-9EBC-FB88926DB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F7CE-A14E-4081-8CDD-1B8BF295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02AE06-C33B-4DAC-9CD6-8010C5727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EFC6CC-0852-4C95-98E7-54885B8C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4F7D49-94A8-49AE-BF04-2DF77DD4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2BA5C3-0954-4EAC-BACE-4A5E7D8A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73A8B-EBF5-4FBD-AE9B-0D2A1C08C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621E68-8BD8-4C66-A3DE-72CC4AE1B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969A37-C99C-48E6-85F8-FE7DCA724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550C4-E9BD-444B-8A7B-9E857DA8764F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261D0-EC2F-4AB5-9247-D45A97E5A380}" type="slidenum"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DEF35-E66F-4900-8964-567E24C6E093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D2501-E11F-4FE6-8DC1-A53AB74EED06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r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4E164-0927-43E4-823F-B1B1461B77D5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9ECB0-5E9B-4A90-9962-EBE66653316C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ECCF1-7419-4A19-987F-4C5B2C3FB9DA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A71CE-120B-4820-93D0-F0CF8C014C22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99967-8E22-40DE-A999-FA46480361AE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AC2A5-A51B-421B-AF69-C3A690F78ED6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8E501-EB30-4051-BD49-7373E714FAD1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07733-F60D-437A-B025-EAE83A55B3FA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DB6E1-5DA8-4229-B392-755C284F7FE2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D7517-3E87-4491-A146-2DAD8CE24E61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498D0-90E6-4F14-8921-74F91A7D7795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AC7C5-C284-4E3F-B31A-9588004CC8CE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Baccalauréat professionnel</a:t>
            </a:r>
            <a:br>
              <a:rPr sz="3600"/>
            </a:br>
            <a:r>
              <a:rPr b="0" lang="fr-FR" sz="4000" spc="-1" strike="noStrike">
                <a:solidFill>
                  <a:srgbClr val="c00000"/>
                </a:solidFill>
                <a:latin typeface="Franklin Gothic Medium"/>
              </a:rPr>
              <a:t>Gestion -- Administration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3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4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ôle 1 – Gestion administrative des relations externes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7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8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755280" y="549360"/>
            <a:ext cx="7521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Le gestionnaire administratif facilite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relations externes de l’organisation.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 </a:t>
            </a: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Il assure de manière fiable la gestion administrative des relations avec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fournisseurs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 (prestataires compris) et les sous-traitants dans le cadre du processus achats. </a:t>
            </a: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Il veille au bon déroulement des relations administratives avec les prospects,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clients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, les donneurs d’ordre dans le cadre des processus de vente de biens et de services marchands, mais aussi de mise à disposition de biens et de services non marchands.</a:t>
            </a: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 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Par la prise en charge des activités de gestion administrative, il participe à la consolidation des relations avec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banques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,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administrations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 et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partenaires-métiers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.</a:t>
            </a: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F3C05-17E0-4837-8DA4-867EC92B592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1.1. Gestion administrative des relations avec les fournisseur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822240" y="1100160"/>
            <a:ext cx="752184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2365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23652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Tenue des dossiers fournisseurs et sous-traitant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23652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Traitement des ordres d’achat, des commandes 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23652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Traitement des livraisons, des factures et suivi des anomali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23652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Évaluation et suivi des stock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23652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Gestion des règlements et traitement des litig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CA311-6A18-431D-95A0-1036198B4DD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1.2. Gestion administrative des relations avec les clients et les usager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822240" y="1699920"/>
            <a:ext cx="75218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7440" indent="-1620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Participation à la gestion administrative de la prospection</a:t>
            </a:r>
            <a:endParaRPr b="0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7440" indent="-1620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Tenue des dossiers clients, donneurs d’ordre et usagers</a:t>
            </a:r>
            <a:endParaRPr b="0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7440" indent="-1620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Traitement des devis, des commandes</a:t>
            </a:r>
            <a:endParaRPr b="0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7440" indent="-1620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Traitement des livraisons et de la facturation</a:t>
            </a:r>
            <a:endParaRPr b="0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7440" indent="-1620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Traitement des règlements et suivi des litiges</a:t>
            </a:r>
            <a:endParaRPr b="0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8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9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0D570-8DB2-47B2-90CB-67320786337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1.3. Gestion administrative des relations avec les autres partenair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Suivi de la trésorerie et des relations avec les banqu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Préparation des déclarations fiscal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Traitement des formalités administrativ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Suivi des relations avec les partenaires-métier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2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3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A2806-97EE-4062-9243-F2D31659945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22240" y="18864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 exemple de situation du pôle 1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5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6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5D9B3-3F85-46C2-BC3B-651DE03C1E4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4360" y="1125360"/>
          <a:ext cx="7559640" cy="5029200"/>
        </p:xfrm>
        <a:graphic>
          <a:graphicData uri="http://schemas.openxmlformats.org/drawingml/2006/table">
            <a:tbl>
              <a:tblPr/>
              <a:tblGrid>
                <a:gridCol w="2519280"/>
                <a:gridCol w="2520720"/>
                <a:gridCol w="2519640"/>
              </a:tblGrid>
              <a:tr h="15264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nées de la sit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associ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formance attend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676160"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nnées comptables et commerciales de l’organisatio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ssiers des fournisseurs et des donneurs d’ord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échéanci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informations émanant des établissements financier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journaux de trésorer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océdures de règl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océdures de traitement des litig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exigences, comportementales et relationnelles, fixées par l’entité vis-à-vis de ses fournisseur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- Un environnement numérique de travail de type P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de gestion et savoirs technolog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moyens et modes de règl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ontrôles de trésorer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conversion des devi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 processus automatisé des règlements aux fournisseurs avec un P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Électronique des Documents (G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juridiques et économ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obligations et la responsabilité contractuel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Savoirs rédactionn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- Lecture et écriture d’un genre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 courrier de réclamation à un fournisse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- Procédés d’écri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’interpellation du fournisse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présentation de l’obj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’enchaînement des fait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’argumen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réfu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 lexique du constat, de la demande, du désaccord, de la preu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s temps et modes des verbes : le passé composé, le futur de l'indicatif, le conditionn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tournure impersonnelle et pass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x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étection et rectification d’anomalies simples dans la tenue des comptes fournisseurs : saisie, imputation, codificat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mbinaison de différents modes de règlement : escompte au comptant, échelonn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éclamations de fournisseu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èglements en devi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43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é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Échéances non respecté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éclamation non fondée d’un fournisse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èglement erron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Trésorerie exigeant une demande de rééchelonnement des règl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ét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ère d’éval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sultats attendu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règlements aux fournisseurs sont suivis et les litiges sont traités dans la limite des responsabilités impart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surer des règlements à des fournisseu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formité des règl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8" name="Rectangle 1"/>
          <p:cNvSpPr/>
          <p:nvPr/>
        </p:nvSpPr>
        <p:spPr>
          <a:xfrm>
            <a:off x="376560" y="764280"/>
            <a:ext cx="8390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 1.1. Gestion administrative des relations avec les fournisseurs</a:t>
            </a:r>
            <a:r>
              <a:rPr b="1" lang="fr-FR" sz="1000" spc="-1" strike="noStrike">
                <a:solidFill>
                  <a:srgbClr val="4f81bd"/>
                </a:solidFill>
                <a:latin typeface="Arial"/>
                <a:ea typeface="Times New Roman"/>
              </a:rPr>
              <a:t>	</a:t>
            </a:r>
            <a:r>
              <a:rPr b="1" lang="fr-FR" sz="1200" spc="-1" strike="noStrike">
                <a:solidFill>
                  <a:srgbClr val="3b81bd"/>
                </a:solidFill>
                <a:latin typeface="Arial"/>
                <a:ea typeface="Times New Roman"/>
              </a:rPr>
              <a:t>1.1.5 Gestion des règlements et traitement des litiges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Quelques caractéristiques de ce pôl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826560" y="907920"/>
            <a:ext cx="813780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Très étroitement lié au contexte des organisations et aux relations qu’elles entretiennent avec leurs partenaires …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… </a:t>
            </a: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et donc aux PFMP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… </a:t>
            </a: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avec, très logiquement, une évaluation en CCF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1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2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59ECF-66AA-46E1-A3D4-79C4651B975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2:04:16Z</dcterms:created>
  <dc:creator>Martine Deconinck</dc:creator>
  <dc:description/>
  <dc:language>en-US</dc:language>
  <cp:lastModifiedBy>Edith Simon</cp:lastModifiedBy>
  <dcterms:modified xsi:type="dcterms:W3CDTF">2011-10-25T19:01:29Z</dcterms:modified>
  <cp:revision>16</cp:revision>
  <dc:subject/>
  <dc:title>Baccalauréat professionnel Gestion -- Administration</dc:title>
</cp:coreProperties>
</file>