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5411-9751-4638-92B3-A38D218EC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4C70-B0C4-4E90-A4C0-AB0B1E465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5EA0-0F26-40BF-A2E2-92BEB9691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03B9-86BE-487D-9EBB-87BA614FB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F5AF1-66D9-4137-9FCC-01AB4D8A2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9AE8B-9BA3-4728-BBF4-FA7D496D5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4BC32-480A-4688-AAE3-564D780B7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44BFC-8CD8-46EC-8930-ACE90A38C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68516-5008-41B3-B1AF-551938711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56923-D02A-4E17-8DCC-ECBA5A69F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B73FE-264C-48A2-AAA6-84E44064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AD8C-299A-40CB-AD89-EC2E1A409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89C7B-AA44-4AE0-8373-3E627789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9C054-2776-4279-AD2B-2BB2FF66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3358F-9F62-45E9-A868-0EDF2EC28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C0667-1783-4E64-B969-ED31C3CBB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DFD6F-6887-4505-AB5D-7A509686E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60625-56DD-4E8C-91F0-7B147E9E1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E4459-3D9C-4096-A558-4C732D4F8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65207-C9AB-434E-82C1-BD82E3732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41AD4-BA7F-44D4-B6B6-927C7402D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21BD7-7930-4FE0-8CBE-7A04ECE8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999D-015C-47F4-B636-F5CF8FB20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9E2E6-58D2-46C9-80A7-CE266A273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A8B0B-5846-4F68-8F6A-3FA16D17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EAC38-851A-45B7-9A5A-88279FFC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5ED21-60D9-413D-B75E-F9D56C6C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75912-4108-4DCC-98AA-C900D964A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B7AED-ACC6-4BF9-9606-BA49A61B1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9548F-A7AD-425F-9074-450CEE7A0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7E70C-395F-4025-A495-0ECCD6B38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19068-72D3-48DF-A386-B57823ED9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5C6E9-E092-4F86-9304-0D294DEFA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52FB-BADF-45A5-A321-4C1FC245D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795E8-ADF4-4924-8FB5-091BBBF7B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BAE77-D60E-4E14-8619-F7FC11A4F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58F90-633D-4972-A892-817D9C49E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48C59-93B8-4469-A797-313FE492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41821-771A-4BED-AB7D-7DB2C8DC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EFC6C-9276-44A1-9BE2-D9F10ABD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30172-4495-4620-A4CA-03115806C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99A2A-E85B-41EC-9FD7-325F6D2A8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F339E-EF06-40A0-B6AC-E09A38BF8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2BE95-8F33-4DF4-BDD4-7323F9300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082F-633B-4C02-861D-508AB06E8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9A83F-DAF3-46A7-84DF-CE6DF3FDE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C0705-0FE0-401E-99AD-9F75841A9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D7091-A4BF-4703-A0E3-3C5A47C7D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B2DD4-867B-4D7E-94C3-8DEA42CF5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AFE00-8337-4028-B998-A8280E116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857F2-C390-4A19-AAA2-CE9D5F29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AC854-F3F9-4175-A1C5-C5789906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AA311-8887-4725-8265-3A8F9159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A2955D-B18D-4FC3-87A9-644255280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47646-1C5A-4C89-A49B-05D777FB7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1644-F601-4FD9-959E-5C0B156FE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0B395-6108-425E-B987-05891792D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4F7F-ECCD-4B06-BD51-07E48092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0A39-8B2B-4C5E-950E-AA4CEFA6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139D-8820-4284-8F57-87455AEF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917D3-C259-45F1-9DF8-DC4EB3A0B3F1}" type="slidenum">
              <a:rPr b="0" lang="fr-FR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D05B7-5CE8-4BCE-BBA6-A84DAA86B7EF}" type="slidenum">
              <a:rPr b="0" lang="fr-FR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2F8C6-E79C-4027-8F86-8C1688BD5BD2}" type="slidenum">
              <a:rPr b="0" lang="fr-FR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traight Connector 10"/>
          <p:cNvSpPr/>
          <p:nvPr/>
        </p:nvSpPr>
        <p:spPr>
          <a:xfrm>
            <a:off x="7588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traight Connector 12"/>
          <p:cNvSpPr/>
          <p:nvPr/>
        </p:nvSpPr>
        <p:spPr>
          <a:xfrm>
            <a:off x="46450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0E90E-345D-4EFE-AFC9-6358363DDDC9}" type="slidenum">
              <a:rPr b="0" lang="fr-FR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traight Connector 9"/>
          <p:cNvSpPr/>
          <p:nvPr/>
        </p:nvSpPr>
        <p:spPr>
          <a:xfrm flipH="1">
            <a:off x="3580920" y="611280"/>
            <a:ext cx="1800" cy="3809880"/>
          </a:xfrm>
          <a:prstGeom prst="line">
            <a:avLst/>
          </a:prstGeom>
          <a:ln w="15840">
            <a:solidFill>
              <a:srgbClr val="9898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0789D-6743-454D-8A9A-485FA45C2269}" type="slidenum">
              <a:rPr b="0" lang="fr-FR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31.png"/><Relationship Id="rId16" Type="http://schemas.openxmlformats.org/officeDocument/2006/relationships/image" Target="../media/image32.png"/><Relationship Id="rId17" Type="http://schemas.openxmlformats.org/officeDocument/2006/relationships/image" Target="../media/image33.pn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26600" y="4652640"/>
            <a:ext cx="7777080" cy="15080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ctr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Centre de ressources pour l'enseignement professionnel </a:t>
            </a:r>
            <a:br>
              <a:rPr sz="2400"/>
            </a:b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en économie-gestion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www.cerpeg.ac-versailles.fr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pic>
        <p:nvPicPr>
          <p:cNvPr id="219" name="Rectangle 5" descr=""/>
          <p:cNvPicPr/>
          <p:nvPr/>
        </p:nvPicPr>
        <p:blipFill>
          <a:blip r:embed="rId2"/>
          <a:stretch/>
        </p:blipFill>
        <p:spPr>
          <a:xfrm>
            <a:off x="3687840" y="1116000"/>
            <a:ext cx="517500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sp>
        <p:nvSpPr>
          <p:cNvPr id="221" name="Espace réservé du contenu 2"/>
          <p:cNvSpPr/>
          <p:nvPr/>
        </p:nvSpPr>
        <p:spPr>
          <a:xfrm>
            <a:off x="755640" y="1844640"/>
            <a:ext cx="741672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Un des cinq centres de ressources du dispositif national en économie-gestion pour la formation continue des enseigna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Réseau pédagogique mis en place par la direction générale de l'enseignement scolaire (DGESCO) selon des orientations proposées par l'inspection génér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Sous la responsabilité d’un IG : Didier Mich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Espace réservé du pied de page 4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Espace réservé de la date 5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3"/>
          <p:cNvSpPr/>
          <p:nvPr/>
        </p:nvSpPr>
        <p:spPr>
          <a:xfrm>
            <a:off x="611280" y="1989000"/>
            <a:ext cx="7921440" cy="31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2880" indent="-272880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Destiné principalement aux professeurs d'économie gestion de lycée professio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Pour les formations des niveaux IV et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Dans les domaines de la gestion et de l’économie dro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Espace réservé du pied de page 1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Espace réservé de la date 5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sp>
        <p:nvSpPr>
          <p:cNvPr id="229" name="ZoneTexte 3"/>
          <p:cNvSpPr/>
          <p:nvPr/>
        </p:nvSpPr>
        <p:spPr>
          <a:xfrm>
            <a:off x="468360" y="2060640"/>
            <a:ext cx="7529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Il s'appuie sur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6840" indent="-228600">
              <a:lnSpc>
                <a:spcPct val="100000"/>
              </a:lnSpc>
              <a:buClr>
                <a:srgbClr val="c80064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Un </a:t>
            </a:r>
            <a:r>
              <a:rPr b="1" lang="fr-FR" sz="2400" spc="-1" strike="noStrike">
                <a:solidFill>
                  <a:srgbClr val="c80064"/>
                </a:solidFill>
                <a:latin typeface="Calibri"/>
              </a:rPr>
              <a:t>réseau de profess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c8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79560" indent="-342720">
              <a:lnSpc>
                <a:spcPct val="100000"/>
              </a:lnSpc>
              <a:buClr>
                <a:srgbClr val="c80064"/>
              </a:buClr>
              <a:buFont typeface="Wingdings" charset="2"/>
              <a:buChar char="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otivés par l’innovation pédagog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79560" indent="-342720">
              <a:lnSpc>
                <a:spcPct val="100000"/>
              </a:lnSpc>
              <a:buClr>
                <a:srgbClr val="c80064"/>
              </a:buClr>
              <a:buFont typeface="Wingdings" charset="2"/>
              <a:buChar char="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enant des expériences dans leurs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79560" indent="-342720">
              <a:lnSpc>
                <a:spcPct val="100000"/>
              </a:lnSpc>
              <a:buClr>
                <a:srgbClr val="c80064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6840" indent="-228600">
              <a:lnSpc>
                <a:spcPct val="100000"/>
              </a:lnSpc>
              <a:buClr>
                <a:srgbClr val="c80064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Un </a:t>
            </a:r>
            <a:r>
              <a:rPr b="1" lang="fr-FR" sz="2400" spc="-1" strike="noStrike">
                <a:solidFill>
                  <a:srgbClr val="c80064"/>
                </a:solidFill>
                <a:latin typeface="Calibri"/>
              </a:rPr>
              <a:t>comité de pilo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Espace réservé du pied de page 1"/>
          <p:cNvSpPr/>
          <p:nvPr/>
        </p:nvSpPr>
        <p:spPr>
          <a:xfrm>
            <a:off x="684360" y="6208560"/>
            <a:ext cx="4951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Calibri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Espace réservé de la date 4"/>
          <p:cNvSpPr/>
          <p:nvPr/>
        </p:nvSpPr>
        <p:spPr>
          <a:xfrm>
            <a:off x="6248520" y="6208560"/>
            <a:ext cx="2139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Calibri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grpSp>
        <p:nvGrpSpPr>
          <p:cNvPr id="233" name="Groupe 5"/>
          <p:cNvGrpSpPr/>
          <p:nvPr/>
        </p:nvGrpSpPr>
        <p:grpSpPr>
          <a:xfrm>
            <a:off x="1130400" y="1235160"/>
            <a:ext cx="4103640" cy="2843280"/>
            <a:chOff x="1130400" y="1235160"/>
            <a:chExt cx="4103640" cy="2843280"/>
          </a:xfrm>
        </p:grpSpPr>
        <p:grpSp>
          <p:nvGrpSpPr>
            <p:cNvPr id="234" name="Ellipse 26"/>
            <p:cNvGrpSpPr/>
            <p:nvPr/>
          </p:nvGrpSpPr>
          <p:grpSpPr>
            <a:xfrm>
              <a:off x="1130400" y="1235160"/>
              <a:ext cx="4103640" cy="2843280"/>
              <a:chOff x="1130400" y="1235160"/>
              <a:chExt cx="4103640" cy="2843280"/>
            </a:xfrm>
          </p:grpSpPr>
          <p:pic>
            <p:nvPicPr>
              <p:cNvPr id="235" name="Ellipse 26" descr=""/>
              <p:cNvPicPr/>
              <p:nvPr/>
            </p:nvPicPr>
            <p:blipFill>
              <a:blip r:embed="rId3"/>
              <a:stretch/>
            </p:blipFill>
            <p:spPr>
              <a:xfrm>
                <a:off x="1130400" y="1235160"/>
                <a:ext cx="4103640" cy="284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" name=""/>
              <p:cNvSpPr/>
              <p:nvPr/>
            </p:nvSpPr>
            <p:spPr>
              <a:xfrm>
                <a:off x="1750680" y="1667880"/>
                <a:ext cx="2869200" cy="198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Groupe 2"/>
            <p:cNvGrpSpPr/>
            <p:nvPr/>
          </p:nvGrpSpPr>
          <p:grpSpPr>
            <a:xfrm>
              <a:off x="1695240" y="2068560"/>
              <a:ext cx="1292400" cy="418680"/>
              <a:chOff x="1695240" y="2068560"/>
              <a:chExt cx="1292400" cy="418680"/>
            </a:xfrm>
          </p:grpSpPr>
          <p:pic>
            <p:nvPicPr>
              <p:cNvPr id="238" name="Rectangle 28" descr=""/>
              <p:cNvPicPr/>
              <p:nvPr/>
            </p:nvPicPr>
            <p:blipFill>
              <a:blip r:embed="rId4"/>
              <a:stretch/>
            </p:blipFill>
            <p:spPr>
              <a:xfrm>
                <a:off x="1866960" y="2186640"/>
                <a:ext cx="927360" cy="27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9" name="Rectangle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1695240" y="2068560"/>
                <a:ext cx="1292400" cy="418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40" name="Groupe 10"/>
          <p:cNvGrpSpPr/>
          <p:nvPr/>
        </p:nvGrpSpPr>
        <p:grpSpPr>
          <a:xfrm>
            <a:off x="3817800" y="1338120"/>
            <a:ext cx="4104000" cy="2907000"/>
            <a:chOff x="3817800" y="1338120"/>
            <a:chExt cx="4104000" cy="2907000"/>
          </a:xfrm>
        </p:grpSpPr>
        <p:grpSp>
          <p:nvGrpSpPr>
            <p:cNvPr id="241" name="Ellipse 22"/>
            <p:cNvGrpSpPr/>
            <p:nvPr/>
          </p:nvGrpSpPr>
          <p:grpSpPr>
            <a:xfrm>
              <a:off x="3817800" y="1338120"/>
              <a:ext cx="4104000" cy="2907000"/>
              <a:chOff x="3817800" y="1338120"/>
              <a:chExt cx="4104000" cy="2907000"/>
            </a:xfrm>
          </p:grpSpPr>
          <p:pic>
            <p:nvPicPr>
              <p:cNvPr id="242" name="Ellipse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3817800" y="1338120"/>
                <a:ext cx="4104000" cy="29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3" name=""/>
              <p:cNvSpPr/>
              <p:nvPr/>
            </p:nvSpPr>
            <p:spPr>
              <a:xfrm>
                <a:off x="4437360" y="1779840"/>
                <a:ext cx="2869560" cy="202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Groupe 7"/>
            <p:cNvGrpSpPr/>
            <p:nvPr/>
          </p:nvGrpSpPr>
          <p:grpSpPr>
            <a:xfrm>
              <a:off x="6464880" y="2172240"/>
              <a:ext cx="931680" cy="418320"/>
              <a:chOff x="6464880" y="2172240"/>
              <a:chExt cx="931680" cy="418320"/>
            </a:xfrm>
          </p:grpSpPr>
          <p:pic>
            <p:nvPicPr>
              <p:cNvPr id="245" name="Rectangle 24" descr=""/>
              <p:cNvPicPr/>
              <p:nvPr/>
            </p:nvPicPr>
            <p:blipFill>
              <a:blip r:embed="rId7"/>
              <a:stretch/>
            </p:blipFill>
            <p:spPr>
              <a:xfrm>
                <a:off x="6571080" y="2289960"/>
                <a:ext cx="696600" cy="2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6" name="Rectangle 25" descr=""/>
              <p:cNvPicPr/>
              <p:nvPr/>
            </p:nvPicPr>
            <p:blipFill>
              <a:blip r:embed="rId8"/>
              <a:stretch/>
            </p:blipFill>
            <p:spPr>
              <a:xfrm>
                <a:off x="6464880" y="2172240"/>
                <a:ext cx="931680" cy="418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47" name="Groupe 15"/>
          <p:cNvGrpSpPr/>
          <p:nvPr/>
        </p:nvGrpSpPr>
        <p:grpSpPr>
          <a:xfrm>
            <a:off x="1092240" y="3032280"/>
            <a:ext cx="3836880" cy="2989080"/>
            <a:chOff x="1092240" y="3032280"/>
            <a:chExt cx="3836880" cy="2989080"/>
          </a:xfrm>
        </p:grpSpPr>
        <p:grpSp>
          <p:nvGrpSpPr>
            <p:cNvPr id="248" name="Ellipse 18"/>
            <p:cNvGrpSpPr/>
            <p:nvPr/>
          </p:nvGrpSpPr>
          <p:grpSpPr>
            <a:xfrm>
              <a:off x="1176480" y="3032280"/>
              <a:ext cx="3752640" cy="2803320"/>
              <a:chOff x="1176480" y="3032280"/>
              <a:chExt cx="3752640" cy="2803320"/>
            </a:xfrm>
          </p:grpSpPr>
          <p:pic>
            <p:nvPicPr>
              <p:cNvPr id="249" name="Ellipse 18" descr=""/>
              <p:cNvPicPr/>
              <p:nvPr/>
            </p:nvPicPr>
            <p:blipFill>
              <a:blip r:embed="rId9"/>
              <a:stretch/>
            </p:blipFill>
            <p:spPr>
              <a:xfrm>
                <a:off x="1176480" y="3032280"/>
                <a:ext cx="3752640" cy="280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>
                <a:off x="1744920" y="3462840"/>
                <a:ext cx="2620800" cy="194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Groupe 12"/>
            <p:cNvGrpSpPr/>
            <p:nvPr/>
          </p:nvGrpSpPr>
          <p:grpSpPr>
            <a:xfrm>
              <a:off x="1092240" y="4744800"/>
              <a:ext cx="3422880" cy="1276560"/>
              <a:chOff x="1092240" y="4744800"/>
              <a:chExt cx="3422880" cy="1276560"/>
            </a:xfrm>
          </p:grpSpPr>
          <p:pic>
            <p:nvPicPr>
              <p:cNvPr id="252" name="Rectangle 20" descr=""/>
              <p:cNvPicPr/>
              <p:nvPr/>
            </p:nvPicPr>
            <p:blipFill>
              <a:blip r:embed="rId10"/>
              <a:stretch/>
            </p:blipFill>
            <p:spPr>
              <a:xfrm>
                <a:off x="1695960" y="4744800"/>
                <a:ext cx="1412640" cy="662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3" name="Rectangle 21" descr=""/>
              <p:cNvPicPr/>
              <p:nvPr/>
            </p:nvPicPr>
            <p:blipFill>
              <a:blip r:embed="rId11"/>
              <a:stretch/>
            </p:blipFill>
            <p:spPr>
              <a:xfrm>
                <a:off x="1092240" y="4893840"/>
                <a:ext cx="3422880" cy="1127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54" name="Groupe 20"/>
          <p:cNvGrpSpPr/>
          <p:nvPr/>
        </p:nvGrpSpPr>
        <p:grpSpPr>
          <a:xfrm>
            <a:off x="4035600" y="3014640"/>
            <a:ext cx="3978000" cy="2816280"/>
            <a:chOff x="4035600" y="3014640"/>
            <a:chExt cx="3978000" cy="2816280"/>
          </a:xfrm>
        </p:grpSpPr>
        <p:grpSp>
          <p:nvGrpSpPr>
            <p:cNvPr id="255" name="Ellipse 14"/>
            <p:cNvGrpSpPr/>
            <p:nvPr/>
          </p:nvGrpSpPr>
          <p:grpSpPr>
            <a:xfrm>
              <a:off x="4035600" y="3014640"/>
              <a:ext cx="3978000" cy="2816280"/>
              <a:chOff x="4035600" y="3014640"/>
              <a:chExt cx="3978000" cy="2816280"/>
            </a:xfrm>
          </p:grpSpPr>
          <p:pic>
            <p:nvPicPr>
              <p:cNvPr id="256" name="Ellips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4035600" y="3014640"/>
                <a:ext cx="3978000" cy="281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7" name=""/>
              <p:cNvSpPr/>
              <p:nvPr/>
            </p:nvSpPr>
            <p:spPr>
              <a:xfrm>
                <a:off x="4635360" y="3446640"/>
                <a:ext cx="2781720" cy="19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Groupe 17"/>
            <p:cNvGrpSpPr/>
            <p:nvPr/>
          </p:nvGrpSpPr>
          <p:grpSpPr>
            <a:xfrm>
              <a:off x="6214320" y="4347000"/>
              <a:ext cx="1419120" cy="881640"/>
              <a:chOff x="6214320" y="4347000"/>
              <a:chExt cx="1419120" cy="881640"/>
            </a:xfrm>
          </p:grpSpPr>
          <p:pic>
            <p:nvPicPr>
              <p:cNvPr id="259" name="Rectangle 16" descr=""/>
              <p:cNvPicPr/>
              <p:nvPr/>
            </p:nvPicPr>
            <p:blipFill>
              <a:blip r:embed="rId13"/>
              <a:stretch/>
            </p:blipFill>
            <p:spPr>
              <a:xfrm>
                <a:off x="6214320" y="4779000"/>
                <a:ext cx="1163880" cy="44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0" name="Rectangle 17" descr=""/>
              <p:cNvPicPr/>
              <p:nvPr/>
            </p:nvPicPr>
            <p:blipFill>
              <a:blip r:embed="rId14"/>
              <a:stretch/>
            </p:blipFill>
            <p:spPr>
              <a:xfrm>
                <a:off x="6279480" y="4347000"/>
                <a:ext cx="1353960" cy="804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61" name="Groupe 30"/>
          <p:cNvGrpSpPr/>
          <p:nvPr/>
        </p:nvGrpSpPr>
        <p:grpSpPr>
          <a:xfrm>
            <a:off x="2583000" y="2263680"/>
            <a:ext cx="3978000" cy="2818080"/>
            <a:chOff x="2583000" y="2263680"/>
            <a:chExt cx="3978000" cy="2818080"/>
          </a:xfrm>
        </p:grpSpPr>
        <p:grpSp>
          <p:nvGrpSpPr>
            <p:cNvPr id="262" name="Ellipse 8"/>
            <p:cNvGrpSpPr/>
            <p:nvPr/>
          </p:nvGrpSpPr>
          <p:grpSpPr>
            <a:xfrm>
              <a:off x="2583000" y="2263680"/>
              <a:ext cx="3978000" cy="2818080"/>
              <a:chOff x="2583000" y="2263680"/>
              <a:chExt cx="3978000" cy="2818080"/>
            </a:xfrm>
          </p:grpSpPr>
          <p:pic>
            <p:nvPicPr>
              <p:cNvPr id="263" name="Ellipse 8" descr=""/>
              <p:cNvPicPr/>
              <p:nvPr/>
            </p:nvPicPr>
            <p:blipFill>
              <a:blip r:embed="rId15"/>
              <a:stretch/>
            </p:blipFill>
            <p:spPr>
              <a:xfrm>
                <a:off x="2583000" y="2263680"/>
                <a:ext cx="3978000" cy="281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" name=""/>
              <p:cNvSpPr/>
              <p:nvPr/>
            </p:nvSpPr>
            <p:spPr>
              <a:xfrm>
                <a:off x="3181680" y="2696040"/>
                <a:ext cx="2785680" cy="19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Groupe 9"/>
            <p:cNvGrpSpPr/>
            <p:nvPr/>
          </p:nvGrpSpPr>
          <p:grpSpPr>
            <a:xfrm>
              <a:off x="2934720" y="3274200"/>
              <a:ext cx="3208680" cy="728280"/>
              <a:chOff x="2934720" y="3274200"/>
              <a:chExt cx="3208680" cy="728280"/>
            </a:xfrm>
          </p:grpSpPr>
          <p:pic>
            <p:nvPicPr>
              <p:cNvPr id="266" name="Rectangle 12" descr=""/>
              <p:cNvPicPr/>
              <p:nvPr/>
            </p:nvPicPr>
            <p:blipFill>
              <a:blip r:embed="rId16"/>
              <a:stretch/>
            </p:blipFill>
            <p:spPr>
              <a:xfrm>
                <a:off x="3713040" y="3302640"/>
                <a:ext cx="1439280" cy="69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7" name="Rectangle 13" descr=""/>
              <p:cNvPicPr/>
              <p:nvPr/>
            </p:nvPicPr>
            <p:blipFill>
              <a:blip r:embed="rId17"/>
              <a:stretch/>
            </p:blipFill>
            <p:spPr>
              <a:xfrm>
                <a:off x="2934720" y="3274200"/>
                <a:ext cx="3208680" cy="728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68" name="Espace réservé du pied de page 31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Espace réservé de la date 32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sp>
        <p:nvSpPr>
          <p:cNvPr id="271" name="Espace réservé du contenu 2"/>
          <p:cNvSpPr/>
          <p:nvPr/>
        </p:nvSpPr>
        <p:spPr>
          <a:xfrm>
            <a:off x="755640" y="1916280"/>
            <a:ext cx="8064360" cy="45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80064"/>
                </a:solidFill>
                <a:latin typeface="Calibri"/>
              </a:rPr>
              <a:t>sa mission</a:t>
            </a:r>
            <a:r>
              <a:rPr b="0" lang="fr-FR" sz="2400" spc="-1" strike="noStrike">
                <a:solidFill>
                  <a:srgbClr val="c80064"/>
                </a:solidFill>
                <a:latin typeface="Calibri"/>
              </a:rPr>
              <a:t> :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assurer un soutien pédagogique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auprès des professeurs d'économie-gestion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de lycée professionn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buClr>
                <a:srgbClr val="c80064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Outils et ressources pédagog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buClr>
                <a:srgbClr val="c80064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xpérimentations pédagog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buClr>
                <a:srgbClr val="c80064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Veille informationn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buClr>
                <a:srgbClr val="c80064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Formation des enseign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buClr>
                <a:srgbClr val="c80064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ccompagnement des rénov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Espace réservé du pied de page 1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Espace réservé de la date 6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1"/>
          <p:cNvSpPr/>
          <p:nvPr/>
        </p:nvSpPr>
        <p:spPr>
          <a:xfrm>
            <a:off x="755640" y="148428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80064"/>
                </a:solidFill>
                <a:latin typeface="Arial"/>
              </a:rPr>
              <a:t>www.cerpeg.ac-versailles.f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755640" y="2736720"/>
            <a:ext cx="741672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2401"/>
              </a:spcAft>
              <a:buClr>
                <a:srgbClr val="c8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ise en ligne régulière de ressources sur le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2401"/>
              </a:spcAft>
              <a:buClr>
                <a:srgbClr val="c8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nnonce des publications sur la liste L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2401"/>
              </a:spcAft>
              <a:buClr>
                <a:srgbClr val="c8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Refonte du site Internet dans les prochaines sema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Espace réservé du pied de page 4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Espace réservé de la date 5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grpSp>
        <p:nvGrpSpPr>
          <p:cNvPr id="280" name="Groupe 1"/>
          <p:cNvGrpSpPr/>
          <p:nvPr/>
        </p:nvGrpSpPr>
        <p:grpSpPr>
          <a:xfrm>
            <a:off x="1784520" y="1628640"/>
            <a:ext cx="5667120" cy="3888000"/>
            <a:chOff x="1784520" y="1628640"/>
            <a:chExt cx="5667120" cy="3888000"/>
          </a:xfrm>
        </p:grpSpPr>
        <p:grpSp>
          <p:nvGrpSpPr>
            <p:cNvPr id="281" name="Groupe 5"/>
            <p:cNvGrpSpPr/>
            <p:nvPr/>
          </p:nvGrpSpPr>
          <p:grpSpPr>
            <a:xfrm>
              <a:off x="1815840" y="1628640"/>
              <a:ext cx="3360240" cy="2309400"/>
              <a:chOff x="1815840" y="1628640"/>
              <a:chExt cx="3360240" cy="2309400"/>
            </a:xfrm>
          </p:grpSpPr>
          <p:grpSp>
            <p:nvGrpSpPr>
              <p:cNvPr id="282" name="Ellipse 26"/>
              <p:cNvGrpSpPr/>
              <p:nvPr/>
            </p:nvGrpSpPr>
            <p:grpSpPr>
              <a:xfrm>
                <a:off x="1815840" y="1628640"/>
                <a:ext cx="3360240" cy="2309400"/>
                <a:chOff x="1815840" y="1628640"/>
                <a:chExt cx="3360240" cy="2309400"/>
              </a:xfrm>
            </p:grpSpPr>
            <p:pic>
              <p:nvPicPr>
                <p:cNvPr id="283" name="Ellipse 2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815840" y="1628640"/>
                  <a:ext cx="3360240" cy="2309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4" name=""/>
                <p:cNvSpPr/>
                <p:nvPr/>
              </p:nvSpPr>
              <p:spPr>
                <a:xfrm>
                  <a:off x="2324880" y="1984680"/>
                  <a:ext cx="2347920" cy="160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Groupe 2"/>
              <p:cNvGrpSpPr/>
              <p:nvPr/>
            </p:nvGrpSpPr>
            <p:grpSpPr>
              <a:xfrm>
                <a:off x="2279520" y="2309040"/>
                <a:ext cx="1057680" cy="338760"/>
                <a:chOff x="2279520" y="2309040"/>
                <a:chExt cx="1057680" cy="338760"/>
              </a:xfrm>
            </p:grpSpPr>
            <p:pic>
              <p:nvPicPr>
                <p:cNvPr id="286" name="Rectangle 2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382480" y="2391480"/>
                  <a:ext cx="833040" cy="239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7" name="Rectangle 29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279520" y="2309040"/>
                  <a:ext cx="1057680" cy="3387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288" name="Groupe 10"/>
            <p:cNvGrpSpPr/>
            <p:nvPr/>
          </p:nvGrpSpPr>
          <p:grpSpPr>
            <a:xfrm>
              <a:off x="4016160" y="1712160"/>
              <a:ext cx="3360240" cy="2361600"/>
              <a:chOff x="4016160" y="1712160"/>
              <a:chExt cx="3360240" cy="2361600"/>
            </a:xfrm>
          </p:grpSpPr>
          <p:grpSp>
            <p:nvGrpSpPr>
              <p:cNvPr id="289" name="Ellipse 22"/>
              <p:cNvGrpSpPr/>
              <p:nvPr/>
            </p:nvGrpSpPr>
            <p:grpSpPr>
              <a:xfrm>
                <a:off x="4016160" y="1712160"/>
                <a:ext cx="3360240" cy="2361600"/>
                <a:chOff x="4016160" y="1712160"/>
                <a:chExt cx="3360240" cy="2361600"/>
              </a:xfrm>
            </p:grpSpPr>
            <p:pic>
              <p:nvPicPr>
                <p:cNvPr id="290" name="Ellips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016160" y="1712160"/>
                  <a:ext cx="3360240" cy="236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1" name=""/>
                <p:cNvSpPr/>
                <p:nvPr/>
              </p:nvSpPr>
              <p:spPr>
                <a:xfrm>
                  <a:off x="4525200" y="2074680"/>
                  <a:ext cx="2347920" cy="164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Groupe 7"/>
              <p:cNvGrpSpPr/>
              <p:nvPr/>
            </p:nvGrpSpPr>
            <p:grpSpPr>
              <a:xfrm>
                <a:off x="6184080" y="2392200"/>
                <a:ext cx="762480" cy="338400"/>
                <a:chOff x="6184080" y="2392200"/>
                <a:chExt cx="762480" cy="338400"/>
              </a:xfrm>
            </p:grpSpPr>
            <p:pic>
              <p:nvPicPr>
                <p:cNvPr id="293" name="Rectangle 2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246720" y="2470680"/>
                  <a:ext cx="622800" cy="243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4" name="Rectangle 2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184080" y="2392200"/>
                  <a:ext cx="762480" cy="338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295" name="Groupe 15"/>
            <p:cNvGrpSpPr/>
            <p:nvPr/>
          </p:nvGrpSpPr>
          <p:grpSpPr>
            <a:xfrm>
              <a:off x="1784520" y="3088440"/>
              <a:ext cx="3142080" cy="2428200"/>
              <a:chOff x="1784520" y="3088440"/>
              <a:chExt cx="3142080" cy="2428200"/>
            </a:xfrm>
          </p:grpSpPr>
          <p:grpSp>
            <p:nvGrpSpPr>
              <p:cNvPr id="296" name="Ellipse 18"/>
              <p:cNvGrpSpPr/>
              <p:nvPr/>
            </p:nvGrpSpPr>
            <p:grpSpPr>
              <a:xfrm>
                <a:off x="1852920" y="3088440"/>
                <a:ext cx="3073680" cy="2277720"/>
                <a:chOff x="1852920" y="3088440"/>
                <a:chExt cx="3073680" cy="2277720"/>
              </a:xfrm>
            </p:grpSpPr>
            <p:pic>
              <p:nvPicPr>
                <p:cNvPr id="297" name="Ellipse 18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852920" y="3088440"/>
                  <a:ext cx="3073680" cy="2277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8" name=""/>
                <p:cNvSpPr/>
                <p:nvPr/>
              </p:nvSpPr>
              <p:spPr>
                <a:xfrm>
                  <a:off x="2318760" y="3437640"/>
                  <a:ext cx="2145960" cy="158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Groupe 12"/>
              <p:cNvGrpSpPr/>
              <p:nvPr/>
            </p:nvGrpSpPr>
            <p:grpSpPr>
              <a:xfrm>
                <a:off x="1784520" y="4479480"/>
                <a:ext cx="2802600" cy="1037160"/>
                <a:chOff x="1784520" y="4479480"/>
                <a:chExt cx="2802600" cy="1037160"/>
              </a:xfrm>
            </p:grpSpPr>
            <p:pic>
              <p:nvPicPr>
                <p:cNvPr id="300" name="Rectangle 20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2273760" y="4479480"/>
                  <a:ext cx="1159560" cy="536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1" name="Rectangle 21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784520" y="4598640"/>
                  <a:ext cx="2802600" cy="918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302" name="Groupe 20"/>
            <p:cNvGrpSpPr/>
            <p:nvPr/>
          </p:nvGrpSpPr>
          <p:grpSpPr>
            <a:xfrm>
              <a:off x="4194360" y="3073680"/>
              <a:ext cx="3257280" cy="2289240"/>
              <a:chOff x="4194360" y="3073680"/>
              <a:chExt cx="3257280" cy="2289240"/>
            </a:xfrm>
          </p:grpSpPr>
          <p:grpSp>
            <p:nvGrpSpPr>
              <p:cNvPr id="303" name="Ellipse 14"/>
              <p:cNvGrpSpPr/>
              <p:nvPr/>
            </p:nvGrpSpPr>
            <p:grpSpPr>
              <a:xfrm>
                <a:off x="4194360" y="3073680"/>
                <a:ext cx="3257280" cy="2289240"/>
                <a:chOff x="4194360" y="3073680"/>
                <a:chExt cx="3257280" cy="2289240"/>
              </a:xfrm>
            </p:grpSpPr>
            <p:pic>
              <p:nvPicPr>
                <p:cNvPr id="304" name="Ellipse 14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4194360" y="3073680"/>
                  <a:ext cx="3257280" cy="2289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5" name=""/>
                <p:cNvSpPr/>
                <p:nvPr/>
              </p:nvSpPr>
              <p:spPr>
                <a:xfrm>
                  <a:off x="4689000" y="3426840"/>
                  <a:ext cx="2271240" cy="158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Groupe 17"/>
              <p:cNvGrpSpPr/>
              <p:nvPr/>
            </p:nvGrpSpPr>
            <p:grpSpPr>
              <a:xfrm>
                <a:off x="5978160" y="4156560"/>
                <a:ext cx="1158840" cy="714240"/>
                <a:chOff x="5978160" y="4156560"/>
                <a:chExt cx="1158840" cy="714240"/>
              </a:xfrm>
            </p:grpSpPr>
            <p:pic>
              <p:nvPicPr>
                <p:cNvPr id="307" name="Rectangle 16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5978160" y="4510800"/>
                  <a:ext cx="909000" cy="360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8" name="Rectangle 17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023520" y="4156560"/>
                  <a:ext cx="1113480" cy="651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309" name="Groupe 30"/>
            <p:cNvGrpSpPr/>
            <p:nvPr/>
          </p:nvGrpSpPr>
          <p:grpSpPr>
            <a:xfrm>
              <a:off x="3004920" y="2464200"/>
              <a:ext cx="3256560" cy="2288520"/>
              <a:chOff x="3004920" y="2464200"/>
              <a:chExt cx="3256560" cy="2288520"/>
            </a:xfrm>
          </p:grpSpPr>
          <p:grpSp>
            <p:nvGrpSpPr>
              <p:cNvPr id="310" name="Ellipse 8"/>
              <p:cNvGrpSpPr/>
              <p:nvPr/>
            </p:nvGrpSpPr>
            <p:grpSpPr>
              <a:xfrm>
                <a:off x="3004920" y="2464200"/>
                <a:ext cx="3256560" cy="2288520"/>
                <a:chOff x="3004920" y="2464200"/>
                <a:chExt cx="3256560" cy="2288520"/>
              </a:xfrm>
            </p:grpSpPr>
            <p:pic>
              <p:nvPicPr>
                <p:cNvPr id="311" name="Ellipse 8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3004920" y="2464200"/>
                  <a:ext cx="3256560" cy="2288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2" name=""/>
                <p:cNvSpPr/>
                <p:nvPr/>
              </p:nvSpPr>
              <p:spPr>
                <a:xfrm>
                  <a:off x="3499560" y="2817720"/>
                  <a:ext cx="2274480" cy="158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" name="Groupe 9"/>
              <p:cNvGrpSpPr/>
              <p:nvPr/>
            </p:nvGrpSpPr>
            <p:grpSpPr>
              <a:xfrm>
                <a:off x="3297960" y="3285720"/>
                <a:ext cx="2620080" cy="589680"/>
                <a:chOff x="3297960" y="3285720"/>
                <a:chExt cx="2620080" cy="589680"/>
              </a:xfrm>
            </p:grpSpPr>
            <p:pic>
              <p:nvPicPr>
                <p:cNvPr id="314" name="Rectangle 1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3891600" y="3285720"/>
                  <a:ext cx="1265040" cy="589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5" name="Rectangle 1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3297960" y="3285720"/>
                  <a:ext cx="2620080" cy="589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316" name="Espace réservé du pied de page 3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Espace réservé de la date 10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ZoneTexte 11"/>
          <p:cNvSpPr/>
          <p:nvPr/>
        </p:nvSpPr>
        <p:spPr>
          <a:xfrm>
            <a:off x="7377120" y="5229360"/>
            <a:ext cx="115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c80064"/>
                </a:solidFill>
                <a:latin typeface="Calibri"/>
              </a:rPr>
              <a:t>F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18:14:53Z</dcterms:created>
  <dc:creator>Pat</dc:creator>
  <dc:description/>
  <dc:language>en-US</dc:language>
  <cp:lastModifiedBy>Géraldine FONDEVILLE</cp:lastModifiedBy>
  <dcterms:modified xsi:type="dcterms:W3CDTF">2011-10-12T08:25:11Z</dcterms:modified>
  <cp:revision>8</cp:revision>
  <dc:subject/>
  <dc:title>Présentation PowerPoint</dc:title>
</cp:coreProperties>
</file>