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C9A5-1C2F-45FC-BFB1-F7AE98AC02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323D-9352-4D6D-81BA-604180E549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980-1E01-43A7-BB97-19BA9FBF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647-970B-4463-BF92-A12091AD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07D4-754E-4BAB-9C55-2C94C867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F24-6984-436A-89B9-9CC19314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296-3960-4440-809F-19FEA5F7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0CD-BDE3-4129-8825-CF5DEE18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047-684C-4537-9227-608ED379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FB73-BD10-412C-A815-665731A1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185-1C55-4280-A662-24DDDAE9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2307-E8ED-467D-89CB-29652C54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528-B709-490E-980F-D5EA0CCD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DA8-D77D-4C40-AD1B-3B86134D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3f7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65C8-53FF-4766-A5E6-EEA927CAF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Arial Narrow"/>
            </a:endParaRPr>
          </a:p>
        </p:txBody>
      </p:sp>
      <p:pic>
        <p:nvPicPr>
          <p:cNvPr id="50" name="Image 3" descr="Peinture 002.jpg"/>
          <p:cNvPicPr/>
          <p:nvPr/>
        </p:nvPicPr>
        <p:blipFill>
          <a:blip r:embed="rId1"/>
          <a:stretch/>
        </p:blipFill>
        <p:spPr>
          <a:xfrm>
            <a:off x="-42840" y="-64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lyc-jeanmoulin.ac-poitiers.fr/cdt/logo_JM_coin_arrondis.png"/>
          <p:cNvPicPr/>
          <p:nvPr/>
        </p:nvPicPr>
        <p:blipFill>
          <a:blip r:embed="rId2"/>
          <a:stretch/>
        </p:blipFill>
        <p:spPr>
          <a:xfrm>
            <a:off x="-33480" y="3716280"/>
            <a:ext cx="3205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977760" y="1557360"/>
            <a:ext cx="763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Aménagement</a:t>
            </a:r>
            <a:br>
              <a:rPr sz="4800"/>
            </a:b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d’un espace professi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523600" y="3933720"/>
            <a:ext cx="61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Calibri"/>
              </a:rPr>
              <a:t>Du projet à la réalis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1 SEN &amp; 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0484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2 359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1" descr=""/>
          <p:cNvPicPr/>
          <p:nvPr/>
        </p:nvPicPr>
        <p:blipFill>
          <a:blip r:embed="rId1"/>
          <a:stretch/>
        </p:blipFill>
        <p:spPr>
          <a:xfrm>
            <a:off x="2771640" y="1866960"/>
            <a:ext cx="5710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20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335160" y="3773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13 53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5" descr=""/>
          <p:cNvPicPr/>
          <p:nvPr/>
        </p:nvPicPr>
        <p:blipFill>
          <a:blip r:embed="rId1"/>
          <a:stretch/>
        </p:blipFill>
        <p:spPr>
          <a:xfrm>
            <a:off x="2843280" y="1617840"/>
            <a:ext cx="574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375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lipse 2"/>
          <p:cNvSpPr/>
          <p:nvPr/>
        </p:nvSpPr>
        <p:spPr>
          <a:xfrm>
            <a:off x="193680" y="2421000"/>
            <a:ext cx="2305080" cy="2303280"/>
          </a:xfrm>
          <a:prstGeom prst="ellipse">
            <a:avLst/>
          </a:prstGeom>
          <a:solidFill>
            <a:srgbClr val="ff7619"/>
          </a:solidFill>
          <a:ln w="25560">
            <a:solidFill>
              <a:srgbClr val="cd6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547920" y="3157560"/>
            <a:ext cx="159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tota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2c3f71"/>
                </a:solidFill>
                <a:latin typeface="Calibri"/>
              </a:rPr>
              <a:t>24 00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904000" cy="443556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4"/>
          <p:cNvSpPr/>
          <p:nvPr/>
        </p:nvSpPr>
        <p:spPr>
          <a:xfrm>
            <a:off x="338040" y="4869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Y compris </a:t>
            </a:r>
            <a:br>
              <a:rPr sz="2000"/>
            </a:b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les petites fourni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75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ril 2011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36" name="ZoneTexte 4"/>
          <p:cNvSpPr/>
          <p:nvPr/>
        </p:nvSpPr>
        <p:spPr>
          <a:xfrm>
            <a:off x="6840000" y="314172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L’espace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professionnel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est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opérationne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048360" cy="4545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3463560" y="15159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b4453"/>
                </a:solidFill>
                <a:latin typeface="Calibri"/>
              </a:rPr>
              <a:t>Terminale bac pro compta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Incidences sur les élèves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onfiance dans une nouvelle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Motivation en travaillant autremen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Autonomie : acteurs dans leur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mplication et responsabilité : travail en équipe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Préparation à l’insertion en entreprise : PFMP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41" name="ZoneTexte 3"/>
          <p:cNvSpPr/>
          <p:nvPr/>
        </p:nvSpPr>
        <p:spPr>
          <a:xfrm>
            <a:off x="3348000" y="5445000"/>
            <a:ext cx="5322960" cy="520560"/>
          </a:xfrm>
          <a:prstGeom prst="rect">
            <a:avLst/>
          </a:prstGeom>
          <a:solidFill>
            <a:srgbClr val="e3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Calibri"/>
              </a:rPr>
              <a:t>Véritable rupture pédagogiqu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Poursuite du projet…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540360" y="306864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En collaboration avec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6"/>
          <p:cNvSpPr/>
          <p:nvPr/>
        </p:nvSpPr>
        <p:spPr>
          <a:xfrm>
            <a:off x="1544760" y="4005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La classe de 1</a:t>
            </a:r>
            <a:r>
              <a:rPr b="0" lang="fr-FR" sz="3600" spc="-1" strike="noStrike" baseline="30000">
                <a:solidFill>
                  <a:srgbClr val="2c3f71"/>
                </a:solidFill>
                <a:latin typeface="Arial Narrow"/>
              </a:rPr>
              <a:t>ère</a:t>
            </a: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 année CAP S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2700360" y="1628640"/>
            <a:ext cx="3887640" cy="1152720"/>
          </a:xfrm>
          <a:prstGeom prst="roundRect">
            <a:avLst>
              <a:gd name="adj" fmla="val 16667"/>
            </a:avLst>
          </a:prstGeom>
          <a:solidFill>
            <a:srgbClr val="e3e8f4"/>
          </a:solidFill>
          <a:ln w="25560">
            <a:solidFill>
              <a:srgbClr val="e3e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1548000" y="494352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&amp; CARLITO, artiste rés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"/>
          <p:cNvSpPr/>
          <p:nvPr/>
        </p:nvSpPr>
        <p:spPr>
          <a:xfrm>
            <a:off x="2977920" y="185112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c3f71"/>
                </a:solidFill>
                <a:latin typeface="Arial Narrow"/>
              </a:rPr>
              <a:t>La salle d’att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ec pour objectif :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69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’impliquer les élève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’organisation des espac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es activités professionnell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395280" y="306864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ur une période all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25520" y="414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e sept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À avril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eptembre 2010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608184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6958080" y="335772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La salle</a:t>
            </a:r>
            <a:br>
              <a:rPr sz="2800"/>
            </a:b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 de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960" y="1557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Lister les besoin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e salle = plusieurs espaces de travail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 espace = une zone avec un équipement spécifique (matériel, mobilier, informatique, déco…)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6" name="Espace réservé du contenu 2"/>
          <p:cNvSpPr/>
          <p:nvPr/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dentifier les principes ergonomiques</a:t>
            </a:r>
            <a:br>
              <a:rPr sz="3200"/>
            </a:b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des métiers du tertiair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tervention de M. Fuzeau,</a:t>
            </a:r>
            <a:br>
              <a:rPr sz="2800"/>
            </a:b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Référent IN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13" descr=""/>
          <p:cNvPicPr/>
          <p:nvPr/>
        </p:nvPicPr>
        <p:blipFill>
          <a:blip r:embed="rId1"/>
          <a:stretch/>
        </p:blipFill>
        <p:spPr>
          <a:xfrm>
            <a:off x="6084720" y="3560760"/>
            <a:ext cx="291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75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600" y="2421000"/>
            <a:ext cx="400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essiner l’implant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3" name="Espace réservé du contenu 2"/>
          <p:cNvSpPr/>
          <p:nvPr/>
        </p:nvSpPr>
        <p:spPr>
          <a:xfrm>
            <a:off x="5035680" y="2421000"/>
            <a:ext cx="4000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hoisir les cou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1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Activité réalisée avec Madame VERHAEGHE, professeur d’art appl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2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Rechercher des fournisseurs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pic>
        <p:nvPicPr>
          <p:cNvPr id="82" name="Image 6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613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37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349360"/>
            <a:ext cx="79912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Exécution pluridisciplinaire du proje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Peinture……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3e SEGPA collège J. Rostand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Aménagement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Terminale Compta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Électricité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1 SEN et 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formatique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Finition…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Professionnels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88" name="ZoneTexte 9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En collaboration avec le Chef des travaux, Monsieur  BAR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</a:t>
            </a:r>
            <a:r>
              <a:rPr b="0" lang="fr-FR" sz="3200" spc="-1" strike="noStrike" baseline="30000">
                <a:solidFill>
                  <a:srgbClr val="003f75"/>
                </a:solidFill>
                <a:latin typeface="Arial Narrow"/>
              </a:rPr>
              <a:t>e</a:t>
            </a: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SEGPA du collège Jean Rostand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2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5864400" cy="4392360"/>
          </a:xfrm>
          <a:prstGeom prst="rect">
            <a:avLst/>
          </a:prstGeom>
          <a:ln w="0">
            <a:noFill/>
          </a:ln>
        </p:spPr>
      </p:pic>
      <p:sp>
        <p:nvSpPr>
          <p:cNvPr id="96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602640" y="3773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551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75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Terminale bac pro comptabilité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0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6 95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rcRect l="0" t="0" r="0" b="28462"/>
          <a:stretch/>
        </p:blipFill>
        <p:spPr>
          <a:xfrm>
            <a:off x="2604960" y="1879560"/>
            <a:ext cx="3657600" cy="4251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"/>
          <p:cNvPicPr/>
          <p:nvPr/>
        </p:nvPicPr>
        <p:blipFill>
          <a:blip r:embed="rId2"/>
          <a:srcRect l="0" t="15415" r="0" b="19049"/>
          <a:stretch/>
        </p:blipFill>
        <p:spPr>
          <a:xfrm>
            <a:off x="4403880" y="2525760"/>
            <a:ext cx="429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75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8:10:59Z</dcterms:created>
  <dc:creator>Edith Simon</dc:creator>
  <dc:description/>
  <dc:language>en-US</dc:language>
  <cp:lastModifiedBy>Edith Simon</cp:lastModifiedBy>
  <dcterms:modified xsi:type="dcterms:W3CDTF">2011-10-25T19:21:39Z</dcterms:modified>
  <cp:revision>24</cp:revision>
  <dc:subject/>
  <dc:title>Présentation PowerPoint</dc:title>
</cp:coreProperties>
</file>