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CA03-6EDF-4505-970C-977EDA40AC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8BEA-CFB2-471D-AFA7-AE5FFE0043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577E-742A-4C7C-BFCA-6E7346F2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19DB-BD09-40FB-9749-DF2C177C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9FF87-6332-4530-9D5C-CEE8F398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C835E-2943-45FE-BEB9-B8BECF5B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657AB-7FD3-4D48-A53B-74C4BB2E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6B46D-BF09-4FCD-BAD8-1B3FCA48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0B916-40C7-451B-8830-F2B62D19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17CA8-174F-482C-ACDA-B3DAD5E2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1D0CF-FE63-47E4-9169-F67C148F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F9463-852A-4842-94D5-C553FA1D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9C05A-7660-450A-96F0-94444EF7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E943-2CF5-4EA2-86B8-E0DDD9FA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84BF-54EE-4553-972E-C2CBAFCD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051C-61FD-4892-B44F-7321CBA5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BCA4-C3AE-4BBA-8CE5-E6959421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716A-5BCC-4814-BEE2-4E658280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754C-3DE3-4A07-B275-8001DCB3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5BEC-FAF0-4169-B697-CD82689F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B14B-D525-4684-9A14-3D5EAC0D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B8AA-C5CD-4DFD-85B7-DF3B26D4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44C-2F69-4F8B-A49A-068848F7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803D-D748-419A-9410-012E394B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22F0-2ECD-457A-8CCD-655E1900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8328-FF20-40DB-99AD-B1A401A9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7593-89A1-4C7C-A1F5-0DF2C5F3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3321-D3A7-432D-99C3-B0EF2F76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A1447-958D-4814-ACBA-F6E589A8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CEC09-974F-466F-AF7E-5585A12B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4A7C8-AF85-4E6F-85AC-C3CC147A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CFD07-C877-45B9-8646-4CFA164B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2CC85-36F7-467B-9AC8-C6846D48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A902-29B9-4A40-BDAC-BC8571D5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3C31E-5589-437F-9D5A-27678FEC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B827F-649B-46AF-9404-7FBD9EA7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6C36E-5BBB-495C-AA76-2D474714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1664B-3F08-4A38-A0F4-E583F4F7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D37DB-1000-48F9-9A11-442F4DA7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6A7CB-88E1-4F44-B88E-6E13141E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44EE6-7413-4253-9A79-3DE96123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DED02-65CE-42CA-9B65-8A157D6C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C64FD-3A3E-4AB2-A704-367ABF70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A700C-FFF1-447A-BAD4-DDC2E472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CE1-3D4C-4545-B473-C4A46326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5A8D2-E6D4-4DE7-A900-04AA6A74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48ACB-D986-4864-876E-3685EB80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4561C-0AE1-4FAD-9FC7-1636FA76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CDB09-DFDF-4C01-AD6E-9DAA4AD9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C2CBB-687B-4B82-AD71-284C969E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AADD1-DDC3-4F25-9F18-A78C6BE9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47D47-3B92-4AF2-99D1-A9DF96B9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4820F-08D7-45D5-9EB6-C4DE6194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7D92D-4DE2-414E-A408-56FDE9F7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E246A-DC28-43F4-97D2-CC7D8453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307D-1A8F-4A06-BD23-888BD137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284DF-BE6D-4515-B6CF-BD55E89D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3E7BB-2E09-45C5-8D63-D966064A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43613-F46A-4082-95DC-965E2414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9D528-D41F-4186-8135-0C1012BD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4F3E5-38E9-4282-B5E3-CF48E04C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293A5-6EA1-4F0D-B2A7-BE706D71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CA3B2-05A0-4E60-BA7A-39997D54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C731E-89FD-4347-BA35-1FA6D207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4EAFD-AAD4-445E-83CD-E285690A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05062-62D0-49AB-8664-10D291E5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5831-5C47-44CC-8D0C-36F6B358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E7B8D-A825-417B-83F8-DBD95D48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962D0-3FD5-498A-9FF4-3AC6714A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414AA-E7F6-410A-9470-AFACCF20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06585-FC08-4CE1-B97E-AECE8075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9B675-6EDE-4A47-86F1-F4696B9E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E16E0-1EAB-4D51-8DEE-C02C16A1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7211D-A087-461C-9512-D7321B14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597A1-58AF-4BB6-9E99-E664B3F7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0B4E8-E468-4482-8A27-11EDE2A5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E4A8B-9768-4B47-96F6-5B63ECAA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FDD1-AA96-47C4-B496-170A4463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2185D-AB5F-4E39-84E7-8FCFBDE5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5B9D0-4DE3-41CE-B301-356DE0FF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62870-4BB6-41D7-AFCD-61F54F49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62AB5-0CEA-4A8F-BB04-96FD2872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D3D85-4C34-4FBD-98A8-CD0D97F5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5B225-F6B3-4FD2-BE29-8B7BECFA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067E4-C18A-45D8-8120-34CFA5DB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702D6-82C4-4BC9-82EC-32736E94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0DC9A-6FD5-4143-A86D-2E9CAB82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DB06E-4A30-4A0A-A61E-A95C91D1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60F8-A474-4588-8BAF-109EE332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ED7AC-0313-46DF-9EF7-4B424AA4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80BCC-6657-4373-B5B0-E031EA3B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71F21-026A-45B6-BBAE-D005A514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A0D4A-23A2-4FA3-AD9C-CE666721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EB093-5B0F-4D53-B7FB-CEE88993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F1C20-8B95-46E1-ABB5-711E1D4E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5A5EB-A98E-4AC8-84A0-6631171C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5CC4F-BCF1-4F89-A7EC-011170E7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FB7B4-0F42-474F-8859-87BB8DFA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5B859-BD72-499D-BBBC-08AB3D79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79A1-AF73-49D8-9311-DDA51959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C9FC9-99E3-4316-81EC-9E4AFE28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5F49B-DECE-49CE-9504-9C60D716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F99B1-4D73-48B3-A782-53664B42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BD4A6-BCE8-4E4E-A9BE-4EA27FE6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02393-099A-4A9D-8D6E-82E686A1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883AC-87BF-4CCF-A0B8-BDBD21D3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BEBE9-C353-46EC-8FC3-D07C9B22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F9AF3-D6A3-45D1-9BE0-6A2A5DD0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D4CD3-A7C1-46CD-B393-2167E42C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F45AD-575C-41CD-A8F2-F5384382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09E2-A5A1-47A4-B5AD-761DCDCDE7B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ÉRIODES DE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ORMATION EN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ILIEU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ROFESSIONNEL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   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E9F4-5825-4E6E-B865-DB642F4F0C85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AAE2-8FF6-4CE9-91F8-4552E0FBBE69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E99E-21F6-4C57-A665-9CF14A77253B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F5B6-CB7B-4E6D-B762-584C54519C04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C312-6C42-4DB2-86F9-EB50D2ACC33B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3406-FDD2-4699-9BFF-C70341406034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C7A4-80F5-498C-AEE4-97D2E480884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4699-0238-4F04-B862-EA5374F133F0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DAA4-C359-4897-A715-92BDDD2B573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6AE3-89E1-416D-A0AA-68691761F07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7643-7E43-4D87-8D15-15C70EA014B3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3BB0-40E9-4D8B-8AE4-E4F9B84DF86E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BC78-F1A2-469F-9FA6-668565E2FA80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12000" y="5903640"/>
            <a:ext cx="136836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5B44-BB09-445C-B22E-EA06F7721E8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D4BA-4FFE-4D34-9A0F-7765240878D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34A0-1A66-40D7-B82E-CAC17E29E22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1294-C4AB-4594-922D-F9019B1B635B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Les Périodes de Formation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 en Milieu Professi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9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9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Objectifs et princip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6560" y="134136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doivent permettre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cquisition et/ou l’approfondissement des compétence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mélioration de la connaissance du milieu professionnel et de l'emplo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ituent un gage d’insertion professionnell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rticipent à la formation des candidats au bac pro Gestion-Administr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2281-97A9-4BC1-90D6-819179B08CD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Modalité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2240" y="4508640"/>
            <a:ext cx="7710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Référent professionnel (tuteur)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tribue à la form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eille à la complémentarité des savoirs et savoir-fair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rocède à une évaluation générale et une évaluation spécifique (voir modèle national) fondée sur la capacité du candidat à affronter la complexité et les aléas des situations professionnelles, à aborder d'autres situations comparables 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7EB4-D2F6-46F9-AE94-D50C3A0935C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830160" y="1268280"/>
            <a:ext cx="77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Duré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22 semaines sur 3 ans (BO spécial 19 février 2009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16 semaines dans le cas d'un cycle en 2 a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Espace réservé du contenu 2"/>
          <p:cNvSpPr/>
          <p:nvPr/>
        </p:nvSpPr>
        <p:spPr>
          <a:xfrm>
            <a:off x="826920" y="3218040"/>
            <a:ext cx="77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ogrammation des périod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lève de l'autonomie des établissements en concertation avec les milieux professionnels, les CET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specte la contrainte liée au BEP MS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Espace réservé du contenu 2"/>
          <p:cNvSpPr/>
          <p:nvPr/>
        </p:nvSpPr>
        <p:spPr>
          <a:xfrm>
            <a:off x="846000" y="2205000"/>
            <a:ext cx="7709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ieu(x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ans tout type d'organisation proposant des activités de gestion administrative (TPE, PME/PMI, ETI, GE, collectivités territoriales, administrations, associations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ilotage pédagogiqu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161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’équipe pédagogique participe à l’organisation et au suivi des PFMP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Circulaire 2000-095 du 26 juin 2000 – BO n° 25 du 29 juin 2000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épa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cherche et choix du lieu d'accuei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ccompagnement des élèves dans leur recherch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ultation du portail des stag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Suivi et  accompagnement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e suiv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xploit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éinvestissement des situations professionn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1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ED29-AC8C-4569-AE5A-59E542F503CC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Trace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21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nrichissement du passeport profess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ré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observ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Compte rendu d'évaluation  </a:t>
            </a: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(document national)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ertificat de stag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Objectifs négociés pour chaque PFMP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Indicateurs d'évaluation des compétences transversa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escription de la complexité et de la criticité des activités propos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0785-F1EB-48CA-99CC-E8529CB72D1C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553680"/>
            <a:ext cx="7859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FMP &amp; Certific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520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Apport de la PFMP pour le candidat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limenter son passeport professionnel par des situation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ffronter la complexité et les aléas des situation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ruire sa compétence en abordant des situation comparab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Épreuve E3 en CCF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1 – coef 3 : Gestion des relations administratives extern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2 – coef 4 : Gestion administrative intern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3 – coef 2 : Gestion administrative des projet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Supports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sseport professionne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mptes rendus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AC4D-8584-4963-9B46-A82692EE5183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1:23:50Z</dcterms:created>
  <dc:creator>Simon, Mazoyer</dc:creator>
  <dc:description/>
  <dc:language>en-US</dc:language>
  <cp:lastModifiedBy>Edith Simon</cp:lastModifiedBy>
  <dcterms:modified xsi:type="dcterms:W3CDTF">2011-10-25T19:09:46Z</dcterms:modified>
  <cp:revision>38</cp:revision>
  <dc:subject/>
  <dc:title>Présentation PowerPoint</dc:title>
</cp:coreProperties>
</file>