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4FEA-6E4D-4FC6-8BF3-CDC38EC906E7}" type="datetime">
              <a:rPr b="0" lang="fr-FR"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52AF-357A-47AC-868E-1DE6ACA1109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F355-9F59-404F-BD0F-CD1924B8E9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2FC4-66A3-4CC2-8460-CDA30584932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C7E2-AA54-473D-BD09-DB426EEB55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4544-CAA4-4596-820C-1C58387E01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660A-7982-4025-957F-E8946A911ED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95BC-FF2C-48D3-8190-1B69BE28B5D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5A5B-DD29-4FB6-9628-ECDBF9849C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3A1B-4026-48EE-AA82-6E142AE6F78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4BE8-5F32-4F6C-9207-C4B41E5EF9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28F8A-F4F5-4E91-878A-AA7E8B5A8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CBFC-33B0-46E0-B1D5-7DBEADD3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2B0EE-48F5-4011-B728-BFD7FFA8E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FDEA-3A12-4289-954F-362992845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4F5A1-CB03-4C79-AFE7-A435B8FD2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8137E-4E35-4ECA-B170-C0D0394DC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FF6DD-4243-4E24-BB52-00FDD47C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9842A-09F6-457F-9B97-EDCA50431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C5D42-37F2-4AAE-82AB-6372170BA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9D392-B390-4723-B7C7-BD4F1727D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DB796-B752-4127-82F0-25B1B5136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9836-B4C4-4CB4-A21B-AEECC933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7D5A-0F26-4101-8608-E899DFBC8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C60F0-A7D5-49DD-A3D2-AF56A9EFD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2A6F3-088C-4CDD-ABF7-7C6C92FD9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61D83-1B75-41D2-839D-5AF4C5AA2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66F48-6212-42C3-8DB8-707F43C80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9E9A2-97DC-4918-A7C8-5170B33ED3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60A74-1656-427A-BB00-14B54ECFD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C3242-FB5E-40A7-BE6C-31C5302E8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BB989-996D-48A7-A15E-F1B02ABA9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03080-573D-43CF-8FF5-2D0BFBD8F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E42D5-CEC2-4BF6-82E2-7BF0DA3CA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CC64E-295E-49AF-9DB0-2D515402C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E510B-EC7E-4D1D-BCC3-F33A5A8B8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394D2-58D0-4706-97CF-235587482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F2042-3ACD-4B0C-9B7B-9A0CBEAB9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73268-59B3-47FE-A0FF-939B796B4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EC4F1-9E85-47C2-9D2F-F39480C15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D1C9B9-130C-416B-AA94-B2FAA93375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2F442-D3E8-4A81-965B-9847923AB0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96824-FF93-4B2F-8506-65E234E8D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CF3C0-812B-42DB-ADD9-99A26AA2D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B1123-12F0-4F10-B3AB-734EC758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07813-40FD-4023-B9AA-DC5B3099D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E02B5-8252-4F07-A9AF-29E626B15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2209C-DDC4-4B9D-AE98-8812EAD10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9DD1A-86CB-4BF3-AEC6-447D1C943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F9EBD-43BE-4E55-A8AA-2CE3ADADF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CA414-A077-48DE-A3FC-607DC8AD0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FA076-54E2-4915-B3FD-3CD0481AD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93E09-45E6-47E0-8E80-A81C1ECC1E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8862EE-BF73-4E76-A33F-7B75B7AB1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33DC90-F8C5-4BA2-8FE6-9D862F1C4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2425-5788-4ADF-9884-983137D6C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BA3F3-901E-42B0-B8AF-0D248CD12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A2CB4-829B-477A-9719-76C8152CE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48572-C984-4192-B6A5-21031188F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6504E-9967-4FA0-B80D-8751DA4E4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0C6F8-733F-480A-B300-86D1506CC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B37CC-9596-4056-B76B-F939CCC25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40709-1567-42A6-8895-14F9C1257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D8811-3F6E-4349-9075-4EE4B68B2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7DF81-BD86-42C4-92E2-FFE38025B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E0A7A0-158E-4F75-B6AD-1DB1E3266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E848-94F9-42A6-B3CD-D5C3BEA94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812B66-C3B0-4FA3-9CCF-52B8A89288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DE30A-BD79-4CCE-8527-39F7300DE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C8101-0811-491E-ABC6-5E4847845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A9C29-7B95-4766-8B04-8E083AA9B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45B29-77DF-40D2-B444-68CBDC87A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16F64-CDD5-437A-8B2E-1E67682A6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6D8D0-5903-42EA-B76F-A995CD124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F2917-7A66-4DAE-809A-D1CEA9E1F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2E2ED-F348-4B6A-AD2E-F70C762EC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FA682-F515-4360-8251-99C7E1F41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AFF8-91AD-4A7D-9C75-5589FFA6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BAAFD-7B86-457D-AFEF-B5D9B3A73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C2D90D-9C3D-45E5-A09F-5E2548DF66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A8224-34A1-467E-BD3B-B19674994C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04DDAA-8F20-485C-BC64-0456FA6C0C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E60F0-EEF7-4C08-8293-78FC16637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D8FFF-EC00-4CCE-90A8-C2CFB184A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FB8BC-8517-4717-8633-1B7A5445B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F1152-9491-417E-A68E-813356BBE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39468-736F-4272-A8FD-B88600916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14F7A-461D-45D0-817D-8FEB177F2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3368-021D-4AAE-98FE-621FC26B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B4CD4-49EA-4F02-BD4D-9D8B7FB72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C36DE-122C-4C0A-842D-4AAC9B0E6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972547-9A14-40AA-9BF9-9101E3676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DDBA32-E617-4E3E-AF75-E678D9549C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935616-8542-4DB4-9A21-43B58CC0B8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76A800-03E9-4A06-BC8A-85BD538064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C1635-3E8A-45E5-A644-5B0E8EB45F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A4220-1F2E-4A51-BDEC-50DF99690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7872D-6212-4A1C-85C1-5D2825FE9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97F23-05B1-4A62-AE82-2E1E4A0B77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856B-463C-4714-BC01-19D21386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F462D-7B92-4FA9-B937-40ECDEAD4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1287F-627E-403E-AB04-07C6F216C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347EA-F720-4E6A-B465-72E6CB97F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58EE9-0A23-44BE-B269-01ACC40BD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0DFC9-7B9A-4BF9-8F8C-90AE166D82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9B9E2B-91C1-4332-B885-6DDA5CDAEB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57AD33-3B56-453B-A1E5-9665DC680E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698D-6C3C-4F7E-8AAA-B42D2712C41E}"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C90F-0941-42EA-B3B1-05FD4BA09623}"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55A2-D112-44F4-A559-F3E30AF93103}"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9EF8-FD6A-4434-98C0-66D3E78B3A4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AC7C-B03B-43FC-A424-7901B6D0DB43}"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4EC7-B24F-4D20-8BA0-0F1B6E3ABB0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07ED-C7A7-45D7-AF75-0882DF3BF43D}"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2947-E8BA-4637-9745-6FCFA37E6E9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C6BD-27EB-4877-A146-9B44C566188C}"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46E8-3D44-43FD-99F3-08F8BBCBD8D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DE85-FA78-42C8-8D1E-F6A385B96DE4}"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43F8-F1B4-4C36-892D-3AF73934166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E1A8-5C7A-4F77-B97A-A1B26539C751}"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9363-C045-4C2C-B5E8-664C42BFCCE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0333-D918-4E9E-A64E-21D5E525D950}" type="datetime">
              <a:rPr b="0" lang="fr-FR" sz="1200" spc="-1" strike="noStrike">
                <a:solidFill>
                  <a:srgbClr val="ffffff"/>
                </a:solidFill>
                <a:latin typeface="Franklin Gothic Book"/>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DA72-0468-4ED4-A18B-9DB72DB6E2B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39F3-C1DA-4FC7-B5AA-714C41FFFD6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27B8-15D1-48C6-BD0E-3D59C8C939D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1C0C-2E21-4119-AA87-C18BF74AD34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2867-321A-46A1-9656-66CEA870194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A7C1-5AB4-4053-9824-872E7E229F9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0765-47D2-4F05-A507-E75BFF00459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6C0F-760A-45C7-9C8C-9DFC30C6037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FB80-81C7-4CA5-879B-0B3388B2983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CBAA-F6E5-47EA-95F9-C059AD22949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40D6-A3A1-4F4E-ABCB-53EAC87D435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