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F8D7-3DCF-4853-BBDD-08F0CE8AB54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83EC-03BB-468F-92CB-BAA2BAC1095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D5E7-297B-4C8A-AD50-8641421EB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F422-A0F6-45CC-9EA6-21DB6D93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5DCC-F3DF-4B61-80EF-3B3DB64F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DEB5-D164-4366-BB5C-42E08A3C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B2F9-3DAF-4BCE-BDB5-A41231C78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FB08-C2C2-4A65-940D-DF073309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C685-9EEF-46CB-861B-CCD118EF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0ADA-FE8B-41E6-B685-9C00ECDA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E7B2-1EE6-403A-8EAD-82DACD76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5A48-904F-4C66-A1B6-F8C672D1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3F35-E6B8-474C-BC13-4D9ABC70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B2B9-0014-4887-B109-40484F65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C611-2779-433D-870D-1ED3F2A7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5DC3-E6DC-4F54-B05E-3BA8EF30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F68E-B5F5-4D9D-B0DA-9568E1EE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7E8F-5E27-44F8-BE46-9752BB499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4E0C-1648-4606-AE86-DEAA835D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B7092-2645-4FE3-A021-F717E765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53F0B-AB81-4320-AB22-E617E2CB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20F4C-303A-4E90-A176-FACC6ACB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9281F-95B2-42C7-9A1B-A2502501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FEF9C-4022-461A-B969-CC79D0FF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B35A-CBA8-4B16-99DA-F47210BE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4A526-8885-4B7B-8173-177D23CC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4DCAC-0344-4352-B0C8-11E1F78F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A0EE0-C37F-4256-8AC2-DF50147D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BED97-0CD3-47CC-8D51-FB3CCCC7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D4586-6EBF-4A55-B690-F435616F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58071-5D34-4A6B-9333-99BA51CB8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35F2D-23B2-41E0-92F5-65320B70D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DBC20-1AAD-4F30-AE23-6BB1C1AE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F43F7-C664-4C56-A8AA-2A3F93CC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E2638-22D4-40C4-8370-1EC45B58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F03E-AE23-48F2-AC9C-2E46C64A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78AD1-4809-49FA-BBE6-E0920AD2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05B36-C8A1-4980-88A5-88F1E649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6EADB-03B1-476F-8B94-A400DB11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C9D5C-9949-44DC-9480-0BC49B3B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9B223-FC0F-4CD7-88A0-DD06CEA3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0F381-B2E1-4F0C-ADDF-1A0671C9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0A14A-8C19-4F5B-B227-7EA0C916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E1F9C-9776-4CE1-87CA-514E58FA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5C984-79F9-4A8F-BB7C-074783BDA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B86DA-AD5F-46D9-89BF-00E2AFA5A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F6AD-F49D-4942-9DBE-EF79585C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C7B22-3A8C-4A92-ACB8-888F85F6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7ACD0-1928-4C7E-A366-4F85647C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550C7-CDE1-4E25-98F4-F4497034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8E5E6-41FD-4424-BAE3-12BB08FD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43CAA-C5FE-45CB-8C71-E3A3489D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DA79F-94DC-4455-A5F3-7FE7BCCD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92E3F-D0ED-4A26-9F05-815AFA08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4197B-6CE5-4E45-822B-618F4527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E6021-ADF7-4772-AF63-0841EA6E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FF8AB-A5A5-4572-A540-4666A678B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60DE-CCCB-40CD-991F-BEE31F9E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9964C-96E3-4318-A4BE-4D4C36CF5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478E5-B965-4DF4-9EF7-2C8AB9AF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EAB7A-9165-4EBB-9EA8-D6CB71F1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AE0E1-5874-44EE-8E07-ADB47E0A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006B3-AE5A-4D7C-B943-E1FDC35C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FF9FF-9AAD-49A1-9433-B02415AA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FD8E4-9695-4D76-8202-E36D7965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DF9E3-72A5-401E-8CAB-BBD1E991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51B57-F322-43F2-BEE8-D15FBE38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EA08F-5B63-467C-A072-31DC09A7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AD1A-D9E9-4C5D-AA72-FCA2FFE1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09A96-DE1C-484F-81E6-9C1FEB20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A9E29-9BFF-4639-899C-8610B4BAC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0C7A5-6624-404F-8B81-1A6A99951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30698-A268-4571-8BAE-BD5F88EF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2AC65-35C7-4F49-B809-03572683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C119D-2184-41AD-8A22-42E8CE88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2AA01-F8B5-49CC-B360-8831BF68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DDC12-4E21-4448-B7E3-CFD1F9A5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9042B-4F5D-46F8-B840-9529D6B8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1CFE8-7A06-4EB1-AB1B-AD122144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20F7-F999-45AB-A82C-C999DD40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EA9B3-9D85-452B-88B0-D84DB579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F03BB-D9A0-4F30-9D92-48960697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56CCE-F31A-482D-BD1E-CD1B0A14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8E8B6-5174-4C02-97AB-CF23D8A8F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384BF-01EE-4BB6-8DCE-65A7113EF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3D716-2255-4057-990D-357BE42F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EB8ED-21DF-4874-B87D-37C35E37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1CFBF-0DF2-4920-81BD-E361D4EC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1AE86-3FAA-4EF0-AE58-B522562F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CD003-A22C-4BC1-B6CD-7161BCFD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C445-D4BD-46D4-9785-9F378A6E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6019D-F998-4AAE-BF57-8AAEC628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C5F86-0700-4920-946F-A259ED2C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AE3C4-CE39-42C5-98D0-53E61DBE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61EFA-B641-4E4B-AFD9-33D6E083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692BE-D327-4E0C-A4C7-5F7F5A5E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CBE81-50AD-4C89-B173-E280D661E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7A33E-A940-4E2B-A4F6-615B0AFA1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07C2-EE22-422D-9A0C-8D1EACC0CA2F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35A3-4C84-4565-A627-BE8BC53866B3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812F-9F4C-4EE0-A967-C85991C4932A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2F5F-2C07-4655-A98F-E82DB407032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1DA7-A0A1-45C2-8271-580D05B51A15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6216-536B-444D-99D2-39768CDC523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D28D-FFF8-4B0A-B732-95CFA8F8EEAE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E758-2D0A-438D-9D61-70D9D7A638B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710E-206D-4E93-9FF6-4420D35A58C8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C138-EB2B-45BC-BB79-269BF5F2D07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5B84-DCA1-41FC-A1DE-757CFDE341DF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B63B-BBA9-4AF7-9941-8D169E886DD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C478-738B-4C35-8070-80A382B50426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D210-4F2D-4D00-9096-0FEADC76509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411C-E940-4A26-A36F-D4D802300BEF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0A77-94C5-43B1-A9ED-7B793FB64C7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Amenagement_espace_pro.pptx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 la salle informatique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à l’espace professionnel…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 effets positifs….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755280" y="1100160"/>
            <a:ext cx="758844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environnement agréable et fonctionnel.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Les élèves ont chacun un petit espace de travail et se retrouvent plus ou moins séparés.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e ambiance de travail différente.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s élèves responsabilisés sur leurs conditions de travail et donc peu de dégradations.</a:t>
            </a:r>
            <a:r>
              <a:rPr b="0" lang="fr-FR" sz="24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6423-3CBB-4608-84E8-DC4C34B715A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impact sur les élèv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755280" y="620280"/>
            <a:ext cx="7588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vorise le travail en autonomie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 tutorat entre élèves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impose des règles de vie professionnelle (pas de bruit lorsqu’un collaborateur est au téléphone, tenue et posture)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encourage le travail en équipe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induit  un changement de statut pour l’élève (passage d'une classe traditionnelle à des locaux d’entreprise)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B93D-AA57-419F-A05C-87AF89DF423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impact pour les enseignant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F0C1-6F62-49E7-941D-EAA7350B49F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Espace réservé du contenu 2"/>
          <p:cNvSpPr/>
          <p:nvPr/>
        </p:nvSpPr>
        <p:spPr>
          <a:xfrm>
            <a:off x="611280" y="765000"/>
            <a:ext cx="765972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 tutorat professeur-élè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rend la relation professeur-élève plus profess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permet à l’enseignant de reproduire plus facilement des situations professionnelles (salle de réunion, téléphone, accueil clients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permet de décloisonner ses activ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s déplacements dans la sa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Une opportunité pour conduire un projet avec les élèv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95280" y="981000"/>
            <a:ext cx="85694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projet qui s’inscrit dans les situations professionnelles du référentiel du Bac pro GA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Exemples :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le 1 :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1.1.2. TRAITEMENT DES ORDRES D’ACHAT, DES COMMANDES 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le 3 :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3.3.2 . MAINTIEN OPÉRATIONNEL DES POSTES DE TRAVAIL ET AMÉNAGEMENT DES ESPACES 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projet qui s’inscrit dans l’EGLS (Maths/sciences; Arts appliqués…)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5A86-88BA-4816-A854-A0DDC6A21D1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à coins arrondis 1"/>
          <p:cNvSpPr/>
          <p:nvPr/>
        </p:nvSpPr>
        <p:spPr>
          <a:xfrm>
            <a:off x="6588000" y="5157720"/>
            <a:ext cx="2016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b7378"/>
                </a:solidFill>
                <a:latin typeface="Franklin Gothic Book"/>
              </a:rPr>
              <a:t>Un </a:t>
            </a:r>
            <a:r>
              <a:rPr b="0" lang="fr-FR" sz="1800" spc="-1" strike="noStrike" u="sng">
                <a:solidFill>
                  <a:srgbClr val="5f5f5f"/>
                </a:solidFill>
                <a:uFillTx/>
                <a:latin typeface="Franklin Gothic Book"/>
                <a:hlinkClick r:id="rId1"/>
              </a:rPr>
              <a:t>ex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755280" y="1557360"/>
            <a:ext cx="7521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référentiel écrit en situations professionnell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e identification métier à valoriser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La nécessité de privilégier la multivalence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8488-E713-45F8-ACBF-6D0945A8F6B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itre 1"/>
          <p:cNvSpPr/>
          <p:nvPr/>
        </p:nvSpPr>
        <p:spPr>
          <a:xfrm>
            <a:off x="822240" y="365040"/>
            <a:ext cx="8321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Pourquoi ce besoi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Quitter le mode frontal, scolaire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FB7A-AC3F-48C0-9CAB-DB9A659A475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Image 1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4608360" cy="3463920"/>
          </a:xfrm>
          <a:prstGeom prst="rect">
            <a:avLst/>
          </a:prstGeom>
          <a:ln w="0">
            <a:noFill/>
          </a:ln>
        </p:spPr>
      </p:pic>
      <p:pic>
        <p:nvPicPr>
          <p:cNvPr id="363" name="Image 5" descr=""/>
          <p:cNvPicPr/>
          <p:nvPr/>
        </p:nvPicPr>
        <p:blipFill>
          <a:blip r:embed="rId2"/>
          <a:stretch/>
        </p:blipFill>
        <p:spPr>
          <a:xfrm>
            <a:off x="4067280" y="2522520"/>
            <a:ext cx="477036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36504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…</a:t>
            </a:r>
            <a:r>
              <a:rPr b="1" lang="fr-FR" sz="2800" spc="-1" strike="noStrike">
                <a:solidFill>
                  <a:srgbClr val="c00000"/>
                </a:solidFill>
                <a:latin typeface="Franklin Gothic Medium"/>
              </a:rPr>
              <a:t>pour aller vers un espace professionnel polyvalen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F464-A0BF-4481-9EB8-38D53CCDE57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Image 1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9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83217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espace professionnel polyvalent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8564-0DD0-46FB-8859-3396E06BF05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Image 1" descr=""/>
          <p:cNvPicPr/>
          <p:nvPr/>
        </p:nvPicPr>
        <p:blipFill>
          <a:blip r:embed="rId1"/>
          <a:stretch/>
        </p:blipFill>
        <p:spPr>
          <a:xfrm>
            <a:off x="992160" y="1574640"/>
            <a:ext cx="6804000" cy="4500720"/>
          </a:xfrm>
          <a:prstGeom prst="rect">
            <a:avLst/>
          </a:prstGeom>
          <a:ln w="0">
            <a:noFill/>
          </a:ln>
        </p:spPr>
      </p:pic>
      <p:sp>
        <p:nvSpPr>
          <p:cNvPr id="372" name="ZoneTexte 2"/>
          <p:cNvSpPr/>
          <p:nvPr/>
        </p:nvSpPr>
        <p:spPr>
          <a:xfrm>
            <a:off x="914040" y="108432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fférents espaces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A1F0-927A-4C20-B83D-E77C296E1A7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ZoneTexte 6"/>
          <p:cNvSpPr/>
          <p:nvPr/>
        </p:nvSpPr>
        <p:spPr>
          <a:xfrm>
            <a:off x="915120" y="2708280"/>
            <a:ext cx="26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comptoir d’accue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Image 1" descr=""/>
          <p:cNvPicPr/>
          <p:nvPr/>
        </p:nvPicPr>
        <p:blipFill>
          <a:blip r:embed="rId1"/>
          <a:stretch/>
        </p:blipFill>
        <p:spPr>
          <a:xfrm>
            <a:off x="4290840" y="1297080"/>
            <a:ext cx="3305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97F1-930C-46EE-BE03-66D0AFA7DA0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ZoneTexte 6"/>
          <p:cNvSpPr/>
          <p:nvPr/>
        </p:nvSpPr>
        <p:spPr>
          <a:xfrm>
            <a:off x="914040" y="1428840"/>
            <a:ext cx="23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salle de ré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Image 1" descr=""/>
          <p:cNvPicPr/>
          <p:nvPr/>
        </p:nvPicPr>
        <p:blipFill>
          <a:blip r:embed="rId1"/>
          <a:stretch/>
        </p:blipFill>
        <p:spPr>
          <a:xfrm>
            <a:off x="2556000" y="2028960"/>
            <a:ext cx="536868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1FDC-3668-4204-976C-4069B53E66E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ZoneTexte 6"/>
          <p:cNvSpPr/>
          <p:nvPr/>
        </p:nvSpPr>
        <p:spPr>
          <a:xfrm>
            <a:off x="903960" y="1428840"/>
            <a:ext cx="20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stes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7" descr="Photo003"/>
          <p:cNvPicPr/>
          <p:nvPr/>
        </p:nvPicPr>
        <p:blipFill>
          <a:blip r:embed="rId1"/>
          <a:stretch/>
        </p:blipFill>
        <p:spPr>
          <a:xfrm>
            <a:off x="3564000" y="1628640"/>
            <a:ext cx="4871880" cy="36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espace d’entrainement téléphonique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3781-E0C3-47A7-9398-8007A352469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ZoneTexte 6"/>
          <p:cNvSpPr/>
          <p:nvPr/>
        </p:nvSpPr>
        <p:spPr>
          <a:xfrm>
            <a:off x="179280" y="1052640"/>
            <a:ext cx="40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rmation des élèves sur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ert d'appe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versation à plusi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ise en atte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amétrage de la messageri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HPIM3875"/>
          <p:cNvPicPr/>
          <p:nvPr/>
        </p:nvPicPr>
        <p:blipFill>
          <a:blip r:embed="rId1"/>
          <a:stretch/>
        </p:blipFill>
        <p:spPr>
          <a:xfrm>
            <a:off x="4284720" y="1341360"/>
            <a:ext cx="4583160" cy="3436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HPIM3878"/>
          <p:cNvPicPr/>
          <p:nvPr/>
        </p:nvPicPr>
        <p:blipFill>
          <a:blip r:embed="rId2"/>
          <a:stretch/>
        </p:blipFill>
        <p:spPr>
          <a:xfrm>
            <a:off x="250920" y="3328920"/>
            <a:ext cx="3900240" cy="292572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8"/>
          <p:cNvSpPr/>
          <p:nvPr/>
        </p:nvSpPr>
        <p:spPr>
          <a:xfrm>
            <a:off x="4356000" y="501336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chnologie I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ormation en pool téléphonique pour des actions de démarchage par télé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5T19:22:30Z</dcterms:modified>
  <cp:revision>31</cp:revision>
  <dc:subject/>
  <dc:title>Baccalauréat professionnel Gestion -- Administration</dc:title>
</cp:coreProperties>
</file>